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12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1.gif" ContentType="image/gif"/>
  <Override PartName="/ppt/media/image6.png" ContentType="image/png"/>
  <Override PartName="/ppt/media/image7.gif" ContentType="image/gif"/>
  <Override PartName="/ppt/media/image9.gif" ContentType="image/gi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CFC3-4AE9-402E-8EAA-A8AB19A7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303-C59F-415E-84D5-1C17A6BD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D6E-2BA3-46FF-9B71-36F653DE2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47E-B28E-4B3A-9B84-F4DEA8A2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77AA-7105-43DC-9F9D-E317C46A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F6CF-EEDB-4359-8B26-C5D57656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A140-CFBD-4438-AE1A-8A205B90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F481-943E-4491-ADD0-792350FE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1FE5-2400-4C3E-AF6E-B7E6EF7C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E8B5-C062-4364-9822-B38DF493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C4BE-8557-4115-BC42-9057DD21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6C5C-52EA-45D6-9219-C0B5EFC5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89E2-B723-4C8F-ACF0-7B482F9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E94-C78F-4C09-A9FA-43B9E698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EBB9-B14C-44FD-AC2F-0B8D41AC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79FD-0AF2-4D42-91D8-616C2C60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B2CDF-6AE8-4BF2-8F70-0D196DCD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8BF-94E1-4933-8B07-64FBE0FA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AF34-1325-4098-8B49-47F07F5CB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95C-96D6-4183-AAEA-55508DE1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7D10-CCC3-4118-BC7D-4DB6E9A5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B8F2-F75B-47FC-B39B-EA4C65A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42C7-E48F-4CBD-B6F0-E1F69780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BC8-6C1B-4B1C-9192-EB942A6C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6FE3-A1A0-4866-8162-FEAE3EEE061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未知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C49C-398C-48F4-9B0A-70474D227A9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A79.MP3" descr=""/>
          <p:cNvPicPr/>
          <p:nvPr/>
        </p:nvPicPr>
        <p:blipFill>
          <a:blip r:embed="rId2"/>
          <a:stretch/>
        </p:blipFill>
        <p:spPr>
          <a:xfrm>
            <a:off x="46432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ydzx"/>
          <p:cNvPicPr/>
          <p:nvPr/>
        </p:nvPicPr>
        <p:blipFill>
          <a:blip r:embed="rId3"/>
          <a:stretch/>
        </p:blipFill>
        <p:spPr>
          <a:xfrm>
            <a:off x="1835280" y="2924280"/>
            <a:ext cx="5562360" cy="33811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195640" y="692280"/>
            <a:ext cx="45370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教书千秋伟业；育人万世丰功。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411280" y="1628640"/>
            <a:ext cx="44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Comic Sans MS"/>
              </a:rPr>
              <a:t>祝愿老师身体健康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859280" y="2565360"/>
            <a:ext cx="1873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教师节献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477720" y="1125360"/>
            <a:ext cx="10335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三寸粉笔，三尺讲台系国运；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6789600" y="1052640"/>
            <a:ext cx="12556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omic Sans MS"/>
              </a:rPr>
              <a:t>一颗丹心，一生秉烛铸民魂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2155320" y="90360"/>
            <a:ext cx="52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教师节主题班会课件通用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长大后我就成了你.mp3" descr=""/>
          <p:cNvPicPr/>
          <p:nvPr/>
        </p:nvPicPr>
        <p:blipFill>
          <a:blip r:embed="rId2"/>
          <a:stretch/>
        </p:blipFill>
        <p:spPr>
          <a:xfrm>
            <a:off x="900000" y="6093000"/>
            <a:ext cx="6984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826920" y="907920"/>
            <a:ext cx="734544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在这个特别的日子里，我想对老师您说声：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老师节日快乐！愿您在今后的日子里健康快乐！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是您用生命的火炬照亮了我前进的道路，我要衷心对您说一声：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谢谢您，老师！</a:t>
            </a:r>
            <a:r>
              <a:rPr b="1" lang="zh-CN" sz="2800" spc="-1" strike="noStrike">
                <a:solidFill>
                  <a:srgbClr val="ffb8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经历了风雨，才知道您的可贵；走上了成功，才知道您的伟大；</a:t>
            </a:r>
            <a:r>
              <a:rPr b="1" lang="en-US" sz="2800" spc="-1" strike="noStrike">
                <a:solidFill>
                  <a:srgbClr val="ffb8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谢谢您，我尊敬的老师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一路上有您的教导，才不会迷失方向；一路上有您的关注，才更加自信勇敢，老师，谢谢您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无尽的恩情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永远铭记心中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.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每个成长的日子里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我都要祝福你</a:t>
            </a:r>
            <a:r>
              <a:rPr b="1" lang="en-US" sz="2800" spc="-1" strike="noStrike">
                <a:solidFill>
                  <a:srgbClr val="ffb800"/>
                </a:solidFill>
                <a:latin typeface="Comic Sans MS"/>
              </a:rPr>
              <a:t>,</a:t>
            </a:r>
            <a:r>
              <a:rPr b="1" lang="zh-CN" sz="2800" spc="-1" strike="noStrike">
                <a:solidFill>
                  <a:srgbClr val="ffb800"/>
                </a:solidFill>
                <a:latin typeface="Comic Sans MS"/>
              </a:rPr>
              <a:t>我的老师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感谢有你老师.mp3" descr=""/>
          <p:cNvPicPr/>
          <p:nvPr/>
        </p:nvPicPr>
        <p:blipFill>
          <a:blip r:embed="rId3"/>
          <a:stretch/>
        </p:blipFill>
        <p:spPr>
          <a:xfrm>
            <a:off x="723600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19377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qrsy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1908000" y="1125360"/>
            <a:ext cx="504036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很快的，一年一度的教师节又来临了，这是我们老师的节日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所以，首先，要祝我们所有的老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节日快乐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钢-爱的纪念.mp3" descr=""/>
          <p:cNvPicPr/>
          <p:nvPr/>
        </p:nvPicPr>
        <p:blipFill>
          <a:blip r:embed="rId2"/>
          <a:stretch/>
        </p:blipFill>
        <p:spPr>
          <a:xfrm>
            <a:off x="0" y="65451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"/>
          <p:cNvSpPr/>
          <p:nvPr/>
        </p:nvSpPr>
        <p:spPr>
          <a:xfrm>
            <a:off x="1258920" y="692280"/>
            <a:ext cx="64087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Comic Sans MS"/>
              </a:rPr>
              <a:t>每个人都有自己的老师，每个人的成长都要感谢自己的老师，这是有了这些默默无闻的灵魂工程师，才使得我们人民的素质不断提高，社会不断进步，在教师节即将来临之际，让我们一起感谢老师！他们是让我们最感动的人。。。。。。</a:t>
            </a:r>
            <a:r>
              <a:rPr b="0" lang="zh-CN" sz="36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罗密欧与朱丽叶.MP3" descr=""/>
          <p:cNvPicPr/>
          <p:nvPr/>
        </p:nvPicPr>
        <p:blipFill>
          <a:blip r:embed="rId1"/>
          <a:stretch/>
        </p:blipFill>
        <p:spPr>
          <a:xfrm>
            <a:off x="6858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popop"/>
          <p:cNvPicPr/>
          <p:nvPr/>
        </p:nvPicPr>
        <p:blipFill>
          <a:blip r:embed="rId2"/>
          <a:stretch/>
        </p:blipFill>
        <p:spPr>
          <a:xfrm>
            <a:off x="0" y="-16668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bell_left"/>
          <p:cNvPicPr/>
          <p:nvPr/>
        </p:nvPicPr>
        <p:blipFill>
          <a:blip r:embed="rId3"/>
          <a:stretch/>
        </p:blipFill>
        <p:spPr>
          <a:xfrm>
            <a:off x="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bell_right"/>
          <p:cNvPicPr/>
          <p:nvPr/>
        </p:nvPicPr>
        <p:blipFill>
          <a:blip r:embed="rId4"/>
          <a:stretch/>
        </p:blipFill>
        <p:spPr>
          <a:xfrm>
            <a:off x="7772400" y="0"/>
            <a:ext cx="1371600" cy="1322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BOOK9"/>
          <p:cNvPicPr/>
          <p:nvPr/>
        </p:nvPicPr>
        <p:blipFill>
          <a:blip r:embed="rId5"/>
          <a:stretch/>
        </p:blipFill>
        <p:spPr>
          <a:xfrm>
            <a:off x="0" y="5343480"/>
            <a:ext cx="1828800" cy="15145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7"/>
          <p:cNvSpPr/>
          <p:nvPr/>
        </p:nvSpPr>
        <p:spPr>
          <a:xfrm>
            <a:off x="1692360" y="256536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dff"/>
                </a:solidFill>
                <a:latin typeface="Comic Sans MS"/>
              </a:rPr>
              <a:t>下面让我们一起欣赏诗朗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教师节朗诵.mp3" descr=""/>
          <p:cNvPicPr/>
          <p:nvPr/>
        </p:nvPicPr>
        <p:blipFill>
          <a:blip r:embed="rId6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教师节朗诵.mp3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74080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74080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47640" y="1988640"/>
            <a:ext cx="6870960" cy="252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Comic Sans MS"/>
              </a:rPr>
              <a:t>一首诗不足表达我们对老师的感谢，让我们一同欣赏下面的诗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-8024760" y="5229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7696080" y="1066680"/>
            <a:ext cx="140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908000" y="981000"/>
            <a:ext cx="60487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1" lang="zh-CN" sz="3600" spc="-1" strike="noStrike">
                <a:solidFill>
                  <a:srgbClr val="ffef66"/>
                </a:solidFill>
                <a:latin typeface="Comic Sans MS"/>
              </a:rPr>
              <a:t>教师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别人从生活中捞取黄金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只能获取花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的黄金是早晨的太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的银子是十五的月亮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但您依然快乐的吹着口哨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      </a:t>
            </a:r>
            <a:r>
              <a:rPr b="1" lang="zh-CN" sz="2800" spc="-1" strike="noStrike">
                <a:solidFill>
                  <a:srgbClr val="66ff33"/>
                </a:solidFill>
                <a:latin typeface="Comic Sans MS"/>
              </a:rPr>
              <a:t>您的自豪是桃李芬芳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-93600"/>
            <a:ext cx="914400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ef66"/>
                </a:solidFill>
                <a:latin typeface="Times New Roman"/>
                <a:ea typeface="_x000b__x000c_"/>
              </a:rPr>
              <a:t>   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395280" y="909720"/>
            <a:ext cx="117648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您用辛勤的汗水，浇灌今天的花朵。您用青春与生命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换取绚丽的未来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您如慈祥的母亲，给我春天般的温暖。您如严厉的父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亲，教我如何做人做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您如一叶扁舟，载着我驶向知识的海洋。您如美丽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Times New Roman"/>
              </a:rPr>
              <a:t>天使，使我从小插上理想的翅膀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xixi.MP3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684360" y="333360"/>
            <a:ext cx="7993080" cy="62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Comic Sans MS"/>
              </a:rPr>
              <a:t>                       </a:t>
            </a:r>
            <a:r>
              <a:rPr b="1" lang="zh-CN" sz="3200" spc="-1" strike="noStrike">
                <a:solidFill>
                  <a:srgbClr val="0000cc"/>
                </a:solidFill>
                <a:latin typeface="Comic Sans MS"/>
              </a:rPr>
              <a:t>我爱我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老师就象红烛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燃起了学生心中的火把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却燃烧了自己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直到红烛成灰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老师就象园丁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养育着我们这一株株花朵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却辛苦了自己，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直到体力耗尽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啊！老师就是这么无私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1" lang="zh-CN" sz="2400" spc="-1" strike="noStrike">
                <a:solidFill>
                  <a:srgbClr val="ff0000"/>
                </a:solidFill>
                <a:latin typeface="Comic Sans MS"/>
              </a:rPr>
              <a:t>啊！老师我们爱您！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684360" y="907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在社会上流传着许多尊师对联故事，故事中的对联不仅妙趣横生，而且抒发了对教师的敬爱之情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0" y="220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马寅初先生是一位著名的教育家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941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年在重庆庆祝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寿辰时，周恩来为他手书了一副对联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684360" y="34290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桃李增华坐帐无鹤；琴书作伴支床有龟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42210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中国当代教育家陶行知一生忠诚于教育事业，郭沫若曾为他题写对联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1332000" y="515772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千教万教教人求真；千学万学学做真人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12:31:44Z</dcterms:created>
  <dc:creator>eee</dc:creator>
  <dc:description/>
  <cp:keywords/>
  <dc:language>en-US</dc:language>
  <cp:lastModifiedBy>王玉清</cp:lastModifiedBy>
  <cp:lastPrinted>1899-12-30T00:00:00Z</cp:lastPrinted>
  <dcterms:modified xsi:type="dcterms:W3CDTF">2016-02-24T03:42:33Z</dcterms:modified>
  <cp:revision>7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