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6561-E4F1-4C5F-B0BB-57EB50FF7C94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369E-8DA0-43E6-8557-1918CD3EFE0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A461-AFEC-4ABC-BD59-559DDC1C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63374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627280" y="4022280"/>
            <a:ext cx="63374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81EC-82EF-4C60-B844-612C093C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3092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874840" y="1599840"/>
            <a:ext cx="3092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627280" y="4022280"/>
            <a:ext cx="3092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874840" y="4022280"/>
            <a:ext cx="3092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5BCF-C22C-4EFF-A92C-8247B425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2040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70000" y="1599840"/>
            <a:ext cx="2040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13080" y="1599840"/>
            <a:ext cx="2040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627280" y="4022280"/>
            <a:ext cx="2040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770000" y="4022280"/>
            <a:ext cx="2040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13080" y="4022280"/>
            <a:ext cx="2040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AF26-9E87-4964-90B0-0350AA605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4480-6C42-4E3F-88DA-33CCF244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27280" y="1599840"/>
            <a:ext cx="633744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03D5-6658-438A-8C7A-279FF0BB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6337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686A-DB6C-4EEE-9F5A-3FCC731B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30924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874840" y="1599840"/>
            <a:ext cx="30924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BEC4-4113-4F07-94C6-970C36F6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8754-A9CF-46E4-A15E-837FD61F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627280" y="274320"/>
            <a:ext cx="633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54DB-1DA3-4129-97F2-720CDDCD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3092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74840" y="1599840"/>
            <a:ext cx="30924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27280" y="4022280"/>
            <a:ext cx="3092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207F-9BA7-4D87-BD8F-52F88167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627280" y="1599840"/>
            <a:ext cx="633744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B5F3-E529-49CD-9C02-B5E8B794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30924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874840" y="1599840"/>
            <a:ext cx="3092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874840" y="4022280"/>
            <a:ext cx="3092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ADF1-99D5-4CEC-930E-714306E4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3092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874840" y="1599840"/>
            <a:ext cx="3092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27280" y="4022280"/>
            <a:ext cx="63374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9DF7-0268-44BE-9424-C28B5D6C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63374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27280" y="4022280"/>
            <a:ext cx="63374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F160-DD59-4403-B10B-6F86829F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3092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74840" y="1599840"/>
            <a:ext cx="3092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27280" y="4022280"/>
            <a:ext cx="3092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874840" y="4022280"/>
            <a:ext cx="3092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8396-66C4-4183-A826-2F8081D38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2040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0000" y="1599840"/>
            <a:ext cx="2040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13080" y="1599840"/>
            <a:ext cx="2040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27280" y="4022280"/>
            <a:ext cx="2040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770000" y="4022280"/>
            <a:ext cx="2040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13080" y="4022280"/>
            <a:ext cx="2040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771A-D227-48B6-A35C-A8076D14C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6337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D86B-B47C-4B58-B7AD-D72963D7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30924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874840" y="1599840"/>
            <a:ext cx="30924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7DF1-D11C-4A84-8AE4-147C051C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287D-D539-445A-80C9-37CFDC66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627280" y="274320"/>
            <a:ext cx="633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FCDE-2947-4686-8D41-FDB37B81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3092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874840" y="1599840"/>
            <a:ext cx="30924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627280" y="4022280"/>
            <a:ext cx="3092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381B-4BA1-4012-8965-48A2C9B5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30924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74840" y="1599840"/>
            <a:ext cx="3092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74840" y="4022280"/>
            <a:ext cx="3092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E16F-DD63-47DA-8F15-96F55727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3092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74840" y="1599840"/>
            <a:ext cx="3092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627280" y="4022280"/>
            <a:ext cx="63374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9603-D47D-47DF-9A2E-0123B56F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5"/>
          <p:cNvSpPr/>
          <p:nvPr/>
        </p:nvSpPr>
        <p:spPr>
          <a:xfrm>
            <a:off x="20520" y="-3240"/>
            <a:ext cx="2808360" cy="6861240"/>
          </a:xfrm>
          <a:custGeom>
            <a:avLst/>
            <a:gdLst/>
            <a:ahLst/>
            <a:rect l="l" t="t" r="r" b="b"/>
            <a:pathLst>
              <a:path w="1225" h="1483">
                <a:moveTo>
                  <a:pt x="1225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483"/>
                  <a:pt x="0" y="1483"/>
                  <a:pt x="0" y="1483"/>
                </a:cubicBezTo>
                <a:cubicBezTo>
                  <a:pt x="1132" y="1483"/>
                  <a:pt x="1132" y="1483"/>
                  <a:pt x="1132" y="1483"/>
                </a:cubicBezTo>
                <a:cubicBezTo>
                  <a:pt x="1132" y="1483"/>
                  <a:pt x="679" y="793"/>
                  <a:pt x="1225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36147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627280" y="1599840"/>
            <a:ext cx="6337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93320" y="65023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8DE1-11A5-4053-ACB6-72C1B729548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232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65023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1AAB-A250-43AE-BBAE-A92FE0398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2627280" y="1599840"/>
            <a:ext cx="6337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43896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112E-E524-4490-B64A-84DF563C54C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43896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43896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0C44-3A1B-4F74-AB8B-4E6D1623A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40000" y="1412640"/>
            <a:ext cx="63007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0c0"/>
                </a:solidFill>
                <a:latin typeface="Arial"/>
              </a:rPr>
              <a:t>教育通用</a:t>
            </a:r>
            <a:r>
              <a:rPr b="0" lang="en-US" sz="4000" spc="-1" strike="noStrike">
                <a:solidFill>
                  <a:srgbClr val="0070c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70c0"/>
                </a:solidFill>
                <a:latin typeface="Arial"/>
              </a:rPr>
              <a:t>模板在线下载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578040" y="2373120"/>
            <a:ext cx="518940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Arial"/>
              <a:ea typeface="黑体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日期占位符 3"/>
          <p:cNvSpPr/>
          <p:nvPr/>
        </p:nvSpPr>
        <p:spPr>
          <a:xfrm>
            <a:off x="193680" y="65023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584E-A763-42B9-946B-722938B53DF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灯片编号占位符 5"/>
          <p:cNvSpPr/>
          <p:nvPr/>
        </p:nvSpPr>
        <p:spPr>
          <a:xfrm>
            <a:off x="6781680" y="65023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EEEB-3FE6-4E89-BB9E-3B5045737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单击此处添加标题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633744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标题和文本格式的设置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默认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首页主标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号（中文黑体英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加粗；副标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号（中文黑体英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加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页标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号（中文黑体英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加粗；内页内容文字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号（宋体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0T09:57:15Z</dcterms:created>
  <dc:creator>Rhea</dc:creator>
  <dc:description>www.nordridesign.cn
</dc:description>
  <dc:language>en-US</dc:language>
  <cp:lastModifiedBy>王玉清</cp:lastModifiedBy>
  <dcterms:modified xsi:type="dcterms:W3CDTF">2016-02-21T07:24:26Z</dcterms:modified>
  <cp:revision>17</cp:revision>
  <dc:subject/>
  <dc:title>教育模板</dc:title>
</cp:coreProperties>
</file>