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3B3-1860-46E2-AFF3-41A62CA4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681-6BC1-498E-BF18-7C09073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29B-DB53-4C06-BEC6-5DB990A7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286-12FA-422F-89E4-1DA1FED1C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73A9-01A6-454F-AACA-89CBE847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A29F-3AFC-4594-86AF-AA7DE76E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4E81-57C4-4FDB-AC88-906B557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BB25-6D5A-4C49-8059-71EE2271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0E17-9B27-4B74-8B5E-2E99134A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04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0D0B-A429-4736-8834-D03EDC6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AF77-4FF0-4C5F-B569-E267E16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AC7-ED2D-45D9-8A24-0FE3E1A9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E8A6-1AF3-4804-ADA7-6A9068F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E55-1B25-4189-B3C5-BF070F1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FE47-4816-4B84-9828-8DE3896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AF50-CFA2-4F7A-A78B-EE0B5C91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BA3F-1916-4159-BECA-CCE65CA7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818A-A939-495C-A8D8-2D534227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410B-DAA0-43BE-98F9-6BED4CFE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63B87-8314-4165-A0D0-909E75A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D754-0499-467F-B5FD-E0BB9887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3AFC-B832-47F1-AD59-4B665539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1BD-E25F-464E-BF04-0F8C9D02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04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FD61-7BD8-4F21-B46A-E5B5BE90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6572-6043-4E2D-BEFA-503C2B5B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9520-7AEC-4172-94CA-7CAC88F5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C037D-3568-4481-88D8-B406E9F5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EF2B-B27F-45FD-8514-96E8D4A5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E568B-F4AE-4368-B448-E049C861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75E8-209A-4A7E-AC06-501EFFB5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18A-20CE-4449-ADEA-C18138B0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656-4C19-4BBC-9B56-69E83E1A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040" cy="22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806-B963-4077-A1AF-2AE79CC6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FB9-3E96-4B06-AFFB-871E4062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A2F6-C740-4F21-921C-1F861E39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84C-6E7C-4023-BADF-E7000477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 hidden="1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428760" y="1071720"/>
            <a:ext cx="571464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" name="Picture 20" descr="D:\花朵.png"/>
          <p:cNvPicPr/>
          <p:nvPr/>
        </p:nvPicPr>
        <p:blipFill>
          <a:blip r:embed="rId2"/>
          <a:srcRect l="0" t="65382" r="5770" b="0"/>
          <a:stretch/>
        </p:blipFill>
        <p:spPr>
          <a:xfrm>
            <a:off x="5643720" y="0"/>
            <a:ext cx="3499920" cy="999720"/>
          </a:xfrm>
          <a:prstGeom prst="rect">
            <a:avLst/>
          </a:prstGeom>
          <a:ln w="9525">
            <a:noFill/>
          </a:ln>
        </p:spPr>
      </p:pic>
      <p:pic>
        <p:nvPicPr>
          <p:cNvPr id="3" name="Picture 24" descr="D:\花朵2.png"/>
          <p:cNvPicPr/>
          <p:nvPr/>
        </p:nvPicPr>
        <p:blipFill>
          <a:blip r:embed="rId3"/>
          <a:stretch/>
        </p:blipFill>
        <p:spPr>
          <a:xfrm>
            <a:off x="0" y="2705040"/>
            <a:ext cx="9143640" cy="4152600"/>
          </a:xfrm>
          <a:prstGeom prst="rect">
            <a:avLst/>
          </a:prstGeom>
          <a:ln w="9525">
            <a:noFill/>
          </a:ln>
        </p:spPr>
      </p:pic>
      <p:sp>
        <p:nvSpPr>
          <p:cNvPr id="4" name="矩形 4"/>
          <p:cNvSpPr/>
          <p:nvPr/>
        </p:nvSpPr>
        <p:spPr>
          <a:xfrm>
            <a:off x="0" y="0"/>
            <a:ext cx="9143640" cy="213840"/>
          </a:xfrm>
          <a:prstGeom prst="rect">
            <a:avLst/>
          </a:prstGeom>
          <a:solidFill>
            <a:srgbClr val="ffc000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04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4f271c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1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213336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B90BC7-4350-4300-8543-F800AD4009C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28760" y="1071720"/>
            <a:ext cx="571464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Picture 20" descr="D:\花朵.png"/>
          <p:cNvPicPr/>
          <p:nvPr/>
        </p:nvPicPr>
        <p:blipFill>
          <a:blip r:embed="rId2"/>
          <a:srcRect l="0" t="65382" r="5770" b="0"/>
          <a:stretch/>
        </p:blipFill>
        <p:spPr>
          <a:xfrm>
            <a:off x="5643720" y="0"/>
            <a:ext cx="3499920" cy="999720"/>
          </a:xfrm>
          <a:prstGeom prst="rect">
            <a:avLst/>
          </a:prstGeom>
          <a:ln w="9525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07E28B-11A3-4B5D-9B94-7F501A71E34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0" y="6357960"/>
            <a:ext cx="9143640" cy="49968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428760" y="1071720"/>
            <a:ext cx="5714640" cy="142560"/>
          </a:xfrm>
          <a:prstGeom prst="rect">
            <a:avLst/>
          </a:prstGeom>
          <a:solidFill>
            <a:srgbClr val="ffc000">
              <a:alpha val="45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2" name="Picture 20" descr="D:\花朵.png"/>
          <p:cNvPicPr/>
          <p:nvPr/>
        </p:nvPicPr>
        <p:blipFill>
          <a:blip r:embed="rId2"/>
          <a:srcRect l="0" t="65382" r="5770" b="0"/>
          <a:stretch/>
        </p:blipFill>
        <p:spPr>
          <a:xfrm>
            <a:off x="5643720" y="0"/>
            <a:ext cx="3499920" cy="999720"/>
          </a:xfrm>
          <a:prstGeom prst="rect">
            <a:avLst/>
          </a:prstGeom>
          <a:ln w="9525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D7A716-24DB-4021-A1B9-53172D59002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宋体-18030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宋体-18030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72000" y="1001880"/>
            <a:ext cx="9401760" cy="47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可爱的彩色小花朵卡通矢量通用</a:t>
            </a:r>
            <a:r>
              <a:rPr b="1" lang="en-US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28840" y="2286000"/>
            <a:ext cx="64004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From</a:t>
            </a:r>
            <a:r>
              <a:rPr b="0" lang="zh-CN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Date</a:t>
            </a:r>
            <a:r>
              <a:rPr b="0" lang="zh-CN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8"/>
          <p:cNvGrpSpPr/>
          <p:nvPr/>
        </p:nvGrpSpPr>
        <p:grpSpPr>
          <a:xfrm>
            <a:off x="1963800" y="2143080"/>
            <a:ext cx="5108040" cy="571320"/>
            <a:chOff x="1963800" y="2143080"/>
            <a:chExt cx="5108040" cy="571320"/>
          </a:xfrm>
        </p:grpSpPr>
        <p:sp>
          <p:nvSpPr>
            <p:cNvPr id="139" name="矩形 3"/>
            <p:cNvSpPr/>
            <p:nvPr/>
          </p:nvSpPr>
          <p:spPr>
            <a:xfrm>
              <a:off x="2357280" y="2286000"/>
              <a:ext cx="4714560" cy="356760"/>
            </a:xfrm>
            <a:prstGeom prst="rect">
              <a:avLst/>
            </a:prstGeom>
            <a:solidFill>
              <a:schemeClr val="accent3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40" name="泪滴形 4"/>
            <p:cNvSpPr/>
            <p:nvPr/>
          </p:nvSpPr>
          <p:spPr>
            <a:xfrm>
              <a:off x="1963800" y="21430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a21012"/>
                </a:gs>
                <a:gs pos="100000">
                  <a:srgbClr val="d21517"/>
                </a:gs>
              </a:gsLst>
              <a:lin ang="16200000"/>
            </a:gradFill>
            <a:ln>
              <a:solidFill>
                <a:srgbClr val="c22828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3"/>
            </a:lnRef>
            <a:fillRef idx="3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5"/>
            <p:cNvSpPr/>
            <p:nvPr/>
          </p:nvSpPr>
          <p:spPr>
            <a:xfrm>
              <a:off x="7000920" y="2286000"/>
              <a:ext cx="53640" cy="356760"/>
            </a:xfrm>
            <a:prstGeom prst="rect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2" name="组合 31"/>
          <p:cNvGrpSpPr/>
          <p:nvPr/>
        </p:nvGrpSpPr>
        <p:grpSpPr>
          <a:xfrm>
            <a:off x="1963800" y="4643280"/>
            <a:ext cx="5108040" cy="571320"/>
            <a:chOff x="1963800" y="4643280"/>
            <a:chExt cx="5108040" cy="571320"/>
          </a:xfrm>
        </p:grpSpPr>
        <p:sp>
          <p:nvSpPr>
            <p:cNvPr id="143" name="矩形 7"/>
            <p:cNvSpPr/>
            <p:nvPr/>
          </p:nvSpPr>
          <p:spPr>
            <a:xfrm>
              <a:off x="2357280" y="4786200"/>
              <a:ext cx="4714560" cy="356760"/>
            </a:xfrm>
            <a:prstGeom prst="rect">
              <a:avLst/>
            </a:prstGeom>
            <a:solidFill>
              <a:schemeClr val="accent4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44" name="泪滴形 8"/>
            <p:cNvSpPr/>
            <p:nvPr/>
          </p:nvSpPr>
          <p:spPr>
            <a:xfrm>
              <a:off x="1963800" y="46432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6200000"/>
            </a:gradFill>
            <a:ln>
              <a:solidFill>
                <a:srgbClr val="82a9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9"/>
            <p:cNvSpPr/>
            <p:nvPr/>
          </p:nvSpPr>
          <p:spPr>
            <a:xfrm>
              <a:off x="7000920" y="4786200"/>
              <a:ext cx="53640" cy="356760"/>
            </a:xfrm>
            <a:prstGeom prst="rect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46" name="组合 30"/>
          <p:cNvGrpSpPr/>
          <p:nvPr/>
        </p:nvGrpSpPr>
        <p:grpSpPr>
          <a:xfrm>
            <a:off x="1963800" y="3809880"/>
            <a:ext cx="5108040" cy="571320"/>
            <a:chOff x="1963800" y="3809880"/>
            <a:chExt cx="5108040" cy="571320"/>
          </a:xfrm>
        </p:grpSpPr>
        <p:sp>
          <p:nvSpPr>
            <p:cNvPr id="147" name="矩形 11"/>
            <p:cNvSpPr/>
            <p:nvPr/>
          </p:nvSpPr>
          <p:spPr>
            <a:xfrm>
              <a:off x="2357280" y="3952800"/>
              <a:ext cx="4714560" cy="356760"/>
            </a:xfrm>
            <a:prstGeom prst="rect">
              <a:avLst/>
            </a:prstGeom>
            <a:solidFill>
              <a:schemeClr val="accent2">
                <a:lumMod val="40000"/>
                <a:lumOff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48" name="泪滴形 12"/>
            <p:cNvSpPr/>
            <p:nvPr/>
          </p:nvSpPr>
          <p:spPr>
            <a:xfrm>
              <a:off x="1963800" y="38098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c48c00"/>
                </a:gs>
                <a:gs pos="100000">
                  <a:srgbClr val="ffb600"/>
                </a:gs>
              </a:gsLst>
              <a:lin ang="162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3"/>
            <p:cNvSpPr/>
            <p:nvPr/>
          </p:nvSpPr>
          <p:spPr>
            <a:xfrm>
              <a:off x="7000920" y="3952800"/>
              <a:ext cx="53640" cy="356760"/>
            </a:xfrm>
            <a:prstGeom prst="rect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50" name="组合 29"/>
          <p:cNvGrpSpPr/>
          <p:nvPr/>
        </p:nvGrpSpPr>
        <p:grpSpPr>
          <a:xfrm>
            <a:off x="1963800" y="2976480"/>
            <a:ext cx="5108040" cy="571320"/>
            <a:chOff x="1963800" y="2976480"/>
            <a:chExt cx="5108040" cy="571320"/>
          </a:xfrm>
        </p:grpSpPr>
        <p:sp>
          <p:nvSpPr>
            <p:cNvPr id="151" name="矩形 15"/>
            <p:cNvSpPr/>
            <p:nvPr/>
          </p:nvSpPr>
          <p:spPr>
            <a:xfrm>
              <a:off x="2357280" y="3119400"/>
              <a:ext cx="4714560" cy="356760"/>
            </a:xfrm>
            <a:prstGeom prst="rect">
              <a:avLst/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152" name="泪滴形 16"/>
            <p:cNvSpPr/>
            <p:nvPr/>
          </p:nvSpPr>
          <p:spPr>
            <a:xfrm>
              <a:off x="1963800" y="2976480"/>
              <a:ext cx="570960" cy="571320"/>
            </a:xfrm>
            <a:prstGeom prst="teardrop">
              <a:avLst>
                <a:gd name="adj" fmla="val 10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7"/>
            <p:cNvSpPr/>
            <p:nvPr/>
          </p:nvSpPr>
          <p:spPr>
            <a:xfrm>
              <a:off x="7000920" y="3119400"/>
              <a:ext cx="53640" cy="356760"/>
            </a:xfrm>
            <a:prstGeom prst="rect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7030a0"/>
                </a:solidFill>
                <a:latin typeface="微软雅黑"/>
                <a:ea typeface="微软雅黑"/>
              </a:rPr>
              <a:t>www.51pptmob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3"/>
          <p:cNvGrpSpPr/>
          <p:nvPr/>
        </p:nvGrpSpPr>
        <p:grpSpPr>
          <a:xfrm>
            <a:off x="2975040" y="2000160"/>
            <a:ext cx="2990880" cy="2968200"/>
            <a:chOff x="2975040" y="2000160"/>
            <a:chExt cx="2990880" cy="2968200"/>
          </a:xfrm>
        </p:grpSpPr>
        <p:sp>
          <p:nvSpPr>
            <p:cNvPr id="156" name="任意多边形 3"/>
            <p:cNvSpPr/>
            <p:nvPr/>
          </p:nvSpPr>
          <p:spPr>
            <a:xfrm>
              <a:off x="4514400" y="2006640"/>
              <a:ext cx="1359360" cy="1027080"/>
            </a:xfrm>
            <a:custGeom>
              <a:avLst/>
              <a:gdLst>
                <a:gd name="textAreaLeft" fmla="*/ 0 w 1359360"/>
                <a:gd name="textAreaRight" fmla="*/ 1359720 w 13593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350" h="1156512">
                  <a:moveTo>
                    <a:pt x="28575" y="812"/>
                  </a:moveTo>
                  <a:lnTo>
                    <a:pt x="0" y="165912"/>
                  </a:lnTo>
                  <a:lnTo>
                    <a:pt x="19050" y="337362"/>
                  </a:lnTo>
                  <a:lnTo>
                    <a:pt x="1358900" y="1156512"/>
                  </a:lnTo>
                  <a:lnTo>
                    <a:pt x="1530350" y="1131112"/>
                  </a:lnTo>
                  <a:cubicBezTo>
                    <a:pt x="1364192" y="550087"/>
                    <a:pt x="756708" y="-24588"/>
                    <a:pt x="28575" y="812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7" name="任意多边形 4"/>
            <p:cNvSpPr/>
            <p:nvPr/>
          </p:nvSpPr>
          <p:spPr>
            <a:xfrm>
              <a:off x="5335200" y="3133080"/>
              <a:ext cx="630360" cy="149544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710054" h="1683825">
                  <a:moveTo>
                    <a:pt x="647700" y="2662"/>
                  </a:moveTo>
                  <a:cubicBezTo>
                    <a:pt x="571500" y="-2100"/>
                    <a:pt x="485775" y="-3688"/>
                    <a:pt x="419100" y="26475"/>
                  </a:cubicBezTo>
                  <a:lnTo>
                    <a:pt x="0" y="1545712"/>
                  </a:lnTo>
                  <a:cubicBezTo>
                    <a:pt x="34925" y="1609212"/>
                    <a:pt x="66675" y="1650487"/>
                    <a:pt x="95250" y="1683825"/>
                  </a:cubicBezTo>
                  <a:cubicBezTo>
                    <a:pt x="460375" y="1466337"/>
                    <a:pt x="868362" y="732913"/>
                    <a:pt x="647700" y="2662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8" name="任意多边形 5"/>
            <p:cNvSpPr/>
            <p:nvPr/>
          </p:nvSpPr>
          <p:spPr>
            <a:xfrm>
              <a:off x="3693600" y="4599720"/>
              <a:ext cx="1635840" cy="368640"/>
            </a:xfrm>
            <a:custGeom>
              <a:avLst/>
              <a:gdLst>
                <a:gd name="textAreaLeft" fmla="*/ 0 w 1635840"/>
                <a:gd name="textAreaRight" fmla="*/ 1636200 w 16358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841500" h="415206">
                  <a:moveTo>
                    <a:pt x="0" y="133350"/>
                  </a:moveTo>
                  <a:lnTo>
                    <a:pt x="44450" y="6350"/>
                  </a:lnTo>
                  <a:lnTo>
                    <a:pt x="936625" y="53975"/>
                  </a:lnTo>
                  <a:lnTo>
                    <a:pt x="1552575" y="19050"/>
                  </a:lnTo>
                  <a:lnTo>
                    <a:pt x="1768475" y="0"/>
                  </a:lnTo>
                  <a:lnTo>
                    <a:pt x="1841500" y="107950"/>
                  </a:lnTo>
                  <a:cubicBezTo>
                    <a:pt x="1183217" y="583142"/>
                    <a:pt x="382058" y="439208"/>
                    <a:pt x="0" y="133350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9" name="任意多边形 6"/>
            <p:cNvSpPr/>
            <p:nvPr/>
          </p:nvSpPr>
          <p:spPr>
            <a:xfrm>
              <a:off x="2976480" y="3104640"/>
              <a:ext cx="680400" cy="154836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1548360"/>
                <a:gd name="textAreaBottom" fmla="*/ 1548720 h 1548360"/>
              </a:gdLst>
              <a:ahLst/>
              <a:rect l="textAreaLeft" t="textAreaTop" r="textAreaRight" b="textAreaBottom"/>
              <a:pathLst>
                <a:path w="766060" h="1743075">
                  <a:moveTo>
                    <a:pt x="80260" y="0"/>
                  </a:moveTo>
                  <a:lnTo>
                    <a:pt x="378710" y="92075"/>
                  </a:lnTo>
                  <a:lnTo>
                    <a:pt x="766060" y="1565275"/>
                  </a:lnTo>
                  <a:lnTo>
                    <a:pt x="689860" y="1743075"/>
                  </a:lnTo>
                  <a:cubicBezTo>
                    <a:pt x="199852" y="1399117"/>
                    <a:pt x="-169507" y="677333"/>
                    <a:pt x="80260" y="0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0" name="任意多边形 7"/>
            <p:cNvSpPr/>
            <p:nvPr/>
          </p:nvSpPr>
          <p:spPr>
            <a:xfrm>
              <a:off x="3065400" y="2000160"/>
              <a:ext cx="1423440" cy="1095480"/>
            </a:xfrm>
            <a:custGeom>
              <a:avLst/>
              <a:gdLst>
                <a:gd name="textAreaLeft" fmla="*/ 0 w 1423440"/>
                <a:gd name="textAreaRight" fmla="*/ 1423800 w 1423440"/>
                <a:gd name="textAreaTop" fmla="*/ 0 h 1095480"/>
                <a:gd name="textAreaBottom" fmla="*/ 1095840 h 1095480"/>
              </a:gdLst>
              <a:ahLst/>
              <a:rect l="textAreaLeft" t="textAreaTop" r="textAreaRight" b="textAreaBottom"/>
              <a:pathLst>
                <a:path w="1602580" h="1233487">
                  <a:moveTo>
                    <a:pt x="0" y="1150143"/>
                  </a:moveTo>
                  <a:lnTo>
                    <a:pt x="399256" y="1233487"/>
                  </a:lnTo>
                  <a:lnTo>
                    <a:pt x="1602580" y="279400"/>
                  </a:lnTo>
                  <a:lnTo>
                    <a:pt x="1555749" y="0"/>
                  </a:lnTo>
                  <a:cubicBezTo>
                    <a:pt x="418041" y="73025"/>
                    <a:pt x="82814" y="901699"/>
                    <a:pt x="0" y="1150143"/>
                  </a:cubicBezTo>
                  <a:close/>
                </a:path>
              </a:pathLst>
            </a:custGeom>
            <a:solidFill>
              <a:srgbClr val="00518e"/>
            </a:solidFill>
            <a:ln w="31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1" name="椭圆 8"/>
            <p:cNvSpPr/>
            <p:nvPr/>
          </p:nvSpPr>
          <p:spPr>
            <a:xfrm>
              <a:off x="3099600" y="2147760"/>
              <a:ext cx="2720160" cy="2720160"/>
            </a:xfrm>
            <a:prstGeom prst="ellipse">
              <a:avLst/>
            </a:prstGeom>
            <a:gradFill rotWithShape="0">
              <a:gsLst>
                <a:gs pos="0">
                  <a:srgbClr val="119707"/>
                </a:gs>
                <a:gs pos="100000">
                  <a:srgbClr val="8ad53f"/>
                </a:gs>
              </a:gsLst>
              <a:lin ang="0"/>
            </a:gra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2" name="椭圆 9"/>
            <p:cNvSpPr/>
            <p:nvPr/>
          </p:nvSpPr>
          <p:spPr>
            <a:xfrm>
              <a:off x="3382200" y="2430720"/>
              <a:ext cx="2154600" cy="2154600"/>
            </a:xfrm>
            <a:prstGeom prst="ellipse">
              <a:avLst/>
            </a:prstGeom>
            <a:gradFill rotWithShape="0">
              <a:gsLst>
                <a:gs pos="0">
                  <a:srgbClr val="ff7711"/>
                </a:gs>
                <a:gs pos="100000">
                  <a:srgbClr val="ffaa01"/>
                </a:gs>
              </a:gsLst>
              <a:lin ang="1200000"/>
            </a:gra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3" name="椭圆 10"/>
            <p:cNvSpPr/>
            <p:nvPr/>
          </p:nvSpPr>
          <p:spPr>
            <a:xfrm>
              <a:off x="3763800" y="2812320"/>
              <a:ext cx="1391400" cy="1391400"/>
            </a:xfrm>
            <a:prstGeom prst="ellipse">
              <a:avLst/>
            </a:prstGeom>
            <a:gradFill rotWithShape="0">
              <a:gsLst>
                <a:gs pos="0">
                  <a:srgbClr val="d2144f"/>
                </a:gs>
                <a:gs pos="100000">
                  <a:srgbClr val="f87477"/>
                </a:gs>
              </a:gsLst>
              <a:lin ang="0"/>
            </a:gradFill>
            <a:ln w="3175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4" name="椭圆 22"/>
            <p:cNvSpPr/>
            <p:nvPr/>
          </p:nvSpPr>
          <p:spPr>
            <a:xfrm>
              <a:off x="3063240" y="2003760"/>
              <a:ext cx="1391400" cy="1449360"/>
            </a:xfrm>
            <a:custGeom>
              <a:avLst/>
              <a:gdLst>
                <a:gd name="textAreaLeft" fmla="*/ 0 w 1391400"/>
                <a:gd name="textAreaRight" fmla="*/ 1391760 w 13914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460575" h="1521735">
                  <a:moveTo>
                    <a:pt x="1454513" y="0"/>
                  </a:moveTo>
                  <a:cubicBezTo>
                    <a:pt x="1293969" y="435475"/>
                    <a:pt x="1402782" y="1424616"/>
                    <a:pt x="1460575" y="1521735"/>
                  </a:cubicBezTo>
                  <a:cubicBezTo>
                    <a:pt x="1062533" y="1435093"/>
                    <a:pt x="402483" y="1281839"/>
                    <a:pt x="0" y="1075295"/>
                  </a:cubicBezTo>
                  <a:cubicBezTo>
                    <a:pt x="193143" y="454413"/>
                    <a:pt x="770857" y="2983"/>
                    <a:pt x="1454513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5" name="椭圆 28"/>
            <p:cNvSpPr/>
            <p:nvPr/>
          </p:nvSpPr>
          <p:spPr>
            <a:xfrm>
              <a:off x="4489560" y="2005920"/>
              <a:ext cx="1388520" cy="1444320"/>
            </a:xfrm>
            <a:custGeom>
              <a:avLst/>
              <a:gdLst>
                <a:gd name="textAreaLeft" fmla="*/ 0 w 1388520"/>
                <a:gd name="textAreaRight" fmla="*/ 1388880 w 138852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457819" h="1516201">
                  <a:moveTo>
                    <a:pt x="48969" y="0"/>
                  </a:moveTo>
                  <a:cubicBezTo>
                    <a:pt x="732909" y="0"/>
                    <a:pt x="1261776" y="442542"/>
                    <a:pt x="1457819" y="1061574"/>
                  </a:cubicBezTo>
                  <a:lnTo>
                    <a:pt x="1457540" y="1065351"/>
                  </a:lnTo>
                  <a:cubicBezTo>
                    <a:pt x="1154260" y="1304450"/>
                    <a:pt x="184859" y="1502102"/>
                    <a:pt x="0" y="1516201"/>
                  </a:cubicBezTo>
                  <a:cubicBezTo>
                    <a:pt x="98365" y="1328721"/>
                    <a:pt x="238825" y="345432"/>
                    <a:pt x="48969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6" name="椭圆 31"/>
            <p:cNvSpPr/>
            <p:nvPr/>
          </p:nvSpPr>
          <p:spPr>
            <a:xfrm>
              <a:off x="4504320" y="3130200"/>
              <a:ext cx="1461600" cy="1509120"/>
            </a:xfrm>
            <a:custGeom>
              <a:avLst/>
              <a:gdLst>
                <a:gd name="textAreaLeft" fmla="*/ 0 w 1461600"/>
                <a:gd name="textAreaRight" fmla="*/ 1461960 w 1461600"/>
                <a:gd name="textAreaTop" fmla="*/ 0 h 1509120"/>
                <a:gd name="textAreaBottom" fmla="*/ 1509480 h 1509120"/>
              </a:gdLst>
              <a:ahLst/>
              <a:rect l="textAreaLeft" t="textAreaTop" r="textAreaRight" b="textAreaBottom"/>
              <a:pathLst>
                <a:path w="1534306" h="1584156">
                  <a:moveTo>
                    <a:pt x="1479901" y="0"/>
                  </a:moveTo>
                  <a:cubicBezTo>
                    <a:pt x="1526073" y="145423"/>
                    <a:pt x="1538671" y="244042"/>
                    <a:pt x="1533061" y="404758"/>
                  </a:cubicBezTo>
                  <a:cubicBezTo>
                    <a:pt x="1514283" y="942706"/>
                    <a:pt x="1314558" y="1314057"/>
                    <a:pt x="954661" y="1584156"/>
                  </a:cubicBezTo>
                  <a:cubicBezTo>
                    <a:pt x="598941" y="1356799"/>
                    <a:pt x="154404" y="714967"/>
                    <a:pt x="0" y="375110"/>
                  </a:cubicBezTo>
                  <a:cubicBezTo>
                    <a:pt x="311481" y="414369"/>
                    <a:pt x="1241607" y="362215"/>
                    <a:pt x="1479901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7" name="椭圆 34"/>
            <p:cNvSpPr/>
            <p:nvPr/>
          </p:nvSpPr>
          <p:spPr>
            <a:xfrm>
              <a:off x="3698640" y="3507120"/>
              <a:ext cx="1637280" cy="1460880"/>
            </a:xfrm>
            <a:custGeom>
              <a:avLst/>
              <a:gdLst>
                <a:gd name="textAreaLeft" fmla="*/ 0 w 1637280"/>
                <a:gd name="textAreaRight" fmla="*/ 1637640 w 1637280"/>
                <a:gd name="textAreaTop" fmla="*/ 0 h 1460880"/>
                <a:gd name="textAreaBottom" fmla="*/ 1461240 h 1460880"/>
              </a:gdLst>
              <a:ahLst/>
              <a:rect l="textAreaLeft" t="textAreaTop" r="textAreaRight" b="textAreaBottom"/>
              <a:pathLst>
                <a:path w="1718703" h="1533592">
                  <a:moveTo>
                    <a:pt x="822354" y="0"/>
                  </a:moveTo>
                  <a:cubicBezTo>
                    <a:pt x="907260" y="570946"/>
                    <a:pt x="1276134" y="1179779"/>
                    <a:pt x="1718703" y="1243151"/>
                  </a:cubicBezTo>
                  <a:cubicBezTo>
                    <a:pt x="1467776" y="1426364"/>
                    <a:pt x="1158387" y="1533592"/>
                    <a:pt x="823954" y="1533592"/>
                  </a:cubicBezTo>
                  <a:cubicBezTo>
                    <a:pt x="486750" y="1533592"/>
                    <a:pt x="246060" y="1430500"/>
                    <a:pt x="0" y="1274056"/>
                  </a:cubicBezTo>
                  <a:cubicBezTo>
                    <a:pt x="500562" y="1152788"/>
                    <a:pt x="727295" y="437715"/>
                    <a:pt x="822354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68" name="椭圆 37"/>
            <p:cNvSpPr/>
            <p:nvPr/>
          </p:nvSpPr>
          <p:spPr>
            <a:xfrm>
              <a:off x="2975040" y="3106800"/>
              <a:ext cx="1471320" cy="1549800"/>
            </a:xfrm>
            <a:custGeom>
              <a:avLst/>
              <a:gdLst>
                <a:gd name="textAreaLeft" fmla="*/ 0 w 1471320"/>
                <a:gd name="textAreaRight" fmla="*/ 1471680 w 1471320"/>
                <a:gd name="textAreaTop" fmla="*/ 0 h 1549800"/>
                <a:gd name="textAreaBottom" fmla="*/ 1550160 h 1549800"/>
              </a:gdLst>
              <a:ahLst/>
              <a:rect l="textAreaLeft" t="textAreaTop" r="textAreaRight" b="textAreaBottom"/>
              <a:pathLst>
                <a:path w="1544664" h="1627148">
                  <a:moveTo>
                    <a:pt x="74692" y="0"/>
                  </a:moveTo>
                  <a:cubicBezTo>
                    <a:pt x="285991" y="386343"/>
                    <a:pt x="1294067" y="472922"/>
                    <a:pt x="1544664" y="395724"/>
                  </a:cubicBezTo>
                  <a:cubicBezTo>
                    <a:pt x="1445407" y="704415"/>
                    <a:pt x="889729" y="1417053"/>
                    <a:pt x="645606" y="1627148"/>
                  </a:cubicBezTo>
                  <a:cubicBezTo>
                    <a:pt x="292114" y="1382909"/>
                    <a:pt x="14803" y="927163"/>
                    <a:pt x="0" y="412872"/>
                  </a:cubicBezTo>
                  <a:cubicBezTo>
                    <a:pt x="0" y="251371"/>
                    <a:pt x="27967" y="146040"/>
                    <a:pt x="74692" y="0"/>
                  </a:cubicBezTo>
                  <a:close/>
                </a:path>
              </a:pathLst>
            </a:custGeom>
            <a:solidFill>
              <a:schemeClr val="bg1">
                <a:alpha val="25000"/>
              </a:schemeClr>
            </a:solidFill>
            <a:ln w="3175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169" name="TextBox 11"/>
          <p:cNvSpPr/>
          <p:nvPr/>
        </p:nvSpPr>
        <p:spPr>
          <a:xfrm flipH="1">
            <a:off x="1001520" y="240228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直接连接符 17"/>
          <p:cNvCxnSpPr/>
          <p:nvPr/>
        </p:nvCxnSpPr>
        <p:spPr>
          <a:xfrm>
            <a:off x="1100520" y="2827440"/>
            <a:ext cx="199908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1" name="TextBox 11"/>
          <p:cNvSpPr/>
          <p:nvPr/>
        </p:nvSpPr>
        <p:spPr>
          <a:xfrm flipH="1">
            <a:off x="1001520" y="342972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19"/>
          <p:cNvCxnSpPr/>
          <p:nvPr/>
        </p:nvCxnSpPr>
        <p:spPr>
          <a:xfrm>
            <a:off x="1100520" y="3854880"/>
            <a:ext cx="199908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3" name="TextBox 11"/>
          <p:cNvSpPr/>
          <p:nvPr/>
        </p:nvSpPr>
        <p:spPr>
          <a:xfrm flipH="1">
            <a:off x="1001520" y="453096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21"/>
          <p:cNvCxnSpPr/>
          <p:nvPr/>
        </p:nvCxnSpPr>
        <p:spPr>
          <a:xfrm>
            <a:off x="1100520" y="4956480"/>
            <a:ext cx="341460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5" name="TextBox 11"/>
          <p:cNvSpPr/>
          <p:nvPr/>
        </p:nvSpPr>
        <p:spPr>
          <a:xfrm flipH="1">
            <a:off x="7169400" y="240228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直接连接符 23"/>
          <p:cNvCxnSpPr/>
          <p:nvPr/>
        </p:nvCxnSpPr>
        <p:spPr>
          <a:xfrm>
            <a:off x="5819760" y="2827440"/>
            <a:ext cx="235008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7" name="TextBox 11"/>
          <p:cNvSpPr/>
          <p:nvPr/>
        </p:nvSpPr>
        <p:spPr>
          <a:xfrm flipH="1">
            <a:off x="7169400" y="413712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25"/>
          <p:cNvCxnSpPr/>
          <p:nvPr/>
        </p:nvCxnSpPr>
        <p:spPr>
          <a:xfrm>
            <a:off x="5460840" y="4562280"/>
            <a:ext cx="2709000" cy="36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  <a:round/>
          </a:ln>
        </p:spPr>
      </p:cxnSp>
      <p:sp>
        <p:nvSpPr>
          <p:cNvPr id="179" name="TextBox 11"/>
          <p:cNvSpPr/>
          <p:nvPr/>
        </p:nvSpPr>
        <p:spPr>
          <a:xfrm flipH="1">
            <a:off x="7169400" y="3738960"/>
            <a:ext cx="114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0"/>
          <p:cNvSpPr/>
          <p:nvPr/>
        </p:nvSpPr>
        <p:spPr>
          <a:xfrm>
            <a:off x="1874520" y="4653000"/>
            <a:ext cx="5222520" cy="1257120"/>
          </a:xfrm>
          <a:prstGeom prst="ellipse">
            <a:avLst/>
          </a:prstGeom>
          <a:gradFill rotWithShape="0">
            <a:gsLst>
              <a:gs pos="0">
                <a:srgbClr val="121212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7030a0"/>
              </a:solidFill>
              <a:latin typeface="微软雅黑"/>
              <a:ea typeface="微软雅黑"/>
            </a:endParaRPr>
          </a:p>
        </p:txBody>
      </p:sp>
      <p:sp>
        <p:nvSpPr>
          <p:cNvPr id="182" name="椭圆 10"/>
          <p:cNvSpPr/>
          <p:nvPr/>
        </p:nvSpPr>
        <p:spPr>
          <a:xfrm>
            <a:off x="2143080" y="5000760"/>
            <a:ext cx="4714560" cy="1222200"/>
          </a:xfrm>
          <a:prstGeom prst="ellipse">
            <a:avLst/>
          </a:prstGeom>
          <a:gradFill rotWithShape="0">
            <a:gsLst>
              <a:gs pos="0">
                <a:srgbClr val="121212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4"/>
          <p:cNvSpPr/>
          <p:nvPr/>
        </p:nvSpPr>
        <p:spPr>
          <a:xfrm rot="19495800">
            <a:off x="3025440" y="209088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c31b4f"/>
              </a:gs>
              <a:gs pos="100000">
                <a:srgbClr val="e55d8e"/>
              </a:gs>
            </a:gsLst>
            <a:lin ang="19494000"/>
          </a:gradFill>
          <a:ln>
            <a:solidFill>
              <a:srgbClr val="d121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任意多边形 5"/>
          <p:cNvSpPr/>
          <p:nvPr/>
        </p:nvSpPr>
        <p:spPr>
          <a:xfrm rot="10998000">
            <a:off x="3673800" y="404496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c31b4f"/>
              </a:gs>
              <a:gs pos="100000">
                <a:srgbClr val="e55d8e"/>
              </a:gs>
            </a:gsLst>
            <a:lin ang="10998000"/>
          </a:gradFill>
          <a:ln>
            <a:solidFill>
              <a:srgbClr val="d1216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5" name="任意多边形 6"/>
          <p:cNvSpPr/>
          <p:nvPr/>
        </p:nvSpPr>
        <p:spPr>
          <a:xfrm rot="15116400">
            <a:off x="2698560" y="329112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e4a302"/>
              </a:gs>
              <a:gs pos="100000">
                <a:srgbClr val="ffdd71"/>
              </a:gs>
            </a:gsLst>
            <a:lin ang="5514000"/>
          </a:gra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6" name="任意多边形 7"/>
          <p:cNvSpPr/>
          <p:nvPr/>
        </p:nvSpPr>
        <p:spPr>
          <a:xfrm rot="2232000">
            <a:off x="4316400" y="207324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238b07"/>
              </a:gs>
              <a:gs pos="100000">
                <a:srgbClr val="92d050"/>
              </a:gs>
            </a:gsLst>
            <a:lin ang="2226000"/>
          </a:gradFill>
          <a:ln>
            <a:solidFill>
              <a:srgbClr val="54a4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任意多边形 8"/>
          <p:cNvSpPr/>
          <p:nvPr/>
        </p:nvSpPr>
        <p:spPr>
          <a:xfrm rot="6572400">
            <a:off x="4713480" y="3297600"/>
            <a:ext cx="1556280" cy="1095480"/>
          </a:xfrm>
          <a:custGeom>
            <a:avLst/>
            <a:gdLst>
              <a:gd name="textAreaLeft" fmla="*/ 0 w 1556280"/>
              <a:gd name="textAreaRight" fmla="*/ 1556640 w 1556280"/>
              <a:gd name="textAreaTop" fmla="*/ 0 h 1095480"/>
              <a:gd name="textAreaBottom" fmla="*/ 1095840 h 1095480"/>
            </a:gdLst>
            <a:ahLst/>
            <a:rect l="textAreaLeft" t="textAreaTop" r="textAreaRight" b="textAreaBottom"/>
            <a:pathLst>
              <a:path w="1556747" h="1095967">
                <a:moveTo>
                  <a:pt x="797266" y="1076246"/>
                </a:moveTo>
                <a:cubicBezTo>
                  <a:pt x="785577" y="1073649"/>
                  <a:pt x="742477" y="943999"/>
                  <a:pt x="691467" y="879764"/>
                </a:cubicBezTo>
                <a:cubicBezTo>
                  <a:pt x="640457" y="815529"/>
                  <a:pt x="525842" y="721696"/>
                  <a:pt x="491206" y="690838"/>
                </a:cubicBezTo>
                <a:cubicBezTo>
                  <a:pt x="456570" y="659980"/>
                  <a:pt x="579216" y="757910"/>
                  <a:pt x="483649" y="694616"/>
                </a:cubicBezTo>
                <a:cubicBezTo>
                  <a:pt x="384545" y="633220"/>
                  <a:pt x="279610" y="599524"/>
                  <a:pt x="204040" y="577483"/>
                </a:cubicBezTo>
                <a:cubicBezTo>
                  <a:pt x="128470" y="555442"/>
                  <a:pt x="60456" y="567406"/>
                  <a:pt x="30228" y="562368"/>
                </a:cubicBezTo>
                <a:cubicBezTo>
                  <a:pt x="0" y="557330"/>
                  <a:pt x="13855" y="567406"/>
                  <a:pt x="22671" y="547254"/>
                </a:cubicBezTo>
                <a:cubicBezTo>
                  <a:pt x="31488" y="527102"/>
                  <a:pt x="44082" y="496244"/>
                  <a:pt x="83127" y="441456"/>
                </a:cubicBezTo>
                <a:cubicBezTo>
                  <a:pt x="122172" y="386668"/>
                  <a:pt x="178850" y="284018"/>
                  <a:pt x="256939" y="218524"/>
                </a:cubicBezTo>
                <a:cubicBezTo>
                  <a:pt x="335028" y="153030"/>
                  <a:pt x="437048" y="80608"/>
                  <a:pt x="551663" y="48491"/>
                </a:cubicBezTo>
                <a:cubicBezTo>
                  <a:pt x="666278" y="16374"/>
                  <a:pt x="821197" y="0"/>
                  <a:pt x="944628" y="25820"/>
                </a:cubicBezTo>
                <a:cubicBezTo>
                  <a:pt x="1068059" y="51640"/>
                  <a:pt x="1196529" y="125321"/>
                  <a:pt x="1292251" y="203410"/>
                </a:cubicBezTo>
                <a:cubicBezTo>
                  <a:pt x="1387973" y="281499"/>
                  <a:pt x="1481177" y="442086"/>
                  <a:pt x="1518962" y="494355"/>
                </a:cubicBezTo>
                <a:cubicBezTo>
                  <a:pt x="1556747" y="546624"/>
                  <a:pt x="1541633" y="510099"/>
                  <a:pt x="1518962" y="517026"/>
                </a:cubicBezTo>
                <a:cubicBezTo>
                  <a:pt x="1496291" y="523953"/>
                  <a:pt x="1443391" y="517656"/>
                  <a:pt x="1382935" y="535919"/>
                </a:cubicBezTo>
                <a:cubicBezTo>
                  <a:pt x="1322479" y="554182"/>
                  <a:pt x="1226127" y="584410"/>
                  <a:pt x="1156225" y="626603"/>
                </a:cubicBezTo>
                <a:cubicBezTo>
                  <a:pt x="1086323" y="668796"/>
                  <a:pt x="1023346" y="712249"/>
                  <a:pt x="963520" y="789079"/>
                </a:cubicBezTo>
                <a:cubicBezTo>
                  <a:pt x="903694" y="865909"/>
                  <a:pt x="808601" y="1095967"/>
                  <a:pt x="797266" y="1076246"/>
                </a:cubicBezTo>
                <a:close/>
              </a:path>
            </a:pathLst>
          </a:custGeom>
          <a:gradFill rotWithShape="0">
            <a:gsLst>
              <a:gs pos="0">
                <a:srgbClr val="dd5a09"/>
              </a:gs>
              <a:gs pos="100000">
                <a:srgbClr val="ffc000"/>
              </a:gs>
            </a:gsLst>
            <a:lin ang="12570000"/>
          </a:gra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8" name="椭圆 9"/>
          <p:cNvSpPr/>
          <p:nvPr/>
        </p:nvSpPr>
        <p:spPr>
          <a:xfrm>
            <a:off x="3929040" y="2952360"/>
            <a:ext cx="1071360" cy="1071360"/>
          </a:xfrm>
          <a:prstGeom prst="ellipse">
            <a:avLst/>
          </a:prstGeom>
          <a:gradFill rotWithShape="0">
            <a:gsLst>
              <a:gs pos="0">
                <a:srgbClr val="00688e"/>
              </a:gs>
              <a:gs pos="100000">
                <a:srgbClr val="0094ca"/>
              </a:gs>
            </a:gsLst>
            <a:lin ang="16200000"/>
          </a:gradFill>
          <a:ln>
            <a:solidFill>
              <a:srgbClr val="0088b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cxnSp>
        <p:nvCxnSpPr>
          <p:cNvPr id="189" name="直接连接符 10"/>
          <p:cNvCxnSpPr/>
          <p:nvPr/>
        </p:nvCxnSpPr>
        <p:spPr>
          <a:xfrm flipH="1">
            <a:off x="1857240" y="478620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0" name="直接连接符 11"/>
          <p:cNvCxnSpPr/>
          <p:nvPr/>
        </p:nvCxnSpPr>
        <p:spPr>
          <a:xfrm flipH="1">
            <a:off x="642600" y="385740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1" name="直接连接符 12"/>
          <p:cNvCxnSpPr/>
          <p:nvPr/>
        </p:nvCxnSpPr>
        <p:spPr>
          <a:xfrm flipH="1">
            <a:off x="5786280" y="385740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2" name="直接连接符 13"/>
          <p:cNvCxnSpPr/>
          <p:nvPr/>
        </p:nvCxnSpPr>
        <p:spPr>
          <a:xfrm flipH="1">
            <a:off x="5429160" y="242856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193" name="直接连接符 14"/>
          <p:cNvCxnSpPr/>
          <p:nvPr/>
        </p:nvCxnSpPr>
        <p:spPr>
          <a:xfrm flipH="1">
            <a:off x="1071360" y="2428560"/>
            <a:ext cx="24609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194" name="矩形 15"/>
          <p:cNvSpPr/>
          <p:nvPr/>
        </p:nvSpPr>
        <p:spPr>
          <a:xfrm>
            <a:off x="4083480" y="3199680"/>
            <a:ext cx="77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6"/>
          <p:cNvSpPr/>
          <p:nvPr/>
        </p:nvSpPr>
        <p:spPr>
          <a:xfrm>
            <a:off x="5875560" y="1928880"/>
            <a:ext cx="26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>
            <a:off x="6667920" y="3429000"/>
            <a:ext cx="255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8"/>
          <p:cNvSpPr/>
          <p:nvPr/>
        </p:nvSpPr>
        <p:spPr>
          <a:xfrm>
            <a:off x="1887840" y="4357800"/>
            <a:ext cx="242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9"/>
          <p:cNvSpPr/>
          <p:nvPr/>
        </p:nvSpPr>
        <p:spPr>
          <a:xfrm>
            <a:off x="686160" y="3429000"/>
            <a:ext cx="217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0"/>
          <p:cNvSpPr/>
          <p:nvPr/>
        </p:nvSpPr>
        <p:spPr>
          <a:xfrm>
            <a:off x="1121040" y="2000160"/>
            <a:ext cx="205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79640" y="64810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2"/>
          <p:cNvSpPr/>
          <p:nvPr/>
        </p:nvSpPr>
        <p:spPr>
          <a:xfrm>
            <a:off x="3929040" y="2000160"/>
            <a:ext cx="4928760" cy="3785760"/>
          </a:xfrm>
          <a:prstGeom prst="rect">
            <a:avLst/>
          </a:prstGeom>
          <a:solidFill>
            <a:srgbClr val="3891a7">
              <a:alpha val="30000"/>
            </a:srgbClr>
          </a:solidFill>
          <a:ln w="9525">
            <a:solidFill>
              <a:srgbClr val="296b7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2" name="左弧形箭头 10"/>
          <p:cNvSpPr/>
          <p:nvPr/>
        </p:nvSpPr>
        <p:spPr>
          <a:xfrm flipV="1" rot="20118000">
            <a:off x="2608920" y="3476880"/>
            <a:ext cx="649080" cy="2704320"/>
          </a:xfrm>
          <a:prstGeom prst="curvedRightArrow">
            <a:avLst>
              <a:gd name="adj1" fmla="val 50000"/>
              <a:gd name="adj2" fmla="val 50000"/>
              <a:gd name="adj3" fmla="val 25000"/>
            </a:avLst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3912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1"/>
          <p:cNvSpPr/>
          <p:nvPr/>
        </p:nvSpPr>
        <p:spPr>
          <a:xfrm>
            <a:off x="1892520" y="2715480"/>
            <a:ext cx="1594080" cy="177120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4" name="心形 3"/>
          <p:cNvSpPr/>
          <p:nvPr/>
        </p:nvSpPr>
        <p:spPr>
          <a:xfrm rot="2290200">
            <a:off x="2156040" y="1857240"/>
            <a:ext cx="1889280" cy="1889280"/>
          </a:xfrm>
          <a:prstGeom prst="heart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8486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心形 4"/>
          <p:cNvSpPr/>
          <p:nvPr/>
        </p:nvSpPr>
        <p:spPr>
          <a:xfrm flipV="1" rot="2289000">
            <a:off x="915480" y="3435120"/>
            <a:ext cx="1889280" cy="1889640"/>
          </a:xfrm>
          <a:prstGeom prst="heart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7692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心形 5"/>
          <p:cNvSpPr/>
          <p:nvPr/>
        </p:nvSpPr>
        <p:spPr>
          <a:xfrm rot="18489600">
            <a:off x="653400" y="1953720"/>
            <a:ext cx="1889280" cy="1889280"/>
          </a:xfrm>
          <a:prstGeom prst="hear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3086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07" name="心形 6"/>
          <p:cNvSpPr/>
          <p:nvPr/>
        </p:nvSpPr>
        <p:spPr>
          <a:xfrm rot="7689600">
            <a:off x="2372040" y="3303360"/>
            <a:ext cx="1889280" cy="1889280"/>
          </a:xfrm>
          <a:prstGeom prst="hear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2286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7800000"/>
            </a:lightRig>
          </a:scene3d>
          <a:sp3d>
            <a:bevelT w="139700" h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08" name="泪滴形 7"/>
          <p:cNvSpPr/>
          <p:nvPr/>
        </p:nvSpPr>
        <p:spPr>
          <a:xfrm rot="18574800">
            <a:off x="571320" y="4819680"/>
            <a:ext cx="471960" cy="471960"/>
          </a:xfrm>
          <a:prstGeom prst="teardrop">
            <a:avLst>
              <a:gd name="adj" fmla="val 100000"/>
            </a:avLst>
          </a:prstGeom>
          <a:gradFill rotWithShape="0">
            <a:gsLst>
              <a:gs pos="0">
                <a:srgbClr val="ffe8cf"/>
              </a:gs>
              <a:gs pos="100000">
                <a:srgbClr val="fff6ec"/>
              </a:gs>
            </a:gsLst>
            <a:lin ang="13170000"/>
          </a:gradFill>
          <a:ln>
            <a:solidFill>
              <a:srgbClr val="feb603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 rot="18652200">
            <a:off x="2156400" y="2773800"/>
            <a:ext cx="175104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Arial"/>
              </a:rPr>
              <a:t>GRASP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56383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7030a0"/>
              </a:solidFill>
              <a:latin typeface="微软雅黑"/>
              <a:ea typeface="微软雅黑"/>
            </a:endParaRPr>
          </a:p>
        </p:txBody>
      </p:sp>
      <p:sp>
        <p:nvSpPr>
          <p:cNvPr id="211" name="椭圆 10"/>
          <p:cNvSpPr/>
          <p:nvPr/>
        </p:nvSpPr>
        <p:spPr>
          <a:xfrm>
            <a:off x="1788480" y="5415120"/>
            <a:ext cx="5222520" cy="1085400"/>
          </a:xfrm>
          <a:prstGeom prst="ellipse">
            <a:avLst/>
          </a:prstGeom>
          <a:gradFill rotWithShape="0">
            <a:gsLst>
              <a:gs pos="0">
                <a:srgbClr val="808080">
                  <a:alpha val="6117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glow rad="127080">
              <a:srgbClr val="f79524">
                <a:alpha val="0"/>
              </a:srgbClr>
            </a:glow>
            <a:outerShdw algn="ctr" dir="2700000" dist="107423" rotWithShape="0">
              <a:srgbClr val="535455"/>
            </a:outerShdw>
            <a:softEdge rad="368280"/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5"/>
          <p:cNvSpPr/>
          <p:nvPr/>
        </p:nvSpPr>
        <p:spPr>
          <a:xfrm>
            <a:off x="3934800" y="155772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68426"/>
              </a:gs>
            </a:gsLst>
            <a:lin ang="540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3" name="任意多边形 6"/>
          <p:cNvSpPr/>
          <p:nvPr/>
        </p:nvSpPr>
        <p:spPr>
          <a:xfrm rot="2637000">
            <a:off x="4667400" y="184104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568129"/>
              </a:gs>
              <a:gs pos="100000">
                <a:srgbClr val="7bb73b"/>
              </a:gs>
            </a:gsLst>
            <a:lin ang="18834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4" name="任意多边形 7"/>
          <p:cNvSpPr/>
          <p:nvPr/>
        </p:nvSpPr>
        <p:spPr>
          <a:xfrm flipH="1" rot="18963000">
            <a:off x="3180960" y="1877400"/>
            <a:ext cx="965160" cy="2145240"/>
          </a:xfrm>
          <a:custGeom>
            <a:avLst/>
            <a:gdLst>
              <a:gd name="textAreaLeft" fmla="*/ -360 w 965160"/>
              <a:gd name="textAreaRight" fmla="*/ 96516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568129"/>
              </a:gs>
              <a:gs pos="100000">
                <a:srgbClr val="7bb73b"/>
              </a:gs>
            </a:gsLst>
            <a:lin ang="1356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5" name="任意多边形 8"/>
          <p:cNvSpPr/>
          <p:nvPr/>
        </p:nvSpPr>
        <p:spPr>
          <a:xfrm flipV="1" rot="18963000">
            <a:off x="4656600" y="332964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-360 h 2145240"/>
              <a:gd name="textAreaBottom" fmla="*/ 214524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992941"/>
              </a:gs>
              <a:gs pos="100000">
                <a:srgbClr val="db3b5d"/>
              </a:gs>
            </a:gsLst>
            <a:lin ang="276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6" name="任意多边形 9"/>
          <p:cNvSpPr/>
          <p:nvPr/>
        </p:nvSpPr>
        <p:spPr>
          <a:xfrm flipH="1" flipV="1" rot="2637000">
            <a:off x="3158640" y="3331080"/>
            <a:ext cx="965160" cy="2144880"/>
          </a:xfrm>
          <a:custGeom>
            <a:avLst/>
            <a:gdLst>
              <a:gd name="textAreaLeft" fmla="*/ -360 w 965160"/>
              <a:gd name="textAreaRight" fmla="*/ 965160 w 965160"/>
              <a:gd name="textAreaTop" fmla="*/ 360 h 2144880"/>
              <a:gd name="textAreaBottom" fmla="*/ 2145600 h 214488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992941"/>
              </a:gs>
              <a:gs pos="100000">
                <a:srgbClr val="db3b5d"/>
              </a:gs>
            </a:gsLst>
            <a:lin ang="8034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7" name="任意多边形 10"/>
          <p:cNvSpPr/>
          <p:nvPr/>
        </p:nvSpPr>
        <p:spPr>
          <a:xfrm flipV="1">
            <a:off x="3934800" y="366480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-360 h 2145240"/>
              <a:gd name="textAreaBottom" fmla="*/ 214524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977100"/>
              </a:gs>
              <a:gs pos="100000">
                <a:srgbClr val="d6a100"/>
              </a:gs>
            </a:gsLst>
            <a:lin ang="540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8" name="任意多边形 11"/>
          <p:cNvSpPr/>
          <p:nvPr/>
        </p:nvSpPr>
        <p:spPr>
          <a:xfrm rot="5400000">
            <a:off x="5019840" y="261072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0 h 2145240"/>
              <a:gd name="textAreaBottom" fmla="*/ 214560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00688e"/>
              </a:gs>
              <a:gs pos="100000">
                <a:srgbClr val="0094ca"/>
              </a:gs>
            </a:gsLst>
            <a:lin ang="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9" name="任意多边形 12"/>
          <p:cNvSpPr/>
          <p:nvPr/>
        </p:nvSpPr>
        <p:spPr>
          <a:xfrm flipV="1" rot="5400000">
            <a:off x="2804760" y="2610000"/>
            <a:ext cx="965160" cy="2145240"/>
          </a:xfrm>
          <a:custGeom>
            <a:avLst/>
            <a:gdLst>
              <a:gd name="textAreaLeft" fmla="*/ 0 w 965160"/>
              <a:gd name="textAreaRight" fmla="*/ 965520 w 965160"/>
              <a:gd name="textAreaTop" fmla="*/ -360 h 2145240"/>
              <a:gd name="textAreaBottom" fmla="*/ 2145240 h 2145240"/>
            </a:gdLst>
            <a:ahLst/>
            <a:rect l="textAreaLeft" t="textAreaTop" r="textAreaRight" b="textAreaBottom"/>
            <a:pathLst>
              <a:path w="965364" h="2145775">
                <a:moveTo>
                  <a:pt x="461128" y="2145775"/>
                </a:moveTo>
                <a:cubicBezTo>
                  <a:pt x="283637" y="1575204"/>
                  <a:pt x="119368" y="1002512"/>
                  <a:pt x="59684" y="673814"/>
                </a:cubicBezTo>
                <a:cubicBezTo>
                  <a:pt x="0" y="345116"/>
                  <a:pt x="36066" y="285604"/>
                  <a:pt x="103026" y="173588"/>
                </a:cubicBezTo>
                <a:cubicBezTo>
                  <a:pt x="169986" y="61572"/>
                  <a:pt x="341425" y="0"/>
                  <a:pt x="461444" y="1720"/>
                </a:cubicBezTo>
                <a:cubicBezTo>
                  <a:pt x="581463" y="3440"/>
                  <a:pt x="740782" y="81434"/>
                  <a:pt x="823140" y="183906"/>
                </a:cubicBezTo>
                <a:cubicBezTo>
                  <a:pt x="875089" y="248543"/>
                  <a:pt x="965364" y="364596"/>
                  <a:pt x="887305" y="665679"/>
                </a:cubicBezTo>
                <a:lnTo>
                  <a:pt x="461128" y="2145775"/>
                </a:lnTo>
                <a:close/>
              </a:path>
            </a:pathLst>
          </a:custGeom>
          <a:gradFill rotWithShape="0">
            <a:gsLst>
              <a:gs pos="0">
                <a:srgbClr val="00688e"/>
              </a:gs>
              <a:gs pos="100000">
                <a:srgbClr val="0094ca"/>
              </a:gs>
            </a:gsLst>
            <a:lin ang="10800000"/>
          </a:gra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0" name="椭圆 13"/>
          <p:cNvSpPr/>
          <p:nvPr/>
        </p:nvSpPr>
        <p:spPr>
          <a:xfrm>
            <a:off x="2574360" y="1815120"/>
            <a:ext cx="3599640" cy="3599640"/>
          </a:xfrm>
          <a:prstGeom prst="ellipse">
            <a:avLst/>
          </a:prstGeom>
          <a:solidFill>
            <a:srgbClr val="ffffff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椭圆 14"/>
          <p:cNvSpPr/>
          <p:nvPr/>
        </p:nvSpPr>
        <p:spPr>
          <a:xfrm>
            <a:off x="3046320" y="2324880"/>
            <a:ext cx="2628000" cy="2627640"/>
          </a:xfrm>
          <a:prstGeom prst="ellipse">
            <a:avLst/>
          </a:prstGeom>
          <a:solidFill>
            <a:srgbClr val="ffffff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5000400" cy="1213920"/>
          </a:xfrm>
          <a:prstGeom prst="rect">
            <a:avLst/>
          </a:prstGeom>
          <a:ln w="9525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28840" y="2928960"/>
            <a:ext cx="640044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-18030"/>
                <a:ea typeface="宋体-18030"/>
              </a:rPr>
              <a:t>FROM:***********************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73">
  <a:themeElements>
    <a:clrScheme name="夏至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3">
  <a:themeElements>
    <a:clrScheme name="夏至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73">
  <a:themeElements>
    <a:clrScheme name="夏至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73</Template>
  <TotalTime>63</TotalTime>
  <Application>LibreOffice/7.4.7.2$Linux_X86_64 LibreOffice_project/40$Build-2</Application>
  <AppVersion>15.0000</AppVersion>
  <Words>83</Words>
  <Paragraphs>31</Paragraphs>
  <Company> 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5:23Z</dcterms:created>
  <dc:creator>符号</dc:creator>
  <dc:description/>
  <dc:language>en-US</dc:language>
  <cp:lastModifiedBy>王玉清</cp:lastModifiedBy>
  <dcterms:modified xsi:type="dcterms:W3CDTF">2016-02-24T02:38:45Z</dcterms:modified>
  <cp:revision>1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