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C9A-168A-464D-A5FF-943D5CC7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359-C708-42A6-A7B9-7BF73BF9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878-EC5F-416D-ABD2-B1C4AC8D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8AF-406E-4D29-BE33-4D41577B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995-152F-4DB8-BD90-2331B21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FC89-FB1F-4538-A7B3-7DA932E9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FE6-8C25-4CDF-8B7F-D4C0C412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AAD-C2AB-44EA-8416-499064E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01C-95EA-41BD-8F82-D7551E5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68C-3E24-42A0-A035-2C20FFF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DCC-10DF-4925-B8BA-CA06263C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A9E-91D5-4358-B730-894B1C63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EF9-8A1D-4FCE-BFE5-82CA1E81ED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4B0B-85D0-4815-9E79-A95A6F9CDA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素材\www.51pptmoban.com团队合作3D小人商务图片素材 (1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252360" y="6669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1080" y="-171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小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素材\www.51pptmoban.com团队合作3D小人商务图片素材 (3).jpg"/>
          <p:cNvPicPr/>
          <p:nvPr/>
        </p:nvPicPr>
        <p:blipFill>
          <a:blip r:embed="rId1"/>
          <a:stretch/>
        </p:blipFill>
        <p:spPr>
          <a:xfrm>
            <a:off x="-395280" y="-458640"/>
            <a:ext cx="10296360" cy="77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Administrator\Desktop\素材\www.51pptmoban.com团队合作3D小人商务图片素材 (4).jpg"/>
          <p:cNvPicPr/>
          <p:nvPr/>
        </p:nvPicPr>
        <p:blipFill>
          <a:blip r:embed="rId1"/>
          <a:stretch/>
        </p:blipFill>
        <p:spPr>
          <a:xfrm>
            <a:off x="-755640" y="-1177920"/>
            <a:ext cx="10656720" cy="878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dministrator\Desktop\素材\www.51pptmoban.com团队合作3D小人商务图片素材 (6).jpg"/>
          <p:cNvPicPr/>
          <p:nvPr/>
        </p:nvPicPr>
        <p:blipFill>
          <a:blip r:embed="rId1"/>
          <a:stretch/>
        </p:blipFill>
        <p:spPr>
          <a:xfrm>
            <a:off x="-1692360" y="-482760"/>
            <a:ext cx="12841200" cy="80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23D-CA51-419C-BEFF-136217D5B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4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6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