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804-1BF7-4471-AE57-DE4F7034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B22-8916-435D-9345-122D914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826C-F646-4182-AA91-15B3A8B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35504-FBB0-4758-9236-031121B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CB495-0791-43C4-A39C-310FE17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E141-A9FF-4910-8212-3DAFEDB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1C081-7A91-4428-8CC8-22BD1A8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937D7-AC78-48B0-BCEF-F6270A7A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FEBBB-81BD-4B6D-A088-56BFC47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C4BB-EB5A-4D40-8D53-73A50224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A71F7-2BB9-4F01-876E-5E618880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0E8C3-1EC2-42D7-8F56-B22ACEB0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736-D7EE-470B-A0FA-9AE648FB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8DEA-FD11-459E-9BC3-ABDB07EE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FF838-5FDB-4B2F-A9A5-AC6C9A78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B45EE-789E-448D-96DA-01B95352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4A32-C527-4460-8A4F-F28D8B36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7761-09B4-4798-A9BD-FF7D8401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15F9-66C8-4451-A4E3-FB6C5A4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F2A8A-226D-4B5F-A5E0-22AB27A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00176-EB42-44FD-8206-AF796E6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1D312-7026-4013-8C1C-52B1A04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9307B-D730-413E-AF65-944A39E2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035-E4DF-4D32-9047-430CE96D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7ACCE-412C-4933-8864-088AC11F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AF28-C6F9-4EA5-BBFF-DCC13001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65C69-D8A3-4257-BD18-44D0F49A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29357-7398-4360-88D2-5081121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29C9-64BD-4D47-9758-8C31F4D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AD699-CDD6-4A77-B96D-F958195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5E559-82F6-46D6-BE41-37FA46B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42BD1-7DF1-4D57-B8FB-BAA9622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1CE65-C267-4D92-B504-09CC8BD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689D-E69B-4BCF-80F4-B4D62CD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043-340D-436C-AFCB-B9964E7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ACD3C-BDF1-4711-A0A1-82558F8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90A6F-99F5-4A42-A49D-3A185736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CE920-6974-4406-A537-E0599B04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968F8-A6AF-4563-95BA-C7C4527D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ED36-30DE-4285-9E53-874FC4A7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AFDCD-3CCE-40B6-AB7B-4A5F648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AB08C-5DD0-458A-A2E3-D24D29BF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35917-74C4-4B22-B0DD-51FEDB1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FA74E-0190-4ECF-8819-15D73A66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C4DA2-D023-4272-82C2-669F9FE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DE6D-1AE9-4B7D-A71E-5E024058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12FD2-AF40-4230-8C15-62FCC12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4224C-2BDB-4520-AE61-7A61863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DE7EA-179F-4AEC-A221-E1F29B82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0FAE0-C812-4FB2-9168-16AF3FDD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92A0E-49B0-4692-959E-A361FC6A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255F0-D0B0-4168-ABEC-078AE89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C0F01-E2F9-4959-A3C1-C6A5F7A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83CDA-897F-4C30-8C3C-D235B823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4CE4B-6CAC-45A3-9A6E-4DBB3EA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B837F-BCFF-4777-994D-952D0C62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61A-7C9E-4C77-9991-3B2A1E17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077F9-6DA3-48B1-A6C8-429227B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4213D-6447-4023-95CA-4F1331F7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948FF-D28D-401E-A86F-B1AA506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AA787-A1A6-40A1-B8BD-A714AF2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6B3AF-B68D-4F1D-B65A-266ECCB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23721-83D5-4C53-A2D7-DEEFD1A1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D8AF9-D559-4483-8578-B7FA9D2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A4A-33CF-4B35-B7B8-73FC68A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F75-74E8-4B34-9494-303084A3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EAA-CF9F-416C-865F-6663608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131-7D30-40CD-8B36-C885F8E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D7E-CBE6-4596-BDF5-A3B646F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0A2D-25D2-4F6E-8426-F6021B0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2235-2CD5-4C16-BF34-0DB2110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63D-F35C-45A0-9B50-62AC62B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F17-4B12-4ED7-BAEA-FB2CEC4E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5AC4-4936-46DF-8476-9CF4900F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8B90-C8DE-42B5-A94C-DC907968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5D36-BF3B-408E-BB6A-15331B89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7F2F-EB5F-4C3C-8CB9-F60B37A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56CC-8B43-4E55-B6F3-BAD5BBA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A88F-0159-4447-AB04-A108DF3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007-DB0C-47FC-8BF9-83E5FA5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5048-DF08-453F-AFC9-EF578F5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7F47-615E-4A8D-9454-D59977B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8A92-7F09-436D-8249-9AF9C3A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E88D-558A-41B4-9B36-29B0569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4982-7E12-492D-9A1B-EC3D06B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D2A5-C9DE-4C5D-9BBB-4A7A6D5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3060-750B-4C37-B8E7-A7804CA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727B-0BA5-4543-9F52-D12A9E4D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3AAB-2F96-487F-AA2F-59936A8F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E939-4B61-4A4F-82A5-B936963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E9A-3027-45F5-8A2D-F9B6C4F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75A3-57F8-461A-B99B-30AF323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3D64-0324-479D-A768-F94696F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7246-34E3-4F19-A0B5-506140A2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8BAA-EC7E-44BB-8C92-42F7076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FE05-0AE3-4C6D-B934-EAF433D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E2EB-6EA8-46D6-9747-8F22045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ED61-E1EC-43E9-9277-C5DC83E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575D-08CE-4BA3-AAA7-BCF6964B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04D0-2929-4743-9F38-81B48393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DB5C-E353-43EB-AD27-69EED052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C39-09B4-48BC-9D73-A6688F8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ED71-1D90-46F4-8060-56A29F35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CD01B-0FA3-48E0-807E-1502EDB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9B8B-BEA2-454D-AD93-D59CB5F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6E1C-6C84-4BC7-B2CD-DB9A03FC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0FAB-A385-4E9F-9571-186A4A2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F990-889F-4004-943D-7597205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3EEE-738E-413F-A33C-533DEF7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E09D-E5A6-4617-A7F9-F4B0E1E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1F26-B855-45C9-9ABE-EFC477EC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C3B8-74B0-49EC-9937-371AE323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4CC-8B66-454E-81CE-12A339F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FEAC-CEB0-4CB5-902B-52CDA950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DFC7-095B-43BD-AAFA-CCA8DB55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3B26-CA2D-4EBB-B020-7662119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7FC0-8E6B-4082-AA4F-9282F92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130C-5C6E-4CA3-82CF-C747B9F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4A54-120D-41E9-94CE-816D9C7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9D06-B9E6-4D06-91FB-1F2F0803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AF9F-8392-4537-A2CA-3CF9696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DC8D-8B5C-449D-B608-5B9B9AE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DCD41-C6FE-4FFA-BC2F-9FDC426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801-C211-42FB-881B-069CB37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CB08C-4F3E-4B74-B475-A989A09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F27B-D03E-4835-B87E-D27B4A7A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0DF7-28F2-446A-B521-9D0A11F1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7E73-69BA-4151-9D65-1310B8D8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A127-4244-49BA-832D-FD4E670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053A-F562-4123-8B06-03A18A7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DAF1-22C3-4625-9C9C-E005195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8E70-AD15-4B00-90B8-B83822F8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EF80-916A-419E-B56D-0CFD870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9D348-C7CE-4F2F-B9F5-8C0444A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182-D9E5-402D-8C29-3E87793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09A3-ABF3-44EF-A657-53C68D7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E646-A475-4326-A72D-147AF14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8AC5-C629-4C03-A5DC-D15D787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4348-2F25-4E1A-8A7F-D08F5629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C61C5-AE2F-4204-A0A3-E4A7E596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AC27-EDB1-44DA-8830-6C83DCAA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C8C66-5FB2-4C25-8D98-97900D2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C038-A81C-4589-915F-9094002F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AD95-E161-41EA-B15F-7C2DAB5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206C-D879-4840-B407-42B6CDF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F5A-93FA-44D1-A328-5D939EC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A00B-01F4-4160-9CE7-A711E956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B572-D0E4-4640-AB81-D8221E9F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02010-91FD-4E71-AF0E-733E59E9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8FFD-2A5A-422B-AB7F-BDCCC0C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E7E65-3CE2-4D46-A1B8-FC263FA0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05976-4463-44E1-9394-BCBC67A3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C0973-C7FB-4CBE-B011-A1B0C8D6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3A698-C851-4EBF-8B20-E45EF62E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B9B0D-01D9-45E7-A0B3-E5C5973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9D19-6B11-4AA5-8875-C8A0173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85F-061E-4C08-8904-482F7EECB351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8FB-B448-4740-AE88-FA63F089116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823-E9C9-48E5-8147-243F71E2F3D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DE17-4B7F-48B8-947B-6D91DBAD99D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F4F2-6BFA-4C71-9656-A7A34A8AD15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1F44-4300-4CC3-BB4C-C51F716A90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AF8B-46E6-4A88-B7D5-9A481E80C1E2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059-FFE9-4416-90F5-910A388DE91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CB65-64C3-47FF-A5E3-E5AE544FC7C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33B-E837-4935-91C2-6178437752D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587-34D5-4AD5-9CCF-4647A264A43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C1E-B62B-434D-ACFD-6DEEBDA51D1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5F3-85EE-42D1-8B51-CEC71EA453D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339920" y="692280"/>
            <a:ext cx="72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卡通小熊爱心动态</a:t>
            </a:r>
            <a:r>
              <a:rPr b="0" lang="en-US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55640" y="660708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16T08:48:59Z</dcterms:modified>
  <cp:revision>21</cp:revision>
  <dc:subject/>
  <dc:title>Слайд 1</dc:title>
</cp:coreProperties>
</file>