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591-63C3-44A6-A9A3-16BCF0C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C2A-E422-40F3-AEB7-78127B6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F0F-969E-4121-BE1E-DA6B9056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454-782E-4159-B88F-04C57E27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50A-F617-47B7-942A-5232591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6EF-1887-49FD-AEE3-D490563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647-C096-49EE-8AB6-A8A7670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120-02B4-4B02-8025-A8C24A1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7E0-9837-4E57-998C-E9AFED7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71A-5CD8-4583-9F48-75A6C33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DAC-59FE-4142-9E8B-7BEC0C9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17D-0B6D-415B-979F-EF90E77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264-2036-4865-8BC8-485E3B4973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酷炫蓝色商务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  <a:ea typeface="宋体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cce4b9"/>
              </a:gs>
              <a:gs pos="100000">
                <a:srgbClr val="86c05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d4d4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7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6c05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6c05a">
                  <a:alpha val="32156"/>
                </a:srgbClr>
              </a:gs>
              <a:gs pos="100000">
                <a:srgbClr val="3e59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831"/>
              </a:gs>
              <a:gs pos="50000">
                <a:srgbClr val="86c05a"/>
              </a:gs>
              <a:gs pos="100000">
                <a:srgbClr val="4968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a39"/>
              </a:gs>
              <a:gs pos="100000">
                <a:srgbClr val="86c05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8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9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5" name="Text Box 39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07" name="Group 41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308" name="Oval 42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9" name="Oval 43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Oval 44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1" name="Oval 45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2" name="Text Box 46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3" name="Oval 47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Text Box 52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3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4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6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7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3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5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6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8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49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1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47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3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4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5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6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9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0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61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69" name="AutoShape 47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AutoShape 48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1" name="AutoShape 49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2" name="AutoShape 50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73" name="Group 51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74" name="Oval 52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5" name="Oval 53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Oval 54"/>
            <p:cNvSpPr/>
            <p:nvPr/>
          </p:nvSpPr>
          <p:spPr>
            <a:xfrm>
              <a:off x="185112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7" name="Oval 55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8" name="Oval 56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79" name="Text Box 57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1" name="AutoShape 59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2" name="AutoShape 60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3" name="AutoShape 61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4" name="AutoShape 62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86" name="Oval 64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Oval 65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Oval 66"/>
            <p:cNvSpPr/>
            <p:nvPr/>
          </p:nvSpPr>
          <p:spPr>
            <a:xfrm>
              <a:off x="657540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9" name="Oval 67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0" name="Oval 68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91" name="Text Box 69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2" name="Text Box 70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3" name="AutoShape 71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4" name="AutoShape 72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5" name="AutoShape 73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6" name="AutoShape 74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7" name="Oval 75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0" name="Oval 78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1" name="Oval 79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08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09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10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13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16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7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8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9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21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22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27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28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31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4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6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7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438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39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0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1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2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44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45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48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51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2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3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4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5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56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57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8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9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0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62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63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66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69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0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1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2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3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74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75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6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0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1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2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3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4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5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6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8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cxnSp>
        <p:nvCxnSpPr>
          <p:cNvPr id="491" name="AutoShape 89"/>
          <p:cNvCxnSpPr>
            <a:stCxn id="487" idx="3"/>
            <a:endCxn id="48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2" name="AutoShape 90"/>
          <p:cNvCxnSpPr>
            <a:stCxn id="488" idx="3"/>
            <a:endCxn id="48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3" name="AutoShape 91"/>
          <p:cNvCxnSpPr>
            <a:stCxn id="489" idx="3"/>
            <a:endCxn id="49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592a"/>
              </a:gs>
              <a:gs pos="100000">
                <a:srgbClr val="86c0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20680"/>
                <a:gridCol w="372960"/>
                <a:gridCol w="204336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4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506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07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09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0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1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13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14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5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7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18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0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1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22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23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24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5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6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1225800" y="1455120"/>
            <a:ext cx="6667920" cy="4675680"/>
            <a:chOff x="1225800" y="1455120"/>
            <a:chExt cx="6667920" cy="4675680"/>
          </a:xfrm>
        </p:grpSpPr>
        <p:sp>
          <p:nvSpPr>
            <p:cNvPr id="529" name="Oval 3"/>
            <p:cNvSpPr/>
            <p:nvPr/>
          </p:nvSpPr>
          <p:spPr>
            <a:xfrm>
              <a:off x="2262240" y="446580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0" name="Oval 4"/>
            <p:cNvSpPr/>
            <p:nvPr/>
          </p:nvSpPr>
          <p:spPr>
            <a:xfrm rot="20601600">
              <a:off x="153684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59336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2" name="Arc 6"/>
            <p:cNvSpPr/>
            <p:nvPr/>
          </p:nvSpPr>
          <p:spPr>
            <a:xfrm rot="20601600">
              <a:off x="4241880" y="22680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flipH="1" rot="20602200">
              <a:off x="1646640" y="35809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rot="20601600">
              <a:off x="3486240" y="19965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flipH="1" rot="20602200">
              <a:off x="1447560" y="26492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6" name="Oval 10"/>
            <p:cNvSpPr/>
            <p:nvPr/>
          </p:nvSpPr>
          <p:spPr>
            <a:xfrm rot="20601600">
              <a:off x="305424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42746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0" name="Freeform 14"/>
            <p:cNvSpPr/>
            <p:nvPr/>
          </p:nvSpPr>
          <p:spPr>
            <a:xfrm>
              <a:off x="6377040" y="32036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1" name="Arc 15"/>
            <p:cNvSpPr/>
            <p:nvPr/>
          </p:nvSpPr>
          <p:spPr>
            <a:xfrm rot="20539200">
              <a:off x="4775040" y="32094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5951160" y="3660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4" name="Text Box 18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5" name="Text Box 19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7" name="Freeform 21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48" name="Text Box 7"/>
          <p:cNvSpPr/>
          <p:nvPr/>
        </p:nvSpPr>
        <p:spPr>
          <a:xfrm>
            <a:off x="309600" y="635328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51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2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3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4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55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6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7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8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59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3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6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67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9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0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1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4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5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6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1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2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3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4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5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7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AutoShape 63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AutoShape 65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AutoShape 69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AutoShape 71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7" name="Group 73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8" name="Rectangle 74"/>
            <p:cNvSpPr/>
            <p:nvPr/>
          </p:nvSpPr>
          <p:spPr>
            <a:xfrm>
              <a:off x="2897280" y="167796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Rectangle 75"/>
            <p:cNvSpPr/>
            <p:nvPr/>
          </p:nvSpPr>
          <p:spPr>
            <a:xfrm>
              <a:off x="2895480" y="257940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Rectangle 76"/>
            <p:cNvSpPr/>
            <p:nvPr/>
          </p:nvSpPr>
          <p:spPr>
            <a:xfrm>
              <a:off x="2900520" y="32605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Rectangle 77"/>
            <p:cNvSpPr/>
            <p:nvPr/>
          </p:nvSpPr>
          <p:spPr>
            <a:xfrm>
              <a:off x="2897280" y="39463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Rectangle 78"/>
            <p:cNvSpPr/>
            <p:nvPr/>
          </p:nvSpPr>
          <p:spPr>
            <a:xfrm>
              <a:off x="2897280" y="463068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2900520" y="532764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4" name="Group 80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5" name="Rectangle 81"/>
            <p:cNvSpPr/>
            <p:nvPr/>
          </p:nvSpPr>
          <p:spPr>
            <a:xfrm>
              <a:off x="5895720" y="1676520"/>
              <a:ext cx="117720" cy="3812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Rectangle 82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Rectangle 83"/>
            <p:cNvSpPr/>
            <p:nvPr/>
          </p:nvSpPr>
          <p:spPr>
            <a:xfrm>
              <a:off x="5898960" y="32594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Rectangle 84"/>
            <p:cNvSpPr/>
            <p:nvPr/>
          </p:nvSpPr>
          <p:spPr>
            <a:xfrm>
              <a:off x="5895720" y="39452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Rectangle 85"/>
            <p:cNvSpPr/>
            <p:nvPr/>
          </p:nvSpPr>
          <p:spPr>
            <a:xfrm>
              <a:off x="5895720" y="462924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Rectangle 86"/>
            <p:cNvSpPr/>
            <p:nvPr/>
          </p:nvSpPr>
          <p:spPr>
            <a:xfrm>
              <a:off x="5898960" y="532620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1" name="Rectangle 87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c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WordArt 3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371240"/>
            <a:ext cx="8132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ea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d9eb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24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25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7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31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33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34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6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7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8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0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42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9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50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1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184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8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9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2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94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2880" y="64198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9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2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1" name="Group 37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32" name="Group 38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33" name="Oval 39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4" name="Freeform 40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35" name="Text Box 41"/>
            <p:cNvSpPr/>
            <p:nvPr/>
          </p:nvSpPr>
          <p:spPr>
            <a:xfrm>
              <a:off x="404568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36" name="Text Box 42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8" name="Group 44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39" name="Group 45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40" name="Oval 46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1" name="Freeform 47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2" name="Text Box 48"/>
            <p:cNvSpPr/>
            <p:nvPr/>
          </p:nvSpPr>
          <p:spPr>
            <a:xfrm>
              <a:off x="4656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3" name="Text Box 49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4" name="Rectangle 50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46" name="Group 52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47" name="Oval 53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8" name="Freeform 54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55"/>
            <p:cNvSpPr/>
            <p:nvPr/>
          </p:nvSpPr>
          <p:spPr>
            <a:xfrm>
              <a:off x="544176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0" name="Text Box 56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53" name="Oval 59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5" name="Text Box 61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6" name="Text Box 62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7" name="AutoShape 63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>ppt宝藏</dc:creator>
  <dc:description/>
  <dc:language>en-US</dc:language>
  <cp:lastModifiedBy>a</cp:lastModifiedBy>
  <dcterms:modified xsi:type="dcterms:W3CDTF">2015-07-25T07:14:38Z</dcterms:modified>
  <cp:revision>10</cp:revision>
  <dc:subject/>
  <dc:title>www.pptbz.com</dc:title>
</cp:coreProperties>
</file>