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94D-8E4C-42A6-BD70-37578552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F37-626F-482A-9FCC-BB80AFF3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786-F120-484F-A470-1A314278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0F9-0B34-46E2-A24F-0FAF95AF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0BE-6EA9-46EC-9ECD-B29C7A86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C5F-2A04-40BB-9AD1-2E918C39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D69-F86C-49B8-B03B-2EFBDCC2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A95-4521-4AC9-BCAC-F5ECD23F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0D8-41CC-4C32-925B-0B8DC39E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1E8-C0A8-4BBC-9871-3451C0C9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C8A-BFE2-42EC-A059-8526D8E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0A8-0B36-4BCE-8C33-D5D317DA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E1E2-3EF7-425B-91D6-02E55A587C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4-1.png"/>
          <p:cNvPicPr/>
          <p:nvPr/>
        </p:nvPicPr>
        <p:blipFill>
          <a:blip r:embed="rId3"/>
          <a:stretch/>
        </p:blipFill>
        <p:spPr>
          <a:xfrm>
            <a:off x="571680" y="1071720"/>
            <a:ext cx="5211720" cy="189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4-2.png"/>
          <p:cNvPicPr/>
          <p:nvPr/>
        </p:nvPicPr>
        <p:blipFill>
          <a:blip r:embed="rId3"/>
          <a:stretch/>
        </p:blipFill>
        <p:spPr>
          <a:xfrm>
            <a:off x="357120" y="5851440"/>
            <a:ext cx="3857760" cy="506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4-3.png"/>
          <p:cNvPicPr/>
          <p:nvPr/>
        </p:nvPicPr>
        <p:blipFill>
          <a:blip r:embed="rId3"/>
          <a:stretch/>
        </p:blipFill>
        <p:spPr>
          <a:xfrm>
            <a:off x="785880" y="1428840"/>
            <a:ext cx="4876560" cy="974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"/>
          <p:cNvSpPr/>
          <p:nvPr/>
        </p:nvSpPr>
        <p:spPr>
          <a:xfrm>
            <a:off x="1966320" y="476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酷炫迈克通用</a:t>
            </a:r>
            <a:r>
              <a:rPr b="0" lang="en-US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6:03:07Z</dcterms:created>
  <dc:creator>User</dc:creator>
  <dc:description/>
  <dc:language>en-US</dc:language>
  <cp:lastModifiedBy>王玉清</cp:lastModifiedBy>
  <dcterms:modified xsi:type="dcterms:W3CDTF">2016-02-21T07:20:41Z</dcterms:modified>
  <cp:revision>4</cp:revision>
  <dc:subject/>
  <dc:title>幻灯片 1</dc:title>
</cp:coreProperties>
</file>