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2F3F-F942-4A6E-8FE9-548900C1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C631-BD9E-44F1-B371-7DAB61EC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0275-0FAF-4087-9B73-CE50E4D9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D0F-2CEB-42F0-A1A9-2C87D246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4FCE-4CEA-4913-8BE8-227A6CE5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D54-5260-431A-A59B-0C55E69B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1FA5-7450-4B3F-8986-5388BA7D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577-ECA3-4DED-B119-1D895C47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AEA9-A6B6-466B-8B7C-C4D34216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79C4-534A-4ED8-9E42-B91E7113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1E8-0C8A-40F6-9B24-BBA02C4D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A2F-6E89-4E3B-B3CA-1E9156E9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4457880" y="3328920"/>
            <a:ext cx="228600" cy="200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4"/>
          <a:stretch/>
        </p:blipFill>
        <p:spPr>
          <a:xfrm>
            <a:off x="8389800" y="6599160"/>
            <a:ext cx="731880" cy="2588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E883-85B0-4B1B-A8C0-F67713756D71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领带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cp:keywords/>
  <dc:language>en-US</dc:language>
  <cp:lastModifiedBy>a</cp:lastModifiedBy>
  <cp:lastPrinted>1899-12-30T00:00:00Z</cp:lastPrinted>
  <dcterms:modified xsi:type="dcterms:W3CDTF">2015-07-25T07:45:17Z</dcterms:modified>
  <cp:revision>19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