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51E-0E63-45C4-AFF1-1A6D290B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727-D41E-42B0-B115-AB9210C8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A57-7E47-46EB-A938-BDA8D1F4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BD7-A90E-486E-A3F3-2EBFD903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577-DAA5-46DB-8C8B-F9BCBB48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807-76D1-4B8B-A3AA-1F54C1DE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FEA-2FC9-4B20-A31E-81195415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B03-1E2F-4D45-B45D-D76719BA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B4D-6726-42C9-A2C4-F56CE8D5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41D-A2E8-4B86-81DD-18B3C0AC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6AF-9AA0-4016-ADA6-2D9FFECA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A27-1806-4989-98F3-3C2AA51F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c0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c0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C6E6-D954-4165-9ADA-2A379FFEFC2B}" type="slidenum">
              <a:rPr b="0" lang="zh-CN" sz="1200" spc="-1" strike="noStrike">
                <a:solidFill>
                  <a:srgbClr val="8a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43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蓝绿脚印通用</a:t>
            </a:r>
            <a:r>
              <a:rPr b="0" lang="en-US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模板免费下载</a:t>
            </a:r>
            <a:endParaRPr b="0" lang="en-US" sz="4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8840" y="59432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Caslon Pro"/>
                <a:ea typeface="Adobe Heiti Std R"/>
              </a:rPr>
              <a:t>Company name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33440" y="152280"/>
            <a:ext cx="58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15800" y="1295280"/>
            <a:ext cx="58676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600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  <a:ea typeface="宋体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932040" y="76320"/>
            <a:ext cx="775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600"/>
                </a:solidFill>
                <a:latin typeface="Adobe Caslon Pro"/>
                <a:ea typeface="Adobe Arabic"/>
              </a:rPr>
              <a:t>MyTemplatesShop</a:t>
            </a:r>
            <a:endParaRPr b="0" lang="en-US" sz="4400" spc="-1" strike="noStrike">
              <a:solidFill>
                <a:srgbClr val="0c06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887400" y="1600200"/>
            <a:ext cx="7799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  <a:ea typeface="宋体"/>
              </a:rPr>
              <a:t>Feel free to use this PowerPoint template and background for your personal use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0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600"/>
                </a:solidFill>
                <a:latin typeface="Adobe Caslon Pro"/>
                <a:ea typeface="宋体"/>
              </a:rPr>
              <a:t>More templates, graphics and charts are available at</a:t>
            </a:r>
            <a:endParaRPr b="0" lang="en-US" sz="2400" spc="-1" strike="noStrike">
              <a:solidFill>
                <a:srgbClr val="0c0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6:03:30Z</dcterms:created>
  <dc:creator>pc</dc:creator>
  <dc:description/>
  <dc:language>en-US</dc:language>
  <cp:lastModifiedBy>王玉清</cp:lastModifiedBy>
  <dcterms:modified xsi:type="dcterms:W3CDTF">2016-02-25T02:34:22Z</dcterms:modified>
  <cp:revision>2</cp:revision>
  <dc:subject/>
  <dc:title>Name of presentation</dc:title>
</cp:coreProperties>
</file>