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ED1-53F0-4603-8409-D39D58C4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667-8948-46AF-B2AD-182E6D7D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325-497C-4B2B-9F61-96B9F42A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91B-EF01-4050-9798-FEC17EB2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2EF8-285F-4CE1-8EB4-20F7C802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F8DA-4A7C-477F-8DEC-C5B23EBD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AEA0-C0E2-483F-B732-F9E895A2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BB32-65BC-4F0B-9833-26C2A6D5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47BF-621B-4E8E-A915-9EAB74EC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8E10-58E2-460B-97E4-F1F3B1C9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815E-D888-42E4-B416-6B5AAB96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ED1-B8CE-4C39-923C-B5CD3F60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9B93-F852-4F48-AB1A-4EF4697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87AF-D0D5-43B4-AC93-169705D0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2A2B-083D-4FB0-A2D1-F5394005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36CA-72F3-4D6A-914C-6F6CB55B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F428-5E7B-4B9B-B3FF-73D144E2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D74A2-D40E-41A5-AD0D-873526FF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3008C-6377-43F5-9893-F9791DC4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9B8C-76F9-4B1B-AE50-5DD4F08D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D9D4F-9720-4790-816F-A00BEA10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14D9-DD84-4957-9536-83F1E19C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5BC-0F52-453A-A0FE-2077D118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5CA5C-3995-40D5-8036-02393C5C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7248B-45E0-4AE4-9521-02D43D81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90FF-1044-4413-82AF-0D61FC88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E256B-2A16-4134-8E6A-4E5B9556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767D-3FB0-4180-8D59-3E56C6B2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480BD-CA93-46C8-AA94-3EF64DF4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55AC-96FF-40AE-8A27-53210F11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2A2-3ACC-4FF7-8CDE-2112BAA9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FC1-0799-490A-B0FF-F601E540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968-7F3B-472F-A185-8F61C7F4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3ED-35BB-49FA-97FD-1C51F0D9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D0B-AA3F-4720-A0CB-3E5B3E43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93A-EA62-4490-B370-FFC712ED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extmasterformat bearbeiten</a:t>
            </a: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weite Ebene</a:t>
            </a:r>
            <a:endParaRPr b="0" lang="de-DE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ritte Ebene</a:t>
            </a: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ierte Ebene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ünfte Ebene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9A5582-CC01-455F-B516-B4C101597210}" type="slidenum">
              <a:rPr b="0" lang="de-D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FF9E2D-D902-4344-9B06-AA724C9835BE}" type="slidenum">
              <a:rPr b="0" lang="de-D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F3B7F4-04DE-4B4F-8C97-A3219659F972}" type="slidenum">
              <a:rPr b="0" lang="de-D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afik 2" descr=""/>
          <p:cNvPicPr/>
          <p:nvPr/>
        </p:nvPicPr>
        <p:blipFill>
          <a:blip r:embed="rId1"/>
          <a:srcRect l="0" t="25002" r="0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4" name="矩形 1"/>
          <p:cNvSpPr/>
          <p:nvPr/>
        </p:nvSpPr>
        <p:spPr>
          <a:xfrm>
            <a:off x="2064960" y="64872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浪漫之心动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hteck 47"/>
          <p:cNvSpPr/>
          <p:nvPr/>
        </p:nvSpPr>
        <p:spPr>
          <a:xfrm>
            <a:off x="7560" y="216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f7474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01" name="Gruppieren 3"/>
          <p:cNvGrpSpPr/>
          <p:nvPr/>
        </p:nvGrpSpPr>
        <p:grpSpPr>
          <a:xfrm>
            <a:off x="3409200" y="2459880"/>
            <a:ext cx="2325240" cy="3308400"/>
            <a:chOff x="3409200" y="2459880"/>
            <a:chExt cx="2325240" cy="3308400"/>
          </a:xfrm>
        </p:grpSpPr>
        <p:grpSp>
          <p:nvGrpSpPr>
            <p:cNvPr id="402" name="Gruppieren 56"/>
            <p:cNvGrpSpPr/>
            <p:nvPr/>
          </p:nvGrpSpPr>
          <p:grpSpPr>
            <a:xfrm>
              <a:off x="3409200" y="2974680"/>
              <a:ext cx="2111400" cy="2793600"/>
              <a:chOff x="3409200" y="2974680"/>
              <a:chExt cx="2111400" cy="2793600"/>
            </a:xfrm>
          </p:grpSpPr>
          <p:grpSp>
            <p:nvGrpSpPr>
              <p:cNvPr id="403" name="Gruppieren 54"/>
              <p:cNvGrpSpPr/>
              <p:nvPr/>
            </p:nvGrpSpPr>
            <p:grpSpPr>
              <a:xfrm>
                <a:off x="3409200" y="2974680"/>
                <a:ext cx="2111400" cy="2793600"/>
                <a:chOff x="3409200" y="2974680"/>
                <a:chExt cx="2111400" cy="2793600"/>
              </a:xfrm>
            </p:grpSpPr>
            <p:sp>
              <p:nvSpPr>
                <p:cNvPr id="404" name="Rechteck 25"/>
                <p:cNvSpPr/>
                <p:nvPr/>
              </p:nvSpPr>
              <p:spPr>
                <a:xfrm>
                  <a:off x="4031280" y="2974680"/>
                  <a:ext cx="151920" cy="1120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5b3719"/>
                    </a:gs>
                  </a:gsLst>
                  <a:lin ang="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e-DE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" name="Rechteck 48"/>
                <p:cNvSpPr/>
                <p:nvPr/>
              </p:nvSpPr>
              <p:spPr>
                <a:xfrm>
                  <a:off x="5360400" y="2974680"/>
                  <a:ext cx="151920" cy="124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5b3719"/>
                    </a:gs>
                  </a:gsLst>
                  <a:lin ang="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e-DE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06" name="Gruppieren 53"/>
                <p:cNvGrpSpPr/>
                <p:nvPr/>
              </p:nvGrpSpPr>
              <p:grpSpPr>
                <a:xfrm>
                  <a:off x="3409200" y="4219200"/>
                  <a:ext cx="2111400" cy="1549080"/>
                  <a:chOff x="3409200" y="4219200"/>
                  <a:chExt cx="2111400" cy="1549080"/>
                </a:xfrm>
              </p:grpSpPr>
              <p:sp>
                <p:nvSpPr>
                  <p:cNvPr id="407" name="Rechteck 49"/>
                  <p:cNvSpPr/>
                  <p:nvPr/>
                </p:nvSpPr>
                <p:spPr>
                  <a:xfrm>
                    <a:off x="5368680" y="4219200"/>
                    <a:ext cx="151920" cy="1380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b3719"/>
                      </a:gs>
                    </a:gsLst>
                    <a:lin ang="0"/>
                  </a:gradFill>
                  <a:ln>
                    <a:noFill/>
                  </a:ln>
                  <a:effectLst>
                    <a:outerShdw algn="bl" blurRad="76320" dir="0" kx="-1200000" rotWithShape="0" sy="23000">
                      <a:srgbClr val="000000">
                        <a:alpha val="20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de-DE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8" name="Rechteck 50"/>
                  <p:cNvSpPr/>
                  <p:nvPr/>
                </p:nvSpPr>
                <p:spPr>
                  <a:xfrm>
                    <a:off x="4031280" y="4286520"/>
                    <a:ext cx="151920" cy="1191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b3719"/>
                      </a:gs>
                    </a:gsLst>
                    <a:lin ang="0"/>
                  </a:gradFill>
                  <a:ln>
                    <a:noFill/>
                  </a:ln>
                  <a:effectLst>
                    <a:outerShdw algn="bl" blurRad="76320" dir="0" kx="-1200000" rotWithShape="0" sy="23000">
                      <a:srgbClr val="000000">
                        <a:alpha val="20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de-DE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9" name="Rechteck 51"/>
                  <p:cNvSpPr/>
                  <p:nvPr/>
                </p:nvSpPr>
                <p:spPr>
                  <a:xfrm>
                    <a:off x="4748400" y="4311720"/>
                    <a:ext cx="151920" cy="1456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b3719"/>
                      </a:gs>
                    </a:gsLst>
                    <a:lin ang="0"/>
                  </a:gradFill>
                  <a:ln>
                    <a:noFill/>
                  </a:ln>
                  <a:effectLst>
                    <a:outerShdw algn="bl" blurRad="76320" dir="0" kx="-1200000" rotWithShape="0" sy="23000">
                      <a:srgbClr val="000000">
                        <a:alpha val="20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de-DE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0" name="Rechteck 52"/>
                  <p:cNvSpPr/>
                  <p:nvPr/>
                </p:nvSpPr>
                <p:spPr>
                  <a:xfrm>
                    <a:off x="3409200" y="4307760"/>
                    <a:ext cx="151920" cy="1380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b3719"/>
                      </a:gs>
                    </a:gsLst>
                    <a:lin ang="0"/>
                  </a:gradFill>
                  <a:ln>
                    <a:noFill/>
                  </a:ln>
                  <a:effectLst>
                    <a:outerShdw algn="bl" blurRad="76320" dir="0" kx="-1200000" rotWithShape="0" sy="23000">
                      <a:srgbClr val="000000">
                        <a:alpha val="20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de-DE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411" name="Rechteck 55"/>
              <p:cNvSpPr/>
              <p:nvPr/>
            </p:nvSpPr>
            <p:spPr>
              <a:xfrm>
                <a:off x="3538080" y="3332520"/>
                <a:ext cx="1825560" cy="1638000"/>
              </a:xfrm>
              <a:prstGeom prst="rect">
                <a:avLst/>
              </a:prstGeom>
              <a:gradFill rotWithShape="0">
                <a:gsLst>
                  <a:gs pos="85000">
                    <a:srgbClr val="5b3719"/>
                  </a:gs>
                  <a:gs pos="100000">
                    <a:srgbClr val="9f602c"/>
                  </a:gs>
                </a:gsLst>
                <a:lin ang="5400000"/>
              </a:gradFill>
              <a:ln>
                <a:noFill/>
              </a:ln>
              <a:scene3d>
                <a:camera prst="orthographicFront">
                  <a:rot lat="17722528" lon="4764015" rev="16800000"/>
                </a:camera>
                <a:lightRig dir="t" rig="threePt"/>
              </a:scene3d>
              <a:sp3d extrusionH="82550">
                <a:bevelT prst="artDeco" w="177800" h="107950"/>
                <a:bevelB w="114300" h="50800"/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12" name="Abgerundetes Rechteck 12"/>
            <p:cNvSpPr/>
            <p:nvPr/>
          </p:nvSpPr>
          <p:spPr>
            <a:xfrm>
              <a:off x="3761640" y="2459880"/>
              <a:ext cx="1972800" cy="962280"/>
            </a:xfrm>
            <a:prstGeom prst="roundRect">
              <a:avLst>
                <a:gd name="adj" fmla="val 44726"/>
              </a:avLst>
            </a:prstGeom>
            <a:gradFill rotWithShape="0">
              <a:gsLst>
                <a:gs pos="25000">
                  <a:srgbClr val="4d0010"/>
                </a:gs>
                <a:gs pos="100000">
                  <a:srgbClr val="760019"/>
                </a:gs>
              </a:gsLst>
              <a:lin ang="16200000"/>
            </a:gradFill>
            <a:ln>
              <a:noFill/>
            </a:ln>
            <a:scene3d>
              <a:camera prst="orthographicFront"/>
              <a:lightRig dir="t" rig="threePt"/>
            </a:scene3d>
            <a:sp3d>
              <a:bevelT w="114300" h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13" name="Gruppieren 14"/>
          <p:cNvGrpSpPr/>
          <p:nvPr/>
        </p:nvGrpSpPr>
        <p:grpSpPr>
          <a:xfrm>
            <a:off x="971640" y="1695240"/>
            <a:ext cx="7200360" cy="5718240"/>
            <a:chOff x="971640" y="1695240"/>
            <a:chExt cx="7200360" cy="5718240"/>
          </a:xfrm>
        </p:grpSpPr>
        <p:grpSp>
          <p:nvGrpSpPr>
            <p:cNvPr id="414" name="Gruppieren 63"/>
            <p:cNvGrpSpPr/>
            <p:nvPr/>
          </p:nvGrpSpPr>
          <p:grpSpPr>
            <a:xfrm>
              <a:off x="4215960" y="5070600"/>
              <a:ext cx="711720" cy="2342880"/>
              <a:chOff x="4215960" y="5070600"/>
              <a:chExt cx="711720" cy="2342880"/>
            </a:xfrm>
          </p:grpSpPr>
          <p:sp>
            <p:nvSpPr>
              <p:cNvPr id="415" name="Ellipse 58"/>
              <p:cNvSpPr/>
              <p:nvPr/>
            </p:nvSpPr>
            <p:spPr>
              <a:xfrm>
                <a:off x="4215960" y="5070600"/>
                <a:ext cx="711720" cy="690480"/>
              </a:xfrm>
              <a:prstGeom prst="ellipse">
                <a:avLst/>
              </a:prstGeom>
              <a:gradFill rotWithShape="0">
                <a:gsLst>
                  <a:gs pos="46000">
                    <a:srgbClr val="3f2611"/>
                  </a:gs>
                  <a:gs pos="100000">
                    <a:srgbClr val="5b3719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6" name="Ellipse 59"/>
              <p:cNvSpPr/>
              <p:nvPr/>
            </p:nvSpPr>
            <p:spPr>
              <a:xfrm>
                <a:off x="4393800" y="5312160"/>
                <a:ext cx="355680" cy="1338480"/>
              </a:xfrm>
              <a:prstGeom prst="ellipse">
                <a:avLst/>
              </a:prstGeom>
              <a:gradFill rotWithShape="0">
                <a:gsLst>
                  <a:gs pos="46000">
                    <a:srgbClr val="3f2611"/>
                  </a:gs>
                  <a:gs pos="100000">
                    <a:srgbClr val="5b3719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7" name="Ellipse 60"/>
              <p:cNvSpPr/>
              <p:nvPr/>
            </p:nvSpPr>
            <p:spPr>
              <a:xfrm>
                <a:off x="4365720" y="6400800"/>
                <a:ext cx="412560" cy="243720"/>
              </a:xfrm>
              <a:prstGeom prst="ellipse">
                <a:avLst/>
              </a:prstGeom>
              <a:gradFill rotWithShape="0">
                <a:gsLst>
                  <a:gs pos="46000">
                    <a:srgbClr val="3f2611"/>
                  </a:gs>
                  <a:gs pos="100000">
                    <a:srgbClr val="5b3719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8" name="Ellipse 61"/>
              <p:cNvSpPr/>
              <p:nvPr/>
            </p:nvSpPr>
            <p:spPr>
              <a:xfrm>
                <a:off x="4365720" y="6527880"/>
                <a:ext cx="412560" cy="243720"/>
              </a:xfrm>
              <a:prstGeom prst="ellipse">
                <a:avLst/>
              </a:prstGeom>
              <a:gradFill rotWithShape="0">
                <a:gsLst>
                  <a:gs pos="46000">
                    <a:srgbClr val="3f2611"/>
                  </a:gs>
                  <a:gs pos="100000">
                    <a:srgbClr val="5b3719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9" name="Ellipse 62"/>
              <p:cNvSpPr/>
              <p:nvPr/>
            </p:nvSpPr>
            <p:spPr>
              <a:xfrm>
                <a:off x="4418280" y="6547320"/>
                <a:ext cx="306720" cy="866160"/>
              </a:xfrm>
              <a:prstGeom prst="ellipse">
                <a:avLst/>
              </a:prstGeom>
              <a:gradFill rotWithShape="0">
                <a:gsLst>
                  <a:gs pos="46000">
                    <a:srgbClr val="3f2611"/>
                  </a:gs>
                  <a:gs pos="100000">
                    <a:srgbClr val="5b3719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20" name="Ellipse 10"/>
            <p:cNvSpPr/>
            <p:nvPr/>
          </p:nvSpPr>
          <p:spPr>
            <a:xfrm>
              <a:off x="971640" y="1695240"/>
              <a:ext cx="7200360" cy="5164560"/>
            </a:xfrm>
            <a:prstGeom prst="ellipse">
              <a:avLst/>
            </a:prstGeom>
            <a:gradFill rotWithShape="0">
              <a:gsLst>
                <a:gs pos="0">
                  <a:srgbClr val="634221"/>
                </a:gs>
                <a:gs pos="100000">
                  <a:srgbClr val="392613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000000"/>
              </a:solidFill>
              <a:round/>
            </a:ln>
            <a:scene3d>
              <a:camera prst="perspectiveRelaxed">
                <a:rot lat="17673603" lon="0" rev="0"/>
              </a:camera>
              <a:lightRig dir="t" rig="threePt">
                <a:rot lat="0" lon="0" rev="7200000"/>
              </a:lightRig>
            </a:scene3d>
            <a:sp3d extrusionH="69850">
              <a:bevelT w="31750"/>
              <a:bevelB h="38100"/>
              <a:extrusionClr>
                <a:schemeClr val="accent6">
                  <a:lumMod val="50000"/>
                </a:schemeClr>
              </a:extrusion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21" name="Ellipse 33"/>
          <p:cNvSpPr/>
          <p:nvPr/>
        </p:nvSpPr>
        <p:spPr>
          <a:xfrm>
            <a:off x="3546000" y="3921120"/>
            <a:ext cx="2128680" cy="8438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2" name="Gruppieren 2"/>
          <p:cNvGrpSpPr/>
          <p:nvPr/>
        </p:nvGrpSpPr>
        <p:grpSpPr>
          <a:xfrm>
            <a:off x="4366080" y="2176560"/>
            <a:ext cx="610200" cy="2229840"/>
            <a:chOff x="4366080" y="2176560"/>
            <a:chExt cx="610200" cy="2229840"/>
          </a:xfrm>
        </p:grpSpPr>
        <p:sp>
          <p:nvSpPr>
            <p:cNvPr id="423" name="Line 6"/>
            <p:cNvSpPr/>
            <p:nvPr/>
          </p:nvSpPr>
          <p:spPr>
            <a:xfrm flipV="1">
              <a:off x="4670640" y="2176560"/>
              <a:ext cx="360" cy="82440"/>
            </a:xfrm>
            <a:prstGeom prst="line">
              <a:avLst/>
            </a:prstGeom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040" bIns="41040" anchor="t" anchorCtr="1">
              <a:noAutofit/>
            </a:bodyPr>
            <a:p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4366080" y="3387600"/>
              <a:ext cx="610200" cy="1018800"/>
            </a:xfrm>
            <a:custGeom>
              <a:avLst/>
              <a:gdLst>
                <a:gd name="textAreaLeft" fmla="*/ 0 w 610200"/>
                <a:gd name="textAreaRight" fmla="*/ 610560 w 610200"/>
                <a:gd name="textAreaTop" fmla="*/ 0 h 1018800"/>
                <a:gd name="textAreaBottom" fmla="*/ 1019160 h 1018800"/>
              </a:gdLst>
              <a:ahLst/>
              <a:rect l="textAreaLeft" t="textAreaTop" r="textAreaRight" b="textAreaBottom"/>
              <a:pathLst>
                <a:path w="178" h="297">
                  <a:moveTo>
                    <a:pt x="134" y="228"/>
                  </a:moveTo>
                  <a:cubicBezTo>
                    <a:pt x="136" y="225"/>
                    <a:pt x="137" y="220"/>
                    <a:pt x="137" y="216"/>
                  </a:cubicBezTo>
                  <a:cubicBezTo>
                    <a:pt x="137" y="202"/>
                    <a:pt x="127" y="189"/>
                    <a:pt x="111" y="183"/>
                  </a:cubicBezTo>
                  <a:cubicBezTo>
                    <a:pt x="117" y="163"/>
                    <a:pt x="121" y="136"/>
                    <a:pt x="121" y="107"/>
                  </a:cubicBezTo>
                  <a:cubicBezTo>
                    <a:pt x="121" y="48"/>
                    <a:pt x="107" y="0"/>
                    <a:pt x="89" y="0"/>
                  </a:cubicBezTo>
                  <a:cubicBezTo>
                    <a:pt x="71" y="0"/>
                    <a:pt x="57" y="48"/>
                    <a:pt x="57" y="107"/>
                  </a:cubicBezTo>
                  <a:cubicBezTo>
                    <a:pt x="57" y="136"/>
                    <a:pt x="60" y="163"/>
                    <a:pt x="66" y="183"/>
                  </a:cubicBezTo>
                  <a:cubicBezTo>
                    <a:pt x="51" y="189"/>
                    <a:pt x="41" y="202"/>
                    <a:pt x="41" y="216"/>
                  </a:cubicBezTo>
                  <a:cubicBezTo>
                    <a:pt x="41" y="220"/>
                    <a:pt x="42" y="225"/>
                    <a:pt x="43" y="228"/>
                  </a:cubicBezTo>
                  <a:cubicBezTo>
                    <a:pt x="17" y="235"/>
                    <a:pt x="0" y="247"/>
                    <a:pt x="0" y="260"/>
                  </a:cubicBezTo>
                  <a:cubicBezTo>
                    <a:pt x="0" y="280"/>
                    <a:pt x="40" y="297"/>
                    <a:pt x="89" y="297"/>
                  </a:cubicBezTo>
                  <a:cubicBezTo>
                    <a:pt x="138" y="297"/>
                    <a:pt x="178" y="280"/>
                    <a:pt x="178" y="260"/>
                  </a:cubicBezTo>
                  <a:cubicBezTo>
                    <a:pt x="178" y="247"/>
                    <a:pt x="160" y="235"/>
                    <a:pt x="134" y="228"/>
                  </a:cubicBezTo>
                  <a:close/>
                </a:path>
              </a:pathLst>
            </a:custGeom>
            <a:solidFill>
              <a:srgbClr val="b2b2b2"/>
            </a:solidFill>
            <a:ln w="41">
              <a:noFill/>
            </a:ln>
            <a:effectLst>
              <a:outerShdw algn="t" blurRad="355680" dir="5400000" dist="2556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Oval 13"/>
            <p:cNvSpPr/>
            <p:nvPr/>
          </p:nvSpPr>
          <p:spPr>
            <a:xfrm>
              <a:off x="4496760" y="3305520"/>
              <a:ext cx="349200" cy="140400"/>
            </a:xfrm>
            <a:prstGeom prst="ellipse">
              <a:avLst/>
            </a:prstGeom>
            <a:solidFill>
              <a:srgbClr val="646464"/>
            </a:solidFill>
            <a:ln w="41">
              <a:noFill/>
            </a:ln>
            <a:effectLst>
              <a:outerShdw algn="t" blurRad="216000" dir="5400000" dist="114480" rotWithShape="0">
                <a:srgbClr val="000000">
                  <a:alpha val="4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Oval 14"/>
            <p:cNvSpPr/>
            <p:nvPr/>
          </p:nvSpPr>
          <p:spPr>
            <a:xfrm>
              <a:off x="4403880" y="3250440"/>
              <a:ext cx="534600" cy="136800"/>
            </a:xfrm>
            <a:prstGeom prst="ellipse">
              <a:avLst/>
            </a:prstGeom>
            <a:solidFill>
              <a:srgbClr val="b2b2b2"/>
            </a:solidFill>
            <a:ln w="41">
              <a:noFill/>
            </a:ln>
            <a:effectLst>
              <a:outerShdw algn="t" blurRad="38160" dir="5400000" dist="3816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4541400" y="3264480"/>
              <a:ext cx="259920" cy="57960"/>
            </a:xfrm>
            <a:prstGeom prst="ellipse">
              <a:avLst/>
            </a:prstGeom>
            <a:solidFill>
              <a:srgbClr val="646464"/>
            </a:solidFill>
            <a:ln w="41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Bogen 6"/>
            <p:cNvSpPr/>
            <p:nvPr/>
          </p:nvSpPr>
          <p:spPr>
            <a:xfrm rot="15988200">
              <a:off x="4478400" y="4098240"/>
              <a:ext cx="151200" cy="342720"/>
            </a:xfrm>
            <a:prstGeom prst="arc">
              <a:avLst>
                <a:gd name="adj1" fmla="val 14291704"/>
                <a:gd name="adj2" fmla="val 0"/>
              </a:avLst>
            </a:prstGeom>
            <a:noFill/>
            <a:ln>
              <a:solidFill>
                <a:srgbClr val="eaeaea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Bogen 30"/>
            <p:cNvSpPr/>
            <p:nvPr/>
          </p:nvSpPr>
          <p:spPr>
            <a:xfrm rot="16200000">
              <a:off x="4222800" y="3558240"/>
              <a:ext cx="1089360" cy="342720"/>
            </a:xfrm>
            <a:prstGeom prst="arc">
              <a:avLst>
                <a:gd name="adj1" fmla="val 12461042"/>
                <a:gd name="adj2" fmla="val 19709343"/>
              </a:avLst>
            </a:prstGeom>
            <a:noFill/>
            <a:ln>
              <a:solidFill>
                <a:srgbClr val="eaeaea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Bogen 31"/>
            <p:cNvSpPr/>
            <p:nvPr/>
          </p:nvSpPr>
          <p:spPr>
            <a:xfrm rot="17202600">
              <a:off x="4546800" y="4031640"/>
              <a:ext cx="146520" cy="171000"/>
            </a:xfrm>
            <a:prstGeom prst="arc">
              <a:avLst>
                <a:gd name="adj1" fmla="val 12461042"/>
                <a:gd name="adj2" fmla="val 19709343"/>
              </a:avLst>
            </a:prstGeom>
            <a:noFill/>
            <a:ln>
              <a:solidFill>
                <a:srgbClr val="eaeaea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Bogen 32"/>
            <p:cNvSpPr/>
            <p:nvPr/>
          </p:nvSpPr>
          <p:spPr>
            <a:xfrm rot="15607800">
              <a:off x="4476960" y="3219840"/>
              <a:ext cx="83160" cy="171000"/>
            </a:xfrm>
            <a:prstGeom prst="arc">
              <a:avLst>
                <a:gd name="adj1" fmla="val 12461042"/>
                <a:gd name="adj2" fmla="val 17575659"/>
              </a:avLst>
            </a:prstGeom>
            <a:noFill/>
            <a:ln>
              <a:solidFill>
                <a:srgbClr val="eaeaea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Abgerundetes Rechteck 24"/>
            <p:cNvSpPr/>
            <p:nvPr/>
          </p:nvSpPr>
          <p:spPr>
            <a:xfrm>
              <a:off x="4591440" y="2240280"/>
              <a:ext cx="159840" cy="107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a1100"/>
                </a:gs>
                <a:gs pos="50000">
                  <a:srgbClr val="b22828"/>
                </a:gs>
                <a:gs pos="100000">
                  <a:srgbClr val="7a1100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33" name="Ellipse 1"/>
          <p:cNvSpPr/>
          <p:nvPr/>
        </p:nvSpPr>
        <p:spPr>
          <a:xfrm>
            <a:off x="4148280" y="1741680"/>
            <a:ext cx="1044720" cy="970200"/>
          </a:xfrm>
          <a:prstGeom prst="ellipse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34" name="Gruppieren 66"/>
          <p:cNvGrpSpPr/>
          <p:nvPr/>
        </p:nvGrpSpPr>
        <p:grpSpPr>
          <a:xfrm>
            <a:off x="248400" y="488160"/>
            <a:ext cx="7519320" cy="1463400"/>
            <a:chOff x="248400" y="488160"/>
            <a:chExt cx="7519320" cy="1463400"/>
          </a:xfrm>
        </p:grpSpPr>
        <p:sp>
          <p:nvSpPr>
            <p:cNvPr id="435" name="Textfeld 37"/>
            <p:cNvSpPr/>
            <p:nvPr/>
          </p:nvSpPr>
          <p:spPr>
            <a:xfrm>
              <a:off x="248400" y="488160"/>
              <a:ext cx="75193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de-DE" sz="5400" spc="-1" strike="noStrike">
                  <a:solidFill>
                    <a:srgbClr val="ffffff"/>
                  </a:solidFill>
                  <a:latin typeface="Palatino Linotype"/>
                </a:rPr>
                <a:t>Happy </a:t>
              </a:r>
              <a:r>
                <a:rPr b="0" lang="en-US" sz="5400" spc="-1" strike="noStrike">
                  <a:solidFill>
                    <a:srgbClr val="ffffff"/>
                  </a:solidFill>
                  <a:latin typeface="Palatino Linotype"/>
                </a:rPr>
                <a:t>Valentine‘s</a:t>
              </a:r>
              <a:r>
                <a:rPr b="0" lang="de-DE" sz="5400" spc="-1" strike="noStrike">
                  <a:solidFill>
                    <a:srgbClr val="ffffff"/>
                  </a:solidFill>
                  <a:latin typeface="Palatino Linotype"/>
                </a:rPr>
                <a:t> Day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hteck 38"/>
            <p:cNvSpPr/>
            <p:nvPr/>
          </p:nvSpPr>
          <p:spPr>
            <a:xfrm>
              <a:off x="310320" y="1557000"/>
              <a:ext cx="36543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Palatino Linotype"/>
                </a:rPr>
                <a:t>express your love right her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Ellipse 44"/>
          <p:cNvSpPr/>
          <p:nvPr/>
        </p:nvSpPr>
        <p:spPr>
          <a:xfrm>
            <a:off x="4563000" y="203940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>
                  <a:alpha val="33333"/>
                </a:srgbClr>
              </a:gs>
              <a:gs pos="100000">
                <a:srgbClr val="ffff00">
                  <a:alpha val="1176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38" name="Gruppieren 80"/>
          <p:cNvGrpSpPr/>
          <p:nvPr/>
        </p:nvGrpSpPr>
        <p:grpSpPr>
          <a:xfrm>
            <a:off x="2741040" y="2434320"/>
            <a:ext cx="703080" cy="1777680"/>
            <a:chOff x="2741040" y="2434320"/>
            <a:chExt cx="703080" cy="1777680"/>
          </a:xfrm>
        </p:grpSpPr>
        <p:sp>
          <p:nvSpPr>
            <p:cNvPr id="439" name="Freeform 21"/>
            <p:cNvSpPr/>
            <p:nvPr/>
          </p:nvSpPr>
          <p:spPr>
            <a:xfrm>
              <a:off x="2741040" y="2434320"/>
              <a:ext cx="703080" cy="177372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1773720"/>
                <a:gd name="textAreaBottom" fmla="*/ 1774080 h 1773720"/>
              </a:gdLst>
              <a:ahLst/>
              <a:rect l="textAreaLeft" t="textAreaTop" r="textAreaRight" b="textAreaBottom"/>
              <a:pathLst>
                <a:path w="685" h="1728">
                  <a:moveTo>
                    <a:pt x="570" y="807"/>
                  </a:moveTo>
                  <a:cubicBezTo>
                    <a:pt x="458" y="632"/>
                    <a:pt x="439" y="539"/>
                    <a:pt x="431" y="415"/>
                  </a:cubicBezTo>
                  <a:cubicBezTo>
                    <a:pt x="424" y="320"/>
                    <a:pt x="423" y="4"/>
                    <a:pt x="423" y="4"/>
                  </a:cubicBezTo>
                  <a:cubicBezTo>
                    <a:pt x="423" y="3"/>
                    <a:pt x="424" y="1"/>
                    <a:pt x="424" y="0"/>
                  </a:cubicBezTo>
                  <a:cubicBezTo>
                    <a:pt x="348" y="12"/>
                    <a:pt x="289" y="5"/>
                    <a:pt x="259" y="0"/>
                  </a:cubicBezTo>
                  <a:cubicBezTo>
                    <a:pt x="260" y="2"/>
                    <a:pt x="261" y="4"/>
                    <a:pt x="261" y="4"/>
                  </a:cubicBezTo>
                  <a:cubicBezTo>
                    <a:pt x="261" y="4"/>
                    <a:pt x="260" y="323"/>
                    <a:pt x="255" y="418"/>
                  </a:cubicBezTo>
                  <a:cubicBezTo>
                    <a:pt x="247" y="541"/>
                    <a:pt x="228" y="634"/>
                    <a:pt x="113" y="810"/>
                  </a:cubicBezTo>
                  <a:cubicBezTo>
                    <a:pt x="0" y="985"/>
                    <a:pt x="83" y="1564"/>
                    <a:pt x="85" y="1646"/>
                  </a:cubicBezTo>
                  <a:cubicBezTo>
                    <a:pt x="88" y="1728"/>
                    <a:pt x="343" y="1728"/>
                    <a:pt x="343" y="1728"/>
                  </a:cubicBezTo>
                  <a:cubicBezTo>
                    <a:pt x="343" y="1728"/>
                    <a:pt x="595" y="1723"/>
                    <a:pt x="601" y="1643"/>
                  </a:cubicBezTo>
                  <a:cubicBezTo>
                    <a:pt x="603" y="1564"/>
                    <a:pt x="685" y="985"/>
                    <a:pt x="570" y="807"/>
                  </a:cubicBezTo>
                  <a:close/>
                </a:path>
              </a:pathLst>
            </a:custGeom>
            <a:gradFill rotWithShape="0">
              <a:gsLst>
                <a:gs pos="36000">
                  <a:srgbClr val="465523"/>
                </a:gs>
                <a:gs pos="100000">
                  <a:srgbClr val="88a544"/>
                </a:gs>
              </a:gsLst>
              <a:lin ang="12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2795760" y="2992680"/>
              <a:ext cx="209160" cy="11224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122480"/>
                <a:gd name="textAreaBottom" fmla="*/ 1122840 h 1122480"/>
              </a:gdLst>
              <a:ahLst/>
              <a:rect l="textAreaLeft" t="textAreaTop" r="textAreaRight" b="textAreaBottom"/>
              <a:pathLst>
                <a:path w="204" h="1094">
                  <a:moveTo>
                    <a:pt x="204" y="0"/>
                  </a:moveTo>
                  <a:cubicBezTo>
                    <a:pt x="204" y="0"/>
                    <a:pt x="157" y="186"/>
                    <a:pt x="124" y="314"/>
                  </a:cubicBezTo>
                  <a:cubicBezTo>
                    <a:pt x="98" y="414"/>
                    <a:pt x="90" y="783"/>
                    <a:pt x="93" y="1094"/>
                  </a:cubicBezTo>
                  <a:cubicBezTo>
                    <a:pt x="56" y="1077"/>
                    <a:pt x="56" y="1077"/>
                    <a:pt x="56" y="1077"/>
                  </a:cubicBezTo>
                  <a:cubicBezTo>
                    <a:pt x="56" y="1077"/>
                    <a:pt x="0" y="487"/>
                    <a:pt x="77" y="306"/>
                  </a:cubicBezTo>
                  <a:cubicBezTo>
                    <a:pt x="154" y="126"/>
                    <a:pt x="191" y="70"/>
                    <a:pt x="204" y="0"/>
                  </a:cubicBezTo>
                  <a:close/>
                </a:path>
              </a:pathLst>
            </a:custGeom>
            <a:gradFill rotWithShape="0">
              <a:gsLst>
                <a:gs pos="1800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3247920" y="3204000"/>
              <a:ext cx="151560" cy="8060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148" h="785">
                  <a:moveTo>
                    <a:pt x="0" y="0"/>
                  </a:moveTo>
                  <a:cubicBezTo>
                    <a:pt x="0" y="0"/>
                    <a:pt x="54" y="116"/>
                    <a:pt x="27" y="785"/>
                  </a:cubicBezTo>
                  <a:cubicBezTo>
                    <a:pt x="71" y="772"/>
                    <a:pt x="71" y="772"/>
                    <a:pt x="71" y="772"/>
                  </a:cubicBezTo>
                  <a:cubicBezTo>
                    <a:pt x="71" y="772"/>
                    <a:pt x="148" y="17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2352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3008520" y="2459520"/>
              <a:ext cx="61200" cy="5788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60" h="564">
                  <a:moveTo>
                    <a:pt x="17" y="14"/>
                  </a:moveTo>
                  <a:cubicBezTo>
                    <a:pt x="17" y="14"/>
                    <a:pt x="34" y="0"/>
                    <a:pt x="47" y="3"/>
                  </a:cubicBezTo>
                  <a:cubicBezTo>
                    <a:pt x="60" y="5"/>
                    <a:pt x="30" y="340"/>
                    <a:pt x="30" y="340"/>
                  </a:cubicBezTo>
                  <a:cubicBezTo>
                    <a:pt x="30" y="340"/>
                    <a:pt x="13" y="474"/>
                    <a:pt x="12" y="482"/>
                  </a:cubicBezTo>
                  <a:cubicBezTo>
                    <a:pt x="0" y="564"/>
                    <a:pt x="17" y="14"/>
                    <a:pt x="17" y="1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9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2836800" y="4092120"/>
              <a:ext cx="514800" cy="11988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02" h="117">
                  <a:moveTo>
                    <a:pt x="0" y="0"/>
                  </a:moveTo>
                  <a:cubicBezTo>
                    <a:pt x="0" y="0"/>
                    <a:pt x="215" y="117"/>
                    <a:pt x="486" y="2"/>
                  </a:cubicBezTo>
                  <a:cubicBezTo>
                    <a:pt x="486" y="2"/>
                    <a:pt x="502" y="58"/>
                    <a:pt x="365" y="82"/>
                  </a:cubicBezTo>
                  <a:cubicBezTo>
                    <a:pt x="175" y="115"/>
                    <a:pt x="55" y="93"/>
                    <a:pt x="0" y="0"/>
                  </a:cubicBezTo>
                  <a:close/>
                </a:path>
              </a:pathLst>
            </a:custGeom>
            <a:solidFill>
              <a:srgbClr val="2e3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Gruppieren 119"/>
          <p:cNvGrpSpPr/>
          <p:nvPr/>
        </p:nvGrpSpPr>
        <p:grpSpPr>
          <a:xfrm>
            <a:off x="3711960" y="2929320"/>
            <a:ext cx="274320" cy="968040"/>
            <a:chOff x="3711960" y="2929320"/>
            <a:chExt cx="274320" cy="968040"/>
          </a:xfrm>
        </p:grpSpPr>
        <p:grpSp>
          <p:nvGrpSpPr>
            <p:cNvPr id="445" name="Gruppieren 67"/>
            <p:cNvGrpSpPr/>
            <p:nvPr/>
          </p:nvGrpSpPr>
          <p:grpSpPr>
            <a:xfrm>
              <a:off x="3711960" y="2929320"/>
              <a:ext cx="274320" cy="968040"/>
              <a:chOff x="3711960" y="2929320"/>
              <a:chExt cx="274320" cy="968040"/>
            </a:xfrm>
          </p:grpSpPr>
          <p:sp>
            <p:nvSpPr>
              <p:cNvPr id="446" name="Freeform 10"/>
              <p:cNvSpPr/>
              <p:nvPr/>
            </p:nvSpPr>
            <p:spPr>
              <a:xfrm>
                <a:off x="3752640" y="2929320"/>
                <a:ext cx="187200" cy="453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49" h="61">
                    <a:moveTo>
                      <a:pt x="249" y="20"/>
                    </a:moveTo>
                    <a:cubicBezTo>
                      <a:pt x="249" y="19"/>
                      <a:pt x="249" y="18"/>
                      <a:pt x="249" y="17"/>
                    </a:cubicBezTo>
                    <a:cubicBezTo>
                      <a:pt x="249" y="17"/>
                      <a:pt x="221" y="0"/>
                      <a:pt x="140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36" y="0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1"/>
                    </a:cubicBezTo>
                    <a:cubicBezTo>
                      <a:pt x="53" y="42"/>
                      <a:pt x="143" y="61"/>
                      <a:pt x="249" y="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e4f0f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12"/>
              <p:cNvSpPr/>
              <p:nvPr/>
            </p:nvSpPr>
            <p:spPr>
              <a:xfrm>
                <a:off x="3715920" y="3040560"/>
                <a:ext cx="261720" cy="38520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348" h="512">
                    <a:moveTo>
                      <a:pt x="328" y="15"/>
                    </a:moveTo>
                    <a:cubicBezTo>
                      <a:pt x="317" y="12"/>
                      <a:pt x="291" y="6"/>
                      <a:pt x="246" y="3"/>
                    </a:cubicBezTo>
                    <a:cubicBezTo>
                      <a:pt x="206" y="0"/>
                      <a:pt x="153" y="0"/>
                      <a:pt x="84" y="7"/>
                    </a:cubicBezTo>
                    <a:cubicBezTo>
                      <a:pt x="64" y="9"/>
                      <a:pt x="43" y="12"/>
                      <a:pt x="20" y="15"/>
                    </a:cubicBezTo>
                    <a:cubicBezTo>
                      <a:pt x="0" y="242"/>
                      <a:pt x="90" y="428"/>
                      <a:pt x="119" y="479"/>
                    </a:cubicBezTo>
                    <a:cubicBezTo>
                      <a:pt x="123" y="483"/>
                      <a:pt x="127" y="486"/>
                      <a:pt x="131" y="489"/>
                    </a:cubicBezTo>
                    <a:cubicBezTo>
                      <a:pt x="161" y="512"/>
                      <a:pt x="188" y="509"/>
                      <a:pt x="212" y="495"/>
                    </a:cubicBezTo>
                    <a:cubicBezTo>
                      <a:pt x="222" y="488"/>
                      <a:pt x="231" y="480"/>
                      <a:pt x="240" y="470"/>
                    </a:cubicBezTo>
                    <a:cubicBezTo>
                      <a:pt x="271" y="409"/>
                      <a:pt x="348" y="231"/>
                      <a:pt x="328" y="1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13"/>
              <p:cNvSpPr/>
              <p:nvPr/>
            </p:nvSpPr>
            <p:spPr>
              <a:xfrm>
                <a:off x="3711960" y="3792600"/>
                <a:ext cx="274320" cy="10440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5" h="139">
                    <a:moveTo>
                      <a:pt x="355" y="71"/>
                    </a:moveTo>
                    <a:cubicBezTo>
                      <a:pt x="360" y="65"/>
                      <a:pt x="363" y="58"/>
                      <a:pt x="365" y="51"/>
                    </a:cubicBezTo>
                    <a:cubicBezTo>
                      <a:pt x="365" y="21"/>
                      <a:pt x="273" y="2"/>
                      <a:pt x="226" y="0"/>
                    </a:cubicBezTo>
                    <a:cubicBezTo>
                      <a:pt x="230" y="5"/>
                      <a:pt x="237" y="11"/>
                      <a:pt x="246" y="17"/>
                    </a:cubicBezTo>
                    <a:cubicBezTo>
                      <a:pt x="295" y="58"/>
                      <a:pt x="160" y="58"/>
                      <a:pt x="122" y="44"/>
                    </a:cubicBezTo>
                    <a:cubicBezTo>
                      <a:pt x="93" y="34"/>
                      <a:pt x="126" y="11"/>
                      <a:pt x="143" y="1"/>
                    </a:cubicBezTo>
                    <a:cubicBezTo>
                      <a:pt x="141" y="0"/>
                      <a:pt x="140" y="0"/>
                      <a:pt x="140" y="0"/>
                    </a:cubicBezTo>
                    <a:cubicBezTo>
                      <a:pt x="93" y="2"/>
                      <a:pt x="0" y="20"/>
                      <a:pt x="0" y="51"/>
                    </a:cubicBezTo>
                    <a:cubicBezTo>
                      <a:pt x="1" y="52"/>
                      <a:pt x="1" y="54"/>
                      <a:pt x="2" y="56"/>
                    </a:cubicBezTo>
                    <a:cubicBezTo>
                      <a:pt x="46" y="82"/>
                      <a:pt x="175" y="139"/>
                      <a:pt x="355" y="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e5f0f4"/>
                  </a:gs>
                </a:gsLst>
                <a:lin ang="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14"/>
              <p:cNvSpPr/>
              <p:nvPr/>
            </p:nvSpPr>
            <p:spPr>
              <a:xfrm>
                <a:off x="3794400" y="3417840"/>
                <a:ext cx="87840" cy="39924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117" h="531">
                    <a:moveTo>
                      <a:pt x="111" y="518"/>
                    </a:moveTo>
                    <a:cubicBezTo>
                      <a:pt x="116" y="515"/>
                      <a:pt x="117" y="506"/>
                      <a:pt x="117" y="498"/>
                    </a:cubicBezTo>
                    <a:cubicBezTo>
                      <a:pt x="117" y="498"/>
                      <a:pt x="116" y="498"/>
                      <a:pt x="115" y="498"/>
                    </a:cubicBezTo>
                    <a:cubicBezTo>
                      <a:pt x="115" y="498"/>
                      <a:pt x="94" y="508"/>
                      <a:pt x="88" y="468"/>
                    </a:cubicBezTo>
                    <a:cubicBezTo>
                      <a:pt x="85" y="449"/>
                      <a:pt x="84" y="382"/>
                      <a:pt x="85" y="312"/>
                    </a:cubicBezTo>
                    <a:cubicBezTo>
                      <a:pt x="72" y="173"/>
                      <a:pt x="89" y="48"/>
                      <a:pt x="96" y="0"/>
                    </a:cubicBezTo>
                    <a:cubicBezTo>
                      <a:pt x="81" y="6"/>
                      <a:pt x="64" y="7"/>
                      <a:pt x="46" y="0"/>
                    </a:cubicBezTo>
                    <a:cubicBezTo>
                      <a:pt x="56" y="52"/>
                      <a:pt x="77" y="186"/>
                      <a:pt x="62" y="334"/>
                    </a:cubicBezTo>
                    <a:cubicBezTo>
                      <a:pt x="63" y="396"/>
                      <a:pt x="62" y="451"/>
                      <a:pt x="59" y="468"/>
                    </a:cubicBezTo>
                    <a:cubicBezTo>
                      <a:pt x="55" y="496"/>
                      <a:pt x="43" y="499"/>
                      <a:pt x="36" y="499"/>
                    </a:cubicBezTo>
                    <a:cubicBezTo>
                      <a:pt x="0" y="531"/>
                      <a:pt x="100" y="527"/>
                      <a:pt x="111" y="5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15"/>
              <p:cNvSpPr/>
              <p:nvPr/>
            </p:nvSpPr>
            <p:spPr>
              <a:xfrm>
                <a:off x="3713400" y="3835080"/>
                <a:ext cx="265680" cy="62280"/>
              </a:xfrm>
              <a:custGeom>
                <a:avLst/>
                <a:gdLst>
                  <a:gd name="textAreaLeft" fmla="*/ 0 w 265680"/>
                  <a:gd name="textAreaRight" fmla="*/ 266040 w 26568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353" h="83">
                    <a:moveTo>
                      <a:pt x="0" y="0"/>
                    </a:moveTo>
                    <a:cubicBezTo>
                      <a:pt x="16" y="58"/>
                      <a:pt x="150" y="60"/>
                      <a:pt x="180" y="59"/>
                    </a:cubicBezTo>
                    <a:cubicBezTo>
                      <a:pt x="208" y="60"/>
                      <a:pt x="320" y="58"/>
                      <a:pt x="353" y="15"/>
                    </a:cubicBezTo>
                    <a:cubicBezTo>
                      <a:pt x="173" y="83"/>
                      <a:pt x="44" y="26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86bcce"/>
                  </a:gs>
                </a:gsLst>
                <a:lin ang="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16"/>
              <p:cNvSpPr/>
              <p:nvPr/>
            </p:nvSpPr>
            <p:spPr>
              <a:xfrm>
                <a:off x="3803760" y="3395520"/>
                <a:ext cx="48600" cy="273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65" h="364">
                    <a:moveTo>
                      <a:pt x="34" y="30"/>
                    </a:moveTo>
                    <a:cubicBezTo>
                      <a:pt x="24" y="25"/>
                      <a:pt x="15" y="16"/>
                      <a:pt x="5" y="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8"/>
                      <a:pt x="10" y="21"/>
                      <a:pt x="11" y="22"/>
                    </a:cubicBezTo>
                    <a:cubicBezTo>
                      <a:pt x="15" y="28"/>
                      <a:pt x="33" y="111"/>
                      <a:pt x="41" y="156"/>
                    </a:cubicBezTo>
                    <a:cubicBezTo>
                      <a:pt x="46" y="181"/>
                      <a:pt x="49" y="279"/>
                      <a:pt x="50" y="364"/>
                    </a:cubicBezTo>
                    <a:cubicBezTo>
                      <a:pt x="65" y="216"/>
                      <a:pt x="44" y="82"/>
                      <a:pt x="34" y="30"/>
                    </a:cubicBezTo>
                    <a:close/>
                  </a:path>
                </a:pathLst>
              </a:custGeom>
              <a:gradFill rotWithShape="0">
                <a:gsLst>
                  <a:gs pos="43000">
                    <a:srgbClr val="86bcce"/>
                  </a:gs>
                  <a:gs pos="100000">
                    <a:srgbClr val="effb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17"/>
              <p:cNvSpPr/>
              <p:nvPr/>
            </p:nvSpPr>
            <p:spPr>
              <a:xfrm>
                <a:off x="3848040" y="3392280"/>
                <a:ext cx="49320" cy="2599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66" h="346">
                    <a:moveTo>
                      <a:pt x="54" y="13"/>
                    </a:moveTo>
                    <a:cubicBezTo>
                      <a:pt x="45" y="22"/>
                      <a:pt x="35" y="29"/>
                      <a:pt x="24" y="34"/>
                    </a:cubicBezTo>
                    <a:cubicBezTo>
                      <a:pt x="17" y="82"/>
                      <a:pt x="0" y="207"/>
                      <a:pt x="13" y="346"/>
                    </a:cubicBezTo>
                    <a:cubicBezTo>
                      <a:pt x="14" y="266"/>
                      <a:pt x="17" y="183"/>
                      <a:pt x="22" y="160"/>
                    </a:cubicBezTo>
                    <a:cubicBezTo>
                      <a:pt x="30" y="115"/>
                      <a:pt x="48" y="32"/>
                      <a:pt x="52" y="26"/>
                    </a:cubicBezTo>
                    <a:cubicBezTo>
                      <a:pt x="53" y="25"/>
                      <a:pt x="55" y="21"/>
                      <a:pt x="59" y="14"/>
                    </a:cubicBezTo>
                    <a:cubicBezTo>
                      <a:pt x="61" y="11"/>
                      <a:pt x="64" y="4"/>
                      <a:pt x="66" y="0"/>
                    </a:cubicBezTo>
                    <a:cubicBezTo>
                      <a:pt x="60" y="8"/>
                      <a:pt x="58" y="10"/>
                      <a:pt x="54" y="13"/>
                    </a:cubicBezTo>
                    <a:close/>
                  </a:path>
                </a:pathLst>
              </a:custGeom>
              <a:gradFill rotWithShape="0">
                <a:gsLst>
                  <a:gs pos="57000">
                    <a:srgbClr val="86bcce"/>
                  </a:gs>
                  <a:gs pos="100000">
                    <a:srgbClr val="eff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18"/>
              <p:cNvSpPr/>
              <p:nvPr/>
            </p:nvSpPr>
            <p:spPr>
              <a:xfrm>
                <a:off x="3782160" y="3792600"/>
                <a:ext cx="151560" cy="4356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02" h="58">
                    <a:moveTo>
                      <a:pt x="29" y="44"/>
                    </a:moveTo>
                    <a:cubicBezTo>
                      <a:pt x="67" y="58"/>
                      <a:pt x="202" y="58"/>
                      <a:pt x="153" y="17"/>
                    </a:cubicBezTo>
                    <a:cubicBezTo>
                      <a:pt x="144" y="11"/>
                      <a:pt x="144" y="11"/>
                      <a:pt x="140" y="6"/>
                    </a:cubicBezTo>
                    <a:cubicBezTo>
                      <a:pt x="139" y="6"/>
                      <a:pt x="133" y="0"/>
                      <a:pt x="133" y="0"/>
                    </a:cubicBezTo>
                    <a:cubicBezTo>
                      <a:pt x="133" y="8"/>
                      <a:pt x="132" y="17"/>
                      <a:pt x="127" y="20"/>
                    </a:cubicBezTo>
                    <a:cubicBezTo>
                      <a:pt x="116" y="29"/>
                      <a:pt x="16" y="33"/>
                      <a:pt x="52" y="1"/>
                    </a:cubicBezTo>
                    <a:cubicBezTo>
                      <a:pt x="51" y="1"/>
                      <a:pt x="51" y="1"/>
                      <a:pt x="50" y="1"/>
                    </a:cubicBezTo>
                    <a:cubicBezTo>
                      <a:pt x="33" y="11"/>
                      <a:pt x="0" y="34"/>
                      <a:pt x="29" y="44"/>
                    </a:cubicBezTo>
                    <a:close/>
                  </a:path>
                </a:pathLst>
              </a:custGeom>
              <a:gradFill rotWithShape="0">
                <a:gsLst>
                  <a:gs pos="6000">
                    <a:srgbClr val="86bcce"/>
                  </a:gs>
                  <a:gs pos="100000">
                    <a:srgbClr val="effb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20"/>
              <p:cNvSpPr/>
              <p:nvPr/>
            </p:nvSpPr>
            <p:spPr>
              <a:xfrm>
                <a:off x="3721320" y="3807000"/>
                <a:ext cx="177840" cy="7272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37" h="97">
                    <a:moveTo>
                      <a:pt x="106" y="0"/>
                    </a:moveTo>
                    <a:cubicBezTo>
                      <a:pt x="106" y="0"/>
                      <a:pt x="77" y="24"/>
                      <a:pt x="132" y="29"/>
                    </a:cubicBezTo>
                    <a:cubicBezTo>
                      <a:pt x="188" y="34"/>
                      <a:pt x="202" y="36"/>
                      <a:pt x="237" y="25"/>
                    </a:cubicBezTo>
                    <a:cubicBezTo>
                      <a:pt x="237" y="25"/>
                      <a:pt x="154" y="97"/>
                      <a:pt x="49" y="49"/>
                    </a:cubicBezTo>
                    <a:cubicBezTo>
                      <a:pt x="0" y="15"/>
                      <a:pt x="106" y="0"/>
                      <a:pt x="10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"/>
              <p:cNvSpPr/>
              <p:nvPr/>
            </p:nvSpPr>
            <p:spPr>
              <a:xfrm>
                <a:off x="3731040" y="2943000"/>
                <a:ext cx="231480" cy="11088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08" h="148">
                    <a:moveTo>
                      <a:pt x="308" y="148"/>
                    </a:moveTo>
                    <a:cubicBezTo>
                      <a:pt x="303" y="100"/>
                      <a:pt x="294" y="50"/>
                      <a:pt x="278" y="0"/>
                    </a:cubicBezTo>
                    <a:cubicBezTo>
                      <a:pt x="172" y="41"/>
                      <a:pt x="82" y="22"/>
                      <a:pt x="29" y="1"/>
                    </a:cubicBezTo>
                    <a:cubicBezTo>
                      <a:pt x="14" y="52"/>
                      <a:pt x="5" y="101"/>
                      <a:pt x="0" y="148"/>
                    </a:cubicBezTo>
                    <a:cubicBezTo>
                      <a:pt x="188" y="120"/>
                      <a:pt x="286" y="142"/>
                      <a:pt x="308" y="1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6" name="Freeform 12"/>
            <p:cNvSpPr/>
            <p:nvPr/>
          </p:nvSpPr>
          <p:spPr>
            <a:xfrm>
              <a:off x="3718800" y="3042000"/>
              <a:ext cx="257760" cy="3852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348" h="512">
                  <a:moveTo>
                    <a:pt x="328" y="15"/>
                  </a:moveTo>
                  <a:cubicBezTo>
                    <a:pt x="317" y="12"/>
                    <a:pt x="291" y="6"/>
                    <a:pt x="246" y="3"/>
                  </a:cubicBezTo>
                  <a:cubicBezTo>
                    <a:pt x="206" y="0"/>
                    <a:pt x="153" y="0"/>
                    <a:pt x="84" y="7"/>
                  </a:cubicBezTo>
                  <a:cubicBezTo>
                    <a:pt x="64" y="9"/>
                    <a:pt x="43" y="12"/>
                    <a:pt x="20" y="15"/>
                  </a:cubicBezTo>
                  <a:cubicBezTo>
                    <a:pt x="0" y="242"/>
                    <a:pt x="90" y="428"/>
                    <a:pt x="119" y="479"/>
                  </a:cubicBezTo>
                  <a:cubicBezTo>
                    <a:pt x="123" y="483"/>
                    <a:pt x="127" y="486"/>
                    <a:pt x="131" y="489"/>
                  </a:cubicBezTo>
                  <a:cubicBezTo>
                    <a:pt x="161" y="512"/>
                    <a:pt x="188" y="509"/>
                    <a:pt x="212" y="495"/>
                  </a:cubicBezTo>
                  <a:cubicBezTo>
                    <a:pt x="222" y="488"/>
                    <a:pt x="231" y="480"/>
                    <a:pt x="240" y="470"/>
                  </a:cubicBezTo>
                  <a:cubicBezTo>
                    <a:pt x="271" y="409"/>
                    <a:pt x="348" y="231"/>
                    <a:pt x="328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e7debc"/>
                </a:gs>
                <a:gs pos="100000">
                  <a:srgbClr val="c0a95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9"/>
            <p:cNvSpPr/>
            <p:nvPr/>
          </p:nvSpPr>
          <p:spPr>
            <a:xfrm>
              <a:off x="3730680" y="2952000"/>
              <a:ext cx="88560" cy="4374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118" h="582">
                  <a:moveTo>
                    <a:pt x="78" y="2"/>
                  </a:moveTo>
                  <a:cubicBezTo>
                    <a:pt x="118" y="0"/>
                    <a:pt x="118" y="0"/>
                    <a:pt x="118" y="0"/>
                  </a:cubicBezTo>
                  <a:cubicBezTo>
                    <a:pt x="118" y="0"/>
                    <a:pt x="61" y="437"/>
                    <a:pt x="114" y="582"/>
                  </a:cubicBezTo>
                  <a:cubicBezTo>
                    <a:pt x="114" y="582"/>
                    <a:pt x="0" y="420"/>
                    <a:pt x="7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Gruppieren 5"/>
          <p:cNvGrpSpPr/>
          <p:nvPr/>
        </p:nvGrpSpPr>
        <p:grpSpPr>
          <a:xfrm>
            <a:off x="-266760" y="5227920"/>
            <a:ext cx="9677160" cy="3187800"/>
            <a:chOff x="-266760" y="5227920"/>
            <a:chExt cx="9677160" cy="3187800"/>
          </a:xfrm>
        </p:grpSpPr>
        <p:sp>
          <p:nvSpPr>
            <p:cNvPr id="459" name="Abgerundetes Rechteck 11"/>
            <p:cNvSpPr/>
            <p:nvPr/>
          </p:nvSpPr>
          <p:spPr>
            <a:xfrm>
              <a:off x="2424960" y="5227920"/>
              <a:ext cx="4584600" cy="2042280"/>
            </a:xfrm>
            <a:prstGeom prst="roundRect">
              <a:avLst>
                <a:gd name="adj" fmla="val 39755"/>
              </a:avLst>
            </a:prstGeom>
            <a:gradFill rotWithShape="0">
              <a:gsLst>
                <a:gs pos="25000">
                  <a:srgbClr val="4d0010"/>
                </a:gs>
                <a:gs pos="100000">
                  <a:srgbClr val="760019"/>
                </a:gs>
              </a:gsLst>
              <a:lin ang="16200000"/>
            </a:gradFill>
            <a:ln>
              <a:noFill/>
            </a:ln>
            <a:scene3d>
              <a:camera prst="orthographicFront"/>
              <a:lightRig dir="t" rig="threePt"/>
            </a:scene3d>
            <a:sp3d>
              <a:bevelT w="114300" h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0" name="Ellipse 4"/>
            <p:cNvSpPr/>
            <p:nvPr/>
          </p:nvSpPr>
          <p:spPr>
            <a:xfrm>
              <a:off x="-266760" y="5385240"/>
              <a:ext cx="9677160" cy="3030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61" name="Ellipse 82"/>
          <p:cNvSpPr/>
          <p:nvPr/>
        </p:nvSpPr>
        <p:spPr>
          <a:xfrm>
            <a:off x="4527360" y="205128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>
                  <a:alpha val="33333"/>
                </a:srgbClr>
              </a:gs>
              <a:gs pos="100000">
                <a:srgbClr val="ffff00">
                  <a:alpha val="1176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2" name="Ellipse 87"/>
          <p:cNvSpPr/>
          <p:nvPr/>
        </p:nvSpPr>
        <p:spPr>
          <a:xfrm>
            <a:off x="4599360" y="205128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>
                  <a:alpha val="33333"/>
                </a:srgbClr>
              </a:gs>
              <a:gs pos="100000">
                <a:srgbClr val="ffff00">
                  <a:alpha val="1176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3" name="Ellipse 88"/>
          <p:cNvSpPr/>
          <p:nvPr/>
        </p:nvSpPr>
        <p:spPr>
          <a:xfrm>
            <a:off x="4563000" y="197604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>
                  <a:alpha val="33333"/>
                </a:srgbClr>
              </a:gs>
              <a:gs pos="100000">
                <a:srgbClr val="ffff00">
                  <a:alpha val="1176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Ellipse 89"/>
          <p:cNvSpPr/>
          <p:nvPr/>
        </p:nvSpPr>
        <p:spPr>
          <a:xfrm>
            <a:off x="4541400" y="206928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>
                  <a:alpha val="33333"/>
                </a:srgbClr>
              </a:gs>
              <a:gs pos="100000">
                <a:srgbClr val="ffff00">
                  <a:alpha val="1176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5" name="Ellipse 90"/>
          <p:cNvSpPr/>
          <p:nvPr/>
        </p:nvSpPr>
        <p:spPr>
          <a:xfrm>
            <a:off x="4585680" y="201672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>
                  <a:alpha val="33333"/>
                </a:srgbClr>
              </a:gs>
              <a:gs pos="100000">
                <a:srgbClr val="ffff00">
                  <a:alpha val="1176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66" name="Gruppieren 91"/>
          <p:cNvGrpSpPr/>
          <p:nvPr/>
        </p:nvGrpSpPr>
        <p:grpSpPr>
          <a:xfrm>
            <a:off x="5761800" y="3729600"/>
            <a:ext cx="388440" cy="1346400"/>
            <a:chOff x="5761800" y="3729600"/>
            <a:chExt cx="388440" cy="1346400"/>
          </a:xfrm>
        </p:grpSpPr>
        <p:grpSp>
          <p:nvGrpSpPr>
            <p:cNvPr id="467" name="Gruppieren 92"/>
            <p:cNvGrpSpPr/>
            <p:nvPr/>
          </p:nvGrpSpPr>
          <p:grpSpPr>
            <a:xfrm>
              <a:off x="5761800" y="3729600"/>
              <a:ext cx="388440" cy="1346400"/>
              <a:chOff x="5761800" y="3729600"/>
              <a:chExt cx="388440" cy="1346400"/>
            </a:xfrm>
          </p:grpSpPr>
          <p:sp>
            <p:nvSpPr>
              <p:cNvPr id="468" name="Freeform 10"/>
              <p:cNvSpPr/>
              <p:nvPr/>
            </p:nvSpPr>
            <p:spPr>
              <a:xfrm>
                <a:off x="5819400" y="3729600"/>
                <a:ext cx="264960" cy="6336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49" h="61">
                    <a:moveTo>
                      <a:pt x="249" y="20"/>
                    </a:moveTo>
                    <a:cubicBezTo>
                      <a:pt x="249" y="19"/>
                      <a:pt x="249" y="18"/>
                      <a:pt x="249" y="17"/>
                    </a:cubicBezTo>
                    <a:cubicBezTo>
                      <a:pt x="249" y="17"/>
                      <a:pt x="221" y="0"/>
                      <a:pt x="140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36" y="0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1"/>
                    </a:cubicBezTo>
                    <a:cubicBezTo>
                      <a:pt x="53" y="42"/>
                      <a:pt x="143" y="61"/>
                      <a:pt x="249" y="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e4f0f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12"/>
              <p:cNvSpPr/>
              <p:nvPr/>
            </p:nvSpPr>
            <p:spPr>
              <a:xfrm>
                <a:off x="5767200" y="3884400"/>
                <a:ext cx="370080" cy="53604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536040"/>
                  <a:gd name="textAreaBottom" fmla="*/ 536400 h 536040"/>
                </a:gdLst>
                <a:ahLst/>
                <a:rect l="textAreaLeft" t="textAreaTop" r="textAreaRight" b="textAreaBottom"/>
                <a:pathLst>
                  <a:path w="348" h="512">
                    <a:moveTo>
                      <a:pt x="328" y="15"/>
                    </a:moveTo>
                    <a:cubicBezTo>
                      <a:pt x="317" y="12"/>
                      <a:pt x="291" y="6"/>
                      <a:pt x="246" y="3"/>
                    </a:cubicBezTo>
                    <a:cubicBezTo>
                      <a:pt x="206" y="0"/>
                      <a:pt x="153" y="0"/>
                      <a:pt x="84" y="7"/>
                    </a:cubicBezTo>
                    <a:cubicBezTo>
                      <a:pt x="64" y="9"/>
                      <a:pt x="43" y="12"/>
                      <a:pt x="20" y="15"/>
                    </a:cubicBezTo>
                    <a:cubicBezTo>
                      <a:pt x="0" y="242"/>
                      <a:pt x="90" y="428"/>
                      <a:pt x="119" y="479"/>
                    </a:cubicBezTo>
                    <a:cubicBezTo>
                      <a:pt x="123" y="483"/>
                      <a:pt x="127" y="486"/>
                      <a:pt x="131" y="489"/>
                    </a:cubicBezTo>
                    <a:cubicBezTo>
                      <a:pt x="161" y="512"/>
                      <a:pt x="188" y="509"/>
                      <a:pt x="212" y="495"/>
                    </a:cubicBezTo>
                    <a:cubicBezTo>
                      <a:pt x="222" y="488"/>
                      <a:pt x="231" y="480"/>
                      <a:pt x="240" y="470"/>
                    </a:cubicBezTo>
                    <a:cubicBezTo>
                      <a:pt x="271" y="409"/>
                      <a:pt x="348" y="231"/>
                      <a:pt x="328" y="1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13"/>
              <p:cNvSpPr/>
              <p:nvPr/>
            </p:nvSpPr>
            <p:spPr>
              <a:xfrm>
                <a:off x="5761800" y="4930560"/>
                <a:ext cx="388440" cy="14544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365" h="139">
                    <a:moveTo>
                      <a:pt x="355" y="71"/>
                    </a:moveTo>
                    <a:cubicBezTo>
                      <a:pt x="360" y="65"/>
                      <a:pt x="363" y="58"/>
                      <a:pt x="365" y="51"/>
                    </a:cubicBezTo>
                    <a:cubicBezTo>
                      <a:pt x="365" y="21"/>
                      <a:pt x="273" y="2"/>
                      <a:pt x="226" y="0"/>
                    </a:cubicBezTo>
                    <a:cubicBezTo>
                      <a:pt x="230" y="5"/>
                      <a:pt x="237" y="11"/>
                      <a:pt x="246" y="17"/>
                    </a:cubicBezTo>
                    <a:cubicBezTo>
                      <a:pt x="295" y="58"/>
                      <a:pt x="160" y="58"/>
                      <a:pt x="122" y="44"/>
                    </a:cubicBezTo>
                    <a:cubicBezTo>
                      <a:pt x="93" y="34"/>
                      <a:pt x="126" y="11"/>
                      <a:pt x="143" y="1"/>
                    </a:cubicBezTo>
                    <a:cubicBezTo>
                      <a:pt x="141" y="0"/>
                      <a:pt x="140" y="0"/>
                      <a:pt x="140" y="0"/>
                    </a:cubicBezTo>
                    <a:cubicBezTo>
                      <a:pt x="93" y="2"/>
                      <a:pt x="0" y="20"/>
                      <a:pt x="0" y="51"/>
                    </a:cubicBezTo>
                    <a:cubicBezTo>
                      <a:pt x="1" y="52"/>
                      <a:pt x="1" y="54"/>
                      <a:pt x="2" y="56"/>
                    </a:cubicBezTo>
                    <a:cubicBezTo>
                      <a:pt x="46" y="82"/>
                      <a:pt x="175" y="139"/>
                      <a:pt x="355" y="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e5f0f4"/>
                  </a:gs>
                </a:gsLst>
                <a:lin ang="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14"/>
              <p:cNvSpPr/>
              <p:nvPr/>
            </p:nvSpPr>
            <p:spPr>
              <a:xfrm>
                <a:off x="5878080" y="4409280"/>
                <a:ext cx="124200" cy="5554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555480"/>
                  <a:gd name="textAreaBottom" fmla="*/ 555840 h 555480"/>
                </a:gdLst>
                <a:ahLst/>
                <a:rect l="textAreaLeft" t="textAreaTop" r="textAreaRight" b="textAreaBottom"/>
                <a:pathLst>
                  <a:path w="117" h="531">
                    <a:moveTo>
                      <a:pt x="111" y="518"/>
                    </a:moveTo>
                    <a:cubicBezTo>
                      <a:pt x="116" y="515"/>
                      <a:pt x="117" y="506"/>
                      <a:pt x="117" y="498"/>
                    </a:cubicBezTo>
                    <a:cubicBezTo>
                      <a:pt x="117" y="498"/>
                      <a:pt x="116" y="498"/>
                      <a:pt x="115" y="498"/>
                    </a:cubicBezTo>
                    <a:cubicBezTo>
                      <a:pt x="115" y="498"/>
                      <a:pt x="94" y="508"/>
                      <a:pt x="88" y="468"/>
                    </a:cubicBezTo>
                    <a:cubicBezTo>
                      <a:pt x="85" y="449"/>
                      <a:pt x="84" y="382"/>
                      <a:pt x="85" y="312"/>
                    </a:cubicBezTo>
                    <a:cubicBezTo>
                      <a:pt x="72" y="173"/>
                      <a:pt x="89" y="48"/>
                      <a:pt x="96" y="0"/>
                    </a:cubicBezTo>
                    <a:cubicBezTo>
                      <a:pt x="81" y="6"/>
                      <a:pt x="64" y="7"/>
                      <a:pt x="46" y="0"/>
                    </a:cubicBezTo>
                    <a:cubicBezTo>
                      <a:pt x="56" y="52"/>
                      <a:pt x="77" y="186"/>
                      <a:pt x="62" y="334"/>
                    </a:cubicBezTo>
                    <a:cubicBezTo>
                      <a:pt x="63" y="396"/>
                      <a:pt x="62" y="451"/>
                      <a:pt x="59" y="468"/>
                    </a:cubicBezTo>
                    <a:cubicBezTo>
                      <a:pt x="55" y="496"/>
                      <a:pt x="43" y="499"/>
                      <a:pt x="36" y="499"/>
                    </a:cubicBezTo>
                    <a:cubicBezTo>
                      <a:pt x="0" y="531"/>
                      <a:pt x="100" y="527"/>
                      <a:pt x="111" y="5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15"/>
              <p:cNvSpPr/>
              <p:nvPr/>
            </p:nvSpPr>
            <p:spPr>
              <a:xfrm>
                <a:off x="5763960" y="4989240"/>
                <a:ext cx="375840" cy="86760"/>
              </a:xfrm>
              <a:custGeom>
                <a:avLst/>
                <a:gdLst>
                  <a:gd name="textAreaLeft" fmla="*/ 0 w 375840"/>
                  <a:gd name="textAreaRight" fmla="*/ 376200 w 375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53" h="83">
                    <a:moveTo>
                      <a:pt x="0" y="0"/>
                    </a:moveTo>
                    <a:cubicBezTo>
                      <a:pt x="16" y="58"/>
                      <a:pt x="150" y="60"/>
                      <a:pt x="180" y="59"/>
                    </a:cubicBezTo>
                    <a:cubicBezTo>
                      <a:pt x="208" y="60"/>
                      <a:pt x="320" y="58"/>
                      <a:pt x="353" y="15"/>
                    </a:cubicBezTo>
                    <a:cubicBezTo>
                      <a:pt x="173" y="83"/>
                      <a:pt x="44" y="26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86bcce"/>
                  </a:gs>
                </a:gsLst>
                <a:lin ang="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16"/>
              <p:cNvSpPr/>
              <p:nvPr/>
            </p:nvSpPr>
            <p:spPr>
              <a:xfrm>
                <a:off x="5891760" y="4378320"/>
                <a:ext cx="68760" cy="3808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65" h="364">
                    <a:moveTo>
                      <a:pt x="34" y="30"/>
                    </a:moveTo>
                    <a:cubicBezTo>
                      <a:pt x="24" y="25"/>
                      <a:pt x="15" y="16"/>
                      <a:pt x="5" y="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8"/>
                      <a:pt x="10" y="21"/>
                      <a:pt x="11" y="22"/>
                    </a:cubicBezTo>
                    <a:cubicBezTo>
                      <a:pt x="15" y="28"/>
                      <a:pt x="33" y="111"/>
                      <a:pt x="41" y="156"/>
                    </a:cubicBezTo>
                    <a:cubicBezTo>
                      <a:pt x="46" y="181"/>
                      <a:pt x="49" y="279"/>
                      <a:pt x="50" y="364"/>
                    </a:cubicBezTo>
                    <a:cubicBezTo>
                      <a:pt x="65" y="216"/>
                      <a:pt x="44" y="82"/>
                      <a:pt x="34" y="30"/>
                    </a:cubicBezTo>
                    <a:close/>
                  </a:path>
                </a:pathLst>
              </a:custGeom>
              <a:gradFill rotWithShape="0">
                <a:gsLst>
                  <a:gs pos="43000">
                    <a:srgbClr val="86bcce"/>
                  </a:gs>
                  <a:gs pos="100000">
                    <a:srgbClr val="effb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17"/>
              <p:cNvSpPr/>
              <p:nvPr/>
            </p:nvSpPr>
            <p:spPr>
              <a:xfrm>
                <a:off x="5954400" y="4373640"/>
                <a:ext cx="69840" cy="3621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66" h="346">
                    <a:moveTo>
                      <a:pt x="54" y="13"/>
                    </a:moveTo>
                    <a:cubicBezTo>
                      <a:pt x="45" y="22"/>
                      <a:pt x="35" y="29"/>
                      <a:pt x="24" y="34"/>
                    </a:cubicBezTo>
                    <a:cubicBezTo>
                      <a:pt x="17" y="82"/>
                      <a:pt x="0" y="207"/>
                      <a:pt x="13" y="346"/>
                    </a:cubicBezTo>
                    <a:cubicBezTo>
                      <a:pt x="14" y="266"/>
                      <a:pt x="17" y="183"/>
                      <a:pt x="22" y="160"/>
                    </a:cubicBezTo>
                    <a:cubicBezTo>
                      <a:pt x="30" y="115"/>
                      <a:pt x="48" y="32"/>
                      <a:pt x="52" y="26"/>
                    </a:cubicBezTo>
                    <a:cubicBezTo>
                      <a:pt x="53" y="25"/>
                      <a:pt x="55" y="21"/>
                      <a:pt x="59" y="14"/>
                    </a:cubicBezTo>
                    <a:cubicBezTo>
                      <a:pt x="61" y="11"/>
                      <a:pt x="64" y="4"/>
                      <a:pt x="66" y="0"/>
                    </a:cubicBezTo>
                    <a:cubicBezTo>
                      <a:pt x="60" y="8"/>
                      <a:pt x="58" y="10"/>
                      <a:pt x="54" y="13"/>
                    </a:cubicBezTo>
                    <a:close/>
                  </a:path>
                </a:pathLst>
              </a:custGeom>
              <a:gradFill rotWithShape="0">
                <a:gsLst>
                  <a:gs pos="57000">
                    <a:srgbClr val="86bcce"/>
                  </a:gs>
                  <a:gs pos="100000">
                    <a:srgbClr val="eff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18"/>
              <p:cNvSpPr/>
              <p:nvPr/>
            </p:nvSpPr>
            <p:spPr>
              <a:xfrm>
                <a:off x="5861160" y="4930560"/>
                <a:ext cx="214200" cy="608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202" h="58">
                    <a:moveTo>
                      <a:pt x="29" y="44"/>
                    </a:moveTo>
                    <a:cubicBezTo>
                      <a:pt x="67" y="58"/>
                      <a:pt x="202" y="58"/>
                      <a:pt x="153" y="17"/>
                    </a:cubicBezTo>
                    <a:cubicBezTo>
                      <a:pt x="144" y="11"/>
                      <a:pt x="144" y="11"/>
                      <a:pt x="140" y="6"/>
                    </a:cubicBezTo>
                    <a:cubicBezTo>
                      <a:pt x="139" y="6"/>
                      <a:pt x="133" y="0"/>
                      <a:pt x="133" y="0"/>
                    </a:cubicBezTo>
                    <a:cubicBezTo>
                      <a:pt x="133" y="8"/>
                      <a:pt x="132" y="17"/>
                      <a:pt x="127" y="20"/>
                    </a:cubicBezTo>
                    <a:cubicBezTo>
                      <a:pt x="116" y="29"/>
                      <a:pt x="16" y="33"/>
                      <a:pt x="52" y="1"/>
                    </a:cubicBezTo>
                    <a:cubicBezTo>
                      <a:pt x="51" y="1"/>
                      <a:pt x="51" y="1"/>
                      <a:pt x="50" y="1"/>
                    </a:cubicBezTo>
                    <a:cubicBezTo>
                      <a:pt x="33" y="11"/>
                      <a:pt x="0" y="34"/>
                      <a:pt x="29" y="44"/>
                    </a:cubicBezTo>
                    <a:close/>
                  </a:path>
                </a:pathLst>
              </a:custGeom>
              <a:gradFill rotWithShape="0">
                <a:gsLst>
                  <a:gs pos="6000">
                    <a:srgbClr val="86bcce"/>
                  </a:gs>
                  <a:gs pos="100000">
                    <a:srgbClr val="effb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20"/>
              <p:cNvSpPr/>
              <p:nvPr/>
            </p:nvSpPr>
            <p:spPr>
              <a:xfrm>
                <a:off x="5774760" y="4950360"/>
                <a:ext cx="251640" cy="1011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37" h="97">
                    <a:moveTo>
                      <a:pt x="106" y="0"/>
                    </a:moveTo>
                    <a:cubicBezTo>
                      <a:pt x="106" y="0"/>
                      <a:pt x="77" y="24"/>
                      <a:pt x="132" y="29"/>
                    </a:cubicBezTo>
                    <a:cubicBezTo>
                      <a:pt x="188" y="34"/>
                      <a:pt x="202" y="36"/>
                      <a:pt x="237" y="25"/>
                    </a:cubicBezTo>
                    <a:cubicBezTo>
                      <a:pt x="237" y="25"/>
                      <a:pt x="154" y="97"/>
                      <a:pt x="49" y="49"/>
                    </a:cubicBezTo>
                    <a:cubicBezTo>
                      <a:pt x="0" y="15"/>
                      <a:pt x="106" y="0"/>
                      <a:pt x="10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11"/>
              <p:cNvSpPr/>
              <p:nvPr/>
            </p:nvSpPr>
            <p:spPr>
              <a:xfrm>
                <a:off x="5788800" y="3748320"/>
                <a:ext cx="327240" cy="15480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308" h="148">
                    <a:moveTo>
                      <a:pt x="308" y="148"/>
                    </a:moveTo>
                    <a:cubicBezTo>
                      <a:pt x="303" y="100"/>
                      <a:pt x="294" y="50"/>
                      <a:pt x="278" y="0"/>
                    </a:cubicBezTo>
                    <a:cubicBezTo>
                      <a:pt x="172" y="41"/>
                      <a:pt x="82" y="22"/>
                      <a:pt x="29" y="1"/>
                    </a:cubicBezTo>
                    <a:cubicBezTo>
                      <a:pt x="14" y="52"/>
                      <a:pt x="5" y="101"/>
                      <a:pt x="0" y="148"/>
                    </a:cubicBezTo>
                    <a:cubicBezTo>
                      <a:pt x="188" y="120"/>
                      <a:pt x="286" y="142"/>
                      <a:pt x="308" y="1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8" name="Freeform 12"/>
            <p:cNvSpPr/>
            <p:nvPr/>
          </p:nvSpPr>
          <p:spPr>
            <a:xfrm>
              <a:off x="5771520" y="3886560"/>
              <a:ext cx="364680" cy="53604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348" h="512">
                  <a:moveTo>
                    <a:pt x="328" y="15"/>
                  </a:moveTo>
                  <a:cubicBezTo>
                    <a:pt x="317" y="12"/>
                    <a:pt x="291" y="6"/>
                    <a:pt x="246" y="3"/>
                  </a:cubicBezTo>
                  <a:cubicBezTo>
                    <a:pt x="206" y="0"/>
                    <a:pt x="153" y="0"/>
                    <a:pt x="84" y="7"/>
                  </a:cubicBezTo>
                  <a:cubicBezTo>
                    <a:pt x="64" y="9"/>
                    <a:pt x="43" y="12"/>
                    <a:pt x="20" y="15"/>
                  </a:cubicBezTo>
                  <a:cubicBezTo>
                    <a:pt x="0" y="242"/>
                    <a:pt x="90" y="428"/>
                    <a:pt x="119" y="479"/>
                  </a:cubicBezTo>
                  <a:cubicBezTo>
                    <a:pt x="123" y="483"/>
                    <a:pt x="127" y="486"/>
                    <a:pt x="131" y="489"/>
                  </a:cubicBezTo>
                  <a:cubicBezTo>
                    <a:pt x="161" y="512"/>
                    <a:pt x="188" y="509"/>
                    <a:pt x="212" y="495"/>
                  </a:cubicBezTo>
                  <a:cubicBezTo>
                    <a:pt x="222" y="488"/>
                    <a:pt x="231" y="480"/>
                    <a:pt x="240" y="470"/>
                  </a:cubicBezTo>
                  <a:cubicBezTo>
                    <a:pt x="271" y="409"/>
                    <a:pt x="348" y="231"/>
                    <a:pt x="328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e7debc"/>
                </a:gs>
                <a:gs pos="100000">
                  <a:srgbClr val="c0a95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19"/>
            <p:cNvSpPr/>
            <p:nvPr/>
          </p:nvSpPr>
          <p:spPr>
            <a:xfrm>
              <a:off x="5788080" y="3761280"/>
              <a:ext cx="125280" cy="60876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118" h="582">
                  <a:moveTo>
                    <a:pt x="78" y="2"/>
                  </a:moveTo>
                  <a:cubicBezTo>
                    <a:pt x="118" y="0"/>
                    <a:pt x="118" y="0"/>
                    <a:pt x="118" y="0"/>
                  </a:cubicBezTo>
                  <a:cubicBezTo>
                    <a:pt x="118" y="0"/>
                    <a:pt x="61" y="437"/>
                    <a:pt x="114" y="582"/>
                  </a:cubicBezTo>
                  <a:cubicBezTo>
                    <a:pt x="114" y="582"/>
                    <a:pt x="0" y="420"/>
                    <a:pt x="7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0"/>
                            </p:stCondLst>
                            <p:childTnLst>
                              <p:par>
                                <p:cTn id="5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000"/>
                            </p:stCondLst>
                            <p:childTnLst>
                              <p:par>
                                <p:cTn id="5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80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8500"/>
                            </p:stCondLst>
                            <p:childTnLst>
                              <p:par>
                                <p:cTn id="58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5" dur="750" fill="hold"/>
                                        <p:tgtEl>
                                          <p:spTgt spid="433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47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75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75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75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75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75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75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47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75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75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75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47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25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75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75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47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25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hteck 21"/>
          <p:cNvSpPr/>
          <p:nvPr/>
        </p:nvSpPr>
        <p:spPr>
          <a:xfrm>
            <a:off x="-14760" y="-33120"/>
            <a:ext cx="9158400" cy="68907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100000">
                <a:srgbClr val="ff8a8a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1" name="Textfeld 23"/>
          <p:cNvSpPr/>
          <p:nvPr/>
        </p:nvSpPr>
        <p:spPr>
          <a:xfrm>
            <a:off x="6425640" y="-663480"/>
            <a:ext cx="6689160" cy="11916720"/>
          </a:xfrm>
          <a:prstGeom prst="rect">
            <a:avLst/>
          </a:prstGeom>
          <a:noFill/>
          <a:ln w="0">
            <a:noFill/>
          </a:ln>
          <a:scene3d>
            <a:camera prst="orthographicFront">
              <a:rot lat="19650000" lon="2814000" rev="1854600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feld 22"/>
          <p:cNvSpPr/>
          <p:nvPr/>
        </p:nvSpPr>
        <p:spPr>
          <a:xfrm>
            <a:off x="-198720" y="-3615840"/>
            <a:ext cx="6689160" cy="11916720"/>
          </a:xfrm>
          <a:prstGeom prst="rect">
            <a:avLst/>
          </a:prstGeom>
          <a:noFill/>
          <a:ln w="0">
            <a:noFill/>
          </a:ln>
          <a:scene3d>
            <a:camera prst="orthographicFront">
              <a:rot lat="19650000" lon="2814000" rev="1854600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Gerade Verbindung 9"/>
          <p:cNvCxnSpPr/>
          <p:nvPr/>
        </p:nvCxnSpPr>
        <p:spPr>
          <a:xfrm flipH="1">
            <a:off x="-468360" y="-171360"/>
            <a:ext cx="6984720" cy="576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84" name="Gerade Verbindung 16"/>
          <p:cNvCxnSpPr/>
          <p:nvPr/>
        </p:nvCxnSpPr>
        <p:spPr>
          <a:xfrm flipH="1">
            <a:off x="2483640" y="1556640"/>
            <a:ext cx="7121880" cy="57610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85" name="Freeform 6"/>
          <p:cNvSpPr/>
          <p:nvPr/>
        </p:nvSpPr>
        <p:spPr>
          <a:xfrm rot="-600">
            <a:off x="1763640" y="1207080"/>
            <a:ext cx="6134760" cy="3887640"/>
          </a:xfrm>
          <a:prstGeom prst="heart">
            <a:avLst/>
          </a:prstGeom>
          <a:solidFill>
            <a:srgbClr val="ff0000"/>
          </a:solidFill>
          <a:ln w="10">
            <a:noFill/>
          </a:ln>
          <a:scene3d>
            <a:camera prst="orthographicFront">
              <a:rot lat="19652838" lon="2814923" rev="18544182"/>
            </a:camera>
            <a:lightRig dir="t" rig="sunrise"/>
          </a:scene3d>
          <a:sp3d extrusionH="133350" prstMaterial="clear">
            <a:bevelT prst="slope" w="412750" h="177800"/>
            <a:bevelB w="0" h="0"/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feld 10"/>
          <p:cNvSpPr/>
          <p:nvPr/>
        </p:nvSpPr>
        <p:spPr>
          <a:xfrm>
            <a:off x="450360" y="4653720"/>
            <a:ext cx="8346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Happy Valentine‘s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hteck 1"/>
          <p:cNvSpPr/>
          <p:nvPr/>
        </p:nvSpPr>
        <p:spPr>
          <a:xfrm>
            <a:off x="530640" y="5709600"/>
            <a:ext cx="4343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express your love righ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feld 11"/>
          <p:cNvSpPr/>
          <p:nvPr/>
        </p:nvSpPr>
        <p:spPr>
          <a:xfrm>
            <a:off x="2889720" y="-2031840"/>
            <a:ext cx="6689160" cy="11916720"/>
          </a:xfrm>
          <a:prstGeom prst="rect">
            <a:avLst/>
          </a:prstGeom>
          <a:noFill/>
          <a:ln w="0">
            <a:noFill/>
          </a:ln>
          <a:scene3d>
            <a:camera prst="orthographicFront">
              <a:rot lat="19650000" lon="2814000" rev="1854600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07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feld 8"/>
          <p:cNvSpPr/>
          <p:nvPr/>
        </p:nvSpPr>
        <p:spPr>
          <a:xfrm>
            <a:off x="2670120" y="1578960"/>
            <a:ext cx="6689160" cy="4032000"/>
          </a:xfrm>
          <a:prstGeom prst="rect">
            <a:avLst/>
          </a:prstGeom>
          <a:noFill/>
          <a:ln w="0">
            <a:noFill/>
          </a:ln>
          <a:scene3d>
            <a:camera prst="orthographicFront">
              <a:rot lat="19650000" lon="2814000" rev="1854600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9900" spc="-1" strike="noStrike">
                <a:solidFill>
                  <a:srgbClr val="000000"/>
                </a:solidFill>
                <a:latin typeface="Calibri"/>
              </a:rPr>
              <a:t>14 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2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25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hteck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8a"/>
              </a:gs>
              <a:gs pos="100000">
                <a:srgbClr val="ff999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91" name="Gruppieren 3"/>
          <p:cNvGrpSpPr/>
          <p:nvPr/>
        </p:nvGrpSpPr>
        <p:grpSpPr>
          <a:xfrm>
            <a:off x="1225800" y="2311200"/>
            <a:ext cx="4690080" cy="3090600"/>
            <a:chOff x="1225800" y="2311200"/>
            <a:chExt cx="4690080" cy="3090600"/>
          </a:xfrm>
        </p:grpSpPr>
        <p:grpSp>
          <p:nvGrpSpPr>
            <p:cNvPr id="492" name="Gruppieren 2"/>
            <p:cNvGrpSpPr/>
            <p:nvPr/>
          </p:nvGrpSpPr>
          <p:grpSpPr>
            <a:xfrm>
              <a:off x="1225800" y="2311200"/>
              <a:ext cx="4690080" cy="3090600"/>
              <a:chOff x="1225800" y="2311200"/>
              <a:chExt cx="4690080" cy="3090600"/>
            </a:xfrm>
          </p:grpSpPr>
          <p:sp>
            <p:nvSpPr>
              <p:cNvPr id="493" name="Freeform 14"/>
              <p:cNvSpPr/>
              <p:nvPr/>
            </p:nvSpPr>
            <p:spPr>
              <a:xfrm>
                <a:off x="1225800" y="2328480"/>
                <a:ext cx="4690080" cy="3073320"/>
              </a:xfrm>
              <a:custGeom>
                <a:avLst/>
                <a:gdLst>
                  <a:gd name="textAreaLeft" fmla="*/ 0 w 4690080"/>
                  <a:gd name="textAreaRight" fmla="*/ 4690440 w 4690080"/>
                  <a:gd name="textAreaTop" fmla="*/ 0 h 3073320"/>
                  <a:gd name="textAreaBottom" fmla="*/ 3073680 h 307332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6354" y="38"/>
                    </a:moveTo>
                    <a:cubicBezTo>
                      <a:pt x="6354" y="38"/>
                      <a:pt x="5351" y="-227"/>
                      <a:pt x="5046" y="657"/>
                    </a:cubicBezTo>
                    <a:cubicBezTo>
                      <a:pt x="4975" y="935"/>
                      <a:pt x="4994" y="1133"/>
                      <a:pt x="4648" y="988"/>
                    </a:cubicBezTo>
                    <a:cubicBezTo>
                      <a:pt x="4308" y="854"/>
                      <a:pt x="2754" y="192"/>
                      <a:pt x="1036" y="1517"/>
                    </a:cubicBezTo>
                    <a:cubicBezTo>
                      <a:pt x="-681" y="2842"/>
                      <a:pt x="239" y="5347"/>
                      <a:pt x="310" y="5678"/>
                    </a:cubicBezTo>
                    <a:cubicBezTo>
                      <a:pt x="386" y="6010"/>
                      <a:pt x="473" y="6403"/>
                      <a:pt x="725" y="6869"/>
                    </a:cubicBezTo>
                    <a:cubicBezTo>
                      <a:pt x="984" y="7334"/>
                      <a:pt x="1828" y="9026"/>
                      <a:pt x="8054" y="9956"/>
                    </a:cubicBezTo>
                    <a:cubicBezTo>
                      <a:pt x="8300" y="9983"/>
                      <a:pt x="8429" y="10180"/>
                      <a:pt x="8862" y="9464"/>
                    </a:cubicBezTo>
                    <a:cubicBezTo>
                      <a:pt x="9296" y="8748"/>
                      <a:pt x="10000" y="6592"/>
                      <a:pt x="10000" y="6592"/>
                    </a:cubicBezTo>
                    <a:cubicBezTo>
                      <a:pt x="7626" y="2080"/>
                      <a:pt x="7339" y="2021"/>
                      <a:pt x="7339" y="2021"/>
                    </a:cubicBezTo>
                    <a:cubicBezTo>
                      <a:pt x="6719" y="1000"/>
                      <a:pt x="7146" y="2283"/>
                      <a:pt x="6354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7f"/>
                  </a:gs>
                  <a:gs pos="100000">
                    <a:srgbClr val="ff5050"/>
                  </a:gs>
                </a:gsLst>
                <a:lin ang="6600000"/>
              </a:gradFill>
              <a:ln w="7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13"/>
              <p:cNvSpPr/>
              <p:nvPr/>
            </p:nvSpPr>
            <p:spPr>
              <a:xfrm>
                <a:off x="1284480" y="2311200"/>
                <a:ext cx="4408560" cy="2488320"/>
              </a:xfrm>
              <a:custGeom>
                <a:avLst/>
                <a:gdLst>
                  <a:gd name="textAreaLeft" fmla="*/ 0 w 4408560"/>
                  <a:gd name="textAreaRight" fmla="*/ 4408920 w 4408560"/>
                  <a:gd name="textAreaTop" fmla="*/ 0 h 2488320"/>
                  <a:gd name="textAreaBottom" fmla="*/ 2488680 h 2488320"/>
                </a:gdLst>
                <a:ahLst/>
                <a:rect l="textAreaLeft" t="textAreaTop" r="textAreaRight" b="textAreaBottom"/>
                <a:pathLst>
                  <a:path w="9626" h="9628">
                    <a:moveTo>
                      <a:pt x="8515" y="9628"/>
                    </a:moveTo>
                    <a:cubicBezTo>
                      <a:pt x="8515" y="9628"/>
                      <a:pt x="959" y="9043"/>
                      <a:pt x="52" y="5171"/>
                    </a:cubicBezTo>
                    <a:cubicBezTo>
                      <a:pt x="-374" y="2905"/>
                      <a:pt x="1902" y="479"/>
                      <a:pt x="4281" y="1298"/>
                    </a:cubicBezTo>
                    <a:cubicBezTo>
                      <a:pt x="4281" y="1298"/>
                      <a:pt x="4827" y="1756"/>
                      <a:pt x="4977" y="1660"/>
                    </a:cubicBezTo>
                    <a:cubicBezTo>
                      <a:pt x="5128" y="1564"/>
                      <a:pt x="5200" y="681"/>
                      <a:pt x="5512" y="245"/>
                    </a:cubicBezTo>
                    <a:cubicBezTo>
                      <a:pt x="5830" y="-181"/>
                      <a:pt x="6183" y="79"/>
                      <a:pt x="6183" y="79"/>
                    </a:cubicBezTo>
                    <a:cubicBezTo>
                      <a:pt x="6183" y="79"/>
                      <a:pt x="5608" y="968"/>
                      <a:pt x="9626" y="6905"/>
                    </a:cubicBezTo>
                    <a:cubicBezTo>
                      <a:pt x="9626" y="6905"/>
                      <a:pt x="8755" y="9468"/>
                      <a:pt x="8515" y="962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cbc"/>
                  </a:gs>
                  <a:gs pos="100000">
                    <a:srgbClr val="ffffff"/>
                  </a:gs>
                </a:gsLst>
                <a:lin ang="8100000"/>
              </a:gradFill>
              <a:ln w="7">
                <a:noFill/>
              </a:ln>
              <a:effectLst>
                <a:innerShdw dir="13500000" dist="228600">
                  <a:srgbClr val="b22828"/>
                </a:innerShdw>
              </a:effectLst>
              <a:scene3d>
                <a:camera prst="orthographicFront"/>
                <a:lightRig dir="t" rig="threePt">
                  <a:rot lat="0" lon="0" rev="16200000"/>
                </a:lightRig>
              </a:scene3d>
              <a:sp3d z="-635000">
                <a:bevelT prst="hardEdge" w="114300" h="368300"/>
                <a:bevelB w="69850" h="1016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Freeform 18"/>
            <p:cNvSpPr/>
            <p:nvPr/>
          </p:nvSpPr>
          <p:spPr>
            <a:xfrm>
              <a:off x="5165640" y="4218120"/>
              <a:ext cx="682920" cy="113940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1139400"/>
                <a:gd name="textAreaBottom" fmla="*/ 1139760 h 1139400"/>
              </a:gdLst>
              <a:ahLst/>
              <a:rect l="textAreaLeft" t="textAreaTop" r="textAreaRight" b="textAreaBottom"/>
              <a:pathLst>
                <a:path w="7863" h="8464">
                  <a:moveTo>
                    <a:pt x="535" y="5248"/>
                  </a:moveTo>
                  <a:cubicBezTo>
                    <a:pt x="535" y="6296"/>
                    <a:pt x="-670" y="8929"/>
                    <a:pt x="535" y="8394"/>
                  </a:cubicBezTo>
                  <a:cubicBezTo>
                    <a:pt x="1740" y="7859"/>
                    <a:pt x="2633" y="8454"/>
                    <a:pt x="7763" y="2039"/>
                  </a:cubicBezTo>
                  <a:cubicBezTo>
                    <a:pt x="8045" y="17"/>
                    <a:pt x="7762" y="-305"/>
                    <a:pt x="6557" y="230"/>
                  </a:cubicBezTo>
                  <a:cubicBezTo>
                    <a:pt x="5352" y="765"/>
                    <a:pt x="4778" y="2920"/>
                    <a:pt x="535" y="5248"/>
                  </a:cubicBezTo>
                  <a:close/>
                </a:path>
              </a:pathLst>
            </a:custGeom>
            <a:solidFill>
              <a:srgbClr val="ff5050"/>
            </a:solidFill>
            <a:ln w="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6" name="Rechteck 11"/>
          <p:cNvSpPr/>
          <p:nvPr/>
        </p:nvSpPr>
        <p:spPr>
          <a:xfrm>
            <a:off x="2609280" y="5751360"/>
            <a:ext cx="5038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760019"/>
                </a:solidFill>
                <a:latin typeface="Palatino Linotype"/>
              </a:rPr>
              <a:t>express your love righ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uppieren 20"/>
          <p:cNvGrpSpPr/>
          <p:nvPr/>
        </p:nvGrpSpPr>
        <p:grpSpPr>
          <a:xfrm>
            <a:off x="2646360" y="1777680"/>
            <a:ext cx="4748040" cy="3162600"/>
            <a:chOff x="2646360" y="1777680"/>
            <a:chExt cx="4748040" cy="3162600"/>
          </a:xfrm>
        </p:grpSpPr>
        <p:sp>
          <p:nvSpPr>
            <p:cNvPr id="498" name="Freeform 15"/>
            <p:cNvSpPr/>
            <p:nvPr/>
          </p:nvSpPr>
          <p:spPr>
            <a:xfrm>
              <a:off x="2646360" y="1777680"/>
              <a:ext cx="4748040" cy="3162600"/>
            </a:xfrm>
            <a:custGeom>
              <a:avLst/>
              <a:gdLst>
                <a:gd name="textAreaLeft" fmla="*/ 0 w 4748040"/>
                <a:gd name="textAreaRight" fmla="*/ 4748400 w 4748040"/>
                <a:gd name="textAreaTop" fmla="*/ 0 h 3162600"/>
                <a:gd name="textAreaBottom" fmla="*/ 3162960 h 3162600"/>
              </a:gdLst>
              <a:ahLst/>
              <a:rect l="textAreaLeft" t="textAreaTop" r="textAreaRight" b="textAreaBottom"/>
              <a:pathLst>
                <a:path w="10017" h="10000">
                  <a:moveTo>
                    <a:pt x="4871" y="1885"/>
                  </a:moveTo>
                  <a:cubicBezTo>
                    <a:pt x="4871" y="1885"/>
                    <a:pt x="3169" y="-1088"/>
                    <a:pt x="698" y="434"/>
                  </a:cubicBezTo>
                  <a:cubicBezTo>
                    <a:pt x="-231" y="1294"/>
                    <a:pt x="47" y="2250"/>
                    <a:pt x="18" y="2477"/>
                  </a:cubicBezTo>
                  <a:cubicBezTo>
                    <a:pt x="-11" y="2703"/>
                    <a:pt x="-242" y="5304"/>
                    <a:pt x="4760" y="9808"/>
                  </a:cubicBezTo>
                  <a:cubicBezTo>
                    <a:pt x="4760" y="9808"/>
                    <a:pt x="4991" y="10086"/>
                    <a:pt x="5344" y="9973"/>
                  </a:cubicBezTo>
                  <a:cubicBezTo>
                    <a:pt x="5699" y="9860"/>
                    <a:pt x="8876" y="8237"/>
                    <a:pt x="9530" y="7095"/>
                  </a:cubicBezTo>
                  <a:cubicBezTo>
                    <a:pt x="10184" y="5953"/>
                    <a:pt x="10257" y="4387"/>
                    <a:pt x="9270" y="3123"/>
                  </a:cubicBezTo>
                  <a:cubicBezTo>
                    <a:pt x="7893" y="1230"/>
                    <a:pt x="6081" y="1525"/>
                    <a:pt x="5653" y="1825"/>
                  </a:cubicBezTo>
                  <a:cubicBezTo>
                    <a:pt x="5225" y="2125"/>
                    <a:pt x="5130" y="2303"/>
                    <a:pt x="4871" y="188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ff7878"/>
                </a:gs>
              </a:gsLst>
              <a:path path="circle">
                <a:fillToRect l="50000" t="50000" r="50000" b="50000"/>
              </a:path>
            </a:gradFill>
            <a:ln w="7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16"/>
            <p:cNvSpPr/>
            <p:nvPr/>
          </p:nvSpPr>
          <p:spPr>
            <a:xfrm>
              <a:off x="2693160" y="2464920"/>
              <a:ext cx="2428920" cy="2416680"/>
            </a:xfrm>
            <a:custGeom>
              <a:avLst/>
              <a:gdLst>
                <a:gd name="textAreaLeft" fmla="*/ 0 w 2428920"/>
                <a:gd name="textAreaRight" fmla="*/ 2429280 w 2428920"/>
                <a:gd name="textAreaTop" fmla="*/ 0 h 2416680"/>
                <a:gd name="textAreaBottom" fmla="*/ 2417040 h 2416680"/>
              </a:gdLst>
              <a:ahLst/>
              <a:rect l="textAreaLeft" t="textAreaTop" r="textAreaRight" b="textAreaBottom"/>
              <a:pathLst>
                <a:path w="883" h="879">
                  <a:moveTo>
                    <a:pt x="16" y="20"/>
                  </a:moveTo>
                  <a:cubicBezTo>
                    <a:pt x="16" y="20"/>
                    <a:pt x="277" y="470"/>
                    <a:pt x="883" y="805"/>
                  </a:cubicBezTo>
                  <a:cubicBezTo>
                    <a:pt x="883" y="805"/>
                    <a:pt x="861" y="879"/>
                    <a:pt x="836" y="879"/>
                  </a:cubicBezTo>
                  <a:cubicBezTo>
                    <a:pt x="815" y="879"/>
                    <a:pt x="140" y="438"/>
                    <a:pt x="9" y="111"/>
                  </a:cubicBezTo>
                  <a:cubicBezTo>
                    <a:pt x="9" y="111"/>
                    <a:pt x="0" y="0"/>
                    <a:pt x="16" y="20"/>
                  </a:cubicBezTo>
                  <a:close/>
                </a:path>
              </a:pathLst>
            </a:custGeom>
            <a:solidFill>
              <a:srgbClr val="ff9999"/>
            </a:solidFill>
            <a:ln w="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7"/>
            <p:cNvSpPr/>
            <p:nvPr/>
          </p:nvSpPr>
          <p:spPr>
            <a:xfrm>
              <a:off x="5104080" y="3928680"/>
              <a:ext cx="2095920" cy="975240"/>
            </a:xfrm>
            <a:custGeom>
              <a:avLst/>
              <a:gdLst>
                <a:gd name="textAreaLeft" fmla="*/ 0 w 2095920"/>
                <a:gd name="textAreaRight" fmla="*/ 2096280 w 2095920"/>
                <a:gd name="textAreaTop" fmla="*/ 0 h 975240"/>
                <a:gd name="textAreaBottom" fmla="*/ 975600 h 975240"/>
              </a:gdLst>
              <a:ahLst/>
              <a:rect l="textAreaLeft" t="textAreaTop" r="textAreaRight" b="textAreaBottom"/>
              <a:pathLst>
                <a:path w="10389" h="10433">
                  <a:moveTo>
                    <a:pt x="504" y="8198"/>
                  </a:moveTo>
                  <a:cubicBezTo>
                    <a:pt x="501" y="8216"/>
                    <a:pt x="7542" y="5000"/>
                    <a:pt x="10389" y="0"/>
                  </a:cubicBezTo>
                  <a:cubicBezTo>
                    <a:pt x="10389" y="0"/>
                    <a:pt x="9877" y="1786"/>
                    <a:pt x="9292" y="2727"/>
                  </a:cubicBezTo>
                  <a:cubicBezTo>
                    <a:pt x="8706" y="3668"/>
                    <a:pt x="5409" y="7845"/>
                    <a:pt x="0" y="10433"/>
                  </a:cubicBezTo>
                  <a:cubicBezTo>
                    <a:pt x="177" y="10051"/>
                    <a:pt x="507" y="8180"/>
                    <a:pt x="504" y="8198"/>
                  </a:cubicBezTo>
                  <a:close/>
                </a:path>
              </a:pathLst>
            </a:custGeom>
            <a:solidFill>
              <a:srgbClr val="ff5050"/>
            </a:solidFill>
            <a:ln w="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Textfeld 24"/>
          <p:cNvSpPr/>
          <p:nvPr/>
        </p:nvSpPr>
        <p:spPr>
          <a:xfrm>
            <a:off x="978480" y="2841840"/>
            <a:ext cx="4168440" cy="1064520"/>
          </a:xfrm>
          <a:prstGeom prst="rect">
            <a:avLst/>
          </a:prstGeom>
          <a:noFill/>
          <a:ln w="0">
            <a:noFill/>
          </a:ln>
          <a:effectLst>
            <a:outerShdw algn="bl" blurRad="76320" dir="2700000" dist="12218" kx="-800400" rotWithShape="0" sy="-2300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18990784" lon="19837807" rev="2070274"/>
              </a:camera>
              <a:lightRig dir="t" rig="threePt"/>
            </a:scene3d>
            <a:sp3d extrusionH="25400">
              <a:bevelT w="31750" h="38100"/>
              <a:bevelB w="38100" h="38100"/>
            </a:sp3d>
          </a:bodyPr>
          <a:p>
            <a:pPr algn="ctr">
              <a:lnSpc>
                <a:spcPct val="100000"/>
              </a:lnSpc>
            </a:pPr>
            <a:r>
              <a:rPr b="1" lang="de-DE" sz="3200" spc="-1" strike="noStrike">
                <a:solidFill>
                  <a:srgbClr val="663300"/>
                </a:solidFill>
                <a:latin typeface="Arial Black"/>
              </a:rPr>
              <a:t>Happy </a:t>
            </a:r>
            <a:r>
              <a:rPr b="1" lang="en-US" sz="3200" spc="-1" strike="noStrike">
                <a:solidFill>
                  <a:srgbClr val="663300"/>
                </a:solidFill>
                <a:latin typeface="Arial Black"/>
              </a:rPr>
              <a:t>Valentine‘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de-DE" sz="32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de-DE" sz="3200" spc="-1" strike="noStrike">
                <a:solidFill>
                  <a:srgbClr val="663300"/>
                </a:solidFill>
                <a:latin typeface="Arial Black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0169E-006 L 0.12621 -0.05667 E">
                                      <p:cBhvr>
                                        <p:cTn id="667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hteck 4"/>
          <p:cNvSpPr/>
          <p:nvPr/>
        </p:nvSpPr>
        <p:spPr>
          <a:xfrm>
            <a:off x="0" y="-2160"/>
            <a:ext cx="9143640" cy="10499400"/>
          </a:xfrm>
          <a:prstGeom prst="rect">
            <a:avLst/>
          </a:prstGeom>
          <a:gradFill rotWithShape="0">
            <a:gsLst>
              <a:gs pos="0">
                <a:srgbClr val="eec102"/>
              </a:gs>
              <a:gs pos="100000">
                <a:srgbClr val="600045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3" name="Rechteck 2"/>
          <p:cNvSpPr/>
          <p:nvPr/>
        </p:nvSpPr>
        <p:spPr>
          <a:xfrm>
            <a:off x="0" y="-2160"/>
            <a:ext cx="9143640" cy="10499400"/>
          </a:xfrm>
          <a:prstGeom prst="rect">
            <a:avLst/>
          </a:prstGeom>
          <a:gradFill rotWithShape="0">
            <a:gsLst>
              <a:gs pos="0">
                <a:srgbClr val="ffff8a"/>
              </a:gs>
              <a:gs pos="100000">
                <a:srgbClr val="ff9f9f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4" name="Ellipse 5"/>
          <p:cNvSpPr/>
          <p:nvPr/>
        </p:nvSpPr>
        <p:spPr>
          <a:xfrm>
            <a:off x="-612720" y="6021360"/>
            <a:ext cx="10368720" cy="2016000"/>
          </a:xfrm>
          <a:prstGeom prst="ellipse">
            <a:avLst/>
          </a:prstGeom>
          <a:gradFill rotWithShape="0">
            <a:gsLst>
              <a:gs pos="0">
                <a:srgbClr val="576d35"/>
              </a:gs>
              <a:gs pos="100000">
                <a:srgbClr val="181e0f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5" name="Ellipse 1"/>
          <p:cNvSpPr/>
          <p:nvPr/>
        </p:nvSpPr>
        <p:spPr>
          <a:xfrm>
            <a:off x="-612720" y="6021360"/>
            <a:ext cx="10368720" cy="2016000"/>
          </a:xfrm>
          <a:prstGeom prst="ellipse">
            <a:avLst/>
          </a:prstGeom>
          <a:gradFill rotWithShape="0">
            <a:gsLst>
              <a:gs pos="0">
                <a:srgbClr val="6c8642"/>
              </a:gs>
              <a:gs pos="100000">
                <a:srgbClr val="46572b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2952360" y="2421000"/>
            <a:ext cx="3195360" cy="3982680"/>
          </a:xfrm>
          <a:prstGeom prst="rect">
            <a:avLst/>
          </a:prstGeom>
          <a:ln w="0">
            <a:noFill/>
          </a:ln>
          <a:effectLst>
            <a:outerShdw algn="br" blurRad="177840" dir="0" kx="800400" rotWithShape="0" sy="-23000">
              <a:srgbClr val="000000">
                <a:alpha val="49000"/>
              </a:srgbClr>
            </a:outerShdw>
          </a:effectLst>
        </p:spPr>
      </p:pic>
      <p:sp>
        <p:nvSpPr>
          <p:cNvPr id="507" name="Textfeld 3"/>
          <p:cNvSpPr/>
          <p:nvPr/>
        </p:nvSpPr>
        <p:spPr>
          <a:xfrm>
            <a:off x="450360" y="548640"/>
            <a:ext cx="8346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6000" spc="-1" strike="noStrike">
                <a:solidFill>
                  <a:srgbClr val="ffffff"/>
                </a:solidFill>
                <a:latin typeface="Palatino Linotype"/>
              </a:rPr>
              <a:t>Happy </a:t>
            </a: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Valentine‘s</a:t>
            </a:r>
            <a:r>
              <a:rPr b="0" lang="de-DE" sz="6000" spc="-1" strike="noStrike">
                <a:solidFill>
                  <a:srgbClr val="ffffff"/>
                </a:solidFill>
                <a:latin typeface="Palatino Linotype"/>
              </a:rPr>
              <a:t>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eck 7"/>
          <p:cNvSpPr/>
          <p:nvPr/>
        </p:nvSpPr>
        <p:spPr>
          <a:xfrm>
            <a:off x="2744640" y="1564200"/>
            <a:ext cx="365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express your love righ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Ellipse 8"/>
          <p:cNvSpPr/>
          <p:nvPr/>
        </p:nvSpPr>
        <p:spPr>
          <a:xfrm>
            <a:off x="2483640" y="6093360"/>
            <a:ext cx="2520000" cy="4010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llipse 9"/>
          <p:cNvSpPr/>
          <p:nvPr/>
        </p:nvSpPr>
        <p:spPr>
          <a:xfrm>
            <a:off x="4068000" y="6123960"/>
            <a:ext cx="2871360" cy="42336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47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74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47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74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7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75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75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7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75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75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hteck 40"/>
          <p:cNvSpPr/>
          <p:nvPr/>
        </p:nvSpPr>
        <p:spPr>
          <a:xfrm>
            <a:off x="-2880" y="0"/>
            <a:ext cx="9143640" cy="8325360"/>
          </a:xfrm>
          <a:prstGeom prst="rect">
            <a:avLst/>
          </a:prstGeom>
          <a:gradFill rotWithShape="0">
            <a:gsLst>
              <a:gs pos="0">
                <a:srgbClr val="ffff8a"/>
              </a:gs>
              <a:gs pos="100000">
                <a:srgbClr val="ff999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3" name="Freeform 15"/>
          <p:cNvSpPr/>
          <p:nvPr/>
        </p:nvSpPr>
        <p:spPr>
          <a:xfrm rot="21403800">
            <a:off x="-343800" y="5128200"/>
            <a:ext cx="10296720" cy="2360880"/>
          </a:xfrm>
          <a:custGeom>
            <a:avLst/>
            <a:gdLst>
              <a:gd name="textAreaLeft" fmla="*/ 0 w 10296720"/>
              <a:gd name="textAreaRight" fmla="*/ 10297080 w 10296720"/>
              <a:gd name="textAreaTop" fmla="*/ 0 h 2360880"/>
              <a:gd name="textAreaBottom" fmla="*/ 2361240 h 2360880"/>
            </a:gdLst>
            <a:ahLst/>
            <a:rect l="textAreaLeft" t="textAreaTop" r="textAreaRight" b="textAreaBottom"/>
            <a:pathLst>
              <a:path w="2872" h="651">
                <a:moveTo>
                  <a:pt x="1833" y="99"/>
                </a:moveTo>
                <a:cubicBezTo>
                  <a:pt x="1573" y="108"/>
                  <a:pt x="1296" y="132"/>
                  <a:pt x="779" y="59"/>
                </a:cubicBezTo>
                <a:cubicBezTo>
                  <a:pt x="450" y="13"/>
                  <a:pt x="164" y="32"/>
                  <a:pt x="0" y="51"/>
                </a:cubicBezTo>
                <a:cubicBezTo>
                  <a:pt x="0" y="651"/>
                  <a:pt x="0" y="651"/>
                  <a:pt x="0" y="651"/>
                </a:cubicBezTo>
                <a:cubicBezTo>
                  <a:pt x="2872" y="651"/>
                  <a:pt x="2872" y="651"/>
                  <a:pt x="2872" y="651"/>
                </a:cubicBezTo>
                <a:cubicBezTo>
                  <a:pt x="2872" y="1"/>
                  <a:pt x="2872" y="1"/>
                  <a:pt x="2872" y="1"/>
                </a:cubicBezTo>
                <a:cubicBezTo>
                  <a:pt x="2456" y="0"/>
                  <a:pt x="2065" y="91"/>
                  <a:pt x="1833" y="99"/>
                </a:cubicBezTo>
                <a:close/>
              </a:path>
            </a:pathLst>
          </a:custGeom>
          <a:gradFill rotWithShape="0">
            <a:gsLst>
              <a:gs pos="0">
                <a:srgbClr val="1d3a6d"/>
              </a:gs>
              <a:gs pos="100000">
                <a:srgbClr val="3467c2"/>
              </a:gs>
            </a:gsLst>
            <a:lin ang="16002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16"/>
          <p:cNvSpPr/>
          <p:nvPr/>
        </p:nvSpPr>
        <p:spPr>
          <a:xfrm rot="233400">
            <a:off x="-2503440" y="4962960"/>
            <a:ext cx="12342240" cy="2660760"/>
          </a:xfrm>
          <a:custGeom>
            <a:avLst/>
            <a:gdLst>
              <a:gd name="textAreaLeft" fmla="*/ 0 w 12342240"/>
              <a:gd name="textAreaRight" fmla="*/ 12342600 w 12342240"/>
              <a:gd name="textAreaTop" fmla="*/ 0 h 2660760"/>
              <a:gd name="textAreaBottom" fmla="*/ 2661120 h 2660760"/>
            </a:gdLst>
            <a:ahLst/>
            <a:rect l="textAreaLeft" t="textAreaTop" r="textAreaRight" b="textAreaBottom"/>
            <a:pathLst>
              <a:path w="2872" h="847">
                <a:moveTo>
                  <a:pt x="1176" y="215"/>
                </a:moveTo>
                <a:cubicBezTo>
                  <a:pt x="989" y="272"/>
                  <a:pt x="572" y="264"/>
                  <a:pt x="337" y="215"/>
                </a:cubicBezTo>
                <a:cubicBezTo>
                  <a:pt x="198" y="186"/>
                  <a:pt x="76" y="161"/>
                  <a:pt x="0" y="145"/>
                </a:cubicBezTo>
                <a:cubicBezTo>
                  <a:pt x="0" y="766"/>
                  <a:pt x="0" y="766"/>
                  <a:pt x="0" y="766"/>
                </a:cubicBezTo>
                <a:cubicBezTo>
                  <a:pt x="164" y="747"/>
                  <a:pt x="450" y="728"/>
                  <a:pt x="779" y="774"/>
                </a:cubicBezTo>
                <a:cubicBezTo>
                  <a:pt x="1296" y="847"/>
                  <a:pt x="1573" y="823"/>
                  <a:pt x="1833" y="814"/>
                </a:cubicBezTo>
                <a:cubicBezTo>
                  <a:pt x="2065" y="806"/>
                  <a:pt x="2456" y="715"/>
                  <a:pt x="2872" y="716"/>
                </a:cubicBezTo>
                <a:cubicBezTo>
                  <a:pt x="2872" y="195"/>
                  <a:pt x="2872" y="195"/>
                  <a:pt x="2872" y="195"/>
                </a:cubicBezTo>
                <a:cubicBezTo>
                  <a:pt x="2313" y="0"/>
                  <a:pt x="1355" y="160"/>
                  <a:pt x="1176" y="215"/>
                </a:cubicBezTo>
                <a:close/>
              </a:path>
            </a:pathLst>
          </a:custGeom>
          <a:gradFill rotWithShape="0">
            <a:gsLst>
              <a:gs pos="0">
                <a:srgbClr val="1d3a6d"/>
              </a:gs>
              <a:gs pos="100000">
                <a:srgbClr val="3467c2"/>
              </a:gs>
            </a:gsLst>
            <a:lin ang="16428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37"/>
          <p:cNvSpPr/>
          <p:nvPr/>
        </p:nvSpPr>
        <p:spPr>
          <a:xfrm>
            <a:off x="4754880" y="3729960"/>
            <a:ext cx="2827080" cy="2388960"/>
          </a:xfrm>
          <a:custGeom>
            <a:avLst/>
            <a:gdLst>
              <a:gd name="textAreaLeft" fmla="*/ 0 w 2827080"/>
              <a:gd name="textAreaRight" fmla="*/ 2827440 w 2827080"/>
              <a:gd name="textAreaTop" fmla="*/ 0 h 2388960"/>
              <a:gd name="textAreaBottom" fmla="*/ 2389320 h 2388960"/>
            </a:gdLst>
            <a:ahLst/>
            <a:rect l="textAreaLeft" t="textAreaTop" r="textAreaRight" b="textAreaBottom"/>
            <a:pathLst>
              <a:path w="754" h="637">
                <a:moveTo>
                  <a:pt x="27" y="125"/>
                </a:moveTo>
                <a:cubicBezTo>
                  <a:pt x="27" y="125"/>
                  <a:pt x="18" y="158"/>
                  <a:pt x="35" y="156"/>
                </a:cubicBezTo>
                <a:cubicBezTo>
                  <a:pt x="42" y="155"/>
                  <a:pt x="35" y="188"/>
                  <a:pt x="35" y="188"/>
                </a:cubicBezTo>
                <a:cubicBezTo>
                  <a:pt x="35" y="188"/>
                  <a:pt x="13" y="299"/>
                  <a:pt x="53" y="209"/>
                </a:cubicBezTo>
                <a:cubicBezTo>
                  <a:pt x="53" y="209"/>
                  <a:pt x="72" y="179"/>
                  <a:pt x="78" y="173"/>
                </a:cubicBezTo>
                <a:cubicBezTo>
                  <a:pt x="85" y="168"/>
                  <a:pt x="108" y="154"/>
                  <a:pt x="107" y="138"/>
                </a:cubicBezTo>
                <a:cubicBezTo>
                  <a:pt x="105" y="122"/>
                  <a:pt x="154" y="109"/>
                  <a:pt x="166" y="149"/>
                </a:cubicBezTo>
                <a:cubicBezTo>
                  <a:pt x="177" y="188"/>
                  <a:pt x="167" y="239"/>
                  <a:pt x="145" y="277"/>
                </a:cubicBezTo>
                <a:cubicBezTo>
                  <a:pt x="123" y="315"/>
                  <a:pt x="0" y="402"/>
                  <a:pt x="24" y="555"/>
                </a:cubicBezTo>
                <a:cubicBezTo>
                  <a:pt x="33" y="617"/>
                  <a:pt x="64" y="628"/>
                  <a:pt x="185" y="628"/>
                </a:cubicBezTo>
                <a:cubicBezTo>
                  <a:pt x="305" y="628"/>
                  <a:pt x="656" y="637"/>
                  <a:pt x="667" y="598"/>
                </a:cubicBezTo>
                <a:cubicBezTo>
                  <a:pt x="677" y="560"/>
                  <a:pt x="679" y="573"/>
                  <a:pt x="682" y="576"/>
                </a:cubicBezTo>
                <a:cubicBezTo>
                  <a:pt x="684" y="580"/>
                  <a:pt x="693" y="540"/>
                  <a:pt x="698" y="515"/>
                </a:cubicBezTo>
                <a:cubicBezTo>
                  <a:pt x="702" y="489"/>
                  <a:pt x="708" y="525"/>
                  <a:pt x="715" y="473"/>
                </a:cubicBezTo>
                <a:cubicBezTo>
                  <a:pt x="722" y="420"/>
                  <a:pt x="754" y="354"/>
                  <a:pt x="749" y="330"/>
                </a:cubicBezTo>
                <a:cubicBezTo>
                  <a:pt x="743" y="306"/>
                  <a:pt x="747" y="373"/>
                  <a:pt x="696" y="362"/>
                </a:cubicBezTo>
                <a:cubicBezTo>
                  <a:pt x="645" y="350"/>
                  <a:pt x="465" y="246"/>
                  <a:pt x="311" y="382"/>
                </a:cubicBezTo>
                <a:cubicBezTo>
                  <a:pt x="156" y="518"/>
                  <a:pt x="160" y="569"/>
                  <a:pt x="159" y="466"/>
                </a:cubicBezTo>
                <a:cubicBezTo>
                  <a:pt x="159" y="363"/>
                  <a:pt x="280" y="302"/>
                  <a:pt x="260" y="183"/>
                </a:cubicBezTo>
                <a:cubicBezTo>
                  <a:pt x="239" y="64"/>
                  <a:pt x="154" y="0"/>
                  <a:pt x="82" y="52"/>
                </a:cubicBezTo>
                <a:cubicBezTo>
                  <a:pt x="10" y="104"/>
                  <a:pt x="27" y="125"/>
                  <a:pt x="27" y="125"/>
                </a:cubicBezTo>
                <a:close/>
              </a:path>
            </a:pathLst>
          </a:custGeom>
          <a:gradFill rotWithShape="0">
            <a:gsLst>
              <a:gs pos="53000">
                <a:srgbClr val="000000"/>
              </a:gs>
              <a:gs pos="100000">
                <a:srgbClr val="ffff68"/>
              </a:gs>
            </a:gsLst>
            <a:lin ang="18000000"/>
          </a:gradFill>
          <a:ln w="9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38"/>
          <p:cNvSpPr/>
          <p:nvPr/>
        </p:nvSpPr>
        <p:spPr>
          <a:xfrm>
            <a:off x="1574280" y="3500640"/>
            <a:ext cx="3313440" cy="2714400"/>
          </a:xfrm>
          <a:custGeom>
            <a:avLst/>
            <a:gdLst>
              <a:gd name="textAreaLeft" fmla="*/ 0 w 3313440"/>
              <a:gd name="textAreaRight" fmla="*/ 3313800 w 3313440"/>
              <a:gd name="textAreaTop" fmla="*/ 0 h 2714400"/>
              <a:gd name="textAreaBottom" fmla="*/ 2714760 h 2714400"/>
            </a:gdLst>
            <a:ahLst/>
            <a:rect l="textAreaLeft" t="textAreaTop" r="textAreaRight" b="textAreaBottom"/>
            <a:pathLst>
              <a:path w="806" h="660">
                <a:moveTo>
                  <a:pt x="784" y="130"/>
                </a:moveTo>
                <a:cubicBezTo>
                  <a:pt x="784" y="130"/>
                  <a:pt x="794" y="164"/>
                  <a:pt x="775" y="162"/>
                </a:cubicBezTo>
                <a:cubicBezTo>
                  <a:pt x="768" y="161"/>
                  <a:pt x="775" y="195"/>
                  <a:pt x="775" y="195"/>
                </a:cubicBezTo>
                <a:cubicBezTo>
                  <a:pt x="775" y="195"/>
                  <a:pt x="798" y="310"/>
                  <a:pt x="756" y="216"/>
                </a:cubicBezTo>
                <a:cubicBezTo>
                  <a:pt x="756" y="216"/>
                  <a:pt x="735" y="185"/>
                  <a:pt x="728" y="180"/>
                </a:cubicBezTo>
                <a:cubicBezTo>
                  <a:pt x="722" y="174"/>
                  <a:pt x="696" y="160"/>
                  <a:pt x="698" y="144"/>
                </a:cubicBezTo>
                <a:cubicBezTo>
                  <a:pt x="700" y="127"/>
                  <a:pt x="647" y="113"/>
                  <a:pt x="634" y="154"/>
                </a:cubicBezTo>
                <a:cubicBezTo>
                  <a:pt x="622" y="195"/>
                  <a:pt x="633" y="248"/>
                  <a:pt x="656" y="287"/>
                </a:cubicBezTo>
                <a:cubicBezTo>
                  <a:pt x="680" y="327"/>
                  <a:pt x="806" y="432"/>
                  <a:pt x="779" y="590"/>
                </a:cubicBezTo>
                <a:cubicBezTo>
                  <a:pt x="769" y="654"/>
                  <a:pt x="744" y="651"/>
                  <a:pt x="614" y="651"/>
                </a:cubicBezTo>
                <a:cubicBezTo>
                  <a:pt x="484" y="651"/>
                  <a:pt x="105" y="660"/>
                  <a:pt x="94" y="620"/>
                </a:cubicBezTo>
                <a:cubicBezTo>
                  <a:pt x="83" y="580"/>
                  <a:pt x="81" y="594"/>
                  <a:pt x="78" y="597"/>
                </a:cubicBezTo>
                <a:cubicBezTo>
                  <a:pt x="75" y="601"/>
                  <a:pt x="66" y="560"/>
                  <a:pt x="61" y="534"/>
                </a:cubicBezTo>
                <a:cubicBezTo>
                  <a:pt x="56" y="507"/>
                  <a:pt x="49" y="545"/>
                  <a:pt x="42" y="490"/>
                </a:cubicBezTo>
                <a:cubicBezTo>
                  <a:pt x="34" y="435"/>
                  <a:pt x="0" y="367"/>
                  <a:pt x="6" y="342"/>
                </a:cubicBezTo>
                <a:cubicBezTo>
                  <a:pt x="12" y="318"/>
                  <a:pt x="8" y="387"/>
                  <a:pt x="63" y="375"/>
                </a:cubicBezTo>
                <a:cubicBezTo>
                  <a:pt x="118" y="363"/>
                  <a:pt x="311" y="255"/>
                  <a:pt x="478" y="396"/>
                </a:cubicBezTo>
                <a:cubicBezTo>
                  <a:pt x="645" y="537"/>
                  <a:pt x="640" y="590"/>
                  <a:pt x="641" y="483"/>
                </a:cubicBezTo>
                <a:cubicBezTo>
                  <a:pt x="642" y="377"/>
                  <a:pt x="511" y="313"/>
                  <a:pt x="533" y="190"/>
                </a:cubicBezTo>
                <a:cubicBezTo>
                  <a:pt x="555" y="67"/>
                  <a:pt x="647" y="0"/>
                  <a:pt x="725" y="54"/>
                </a:cubicBezTo>
                <a:cubicBezTo>
                  <a:pt x="802" y="108"/>
                  <a:pt x="784" y="130"/>
                  <a:pt x="784" y="130"/>
                </a:cubicBezTo>
                <a:close/>
              </a:path>
            </a:pathLst>
          </a:custGeom>
          <a:gradFill rotWithShape="0">
            <a:gsLst>
              <a:gs pos="53000">
                <a:srgbClr val="000000"/>
              </a:gs>
              <a:gs pos="100000">
                <a:srgbClr val="ffff99"/>
              </a:gs>
            </a:gsLst>
            <a:lin ang="14400000"/>
          </a:gradFill>
          <a:ln w="9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15"/>
          <p:cNvSpPr/>
          <p:nvPr/>
        </p:nvSpPr>
        <p:spPr>
          <a:xfrm>
            <a:off x="-364320" y="5541120"/>
            <a:ext cx="10296720" cy="2360880"/>
          </a:xfrm>
          <a:custGeom>
            <a:avLst/>
            <a:gdLst>
              <a:gd name="textAreaLeft" fmla="*/ 0 w 10296720"/>
              <a:gd name="textAreaRight" fmla="*/ 10297080 w 10296720"/>
              <a:gd name="textAreaTop" fmla="*/ 0 h 2360880"/>
              <a:gd name="textAreaBottom" fmla="*/ 2361240 h 2360880"/>
            </a:gdLst>
            <a:ahLst/>
            <a:rect l="textAreaLeft" t="textAreaTop" r="textAreaRight" b="textAreaBottom"/>
            <a:pathLst>
              <a:path w="2872" h="651">
                <a:moveTo>
                  <a:pt x="1833" y="99"/>
                </a:moveTo>
                <a:cubicBezTo>
                  <a:pt x="1573" y="108"/>
                  <a:pt x="1296" y="132"/>
                  <a:pt x="779" y="59"/>
                </a:cubicBezTo>
                <a:cubicBezTo>
                  <a:pt x="450" y="13"/>
                  <a:pt x="164" y="32"/>
                  <a:pt x="0" y="51"/>
                </a:cubicBezTo>
                <a:cubicBezTo>
                  <a:pt x="0" y="651"/>
                  <a:pt x="0" y="651"/>
                  <a:pt x="0" y="651"/>
                </a:cubicBezTo>
                <a:cubicBezTo>
                  <a:pt x="2872" y="651"/>
                  <a:pt x="2872" y="651"/>
                  <a:pt x="2872" y="651"/>
                </a:cubicBezTo>
                <a:cubicBezTo>
                  <a:pt x="2872" y="1"/>
                  <a:pt x="2872" y="1"/>
                  <a:pt x="2872" y="1"/>
                </a:cubicBezTo>
                <a:cubicBezTo>
                  <a:pt x="2456" y="0"/>
                  <a:pt x="2065" y="91"/>
                  <a:pt x="1833" y="99"/>
                </a:cubicBezTo>
                <a:close/>
              </a:path>
            </a:pathLst>
          </a:custGeom>
          <a:gradFill rotWithShape="0">
            <a:gsLst>
              <a:gs pos="0">
                <a:srgbClr val="1d3a6d"/>
              </a:gs>
              <a:gs pos="100000">
                <a:srgbClr val="3467c2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feld 7"/>
          <p:cNvSpPr/>
          <p:nvPr/>
        </p:nvSpPr>
        <p:spPr>
          <a:xfrm>
            <a:off x="419040" y="789120"/>
            <a:ext cx="8346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6000" spc="-1" strike="noStrike">
                <a:solidFill>
                  <a:srgbClr val="760019"/>
                </a:solidFill>
                <a:latin typeface="Palatino Linotype"/>
              </a:rPr>
              <a:t>Happy </a:t>
            </a:r>
            <a:r>
              <a:rPr b="0" lang="en-US" sz="6000" spc="-1" strike="noStrike">
                <a:solidFill>
                  <a:srgbClr val="760019"/>
                </a:solidFill>
                <a:latin typeface="Palatino Linotype"/>
              </a:rPr>
              <a:t>Valentine‘s</a:t>
            </a:r>
            <a:r>
              <a:rPr b="0" lang="de-DE" sz="6000" spc="-1" strike="noStrike">
                <a:solidFill>
                  <a:srgbClr val="760019"/>
                </a:solidFill>
                <a:latin typeface="Palatino Linotype"/>
              </a:rPr>
              <a:t>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hteck 8"/>
          <p:cNvSpPr/>
          <p:nvPr/>
        </p:nvSpPr>
        <p:spPr>
          <a:xfrm>
            <a:off x="2744640" y="1804680"/>
            <a:ext cx="365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760019"/>
                </a:solidFill>
                <a:latin typeface="Palatino Linotype"/>
              </a:rPr>
              <a:t>express your love righ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6"/>
          <p:cNvSpPr/>
          <p:nvPr/>
        </p:nvSpPr>
        <p:spPr>
          <a:xfrm rot="21406800">
            <a:off x="-1051560" y="5837760"/>
            <a:ext cx="12217320" cy="2745360"/>
          </a:xfrm>
          <a:custGeom>
            <a:avLst/>
            <a:gdLst>
              <a:gd name="textAreaLeft" fmla="*/ 0 w 12217320"/>
              <a:gd name="textAreaRight" fmla="*/ 12217680 w 12217320"/>
              <a:gd name="textAreaTop" fmla="*/ 0 h 2745360"/>
              <a:gd name="textAreaBottom" fmla="*/ 2745720 h 2745360"/>
            </a:gdLst>
            <a:ahLst/>
            <a:rect l="textAreaLeft" t="textAreaTop" r="textAreaRight" b="textAreaBottom"/>
            <a:pathLst>
              <a:path w="2872" h="847">
                <a:moveTo>
                  <a:pt x="1176" y="215"/>
                </a:moveTo>
                <a:cubicBezTo>
                  <a:pt x="989" y="272"/>
                  <a:pt x="572" y="264"/>
                  <a:pt x="337" y="215"/>
                </a:cubicBezTo>
                <a:cubicBezTo>
                  <a:pt x="198" y="186"/>
                  <a:pt x="76" y="161"/>
                  <a:pt x="0" y="145"/>
                </a:cubicBezTo>
                <a:cubicBezTo>
                  <a:pt x="0" y="766"/>
                  <a:pt x="0" y="766"/>
                  <a:pt x="0" y="766"/>
                </a:cubicBezTo>
                <a:cubicBezTo>
                  <a:pt x="164" y="747"/>
                  <a:pt x="450" y="728"/>
                  <a:pt x="779" y="774"/>
                </a:cubicBezTo>
                <a:cubicBezTo>
                  <a:pt x="1296" y="847"/>
                  <a:pt x="1573" y="823"/>
                  <a:pt x="1833" y="814"/>
                </a:cubicBezTo>
                <a:cubicBezTo>
                  <a:pt x="2065" y="806"/>
                  <a:pt x="2456" y="715"/>
                  <a:pt x="2872" y="716"/>
                </a:cubicBezTo>
                <a:cubicBezTo>
                  <a:pt x="2872" y="195"/>
                  <a:pt x="2872" y="195"/>
                  <a:pt x="2872" y="195"/>
                </a:cubicBezTo>
                <a:cubicBezTo>
                  <a:pt x="2313" y="0"/>
                  <a:pt x="1355" y="160"/>
                  <a:pt x="1176" y="215"/>
                </a:cubicBezTo>
                <a:close/>
              </a:path>
            </a:pathLst>
          </a:custGeom>
          <a:gradFill rotWithShape="0">
            <a:gsLst>
              <a:gs pos="0">
                <a:srgbClr val="1d3a6d"/>
              </a:gs>
              <a:gs pos="100000">
                <a:srgbClr val="3467c2"/>
              </a:gs>
            </a:gsLst>
            <a:lin ang="16002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15"/>
          <p:cNvSpPr/>
          <p:nvPr/>
        </p:nvSpPr>
        <p:spPr>
          <a:xfrm rot="232200">
            <a:off x="-353880" y="6371640"/>
            <a:ext cx="10296720" cy="2360880"/>
          </a:xfrm>
          <a:custGeom>
            <a:avLst/>
            <a:gdLst>
              <a:gd name="textAreaLeft" fmla="*/ 0 w 10296720"/>
              <a:gd name="textAreaRight" fmla="*/ 10297080 w 10296720"/>
              <a:gd name="textAreaTop" fmla="*/ 0 h 2360880"/>
              <a:gd name="textAreaBottom" fmla="*/ 2361240 h 2360880"/>
            </a:gdLst>
            <a:ahLst/>
            <a:rect l="textAreaLeft" t="textAreaTop" r="textAreaRight" b="textAreaBottom"/>
            <a:pathLst>
              <a:path w="2872" h="651">
                <a:moveTo>
                  <a:pt x="1833" y="99"/>
                </a:moveTo>
                <a:cubicBezTo>
                  <a:pt x="1573" y="108"/>
                  <a:pt x="1296" y="132"/>
                  <a:pt x="779" y="59"/>
                </a:cubicBezTo>
                <a:cubicBezTo>
                  <a:pt x="450" y="13"/>
                  <a:pt x="164" y="32"/>
                  <a:pt x="0" y="51"/>
                </a:cubicBezTo>
                <a:cubicBezTo>
                  <a:pt x="0" y="651"/>
                  <a:pt x="0" y="651"/>
                  <a:pt x="0" y="651"/>
                </a:cubicBezTo>
                <a:cubicBezTo>
                  <a:pt x="2872" y="651"/>
                  <a:pt x="2872" y="651"/>
                  <a:pt x="2872" y="651"/>
                </a:cubicBezTo>
                <a:cubicBezTo>
                  <a:pt x="2872" y="1"/>
                  <a:pt x="2872" y="1"/>
                  <a:pt x="2872" y="1"/>
                </a:cubicBezTo>
                <a:cubicBezTo>
                  <a:pt x="2456" y="0"/>
                  <a:pt x="2065" y="91"/>
                  <a:pt x="1833" y="99"/>
                </a:cubicBezTo>
                <a:close/>
              </a:path>
            </a:pathLst>
          </a:custGeom>
          <a:gradFill rotWithShape="0">
            <a:gsLst>
              <a:gs pos="0">
                <a:srgbClr val="1d3a6d"/>
              </a:gs>
              <a:gs pos="100000">
                <a:srgbClr val="3467c2"/>
              </a:gs>
            </a:gsLst>
            <a:lin ang="16428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69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9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-300000">
                                      <p:cBhvr>
                                        <p:cTn id="700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1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300000">
                                      <p:cBhvr>
                                        <p:cTn id="702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autoRev="1" nodeType="withEffect" fill="hold" presetClass="emph" presetID="8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-300000">
                                      <p:cBhvr>
                                        <p:cTn id="704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706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2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2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hteck 4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e5e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23" name="Gruppieren 63"/>
          <p:cNvGrpSpPr/>
          <p:nvPr/>
        </p:nvGrpSpPr>
        <p:grpSpPr>
          <a:xfrm>
            <a:off x="4251960" y="5364000"/>
            <a:ext cx="711720" cy="2343240"/>
            <a:chOff x="4251960" y="5364000"/>
            <a:chExt cx="711720" cy="2343240"/>
          </a:xfrm>
        </p:grpSpPr>
        <p:sp>
          <p:nvSpPr>
            <p:cNvPr id="524" name="Ellipse 58"/>
            <p:cNvSpPr/>
            <p:nvPr/>
          </p:nvSpPr>
          <p:spPr>
            <a:xfrm>
              <a:off x="4251960" y="5364000"/>
              <a:ext cx="711720" cy="690480"/>
            </a:xfrm>
            <a:prstGeom prst="ellipse">
              <a:avLst/>
            </a:prstGeom>
            <a:gradFill rotWithShape="0">
              <a:gsLst>
                <a:gs pos="46000">
                  <a:srgbClr val="3f2611"/>
                </a:gs>
                <a:gs pos="100000">
                  <a:srgbClr val="5b3719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5" name="Ellipse 59"/>
            <p:cNvSpPr/>
            <p:nvPr/>
          </p:nvSpPr>
          <p:spPr>
            <a:xfrm>
              <a:off x="4429800" y="5605560"/>
              <a:ext cx="355680" cy="1338480"/>
            </a:xfrm>
            <a:prstGeom prst="ellipse">
              <a:avLst/>
            </a:prstGeom>
            <a:gradFill rotWithShape="0">
              <a:gsLst>
                <a:gs pos="46000">
                  <a:srgbClr val="3f2611"/>
                </a:gs>
                <a:gs pos="100000">
                  <a:srgbClr val="5b3719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6" name="Ellipse 60"/>
            <p:cNvSpPr/>
            <p:nvPr/>
          </p:nvSpPr>
          <p:spPr>
            <a:xfrm>
              <a:off x="4401720" y="6694560"/>
              <a:ext cx="412560" cy="243720"/>
            </a:xfrm>
            <a:prstGeom prst="ellipse">
              <a:avLst/>
            </a:prstGeom>
            <a:gradFill rotWithShape="0">
              <a:gsLst>
                <a:gs pos="46000">
                  <a:srgbClr val="3f2611"/>
                </a:gs>
                <a:gs pos="100000">
                  <a:srgbClr val="5b3719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7" name="Ellipse 61"/>
            <p:cNvSpPr/>
            <p:nvPr/>
          </p:nvSpPr>
          <p:spPr>
            <a:xfrm>
              <a:off x="4401720" y="6821280"/>
              <a:ext cx="412560" cy="243720"/>
            </a:xfrm>
            <a:prstGeom prst="ellipse">
              <a:avLst/>
            </a:prstGeom>
            <a:gradFill rotWithShape="0">
              <a:gsLst>
                <a:gs pos="46000">
                  <a:srgbClr val="3f2611"/>
                </a:gs>
                <a:gs pos="100000">
                  <a:srgbClr val="5b3719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8" name="Ellipse 62"/>
            <p:cNvSpPr/>
            <p:nvPr/>
          </p:nvSpPr>
          <p:spPr>
            <a:xfrm>
              <a:off x="4454280" y="6841080"/>
              <a:ext cx="306720" cy="866160"/>
            </a:xfrm>
            <a:prstGeom prst="ellipse">
              <a:avLst/>
            </a:prstGeom>
            <a:gradFill rotWithShape="0">
              <a:gsLst>
                <a:gs pos="46000">
                  <a:srgbClr val="3f2611"/>
                </a:gs>
                <a:gs pos="100000">
                  <a:srgbClr val="5b3719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29" name="Gruppieren 56"/>
          <p:cNvGrpSpPr/>
          <p:nvPr/>
        </p:nvGrpSpPr>
        <p:grpSpPr>
          <a:xfrm>
            <a:off x="3484080" y="3429000"/>
            <a:ext cx="2111400" cy="2793960"/>
            <a:chOff x="3484080" y="3429000"/>
            <a:chExt cx="2111400" cy="2793960"/>
          </a:xfrm>
        </p:grpSpPr>
        <p:grpSp>
          <p:nvGrpSpPr>
            <p:cNvPr id="530" name="Gruppieren 54"/>
            <p:cNvGrpSpPr/>
            <p:nvPr/>
          </p:nvGrpSpPr>
          <p:grpSpPr>
            <a:xfrm>
              <a:off x="3484080" y="3429000"/>
              <a:ext cx="2111400" cy="2793960"/>
              <a:chOff x="3484080" y="3429000"/>
              <a:chExt cx="2111400" cy="2793960"/>
            </a:xfrm>
          </p:grpSpPr>
          <p:sp>
            <p:nvSpPr>
              <p:cNvPr id="531" name="Rechteck 25"/>
              <p:cNvSpPr/>
              <p:nvPr/>
            </p:nvSpPr>
            <p:spPr>
              <a:xfrm>
                <a:off x="4106160" y="3429000"/>
                <a:ext cx="151920" cy="1120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5b371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" name="Rechteck 48"/>
              <p:cNvSpPr/>
              <p:nvPr/>
            </p:nvSpPr>
            <p:spPr>
              <a:xfrm>
                <a:off x="5435280" y="3429000"/>
                <a:ext cx="151920" cy="124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5b371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533" name="Gruppieren 53"/>
              <p:cNvGrpSpPr/>
              <p:nvPr/>
            </p:nvGrpSpPr>
            <p:grpSpPr>
              <a:xfrm>
                <a:off x="3484080" y="4673880"/>
                <a:ext cx="2111400" cy="1549080"/>
                <a:chOff x="3484080" y="4673880"/>
                <a:chExt cx="2111400" cy="1549080"/>
              </a:xfrm>
            </p:grpSpPr>
            <p:sp>
              <p:nvSpPr>
                <p:cNvPr id="534" name="Rechteck 49"/>
                <p:cNvSpPr/>
                <p:nvPr/>
              </p:nvSpPr>
              <p:spPr>
                <a:xfrm>
                  <a:off x="5443560" y="4673880"/>
                  <a:ext cx="151920" cy="1380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5b3719"/>
                    </a:gs>
                  </a:gsLst>
                  <a:lin ang="0"/>
                </a:gradFill>
                <a:ln>
                  <a:noFill/>
                </a:ln>
                <a:effectLst>
                  <a:outerShdw algn="bl" blurRad="76320" dir="0" kx="-1200000" rotWithShape="0" sy="23000">
                    <a:srgbClr val="000000">
                      <a:alpha val="2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e-DE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5" name="Rechteck 50"/>
                <p:cNvSpPr/>
                <p:nvPr/>
              </p:nvSpPr>
              <p:spPr>
                <a:xfrm>
                  <a:off x="4106160" y="4740840"/>
                  <a:ext cx="151920" cy="1191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5b3719"/>
                    </a:gs>
                  </a:gsLst>
                  <a:lin ang="0"/>
                </a:gradFill>
                <a:ln>
                  <a:noFill/>
                </a:ln>
                <a:effectLst>
                  <a:outerShdw algn="bl" blurRad="76320" dir="0" kx="-1200000" rotWithShape="0" sy="23000">
                    <a:srgbClr val="000000">
                      <a:alpha val="2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e-DE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6" name="Rechteck 51"/>
                <p:cNvSpPr/>
                <p:nvPr/>
              </p:nvSpPr>
              <p:spPr>
                <a:xfrm>
                  <a:off x="4823280" y="4766400"/>
                  <a:ext cx="151920" cy="1456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5b3719"/>
                    </a:gs>
                  </a:gsLst>
                  <a:lin ang="0"/>
                </a:gradFill>
                <a:ln>
                  <a:noFill/>
                </a:ln>
                <a:effectLst>
                  <a:outerShdw algn="bl" blurRad="76320" dir="0" kx="-1200000" rotWithShape="0" sy="23000">
                    <a:srgbClr val="000000">
                      <a:alpha val="2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e-DE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52"/>
                <p:cNvSpPr/>
                <p:nvPr/>
              </p:nvSpPr>
              <p:spPr>
                <a:xfrm>
                  <a:off x="3484080" y="4762080"/>
                  <a:ext cx="151920" cy="1380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5b3719"/>
                    </a:gs>
                  </a:gsLst>
                  <a:lin ang="0"/>
                </a:gradFill>
                <a:ln>
                  <a:noFill/>
                </a:ln>
                <a:effectLst>
                  <a:outerShdw algn="bl" blurRad="76320" dir="0" kx="-1200000" rotWithShape="0" sy="23000">
                    <a:srgbClr val="000000">
                      <a:alpha val="2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e-DE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38" name="Rechteck 55"/>
            <p:cNvSpPr/>
            <p:nvPr/>
          </p:nvSpPr>
          <p:spPr>
            <a:xfrm>
              <a:off x="3612960" y="3786840"/>
              <a:ext cx="1825560" cy="1638000"/>
            </a:xfrm>
            <a:prstGeom prst="rect">
              <a:avLst/>
            </a:prstGeom>
            <a:gradFill rotWithShape="0">
              <a:gsLst>
                <a:gs pos="85000">
                  <a:srgbClr val="5b3719"/>
                </a:gs>
                <a:gs pos="100000">
                  <a:srgbClr val="9f602c"/>
                </a:gs>
              </a:gsLst>
              <a:lin ang="5400000"/>
            </a:gradFill>
            <a:ln>
              <a:noFill/>
            </a:ln>
            <a:scene3d>
              <a:camera prst="orthographicFront">
                <a:rot lat="17722528" lon="4764015" rev="16800000"/>
              </a:camera>
              <a:lightRig dir="t" rig="threePt"/>
            </a:scene3d>
            <a:sp3d extrusionH="82550">
              <a:bevelT prst="artDeco" w="177800" h="107950"/>
              <a:bevelB w="1143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39" name="Abgerundetes Rechteck 12"/>
          <p:cNvSpPr/>
          <p:nvPr/>
        </p:nvSpPr>
        <p:spPr>
          <a:xfrm>
            <a:off x="3823200" y="3157200"/>
            <a:ext cx="1972800" cy="962280"/>
          </a:xfrm>
          <a:prstGeom prst="roundRect">
            <a:avLst>
              <a:gd name="adj" fmla="val 44726"/>
            </a:avLst>
          </a:prstGeom>
          <a:solidFill>
            <a:srgbClr val="361224"/>
          </a:solidFill>
          <a:ln>
            <a:noFill/>
          </a:ln>
          <a:scene3d>
            <a:camera prst="orthographicFront"/>
            <a:lightRig dir="t" rig="threePt"/>
          </a:scene3d>
          <a:sp3d>
            <a:bevelT w="114300" h="1143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0" name="Ellipse 10"/>
          <p:cNvSpPr/>
          <p:nvPr/>
        </p:nvSpPr>
        <p:spPr>
          <a:xfrm>
            <a:off x="1043640" y="2687040"/>
            <a:ext cx="7200360" cy="5164560"/>
          </a:xfrm>
          <a:prstGeom prst="ellipse">
            <a:avLst/>
          </a:prstGeom>
          <a:gradFill rotWithShape="0">
            <a:gsLst>
              <a:gs pos="0">
                <a:srgbClr val="634221"/>
              </a:gs>
              <a:gs pos="100000">
                <a:srgbClr val="392613"/>
              </a:gs>
            </a:gsLst>
            <a:path path="circle">
              <a:fillToRect l="50000" t="50000" r="50000" b="50000"/>
            </a:path>
          </a:gradFill>
          <a:ln>
            <a:solidFill>
              <a:srgbClr val="000000"/>
            </a:solidFill>
            <a:round/>
          </a:ln>
          <a:scene3d>
            <a:camera prst="perspectiveRelaxed">
              <a:rot lat="17673603" lon="0" rev="0"/>
            </a:camera>
            <a:lightRig dir="t" rig="threePt">
              <a:rot lat="0" lon="0" rev="7200000"/>
            </a:lightRig>
          </a:scene3d>
          <a:sp3d extrusionH="69850">
            <a:bevelT w="31750"/>
            <a:bevelB h="38100"/>
            <a:extrusionClr>
              <a:schemeClr val="accent6">
                <a:lumMod val="50000"/>
              </a:schemeClr>
            </a:extrusion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1" name="Abgerundetes Rechteck 11"/>
          <p:cNvSpPr/>
          <p:nvPr/>
        </p:nvSpPr>
        <p:spPr>
          <a:xfrm>
            <a:off x="2774880" y="5709600"/>
            <a:ext cx="3717000" cy="1656000"/>
          </a:xfrm>
          <a:prstGeom prst="roundRect">
            <a:avLst>
              <a:gd name="adj" fmla="val 39755"/>
            </a:avLst>
          </a:prstGeom>
          <a:solidFill>
            <a:srgbClr val="361224"/>
          </a:solidFill>
          <a:ln>
            <a:noFill/>
          </a:ln>
          <a:scene3d>
            <a:camera prst="orthographicFront"/>
            <a:lightRig dir="t" rig="threePt"/>
          </a:scene3d>
          <a:sp3d>
            <a:bevelT w="114300" h="1143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2" name="Ellipse 33"/>
          <p:cNvSpPr/>
          <p:nvPr/>
        </p:nvSpPr>
        <p:spPr>
          <a:xfrm>
            <a:off x="3451320" y="4961160"/>
            <a:ext cx="2128680" cy="8438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Line 6"/>
          <p:cNvSpPr/>
          <p:nvPr/>
        </p:nvSpPr>
        <p:spPr>
          <a:xfrm flipV="1">
            <a:off x="4634280" y="3204000"/>
            <a:ext cx="360" cy="82800"/>
          </a:xfrm>
          <a:prstGeom prst="line">
            <a:avLst/>
          </a:prstGeom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tIns="41040" bIns="41040" anchor="t" anchorCtr="1">
            <a:noAutofit/>
          </a:bodyPr>
          <a:p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12"/>
          <p:cNvSpPr/>
          <p:nvPr/>
        </p:nvSpPr>
        <p:spPr>
          <a:xfrm>
            <a:off x="4329720" y="4415400"/>
            <a:ext cx="610200" cy="1018800"/>
          </a:xfrm>
          <a:custGeom>
            <a:avLst/>
            <a:gdLst>
              <a:gd name="textAreaLeft" fmla="*/ 0 w 610200"/>
              <a:gd name="textAreaRight" fmla="*/ 610560 w 610200"/>
              <a:gd name="textAreaTop" fmla="*/ 0 h 1018800"/>
              <a:gd name="textAreaBottom" fmla="*/ 1019160 h 1018800"/>
            </a:gdLst>
            <a:ahLst/>
            <a:rect l="textAreaLeft" t="textAreaTop" r="textAreaRight" b="textAreaBottom"/>
            <a:pathLst>
              <a:path w="178" h="297">
                <a:moveTo>
                  <a:pt x="134" y="228"/>
                </a:moveTo>
                <a:cubicBezTo>
                  <a:pt x="136" y="225"/>
                  <a:pt x="137" y="220"/>
                  <a:pt x="137" y="216"/>
                </a:cubicBezTo>
                <a:cubicBezTo>
                  <a:pt x="137" y="202"/>
                  <a:pt x="127" y="189"/>
                  <a:pt x="111" y="183"/>
                </a:cubicBezTo>
                <a:cubicBezTo>
                  <a:pt x="117" y="163"/>
                  <a:pt x="121" y="136"/>
                  <a:pt x="121" y="107"/>
                </a:cubicBezTo>
                <a:cubicBezTo>
                  <a:pt x="121" y="48"/>
                  <a:pt x="107" y="0"/>
                  <a:pt x="89" y="0"/>
                </a:cubicBezTo>
                <a:cubicBezTo>
                  <a:pt x="71" y="0"/>
                  <a:pt x="57" y="48"/>
                  <a:pt x="57" y="107"/>
                </a:cubicBezTo>
                <a:cubicBezTo>
                  <a:pt x="57" y="136"/>
                  <a:pt x="60" y="163"/>
                  <a:pt x="66" y="183"/>
                </a:cubicBezTo>
                <a:cubicBezTo>
                  <a:pt x="51" y="189"/>
                  <a:pt x="41" y="202"/>
                  <a:pt x="41" y="216"/>
                </a:cubicBezTo>
                <a:cubicBezTo>
                  <a:pt x="41" y="220"/>
                  <a:pt x="42" y="225"/>
                  <a:pt x="43" y="228"/>
                </a:cubicBezTo>
                <a:cubicBezTo>
                  <a:pt x="17" y="235"/>
                  <a:pt x="0" y="247"/>
                  <a:pt x="0" y="260"/>
                </a:cubicBezTo>
                <a:cubicBezTo>
                  <a:pt x="0" y="280"/>
                  <a:pt x="40" y="297"/>
                  <a:pt x="89" y="297"/>
                </a:cubicBezTo>
                <a:cubicBezTo>
                  <a:pt x="138" y="297"/>
                  <a:pt x="178" y="280"/>
                  <a:pt x="178" y="260"/>
                </a:cubicBezTo>
                <a:cubicBezTo>
                  <a:pt x="178" y="247"/>
                  <a:pt x="160" y="235"/>
                  <a:pt x="134" y="228"/>
                </a:cubicBezTo>
                <a:close/>
              </a:path>
            </a:pathLst>
          </a:custGeom>
          <a:solidFill>
            <a:srgbClr val="b2b2b2"/>
          </a:solidFill>
          <a:ln w="41">
            <a:noFill/>
          </a:ln>
          <a:effectLst>
            <a:outerShdw algn="t" blurRad="355680" dir="5400000" dist="255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Oval 13"/>
          <p:cNvSpPr/>
          <p:nvPr/>
        </p:nvSpPr>
        <p:spPr>
          <a:xfrm>
            <a:off x="4460400" y="4333320"/>
            <a:ext cx="349200" cy="140400"/>
          </a:xfrm>
          <a:prstGeom prst="ellipse">
            <a:avLst/>
          </a:prstGeom>
          <a:solidFill>
            <a:srgbClr val="646464"/>
          </a:solidFill>
          <a:ln w="41">
            <a:noFill/>
          </a:ln>
          <a:effectLst>
            <a:outerShdw algn="t" blurRad="216000" dir="5400000" dist="11448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Oval 14"/>
          <p:cNvSpPr/>
          <p:nvPr/>
        </p:nvSpPr>
        <p:spPr>
          <a:xfrm>
            <a:off x="4367520" y="4278240"/>
            <a:ext cx="534600" cy="136800"/>
          </a:xfrm>
          <a:prstGeom prst="ellipse">
            <a:avLst/>
          </a:prstGeom>
          <a:solidFill>
            <a:srgbClr val="b2b2b2"/>
          </a:solidFill>
          <a:ln w="41">
            <a:noFill/>
          </a:ln>
          <a:effectLst>
            <a:outerShdw algn="t" blurRad="38160" dir="5400000" dist="3816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Oval 15"/>
          <p:cNvSpPr/>
          <p:nvPr/>
        </p:nvSpPr>
        <p:spPr>
          <a:xfrm>
            <a:off x="4505040" y="4291920"/>
            <a:ext cx="259920" cy="57960"/>
          </a:xfrm>
          <a:prstGeom prst="ellipse">
            <a:avLst/>
          </a:prstGeom>
          <a:solidFill>
            <a:srgbClr val="646464"/>
          </a:solidFill>
          <a:ln w="41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Bogen 6"/>
          <p:cNvSpPr/>
          <p:nvPr/>
        </p:nvSpPr>
        <p:spPr>
          <a:xfrm rot="15988200">
            <a:off x="4442040" y="5125680"/>
            <a:ext cx="151200" cy="342720"/>
          </a:xfrm>
          <a:prstGeom prst="arc">
            <a:avLst>
              <a:gd name="adj1" fmla="val 14291704"/>
              <a:gd name="adj2" fmla="val 0"/>
            </a:avLst>
          </a:prstGeom>
          <a:noFill/>
          <a:ln>
            <a:solidFill>
              <a:srgbClr val="eaeae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Bogen 30"/>
          <p:cNvSpPr/>
          <p:nvPr/>
        </p:nvSpPr>
        <p:spPr>
          <a:xfrm rot="16200000">
            <a:off x="4186440" y="4586040"/>
            <a:ext cx="1089360" cy="342720"/>
          </a:xfrm>
          <a:prstGeom prst="arc">
            <a:avLst>
              <a:gd name="adj1" fmla="val 12461042"/>
              <a:gd name="adj2" fmla="val 19709343"/>
            </a:avLst>
          </a:prstGeom>
          <a:noFill/>
          <a:ln>
            <a:solidFill>
              <a:srgbClr val="eaeae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Bogen 31"/>
          <p:cNvSpPr/>
          <p:nvPr/>
        </p:nvSpPr>
        <p:spPr>
          <a:xfrm rot="17202600">
            <a:off x="4510440" y="5059440"/>
            <a:ext cx="146520" cy="171000"/>
          </a:xfrm>
          <a:prstGeom prst="arc">
            <a:avLst>
              <a:gd name="adj1" fmla="val 12461042"/>
              <a:gd name="adj2" fmla="val 19709343"/>
            </a:avLst>
          </a:prstGeom>
          <a:noFill/>
          <a:ln>
            <a:solidFill>
              <a:srgbClr val="eaeae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Bogen 32"/>
          <p:cNvSpPr/>
          <p:nvPr/>
        </p:nvSpPr>
        <p:spPr>
          <a:xfrm rot="15607800">
            <a:off x="4440600" y="4247280"/>
            <a:ext cx="83160" cy="171000"/>
          </a:xfrm>
          <a:prstGeom prst="arc">
            <a:avLst>
              <a:gd name="adj1" fmla="val 12461042"/>
              <a:gd name="adj2" fmla="val 17575659"/>
            </a:avLst>
          </a:prstGeom>
          <a:noFill/>
          <a:ln>
            <a:solidFill>
              <a:srgbClr val="eaeae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Abgerundetes Rechteck 24"/>
          <p:cNvSpPr/>
          <p:nvPr/>
        </p:nvSpPr>
        <p:spPr>
          <a:xfrm>
            <a:off x="4555080" y="3267720"/>
            <a:ext cx="159840" cy="107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ee6"/>
              </a:gs>
              <a:gs pos="100000">
                <a:srgbClr val="ffac83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3" name="Ellipse 1"/>
          <p:cNvSpPr/>
          <p:nvPr/>
        </p:nvSpPr>
        <p:spPr>
          <a:xfrm>
            <a:off x="4129200" y="2686320"/>
            <a:ext cx="1044720" cy="97020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54" name="Gruppieren 66"/>
          <p:cNvGrpSpPr/>
          <p:nvPr/>
        </p:nvGrpSpPr>
        <p:grpSpPr>
          <a:xfrm>
            <a:off x="940680" y="454320"/>
            <a:ext cx="7519320" cy="1450800"/>
            <a:chOff x="940680" y="454320"/>
            <a:chExt cx="7519320" cy="1450800"/>
          </a:xfrm>
        </p:grpSpPr>
        <p:sp>
          <p:nvSpPr>
            <p:cNvPr id="555" name="Textfeld 37"/>
            <p:cNvSpPr/>
            <p:nvPr/>
          </p:nvSpPr>
          <p:spPr>
            <a:xfrm>
              <a:off x="940680" y="454320"/>
              <a:ext cx="75193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000000"/>
                  </a:solidFill>
                  <a:latin typeface="Palatino Linotype"/>
                </a:rPr>
                <a:t>Happy Valentine‘s Day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hteck 38"/>
            <p:cNvSpPr/>
            <p:nvPr/>
          </p:nvSpPr>
          <p:spPr>
            <a:xfrm>
              <a:off x="4635360" y="1510560"/>
              <a:ext cx="36543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express your love right her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Ellipse 42"/>
          <p:cNvSpPr/>
          <p:nvPr/>
        </p:nvSpPr>
        <p:spPr>
          <a:xfrm>
            <a:off x="4525560" y="308628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8" name="Ellipse 43"/>
          <p:cNvSpPr/>
          <p:nvPr/>
        </p:nvSpPr>
        <p:spPr>
          <a:xfrm>
            <a:off x="4572000" y="306900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9" name="Ellipse 44"/>
          <p:cNvSpPr/>
          <p:nvPr/>
        </p:nvSpPr>
        <p:spPr>
          <a:xfrm>
            <a:off x="4500000" y="299700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0" name="Ellipse 45"/>
          <p:cNvSpPr/>
          <p:nvPr/>
        </p:nvSpPr>
        <p:spPr>
          <a:xfrm>
            <a:off x="4518000" y="308376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61" name="Gruppieren 80"/>
          <p:cNvGrpSpPr/>
          <p:nvPr/>
        </p:nvGrpSpPr>
        <p:grpSpPr>
          <a:xfrm>
            <a:off x="4876560" y="2822760"/>
            <a:ext cx="703080" cy="1778040"/>
            <a:chOff x="4876560" y="2822760"/>
            <a:chExt cx="703080" cy="1778040"/>
          </a:xfrm>
        </p:grpSpPr>
        <p:sp>
          <p:nvSpPr>
            <p:cNvPr id="562" name="Freeform 21"/>
            <p:cNvSpPr/>
            <p:nvPr/>
          </p:nvSpPr>
          <p:spPr>
            <a:xfrm>
              <a:off x="4876560" y="2822760"/>
              <a:ext cx="703080" cy="177372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1773720"/>
                <a:gd name="textAreaBottom" fmla="*/ 1774080 h 1773720"/>
              </a:gdLst>
              <a:ahLst/>
              <a:rect l="textAreaLeft" t="textAreaTop" r="textAreaRight" b="textAreaBottom"/>
              <a:pathLst>
                <a:path w="685" h="1728">
                  <a:moveTo>
                    <a:pt x="570" y="807"/>
                  </a:moveTo>
                  <a:cubicBezTo>
                    <a:pt x="458" y="632"/>
                    <a:pt x="439" y="539"/>
                    <a:pt x="431" y="415"/>
                  </a:cubicBezTo>
                  <a:cubicBezTo>
                    <a:pt x="424" y="320"/>
                    <a:pt x="423" y="4"/>
                    <a:pt x="423" y="4"/>
                  </a:cubicBezTo>
                  <a:cubicBezTo>
                    <a:pt x="423" y="3"/>
                    <a:pt x="424" y="1"/>
                    <a:pt x="424" y="0"/>
                  </a:cubicBezTo>
                  <a:cubicBezTo>
                    <a:pt x="348" y="12"/>
                    <a:pt x="289" y="5"/>
                    <a:pt x="259" y="0"/>
                  </a:cubicBezTo>
                  <a:cubicBezTo>
                    <a:pt x="260" y="2"/>
                    <a:pt x="261" y="4"/>
                    <a:pt x="261" y="4"/>
                  </a:cubicBezTo>
                  <a:cubicBezTo>
                    <a:pt x="261" y="4"/>
                    <a:pt x="260" y="323"/>
                    <a:pt x="255" y="418"/>
                  </a:cubicBezTo>
                  <a:cubicBezTo>
                    <a:pt x="247" y="541"/>
                    <a:pt x="228" y="634"/>
                    <a:pt x="113" y="810"/>
                  </a:cubicBezTo>
                  <a:cubicBezTo>
                    <a:pt x="0" y="985"/>
                    <a:pt x="83" y="1564"/>
                    <a:pt x="85" y="1646"/>
                  </a:cubicBezTo>
                  <a:cubicBezTo>
                    <a:pt x="88" y="1728"/>
                    <a:pt x="343" y="1728"/>
                    <a:pt x="343" y="1728"/>
                  </a:cubicBezTo>
                  <a:cubicBezTo>
                    <a:pt x="343" y="1728"/>
                    <a:pt x="595" y="1723"/>
                    <a:pt x="601" y="1643"/>
                  </a:cubicBezTo>
                  <a:cubicBezTo>
                    <a:pt x="603" y="1564"/>
                    <a:pt x="685" y="985"/>
                    <a:pt x="570" y="807"/>
                  </a:cubicBezTo>
                  <a:close/>
                </a:path>
              </a:pathLst>
            </a:custGeom>
            <a:gradFill rotWithShape="0">
              <a:gsLst>
                <a:gs pos="36000">
                  <a:srgbClr val="0e1107"/>
                </a:gs>
                <a:gs pos="100000">
                  <a:srgbClr val="2a3315"/>
                </a:gs>
              </a:gsLst>
              <a:lin ang="12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3"/>
            <p:cNvSpPr/>
            <p:nvPr/>
          </p:nvSpPr>
          <p:spPr>
            <a:xfrm>
              <a:off x="4930920" y="3381480"/>
              <a:ext cx="209160" cy="11224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122480"/>
                <a:gd name="textAreaBottom" fmla="*/ 1122840 h 1122480"/>
              </a:gdLst>
              <a:ahLst/>
              <a:rect l="textAreaLeft" t="textAreaTop" r="textAreaRight" b="textAreaBottom"/>
              <a:pathLst>
                <a:path w="204" h="1094">
                  <a:moveTo>
                    <a:pt x="204" y="0"/>
                  </a:moveTo>
                  <a:cubicBezTo>
                    <a:pt x="204" y="0"/>
                    <a:pt x="157" y="186"/>
                    <a:pt x="124" y="314"/>
                  </a:cubicBezTo>
                  <a:cubicBezTo>
                    <a:pt x="98" y="414"/>
                    <a:pt x="90" y="783"/>
                    <a:pt x="93" y="1094"/>
                  </a:cubicBezTo>
                  <a:cubicBezTo>
                    <a:pt x="56" y="1077"/>
                    <a:pt x="56" y="1077"/>
                    <a:pt x="56" y="1077"/>
                  </a:cubicBezTo>
                  <a:cubicBezTo>
                    <a:pt x="56" y="1077"/>
                    <a:pt x="0" y="487"/>
                    <a:pt x="77" y="306"/>
                  </a:cubicBezTo>
                  <a:cubicBezTo>
                    <a:pt x="154" y="126"/>
                    <a:pt x="191" y="70"/>
                    <a:pt x="20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4"/>
            <p:cNvSpPr/>
            <p:nvPr/>
          </p:nvSpPr>
          <p:spPr>
            <a:xfrm>
              <a:off x="5383080" y="3592440"/>
              <a:ext cx="151560" cy="8060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148" h="785">
                  <a:moveTo>
                    <a:pt x="0" y="0"/>
                  </a:moveTo>
                  <a:cubicBezTo>
                    <a:pt x="0" y="0"/>
                    <a:pt x="54" y="116"/>
                    <a:pt x="27" y="785"/>
                  </a:cubicBezTo>
                  <a:cubicBezTo>
                    <a:pt x="71" y="772"/>
                    <a:pt x="71" y="772"/>
                    <a:pt x="71" y="772"/>
                  </a:cubicBezTo>
                  <a:cubicBezTo>
                    <a:pt x="71" y="772"/>
                    <a:pt x="148" y="17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5"/>
            <p:cNvSpPr/>
            <p:nvPr/>
          </p:nvSpPr>
          <p:spPr>
            <a:xfrm>
              <a:off x="5144040" y="2848320"/>
              <a:ext cx="61200" cy="5788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60" h="564">
                  <a:moveTo>
                    <a:pt x="17" y="14"/>
                  </a:moveTo>
                  <a:cubicBezTo>
                    <a:pt x="17" y="14"/>
                    <a:pt x="34" y="0"/>
                    <a:pt x="47" y="3"/>
                  </a:cubicBezTo>
                  <a:cubicBezTo>
                    <a:pt x="60" y="5"/>
                    <a:pt x="30" y="340"/>
                    <a:pt x="30" y="340"/>
                  </a:cubicBezTo>
                  <a:cubicBezTo>
                    <a:pt x="30" y="340"/>
                    <a:pt x="13" y="474"/>
                    <a:pt x="12" y="482"/>
                  </a:cubicBezTo>
                  <a:cubicBezTo>
                    <a:pt x="0" y="564"/>
                    <a:pt x="17" y="14"/>
                    <a:pt x="17" y="1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6"/>
            <p:cNvSpPr/>
            <p:nvPr/>
          </p:nvSpPr>
          <p:spPr>
            <a:xfrm>
              <a:off x="4972320" y="4480920"/>
              <a:ext cx="514800" cy="11988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02" h="117">
                  <a:moveTo>
                    <a:pt x="0" y="0"/>
                  </a:moveTo>
                  <a:cubicBezTo>
                    <a:pt x="0" y="0"/>
                    <a:pt x="215" y="117"/>
                    <a:pt x="486" y="2"/>
                  </a:cubicBezTo>
                  <a:cubicBezTo>
                    <a:pt x="486" y="2"/>
                    <a:pt x="502" y="58"/>
                    <a:pt x="365" y="82"/>
                  </a:cubicBezTo>
                  <a:cubicBezTo>
                    <a:pt x="175" y="115"/>
                    <a:pt x="55" y="93"/>
                    <a:pt x="0" y="0"/>
                  </a:cubicBezTo>
                  <a:close/>
                </a:path>
              </a:pathLst>
            </a:custGeom>
            <a:solidFill>
              <a:srgbClr val="1e2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7" name="Gruppieren 119"/>
          <p:cNvGrpSpPr/>
          <p:nvPr/>
        </p:nvGrpSpPr>
        <p:grpSpPr>
          <a:xfrm>
            <a:off x="5909400" y="3573000"/>
            <a:ext cx="274320" cy="967680"/>
            <a:chOff x="5909400" y="3573000"/>
            <a:chExt cx="274320" cy="967680"/>
          </a:xfrm>
        </p:grpSpPr>
        <p:grpSp>
          <p:nvGrpSpPr>
            <p:cNvPr id="568" name="Gruppieren 67"/>
            <p:cNvGrpSpPr/>
            <p:nvPr/>
          </p:nvGrpSpPr>
          <p:grpSpPr>
            <a:xfrm>
              <a:off x="5909400" y="3573000"/>
              <a:ext cx="274320" cy="967680"/>
              <a:chOff x="5909400" y="3573000"/>
              <a:chExt cx="274320" cy="967680"/>
            </a:xfrm>
          </p:grpSpPr>
          <p:sp>
            <p:nvSpPr>
              <p:cNvPr id="569" name="Freeform 10"/>
              <p:cNvSpPr/>
              <p:nvPr/>
            </p:nvSpPr>
            <p:spPr>
              <a:xfrm>
                <a:off x="5950080" y="3573000"/>
                <a:ext cx="187200" cy="453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49" h="61">
                    <a:moveTo>
                      <a:pt x="249" y="20"/>
                    </a:moveTo>
                    <a:cubicBezTo>
                      <a:pt x="249" y="19"/>
                      <a:pt x="249" y="18"/>
                      <a:pt x="249" y="17"/>
                    </a:cubicBezTo>
                    <a:cubicBezTo>
                      <a:pt x="249" y="17"/>
                      <a:pt x="221" y="0"/>
                      <a:pt x="140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36" y="0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1"/>
                    </a:cubicBezTo>
                    <a:cubicBezTo>
                      <a:pt x="53" y="42"/>
                      <a:pt x="143" y="61"/>
                      <a:pt x="249" y="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e4f0f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12"/>
              <p:cNvSpPr/>
              <p:nvPr/>
            </p:nvSpPr>
            <p:spPr>
              <a:xfrm>
                <a:off x="5913360" y="3684240"/>
                <a:ext cx="261720" cy="38520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348" h="512">
                    <a:moveTo>
                      <a:pt x="328" y="15"/>
                    </a:moveTo>
                    <a:cubicBezTo>
                      <a:pt x="317" y="12"/>
                      <a:pt x="291" y="6"/>
                      <a:pt x="246" y="3"/>
                    </a:cubicBezTo>
                    <a:cubicBezTo>
                      <a:pt x="206" y="0"/>
                      <a:pt x="153" y="0"/>
                      <a:pt x="84" y="7"/>
                    </a:cubicBezTo>
                    <a:cubicBezTo>
                      <a:pt x="64" y="9"/>
                      <a:pt x="43" y="12"/>
                      <a:pt x="20" y="15"/>
                    </a:cubicBezTo>
                    <a:cubicBezTo>
                      <a:pt x="0" y="242"/>
                      <a:pt x="90" y="428"/>
                      <a:pt x="119" y="479"/>
                    </a:cubicBezTo>
                    <a:cubicBezTo>
                      <a:pt x="123" y="483"/>
                      <a:pt x="127" y="486"/>
                      <a:pt x="131" y="489"/>
                    </a:cubicBezTo>
                    <a:cubicBezTo>
                      <a:pt x="161" y="512"/>
                      <a:pt x="188" y="509"/>
                      <a:pt x="212" y="495"/>
                    </a:cubicBezTo>
                    <a:cubicBezTo>
                      <a:pt x="222" y="488"/>
                      <a:pt x="231" y="480"/>
                      <a:pt x="240" y="470"/>
                    </a:cubicBezTo>
                    <a:cubicBezTo>
                      <a:pt x="271" y="409"/>
                      <a:pt x="348" y="231"/>
                      <a:pt x="328" y="1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13"/>
              <p:cNvSpPr/>
              <p:nvPr/>
            </p:nvSpPr>
            <p:spPr>
              <a:xfrm>
                <a:off x="5909400" y="4436280"/>
                <a:ext cx="274320" cy="10440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5" h="139">
                    <a:moveTo>
                      <a:pt x="355" y="71"/>
                    </a:moveTo>
                    <a:cubicBezTo>
                      <a:pt x="360" y="65"/>
                      <a:pt x="363" y="58"/>
                      <a:pt x="365" y="51"/>
                    </a:cubicBezTo>
                    <a:cubicBezTo>
                      <a:pt x="365" y="21"/>
                      <a:pt x="273" y="2"/>
                      <a:pt x="226" y="0"/>
                    </a:cubicBezTo>
                    <a:cubicBezTo>
                      <a:pt x="230" y="5"/>
                      <a:pt x="237" y="11"/>
                      <a:pt x="246" y="17"/>
                    </a:cubicBezTo>
                    <a:cubicBezTo>
                      <a:pt x="295" y="58"/>
                      <a:pt x="160" y="58"/>
                      <a:pt x="122" y="44"/>
                    </a:cubicBezTo>
                    <a:cubicBezTo>
                      <a:pt x="93" y="34"/>
                      <a:pt x="126" y="11"/>
                      <a:pt x="143" y="1"/>
                    </a:cubicBezTo>
                    <a:cubicBezTo>
                      <a:pt x="141" y="0"/>
                      <a:pt x="140" y="0"/>
                      <a:pt x="140" y="0"/>
                    </a:cubicBezTo>
                    <a:cubicBezTo>
                      <a:pt x="93" y="2"/>
                      <a:pt x="0" y="20"/>
                      <a:pt x="0" y="51"/>
                    </a:cubicBezTo>
                    <a:cubicBezTo>
                      <a:pt x="1" y="52"/>
                      <a:pt x="1" y="54"/>
                      <a:pt x="2" y="56"/>
                    </a:cubicBezTo>
                    <a:cubicBezTo>
                      <a:pt x="46" y="82"/>
                      <a:pt x="175" y="139"/>
                      <a:pt x="355" y="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e5f0f4"/>
                  </a:gs>
                </a:gsLst>
                <a:lin ang="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14"/>
              <p:cNvSpPr/>
              <p:nvPr/>
            </p:nvSpPr>
            <p:spPr>
              <a:xfrm>
                <a:off x="5991840" y="4061520"/>
                <a:ext cx="87840" cy="39924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117" h="531">
                    <a:moveTo>
                      <a:pt x="111" y="518"/>
                    </a:moveTo>
                    <a:cubicBezTo>
                      <a:pt x="116" y="515"/>
                      <a:pt x="117" y="506"/>
                      <a:pt x="117" y="498"/>
                    </a:cubicBezTo>
                    <a:cubicBezTo>
                      <a:pt x="117" y="498"/>
                      <a:pt x="116" y="498"/>
                      <a:pt x="115" y="498"/>
                    </a:cubicBezTo>
                    <a:cubicBezTo>
                      <a:pt x="115" y="498"/>
                      <a:pt x="94" y="508"/>
                      <a:pt x="88" y="468"/>
                    </a:cubicBezTo>
                    <a:cubicBezTo>
                      <a:pt x="85" y="449"/>
                      <a:pt x="84" y="382"/>
                      <a:pt x="85" y="312"/>
                    </a:cubicBezTo>
                    <a:cubicBezTo>
                      <a:pt x="72" y="173"/>
                      <a:pt x="89" y="48"/>
                      <a:pt x="96" y="0"/>
                    </a:cubicBezTo>
                    <a:cubicBezTo>
                      <a:pt x="81" y="6"/>
                      <a:pt x="64" y="7"/>
                      <a:pt x="46" y="0"/>
                    </a:cubicBezTo>
                    <a:cubicBezTo>
                      <a:pt x="56" y="52"/>
                      <a:pt x="77" y="186"/>
                      <a:pt x="62" y="334"/>
                    </a:cubicBezTo>
                    <a:cubicBezTo>
                      <a:pt x="63" y="396"/>
                      <a:pt x="62" y="451"/>
                      <a:pt x="59" y="468"/>
                    </a:cubicBezTo>
                    <a:cubicBezTo>
                      <a:pt x="55" y="496"/>
                      <a:pt x="43" y="499"/>
                      <a:pt x="36" y="499"/>
                    </a:cubicBezTo>
                    <a:cubicBezTo>
                      <a:pt x="0" y="531"/>
                      <a:pt x="100" y="527"/>
                      <a:pt x="111" y="5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15"/>
              <p:cNvSpPr/>
              <p:nvPr/>
            </p:nvSpPr>
            <p:spPr>
              <a:xfrm>
                <a:off x="5911200" y="4478400"/>
                <a:ext cx="265680" cy="62280"/>
              </a:xfrm>
              <a:custGeom>
                <a:avLst/>
                <a:gdLst>
                  <a:gd name="textAreaLeft" fmla="*/ 0 w 265680"/>
                  <a:gd name="textAreaRight" fmla="*/ 266040 w 26568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353" h="83">
                    <a:moveTo>
                      <a:pt x="0" y="0"/>
                    </a:moveTo>
                    <a:cubicBezTo>
                      <a:pt x="16" y="58"/>
                      <a:pt x="150" y="60"/>
                      <a:pt x="180" y="59"/>
                    </a:cubicBezTo>
                    <a:cubicBezTo>
                      <a:pt x="208" y="60"/>
                      <a:pt x="320" y="58"/>
                      <a:pt x="353" y="15"/>
                    </a:cubicBezTo>
                    <a:cubicBezTo>
                      <a:pt x="173" y="83"/>
                      <a:pt x="44" y="26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86bcce"/>
                  </a:gs>
                </a:gsLst>
                <a:lin ang="0"/>
              </a:gra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16"/>
              <p:cNvSpPr/>
              <p:nvPr/>
            </p:nvSpPr>
            <p:spPr>
              <a:xfrm>
                <a:off x="6001200" y="4039200"/>
                <a:ext cx="48600" cy="273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65" h="364">
                    <a:moveTo>
                      <a:pt x="34" y="30"/>
                    </a:moveTo>
                    <a:cubicBezTo>
                      <a:pt x="24" y="25"/>
                      <a:pt x="15" y="16"/>
                      <a:pt x="5" y="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8"/>
                      <a:pt x="10" y="21"/>
                      <a:pt x="11" y="22"/>
                    </a:cubicBezTo>
                    <a:cubicBezTo>
                      <a:pt x="15" y="28"/>
                      <a:pt x="33" y="111"/>
                      <a:pt x="41" y="156"/>
                    </a:cubicBezTo>
                    <a:cubicBezTo>
                      <a:pt x="46" y="181"/>
                      <a:pt x="49" y="279"/>
                      <a:pt x="50" y="364"/>
                    </a:cubicBezTo>
                    <a:cubicBezTo>
                      <a:pt x="65" y="216"/>
                      <a:pt x="44" y="82"/>
                      <a:pt x="34" y="30"/>
                    </a:cubicBezTo>
                    <a:close/>
                  </a:path>
                </a:pathLst>
              </a:custGeom>
              <a:gradFill rotWithShape="0">
                <a:gsLst>
                  <a:gs pos="43000">
                    <a:srgbClr val="86bcce"/>
                  </a:gs>
                  <a:gs pos="100000">
                    <a:srgbClr val="effb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17"/>
              <p:cNvSpPr/>
              <p:nvPr/>
            </p:nvSpPr>
            <p:spPr>
              <a:xfrm>
                <a:off x="6045840" y="4035960"/>
                <a:ext cx="49320" cy="2599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66" h="346">
                    <a:moveTo>
                      <a:pt x="54" y="13"/>
                    </a:moveTo>
                    <a:cubicBezTo>
                      <a:pt x="45" y="22"/>
                      <a:pt x="35" y="29"/>
                      <a:pt x="24" y="34"/>
                    </a:cubicBezTo>
                    <a:cubicBezTo>
                      <a:pt x="17" y="82"/>
                      <a:pt x="0" y="207"/>
                      <a:pt x="13" y="346"/>
                    </a:cubicBezTo>
                    <a:cubicBezTo>
                      <a:pt x="14" y="266"/>
                      <a:pt x="17" y="183"/>
                      <a:pt x="22" y="160"/>
                    </a:cubicBezTo>
                    <a:cubicBezTo>
                      <a:pt x="30" y="115"/>
                      <a:pt x="48" y="32"/>
                      <a:pt x="52" y="26"/>
                    </a:cubicBezTo>
                    <a:cubicBezTo>
                      <a:pt x="53" y="25"/>
                      <a:pt x="55" y="21"/>
                      <a:pt x="59" y="14"/>
                    </a:cubicBezTo>
                    <a:cubicBezTo>
                      <a:pt x="61" y="11"/>
                      <a:pt x="64" y="4"/>
                      <a:pt x="66" y="0"/>
                    </a:cubicBezTo>
                    <a:cubicBezTo>
                      <a:pt x="60" y="8"/>
                      <a:pt x="58" y="10"/>
                      <a:pt x="54" y="13"/>
                    </a:cubicBezTo>
                    <a:close/>
                  </a:path>
                </a:pathLst>
              </a:custGeom>
              <a:gradFill rotWithShape="0">
                <a:gsLst>
                  <a:gs pos="57000">
                    <a:srgbClr val="86bcce"/>
                  </a:gs>
                  <a:gs pos="100000">
                    <a:srgbClr val="eff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18"/>
              <p:cNvSpPr/>
              <p:nvPr/>
            </p:nvSpPr>
            <p:spPr>
              <a:xfrm>
                <a:off x="5979600" y="4436280"/>
                <a:ext cx="151560" cy="4356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02" h="58">
                    <a:moveTo>
                      <a:pt x="29" y="44"/>
                    </a:moveTo>
                    <a:cubicBezTo>
                      <a:pt x="67" y="58"/>
                      <a:pt x="202" y="58"/>
                      <a:pt x="153" y="17"/>
                    </a:cubicBezTo>
                    <a:cubicBezTo>
                      <a:pt x="144" y="11"/>
                      <a:pt x="144" y="11"/>
                      <a:pt x="140" y="6"/>
                    </a:cubicBezTo>
                    <a:cubicBezTo>
                      <a:pt x="139" y="6"/>
                      <a:pt x="133" y="0"/>
                      <a:pt x="133" y="0"/>
                    </a:cubicBezTo>
                    <a:cubicBezTo>
                      <a:pt x="133" y="8"/>
                      <a:pt x="132" y="17"/>
                      <a:pt x="127" y="20"/>
                    </a:cubicBezTo>
                    <a:cubicBezTo>
                      <a:pt x="116" y="29"/>
                      <a:pt x="16" y="33"/>
                      <a:pt x="52" y="1"/>
                    </a:cubicBezTo>
                    <a:cubicBezTo>
                      <a:pt x="51" y="1"/>
                      <a:pt x="51" y="1"/>
                      <a:pt x="50" y="1"/>
                    </a:cubicBezTo>
                    <a:cubicBezTo>
                      <a:pt x="33" y="11"/>
                      <a:pt x="0" y="34"/>
                      <a:pt x="29" y="44"/>
                    </a:cubicBezTo>
                    <a:close/>
                  </a:path>
                </a:pathLst>
              </a:custGeom>
              <a:gradFill rotWithShape="0">
                <a:gsLst>
                  <a:gs pos="6000">
                    <a:srgbClr val="86bcce"/>
                  </a:gs>
                  <a:gs pos="100000">
                    <a:srgbClr val="effb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20"/>
              <p:cNvSpPr/>
              <p:nvPr/>
            </p:nvSpPr>
            <p:spPr>
              <a:xfrm>
                <a:off x="5918760" y="4450680"/>
                <a:ext cx="177840" cy="7272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37" h="97">
                    <a:moveTo>
                      <a:pt x="106" y="0"/>
                    </a:moveTo>
                    <a:cubicBezTo>
                      <a:pt x="106" y="0"/>
                      <a:pt x="77" y="24"/>
                      <a:pt x="132" y="29"/>
                    </a:cubicBezTo>
                    <a:cubicBezTo>
                      <a:pt x="188" y="34"/>
                      <a:pt x="202" y="36"/>
                      <a:pt x="237" y="25"/>
                    </a:cubicBezTo>
                    <a:cubicBezTo>
                      <a:pt x="237" y="25"/>
                      <a:pt x="154" y="97"/>
                      <a:pt x="49" y="49"/>
                    </a:cubicBezTo>
                    <a:cubicBezTo>
                      <a:pt x="0" y="15"/>
                      <a:pt x="106" y="0"/>
                      <a:pt x="10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11"/>
              <p:cNvSpPr/>
              <p:nvPr/>
            </p:nvSpPr>
            <p:spPr>
              <a:xfrm>
                <a:off x="5928480" y="3586320"/>
                <a:ext cx="231480" cy="11088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08" h="148">
                    <a:moveTo>
                      <a:pt x="308" y="148"/>
                    </a:moveTo>
                    <a:cubicBezTo>
                      <a:pt x="303" y="100"/>
                      <a:pt x="294" y="50"/>
                      <a:pt x="278" y="0"/>
                    </a:cubicBezTo>
                    <a:cubicBezTo>
                      <a:pt x="172" y="41"/>
                      <a:pt x="82" y="22"/>
                      <a:pt x="29" y="1"/>
                    </a:cubicBezTo>
                    <a:cubicBezTo>
                      <a:pt x="14" y="52"/>
                      <a:pt x="5" y="101"/>
                      <a:pt x="0" y="148"/>
                    </a:cubicBezTo>
                    <a:cubicBezTo>
                      <a:pt x="188" y="120"/>
                      <a:pt x="286" y="142"/>
                      <a:pt x="308" y="1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ffbff"/>
                  </a:gs>
                  <a:gs pos="100000">
                    <a:srgbClr val="bfd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9" name="Freeform 12"/>
            <p:cNvSpPr/>
            <p:nvPr/>
          </p:nvSpPr>
          <p:spPr>
            <a:xfrm>
              <a:off x="5916600" y="3685680"/>
              <a:ext cx="257760" cy="3852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348" h="512">
                  <a:moveTo>
                    <a:pt x="328" y="15"/>
                  </a:moveTo>
                  <a:cubicBezTo>
                    <a:pt x="317" y="12"/>
                    <a:pt x="291" y="6"/>
                    <a:pt x="246" y="3"/>
                  </a:cubicBezTo>
                  <a:cubicBezTo>
                    <a:pt x="206" y="0"/>
                    <a:pt x="153" y="0"/>
                    <a:pt x="84" y="7"/>
                  </a:cubicBezTo>
                  <a:cubicBezTo>
                    <a:pt x="64" y="9"/>
                    <a:pt x="43" y="12"/>
                    <a:pt x="20" y="15"/>
                  </a:cubicBezTo>
                  <a:cubicBezTo>
                    <a:pt x="0" y="242"/>
                    <a:pt x="90" y="428"/>
                    <a:pt x="119" y="479"/>
                  </a:cubicBezTo>
                  <a:cubicBezTo>
                    <a:pt x="123" y="483"/>
                    <a:pt x="127" y="486"/>
                    <a:pt x="131" y="489"/>
                  </a:cubicBezTo>
                  <a:cubicBezTo>
                    <a:pt x="161" y="512"/>
                    <a:pt x="188" y="509"/>
                    <a:pt x="212" y="495"/>
                  </a:cubicBezTo>
                  <a:cubicBezTo>
                    <a:pt x="222" y="488"/>
                    <a:pt x="231" y="480"/>
                    <a:pt x="240" y="470"/>
                  </a:cubicBezTo>
                  <a:cubicBezTo>
                    <a:pt x="271" y="409"/>
                    <a:pt x="348" y="231"/>
                    <a:pt x="328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e7debc"/>
                </a:gs>
                <a:gs pos="100000">
                  <a:srgbClr val="c0a95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9"/>
            <p:cNvSpPr/>
            <p:nvPr/>
          </p:nvSpPr>
          <p:spPr>
            <a:xfrm>
              <a:off x="5928120" y="3595680"/>
              <a:ext cx="88560" cy="4374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118" h="582">
                  <a:moveTo>
                    <a:pt x="78" y="2"/>
                  </a:moveTo>
                  <a:cubicBezTo>
                    <a:pt x="118" y="0"/>
                    <a:pt x="118" y="0"/>
                    <a:pt x="118" y="0"/>
                  </a:cubicBezTo>
                  <a:cubicBezTo>
                    <a:pt x="118" y="0"/>
                    <a:pt x="61" y="437"/>
                    <a:pt x="114" y="582"/>
                  </a:cubicBezTo>
                  <a:cubicBezTo>
                    <a:pt x="114" y="582"/>
                    <a:pt x="0" y="420"/>
                    <a:pt x="7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1" name="Ellipse 130"/>
          <p:cNvSpPr/>
          <p:nvPr/>
        </p:nvSpPr>
        <p:spPr>
          <a:xfrm>
            <a:off x="810720" y="5495040"/>
            <a:ext cx="7846200" cy="24570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82" name="Gruppieren 5"/>
          <p:cNvGrpSpPr/>
          <p:nvPr/>
        </p:nvGrpSpPr>
        <p:grpSpPr>
          <a:xfrm>
            <a:off x="-5134680" y="1968120"/>
            <a:ext cx="16272720" cy="749160"/>
            <a:chOff x="-5134680" y="1968120"/>
            <a:chExt cx="16272720" cy="749160"/>
          </a:xfrm>
        </p:grpSpPr>
        <p:sp>
          <p:nvSpPr>
            <p:cNvPr id="583" name="Rechteck 2"/>
            <p:cNvSpPr/>
            <p:nvPr/>
          </p:nvSpPr>
          <p:spPr>
            <a:xfrm>
              <a:off x="-5134680" y="1968120"/>
              <a:ext cx="16272720" cy="749160"/>
            </a:xfrm>
            <a:prstGeom prst="rect">
              <a:avLst/>
            </a:prstGeom>
            <a:noFill/>
            <a:ln w="76200">
              <a:solidFill>
                <a:srgbClr val="ffccc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" name="Herz 3"/>
            <p:cNvSpPr/>
            <p:nvPr/>
          </p:nvSpPr>
          <p:spPr>
            <a:xfrm>
              <a:off x="-48301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" name="Herz 91"/>
            <p:cNvSpPr/>
            <p:nvPr/>
          </p:nvSpPr>
          <p:spPr>
            <a:xfrm>
              <a:off x="-43477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" name="Herz 92"/>
            <p:cNvSpPr/>
            <p:nvPr/>
          </p:nvSpPr>
          <p:spPr>
            <a:xfrm>
              <a:off x="384984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" name="Herz 93"/>
            <p:cNvSpPr/>
            <p:nvPr/>
          </p:nvSpPr>
          <p:spPr>
            <a:xfrm>
              <a:off x="336780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" name="Herz 94"/>
            <p:cNvSpPr/>
            <p:nvPr/>
          </p:nvSpPr>
          <p:spPr>
            <a:xfrm>
              <a:off x="28857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" name="Herz 95"/>
            <p:cNvSpPr/>
            <p:nvPr/>
          </p:nvSpPr>
          <p:spPr>
            <a:xfrm>
              <a:off x="24033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" name="Herz 96"/>
            <p:cNvSpPr/>
            <p:nvPr/>
          </p:nvSpPr>
          <p:spPr>
            <a:xfrm>
              <a:off x="19213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" name="Herz 97"/>
            <p:cNvSpPr/>
            <p:nvPr/>
          </p:nvSpPr>
          <p:spPr>
            <a:xfrm>
              <a:off x="14389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" name="Herz 98"/>
            <p:cNvSpPr/>
            <p:nvPr/>
          </p:nvSpPr>
          <p:spPr>
            <a:xfrm>
              <a:off x="9568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" name="Herz 99"/>
            <p:cNvSpPr/>
            <p:nvPr/>
          </p:nvSpPr>
          <p:spPr>
            <a:xfrm>
              <a:off x="4744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" name="Herz 100"/>
            <p:cNvSpPr/>
            <p:nvPr/>
          </p:nvSpPr>
          <p:spPr>
            <a:xfrm>
              <a:off x="-79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" name="Herz 101"/>
            <p:cNvSpPr/>
            <p:nvPr/>
          </p:nvSpPr>
          <p:spPr>
            <a:xfrm>
              <a:off x="-4899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" name="Herz 102"/>
            <p:cNvSpPr/>
            <p:nvPr/>
          </p:nvSpPr>
          <p:spPr>
            <a:xfrm>
              <a:off x="-9723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" name="Herz 103"/>
            <p:cNvSpPr/>
            <p:nvPr/>
          </p:nvSpPr>
          <p:spPr>
            <a:xfrm>
              <a:off x="-145440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" name="Herz 104"/>
            <p:cNvSpPr/>
            <p:nvPr/>
          </p:nvSpPr>
          <p:spPr>
            <a:xfrm>
              <a:off x="-193680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" name="Herz 105"/>
            <p:cNvSpPr/>
            <p:nvPr/>
          </p:nvSpPr>
          <p:spPr>
            <a:xfrm>
              <a:off x="-241884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" name="Herz 106"/>
            <p:cNvSpPr/>
            <p:nvPr/>
          </p:nvSpPr>
          <p:spPr>
            <a:xfrm>
              <a:off x="-290124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" name="Herz 107"/>
            <p:cNvSpPr/>
            <p:nvPr/>
          </p:nvSpPr>
          <p:spPr>
            <a:xfrm>
              <a:off x="-33832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" name="Herz 108"/>
            <p:cNvSpPr/>
            <p:nvPr/>
          </p:nvSpPr>
          <p:spPr>
            <a:xfrm>
              <a:off x="-38656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" name="Herz 109"/>
            <p:cNvSpPr/>
            <p:nvPr/>
          </p:nvSpPr>
          <p:spPr>
            <a:xfrm>
              <a:off x="-45810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" name="Herz 110"/>
            <p:cNvSpPr/>
            <p:nvPr/>
          </p:nvSpPr>
          <p:spPr>
            <a:xfrm>
              <a:off x="-40986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" name="Herz 111"/>
            <p:cNvSpPr/>
            <p:nvPr/>
          </p:nvSpPr>
          <p:spPr>
            <a:xfrm>
              <a:off x="409896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" name="Herz 112"/>
            <p:cNvSpPr/>
            <p:nvPr/>
          </p:nvSpPr>
          <p:spPr>
            <a:xfrm>
              <a:off x="361692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" name="Herz 113"/>
            <p:cNvSpPr/>
            <p:nvPr/>
          </p:nvSpPr>
          <p:spPr>
            <a:xfrm>
              <a:off x="313452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" name="Herz 114"/>
            <p:cNvSpPr/>
            <p:nvPr/>
          </p:nvSpPr>
          <p:spPr>
            <a:xfrm>
              <a:off x="26524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9" name="Herz 115"/>
            <p:cNvSpPr/>
            <p:nvPr/>
          </p:nvSpPr>
          <p:spPr>
            <a:xfrm>
              <a:off x="21700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0" name="Herz 116"/>
            <p:cNvSpPr/>
            <p:nvPr/>
          </p:nvSpPr>
          <p:spPr>
            <a:xfrm>
              <a:off x="16880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1" name="Herz 117"/>
            <p:cNvSpPr/>
            <p:nvPr/>
          </p:nvSpPr>
          <p:spPr>
            <a:xfrm>
              <a:off x="12056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2" name="Herz 118"/>
            <p:cNvSpPr/>
            <p:nvPr/>
          </p:nvSpPr>
          <p:spPr>
            <a:xfrm>
              <a:off x="7236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3" name="Herz 120"/>
            <p:cNvSpPr/>
            <p:nvPr/>
          </p:nvSpPr>
          <p:spPr>
            <a:xfrm>
              <a:off x="2412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4" name="Herz 121"/>
            <p:cNvSpPr/>
            <p:nvPr/>
          </p:nvSpPr>
          <p:spPr>
            <a:xfrm>
              <a:off x="-2408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5" name="Herz 122"/>
            <p:cNvSpPr/>
            <p:nvPr/>
          </p:nvSpPr>
          <p:spPr>
            <a:xfrm>
              <a:off x="-7232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6" name="Herz 123"/>
            <p:cNvSpPr/>
            <p:nvPr/>
          </p:nvSpPr>
          <p:spPr>
            <a:xfrm>
              <a:off x="-12052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7" name="Herz 124"/>
            <p:cNvSpPr/>
            <p:nvPr/>
          </p:nvSpPr>
          <p:spPr>
            <a:xfrm>
              <a:off x="-16876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8" name="Herz 125"/>
            <p:cNvSpPr/>
            <p:nvPr/>
          </p:nvSpPr>
          <p:spPr>
            <a:xfrm>
              <a:off x="-216972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9" name="Herz 126"/>
            <p:cNvSpPr/>
            <p:nvPr/>
          </p:nvSpPr>
          <p:spPr>
            <a:xfrm>
              <a:off x="-265212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0" name="Herz 127"/>
            <p:cNvSpPr/>
            <p:nvPr/>
          </p:nvSpPr>
          <p:spPr>
            <a:xfrm>
              <a:off x="-313416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1" name="Herz 128"/>
            <p:cNvSpPr/>
            <p:nvPr/>
          </p:nvSpPr>
          <p:spPr>
            <a:xfrm>
              <a:off x="-361656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2" name="Herz 129"/>
            <p:cNvSpPr/>
            <p:nvPr/>
          </p:nvSpPr>
          <p:spPr>
            <a:xfrm>
              <a:off x="-5014800" y="2398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3" name="Herz 172"/>
            <p:cNvSpPr/>
            <p:nvPr/>
          </p:nvSpPr>
          <p:spPr>
            <a:xfrm>
              <a:off x="72021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4" name="Herz 173"/>
            <p:cNvSpPr/>
            <p:nvPr/>
          </p:nvSpPr>
          <p:spPr>
            <a:xfrm>
              <a:off x="67197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5" name="Herz 174"/>
            <p:cNvSpPr/>
            <p:nvPr/>
          </p:nvSpPr>
          <p:spPr>
            <a:xfrm>
              <a:off x="62377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6" name="Herz 175"/>
            <p:cNvSpPr/>
            <p:nvPr/>
          </p:nvSpPr>
          <p:spPr>
            <a:xfrm>
              <a:off x="57553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7" name="Herz 176"/>
            <p:cNvSpPr/>
            <p:nvPr/>
          </p:nvSpPr>
          <p:spPr>
            <a:xfrm>
              <a:off x="52732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8" name="Herz 177"/>
            <p:cNvSpPr/>
            <p:nvPr/>
          </p:nvSpPr>
          <p:spPr>
            <a:xfrm>
              <a:off x="47908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9" name="Herz 178"/>
            <p:cNvSpPr/>
            <p:nvPr/>
          </p:nvSpPr>
          <p:spPr>
            <a:xfrm>
              <a:off x="430884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0" name="Herz 179"/>
            <p:cNvSpPr/>
            <p:nvPr/>
          </p:nvSpPr>
          <p:spPr>
            <a:xfrm>
              <a:off x="74512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1" name="Herz 180"/>
            <p:cNvSpPr/>
            <p:nvPr/>
          </p:nvSpPr>
          <p:spPr>
            <a:xfrm>
              <a:off x="69688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2" name="Herz 181"/>
            <p:cNvSpPr/>
            <p:nvPr/>
          </p:nvSpPr>
          <p:spPr>
            <a:xfrm>
              <a:off x="64868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3" name="Herz 182"/>
            <p:cNvSpPr/>
            <p:nvPr/>
          </p:nvSpPr>
          <p:spPr>
            <a:xfrm>
              <a:off x="60044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4" name="Herz 183"/>
            <p:cNvSpPr/>
            <p:nvPr/>
          </p:nvSpPr>
          <p:spPr>
            <a:xfrm>
              <a:off x="55224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5" name="Herz 184"/>
            <p:cNvSpPr/>
            <p:nvPr/>
          </p:nvSpPr>
          <p:spPr>
            <a:xfrm>
              <a:off x="50400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6" name="Herz 185"/>
            <p:cNvSpPr/>
            <p:nvPr/>
          </p:nvSpPr>
          <p:spPr>
            <a:xfrm>
              <a:off x="455796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7" name="Herz 186"/>
            <p:cNvSpPr/>
            <p:nvPr/>
          </p:nvSpPr>
          <p:spPr>
            <a:xfrm>
              <a:off x="1058220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8" name="Herz 187"/>
            <p:cNvSpPr/>
            <p:nvPr/>
          </p:nvSpPr>
          <p:spPr>
            <a:xfrm>
              <a:off x="101001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9" name="Herz 188"/>
            <p:cNvSpPr/>
            <p:nvPr/>
          </p:nvSpPr>
          <p:spPr>
            <a:xfrm>
              <a:off x="961776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0" name="Herz 189"/>
            <p:cNvSpPr/>
            <p:nvPr/>
          </p:nvSpPr>
          <p:spPr>
            <a:xfrm>
              <a:off x="91357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1" name="Herz 190"/>
            <p:cNvSpPr/>
            <p:nvPr/>
          </p:nvSpPr>
          <p:spPr>
            <a:xfrm>
              <a:off x="865332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2" name="Herz 191"/>
            <p:cNvSpPr/>
            <p:nvPr/>
          </p:nvSpPr>
          <p:spPr>
            <a:xfrm>
              <a:off x="81712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3" name="Herz 192"/>
            <p:cNvSpPr/>
            <p:nvPr/>
          </p:nvSpPr>
          <p:spPr>
            <a:xfrm>
              <a:off x="7688880" y="209376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4" name="Herz 193"/>
            <p:cNvSpPr/>
            <p:nvPr/>
          </p:nvSpPr>
          <p:spPr>
            <a:xfrm>
              <a:off x="1083132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5" name="Herz 194"/>
            <p:cNvSpPr/>
            <p:nvPr/>
          </p:nvSpPr>
          <p:spPr>
            <a:xfrm>
              <a:off x="1034892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6" name="Herz 195"/>
            <p:cNvSpPr/>
            <p:nvPr/>
          </p:nvSpPr>
          <p:spPr>
            <a:xfrm>
              <a:off x="98668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7" name="Herz 196"/>
            <p:cNvSpPr/>
            <p:nvPr/>
          </p:nvSpPr>
          <p:spPr>
            <a:xfrm>
              <a:off x="938448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8" name="Herz 197"/>
            <p:cNvSpPr/>
            <p:nvPr/>
          </p:nvSpPr>
          <p:spPr>
            <a:xfrm>
              <a:off x="89024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9" name="Herz 198"/>
            <p:cNvSpPr/>
            <p:nvPr/>
          </p:nvSpPr>
          <p:spPr>
            <a:xfrm>
              <a:off x="842004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0" name="Herz 199"/>
            <p:cNvSpPr/>
            <p:nvPr/>
          </p:nvSpPr>
          <p:spPr>
            <a:xfrm>
              <a:off x="7938000" y="2407680"/>
              <a:ext cx="184320" cy="184320"/>
            </a:xfrm>
            <a:prstGeom prst="heart">
              <a:avLst/>
            </a:prstGeom>
            <a:solidFill>
              <a:srgbClr val="ff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51" name="Gruppieren 82"/>
          <p:cNvGrpSpPr/>
          <p:nvPr/>
        </p:nvGrpSpPr>
        <p:grpSpPr>
          <a:xfrm>
            <a:off x="301320" y="1296360"/>
            <a:ext cx="3253320" cy="2869560"/>
            <a:chOff x="301320" y="1296360"/>
            <a:chExt cx="3253320" cy="2869560"/>
          </a:xfrm>
        </p:grpSpPr>
        <p:sp>
          <p:nvSpPr>
            <p:cNvPr id="652" name="Freeform 6"/>
            <p:cNvSpPr/>
            <p:nvPr/>
          </p:nvSpPr>
          <p:spPr>
            <a:xfrm>
              <a:off x="301320" y="1296360"/>
              <a:ext cx="2777760" cy="2869560"/>
            </a:xfrm>
            <a:custGeom>
              <a:avLst/>
              <a:gdLst>
                <a:gd name="textAreaLeft" fmla="*/ 0 w 2777760"/>
                <a:gd name="textAreaRight" fmla="*/ 2778120 w 2777760"/>
                <a:gd name="textAreaTop" fmla="*/ 0 h 2869560"/>
                <a:gd name="textAreaBottom" fmla="*/ 2869920 h 2869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4716" y="4194"/>
                  </a:moveTo>
                  <a:cubicBezTo>
                    <a:pt x="4716" y="4194"/>
                    <a:pt x="4804" y="3399"/>
                    <a:pt x="4218" y="3088"/>
                  </a:cubicBezTo>
                  <a:cubicBezTo>
                    <a:pt x="3661" y="2776"/>
                    <a:pt x="3105" y="2606"/>
                    <a:pt x="2929" y="1755"/>
                  </a:cubicBezTo>
                  <a:cubicBezTo>
                    <a:pt x="2753" y="904"/>
                    <a:pt x="2812" y="-174"/>
                    <a:pt x="2606" y="25"/>
                  </a:cubicBezTo>
                  <a:cubicBezTo>
                    <a:pt x="2373" y="223"/>
                    <a:pt x="2314" y="449"/>
                    <a:pt x="2373" y="875"/>
                  </a:cubicBezTo>
                  <a:cubicBezTo>
                    <a:pt x="2373" y="875"/>
                    <a:pt x="1991" y="648"/>
                    <a:pt x="2079" y="1300"/>
                  </a:cubicBezTo>
                  <a:cubicBezTo>
                    <a:pt x="2167" y="1840"/>
                    <a:pt x="2285" y="1925"/>
                    <a:pt x="2285" y="1925"/>
                  </a:cubicBezTo>
                  <a:cubicBezTo>
                    <a:pt x="2285" y="1925"/>
                    <a:pt x="1845" y="1215"/>
                    <a:pt x="1757" y="1811"/>
                  </a:cubicBezTo>
                  <a:cubicBezTo>
                    <a:pt x="1669" y="2350"/>
                    <a:pt x="1991" y="2889"/>
                    <a:pt x="2226" y="3059"/>
                  </a:cubicBezTo>
                  <a:cubicBezTo>
                    <a:pt x="2430" y="3229"/>
                    <a:pt x="1727" y="2861"/>
                    <a:pt x="1757" y="3144"/>
                  </a:cubicBezTo>
                  <a:cubicBezTo>
                    <a:pt x="1757" y="3399"/>
                    <a:pt x="2021" y="3939"/>
                    <a:pt x="2430" y="4051"/>
                  </a:cubicBezTo>
                  <a:cubicBezTo>
                    <a:pt x="2870" y="4165"/>
                    <a:pt x="1347" y="3768"/>
                    <a:pt x="2314" y="4477"/>
                  </a:cubicBezTo>
                  <a:cubicBezTo>
                    <a:pt x="2314" y="4477"/>
                    <a:pt x="2460" y="4562"/>
                    <a:pt x="3046" y="4647"/>
                  </a:cubicBezTo>
                  <a:cubicBezTo>
                    <a:pt x="3046" y="4647"/>
                    <a:pt x="2518" y="4960"/>
                    <a:pt x="3105" y="4988"/>
                  </a:cubicBezTo>
                  <a:cubicBezTo>
                    <a:pt x="3720" y="5016"/>
                    <a:pt x="3339" y="5073"/>
                    <a:pt x="3046" y="5130"/>
                  </a:cubicBezTo>
                  <a:cubicBezTo>
                    <a:pt x="2606" y="5186"/>
                    <a:pt x="2109" y="5640"/>
                    <a:pt x="2460" y="6320"/>
                  </a:cubicBezTo>
                  <a:cubicBezTo>
                    <a:pt x="2812" y="7001"/>
                    <a:pt x="3134" y="7541"/>
                    <a:pt x="2812" y="7342"/>
                  </a:cubicBezTo>
                  <a:cubicBezTo>
                    <a:pt x="2489" y="7143"/>
                    <a:pt x="2226" y="7058"/>
                    <a:pt x="2226" y="7058"/>
                  </a:cubicBezTo>
                  <a:cubicBezTo>
                    <a:pt x="2226" y="7058"/>
                    <a:pt x="2285" y="6463"/>
                    <a:pt x="2050" y="6406"/>
                  </a:cubicBezTo>
                  <a:cubicBezTo>
                    <a:pt x="1845" y="6378"/>
                    <a:pt x="1610" y="6519"/>
                    <a:pt x="1551" y="6519"/>
                  </a:cubicBezTo>
                  <a:cubicBezTo>
                    <a:pt x="1493" y="6519"/>
                    <a:pt x="1171" y="6320"/>
                    <a:pt x="1083" y="6320"/>
                  </a:cubicBezTo>
                  <a:cubicBezTo>
                    <a:pt x="966" y="6293"/>
                    <a:pt x="819" y="6264"/>
                    <a:pt x="790" y="6179"/>
                  </a:cubicBezTo>
                  <a:cubicBezTo>
                    <a:pt x="731" y="6123"/>
                    <a:pt x="410" y="6123"/>
                    <a:pt x="702" y="6378"/>
                  </a:cubicBezTo>
                  <a:cubicBezTo>
                    <a:pt x="966" y="6661"/>
                    <a:pt x="1406" y="7143"/>
                    <a:pt x="1581" y="7200"/>
                  </a:cubicBezTo>
                  <a:cubicBezTo>
                    <a:pt x="1786" y="7257"/>
                    <a:pt x="2373" y="7937"/>
                    <a:pt x="2401" y="7994"/>
                  </a:cubicBezTo>
                  <a:cubicBezTo>
                    <a:pt x="2430" y="8023"/>
                    <a:pt x="1933" y="8278"/>
                    <a:pt x="1757" y="8590"/>
                  </a:cubicBezTo>
                  <a:cubicBezTo>
                    <a:pt x="1757" y="8590"/>
                    <a:pt x="1581" y="8760"/>
                    <a:pt x="1493" y="8675"/>
                  </a:cubicBezTo>
                  <a:cubicBezTo>
                    <a:pt x="1434" y="8590"/>
                    <a:pt x="995" y="8477"/>
                    <a:pt x="907" y="8816"/>
                  </a:cubicBezTo>
                  <a:cubicBezTo>
                    <a:pt x="819" y="9157"/>
                    <a:pt x="585" y="9242"/>
                    <a:pt x="585" y="9242"/>
                  </a:cubicBezTo>
                  <a:cubicBezTo>
                    <a:pt x="585" y="9242"/>
                    <a:pt x="263" y="9384"/>
                    <a:pt x="204" y="9696"/>
                  </a:cubicBezTo>
                  <a:cubicBezTo>
                    <a:pt x="204" y="9696"/>
                    <a:pt x="-89" y="9895"/>
                    <a:pt x="28" y="9980"/>
                  </a:cubicBezTo>
                  <a:cubicBezTo>
                    <a:pt x="175" y="10065"/>
                    <a:pt x="410" y="9866"/>
                    <a:pt x="643" y="9810"/>
                  </a:cubicBezTo>
                  <a:cubicBezTo>
                    <a:pt x="878" y="9725"/>
                    <a:pt x="1522" y="9327"/>
                    <a:pt x="1522" y="9327"/>
                  </a:cubicBezTo>
                  <a:cubicBezTo>
                    <a:pt x="1522" y="9327"/>
                    <a:pt x="2636" y="9015"/>
                    <a:pt x="2841" y="8874"/>
                  </a:cubicBezTo>
                  <a:cubicBezTo>
                    <a:pt x="3046" y="8731"/>
                    <a:pt x="3105" y="8731"/>
                    <a:pt x="3368" y="8788"/>
                  </a:cubicBezTo>
                  <a:cubicBezTo>
                    <a:pt x="3632" y="8845"/>
                    <a:pt x="4306" y="8959"/>
                    <a:pt x="4364" y="8278"/>
                  </a:cubicBezTo>
                  <a:cubicBezTo>
                    <a:pt x="4423" y="7597"/>
                    <a:pt x="4393" y="7058"/>
                    <a:pt x="4393" y="7058"/>
                  </a:cubicBezTo>
                  <a:cubicBezTo>
                    <a:pt x="4393" y="7058"/>
                    <a:pt x="5477" y="6293"/>
                    <a:pt x="5595" y="5952"/>
                  </a:cubicBezTo>
                  <a:cubicBezTo>
                    <a:pt x="5595" y="5952"/>
                    <a:pt x="5741" y="5924"/>
                    <a:pt x="5800" y="6009"/>
                  </a:cubicBezTo>
                  <a:cubicBezTo>
                    <a:pt x="5859" y="6094"/>
                    <a:pt x="6240" y="6604"/>
                    <a:pt x="6532" y="6661"/>
                  </a:cubicBezTo>
                  <a:cubicBezTo>
                    <a:pt x="6826" y="6746"/>
                    <a:pt x="6972" y="6718"/>
                    <a:pt x="7235" y="6746"/>
                  </a:cubicBezTo>
                  <a:cubicBezTo>
                    <a:pt x="7470" y="6746"/>
                    <a:pt x="7734" y="6802"/>
                    <a:pt x="7822" y="6945"/>
                  </a:cubicBezTo>
                  <a:cubicBezTo>
                    <a:pt x="7910" y="7058"/>
                    <a:pt x="8027" y="7626"/>
                    <a:pt x="7235" y="8023"/>
                  </a:cubicBezTo>
                  <a:cubicBezTo>
                    <a:pt x="6474" y="8419"/>
                    <a:pt x="5068" y="8249"/>
                    <a:pt x="5068" y="8249"/>
                  </a:cubicBezTo>
                  <a:cubicBezTo>
                    <a:pt x="5068" y="8249"/>
                    <a:pt x="4452" y="8249"/>
                    <a:pt x="4569" y="8731"/>
                  </a:cubicBezTo>
                  <a:cubicBezTo>
                    <a:pt x="4745" y="9100"/>
                    <a:pt x="5185" y="8816"/>
                    <a:pt x="5156" y="8646"/>
                  </a:cubicBezTo>
                  <a:cubicBezTo>
                    <a:pt x="5156" y="8646"/>
                    <a:pt x="4745" y="8959"/>
                    <a:pt x="4716" y="8675"/>
                  </a:cubicBezTo>
                  <a:cubicBezTo>
                    <a:pt x="4657" y="8307"/>
                    <a:pt x="5126" y="8363"/>
                    <a:pt x="5360" y="8392"/>
                  </a:cubicBezTo>
                  <a:cubicBezTo>
                    <a:pt x="5595" y="8448"/>
                    <a:pt x="7528" y="9044"/>
                    <a:pt x="8027" y="8363"/>
                  </a:cubicBezTo>
                  <a:cubicBezTo>
                    <a:pt x="8495" y="7682"/>
                    <a:pt x="8231" y="7342"/>
                    <a:pt x="8231" y="7342"/>
                  </a:cubicBezTo>
                  <a:cubicBezTo>
                    <a:pt x="8231" y="7342"/>
                    <a:pt x="8407" y="7257"/>
                    <a:pt x="8495" y="7257"/>
                  </a:cubicBezTo>
                  <a:cubicBezTo>
                    <a:pt x="8554" y="7257"/>
                    <a:pt x="8906" y="6802"/>
                    <a:pt x="8906" y="6802"/>
                  </a:cubicBezTo>
                  <a:cubicBezTo>
                    <a:pt x="8886" y="6717"/>
                    <a:pt x="8867" y="6633"/>
                    <a:pt x="8847" y="6548"/>
                  </a:cubicBezTo>
                  <a:cubicBezTo>
                    <a:pt x="8847" y="6548"/>
                    <a:pt x="10253" y="6320"/>
                    <a:pt x="9961" y="5243"/>
                  </a:cubicBezTo>
                  <a:cubicBezTo>
                    <a:pt x="9667" y="4137"/>
                    <a:pt x="9257" y="3626"/>
                    <a:pt x="9315" y="2832"/>
                  </a:cubicBezTo>
                  <a:cubicBezTo>
                    <a:pt x="9345" y="2662"/>
                    <a:pt x="9755" y="2662"/>
                    <a:pt x="9667" y="3002"/>
                  </a:cubicBezTo>
                  <a:cubicBezTo>
                    <a:pt x="9638" y="3144"/>
                    <a:pt x="9462" y="3059"/>
                    <a:pt x="9462" y="3059"/>
                  </a:cubicBezTo>
                  <a:cubicBezTo>
                    <a:pt x="9462" y="3059"/>
                    <a:pt x="9755" y="3229"/>
                    <a:pt x="9814" y="2946"/>
                  </a:cubicBezTo>
                  <a:cubicBezTo>
                    <a:pt x="9902" y="2606"/>
                    <a:pt x="9462" y="2407"/>
                    <a:pt x="9170" y="2691"/>
                  </a:cubicBezTo>
                  <a:cubicBezTo>
                    <a:pt x="8906" y="2974"/>
                    <a:pt x="9491" y="4222"/>
                    <a:pt x="9374" y="4902"/>
                  </a:cubicBezTo>
                  <a:cubicBezTo>
                    <a:pt x="9227" y="5612"/>
                    <a:pt x="8789" y="6235"/>
                    <a:pt x="8554" y="6264"/>
                  </a:cubicBezTo>
                  <a:cubicBezTo>
                    <a:pt x="8319" y="6293"/>
                    <a:pt x="8174" y="6548"/>
                    <a:pt x="8086" y="6519"/>
                  </a:cubicBezTo>
                  <a:cubicBezTo>
                    <a:pt x="7968" y="6491"/>
                    <a:pt x="6796" y="6037"/>
                    <a:pt x="6767" y="5924"/>
                  </a:cubicBezTo>
                  <a:cubicBezTo>
                    <a:pt x="6767" y="5839"/>
                    <a:pt x="7031" y="5612"/>
                    <a:pt x="7119" y="5753"/>
                  </a:cubicBezTo>
                  <a:cubicBezTo>
                    <a:pt x="7207" y="5924"/>
                    <a:pt x="7528" y="5810"/>
                    <a:pt x="7675" y="5612"/>
                  </a:cubicBezTo>
                  <a:cubicBezTo>
                    <a:pt x="7822" y="5413"/>
                    <a:pt x="7792" y="4902"/>
                    <a:pt x="7704" y="4902"/>
                  </a:cubicBezTo>
                  <a:cubicBezTo>
                    <a:pt x="7587" y="4875"/>
                    <a:pt x="7177" y="4846"/>
                    <a:pt x="7031" y="4988"/>
                  </a:cubicBezTo>
                  <a:cubicBezTo>
                    <a:pt x="6855" y="5158"/>
                    <a:pt x="6474" y="5384"/>
                    <a:pt x="6386" y="5272"/>
                  </a:cubicBezTo>
                  <a:cubicBezTo>
                    <a:pt x="6268" y="5158"/>
                    <a:pt x="6268" y="4790"/>
                    <a:pt x="6093" y="4591"/>
                  </a:cubicBezTo>
                  <a:cubicBezTo>
                    <a:pt x="5888" y="4392"/>
                    <a:pt x="6119" y="4248"/>
                    <a:pt x="6240" y="4222"/>
                  </a:cubicBezTo>
                  <a:cubicBezTo>
                    <a:pt x="6361" y="4197"/>
                    <a:pt x="6608" y="4450"/>
                    <a:pt x="6818" y="4435"/>
                  </a:cubicBezTo>
                  <a:cubicBezTo>
                    <a:pt x="7028" y="4420"/>
                    <a:pt x="7238" y="4388"/>
                    <a:pt x="7502" y="4132"/>
                  </a:cubicBezTo>
                  <a:cubicBezTo>
                    <a:pt x="7599" y="4002"/>
                    <a:pt x="7822" y="3711"/>
                    <a:pt x="7616" y="3144"/>
                  </a:cubicBezTo>
                  <a:cubicBezTo>
                    <a:pt x="7558" y="3031"/>
                    <a:pt x="7822" y="3031"/>
                    <a:pt x="7822" y="3229"/>
                  </a:cubicBezTo>
                  <a:cubicBezTo>
                    <a:pt x="7822" y="3229"/>
                    <a:pt x="8027" y="2718"/>
                    <a:pt x="8086" y="2946"/>
                  </a:cubicBezTo>
                  <a:cubicBezTo>
                    <a:pt x="8144" y="3173"/>
                    <a:pt x="8144" y="3343"/>
                    <a:pt x="8144" y="3343"/>
                  </a:cubicBezTo>
                  <a:cubicBezTo>
                    <a:pt x="8144" y="3343"/>
                    <a:pt x="8877" y="3116"/>
                    <a:pt x="8174" y="2606"/>
                  </a:cubicBezTo>
                  <a:cubicBezTo>
                    <a:pt x="8174" y="2606"/>
                    <a:pt x="8115" y="2463"/>
                    <a:pt x="8174" y="2350"/>
                  </a:cubicBezTo>
                  <a:cubicBezTo>
                    <a:pt x="8231" y="2237"/>
                    <a:pt x="8261" y="1954"/>
                    <a:pt x="7910" y="1954"/>
                  </a:cubicBezTo>
                  <a:cubicBezTo>
                    <a:pt x="7528" y="1981"/>
                    <a:pt x="7734" y="1783"/>
                    <a:pt x="7704" y="1698"/>
                  </a:cubicBezTo>
                  <a:cubicBezTo>
                    <a:pt x="7646" y="1613"/>
                    <a:pt x="7499" y="1613"/>
                    <a:pt x="7440" y="1641"/>
                  </a:cubicBezTo>
                  <a:cubicBezTo>
                    <a:pt x="7382" y="1641"/>
                    <a:pt x="6738" y="705"/>
                    <a:pt x="6005" y="1414"/>
                  </a:cubicBezTo>
                  <a:cubicBezTo>
                    <a:pt x="6005" y="1414"/>
                    <a:pt x="5947" y="1159"/>
                    <a:pt x="6093" y="1130"/>
                  </a:cubicBezTo>
                  <a:cubicBezTo>
                    <a:pt x="6093" y="1130"/>
                    <a:pt x="5741" y="1188"/>
                    <a:pt x="5859" y="1386"/>
                  </a:cubicBezTo>
                  <a:lnTo>
                    <a:pt x="5683" y="1471"/>
                  </a:lnTo>
                  <a:cubicBezTo>
                    <a:pt x="5683" y="1471"/>
                    <a:pt x="5947" y="1641"/>
                    <a:pt x="5771" y="1641"/>
                  </a:cubicBezTo>
                  <a:cubicBezTo>
                    <a:pt x="5595" y="1670"/>
                    <a:pt x="4775" y="1925"/>
                    <a:pt x="5039" y="2293"/>
                  </a:cubicBezTo>
                  <a:cubicBezTo>
                    <a:pt x="5301" y="2633"/>
                    <a:pt x="4921" y="2521"/>
                    <a:pt x="4921" y="2521"/>
                  </a:cubicBezTo>
                  <a:cubicBezTo>
                    <a:pt x="4921" y="2521"/>
                    <a:pt x="4599" y="2946"/>
                    <a:pt x="4921" y="2946"/>
                  </a:cubicBezTo>
                  <a:cubicBezTo>
                    <a:pt x="4921" y="2946"/>
                    <a:pt x="5009" y="3088"/>
                    <a:pt x="4804" y="3088"/>
                  </a:cubicBezTo>
                  <a:cubicBezTo>
                    <a:pt x="4569" y="3116"/>
                    <a:pt x="4540" y="3258"/>
                    <a:pt x="4628" y="3428"/>
                  </a:cubicBezTo>
                  <a:cubicBezTo>
                    <a:pt x="4716" y="3570"/>
                    <a:pt x="4892" y="3683"/>
                    <a:pt x="4921" y="3825"/>
                  </a:cubicBezTo>
                  <a:cubicBezTo>
                    <a:pt x="4980" y="3995"/>
                    <a:pt x="5009" y="4137"/>
                    <a:pt x="4951" y="4137"/>
                  </a:cubicBezTo>
                  <a:cubicBezTo>
                    <a:pt x="4892" y="4165"/>
                    <a:pt x="4716" y="4194"/>
                    <a:pt x="4716" y="4194"/>
                  </a:cubicBezTo>
                  <a:close/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7"/>
            <p:cNvSpPr/>
            <p:nvPr/>
          </p:nvSpPr>
          <p:spPr>
            <a:xfrm>
              <a:off x="1708560" y="2255760"/>
              <a:ext cx="1131480" cy="1407600"/>
            </a:xfrm>
            <a:custGeom>
              <a:avLst/>
              <a:gdLst>
                <a:gd name="textAreaLeft" fmla="*/ 0 w 1131480"/>
                <a:gd name="textAreaRight" fmla="*/ 1131840 w 1131480"/>
                <a:gd name="textAreaTop" fmla="*/ 0 h 1407600"/>
                <a:gd name="textAreaBottom" fmla="*/ 1407960 h 1407600"/>
              </a:gdLst>
              <a:ahLst/>
              <a:rect l="textAreaLeft" t="textAreaTop" r="textAreaRight" b="textAreaBottom"/>
              <a:pathLst>
                <a:path w="139" h="173">
                  <a:moveTo>
                    <a:pt x="139" y="0"/>
                  </a:moveTo>
                  <a:cubicBezTo>
                    <a:pt x="139" y="0"/>
                    <a:pt x="68" y="59"/>
                    <a:pt x="0" y="173"/>
                  </a:cubicBezTo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Line 8"/>
            <p:cNvSpPr/>
            <p:nvPr/>
          </p:nvSpPr>
          <p:spPr>
            <a:xfrm>
              <a:off x="2441880" y="2873160"/>
              <a:ext cx="903240" cy="652680"/>
            </a:xfrm>
            <a:prstGeom prst="line">
              <a:avLst/>
            </a:prstGeom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9"/>
            <p:cNvSpPr/>
            <p:nvPr/>
          </p:nvSpPr>
          <p:spPr>
            <a:xfrm rot="21060600">
              <a:off x="3167280" y="3362400"/>
              <a:ext cx="364680" cy="31716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45" h="39">
                  <a:moveTo>
                    <a:pt x="26" y="23"/>
                  </a:moveTo>
                  <a:cubicBezTo>
                    <a:pt x="26" y="23"/>
                    <a:pt x="24" y="0"/>
                    <a:pt x="24" y="1"/>
                  </a:cubicBezTo>
                  <a:cubicBezTo>
                    <a:pt x="26" y="6"/>
                    <a:pt x="45" y="39"/>
                    <a:pt x="45" y="39"/>
                  </a:cubicBezTo>
                  <a:cubicBezTo>
                    <a:pt x="45" y="39"/>
                    <a:pt x="12" y="24"/>
                    <a:pt x="3" y="22"/>
                  </a:cubicBezTo>
                  <a:cubicBezTo>
                    <a:pt x="0" y="22"/>
                    <a:pt x="16" y="23"/>
                    <a:pt x="26" y="23"/>
                  </a:cubicBezTo>
                  <a:close/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0" dur="5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5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4" dur="5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8" dur="5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5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42" dur="4500" fill="hold"/>
                                        <p:tgtEl>
                                          <p:spTgt spid="539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43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44" dur="4500" fill="hold"/>
                                        <p:tgtEl>
                                          <p:spTgt spid="529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465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465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25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25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300000">
                                      <p:cBhvr>
                                        <p:cTn id="766" dur="5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00000">
                                      <p:cBhvr>
                                        <p:cTn id="768" dur="4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9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0" dur="7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2" dur="2000" fill="hold"/>
                                        <p:tgtEl>
                                          <p:spTgt spid="553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3" nodeType="withEffect" fill="hold" presetClass="path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05556E-006 -3.7037E-007 C 0.00312 0.00116 0.01371 0.00394 0.01875 0.00718 C 0.02743 0.01759 0.03767 0.04769 0.04357 0.07384 C 0.046 0.0956 0.05191 0.13403 0.03593 0.17107 C 0.01649 0.20625 0.00468 0.23032 -0.07309 0.23218 C -0.15087 0.23403 -0.16823 0.22384 -0.21198 0.20162 E">
                                      <p:cBhvr>
                                        <p:cTn id="794" dur="6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nodeType="withEffect" fill="hold" presetClass="path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.00104 -0.00069 C 0.00555 0.02361 0.04149 0.10347 0.02812 0.14514 C 0.01267 0.18611 -0.00382 0.23125 -0.07882 0.24977 C -0.12292 0.26019 -0.22344 0.26621 -0.27882 0.25903 C -0.33507 0.25232 -0.38768 0.21945 -0.41632 0.20903 E">
                                      <p:cBhvr>
                                        <p:cTn id="796" dur="525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798" dur="2750" fill="hold"/>
                                        <p:tgtEl>
                                          <p:spTgt spid="561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800" dur="2750" fill="hold"/>
                                        <p:tgtEl>
                                          <p:spTgt spid="567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hteck 139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e5e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57" name="Gruppieren 135"/>
          <p:cNvGrpSpPr/>
          <p:nvPr/>
        </p:nvGrpSpPr>
        <p:grpSpPr>
          <a:xfrm>
            <a:off x="654480" y="1047600"/>
            <a:ext cx="7789320" cy="4948920"/>
            <a:chOff x="654480" y="1047600"/>
            <a:chExt cx="7789320" cy="4948920"/>
          </a:xfrm>
        </p:grpSpPr>
        <p:sp>
          <p:nvSpPr>
            <p:cNvPr id="658" name="Freeform 7"/>
            <p:cNvSpPr/>
            <p:nvPr/>
          </p:nvSpPr>
          <p:spPr>
            <a:xfrm>
              <a:off x="654480" y="1047600"/>
              <a:ext cx="7789320" cy="2322360"/>
            </a:xfrm>
            <a:custGeom>
              <a:avLst/>
              <a:gdLst>
                <a:gd name="textAreaLeft" fmla="*/ 0 w 7789320"/>
                <a:gd name="textAreaRight" fmla="*/ 7789680 w 778932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2836" h="846">
                  <a:moveTo>
                    <a:pt x="1382" y="145"/>
                  </a:moveTo>
                  <a:cubicBezTo>
                    <a:pt x="1395" y="133"/>
                    <a:pt x="1385" y="97"/>
                    <a:pt x="1406" y="93"/>
                  </a:cubicBezTo>
                  <a:cubicBezTo>
                    <a:pt x="1439" y="105"/>
                    <a:pt x="1438" y="152"/>
                    <a:pt x="1486" y="149"/>
                  </a:cubicBezTo>
                  <a:cubicBezTo>
                    <a:pt x="1487" y="158"/>
                    <a:pt x="1492" y="164"/>
                    <a:pt x="1490" y="177"/>
                  </a:cubicBezTo>
                  <a:cubicBezTo>
                    <a:pt x="1537" y="158"/>
                    <a:pt x="1541" y="97"/>
                    <a:pt x="1578" y="69"/>
                  </a:cubicBezTo>
                  <a:cubicBezTo>
                    <a:pt x="1636" y="91"/>
                    <a:pt x="1660" y="27"/>
                    <a:pt x="1718" y="49"/>
                  </a:cubicBezTo>
                  <a:cubicBezTo>
                    <a:pt x="1730" y="92"/>
                    <a:pt x="1687" y="100"/>
                    <a:pt x="1698" y="129"/>
                  </a:cubicBezTo>
                  <a:cubicBezTo>
                    <a:pt x="1739" y="121"/>
                    <a:pt x="1731" y="51"/>
                    <a:pt x="1774" y="53"/>
                  </a:cubicBezTo>
                  <a:cubicBezTo>
                    <a:pt x="1800" y="54"/>
                    <a:pt x="1802" y="80"/>
                    <a:pt x="1818" y="101"/>
                  </a:cubicBezTo>
                  <a:cubicBezTo>
                    <a:pt x="1869" y="79"/>
                    <a:pt x="1930" y="113"/>
                    <a:pt x="1962" y="137"/>
                  </a:cubicBezTo>
                  <a:cubicBezTo>
                    <a:pt x="1952" y="178"/>
                    <a:pt x="1925" y="202"/>
                    <a:pt x="1918" y="245"/>
                  </a:cubicBezTo>
                  <a:cubicBezTo>
                    <a:pt x="1958" y="233"/>
                    <a:pt x="1951" y="171"/>
                    <a:pt x="1994" y="161"/>
                  </a:cubicBezTo>
                  <a:cubicBezTo>
                    <a:pt x="2032" y="152"/>
                    <a:pt x="2123" y="192"/>
                    <a:pt x="2118" y="241"/>
                  </a:cubicBezTo>
                  <a:cubicBezTo>
                    <a:pt x="2138" y="244"/>
                    <a:pt x="2146" y="234"/>
                    <a:pt x="2166" y="237"/>
                  </a:cubicBezTo>
                  <a:cubicBezTo>
                    <a:pt x="2242" y="296"/>
                    <a:pt x="2346" y="327"/>
                    <a:pt x="2410" y="397"/>
                  </a:cubicBezTo>
                  <a:cubicBezTo>
                    <a:pt x="2457" y="396"/>
                    <a:pt x="2467" y="431"/>
                    <a:pt x="2478" y="465"/>
                  </a:cubicBezTo>
                  <a:cubicBezTo>
                    <a:pt x="2497" y="465"/>
                    <a:pt x="2515" y="465"/>
                    <a:pt x="2534" y="465"/>
                  </a:cubicBezTo>
                  <a:cubicBezTo>
                    <a:pt x="2534" y="498"/>
                    <a:pt x="2566" y="501"/>
                    <a:pt x="2586" y="521"/>
                  </a:cubicBezTo>
                  <a:cubicBezTo>
                    <a:pt x="2601" y="535"/>
                    <a:pt x="2604" y="557"/>
                    <a:pt x="2614" y="565"/>
                  </a:cubicBezTo>
                  <a:cubicBezTo>
                    <a:pt x="2629" y="576"/>
                    <a:pt x="2652" y="576"/>
                    <a:pt x="2670" y="585"/>
                  </a:cubicBezTo>
                  <a:cubicBezTo>
                    <a:pt x="2685" y="593"/>
                    <a:pt x="2696" y="607"/>
                    <a:pt x="2710" y="617"/>
                  </a:cubicBezTo>
                  <a:cubicBezTo>
                    <a:pt x="2766" y="660"/>
                    <a:pt x="2836" y="688"/>
                    <a:pt x="2834" y="781"/>
                  </a:cubicBezTo>
                  <a:cubicBezTo>
                    <a:pt x="2792" y="793"/>
                    <a:pt x="2757" y="802"/>
                    <a:pt x="2714" y="785"/>
                  </a:cubicBezTo>
                  <a:cubicBezTo>
                    <a:pt x="2695" y="777"/>
                    <a:pt x="2683" y="757"/>
                    <a:pt x="2666" y="753"/>
                  </a:cubicBezTo>
                  <a:cubicBezTo>
                    <a:pt x="2602" y="738"/>
                    <a:pt x="2538" y="769"/>
                    <a:pt x="2474" y="745"/>
                  </a:cubicBezTo>
                  <a:cubicBezTo>
                    <a:pt x="2468" y="711"/>
                    <a:pt x="2497" y="712"/>
                    <a:pt x="2498" y="685"/>
                  </a:cubicBezTo>
                  <a:cubicBezTo>
                    <a:pt x="2449" y="703"/>
                    <a:pt x="2438" y="758"/>
                    <a:pt x="2386" y="765"/>
                  </a:cubicBezTo>
                  <a:cubicBezTo>
                    <a:pt x="2341" y="771"/>
                    <a:pt x="2313" y="730"/>
                    <a:pt x="2254" y="741"/>
                  </a:cubicBezTo>
                  <a:cubicBezTo>
                    <a:pt x="2245" y="731"/>
                    <a:pt x="2239" y="718"/>
                    <a:pt x="2242" y="697"/>
                  </a:cubicBezTo>
                  <a:cubicBezTo>
                    <a:pt x="2222" y="693"/>
                    <a:pt x="2215" y="718"/>
                    <a:pt x="2190" y="725"/>
                  </a:cubicBezTo>
                  <a:cubicBezTo>
                    <a:pt x="2145" y="737"/>
                    <a:pt x="2064" y="718"/>
                    <a:pt x="2054" y="685"/>
                  </a:cubicBezTo>
                  <a:cubicBezTo>
                    <a:pt x="2037" y="628"/>
                    <a:pt x="2093" y="596"/>
                    <a:pt x="2098" y="545"/>
                  </a:cubicBezTo>
                  <a:cubicBezTo>
                    <a:pt x="2078" y="556"/>
                    <a:pt x="2054" y="581"/>
                    <a:pt x="2042" y="605"/>
                  </a:cubicBezTo>
                  <a:cubicBezTo>
                    <a:pt x="2033" y="624"/>
                    <a:pt x="2035" y="646"/>
                    <a:pt x="2022" y="661"/>
                  </a:cubicBezTo>
                  <a:cubicBezTo>
                    <a:pt x="1990" y="699"/>
                    <a:pt x="1942" y="695"/>
                    <a:pt x="1870" y="705"/>
                  </a:cubicBezTo>
                  <a:cubicBezTo>
                    <a:pt x="1874" y="652"/>
                    <a:pt x="1881" y="588"/>
                    <a:pt x="1874" y="537"/>
                  </a:cubicBezTo>
                  <a:cubicBezTo>
                    <a:pt x="1842" y="628"/>
                    <a:pt x="1839" y="747"/>
                    <a:pt x="1698" y="729"/>
                  </a:cubicBezTo>
                  <a:cubicBezTo>
                    <a:pt x="1697" y="663"/>
                    <a:pt x="1705" y="605"/>
                    <a:pt x="1702" y="537"/>
                  </a:cubicBezTo>
                  <a:cubicBezTo>
                    <a:pt x="1669" y="598"/>
                    <a:pt x="1703" y="727"/>
                    <a:pt x="1654" y="773"/>
                  </a:cubicBezTo>
                  <a:cubicBezTo>
                    <a:pt x="1607" y="772"/>
                    <a:pt x="1607" y="724"/>
                    <a:pt x="1602" y="681"/>
                  </a:cubicBezTo>
                  <a:cubicBezTo>
                    <a:pt x="1579" y="736"/>
                    <a:pt x="1581" y="818"/>
                    <a:pt x="1498" y="813"/>
                  </a:cubicBezTo>
                  <a:cubicBezTo>
                    <a:pt x="1466" y="757"/>
                    <a:pt x="1498" y="637"/>
                    <a:pt x="1470" y="577"/>
                  </a:cubicBezTo>
                  <a:cubicBezTo>
                    <a:pt x="1432" y="634"/>
                    <a:pt x="1463" y="759"/>
                    <a:pt x="1434" y="825"/>
                  </a:cubicBezTo>
                  <a:cubicBezTo>
                    <a:pt x="1383" y="846"/>
                    <a:pt x="1355" y="783"/>
                    <a:pt x="1318" y="769"/>
                  </a:cubicBezTo>
                  <a:cubicBezTo>
                    <a:pt x="1300" y="762"/>
                    <a:pt x="1282" y="768"/>
                    <a:pt x="1266" y="761"/>
                  </a:cubicBezTo>
                  <a:cubicBezTo>
                    <a:pt x="1206" y="734"/>
                    <a:pt x="1217" y="665"/>
                    <a:pt x="1206" y="577"/>
                  </a:cubicBezTo>
                  <a:cubicBezTo>
                    <a:pt x="1191" y="614"/>
                    <a:pt x="1199" y="674"/>
                    <a:pt x="1166" y="693"/>
                  </a:cubicBezTo>
                  <a:cubicBezTo>
                    <a:pt x="1137" y="687"/>
                    <a:pt x="1133" y="657"/>
                    <a:pt x="1110" y="645"/>
                  </a:cubicBezTo>
                  <a:cubicBezTo>
                    <a:pt x="1094" y="644"/>
                    <a:pt x="1084" y="667"/>
                    <a:pt x="1066" y="669"/>
                  </a:cubicBezTo>
                  <a:cubicBezTo>
                    <a:pt x="1034" y="673"/>
                    <a:pt x="988" y="640"/>
                    <a:pt x="938" y="645"/>
                  </a:cubicBezTo>
                  <a:cubicBezTo>
                    <a:pt x="911" y="648"/>
                    <a:pt x="865" y="671"/>
                    <a:pt x="842" y="661"/>
                  </a:cubicBezTo>
                  <a:cubicBezTo>
                    <a:pt x="801" y="643"/>
                    <a:pt x="821" y="583"/>
                    <a:pt x="790" y="561"/>
                  </a:cubicBezTo>
                  <a:cubicBezTo>
                    <a:pt x="771" y="591"/>
                    <a:pt x="798" y="648"/>
                    <a:pt x="786" y="685"/>
                  </a:cubicBezTo>
                  <a:cubicBezTo>
                    <a:pt x="755" y="705"/>
                    <a:pt x="712" y="708"/>
                    <a:pt x="694" y="677"/>
                  </a:cubicBezTo>
                  <a:cubicBezTo>
                    <a:pt x="678" y="649"/>
                    <a:pt x="693" y="599"/>
                    <a:pt x="662" y="585"/>
                  </a:cubicBezTo>
                  <a:cubicBezTo>
                    <a:pt x="671" y="665"/>
                    <a:pt x="635" y="777"/>
                    <a:pt x="566" y="705"/>
                  </a:cubicBezTo>
                  <a:cubicBezTo>
                    <a:pt x="549" y="712"/>
                    <a:pt x="552" y="739"/>
                    <a:pt x="530" y="741"/>
                  </a:cubicBezTo>
                  <a:cubicBezTo>
                    <a:pt x="490" y="723"/>
                    <a:pt x="483" y="671"/>
                    <a:pt x="442" y="653"/>
                  </a:cubicBezTo>
                  <a:cubicBezTo>
                    <a:pt x="419" y="667"/>
                    <a:pt x="428" y="713"/>
                    <a:pt x="426" y="749"/>
                  </a:cubicBezTo>
                  <a:cubicBezTo>
                    <a:pt x="358" y="752"/>
                    <a:pt x="285" y="763"/>
                    <a:pt x="262" y="713"/>
                  </a:cubicBezTo>
                  <a:cubicBezTo>
                    <a:pt x="241" y="714"/>
                    <a:pt x="236" y="732"/>
                    <a:pt x="218" y="737"/>
                  </a:cubicBezTo>
                  <a:cubicBezTo>
                    <a:pt x="153" y="703"/>
                    <a:pt x="103" y="765"/>
                    <a:pt x="30" y="761"/>
                  </a:cubicBezTo>
                  <a:cubicBezTo>
                    <a:pt x="0" y="733"/>
                    <a:pt x="58" y="624"/>
                    <a:pt x="98" y="617"/>
                  </a:cubicBezTo>
                  <a:cubicBezTo>
                    <a:pt x="176" y="603"/>
                    <a:pt x="237" y="575"/>
                    <a:pt x="262" y="501"/>
                  </a:cubicBezTo>
                  <a:cubicBezTo>
                    <a:pt x="303" y="455"/>
                    <a:pt x="432" y="498"/>
                    <a:pt x="438" y="417"/>
                  </a:cubicBezTo>
                  <a:cubicBezTo>
                    <a:pt x="466" y="369"/>
                    <a:pt x="531" y="370"/>
                    <a:pt x="574" y="341"/>
                  </a:cubicBezTo>
                  <a:cubicBezTo>
                    <a:pt x="587" y="333"/>
                    <a:pt x="593" y="311"/>
                    <a:pt x="606" y="301"/>
                  </a:cubicBezTo>
                  <a:cubicBezTo>
                    <a:pt x="621" y="290"/>
                    <a:pt x="643" y="293"/>
                    <a:pt x="646" y="269"/>
                  </a:cubicBezTo>
                  <a:cubicBezTo>
                    <a:pt x="702" y="276"/>
                    <a:pt x="708" y="333"/>
                    <a:pt x="742" y="361"/>
                  </a:cubicBezTo>
                  <a:cubicBezTo>
                    <a:pt x="773" y="324"/>
                    <a:pt x="714" y="292"/>
                    <a:pt x="718" y="253"/>
                  </a:cubicBezTo>
                  <a:cubicBezTo>
                    <a:pt x="722" y="220"/>
                    <a:pt x="859" y="130"/>
                    <a:pt x="918" y="141"/>
                  </a:cubicBezTo>
                  <a:cubicBezTo>
                    <a:pt x="934" y="142"/>
                    <a:pt x="929" y="122"/>
                    <a:pt x="938" y="117"/>
                  </a:cubicBezTo>
                  <a:cubicBezTo>
                    <a:pt x="958" y="125"/>
                    <a:pt x="962" y="149"/>
                    <a:pt x="978" y="161"/>
                  </a:cubicBezTo>
                  <a:cubicBezTo>
                    <a:pt x="944" y="48"/>
                    <a:pt x="1091" y="36"/>
                    <a:pt x="1154" y="77"/>
                  </a:cubicBezTo>
                  <a:cubicBezTo>
                    <a:pt x="1164" y="68"/>
                    <a:pt x="1159" y="45"/>
                    <a:pt x="1174" y="41"/>
                  </a:cubicBezTo>
                  <a:cubicBezTo>
                    <a:pt x="1194" y="40"/>
                    <a:pt x="1199" y="53"/>
                    <a:pt x="1210" y="61"/>
                  </a:cubicBezTo>
                  <a:cubicBezTo>
                    <a:pt x="1290" y="0"/>
                    <a:pt x="1372" y="56"/>
                    <a:pt x="1382" y="145"/>
                  </a:cubicBezTo>
                  <a:close/>
                  <a:moveTo>
                    <a:pt x="1186" y="177"/>
                  </a:moveTo>
                  <a:cubicBezTo>
                    <a:pt x="1199" y="175"/>
                    <a:pt x="1203" y="144"/>
                    <a:pt x="1186" y="145"/>
                  </a:cubicBezTo>
                  <a:cubicBezTo>
                    <a:pt x="1186" y="156"/>
                    <a:pt x="1186" y="166"/>
                    <a:pt x="1186" y="177"/>
                  </a:cubicBezTo>
                  <a:close/>
                  <a:moveTo>
                    <a:pt x="638" y="545"/>
                  </a:moveTo>
                  <a:cubicBezTo>
                    <a:pt x="635" y="525"/>
                    <a:pt x="627" y="511"/>
                    <a:pt x="602" y="513"/>
                  </a:cubicBezTo>
                  <a:cubicBezTo>
                    <a:pt x="609" y="528"/>
                    <a:pt x="614" y="547"/>
                    <a:pt x="638" y="545"/>
                  </a:cubicBezTo>
                  <a:close/>
                  <a:moveTo>
                    <a:pt x="1334" y="641"/>
                  </a:moveTo>
                  <a:cubicBezTo>
                    <a:pt x="1335" y="624"/>
                    <a:pt x="1343" y="608"/>
                    <a:pt x="1330" y="597"/>
                  </a:cubicBezTo>
                  <a:cubicBezTo>
                    <a:pt x="1324" y="606"/>
                    <a:pt x="1323" y="637"/>
                    <a:pt x="1334" y="641"/>
                  </a:cubicBezTo>
                  <a:close/>
                </a:path>
              </a:pathLst>
            </a:custGeom>
            <a:solidFill>
              <a:srgbClr val="cc0000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>
              <a:off x="804600" y="3269520"/>
              <a:ext cx="7534800" cy="2727000"/>
            </a:xfrm>
            <a:custGeom>
              <a:avLst/>
              <a:gdLst>
                <a:gd name="textAreaLeft" fmla="*/ 0 w 7534800"/>
                <a:gd name="textAreaRight" fmla="*/ 7535160 w 7534800"/>
                <a:gd name="textAreaTop" fmla="*/ 0 h 2727000"/>
                <a:gd name="textAreaBottom" fmla="*/ 2727360 h 2727000"/>
              </a:gdLst>
              <a:ahLst/>
              <a:rect l="textAreaLeft" t="textAreaTop" r="textAreaRight" b="textAreaBottom"/>
              <a:pathLst>
                <a:path w="2744" h="993">
                  <a:moveTo>
                    <a:pt x="244" y="112"/>
                  </a:moveTo>
                  <a:cubicBezTo>
                    <a:pt x="292" y="93"/>
                    <a:pt x="338" y="118"/>
                    <a:pt x="364" y="144"/>
                  </a:cubicBezTo>
                  <a:cubicBezTo>
                    <a:pt x="365" y="181"/>
                    <a:pt x="358" y="210"/>
                    <a:pt x="352" y="240"/>
                  </a:cubicBezTo>
                  <a:cubicBezTo>
                    <a:pt x="385" y="220"/>
                    <a:pt x="388" y="166"/>
                    <a:pt x="432" y="152"/>
                  </a:cubicBezTo>
                  <a:cubicBezTo>
                    <a:pt x="454" y="145"/>
                    <a:pt x="500" y="146"/>
                    <a:pt x="536" y="140"/>
                  </a:cubicBezTo>
                  <a:cubicBezTo>
                    <a:pt x="588" y="131"/>
                    <a:pt x="623" y="114"/>
                    <a:pt x="680" y="124"/>
                  </a:cubicBezTo>
                  <a:cubicBezTo>
                    <a:pt x="678" y="157"/>
                    <a:pt x="647" y="161"/>
                    <a:pt x="636" y="184"/>
                  </a:cubicBezTo>
                  <a:cubicBezTo>
                    <a:pt x="662" y="199"/>
                    <a:pt x="675" y="171"/>
                    <a:pt x="688" y="160"/>
                  </a:cubicBezTo>
                  <a:cubicBezTo>
                    <a:pt x="729" y="146"/>
                    <a:pt x="777" y="132"/>
                    <a:pt x="828" y="140"/>
                  </a:cubicBezTo>
                  <a:cubicBezTo>
                    <a:pt x="837" y="145"/>
                    <a:pt x="834" y="163"/>
                    <a:pt x="840" y="172"/>
                  </a:cubicBezTo>
                  <a:cubicBezTo>
                    <a:pt x="871" y="145"/>
                    <a:pt x="948" y="117"/>
                    <a:pt x="980" y="160"/>
                  </a:cubicBezTo>
                  <a:cubicBezTo>
                    <a:pt x="1038" y="175"/>
                    <a:pt x="1122" y="155"/>
                    <a:pt x="1140" y="196"/>
                  </a:cubicBezTo>
                  <a:cubicBezTo>
                    <a:pt x="1163" y="246"/>
                    <a:pt x="1075" y="288"/>
                    <a:pt x="1096" y="352"/>
                  </a:cubicBezTo>
                  <a:cubicBezTo>
                    <a:pt x="1136" y="334"/>
                    <a:pt x="1134" y="270"/>
                    <a:pt x="1168" y="240"/>
                  </a:cubicBezTo>
                  <a:cubicBezTo>
                    <a:pt x="1190" y="220"/>
                    <a:pt x="1226" y="207"/>
                    <a:pt x="1268" y="224"/>
                  </a:cubicBezTo>
                  <a:cubicBezTo>
                    <a:pt x="1277" y="234"/>
                    <a:pt x="1277" y="253"/>
                    <a:pt x="1276" y="272"/>
                  </a:cubicBezTo>
                  <a:cubicBezTo>
                    <a:pt x="1302" y="243"/>
                    <a:pt x="1334" y="221"/>
                    <a:pt x="1388" y="220"/>
                  </a:cubicBezTo>
                  <a:cubicBezTo>
                    <a:pt x="1439" y="254"/>
                    <a:pt x="1408" y="370"/>
                    <a:pt x="1436" y="428"/>
                  </a:cubicBezTo>
                  <a:cubicBezTo>
                    <a:pt x="1475" y="385"/>
                    <a:pt x="1430" y="302"/>
                    <a:pt x="1436" y="240"/>
                  </a:cubicBezTo>
                  <a:cubicBezTo>
                    <a:pt x="1464" y="240"/>
                    <a:pt x="1492" y="240"/>
                    <a:pt x="1520" y="240"/>
                  </a:cubicBezTo>
                  <a:cubicBezTo>
                    <a:pt x="1552" y="261"/>
                    <a:pt x="1557" y="310"/>
                    <a:pt x="1568" y="352"/>
                  </a:cubicBezTo>
                  <a:cubicBezTo>
                    <a:pt x="1579" y="314"/>
                    <a:pt x="1558" y="274"/>
                    <a:pt x="1564" y="228"/>
                  </a:cubicBezTo>
                  <a:cubicBezTo>
                    <a:pt x="1593" y="195"/>
                    <a:pt x="1672" y="198"/>
                    <a:pt x="1696" y="232"/>
                  </a:cubicBezTo>
                  <a:cubicBezTo>
                    <a:pt x="1717" y="225"/>
                    <a:pt x="1716" y="209"/>
                    <a:pt x="1740" y="204"/>
                  </a:cubicBezTo>
                  <a:cubicBezTo>
                    <a:pt x="1789" y="195"/>
                    <a:pt x="1815" y="217"/>
                    <a:pt x="1828" y="164"/>
                  </a:cubicBezTo>
                  <a:cubicBezTo>
                    <a:pt x="1848" y="165"/>
                    <a:pt x="1853" y="181"/>
                    <a:pt x="1868" y="188"/>
                  </a:cubicBezTo>
                  <a:cubicBezTo>
                    <a:pt x="1884" y="183"/>
                    <a:pt x="1884" y="162"/>
                    <a:pt x="1908" y="164"/>
                  </a:cubicBezTo>
                  <a:cubicBezTo>
                    <a:pt x="1931" y="174"/>
                    <a:pt x="1929" y="209"/>
                    <a:pt x="1952" y="220"/>
                  </a:cubicBezTo>
                  <a:cubicBezTo>
                    <a:pt x="1945" y="191"/>
                    <a:pt x="1926" y="174"/>
                    <a:pt x="1928" y="136"/>
                  </a:cubicBezTo>
                  <a:cubicBezTo>
                    <a:pt x="1932" y="136"/>
                    <a:pt x="1931" y="131"/>
                    <a:pt x="1932" y="128"/>
                  </a:cubicBezTo>
                  <a:cubicBezTo>
                    <a:pt x="1956" y="113"/>
                    <a:pt x="1987" y="106"/>
                    <a:pt x="2016" y="108"/>
                  </a:cubicBezTo>
                  <a:cubicBezTo>
                    <a:pt x="2057" y="110"/>
                    <a:pt x="2075" y="139"/>
                    <a:pt x="2104" y="148"/>
                  </a:cubicBezTo>
                  <a:cubicBezTo>
                    <a:pt x="2116" y="144"/>
                    <a:pt x="2108" y="120"/>
                    <a:pt x="2116" y="112"/>
                  </a:cubicBezTo>
                  <a:cubicBezTo>
                    <a:pt x="2149" y="88"/>
                    <a:pt x="2206" y="106"/>
                    <a:pt x="2236" y="120"/>
                  </a:cubicBezTo>
                  <a:cubicBezTo>
                    <a:pt x="2271" y="98"/>
                    <a:pt x="2331" y="92"/>
                    <a:pt x="2364" y="120"/>
                  </a:cubicBezTo>
                  <a:cubicBezTo>
                    <a:pt x="2415" y="98"/>
                    <a:pt x="2493" y="101"/>
                    <a:pt x="2532" y="132"/>
                  </a:cubicBezTo>
                  <a:cubicBezTo>
                    <a:pt x="2581" y="93"/>
                    <a:pt x="2667" y="35"/>
                    <a:pt x="2744" y="64"/>
                  </a:cubicBezTo>
                  <a:cubicBezTo>
                    <a:pt x="2731" y="168"/>
                    <a:pt x="2650" y="204"/>
                    <a:pt x="2576" y="248"/>
                  </a:cubicBezTo>
                  <a:cubicBezTo>
                    <a:pt x="2556" y="253"/>
                    <a:pt x="2560" y="234"/>
                    <a:pt x="2548" y="232"/>
                  </a:cubicBezTo>
                  <a:cubicBezTo>
                    <a:pt x="2544" y="326"/>
                    <a:pt x="2473" y="352"/>
                    <a:pt x="2404" y="380"/>
                  </a:cubicBezTo>
                  <a:cubicBezTo>
                    <a:pt x="2342" y="492"/>
                    <a:pt x="2230" y="553"/>
                    <a:pt x="2144" y="640"/>
                  </a:cubicBezTo>
                  <a:cubicBezTo>
                    <a:pt x="2125" y="619"/>
                    <a:pt x="2127" y="577"/>
                    <a:pt x="2116" y="548"/>
                  </a:cubicBezTo>
                  <a:cubicBezTo>
                    <a:pt x="2121" y="690"/>
                    <a:pt x="2028" y="734"/>
                    <a:pt x="1952" y="796"/>
                  </a:cubicBezTo>
                  <a:cubicBezTo>
                    <a:pt x="1947" y="781"/>
                    <a:pt x="1946" y="763"/>
                    <a:pt x="1944" y="744"/>
                  </a:cubicBezTo>
                  <a:cubicBezTo>
                    <a:pt x="1915" y="798"/>
                    <a:pt x="1912" y="877"/>
                    <a:pt x="1840" y="888"/>
                  </a:cubicBezTo>
                  <a:cubicBezTo>
                    <a:pt x="1825" y="883"/>
                    <a:pt x="1827" y="862"/>
                    <a:pt x="1816" y="852"/>
                  </a:cubicBezTo>
                  <a:cubicBezTo>
                    <a:pt x="1771" y="867"/>
                    <a:pt x="1758" y="914"/>
                    <a:pt x="1708" y="924"/>
                  </a:cubicBezTo>
                  <a:cubicBezTo>
                    <a:pt x="1669" y="891"/>
                    <a:pt x="1683" y="805"/>
                    <a:pt x="1672" y="744"/>
                  </a:cubicBezTo>
                  <a:cubicBezTo>
                    <a:pt x="1673" y="856"/>
                    <a:pt x="1662" y="993"/>
                    <a:pt x="1528" y="944"/>
                  </a:cubicBezTo>
                  <a:cubicBezTo>
                    <a:pt x="1520" y="933"/>
                    <a:pt x="1514" y="920"/>
                    <a:pt x="1508" y="908"/>
                  </a:cubicBezTo>
                  <a:cubicBezTo>
                    <a:pt x="1477" y="934"/>
                    <a:pt x="1359" y="965"/>
                    <a:pt x="1336" y="908"/>
                  </a:cubicBezTo>
                  <a:cubicBezTo>
                    <a:pt x="1328" y="889"/>
                    <a:pt x="1338" y="867"/>
                    <a:pt x="1332" y="836"/>
                  </a:cubicBezTo>
                  <a:cubicBezTo>
                    <a:pt x="1321" y="866"/>
                    <a:pt x="1316" y="903"/>
                    <a:pt x="1300" y="928"/>
                  </a:cubicBezTo>
                  <a:cubicBezTo>
                    <a:pt x="1280" y="943"/>
                    <a:pt x="1237" y="949"/>
                    <a:pt x="1204" y="940"/>
                  </a:cubicBezTo>
                  <a:cubicBezTo>
                    <a:pt x="1182" y="920"/>
                    <a:pt x="1181" y="878"/>
                    <a:pt x="1180" y="836"/>
                  </a:cubicBezTo>
                  <a:cubicBezTo>
                    <a:pt x="1159" y="874"/>
                    <a:pt x="1146" y="940"/>
                    <a:pt x="1092" y="924"/>
                  </a:cubicBezTo>
                  <a:cubicBezTo>
                    <a:pt x="1045" y="910"/>
                    <a:pt x="1063" y="822"/>
                    <a:pt x="1052" y="764"/>
                  </a:cubicBezTo>
                  <a:cubicBezTo>
                    <a:pt x="1031" y="794"/>
                    <a:pt x="1047" y="860"/>
                    <a:pt x="1028" y="892"/>
                  </a:cubicBezTo>
                  <a:cubicBezTo>
                    <a:pt x="968" y="919"/>
                    <a:pt x="939" y="856"/>
                    <a:pt x="896" y="840"/>
                  </a:cubicBezTo>
                  <a:cubicBezTo>
                    <a:pt x="879" y="834"/>
                    <a:pt x="857" y="838"/>
                    <a:pt x="840" y="832"/>
                  </a:cubicBezTo>
                  <a:cubicBezTo>
                    <a:pt x="769" y="808"/>
                    <a:pt x="725" y="718"/>
                    <a:pt x="640" y="692"/>
                  </a:cubicBezTo>
                  <a:cubicBezTo>
                    <a:pt x="607" y="682"/>
                    <a:pt x="581" y="614"/>
                    <a:pt x="580" y="576"/>
                  </a:cubicBezTo>
                  <a:cubicBezTo>
                    <a:pt x="547" y="652"/>
                    <a:pt x="499" y="561"/>
                    <a:pt x="492" y="516"/>
                  </a:cubicBezTo>
                  <a:cubicBezTo>
                    <a:pt x="413" y="515"/>
                    <a:pt x="389" y="452"/>
                    <a:pt x="348" y="400"/>
                  </a:cubicBezTo>
                  <a:cubicBezTo>
                    <a:pt x="317" y="361"/>
                    <a:pt x="285" y="336"/>
                    <a:pt x="256" y="304"/>
                  </a:cubicBezTo>
                  <a:cubicBezTo>
                    <a:pt x="255" y="287"/>
                    <a:pt x="251" y="271"/>
                    <a:pt x="248" y="256"/>
                  </a:cubicBezTo>
                  <a:cubicBezTo>
                    <a:pt x="241" y="251"/>
                    <a:pt x="224" y="260"/>
                    <a:pt x="212" y="252"/>
                  </a:cubicBezTo>
                  <a:cubicBezTo>
                    <a:pt x="182" y="204"/>
                    <a:pt x="120" y="182"/>
                    <a:pt x="68" y="140"/>
                  </a:cubicBezTo>
                  <a:cubicBezTo>
                    <a:pt x="43" y="120"/>
                    <a:pt x="0" y="83"/>
                    <a:pt x="0" y="64"/>
                  </a:cubicBezTo>
                  <a:cubicBezTo>
                    <a:pt x="0" y="0"/>
                    <a:pt x="95" y="28"/>
                    <a:pt x="140" y="48"/>
                  </a:cubicBezTo>
                  <a:cubicBezTo>
                    <a:pt x="148" y="53"/>
                    <a:pt x="150" y="65"/>
                    <a:pt x="156" y="72"/>
                  </a:cubicBezTo>
                  <a:cubicBezTo>
                    <a:pt x="200" y="71"/>
                    <a:pt x="218" y="95"/>
                    <a:pt x="244" y="112"/>
                  </a:cubicBezTo>
                  <a:close/>
                  <a:moveTo>
                    <a:pt x="1764" y="396"/>
                  </a:moveTo>
                  <a:cubicBezTo>
                    <a:pt x="1763" y="335"/>
                    <a:pt x="1741" y="294"/>
                    <a:pt x="1708" y="264"/>
                  </a:cubicBezTo>
                  <a:cubicBezTo>
                    <a:pt x="1713" y="321"/>
                    <a:pt x="1733" y="364"/>
                    <a:pt x="1764" y="396"/>
                  </a:cubicBezTo>
                  <a:close/>
                  <a:moveTo>
                    <a:pt x="840" y="628"/>
                  </a:moveTo>
                  <a:cubicBezTo>
                    <a:pt x="853" y="629"/>
                    <a:pt x="859" y="623"/>
                    <a:pt x="860" y="612"/>
                  </a:cubicBezTo>
                  <a:cubicBezTo>
                    <a:pt x="855" y="605"/>
                    <a:pt x="852" y="596"/>
                    <a:pt x="840" y="596"/>
                  </a:cubicBezTo>
                  <a:cubicBezTo>
                    <a:pt x="839" y="610"/>
                    <a:pt x="834" y="615"/>
                    <a:pt x="840" y="628"/>
                  </a:cubicBezTo>
                  <a:close/>
                  <a:moveTo>
                    <a:pt x="1524" y="872"/>
                  </a:moveTo>
                  <a:cubicBezTo>
                    <a:pt x="1525" y="809"/>
                    <a:pt x="1536" y="731"/>
                    <a:pt x="1512" y="684"/>
                  </a:cubicBezTo>
                  <a:cubicBezTo>
                    <a:pt x="1498" y="731"/>
                    <a:pt x="1485" y="843"/>
                    <a:pt x="1524" y="872"/>
                  </a:cubicBezTo>
                  <a:close/>
                </a:path>
              </a:pathLst>
            </a:custGeom>
            <a:solidFill>
              <a:srgbClr val="cc0000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0" name="Textfeld 138"/>
          <p:cNvSpPr/>
          <p:nvPr/>
        </p:nvSpPr>
        <p:spPr>
          <a:xfrm>
            <a:off x="3968640" y="1691280"/>
            <a:ext cx="1500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ap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140"/>
          <p:cNvSpPr/>
          <p:nvPr/>
        </p:nvSpPr>
        <p:spPr>
          <a:xfrm>
            <a:off x="2952000" y="4375440"/>
            <a:ext cx="3315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Valentine‘s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1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hteck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860000"/>
              </a:gs>
              <a:gs pos="100000">
                <a:srgbClr val="ff0000"/>
              </a:gs>
            </a:gsLst>
            <a:lin ang="13500000"/>
          </a:gradFill>
          <a:ln w="1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3166200" y="2074680"/>
            <a:ext cx="2058840" cy="3387600"/>
          </a:xfrm>
          <a:custGeom>
            <a:avLst/>
            <a:gdLst>
              <a:gd name="textAreaLeft" fmla="*/ 0 w 2058840"/>
              <a:gd name="textAreaRight" fmla="*/ 2059200 w 2058840"/>
              <a:gd name="textAreaTop" fmla="*/ 0 h 3387600"/>
              <a:gd name="textAreaBottom" fmla="*/ 3387960 h 3387600"/>
            </a:gdLst>
            <a:ahLst/>
            <a:rect l="textAreaLeft" t="textAreaTop" r="textAreaRight" b="textAreaBottom"/>
            <a:pathLst>
              <a:path w="886" h="1457">
                <a:moveTo>
                  <a:pt x="0" y="368"/>
                </a:moveTo>
                <a:cubicBezTo>
                  <a:pt x="3" y="369"/>
                  <a:pt x="3" y="369"/>
                  <a:pt x="3" y="369"/>
                </a:cubicBezTo>
                <a:cubicBezTo>
                  <a:pt x="9" y="367"/>
                  <a:pt x="9" y="367"/>
                  <a:pt x="9" y="367"/>
                </a:cubicBezTo>
                <a:cubicBezTo>
                  <a:pt x="44" y="158"/>
                  <a:pt x="226" y="0"/>
                  <a:pt x="444" y="0"/>
                </a:cubicBezTo>
                <a:cubicBezTo>
                  <a:pt x="688" y="0"/>
                  <a:pt x="886" y="198"/>
                  <a:pt x="886" y="442"/>
                </a:cubicBezTo>
                <a:cubicBezTo>
                  <a:pt x="886" y="575"/>
                  <a:pt x="828" y="694"/>
                  <a:pt x="735" y="775"/>
                </a:cubicBezTo>
                <a:cubicBezTo>
                  <a:pt x="735" y="776"/>
                  <a:pt x="734" y="776"/>
                  <a:pt x="734" y="777"/>
                </a:cubicBezTo>
                <a:cubicBezTo>
                  <a:pt x="729" y="781"/>
                  <a:pt x="724" y="784"/>
                  <a:pt x="719" y="788"/>
                </a:cubicBezTo>
                <a:cubicBezTo>
                  <a:pt x="714" y="792"/>
                  <a:pt x="709" y="796"/>
                  <a:pt x="704" y="800"/>
                </a:cubicBezTo>
                <a:cubicBezTo>
                  <a:pt x="330" y="1085"/>
                  <a:pt x="4" y="1457"/>
                  <a:pt x="4" y="1457"/>
                </a:cubicBezTo>
                <a:cubicBezTo>
                  <a:pt x="3" y="1454"/>
                  <a:pt x="3" y="1454"/>
                  <a:pt x="3" y="1454"/>
                </a:cubicBezTo>
                <a:cubicBezTo>
                  <a:pt x="3" y="1457"/>
                  <a:pt x="3" y="1457"/>
                  <a:pt x="3" y="1457"/>
                </a:cubicBezTo>
                <a:cubicBezTo>
                  <a:pt x="3" y="1457"/>
                  <a:pt x="2" y="1456"/>
                  <a:pt x="0" y="1454"/>
                </a:cubicBezTo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000000"/>
              </a:gs>
            </a:gsLst>
            <a:lin ang="8100000"/>
          </a:gradFill>
          <a:ln w="10">
            <a:noFill/>
          </a:ln>
          <a:effectLst>
            <a:innerShdw blurRad="63500" dir="18900000" dist="25400">
              <a:srgbClr val="000000">
                <a:alpha val="50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feld 26"/>
          <p:cNvSpPr/>
          <p:nvPr/>
        </p:nvSpPr>
        <p:spPr>
          <a:xfrm>
            <a:off x="4187880" y="3769560"/>
            <a:ext cx="437976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</a:rPr>
              <a:t>Happ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Palatino Linotype"/>
              </a:rPr>
              <a:t>Valentines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</a:rPr>
              <a:t>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feld 27"/>
          <p:cNvSpPr/>
          <p:nvPr/>
        </p:nvSpPr>
        <p:spPr>
          <a:xfrm>
            <a:off x="4346640" y="5229000"/>
            <a:ext cx="41032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express your love righ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Herz 1"/>
          <p:cNvSpPr/>
          <p:nvPr/>
        </p:nvSpPr>
        <p:spPr>
          <a:xfrm>
            <a:off x="4114800" y="215460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Herz 8"/>
          <p:cNvSpPr/>
          <p:nvPr/>
        </p:nvSpPr>
        <p:spPr>
          <a:xfrm>
            <a:off x="4133520" y="222264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Herz 9"/>
          <p:cNvSpPr/>
          <p:nvPr/>
        </p:nvSpPr>
        <p:spPr>
          <a:xfrm>
            <a:off x="3744360" y="21895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Herz 10"/>
          <p:cNvSpPr/>
          <p:nvPr/>
        </p:nvSpPr>
        <p:spPr>
          <a:xfrm>
            <a:off x="4134960" y="23533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Herz 11"/>
          <p:cNvSpPr/>
          <p:nvPr/>
        </p:nvSpPr>
        <p:spPr>
          <a:xfrm>
            <a:off x="3547800" y="23533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Herz 12"/>
          <p:cNvSpPr/>
          <p:nvPr/>
        </p:nvSpPr>
        <p:spPr>
          <a:xfrm>
            <a:off x="3836880" y="211896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Herz 13"/>
          <p:cNvSpPr/>
          <p:nvPr/>
        </p:nvSpPr>
        <p:spPr>
          <a:xfrm>
            <a:off x="3272400" y="257364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Herz 14"/>
          <p:cNvSpPr/>
          <p:nvPr/>
        </p:nvSpPr>
        <p:spPr>
          <a:xfrm>
            <a:off x="3975480" y="21967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Herz 15"/>
          <p:cNvSpPr/>
          <p:nvPr/>
        </p:nvSpPr>
        <p:spPr>
          <a:xfrm>
            <a:off x="3742200" y="277740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Herz 16"/>
          <p:cNvSpPr/>
          <p:nvPr/>
        </p:nvSpPr>
        <p:spPr>
          <a:xfrm>
            <a:off x="3953880" y="250488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Herz 17"/>
          <p:cNvSpPr/>
          <p:nvPr/>
        </p:nvSpPr>
        <p:spPr>
          <a:xfrm>
            <a:off x="4297320" y="23803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Herz 18"/>
          <p:cNvSpPr/>
          <p:nvPr/>
        </p:nvSpPr>
        <p:spPr>
          <a:xfrm>
            <a:off x="1946880" y="216936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Herz 19"/>
          <p:cNvSpPr/>
          <p:nvPr/>
        </p:nvSpPr>
        <p:spPr>
          <a:xfrm>
            <a:off x="2339640" y="250920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Herz 22"/>
          <p:cNvSpPr/>
          <p:nvPr/>
        </p:nvSpPr>
        <p:spPr>
          <a:xfrm>
            <a:off x="1541160" y="224856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Herz 24"/>
          <p:cNvSpPr/>
          <p:nvPr/>
        </p:nvSpPr>
        <p:spPr>
          <a:xfrm>
            <a:off x="1931760" y="241236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Herz 25"/>
          <p:cNvSpPr/>
          <p:nvPr/>
        </p:nvSpPr>
        <p:spPr>
          <a:xfrm>
            <a:off x="1344960" y="241236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Herz 28"/>
          <p:cNvSpPr/>
          <p:nvPr/>
        </p:nvSpPr>
        <p:spPr>
          <a:xfrm>
            <a:off x="2339640" y="285300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Herz 29"/>
          <p:cNvSpPr/>
          <p:nvPr/>
        </p:nvSpPr>
        <p:spPr>
          <a:xfrm>
            <a:off x="2250000" y="220356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Herz 30"/>
          <p:cNvSpPr/>
          <p:nvPr/>
        </p:nvSpPr>
        <p:spPr>
          <a:xfrm>
            <a:off x="1148400" y="26431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Herz 31"/>
          <p:cNvSpPr/>
          <p:nvPr/>
        </p:nvSpPr>
        <p:spPr>
          <a:xfrm>
            <a:off x="1539000" y="283680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Herz 32"/>
          <p:cNvSpPr/>
          <p:nvPr/>
        </p:nvSpPr>
        <p:spPr>
          <a:xfrm>
            <a:off x="1750680" y="256392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Herz 33"/>
          <p:cNvSpPr/>
          <p:nvPr/>
        </p:nvSpPr>
        <p:spPr>
          <a:xfrm>
            <a:off x="1968840" y="2912040"/>
            <a:ext cx="392400" cy="326880"/>
          </a:xfrm>
          <a:prstGeom prst="heart">
            <a:avLst/>
          </a:prstGeom>
          <a:gradFill rotWithShape="0">
            <a:gsLst>
              <a:gs pos="0">
                <a:srgbClr val="ffc000">
                  <a:alpha val="86274"/>
                </a:srgbClr>
              </a:gs>
              <a:gs pos="100000">
                <a:srgbClr val="ffff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1115640" y="2079000"/>
            <a:ext cx="2050920" cy="338040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3380400"/>
              <a:gd name="textAreaBottom" fmla="*/ 3380760 h 3380400"/>
            </a:gdLst>
            <a:ahLst/>
            <a:rect l="textAreaLeft" t="textAreaTop" r="textAreaRight" b="textAreaBottom"/>
            <a:pathLst>
              <a:path w="882" h="1454">
                <a:moveTo>
                  <a:pt x="878" y="366"/>
                </a:moveTo>
                <a:cubicBezTo>
                  <a:pt x="842" y="158"/>
                  <a:pt x="660" y="0"/>
                  <a:pt x="442" y="0"/>
                </a:cubicBezTo>
                <a:cubicBezTo>
                  <a:pt x="198" y="0"/>
                  <a:pt x="0" y="198"/>
                  <a:pt x="0" y="442"/>
                </a:cubicBezTo>
                <a:cubicBezTo>
                  <a:pt x="0" y="598"/>
                  <a:pt x="81" y="735"/>
                  <a:pt x="204" y="814"/>
                </a:cubicBezTo>
                <a:cubicBezTo>
                  <a:pt x="549" y="1081"/>
                  <a:pt x="850" y="1417"/>
                  <a:pt x="882" y="1454"/>
                </a:cubicBezTo>
                <a:cubicBezTo>
                  <a:pt x="882" y="368"/>
                  <a:pt x="882" y="368"/>
                  <a:pt x="882" y="368"/>
                </a:cubicBezTo>
                <a:lnTo>
                  <a:pt x="878" y="366"/>
                </a:lnTo>
                <a:close/>
              </a:path>
            </a:pathLst>
          </a:custGeom>
          <a:gradFill rotWithShape="0">
            <a:gsLst>
              <a:gs pos="0">
                <a:srgbClr val="860000"/>
              </a:gs>
              <a:gs pos="100000">
                <a:srgbClr val="ff0000"/>
              </a:gs>
            </a:gsLst>
            <a:lin ang="13500000"/>
          </a:gradFill>
          <a:ln w="1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9"/>
          <p:cNvSpPr/>
          <p:nvPr/>
        </p:nvSpPr>
        <p:spPr>
          <a:xfrm>
            <a:off x="3166200" y="2067480"/>
            <a:ext cx="1659240" cy="3390840"/>
          </a:xfrm>
          <a:custGeom>
            <a:avLst/>
            <a:gdLst>
              <a:gd name="textAreaLeft" fmla="*/ 0 w 1659240"/>
              <a:gd name="textAreaRight" fmla="*/ 1659600 w 1659240"/>
              <a:gd name="textAreaTop" fmla="*/ 0 h 3390840"/>
              <a:gd name="textAreaBottom" fmla="*/ 3391200 h 3390840"/>
            </a:gdLst>
            <a:ahLst/>
            <a:rect l="textAreaLeft" t="textAreaTop" r="textAreaRight" b="textAreaBottom"/>
            <a:pathLst>
              <a:path w="886" h="1457">
                <a:moveTo>
                  <a:pt x="3" y="1454"/>
                </a:moveTo>
                <a:cubicBezTo>
                  <a:pt x="4" y="1457"/>
                  <a:pt x="4" y="1457"/>
                  <a:pt x="4" y="1457"/>
                </a:cubicBezTo>
                <a:cubicBezTo>
                  <a:pt x="4" y="1457"/>
                  <a:pt x="330" y="1085"/>
                  <a:pt x="704" y="800"/>
                </a:cubicBezTo>
                <a:cubicBezTo>
                  <a:pt x="709" y="796"/>
                  <a:pt x="714" y="792"/>
                  <a:pt x="719" y="788"/>
                </a:cubicBezTo>
                <a:cubicBezTo>
                  <a:pt x="724" y="784"/>
                  <a:pt x="729" y="781"/>
                  <a:pt x="734" y="777"/>
                </a:cubicBezTo>
                <a:cubicBezTo>
                  <a:pt x="734" y="776"/>
                  <a:pt x="735" y="776"/>
                  <a:pt x="735" y="775"/>
                </a:cubicBezTo>
                <a:cubicBezTo>
                  <a:pt x="828" y="694"/>
                  <a:pt x="886" y="575"/>
                  <a:pt x="886" y="442"/>
                </a:cubicBezTo>
                <a:cubicBezTo>
                  <a:pt x="886" y="198"/>
                  <a:pt x="688" y="0"/>
                  <a:pt x="444" y="0"/>
                </a:cubicBezTo>
                <a:cubicBezTo>
                  <a:pt x="226" y="0"/>
                  <a:pt x="44" y="158"/>
                  <a:pt x="9" y="367"/>
                </a:cubicBezTo>
                <a:cubicBezTo>
                  <a:pt x="3" y="369"/>
                  <a:pt x="3" y="369"/>
                  <a:pt x="3" y="369"/>
                </a:cubicBezTo>
                <a:cubicBezTo>
                  <a:pt x="0" y="368"/>
                  <a:pt x="0" y="368"/>
                  <a:pt x="0" y="368"/>
                </a:cubicBezTo>
                <a:cubicBezTo>
                  <a:pt x="0" y="1454"/>
                  <a:pt x="0" y="1454"/>
                  <a:pt x="0" y="1454"/>
                </a:cubicBezTo>
                <a:cubicBezTo>
                  <a:pt x="2" y="1456"/>
                  <a:pt x="3" y="1457"/>
                  <a:pt x="3" y="1457"/>
                </a:cubicBezTo>
                <a:lnTo>
                  <a:pt x="3" y="1454"/>
                </a:ln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fffff"/>
              </a:gs>
            </a:gsLst>
            <a:lin ang="18900000"/>
          </a:gradFill>
          <a:ln w="1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3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47" repeatCount="indefinite">
                                  <p:stCondLst>
                                    <p:cond delay="21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47" repeatCount="indefinite">
                                  <p:stCondLst>
                                    <p:cond delay="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47" repeatCount="indefinite">
                                  <p:stCondLst>
                                    <p:cond delay="41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47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47" repeatCount="indefinite">
                                  <p:stCondLst>
                                    <p:cond delay="3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47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47" repeatCount="indefinite">
                                  <p:stCondLst>
                                    <p:cond delay="4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47" repeatCount="indefinite">
                                  <p:stCondLst>
                                    <p:cond delay="3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7" repeatCount="indefinite">
                                  <p:stCondLst>
                                    <p:cond delay="5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47" repeatCount="indefinite">
                                  <p:stCondLst>
                                    <p:cond delay="21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47" repeatCount="indefinite">
                                  <p:stCondLst>
                                    <p:cond delay="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47" repeatCount="indefinite">
                                  <p:stCondLst>
                                    <p:cond delay="41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47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47" repeatCount="indefinite">
                                  <p:stCondLst>
                                    <p:cond delay="3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47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47" repeatCount="indefinite">
                                  <p:stCondLst>
                                    <p:cond delay="4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47" repeatCount="indefinite">
                                  <p:stCondLst>
                                    <p:cond delay="3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47" repeatCount="indefinite">
                                  <p:stCondLst>
                                    <p:cond delay="5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hteck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98a7"/>
              </a:gs>
              <a:gs pos="100000">
                <a:srgbClr val="ff4f68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4059360" y="5870520"/>
            <a:ext cx="299520" cy="2995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646440" y="5518080"/>
            <a:ext cx="412560" cy="4154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4351320" y="6124680"/>
            <a:ext cx="183960" cy="1807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3219480" y="5146560"/>
            <a:ext cx="472680" cy="4712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2619360" y="4708440"/>
            <a:ext cx="577440" cy="5760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2239920" y="4411800"/>
            <a:ext cx="417240" cy="4154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2"/>
          <p:cNvSpPr/>
          <p:nvPr/>
        </p:nvSpPr>
        <p:spPr>
          <a:xfrm>
            <a:off x="2004840" y="4130640"/>
            <a:ext cx="328320" cy="3297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13"/>
          <p:cNvSpPr/>
          <p:nvPr/>
        </p:nvSpPr>
        <p:spPr>
          <a:xfrm>
            <a:off x="1741320" y="3946680"/>
            <a:ext cx="232920" cy="2361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14"/>
          <p:cNvSpPr/>
          <p:nvPr/>
        </p:nvSpPr>
        <p:spPr>
          <a:xfrm>
            <a:off x="1490760" y="3662280"/>
            <a:ext cx="266400" cy="2617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15"/>
          <p:cNvSpPr/>
          <p:nvPr/>
        </p:nvSpPr>
        <p:spPr>
          <a:xfrm>
            <a:off x="1265400" y="3327480"/>
            <a:ext cx="261720" cy="2664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16"/>
          <p:cNvSpPr/>
          <p:nvPr/>
        </p:nvSpPr>
        <p:spPr>
          <a:xfrm>
            <a:off x="1044720" y="2919240"/>
            <a:ext cx="352080" cy="3520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7"/>
          <p:cNvSpPr/>
          <p:nvPr/>
        </p:nvSpPr>
        <p:spPr>
          <a:xfrm>
            <a:off x="819000" y="2255760"/>
            <a:ext cx="566280" cy="5648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887400" y="1974960"/>
            <a:ext cx="220320" cy="2203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965160" y="1562040"/>
            <a:ext cx="285480" cy="283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1141560" y="1322280"/>
            <a:ext cx="156960" cy="1598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21"/>
          <p:cNvSpPr/>
          <p:nvPr/>
        </p:nvSpPr>
        <p:spPr>
          <a:xfrm>
            <a:off x="1287360" y="1108080"/>
            <a:ext cx="158400" cy="1569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22"/>
          <p:cNvSpPr/>
          <p:nvPr/>
        </p:nvSpPr>
        <p:spPr>
          <a:xfrm>
            <a:off x="1479600" y="819000"/>
            <a:ext cx="333000" cy="3330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23"/>
          <p:cNvSpPr/>
          <p:nvPr/>
        </p:nvSpPr>
        <p:spPr>
          <a:xfrm>
            <a:off x="1832040" y="549360"/>
            <a:ext cx="471240" cy="472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2382840" y="552600"/>
            <a:ext cx="310680" cy="3157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Oval 25"/>
          <p:cNvSpPr/>
          <p:nvPr/>
        </p:nvSpPr>
        <p:spPr>
          <a:xfrm>
            <a:off x="3092400" y="755640"/>
            <a:ext cx="313920" cy="310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26"/>
          <p:cNvSpPr/>
          <p:nvPr/>
        </p:nvSpPr>
        <p:spPr>
          <a:xfrm>
            <a:off x="2817720" y="650880"/>
            <a:ext cx="213840" cy="2170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27"/>
          <p:cNvSpPr/>
          <p:nvPr/>
        </p:nvSpPr>
        <p:spPr>
          <a:xfrm>
            <a:off x="3387600" y="909720"/>
            <a:ext cx="558360" cy="5583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28"/>
          <p:cNvSpPr/>
          <p:nvPr/>
        </p:nvSpPr>
        <p:spPr>
          <a:xfrm>
            <a:off x="3838680" y="1366920"/>
            <a:ext cx="396360" cy="3963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29"/>
          <p:cNvSpPr/>
          <p:nvPr/>
        </p:nvSpPr>
        <p:spPr>
          <a:xfrm>
            <a:off x="4130640" y="1768320"/>
            <a:ext cx="283680" cy="283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30"/>
          <p:cNvSpPr/>
          <p:nvPr/>
        </p:nvSpPr>
        <p:spPr>
          <a:xfrm>
            <a:off x="4292640" y="2068560"/>
            <a:ext cx="471240" cy="4712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31"/>
          <p:cNvSpPr/>
          <p:nvPr/>
        </p:nvSpPr>
        <p:spPr>
          <a:xfrm>
            <a:off x="4667400" y="1906560"/>
            <a:ext cx="190080" cy="1918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32"/>
          <p:cNvSpPr/>
          <p:nvPr/>
        </p:nvSpPr>
        <p:spPr>
          <a:xfrm>
            <a:off x="4786200" y="1636560"/>
            <a:ext cx="255240" cy="2552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33"/>
          <p:cNvSpPr/>
          <p:nvPr/>
        </p:nvSpPr>
        <p:spPr>
          <a:xfrm>
            <a:off x="4970520" y="1209600"/>
            <a:ext cx="385560" cy="3855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34"/>
          <p:cNvSpPr/>
          <p:nvPr/>
        </p:nvSpPr>
        <p:spPr>
          <a:xfrm>
            <a:off x="5326200" y="830160"/>
            <a:ext cx="472680" cy="472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35"/>
          <p:cNvSpPr/>
          <p:nvPr/>
        </p:nvSpPr>
        <p:spPr>
          <a:xfrm>
            <a:off x="5840280" y="717480"/>
            <a:ext cx="221760" cy="2250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6"/>
          <p:cNvSpPr/>
          <p:nvPr/>
        </p:nvSpPr>
        <p:spPr>
          <a:xfrm>
            <a:off x="6132600" y="646200"/>
            <a:ext cx="221760" cy="2250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37"/>
          <p:cNvSpPr/>
          <p:nvPr/>
        </p:nvSpPr>
        <p:spPr>
          <a:xfrm>
            <a:off x="6448320" y="609480"/>
            <a:ext cx="225000" cy="2203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38"/>
          <p:cNvSpPr/>
          <p:nvPr/>
        </p:nvSpPr>
        <p:spPr>
          <a:xfrm>
            <a:off x="7161120" y="763560"/>
            <a:ext cx="220320" cy="2235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39"/>
          <p:cNvSpPr/>
          <p:nvPr/>
        </p:nvSpPr>
        <p:spPr>
          <a:xfrm>
            <a:off x="6751800" y="601560"/>
            <a:ext cx="315720" cy="3157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40"/>
          <p:cNvSpPr/>
          <p:nvPr/>
        </p:nvSpPr>
        <p:spPr>
          <a:xfrm>
            <a:off x="7426440" y="934920"/>
            <a:ext cx="172800" cy="175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41"/>
          <p:cNvSpPr/>
          <p:nvPr/>
        </p:nvSpPr>
        <p:spPr>
          <a:xfrm>
            <a:off x="7626240" y="1096920"/>
            <a:ext cx="223560" cy="2250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7772400" y="1336680"/>
            <a:ext cx="313920" cy="3186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43"/>
          <p:cNvSpPr/>
          <p:nvPr/>
        </p:nvSpPr>
        <p:spPr>
          <a:xfrm>
            <a:off x="7861320" y="1704960"/>
            <a:ext cx="382320" cy="3805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44"/>
          <p:cNvSpPr/>
          <p:nvPr/>
        </p:nvSpPr>
        <p:spPr>
          <a:xfrm>
            <a:off x="7764480" y="2712960"/>
            <a:ext cx="382320" cy="3823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45"/>
          <p:cNvSpPr/>
          <p:nvPr/>
        </p:nvSpPr>
        <p:spPr>
          <a:xfrm>
            <a:off x="7846920" y="2165400"/>
            <a:ext cx="472680" cy="472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7321680" y="3406680"/>
            <a:ext cx="472680" cy="47268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47"/>
          <p:cNvSpPr/>
          <p:nvPr/>
        </p:nvSpPr>
        <p:spPr>
          <a:xfrm>
            <a:off x="7696080" y="3151080"/>
            <a:ext cx="266400" cy="26640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48"/>
          <p:cNvSpPr/>
          <p:nvPr/>
        </p:nvSpPr>
        <p:spPr>
          <a:xfrm>
            <a:off x="7227720" y="3902040"/>
            <a:ext cx="202680" cy="2059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Oval 49"/>
          <p:cNvSpPr/>
          <p:nvPr/>
        </p:nvSpPr>
        <p:spPr>
          <a:xfrm>
            <a:off x="6985080" y="4114800"/>
            <a:ext cx="288720" cy="28872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0"/>
          <p:cNvSpPr/>
          <p:nvPr/>
        </p:nvSpPr>
        <p:spPr>
          <a:xfrm>
            <a:off x="6647040" y="4367160"/>
            <a:ext cx="385560" cy="3855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51"/>
          <p:cNvSpPr/>
          <p:nvPr/>
        </p:nvSpPr>
        <p:spPr>
          <a:xfrm>
            <a:off x="6140520" y="4640400"/>
            <a:ext cx="588600" cy="59184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feld 51"/>
          <p:cNvSpPr/>
          <p:nvPr/>
        </p:nvSpPr>
        <p:spPr>
          <a:xfrm>
            <a:off x="908640" y="2520000"/>
            <a:ext cx="7277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545454"/>
                </a:solidFill>
                <a:latin typeface="Vladimir Script"/>
              </a:rPr>
              <a:t>Happy Valentine‘s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hteck 52"/>
          <p:cNvSpPr/>
          <p:nvPr/>
        </p:nvSpPr>
        <p:spPr>
          <a:xfrm rot="600">
            <a:off x="1344960" y="3483720"/>
            <a:ext cx="6680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545454"/>
                </a:solidFill>
                <a:latin typeface="Vladimir Script"/>
              </a:rPr>
              <a:t>enter your love message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6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7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9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1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2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3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4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6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7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8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9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1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2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3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4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6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7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8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9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1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2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3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4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6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6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hteck 10"/>
          <p:cNvSpPr/>
          <p:nvPr/>
        </p:nvSpPr>
        <p:spPr>
          <a:xfrm>
            <a:off x="-14760" y="-33120"/>
            <a:ext cx="9158400" cy="6890760"/>
          </a:xfrm>
          <a:prstGeom prst="rect">
            <a:avLst/>
          </a:prstGeom>
          <a:gradFill rotWithShape="0">
            <a:gsLst>
              <a:gs pos="0">
                <a:srgbClr val="ff98a7"/>
              </a:gs>
              <a:gs pos="100000">
                <a:srgbClr val="ff4f68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Rechteck 8"/>
          <p:cNvSpPr/>
          <p:nvPr/>
        </p:nvSpPr>
        <p:spPr>
          <a:xfrm>
            <a:off x="326160" y="561960"/>
            <a:ext cx="8893800" cy="6771960"/>
          </a:xfrm>
          <a:custGeom>
            <a:avLst/>
            <a:gdLst>
              <a:gd name="textAreaLeft" fmla="*/ 0 w 8893800"/>
              <a:gd name="textAreaRight" fmla="*/ 8894160 w 8893800"/>
              <a:gd name="textAreaTop" fmla="*/ 0 h 6771960"/>
              <a:gd name="textAreaBottom" fmla="*/ 6772320 h 6771960"/>
            </a:gdLst>
            <a:ahLst/>
            <a:rect l="textAreaLeft" t="textAreaTop" r="textAreaRight" b="textAreaBottom"/>
            <a:pathLst>
              <a:path w="8894022" h="6772275">
                <a:moveTo>
                  <a:pt x="0" y="1085850"/>
                </a:moveTo>
                <a:lnTo>
                  <a:pt x="5160222" y="0"/>
                </a:lnTo>
                <a:lnTo>
                  <a:pt x="7303347" y="504825"/>
                </a:lnTo>
                <a:lnTo>
                  <a:pt x="8894022" y="6657975"/>
                </a:lnTo>
                <a:lnTo>
                  <a:pt x="1304925" y="6772275"/>
                </a:lnTo>
                <a:lnTo>
                  <a:pt x="0" y="108585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  <a:effectLst>
            <a:outerShdw algn="r" blurRad="114480" dir="10800000" dist="7632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5" name="Gruppieren 7"/>
          <p:cNvGrpSpPr/>
          <p:nvPr/>
        </p:nvGrpSpPr>
        <p:grpSpPr>
          <a:xfrm>
            <a:off x="5257800" y="3852720"/>
            <a:ext cx="3085560" cy="2541600"/>
            <a:chOff x="5257800" y="3852720"/>
            <a:chExt cx="3085560" cy="2541600"/>
          </a:xfrm>
        </p:grpSpPr>
        <p:sp>
          <p:nvSpPr>
            <p:cNvPr id="206" name="Freeform 7"/>
            <p:cNvSpPr/>
            <p:nvPr/>
          </p:nvSpPr>
          <p:spPr>
            <a:xfrm rot="1225200">
              <a:off x="5582880" y="4299120"/>
              <a:ext cx="2704680" cy="806400"/>
            </a:xfrm>
            <a:custGeom>
              <a:avLst/>
              <a:gdLst>
                <a:gd name="textAreaLeft" fmla="*/ 0 w 2704680"/>
                <a:gd name="textAreaRight" fmla="*/ 2705040 w 270468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2836" h="846">
                  <a:moveTo>
                    <a:pt x="1382" y="145"/>
                  </a:moveTo>
                  <a:cubicBezTo>
                    <a:pt x="1395" y="133"/>
                    <a:pt x="1385" y="97"/>
                    <a:pt x="1406" y="93"/>
                  </a:cubicBezTo>
                  <a:cubicBezTo>
                    <a:pt x="1439" y="105"/>
                    <a:pt x="1438" y="152"/>
                    <a:pt x="1486" y="149"/>
                  </a:cubicBezTo>
                  <a:cubicBezTo>
                    <a:pt x="1487" y="158"/>
                    <a:pt x="1492" y="164"/>
                    <a:pt x="1490" y="177"/>
                  </a:cubicBezTo>
                  <a:cubicBezTo>
                    <a:pt x="1537" y="158"/>
                    <a:pt x="1541" y="97"/>
                    <a:pt x="1578" y="69"/>
                  </a:cubicBezTo>
                  <a:cubicBezTo>
                    <a:pt x="1636" y="91"/>
                    <a:pt x="1660" y="27"/>
                    <a:pt x="1718" y="49"/>
                  </a:cubicBezTo>
                  <a:cubicBezTo>
                    <a:pt x="1730" y="92"/>
                    <a:pt x="1687" y="100"/>
                    <a:pt x="1698" y="129"/>
                  </a:cubicBezTo>
                  <a:cubicBezTo>
                    <a:pt x="1739" y="121"/>
                    <a:pt x="1731" y="51"/>
                    <a:pt x="1774" y="53"/>
                  </a:cubicBezTo>
                  <a:cubicBezTo>
                    <a:pt x="1800" y="54"/>
                    <a:pt x="1802" y="80"/>
                    <a:pt x="1818" y="101"/>
                  </a:cubicBezTo>
                  <a:cubicBezTo>
                    <a:pt x="1869" y="79"/>
                    <a:pt x="1930" y="113"/>
                    <a:pt x="1962" y="137"/>
                  </a:cubicBezTo>
                  <a:cubicBezTo>
                    <a:pt x="1952" y="178"/>
                    <a:pt x="1925" y="202"/>
                    <a:pt x="1918" y="245"/>
                  </a:cubicBezTo>
                  <a:cubicBezTo>
                    <a:pt x="1958" y="233"/>
                    <a:pt x="1951" y="171"/>
                    <a:pt x="1994" y="161"/>
                  </a:cubicBezTo>
                  <a:cubicBezTo>
                    <a:pt x="2032" y="152"/>
                    <a:pt x="2123" y="192"/>
                    <a:pt x="2118" y="241"/>
                  </a:cubicBezTo>
                  <a:cubicBezTo>
                    <a:pt x="2138" y="244"/>
                    <a:pt x="2146" y="234"/>
                    <a:pt x="2166" y="237"/>
                  </a:cubicBezTo>
                  <a:cubicBezTo>
                    <a:pt x="2242" y="296"/>
                    <a:pt x="2346" y="327"/>
                    <a:pt x="2410" y="397"/>
                  </a:cubicBezTo>
                  <a:cubicBezTo>
                    <a:pt x="2457" y="396"/>
                    <a:pt x="2467" y="431"/>
                    <a:pt x="2478" y="465"/>
                  </a:cubicBezTo>
                  <a:cubicBezTo>
                    <a:pt x="2497" y="465"/>
                    <a:pt x="2515" y="465"/>
                    <a:pt x="2534" y="465"/>
                  </a:cubicBezTo>
                  <a:cubicBezTo>
                    <a:pt x="2534" y="498"/>
                    <a:pt x="2566" y="501"/>
                    <a:pt x="2586" y="521"/>
                  </a:cubicBezTo>
                  <a:cubicBezTo>
                    <a:pt x="2601" y="535"/>
                    <a:pt x="2604" y="557"/>
                    <a:pt x="2614" y="565"/>
                  </a:cubicBezTo>
                  <a:cubicBezTo>
                    <a:pt x="2629" y="576"/>
                    <a:pt x="2652" y="576"/>
                    <a:pt x="2670" y="585"/>
                  </a:cubicBezTo>
                  <a:cubicBezTo>
                    <a:pt x="2685" y="593"/>
                    <a:pt x="2696" y="607"/>
                    <a:pt x="2710" y="617"/>
                  </a:cubicBezTo>
                  <a:cubicBezTo>
                    <a:pt x="2766" y="660"/>
                    <a:pt x="2836" y="688"/>
                    <a:pt x="2834" y="781"/>
                  </a:cubicBezTo>
                  <a:cubicBezTo>
                    <a:pt x="2792" y="793"/>
                    <a:pt x="2757" y="802"/>
                    <a:pt x="2714" y="785"/>
                  </a:cubicBezTo>
                  <a:cubicBezTo>
                    <a:pt x="2695" y="777"/>
                    <a:pt x="2683" y="757"/>
                    <a:pt x="2666" y="753"/>
                  </a:cubicBezTo>
                  <a:cubicBezTo>
                    <a:pt x="2602" y="738"/>
                    <a:pt x="2538" y="769"/>
                    <a:pt x="2474" y="745"/>
                  </a:cubicBezTo>
                  <a:cubicBezTo>
                    <a:pt x="2468" y="711"/>
                    <a:pt x="2497" y="712"/>
                    <a:pt x="2498" y="685"/>
                  </a:cubicBezTo>
                  <a:cubicBezTo>
                    <a:pt x="2449" y="703"/>
                    <a:pt x="2438" y="758"/>
                    <a:pt x="2386" y="765"/>
                  </a:cubicBezTo>
                  <a:cubicBezTo>
                    <a:pt x="2341" y="771"/>
                    <a:pt x="2313" y="730"/>
                    <a:pt x="2254" y="741"/>
                  </a:cubicBezTo>
                  <a:cubicBezTo>
                    <a:pt x="2245" y="731"/>
                    <a:pt x="2239" y="718"/>
                    <a:pt x="2242" y="697"/>
                  </a:cubicBezTo>
                  <a:cubicBezTo>
                    <a:pt x="2222" y="693"/>
                    <a:pt x="2215" y="718"/>
                    <a:pt x="2190" y="725"/>
                  </a:cubicBezTo>
                  <a:cubicBezTo>
                    <a:pt x="2145" y="737"/>
                    <a:pt x="2064" y="718"/>
                    <a:pt x="2054" y="685"/>
                  </a:cubicBezTo>
                  <a:cubicBezTo>
                    <a:pt x="2037" y="628"/>
                    <a:pt x="2093" y="596"/>
                    <a:pt x="2098" y="545"/>
                  </a:cubicBezTo>
                  <a:cubicBezTo>
                    <a:pt x="2078" y="556"/>
                    <a:pt x="2054" y="581"/>
                    <a:pt x="2042" y="605"/>
                  </a:cubicBezTo>
                  <a:cubicBezTo>
                    <a:pt x="2033" y="624"/>
                    <a:pt x="2035" y="646"/>
                    <a:pt x="2022" y="661"/>
                  </a:cubicBezTo>
                  <a:cubicBezTo>
                    <a:pt x="1990" y="699"/>
                    <a:pt x="1942" y="695"/>
                    <a:pt x="1870" y="705"/>
                  </a:cubicBezTo>
                  <a:cubicBezTo>
                    <a:pt x="1874" y="652"/>
                    <a:pt x="1881" y="588"/>
                    <a:pt x="1874" y="537"/>
                  </a:cubicBezTo>
                  <a:cubicBezTo>
                    <a:pt x="1842" y="628"/>
                    <a:pt x="1839" y="747"/>
                    <a:pt x="1698" y="729"/>
                  </a:cubicBezTo>
                  <a:cubicBezTo>
                    <a:pt x="1697" y="663"/>
                    <a:pt x="1705" y="605"/>
                    <a:pt x="1702" y="537"/>
                  </a:cubicBezTo>
                  <a:cubicBezTo>
                    <a:pt x="1669" y="598"/>
                    <a:pt x="1703" y="727"/>
                    <a:pt x="1654" y="773"/>
                  </a:cubicBezTo>
                  <a:cubicBezTo>
                    <a:pt x="1607" y="772"/>
                    <a:pt x="1607" y="724"/>
                    <a:pt x="1602" y="681"/>
                  </a:cubicBezTo>
                  <a:cubicBezTo>
                    <a:pt x="1579" y="736"/>
                    <a:pt x="1581" y="818"/>
                    <a:pt x="1498" y="813"/>
                  </a:cubicBezTo>
                  <a:cubicBezTo>
                    <a:pt x="1466" y="757"/>
                    <a:pt x="1498" y="637"/>
                    <a:pt x="1470" y="577"/>
                  </a:cubicBezTo>
                  <a:cubicBezTo>
                    <a:pt x="1432" y="634"/>
                    <a:pt x="1463" y="759"/>
                    <a:pt x="1434" y="825"/>
                  </a:cubicBezTo>
                  <a:cubicBezTo>
                    <a:pt x="1383" y="846"/>
                    <a:pt x="1355" y="783"/>
                    <a:pt x="1318" y="769"/>
                  </a:cubicBezTo>
                  <a:cubicBezTo>
                    <a:pt x="1300" y="762"/>
                    <a:pt x="1282" y="768"/>
                    <a:pt x="1266" y="761"/>
                  </a:cubicBezTo>
                  <a:cubicBezTo>
                    <a:pt x="1206" y="734"/>
                    <a:pt x="1217" y="665"/>
                    <a:pt x="1206" y="577"/>
                  </a:cubicBezTo>
                  <a:cubicBezTo>
                    <a:pt x="1191" y="614"/>
                    <a:pt x="1199" y="674"/>
                    <a:pt x="1166" y="693"/>
                  </a:cubicBezTo>
                  <a:cubicBezTo>
                    <a:pt x="1137" y="687"/>
                    <a:pt x="1133" y="657"/>
                    <a:pt x="1110" y="645"/>
                  </a:cubicBezTo>
                  <a:cubicBezTo>
                    <a:pt x="1094" y="644"/>
                    <a:pt x="1084" y="667"/>
                    <a:pt x="1066" y="669"/>
                  </a:cubicBezTo>
                  <a:cubicBezTo>
                    <a:pt x="1034" y="673"/>
                    <a:pt x="988" y="640"/>
                    <a:pt x="938" y="645"/>
                  </a:cubicBezTo>
                  <a:cubicBezTo>
                    <a:pt x="911" y="648"/>
                    <a:pt x="865" y="671"/>
                    <a:pt x="842" y="661"/>
                  </a:cubicBezTo>
                  <a:cubicBezTo>
                    <a:pt x="801" y="643"/>
                    <a:pt x="821" y="583"/>
                    <a:pt x="790" y="561"/>
                  </a:cubicBezTo>
                  <a:cubicBezTo>
                    <a:pt x="771" y="591"/>
                    <a:pt x="798" y="648"/>
                    <a:pt x="786" y="685"/>
                  </a:cubicBezTo>
                  <a:cubicBezTo>
                    <a:pt x="755" y="705"/>
                    <a:pt x="712" y="708"/>
                    <a:pt x="694" y="677"/>
                  </a:cubicBezTo>
                  <a:cubicBezTo>
                    <a:pt x="678" y="649"/>
                    <a:pt x="693" y="599"/>
                    <a:pt x="662" y="585"/>
                  </a:cubicBezTo>
                  <a:cubicBezTo>
                    <a:pt x="671" y="665"/>
                    <a:pt x="635" y="777"/>
                    <a:pt x="566" y="705"/>
                  </a:cubicBezTo>
                  <a:cubicBezTo>
                    <a:pt x="549" y="712"/>
                    <a:pt x="552" y="739"/>
                    <a:pt x="530" y="741"/>
                  </a:cubicBezTo>
                  <a:cubicBezTo>
                    <a:pt x="490" y="723"/>
                    <a:pt x="483" y="671"/>
                    <a:pt x="442" y="653"/>
                  </a:cubicBezTo>
                  <a:cubicBezTo>
                    <a:pt x="419" y="667"/>
                    <a:pt x="428" y="713"/>
                    <a:pt x="426" y="749"/>
                  </a:cubicBezTo>
                  <a:cubicBezTo>
                    <a:pt x="358" y="752"/>
                    <a:pt x="285" y="763"/>
                    <a:pt x="262" y="713"/>
                  </a:cubicBezTo>
                  <a:cubicBezTo>
                    <a:pt x="241" y="714"/>
                    <a:pt x="236" y="732"/>
                    <a:pt x="218" y="737"/>
                  </a:cubicBezTo>
                  <a:cubicBezTo>
                    <a:pt x="153" y="703"/>
                    <a:pt x="103" y="765"/>
                    <a:pt x="30" y="761"/>
                  </a:cubicBezTo>
                  <a:cubicBezTo>
                    <a:pt x="0" y="733"/>
                    <a:pt x="58" y="624"/>
                    <a:pt x="98" y="617"/>
                  </a:cubicBezTo>
                  <a:cubicBezTo>
                    <a:pt x="176" y="603"/>
                    <a:pt x="237" y="575"/>
                    <a:pt x="262" y="501"/>
                  </a:cubicBezTo>
                  <a:cubicBezTo>
                    <a:pt x="303" y="455"/>
                    <a:pt x="432" y="498"/>
                    <a:pt x="438" y="417"/>
                  </a:cubicBezTo>
                  <a:cubicBezTo>
                    <a:pt x="466" y="369"/>
                    <a:pt x="531" y="370"/>
                    <a:pt x="574" y="341"/>
                  </a:cubicBezTo>
                  <a:cubicBezTo>
                    <a:pt x="587" y="333"/>
                    <a:pt x="593" y="311"/>
                    <a:pt x="606" y="301"/>
                  </a:cubicBezTo>
                  <a:cubicBezTo>
                    <a:pt x="621" y="290"/>
                    <a:pt x="643" y="293"/>
                    <a:pt x="646" y="269"/>
                  </a:cubicBezTo>
                  <a:cubicBezTo>
                    <a:pt x="702" y="276"/>
                    <a:pt x="708" y="333"/>
                    <a:pt x="742" y="361"/>
                  </a:cubicBezTo>
                  <a:cubicBezTo>
                    <a:pt x="773" y="324"/>
                    <a:pt x="714" y="292"/>
                    <a:pt x="718" y="253"/>
                  </a:cubicBezTo>
                  <a:cubicBezTo>
                    <a:pt x="722" y="220"/>
                    <a:pt x="859" y="130"/>
                    <a:pt x="918" y="141"/>
                  </a:cubicBezTo>
                  <a:cubicBezTo>
                    <a:pt x="934" y="142"/>
                    <a:pt x="929" y="122"/>
                    <a:pt x="938" y="117"/>
                  </a:cubicBezTo>
                  <a:cubicBezTo>
                    <a:pt x="958" y="125"/>
                    <a:pt x="962" y="149"/>
                    <a:pt x="978" y="161"/>
                  </a:cubicBezTo>
                  <a:cubicBezTo>
                    <a:pt x="944" y="48"/>
                    <a:pt x="1091" y="36"/>
                    <a:pt x="1154" y="77"/>
                  </a:cubicBezTo>
                  <a:cubicBezTo>
                    <a:pt x="1164" y="68"/>
                    <a:pt x="1159" y="45"/>
                    <a:pt x="1174" y="41"/>
                  </a:cubicBezTo>
                  <a:cubicBezTo>
                    <a:pt x="1194" y="40"/>
                    <a:pt x="1199" y="53"/>
                    <a:pt x="1210" y="61"/>
                  </a:cubicBezTo>
                  <a:cubicBezTo>
                    <a:pt x="1290" y="0"/>
                    <a:pt x="1372" y="56"/>
                    <a:pt x="1382" y="145"/>
                  </a:cubicBezTo>
                  <a:close/>
                  <a:moveTo>
                    <a:pt x="1186" y="177"/>
                  </a:moveTo>
                  <a:cubicBezTo>
                    <a:pt x="1199" y="175"/>
                    <a:pt x="1203" y="144"/>
                    <a:pt x="1186" y="145"/>
                  </a:cubicBezTo>
                  <a:cubicBezTo>
                    <a:pt x="1186" y="156"/>
                    <a:pt x="1186" y="166"/>
                    <a:pt x="1186" y="177"/>
                  </a:cubicBezTo>
                  <a:close/>
                  <a:moveTo>
                    <a:pt x="638" y="545"/>
                  </a:moveTo>
                  <a:cubicBezTo>
                    <a:pt x="635" y="525"/>
                    <a:pt x="627" y="511"/>
                    <a:pt x="602" y="513"/>
                  </a:cubicBezTo>
                  <a:cubicBezTo>
                    <a:pt x="609" y="528"/>
                    <a:pt x="614" y="547"/>
                    <a:pt x="638" y="545"/>
                  </a:cubicBezTo>
                  <a:close/>
                  <a:moveTo>
                    <a:pt x="1334" y="641"/>
                  </a:moveTo>
                  <a:cubicBezTo>
                    <a:pt x="1335" y="624"/>
                    <a:pt x="1343" y="608"/>
                    <a:pt x="1330" y="597"/>
                  </a:cubicBezTo>
                  <a:cubicBezTo>
                    <a:pt x="1324" y="606"/>
                    <a:pt x="1323" y="637"/>
                    <a:pt x="1334" y="641"/>
                  </a:cubicBezTo>
                  <a:close/>
                </a:path>
              </a:pathLst>
            </a:custGeom>
            <a:solidFill>
              <a:srgbClr val="cc0000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 rot="1225200">
              <a:off x="5340600" y="5020560"/>
              <a:ext cx="2616480" cy="946800"/>
            </a:xfrm>
            <a:custGeom>
              <a:avLst/>
              <a:gdLst>
                <a:gd name="textAreaLeft" fmla="*/ 0 w 2616480"/>
                <a:gd name="textAreaRight" fmla="*/ 2616840 w 2616480"/>
                <a:gd name="textAreaTop" fmla="*/ 0 h 946800"/>
                <a:gd name="textAreaBottom" fmla="*/ 947160 h 946800"/>
              </a:gdLst>
              <a:ahLst/>
              <a:rect l="textAreaLeft" t="textAreaTop" r="textAreaRight" b="textAreaBottom"/>
              <a:pathLst>
                <a:path w="2744" h="993">
                  <a:moveTo>
                    <a:pt x="244" y="112"/>
                  </a:moveTo>
                  <a:cubicBezTo>
                    <a:pt x="292" y="93"/>
                    <a:pt x="338" y="118"/>
                    <a:pt x="364" y="144"/>
                  </a:cubicBezTo>
                  <a:cubicBezTo>
                    <a:pt x="365" y="181"/>
                    <a:pt x="358" y="210"/>
                    <a:pt x="352" y="240"/>
                  </a:cubicBezTo>
                  <a:cubicBezTo>
                    <a:pt x="385" y="220"/>
                    <a:pt x="388" y="166"/>
                    <a:pt x="432" y="152"/>
                  </a:cubicBezTo>
                  <a:cubicBezTo>
                    <a:pt x="454" y="145"/>
                    <a:pt x="500" y="146"/>
                    <a:pt x="536" y="140"/>
                  </a:cubicBezTo>
                  <a:cubicBezTo>
                    <a:pt x="588" y="131"/>
                    <a:pt x="623" y="114"/>
                    <a:pt x="680" y="124"/>
                  </a:cubicBezTo>
                  <a:cubicBezTo>
                    <a:pt x="678" y="157"/>
                    <a:pt x="647" y="161"/>
                    <a:pt x="636" y="184"/>
                  </a:cubicBezTo>
                  <a:cubicBezTo>
                    <a:pt x="662" y="199"/>
                    <a:pt x="675" y="171"/>
                    <a:pt x="688" y="160"/>
                  </a:cubicBezTo>
                  <a:cubicBezTo>
                    <a:pt x="729" y="146"/>
                    <a:pt x="777" y="132"/>
                    <a:pt x="828" y="140"/>
                  </a:cubicBezTo>
                  <a:cubicBezTo>
                    <a:pt x="837" y="145"/>
                    <a:pt x="834" y="163"/>
                    <a:pt x="840" y="172"/>
                  </a:cubicBezTo>
                  <a:cubicBezTo>
                    <a:pt x="871" y="145"/>
                    <a:pt x="948" y="117"/>
                    <a:pt x="980" y="160"/>
                  </a:cubicBezTo>
                  <a:cubicBezTo>
                    <a:pt x="1038" y="175"/>
                    <a:pt x="1122" y="155"/>
                    <a:pt x="1140" y="196"/>
                  </a:cubicBezTo>
                  <a:cubicBezTo>
                    <a:pt x="1163" y="246"/>
                    <a:pt x="1075" y="288"/>
                    <a:pt x="1096" y="352"/>
                  </a:cubicBezTo>
                  <a:cubicBezTo>
                    <a:pt x="1136" y="334"/>
                    <a:pt x="1134" y="270"/>
                    <a:pt x="1168" y="240"/>
                  </a:cubicBezTo>
                  <a:cubicBezTo>
                    <a:pt x="1190" y="220"/>
                    <a:pt x="1226" y="207"/>
                    <a:pt x="1268" y="224"/>
                  </a:cubicBezTo>
                  <a:cubicBezTo>
                    <a:pt x="1277" y="234"/>
                    <a:pt x="1277" y="253"/>
                    <a:pt x="1276" y="272"/>
                  </a:cubicBezTo>
                  <a:cubicBezTo>
                    <a:pt x="1302" y="243"/>
                    <a:pt x="1334" y="221"/>
                    <a:pt x="1388" y="220"/>
                  </a:cubicBezTo>
                  <a:cubicBezTo>
                    <a:pt x="1439" y="254"/>
                    <a:pt x="1408" y="370"/>
                    <a:pt x="1436" y="428"/>
                  </a:cubicBezTo>
                  <a:cubicBezTo>
                    <a:pt x="1475" y="385"/>
                    <a:pt x="1430" y="302"/>
                    <a:pt x="1436" y="240"/>
                  </a:cubicBezTo>
                  <a:cubicBezTo>
                    <a:pt x="1464" y="240"/>
                    <a:pt x="1492" y="240"/>
                    <a:pt x="1520" y="240"/>
                  </a:cubicBezTo>
                  <a:cubicBezTo>
                    <a:pt x="1552" y="261"/>
                    <a:pt x="1557" y="310"/>
                    <a:pt x="1568" y="352"/>
                  </a:cubicBezTo>
                  <a:cubicBezTo>
                    <a:pt x="1579" y="314"/>
                    <a:pt x="1558" y="274"/>
                    <a:pt x="1564" y="228"/>
                  </a:cubicBezTo>
                  <a:cubicBezTo>
                    <a:pt x="1593" y="195"/>
                    <a:pt x="1672" y="198"/>
                    <a:pt x="1696" y="232"/>
                  </a:cubicBezTo>
                  <a:cubicBezTo>
                    <a:pt x="1717" y="225"/>
                    <a:pt x="1716" y="209"/>
                    <a:pt x="1740" y="204"/>
                  </a:cubicBezTo>
                  <a:cubicBezTo>
                    <a:pt x="1789" y="195"/>
                    <a:pt x="1815" y="217"/>
                    <a:pt x="1828" y="164"/>
                  </a:cubicBezTo>
                  <a:cubicBezTo>
                    <a:pt x="1848" y="165"/>
                    <a:pt x="1853" y="181"/>
                    <a:pt x="1868" y="188"/>
                  </a:cubicBezTo>
                  <a:cubicBezTo>
                    <a:pt x="1884" y="183"/>
                    <a:pt x="1884" y="162"/>
                    <a:pt x="1908" y="164"/>
                  </a:cubicBezTo>
                  <a:cubicBezTo>
                    <a:pt x="1931" y="174"/>
                    <a:pt x="1929" y="209"/>
                    <a:pt x="1952" y="220"/>
                  </a:cubicBezTo>
                  <a:cubicBezTo>
                    <a:pt x="1945" y="191"/>
                    <a:pt x="1926" y="174"/>
                    <a:pt x="1928" y="136"/>
                  </a:cubicBezTo>
                  <a:cubicBezTo>
                    <a:pt x="1932" y="136"/>
                    <a:pt x="1931" y="131"/>
                    <a:pt x="1932" y="128"/>
                  </a:cubicBezTo>
                  <a:cubicBezTo>
                    <a:pt x="1956" y="113"/>
                    <a:pt x="1987" y="106"/>
                    <a:pt x="2016" y="108"/>
                  </a:cubicBezTo>
                  <a:cubicBezTo>
                    <a:pt x="2057" y="110"/>
                    <a:pt x="2075" y="139"/>
                    <a:pt x="2104" y="148"/>
                  </a:cubicBezTo>
                  <a:cubicBezTo>
                    <a:pt x="2116" y="144"/>
                    <a:pt x="2108" y="120"/>
                    <a:pt x="2116" y="112"/>
                  </a:cubicBezTo>
                  <a:cubicBezTo>
                    <a:pt x="2149" y="88"/>
                    <a:pt x="2206" y="106"/>
                    <a:pt x="2236" y="120"/>
                  </a:cubicBezTo>
                  <a:cubicBezTo>
                    <a:pt x="2271" y="98"/>
                    <a:pt x="2331" y="92"/>
                    <a:pt x="2364" y="120"/>
                  </a:cubicBezTo>
                  <a:cubicBezTo>
                    <a:pt x="2415" y="98"/>
                    <a:pt x="2493" y="101"/>
                    <a:pt x="2532" y="132"/>
                  </a:cubicBezTo>
                  <a:cubicBezTo>
                    <a:pt x="2581" y="93"/>
                    <a:pt x="2667" y="35"/>
                    <a:pt x="2744" y="64"/>
                  </a:cubicBezTo>
                  <a:cubicBezTo>
                    <a:pt x="2731" y="168"/>
                    <a:pt x="2650" y="204"/>
                    <a:pt x="2576" y="248"/>
                  </a:cubicBezTo>
                  <a:cubicBezTo>
                    <a:pt x="2556" y="253"/>
                    <a:pt x="2560" y="234"/>
                    <a:pt x="2548" y="232"/>
                  </a:cubicBezTo>
                  <a:cubicBezTo>
                    <a:pt x="2544" y="326"/>
                    <a:pt x="2473" y="352"/>
                    <a:pt x="2404" y="380"/>
                  </a:cubicBezTo>
                  <a:cubicBezTo>
                    <a:pt x="2342" y="492"/>
                    <a:pt x="2230" y="553"/>
                    <a:pt x="2144" y="640"/>
                  </a:cubicBezTo>
                  <a:cubicBezTo>
                    <a:pt x="2125" y="619"/>
                    <a:pt x="2127" y="577"/>
                    <a:pt x="2116" y="548"/>
                  </a:cubicBezTo>
                  <a:cubicBezTo>
                    <a:pt x="2121" y="690"/>
                    <a:pt x="2028" y="734"/>
                    <a:pt x="1952" y="796"/>
                  </a:cubicBezTo>
                  <a:cubicBezTo>
                    <a:pt x="1947" y="781"/>
                    <a:pt x="1946" y="763"/>
                    <a:pt x="1944" y="744"/>
                  </a:cubicBezTo>
                  <a:cubicBezTo>
                    <a:pt x="1915" y="798"/>
                    <a:pt x="1912" y="877"/>
                    <a:pt x="1840" y="888"/>
                  </a:cubicBezTo>
                  <a:cubicBezTo>
                    <a:pt x="1825" y="883"/>
                    <a:pt x="1827" y="862"/>
                    <a:pt x="1816" y="852"/>
                  </a:cubicBezTo>
                  <a:cubicBezTo>
                    <a:pt x="1771" y="867"/>
                    <a:pt x="1758" y="914"/>
                    <a:pt x="1708" y="924"/>
                  </a:cubicBezTo>
                  <a:cubicBezTo>
                    <a:pt x="1669" y="891"/>
                    <a:pt x="1683" y="805"/>
                    <a:pt x="1672" y="744"/>
                  </a:cubicBezTo>
                  <a:cubicBezTo>
                    <a:pt x="1673" y="856"/>
                    <a:pt x="1662" y="993"/>
                    <a:pt x="1528" y="944"/>
                  </a:cubicBezTo>
                  <a:cubicBezTo>
                    <a:pt x="1520" y="933"/>
                    <a:pt x="1514" y="920"/>
                    <a:pt x="1508" y="908"/>
                  </a:cubicBezTo>
                  <a:cubicBezTo>
                    <a:pt x="1477" y="934"/>
                    <a:pt x="1359" y="965"/>
                    <a:pt x="1336" y="908"/>
                  </a:cubicBezTo>
                  <a:cubicBezTo>
                    <a:pt x="1328" y="889"/>
                    <a:pt x="1338" y="867"/>
                    <a:pt x="1332" y="836"/>
                  </a:cubicBezTo>
                  <a:cubicBezTo>
                    <a:pt x="1321" y="866"/>
                    <a:pt x="1316" y="903"/>
                    <a:pt x="1300" y="928"/>
                  </a:cubicBezTo>
                  <a:cubicBezTo>
                    <a:pt x="1280" y="943"/>
                    <a:pt x="1237" y="949"/>
                    <a:pt x="1204" y="940"/>
                  </a:cubicBezTo>
                  <a:cubicBezTo>
                    <a:pt x="1182" y="920"/>
                    <a:pt x="1181" y="878"/>
                    <a:pt x="1180" y="836"/>
                  </a:cubicBezTo>
                  <a:cubicBezTo>
                    <a:pt x="1159" y="874"/>
                    <a:pt x="1146" y="940"/>
                    <a:pt x="1092" y="924"/>
                  </a:cubicBezTo>
                  <a:cubicBezTo>
                    <a:pt x="1045" y="910"/>
                    <a:pt x="1063" y="822"/>
                    <a:pt x="1052" y="764"/>
                  </a:cubicBezTo>
                  <a:cubicBezTo>
                    <a:pt x="1031" y="794"/>
                    <a:pt x="1047" y="860"/>
                    <a:pt x="1028" y="892"/>
                  </a:cubicBezTo>
                  <a:cubicBezTo>
                    <a:pt x="968" y="919"/>
                    <a:pt x="939" y="856"/>
                    <a:pt x="896" y="840"/>
                  </a:cubicBezTo>
                  <a:cubicBezTo>
                    <a:pt x="879" y="834"/>
                    <a:pt x="857" y="838"/>
                    <a:pt x="840" y="832"/>
                  </a:cubicBezTo>
                  <a:cubicBezTo>
                    <a:pt x="769" y="808"/>
                    <a:pt x="725" y="718"/>
                    <a:pt x="640" y="692"/>
                  </a:cubicBezTo>
                  <a:cubicBezTo>
                    <a:pt x="607" y="682"/>
                    <a:pt x="581" y="614"/>
                    <a:pt x="580" y="576"/>
                  </a:cubicBezTo>
                  <a:cubicBezTo>
                    <a:pt x="547" y="652"/>
                    <a:pt x="499" y="561"/>
                    <a:pt x="492" y="516"/>
                  </a:cubicBezTo>
                  <a:cubicBezTo>
                    <a:pt x="413" y="515"/>
                    <a:pt x="389" y="452"/>
                    <a:pt x="348" y="400"/>
                  </a:cubicBezTo>
                  <a:cubicBezTo>
                    <a:pt x="317" y="361"/>
                    <a:pt x="285" y="336"/>
                    <a:pt x="256" y="304"/>
                  </a:cubicBezTo>
                  <a:cubicBezTo>
                    <a:pt x="255" y="287"/>
                    <a:pt x="251" y="271"/>
                    <a:pt x="248" y="256"/>
                  </a:cubicBezTo>
                  <a:cubicBezTo>
                    <a:pt x="241" y="251"/>
                    <a:pt x="224" y="260"/>
                    <a:pt x="212" y="252"/>
                  </a:cubicBezTo>
                  <a:cubicBezTo>
                    <a:pt x="182" y="204"/>
                    <a:pt x="120" y="182"/>
                    <a:pt x="68" y="140"/>
                  </a:cubicBezTo>
                  <a:cubicBezTo>
                    <a:pt x="43" y="120"/>
                    <a:pt x="0" y="83"/>
                    <a:pt x="0" y="64"/>
                  </a:cubicBezTo>
                  <a:cubicBezTo>
                    <a:pt x="0" y="0"/>
                    <a:pt x="95" y="28"/>
                    <a:pt x="140" y="48"/>
                  </a:cubicBezTo>
                  <a:cubicBezTo>
                    <a:pt x="148" y="53"/>
                    <a:pt x="150" y="65"/>
                    <a:pt x="156" y="72"/>
                  </a:cubicBezTo>
                  <a:cubicBezTo>
                    <a:pt x="200" y="71"/>
                    <a:pt x="218" y="95"/>
                    <a:pt x="244" y="112"/>
                  </a:cubicBezTo>
                  <a:close/>
                  <a:moveTo>
                    <a:pt x="1764" y="396"/>
                  </a:moveTo>
                  <a:cubicBezTo>
                    <a:pt x="1763" y="335"/>
                    <a:pt x="1741" y="294"/>
                    <a:pt x="1708" y="264"/>
                  </a:cubicBezTo>
                  <a:cubicBezTo>
                    <a:pt x="1713" y="321"/>
                    <a:pt x="1733" y="364"/>
                    <a:pt x="1764" y="396"/>
                  </a:cubicBezTo>
                  <a:close/>
                  <a:moveTo>
                    <a:pt x="840" y="628"/>
                  </a:moveTo>
                  <a:cubicBezTo>
                    <a:pt x="853" y="629"/>
                    <a:pt x="859" y="623"/>
                    <a:pt x="860" y="612"/>
                  </a:cubicBezTo>
                  <a:cubicBezTo>
                    <a:pt x="855" y="605"/>
                    <a:pt x="852" y="596"/>
                    <a:pt x="840" y="596"/>
                  </a:cubicBezTo>
                  <a:cubicBezTo>
                    <a:pt x="839" y="610"/>
                    <a:pt x="834" y="615"/>
                    <a:pt x="840" y="628"/>
                  </a:cubicBezTo>
                  <a:close/>
                  <a:moveTo>
                    <a:pt x="1524" y="872"/>
                  </a:moveTo>
                  <a:cubicBezTo>
                    <a:pt x="1525" y="809"/>
                    <a:pt x="1536" y="731"/>
                    <a:pt x="1512" y="684"/>
                  </a:cubicBezTo>
                  <a:cubicBezTo>
                    <a:pt x="1498" y="731"/>
                    <a:pt x="1485" y="843"/>
                    <a:pt x="1524" y="872"/>
                  </a:cubicBezTo>
                  <a:close/>
                </a:path>
              </a:pathLst>
            </a:custGeom>
            <a:solidFill>
              <a:srgbClr val="cc0000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Textfeld 33"/>
          <p:cNvSpPr/>
          <p:nvPr/>
        </p:nvSpPr>
        <p:spPr>
          <a:xfrm rot="20827200">
            <a:off x="-32760" y="2547000"/>
            <a:ext cx="88588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545454"/>
                </a:solidFill>
                <a:latin typeface="Vladimir Script"/>
              </a:rPr>
              <a:t>Happy Valentine‘s 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hteck 34"/>
          <p:cNvSpPr/>
          <p:nvPr/>
        </p:nvSpPr>
        <p:spPr>
          <a:xfrm rot="20828400">
            <a:off x="1617480" y="3541320"/>
            <a:ext cx="76608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545454"/>
                </a:solidFill>
                <a:latin typeface="Vladimir Script"/>
              </a:rPr>
              <a:t>express your love right 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Gleichschenkliges Dreieck 9"/>
          <p:cNvSpPr/>
          <p:nvPr/>
        </p:nvSpPr>
        <p:spPr>
          <a:xfrm rot="11598600">
            <a:off x="5315040" y="799560"/>
            <a:ext cx="2241720" cy="963000"/>
          </a:xfrm>
          <a:prstGeom prst="triangle">
            <a:avLst>
              <a:gd name="adj" fmla="val 48294"/>
            </a:avLst>
          </a:prstGeom>
          <a:solidFill>
            <a:srgbClr val="ffffff"/>
          </a:solidFill>
          <a:ln>
            <a:noFill/>
          </a:ln>
          <a:effectLst>
            <a:outerShdw algn="tr" blurRad="50760" dir="7184692" dist="37731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hteck 1"/>
          <p:cNvSpPr/>
          <p:nvPr/>
        </p:nvSpPr>
        <p:spPr>
          <a:xfrm>
            <a:off x="-290160" y="-145080"/>
            <a:ext cx="9651600" cy="721332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993366"/>
              </a:gs>
            </a:gsLst>
            <a:lin ang="0"/>
          </a:gradFill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32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Ellipse 8"/>
          <p:cNvSpPr/>
          <p:nvPr/>
        </p:nvSpPr>
        <p:spPr>
          <a:xfrm>
            <a:off x="-2743200" y="-1536480"/>
            <a:ext cx="14557320" cy="9760320"/>
          </a:xfrm>
          <a:prstGeom prst="ellips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84313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Herz 5"/>
          <p:cNvSpPr/>
          <p:nvPr/>
        </p:nvSpPr>
        <p:spPr>
          <a:xfrm rot="554400">
            <a:off x="2507760" y="2243880"/>
            <a:ext cx="3821040" cy="353484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path path="circle">
              <a:fillToRect l="50000" t="50000" r="50000" b="50000"/>
            </a:path>
          </a:gradFill>
          <a:ln w="19050">
            <a:solidFill>
              <a:srgbClr val="ffffff"/>
            </a:solidFill>
            <a:prstDash val="sysDash"/>
            <a:round/>
          </a:ln>
          <a:effectLst>
            <a:outerShdw algn="ctr" blurRad="368280" rotWithShape="0" sx="102000" sy="102000">
              <a:srgbClr val="000000">
                <a:alpha val="65000"/>
              </a:srgbClr>
            </a:outerShdw>
          </a:effectLst>
          <a:scene3d>
            <a:camera prst="orthographicFront"/>
            <a:lightRig dir="t" rig="balanced">
              <a:rot lat="0" lon="0" rev="6000000"/>
            </a:lightRig>
          </a:scene3d>
          <a:sp3d extrusionH="63500" prstMaterial="softEdg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Ellipse 7"/>
          <p:cNvSpPr/>
          <p:nvPr/>
        </p:nvSpPr>
        <p:spPr>
          <a:xfrm>
            <a:off x="2883960" y="3220200"/>
            <a:ext cx="4005360" cy="2304000"/>
          </a:xfrm>
          <a:prstGeom prst="ellipse">
            <a:avLst/>
          </a:prstGeom>
          <a:gradFill rotWithShape="0">
            <a:gsLst>
              <a:gs pos="0">
                <a:srgbClr val="000000">
                  <a:alpha val="31372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Rechteck 3"/>
          <p:cNvSpPr/>
          <p:nvPr/>
        </p:nvSpPr>
        <p:spPr>
          <a:xfrm>
            <a:off x="2208960" y="3904200"/>
            <a:ext cx="4680000" cy="935640"/>
          </a:xfrm>
          <a:prstGeom prst="rect">
            <a:avLst/>
          </a:prstGeom>
          <a:gradFill rotWithShape="0">
            <a:gsLst>
              <a:gs pos="0">
                <a:srgbClr val="d788af"/>
              </a:gs>
              <a:gs pos="100000">
                <a:srgbClr val="993366"/>
              </a:gs>
            </a:gsLst>
            <a:lin ang="0"/>
          </a:gradFill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Happy Valentine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hteck 1"/>
          <p:cNvSpPr/>
          <p:nvPr/>
        </p:nvSpPr>
        <p:spPr>
          <a:xfrm>
            <a:off x="-14760" y="-33120"/>
            <a:ext cx="9158400" cy="68907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400020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Freeform 6"/>
          <p:cNvSpPr/>
          <p:nvPr/>
        </p:nvSpPr>
        <p:spPr>
          <a:xfrm rot="20620800">
            <a:off x="2039400" y="210240"/>
            <a:ext cx="5416560" cy="5477400"/>
          </a:xfrm>
          <a:custGeom>
            <a:avLst/>
            <a:gdLst>
              <a:gd name="textAreaLeft" fmla="*/ 0 w 5416560"/>
              <a:gd name="textAreaRight" fmla="*/ 5416920 w 5416560"/>
              <a:gd name="textAreaTop" fmla="*/ 0 h 5477400"/>
              <a:gd name="textAreaBottom" fmla="*/ 5477760 h 5477400"/>
            </a:gdLst>
            <a:ahLst/>
            <a:rect l="textAreaLeft" t="textAreaTop" r="textAreaRight" b="textAreaBottom"/>
            <a:pathLst>
              <a:path w="10028" h="14926">
                <a:moveTo>
                  <a:pt x="5008" y="0"/>
                </a:moveTo>
                <a:lnTo>
                  <a:pt x="19" y="5024"/>
                </a:lnTo>
                <a:cubicBezTo>
                  <a:pt x="13" y="8322"/>
                  <a:pt x="6" y="11621"/>
                  <a:pt x="0" y="14919"/>
                </a:cubicBezTo>
                <a:cubicBezTo>
                  <a:pt x="10" y="14926"/>
                  <a:pt x="10018" y="14919"/>
                  <a:pt x="10028" y="14926"/>
                </a:cubicBezTo>
                <a:cubicBezTo>
                  <a:pt x="10025" y="11625"/>
                  <a:pt x="10022" y="8325"/>
                  <a:pt x="10019" y="5024"/>
                </a:cubicBezTo>
                <a:lnTo>
                  <a:pt x="5008" y="0"/>
                </a:lnTo>
                <a:close/>
              </a:path>
            </a:pathLst>
          </a:custGeom>
          <a:gradFill rotWithShape="0">
            <a:gsLst>
              <a:gs pos="45000">
                <a:srgbClr val="ffcdcd"/>
              </a:gs>
              <a:gs pos="100000">
                <a:srgbClr val="ffffff"/>
              </a:gs>
            </a:gsLst>
            <a:lin ang="15216000"/>
          </a:gradFill>
          <a:ln w="3175"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8" name="Gruppieren 2"/>
          <p:cNvGrpSpPr/>
          <p:nvPr/>
        </p:nvGrpSpPr>
        <p:grpSpPr>
          <a:xfrm>
            <a:off x="1132200" y="314280"/>
            <a:ext cx="5989680" cy="5791680"/>
            <a:chOff x="1132200" y="314280"/>
            <a:chExt cx="5989680" cy="5791680"/>
          </a:xfrm>
        </p:grpSpPr>
        <p:sp>
          <p:nvSpPr>
            <p:cNvPr id="219" name="Rechteck 9"/>
            <p:cNvSpPr/>
            <p:nvPr/>
          </p:nvSpPr>
          <p:spPr>
            <a:xfrm rot="20580000">
              <a:off x="2495160" y="794520"/>
              <a:ext cx="4007880" cy="4830840"/>
            </a:xfrm>
            <a:prstGeom prst="rect">
              <a:avLst/>
            </a:prstGeom>
            <a:gradFill rotWithShape="0">
              <a:gsLst>
                <a:gs pos="6000">
                  <a:srgbClr val="f0f0f0"/>
                </a:gs>
                <a:gs pos="100000">
                  <a:srgbClr val="ffffff"/>
                </a:gs>
              </a:gsLst>
              <a:lin ang="17874000"/>
            </a:gradFill>
            <a:ln w="3175">
              <a:noFill/>
            </a:ln>
            <a:effectLst>
              <a:outerShdw algn="bl" blurRad="139680" dir="18900000" dist="37674" rotWithShape="0">
                <a:srgbClr val="000000">
                  <a:alpha val="23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Textfeld 12"/>
            <p:cNvSpPr/>
            <p:nvPr/>
          </p:nvSpPr>
          <p:spPr>
            <a:xfrm rot="20597400">
              <a:off x="1145520" y="1228320"/>
              <a:ext cx="578772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760019"/>
                  </a:solidFill>
                  <a:latin typeface="Palatino Linotype"/>
                </a:rPr>
                <a:t>Happy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760019"/>
                  </a:solidFill>
                  <a:latin typeface="Palatino Linotype"/>
                </a:rPr>
                <a:t>Valentine‘s Da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hteck 13"/>
            <p:cNvSpPr/>
            <p:nvPr/>
          </p:nvSpPr>
          <p:spPr>
            <a:xfrm rot="20597400">
              <a:off x="2119320" y="2302920"/>
              <a:ext cx="43567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760019"/>
                  </a:solidFill>
                  <a:latin typeface="Palatino Linotype"/>
                </a:rPr>
                <a:t>express your love right her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Herz 10"/>
            <p:cNvSpPr/>
            <p:nvPr/>
          </p:nvSpPr>
          <p:spPr>
            <a:xfrm rot="20617800">
              <a:off x="4190040" y="2824200"/>
              <a:ext cx="706680" cy="647640"/>
            </a:xfrm>
            <a:prstGeom prst="heart">
              <a:avLst/>
            </a:prstGeom>
            <a:solidFill>
              <a:srgbClr val="640032">
                <a:alpha val="9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3" name="Gruppieren 3"/>
          <p:cNvGrpSpPr/>
          <p:nvPr/>
        </p:nvGrpSpPr>
        <p:grpSpPr>
          <a:xfrm>
            <a:off x="1882440" y="1344960"/>
            <a:ext cx="6243480" cy="5034960"/>
            <a:chOff x="1882440" y="1344960"/>
            <a:chExt cx="6243480" cy="5034960"/>
          </a:xfrm>
        </p:grpSpPr>
        <p:sp>
          <p:nvSpPr>
            <p:cNvPr id="224" name="Freeform 7"/>
            <p:cNvSpPr/>
            <p:nvPr/>
          </p:nvSpPr>
          <p:spPr>
            <a:xfrm rot="20620800">
              <a:off x="2342160" y="2416320"/>
              <a:ext cx="2697120" cy="3657960"/>
            </a:xfrm>
            <a:custGeom>
              <a:avLst/>
              <a:gdLst>
                <a:gd name="textAreaLeft" fmla="*/ 0 w 2697120"/>
                <a:gd name="textAreaRight" fmla="*/ 2697480 w 2697120"/>
                <a:gd name="textAreaTop" fmla="*/ 0 h 3657960"/>
                <a:gd name="textAreaBottom" fmla="*/ 3658320 h 3657960"/>
              </a:gdLst>
              <a:ahLst/>
              <a:rect l="textAreaLeft" t="textAreaTop" r="textAreaRight" b="textAreaBottom"/>
              <a:pathLst>
                <a:path w="455" h="619">
                  <a:moveTo>
                    <a:pt x="0" y="0"/>
                  </a:moveTo>
                  <a:lnTo>
                    <a:pt x="0" y="619"/>
                  </a:lnTo>
                  <a:lnTo>
                    <a:pt x="455" y="3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17000">
                  <a:srgbClr val="ff7c80"/>
                </a:gs>
                <a:gs pos="100000">
                  <a:srgbClr val="ff6767"/>
                </a:gs>
              </a:gsLst>
              <a:lin ang="9078000"/>
            </a:gradFill>
            <a:ln w="9">
              <a:noFill/>
            </a:ln>
            <a:effectLst>
              <a:outerShdw algn="bl" blurRad="127080" dir="189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 rot="20620800">
              <a:off x="4932360" y="1654920"/>
              <a:ext cx="2732760" cy="3669840"/>
            </a:xfrm>
            <a:custGeom>
              <a:avLst/>
              <a:gdLst>
                <a:gd name="textAreaLeft" fmla="*/ 0 w 2732760"/>
                <a:gd name="textAreaRight" fmla="*/ 2733120 w 2732760"/>
                <a:gd name="textAreaTop" fmla="*/ 0 h 3669840"/>
                <a:gd name="textAreaBottom" fmla="*/ 3670200 h 3669840"/>
              </a:gdLst>
              <a:ahLst/>
              <a:rect l="textAreaLeft" t="textAreaTop" r="textAreaRight" b="textAreaBottom"/>
              <a:pathLst>
                <a:path w="461" h="621">
                  <a:moveTo>
                    <a:pt x="461" y="0"/>
                  </a:moveTo>
                  <a:lnTo>
                    <a:pt x="458" y="0"/>
                  </a:lnTo>
                  <a:lnTo>
                    <a:pt x="0" y="312"/>
                  </a:lnTo>
                  <a:lnTo>
                    <a:pt x="456" y="621"/>
                  </a:lnTo>
                  <a:lnTo>
                    <a:pt x="461" y="621"/>
                  </a:lnTo>
                  <a:lnTo>
                    <a:pt x="4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767"/>
                </a:gs>
                <a:gs pos="100000">
                  <a:srgbClr val="ff7c80"/>
                </a:gs>
              </a:gsLst>
              <a:lin ang="1716000"/>
            </a:gradFill>
            <a:ln w="9">
              <a:noFill/>
            </a:ln>
            <a:effectLst>
              <a:outerShdw algn="r" blurRad="101520" dir="10800000" dist="3816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Freeform 9"/>
          <p:cNvSpPr/>
          <p:nvPr/>
        </p:nvSpPr>
        <p:spPr>
          <a:xfrm rot="20620800">
            <a:off x="2549520" y="3843720"/>
            <a:ext cx="5400720" cy="182592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1825920"/>
              <a:gd name="textAreaBottom" fmla="*/ 1826280 h 1825920"/>
            </a:gdLst>
            <a:ahLst/>
            <a:rect l="textAreaLeft" t="textAreaTop" r="textAreaRight" b="textAreaBottom"/>
            <a:pathLst>
              <a:path w="911" h="309">
                <a:moveTo>
                  <a:pt x="0" y="307"/>
                </a:moveTo>
                <a:lnTo>
                  <a:pt x="0" y="309"/>
                </a:lnTo>
                <a:lnTo>
                  <a:pt x="911" y="309"/>
                </a:lnTo>
                <a:lnTo>
                  <a:pt x="455" y="0"/>
                </a:lnTo>
                <a:lnTo>
                  <a:pt x="0" y="307"/>
                </a:lnTo>
                <a:close/>
              </a:path>
            </a:pathLst>
          </a:custGeom>
          <a:gradFill rotWithShape="0">
            <a:gsLst>
              <a:gs pos="13000">
                <a:srgbClr val="ff7c80"/>
              </a:gs>
              <a:gs pos="100000">
                <a:srgbClr val="ff6767"/>
              </a:gs>
            </a:gsLst>
            <a:lin ang="6378000"/>
          </a:gradFill>
          <a:ln w="9">
            <a:noFill/>
          </a:ln>
          <a:effectLst>
            <a:outerShdw algn="ctr" blurRad="216000" rotWithShape="0" sx="102000" sy="10200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9"/>
          <p:cNvSpPr/>
          <p:nvPr/>
        </p:nvSpPr>
        <p:spPr>
          <a:xfrm rot="9808800">
            <a:off x="2127960" y="2055240"/>
            <a:ext cx="5411880" cy="2508840"/>
          </a:xfrm>
          <a:custGeom>
            <a:avLst/>
            <a:gdLst>
              <a:gd name="textAreaLeft" fmla="*/ 0 w 5411880"/>
              <a:gd name="textAreaRight" fmla="*/ 5412240 w 5411880"/>
              <a:gd name="textAreaTop" fmla="*/ 0 h 2508840"/>
              <a:gd name="textAreaBottom" fmla="*/ 2509200 h 2508840"/>
            </a:gdLst>
            <a:ahLst/>
            <a:rect l="textAreaLeft" t="textAreaTop" r="textAreaRight" b="textAreaBottom"/>
            <a:pathLst>
              <a:path w="911" h="309">
                <a:moveTo>
                  <a:pt x="0" y="307"/>
                </a:moveTo>
                <a:lnTo>
                  <a:pt x="0" y="309"/>
                </a:lnTo>
                <a:lnTo>
                  <a:pt x="911" y="309"/>
                </a:lnTo>
                <a:lnTo>
                  <a:pt x="455" y="0"/>
                </a:lnTo>
                <a:lnTo>
                  <a:pt x="0" y="307"/>
                </a:lnTo>
                <a:close/>
              </a:path>
            </a:pathLst>
          </a:custGeom>
          <a:gradFill rotWithShape="0">
            <a:gsLst>
              <a:gs pos="13000">
                <a:srgbClr val="ff7c80"/>
              </a:gs>
              <a:gs pos="100000">
                <a:srgbClr val="ff6767"/>
              </a:gs>
            </a:gsLst>
            <a:lin ang="17190000"/>
          </a:gradFill>
          <a:ln w="9">
            <a:noFill/>
          </a:ln>
          <a:effectLst>
            <a:outerShdw algn="ctr" blurRad="216000" rotWithShape="0" sx="102000" sy="10200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250"/>
                            </p:stCondLst>
                            <p:childTnLst>
                              <p:par>
                                <p:cTn id="3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hteck 9"/>
          <p:cNvSpPr/>
          <p:nvPr/>
        </p:nvSpPr>
        <p:spPr>
          <a:xfrm>
            <a:off x="-14760" y="-33120"/>
            <a:ext cx="9158400" cy="68907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100000">
                <a:srgbClr val="ff8a8a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29" name="Gruppieren 7"/>
          <p:cNvGrpSpPr/>
          <p:nvPr/>
        </p:nvGrpSpPr>
        <p:grpSpPr>
          <a:xfrm>
            <a:off x="3204000" y="1934280"/>
            <a:ext cx="3252960" cy="2869560"/>
            <a:chOff x="3204000" y="1934280"/>
            <a:chExt cx="3252960" cy="2869560"/>
          </a:xfrm>
        </p:grpSpPr>
        <p:sp>
          <p:nvSpPr>
            <p:cNvPr id="230" name="Freeform 6"/>
            <p:cNvSpPr/>
            <p:nvPr/>
          </p:nvSpPr>
          <p:spPr>
            <a:xfrm>
              <a:off x="3204000" y="1934280"/>
              <a:ext cx="2777760" cy="2869560"/>
            </a:xfrm>
            <a:custGeom>
              <a:avLst/>
              <a:gdLst>
                <a:gd name="textAreaLeft" fmla="*/ 0 w 2777760"/>
                <a:gd name="textAreaRight" fmla="*/ 2778120 w 2777760"/>
                <a:gd name="textAreaTop" fmla="*/ 0 h 2869560"/>
                <a:gd name="textAreaBottom" fmla="*/ 2869920 h 2869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4716" y="4194"/>
                  </a:moveTo>
                  <a:cubicBezTo>
                    <a:pt x="4716" y="4194"/>
                    <a:pt x="4804" y="3399"/>
                    <a:pt x="4218" y="3088"/>
                  </a:cubicBezTo>
                  <a:cubicBezTo>
                    <a:pt x="3661" y="2776"/>
                    <a:pt x="3105" y="2606"/>
                    <a:pt x="2929" y="1755"/>
                  </a:cubicBezTo>
                  <a:cubicBezTo>
                    <a:pt x="2753" y="904"/>
                    <a:pt x="2812" y="-174"/>
                    <a:pt x="2606" y="25"/>
                  </a:cubicBezTo>
                  <a:cubicBezTo>
                    <a:pt x="2373" y="223"/>
                    <a:pt x="2314" y="449"/>
                    <a:pt x="2373" y="875"/>
                  </a:cubicBezTo>
                  <a:cubicBezTo>
                    <a:pt x="2373" y="875"/>
                    <a:pt x="1991" y="648"/>
                    <a:pt x="2079" y="1300"/>
                  </a:cubicBezTo>
                  <a:cubicBezTo>
                    <a:pt x="2167" y="1840"/>
                    <a:pt x="2285" y="1925"/>
                    <a:pt x="2285" y="1925"/>
                  </a:cubicBezTo>
                  <a:cubicBezTo>
                    <a:pt x="2285" y="1925"/>
                    <a:pt x="1845" y="1215"/>
                    <a:pt x="1757" y="1811"/>
                  </a:cubicBezTo>
                  <a:cubicBezTo>
                    <a:pt x="1669" y="2350"/>
                    <a:pt x="1991" y="2889"/>
                    <a:pt x="2226" y="3059"/>
                  </a:cubicBezTo>
                  <a:cubicBezTo>
                    <a:pt x="2430" y="3229"/>
                    <a:pt x="1727" y="2861"/>
                    <a:pt x="1757" y="3144"/>
                  </a:cubicBezTo>
                  <a:cubicBezTo>
                    <a:pt x="1757" y="3399"/>
                    <a:pt x="2021" y="3939"/>
                    <a:pt x="2430" y="4051"/>
                  </a:cubicBezTo>
                  <a:cubicBezTo>
                    <a:pt x="2870" y="4165"/>
                    <a:pt x="1347" y="3768"/>
                    <a:pt x="2314" y="4477"/>
                  </a:cubicBezTo>
                  <a:cubicBezTo>
                    <a:pt x="2314" y="4477"/>
                    <a:pt x="2460" y="4562"/>
                    <a:pt x="3046" y="4647"/>
                  </a:cubicBezTo>
                  <a:cubicBezTo>
                    <a:pt x="3046" y="4647"/>
                    <a:pt x="2518" y="4960"/>
                    <a:pt x="3105" y="4988"/>
                  </a:cubicBezTo>
                  <a:cubicBezTo>
                    <a:pt x="3720" y="5016"/>
                    <a:pt x="3339" y="5073"/>
                    <a:pt x="3046" y="5130"/>
                  </a:cubicBezTo>
                  <a:cubicBezTo>
                    <a:pt x="2606" y="5186"/>
                    <a:pt x="2109" y="5640"/>
                    <a:pt x="2460" y="6320"/>
                  </a:cubicBezTo>
                  <a:cubicBezTo>
                    <a:pt x="2812" y="7001"/>
                    <a:pt x="3134" y="7541"/>
                    <a:pt x="2812" y="7342"/>
                  </a:cubicBezTo>
                  <a:cubicBezTo>
                    <a:pt x="2489" y="7143"/>
                    <a:pt x="2226" y="7058"/>
                    <a:pt x="2226" y="7058"/>
                  </a:cubicBezTo>
                  <a:cubicBezTo>
                    <a:pt x="2226" y="7058"/>
                    <a:pt x="2285" y="6463"/>
                    <a:pt x="2050" y="6406"/>
                  </a:cubicBezTo>
                  <a:cubicBezTo>
                    <a:pt x="1845" y="6378"/>
                    <a:pt x="1610" y="6519"/>
                    <a:pt x="1551" y="6519"/>
                  </a:cubicBezTo>
                  <a:cubicBezTo>
                    <a:pt x="1493" y="6519"/>
                    <a:pt x="1171" y="6320"/>
                    <a:pt x="1083" y="6320"/>
                  </a:cubicBezTo>
                  <a:cubicBezTo>
                    <a:pt x="966" y="6293"/>
                    <a:pt x="819" y="6264"/>
                    <a:pt x="790" y="6179"/>
                  </a:cubicBezTo>
                  <a:cubicBezTo>
                    <a:pt x="731" y="6123"/>
                    <a:pt x="410" y="6123"/>
                    <a:pt x="702" y="6378"/>
                  </a:cubicBezTo>
                  <a:cubicBezTo>
                    <a:pt x="966" y="6661"/>
                    <a:pt x="1406" y="7143"/>
                    <a:pt x="1581" y="7200"/>
                  </a:cubicBezTo>
                  <a:cubicBezTo>
                    <a:pt x="1786" y="7257"/>
                    <a:pt x="2373" y="7937"/>
                    <a:pt x="2401" y="7994"/>
                  </a:cubicBezTo>
                  <a:cubicBezTo>
                    <a:pt x="2430" y="8023"/>
                    <a:pt x="1933" y="8278"/>
                    <a:pt x="1757" y="8590"/>
                  </a:cubicBezTo>
                  <a:cubicBezTo>
                    <a:pt x="1757" y="8590"/>
                    <a:pt x="1581" y="8760"/>
                    <a:pt x="1493" y="8675"/>
                  </a:cubicBezTo>
                  <a:cubicBezTo>
                    <a:pt x="1434" y="8590"/>
                    <a:pt x="995" y="8477"/>
                    <a:pt x="907" y="8816"/>
                  </a:cubicBezTo>
                  <a:cubicBezTo>
                    <a:pt x="819" y="9157"/>
                    <a:pt x="585" y="9242"/>
                    <a:pt x="585" y="9242"/>
                  </a:cubicBezTo>
                  <a:cubicBezTo>
                    <a:pt x="585" y="9242"/>
                    <a:pt x="263" y="9384"/>
                    <a:pt x="204" y="9696"/>
                  </a:cubicBezTo>
                  <a:cubicBezTo>
                    <a:pt x="204" y="9696"/>
                    <a:pt x="-89" y="9895"/>
                    <a:pt x="28" y="9980"/>
                  </a:cubicBezTo>
                  <a:cubicBezTo>
                    <a:pt x="175" y="10065"/>
                    <a:pt x="410" y="9866"/>
                    <a:pt x="643" y="9810"/>
                  </a:cubicBezTo>
                  <a:cubicBezTo>
                    <a:pt x="878" y="9725"/>
                    <a:pt x="1522" y="9327"/>
                    <a:pt x="1522" y="9327"/>
                  </a:cubicBezTo>
                  <a:cubicBezTo>
                    <a:pt x="1522" y="9327"/>
                    <a:pt x="2636" y="9015"/>
                    <a:pt x="2841" y="8874"/>
                  </a:cubicBezTo>
                  <a:cubicBezTo>
                    <a:pt x="3046" y="8731"/>
                    <a:pt x="3105" y="8731"/>
                    <a:pt x="3368" y="8788"/>
                  </a:cubicBezTo>
                  <a:cubicBezTo>
                    <a:pt x="3632" y="8845"/>
                    <a:pt x="4306" y="8959"/>
                    <a:pt x="4364" y="8278"/>
                  </a:cubicBezTo>
                  <a:cubicBezTo>
                    <a:pt x="4423" y="7597"/>
                    <a:pt x="4393" y="7058"/>
                    <a:pt x="4393" y="7058"/>
                  </a:cubicBezTo>
                  <a:cubicBezTo>
                    <a:pt x="4393" y="7058"/>
                    <a:pt x="5477" y="6293"/>
                    <a:pt x="5595" y="5952"/>
                  </a:cubicBezTo>
                  <a:cubicBezTo>
                    <a:pt x="5595" y="5952"/>
                    <a:pt x="5741" y="5924"/>
                    <a:pt x="5800" y="6009"/>
                  </a:cubicBezTo>
                  <a:cubicBezTo>
                    <a:pt x="5859" y="6094"/>
                    <a:pt x="6240" y="6604"/>
                    <a:pt x="6532" y="6661"/>
                  </a:cubicBezTo>
                  <a:cubicBezTo>
                    <a:pt x="6826" y="6746"/>
                    <a:pt x="6972" y="6718"/>
                    <a:pt x="7235" y="6746"/>
                  </a:cubicBezTo>
                  <a:cubicBezTo>
                    <a:pt x="7470" y="6746"/>
                    <a:pt x="7734" y="6802"/>
                    <a:pt x="7822" y="6945"/>
                  </a:cubicBezTo>
                  <a:cubicBezTo>
                    <a:pt x="7910" y="7058"/>
                    <a:pt x="8027" y="7626"/>
                    <a:pt x="7235" y="8023"/>
                  </a:cubicBezTo>
                  <a:cubicBezTo>
                    <a:pt x="6474" y="8419"/>
                    <a:pt x="5068" y="8249"/>
                    <a:pt x="5068" y="8249"/>
                  </a:cubicBezTo>
                  <a:cubicBezTo>
                    <a:pt x="5068" y="8249"/>
                    <a:pt x="4452" y="8249"/>
                    <a:pt x="4569" y="8731"/>
                  </a:cubicBezTo>
                  <a:cubicBezTo>
                    <a:pt x="4745" y="9100"/>
                    <a:pt x="5185" y="8816"/>
                    <a:pt x="5156" y="8646"/>
                  </a:cubicBezTo>
                  <a:cubicBezTo>
                    <a:pt x="5156" y="8646"/>
                    <a:pt x="4745" y="8959"/>
                    <a:pt x="4716" y="8675"/>
                  </a:cubicBezTo>
                  <a:cubicBezTo>
                    <a:pt x="4657" y="8307"/>
                    <a:pt x="5126" y="8363"/>
                    <a:pt x="5360" y="8392"/>
                  </a:cubicBezTo>
                  <a:cubicBezTo>
                    <a:pt x="5595" y="8448"/>
                    <a:pt x="7528" y="9044"/>
                    <a:pt x="8027" y="8363"/>
                  </a:cubicBezTo>
                  <a:cubicBezTo>
                    <a:pt x="8495" y="7682"/>
                    <a:pt x="8231" y="7342"/>
                    <a:pt x="8231" y="7342"/>
                  </a:cubicBezTo>
                  <a:cubicBezTo>
                    <a:pt x="8231" y="7342"/>
                    <a:pt x="8407" y="7257"/>
                    <a:pt x="8495" y="7257"/>
                  </a:cubicBezTo>
                  <a:cubicBezTo>
                    <a:pt x="8554" y="7257"/>
                    <a:pt x="8906" y="6802"/>
                    <a:pt x="8906" y="6802"/>
                  </a:cubicBezTo>
                  <a:cubicBezTo>
                    <a:pt x="8886" y="6717"/>
                    <a:pt x="8867" y="6633"/>
                    <a:pt x="8847" y="6548"/>
                  </a:cubicBezTo>
                  <a:cubicBezTo>
                    <a:pt x="8847" y="6548"/>
                    <a:pt x="10253" y="6320"/>
                    <a:pt x="9961" y="5243"/>
                  </a:cubicBezTo>
                  <a:cubicBezTo>
                    <a:pt x="9667" y="4137"/>
                    <a:pt x="9257" y="3626"/>
                    <a:pt x="9315" y="2832"/>
                  </a:cubicBezTo>
                  <a:cubicBezTo>
                    <a:pt x="9345" y="2662"/>
                    <a:pt x="9755" y="2662"/>
                    <a:pt x="9667" y="3002"/>
                  </a:cubicBezTo>
                  <a:cubicBezTo>
                    <a:pt x="9638" y="3144"/>
                    <a:pt x="9462" y="3059"/>
                    <a:pt x="9462" y="3059"/>
                  </a:cubicBezTo>
                  <a:cubicBezTo>
                    <a:pt x="9462" y="3059"/>
                    <a:pt x="9755" y="3229"/>
                    <a:pt x="9814" y="2946"/>
                  </a:cubicBezTo>
                  <a:cubicBezTo>
                    <a:pt x="9902" y="2606"/>
                    <a:pt x="9462" y="2407"/>
                    <a:pt x="9170" y="2691"/>
                  </a:cubicBezTo>
                  <a:cubicBezTo>
                    <a:pt x="8906" y="2974"/>
                    <a:pt x="9491" y="4222"/>
                    <a:pt x="9374" y="4902"/>
                  </a:cubicBezTo>
                  <a:cubicBezTo>
                    <a:pt x="9227" y="5612"/>
                    <a:pt x="8789" y="6235"/>
                    <a:pt x="8554" y="6264"/>
                  </a:cubicBezTo>
                  <a:cubicBezTo>
                    <a:pt x="8319" y="6293"/>
                    <a:pt x="8174" y="6548"/>
                    <a:pt x="8086" y="6519"/>
                  </a:cubicBezTo>
                  <a:cubicBezTo>
                    <a:pt x="7968" y="6491"/>
                    <a:pt x="6796" y="6037"/>
                    <a:pt x="6767" y="5924"/>
                  </a:cubicBezTo>
                  <a:cubicBezTo>
                    <a:pt x="6767" y="5839"/>
                    <a:pt x="7031" y="5612"/>
                    <a:pt x="7119" y="5753"/>
                  </a:cubicBezTo>
                  <a:cubicBezTo>
                    <a:pt x="7207" y="5924"/>
                    <a:pt x="7528" y="5810"/>
                    <a:pt x="7675" y="5612"/>
                  </a:cubicBezTo>
                  <a:cubicBezTo>
                    <a:pt x="7822" y="5413"/>
                    <a:pt x="7792" y="4902"/>
                    <a:pt x="7704" y="4902"/>
                  </a:cubicBezTo>
                  <a:cubicBezTo>
                    <a:pt x="7587" y="4875"/>
                    <a:pt x="7177" y="4846"/>
                    <a:pt x="7031" y="4988"/>
                  </a:cubicBezTo>
                  <a:cubicBezTo>
                    <a:pt x="6855" y="5158"/>
                    <a:pt x="6474" y="5384"/>
                    <a:pt x="6386" y="5272"/>
                  </a:cubicBezTo>
                  <a:cubicBezTo>
                    <a:pt x="6268" y="5158"/>
                    <a:pt x="6268" y="4790"/>
                    <a:pt x="6093" y="4591"/>
                  </a:cubicBezTo>
                  <a:cubicBezTo>
                    <a:pt x="5888" y="4392"/>
                    <a:pt x="6119" y="4248"/>
                    <a:pt x="6240" y="4222"/>
                  </a:cubicBezTo>
                  <a:cubicBezTo>
                    <a:pt x="6361" y="4197"/>
                    <a:pt x="6608" y="4450"/>
                    <a:pt x="6818" y="4435"/>
                  </a:cubicBezTo>
                  <a:cubicBezTo>
                    <a:pt x="7028" y="4420"/>
                    <a:pt x="7238" y="4388"/>
                    <a:pt x="7502" y="4132"/>
                  </a:cubicBezTo>
                  <a:cubicBezTo>
                    <a:pt x="7599" y="4002"/>
                    <a:pt x="7822" y="3711"/>
                    <a:pt x="7616" y="3144"/>
                  </a:cubicBezTo>
                  <a:cubicBezTo>
                    <a:pt x="7558" y="3031"/>
                    <a:pt x="7822" y="3031"/>
                    <a:pt x="7822" y="3229"/>
                  </a:cubicBezTo>
                  <a:cubicBezTo>
                    <a:pt x="7822" y="3229"/>
                    <a:pt x="8027" y="2718"/>
                    <a:pt x="8086" y="2946"/>
                  </a:cubicBezTo>
                  <a:cubicBezTo>
                    <a:pt x="8144" y="3173"/>
                    <a:pt x="8144" y="3343"/>
                    <a:pt x="8144" y="3343"/>
                  </a:cubicBezTo>
                  <a:cubicBezTo>
                    <a:pt x="8144" y="3343"/>
                    <a:pt x="8877" y="3116"/>
                    <a:pt x="8174" y="2606"/>
                  </a:cubicBezTo>
                  <a:cubicBezTo>
                    <a:pt x="8174" y="2606"/>
                    <a:pt x="8115" y="2463"/>
                    <a:pt x="8174" y="2350"/>
                  </a:cubicBezTo>
                  <a:cubicBezTo>
                    <a:pt x="8231" y="2237"/>
                    <a:pt x="8261" y="1954"/>
                    <a:pt x="7910" y="1954"/>
                  </a:cubicBezTo>
                  <a:cubicBezTo>
                    <a:pt x="7528" y="1981"/>
                    <a:pt x="7734" y="1783"/>
                    <a:pt x="7704" y="1698"/>
                  </a:cubicBezTo>
                  <a:cubicBezTo>
                    <a:pt x="7646" y="1613"/>
                    <a:pt x="7499" y="1613"/>
                    <a:pt x="7440" y="1641"/>
                  </a:cubicBezTo>
                  <a:cubicBezTo>
                    <a:pt x="7382" y="1641"/>
                    <a:pt x="6738" y="705"/>
                    <a:pt x="6005" y="1414"/>
                  </a:cubicBezTo>
                  <a:cubicBezTo>
                    <a:pt x="6005" y="1414"/>
                    <a:pt x="5947" y="1159"/>
                    <a:pt x="6093" y="1130"/>
                  </a:cubicBezTo>
                  <a:cubicBezTo>
                    <a:pt x="6093" y="1130"/>
                    <a:pt x="5741" y="1188"/>
                    <a:pt x="5859" y="1386"/>
                  </a:cubicBezTo>
                  <a:lnTo>
                    <a:pt x="5683" y="1471"/>
                  </a:lnTo>
                  <a:cubicBezTo>
                    <a:pt x="5683" y="1471"/>
                    <a:pt x="5947" y="1641"/>
                    <a:pt x="5771" y="1641"/>
                  </a:cubicBezTo>
                  <a:cubicBezTo>
                    <a:pt x="5595" y="1670"/>
                    <a:pt x="4775" y="1925"/>
                    <a:pt x="5039" y="2293"/>
                  </a:cubicBezTo>
                  <a:cubicBezTo>
                    <a:pt x="5301" y="2633"/>
                    <a:pt x="4921" y="2521"/>
                    <a:pt x="4921" y="2521"/>
                  </a:cubicBezTo>
                  <a:cubicBezTo>
                    <a:pt x="4921" y="2521"/>
                    <a:pt x="4599" y="2946"/>
                    <a:pt x="4921" y="2946"/>
                  </a:cubicBezTo>
                  <a:cubicBezTo>
                    <a:pt x="4921" y="2946"/>
                    <a:pt x="5009" y="3088"/>
                    <a:pt x="4804" y="3088"/>
                  </a:cubicBezTo>
                  <a:cubicBezTo>
                    <a:pt x="4569" y="3116"/>
                    <a:pt x="4540" y="3258"/>
                    <a:pt x="4628" y="3428"/>
                  </a:cubicBezTo>
                  <a:cubicBezTo>
                    <a:pt x="4716" y="3570"/>
                    <a:pt x="4892" y="3683"/>
                    <a:pt x="4921" y="3825"/>
                  </a:cubicBezTo>
                  <a:cubicBezTo>
                    <a:pt x="4980" y="3995"/>
                    <a:pt x="5009" y="4137"/>
                    <a:pt x="4951" y="4137"/>
                  </a:cubicBezTo>
                  <a:cubicBezTo>
                    <a:pt x="4892" y="4165"/>
                    <a:pt x="4716" y="4194"/>
                    <a:pt x="4716" y="4194"/>
                  </a:cubicBezTo>
                  <a:close/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4611240" y="2894040"/>
              <a:ext cx="1131480" cy="1407600"/>
            </a:xfrm>
            <a:custGeom>
              <a:avLst/>
              <a:gdLst>
                <a:gd name="textAreaLeft" fmla="*/ 0 w 1131480"/>
                <a:gd name="textAreaRight" fmla="*/ 1131840 w 1131480"/>
                <a:gd name="textAreaTop" fmla="*/ 0 h 1407600"/>
                <a:gd name="textAreaBottom" fmla="*/ 1407960 h 1407600"/>
              </a:gdLst>
              <a:ahLst/>
              <a:rect l="textAreaLeft" t="textAreaTop" r="textAreaRight" b="textAreaBottom"/>
              <a:pathLst>
                <a:path w="139" h="173">
                  <a:moveTo>
                    <a:pt x="139" y="0"/>
                  </a:moveTo>
                  <a:cubicBezTo>
                    <a:pt x="139" y="0"/>
                    <a:pt x="68" y="59"/>
                    <a:pt x="0" y="173"/>
                  </a:cubicBezTo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>
              <a:off x="5344200" y="3511440"/>
              <a:ext cx="903240" cy="652320"/>
            </a:xfrm>
            <a:prstGeom prst="line">
              <a:avLst/>
            </a:prstGeom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 rot="21060600">
              <a:off x="6069600" y="4000320"/>
              <a:ext cx="364680" cy="31716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45" h="39">
                  <a:moveTo>
                    <a:pt x="26" y="23"/>
                  </a:moveTo>
                  <a:cubicBezTo>
                    <a:pt x="26" y="23"/>
                    <a:pt x="24" y="0"/>
                    <a:pt x="24" y="1"/>
                  </a:cubicBezTo>
                  <a:cubicBezTo>
                    <a:pt x="26" y="6"/>
                    <a:pt x="45" y="39"/>
                    <a:pt x="45" y="39"/>
                  </a:cubicBezTo>
                  <a:cubicBezTo>
                    <a:pt x="45" y="39"/>
                    <a:pt x="12" y="24"/>
                    <a:pt x="3" y="22"/>
                  </a:cubicBezTo>
                  <a:cubicBezTo>
                    <a:pt x="0" y="22"/>
                    <a:pt x="16" y="23"/>
                    <a:pt x="26" y="23"/>
                  </a:cubicBezTo>
                  <a:close/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Herz 11"/>
          <p:cNvSpPr/>
          <p:nvPr/>
        </p:nvSpPr>
        <p:spPr>
          <a:xfrm>
            <a:off x="701280" y="24955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Herz 12"/>
          <p:cNvSpPr/>
          <p:nvPr/>
        </p:nvSpPr>
        <p:spPr>
          <a:xfrm>
            <a:off x="7804800" y="24955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Herz 14"/>
          <p:cNvSpPr/>
          <p:nvPr/>
        </p:nvSpPr>
        <p:spPr>
          <a:xfrm>
            <a:off x="7524360" y="429300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Herz 15"/>
          <p:cNvSpPr/>
          <p:nvPr/>
        </p:nvSpPr>
        <p:spPr>
          <a:xfrm>
            <a:off x="2369880" y="52171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Herz 16"/>
          <p:cNvSpPr/>
          <p:nvPr/>
        </p:nvSpPr>
        <p:spPr>
          <a:xfrm>
            <a:off x="899640" y="429300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Herz 21"/>
          <p:cNvSpPr/>
          <p:nvPr/>
        </p:nvSpPr>
        <p:spPr>
          <a:xfrm>
            <a:off x="6156000" y="52171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Herz 23"/>
          <p:cNvSpPr/>
          <p:nvPr/>
        </p:nvSpPr>
        <p:spPr>
          <a:xfrm>
            <a:off x="280080" y="58489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Herz 24"/>
          <p:cNvSpPr/>
          <p:nvPr/>
        </p:nvSpPr>
        <p:spPr>
          <a:xfrm>
            <a:off x="4204440" y="58489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Herz 26"/>
          <p:cNvSpPr/>
          <p:nvPr/>
        </p:nvSpPr>
        <p:spPr>
          <a:xfrm>
            <a:off x="8128800" y="584892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43" name="Gerade Verbindung 10"/>
          <p:cNvCxnSpPr>
            <a:stCxn id="233" idx="0"/>
          </p:cNvCxnSpPr>
          <p:nvPr/>
        </p:nvCxnSpPr>
        <p:spPr>
          <a:xfrm flipH="1" flipV="1">
            <a:off x="5344200" y="3511440"/>
            <a:ext cx="941040" cy="671760"/>
          </a:xfrm>
          <a:prstGeom prst="straightConnector1">
            <a:avLst/>
          </a:prstGeom>
          <a:ln>
            <a:solidFill>
              <a:srgbClr val="ff7c80"/>
            </a:solidFill>
            <a:round/>
          </a:ln>
        </p:spPr>
      </p:cxnSp>
      <p:sp>
        <p:nvSpPr>
          <p:cNvPr id="244" name="Textfeld 25"/>
          <p:cNvSpPr/>
          <p:nvPr/>
        </p:nvSpPr>
        <p:spPr>
          <a:xfrm>
            <a:off x="867960" y="260640"/>
            <a:ext cx="7519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5400" spc="-1" strike="noStrike">
                <a:solidFill>
                  <a:srgbClr val="600045"/>
                </a:solidFill>
                <a:latin typeface="Palatino Linotype"/>
              </a:rPr>
              <a:t>Happy </a:t>
            </a:r>
            <a:r>
              <a:rPr b="0" lang="en-US" sz="5400" spc="-1" strike="noStrike">
                <a:solidFill>
                  <a:srgbClr val="600045"/>
                </a:solidFill>
                <a:latin typeface="Palatino Linotype"/>
              </a:rPr>
              <a:t>Valentine‘s</a:t>
            </a:r>
            <a:r>
              <a:rPr b="0" lang="de-DE" sz="5400" spc="-1" strike="noStrike">
                <a:solidFill>
                  <a:srgbClr val="600045"/>
                </a:solidFill>
                <a:latin typeface="Palatino Linotype"/>
              </a:rPr>
              <a:t>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eck 29"/>
          <p:cNvSpPr/>
          <p:nvPr/>
        </p:nvSpPr>
        <p:spPr>
          <a:xfrm>
            <a:off x="2898720" y="1268640"/>
            <a:ext cx="365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00045"/>
                </a:solidFill>
                <a:latin typeface="Palatino Linotype"/>
              </a:rPr>
              <a:t>express your love righ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Herz 22"/>
          <p:cNvSpPr/>
          <p:nvPr/>
        </p:nvSpPr>
        <p:spPr>
          <a:xfrm>
            <a:off x="323640" y="127764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Herz 27"/>
          <p:cNvSpPr/>
          <p:nvPr/>
        </p:nvSpPr>
        <p:spPr>
          <a:xfrm>
            <a:off x="8109000" y="127764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Herz 30"/>
          <p:cNvSpPr/>
          <p:nvPr/>
        </p:nvSpPr>
        <p:spPr>
          <a:xfrm>
            <a:off x="2369880" y="201204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Herz 31"/>
          <p:cNvSpPr/>
          <p:nvPr/>
        </p:nvSpPr>
        <p:spPr>
          <a:xfrm>
            <a:off x="6127560" y="2012040"/>
            <a:ext cx="647640" cy="647640"/>
          </a:xfrm>
          <a:prstGeom prst="heart">
            <a:avLst/>
          </a:prstGeom>
          <a:solidFill>
            <a:srgbClr val="ff7c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2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5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80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2" dur="2000" fill="hold"/>
                                        <p:tgtEl>
                                          <p:spTgt spid="242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246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7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by x="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hteck 6"/>
          <p:cNvSpPr/>
          <p:nvPr/>
        </p:nvSpPr>
        <p:spPr>
          <a:xfrm>
            <a:off x="-14760" y="-33120"/>
            <a:ext cx="9158400" cy="689076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f7474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Textfeld 26"/>
          <p:cNvSpPr/>
          <p:nvPr/>
        </p:nvSpPr>
        <p:spPr>
          <a:xfrm>
            <a:off x="331560" y="552600"/>
            <a:ext cx="85312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b22828"/>
                </a:solidFill>
                <a:latin typeface="Palatino Linotype"/>
              </a:rPr>
              <a:t>Happy </a:t>
            </a:r>
            <a:r>
              <a:rPr b="0" lang="en-US" sz="6600" spc="-1" strike="noStrike">
                <a:solidFill>
                  <a:srgbClr val="b22828"/>
                </a:solidFill>
                <a:latin typeface="Palatino Linotype"/>
              </a:rPr>
              <a:t>Valentines</a:t>
            </a:r>
            <a:r>
              <a:rPr b="0" lang="en-US" sz="6000" spc="-1" strike="noStrike">
                <a:solidFill>
                  <a:srgbClr val="b22828"/>
                </a:solidFill>
                <a:latin typeface="Palatino Linotype"/>
              </a:rPr>
              <a:t>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27"/>
          <p:cNvSpPr/>
          <p:nvPr/>
        </p:nvSpPr>
        <p:spPr>
          <a:xfrm>
            <a:off x="2105280" y="1568160"/>
            <a:ext cx="4932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b22828"/>
                </a:solidFill>
                <a:latin typeface="Palatino Linotype"/>
              </a:rPr>
              <a:t>express your love righ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8"/>
          <p:cNvSpPr/>
          <p:nvPr/>
        </p:nvSpPr>
        <p:spPr>
          <a:xfrm>
            <a:off x="6325920" y="4216680"/>
            <a:ext cx="821880" cy="864720"/>
          </a:xfrm>
          <a:custGeom>
            <a:avLst/>
            <a:gdLst>
              <a:gd name="textAreaLeft" fmla="*/ 0 w 821880"/>
              <a:gd name="textAreaRight" fmla="*/ 822240 w 821880"/>
              <a:gd name="textAreaTop" fmla="*/ 0 h 864720"/>
              <a:gd name="textAreaBottom" fmla="*/ 865080 h 864720"/>
            </a:gdLst>
            <a:ahLst/>
            <a:rect l="textAreaLeft" t="textAreaTop" r="textAreaRight" b="textAreaBottom"/>
            <a:pathLst>
              <a:path w="230" h="242">
                <a:moveTo>
                  <a:pt x="230" y="0"/>
                </a:moveTo>
                <a:cubicBezTo>
                  <a:pt x="160" y="242"/>
                  <a:pt x="160" y="242"/>
                  <a:pt x="160" y="242"/>
                </a:cubicBezTo>
                <a:cubicBezTo>
                  <a:pt x="0" y="240"/>
                  <a:pt x="0" y="240"/>
                  <a:pt x="0" y="240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178" y="0"/>
                  <a:pt x="230" y="0"/>
                </a:cubicBezTo>
                <a:close/>
              </a:path>
            </a:pathLst>
          </a:custGeom>
          <a:gradFill rotWithShape="0">
            <a:gsLst>
              <a:gs pos="0">
                <a:srgbClr val="90061c"/>
              </a:gs>
              <a:gs pos="100000">
                <a:srgbClr val="be09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9"/>
          <p:cNvSpPr/>
          <p:nvPr/>
        </p:nvSpPr>
        <p:spPr>
          <a:xfrm>
            <a:off x="6669720" y="4001400"/>
            <a:ext cx="2203200" cy="793440"/>
          </a:xfrm>
          <a:custGeom>
            <a:avLst/>
            <a:gdLst>
              <a:gd name="textAreaLeft" fmla="*/ 0 w 2203200"/>
              <a:gd name="textAreaRight" fmla="*/ 2203560 w 220320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616" h="222">
                <a:moveTo>
                  <a:pt x="616" y="116"/>
                </a:moveTo>
                <a:cubicBezTo>
                  <a:pt x="484" y="106"/>
                  <a:pt x="286" y="0"/>
                  <a:pt x="230" y="0"/>
                </a:cubicBezTo>
                <a:cubicBezTo>
                  <a:pt x="174" y="0"/>
                  <a:pt x="0" y="112"/>
                  <a:pt x="0" y="112"/>
                </a:cubicBezTo>
                <a:cubicBezTo>
                  <a:pt x="0" y="112"/>
                  <a:pt x="76" y="62"/>
                  <a:pt x="158" y="90"/>
                </a:cubicBezTo>
                <a:cubicBezTo>
                  <a:pt x="240" y="118"/>
                  <a:pt x="276" y="180"/>
                  <a:pt x="508" y="222"/>
                </a:cubicBezTo>
                <a:lnTo>
                  <a:pt x="616" y="116"/>
                </a:lnTo>
                <a:close/>
              </a:path>
            </a:pathLst>
          </a:custGeom>
          <a:gradFill rotWithShape="0">
            <a:gsLst>
              <a:gs pos="0">
                <a:srgbClr val="e2001a"/>
              </a:gs>
              <a:gs pos="100000">
                <a:srgbClr val="ab00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0"/>
          <p:cNvSpPr/>
          <p:nvPr/>
        </p:nvSpPr>
        <p:spPr>
          <a:xfrm>
            <a:off x="4493520" y="3930480"/>
            <a:ext cx="1878840" cy="1222200"/>
          </a:xfrm>
          <a:custGeom>
            <a:avLst/>
            <a:gdLst>
              <a:gd name="textAreaLeft" fmla="*/ 0 w 1878840"/>
              <a:gd name="textAreaRight" fmla="*/ 1879200 w 1878840"/>
              <a:gd name="textAreaTop" fmla="*/ 0 h 1222200"/>
              <a:gd name="textAreaBottom" fmla="*/ 1222560 h 1222200"/>
            </a:gdLst>
            <a:ahLst/>
            <a:rect l="textAreaLeft" t="textAreaTop" r="textAreaRight" b="textAreaBottom"/>
            <a:pathLst>
              <a:path w="525" h="342">
                <a:moveTo>
                  <a:pt x="9" y="174"/>
                </a:moveTo>
                <a:cubicBezTo>
                  <a:pt x="9" y="174"/>
                  <a:pt x="18" y="275"/>
                  <a:pt x="103" y="275"/>
                </a:cubicBezTo>
                <a:cubicBezTo>
                  <a:pt x="188" y="275"/>
                  <a:pt x="242" y="0"/>
                  <a:pt x="396" y="12"/>
                </a:cubicBezTo>
                <a:cubicBezTo>
                  <a:pt x="525" y="82"/>
                  <a:pt x="525" y="82"/>
                  <a:pt x="525" y="82"/>
                </a:cubicBezTo>
                <a:cubicBezTo>
                  <a:pt x="326" y="104"/>
                  <a:pt x="284" y="342"/>
                  <a:pt x="120" y="340"/>
                </a:cubicBezTo>
                <a:cubicBezTo>
                  <a:pt x="0" y="338"/>
                  <a:pt x="4" y="229"/>
                  <a:pt x="9" y="174"/>
                </a:cubicBezTo>
                <a:close/>
              </a:path>
            </a:pathLst>
          </a:custGeom>
          <a:gradFill rotWithShape="0">
            <a:gsLst>
              <a:gs pos="0">
                <a:srgbClr val="7d0619"/>
              </a:gs>
              <a:gs pos="50000">
                <a:srgbClr val="be0926"/>
              </a:gs>
              <a:gs pos="100000">
                <a:srgbClr val="7d06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21"/>
          <p:cNvSpPr/>
          <p:nvPr/>
        </p:nvSpPr>
        <p:spPr>
          <a:xfrm>
            <a:off x="5910840" y="3972600"/>
            <a:ext cx="987120" cy="1108800"/>
          </a:xfrm>
          <a:custGeom>
            <a:avLst/>
            <a:gdLst>
              <a:gd name="textAreaLeft" fmla="*/ 0 w 987120"/>
              <a:gd name="textAreaRight" fmla="*/ 987480 w 987120"/>
              <a:gd name="textAreaTop" fmla="*/ 0 h 1108800"/>
              <a:gd name="textAreaBottom" fmla="*/ 1109160 h 1108800"/>
            </a:gdLst>
            <a:ahLst/>
            <a:rect l="textAreaLeft" t="textAreaTop" r="textAreaRight" b="textAreaBottom"/>
            <a:pathLst>
              <a:path w="276" h="310">
                <a:moveTo>
                  <a:pt x="0" y="0"/>
                </a:moveTo>
                <a:cubicBezTo>
                  <a:pt x="0" y="0"/>
                  <a:pt x="194" y="102"/>
                  <a:pt x="212" y="120"/>
                </a:cubicBezTo>
                <a:cubicBezTo>
                  <a:pt x="230" y="138"/>
                  <a:pt x="276" y="200"/>
                  <a:pt x="276" y="310"/>
                </a:cubicBezTo>
                <a:cubicBezTo>
                  <a:pt x="116" y="308"/>
                  <a:pt x="116" y="308"/>
                  <a:pt x="116" y="308"/>
                </a:cubicBezTo>
                <a:cubicBezTo>
                  <a:pt x="116" y="308"/>
                  <a:pt x="100" y="62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e2001a"/>
              </a:gs>
              <a:gs pos="100000">
                <a:srgbClr val="ab00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22"/>
          <p:cNvSpPr/>
          <p:nvPr/>
        </p:nvSpPr>
        <p:spPr>
          <a:xfrm>
            <a:off x="4475160" y="2748600"/>
            <a:ext cx="952200" cy="680040"/>
          </a:xfrm>
          <a:custGeom>
            <a:avLst/>
            <a:gdLst>
              <a:gd name="textAreaLeft" fmla="*/ 0 w 952200"/>
              <a:gd name="textAreaRight" fmla="*/ 952560 w 952200"/>
              <a:gd name="textAreaTop" fmla="*/ 0 h 680040"/>
              <a:gd name="textAreaBottom" fmla="*/ 680400 h 680040"/>
            </a:gdLst>
            <a:ahLst/>
            <a:rect l="textAreaLeft" t="textAreaTop" r="textAreaRight" b="textAreaBottom"/>
            <a:pathLst>
              <a:path w="265" h="190">
                <a:moveTo>
                  <a:pt x="0" y="61"/>
                </a:moveTo>
                <a:cubicBezTo>
                  <a:pt x="0" y="132"/>
                  <a:pt x="0" y="132"/>
                  <a:pt x="0" y="132"/>
                </a:cubicBezTo>
                <a:cubicBezTo>
                  <a:pt x="28" y="104"/>
                  <a:pt x="69" y="78"/>
                  <a:pt x="129" y="78"/>
                </a:cubicBezTo>
                <a:cubicBezTo>
                  <a:pt x="189" y="78"/>
                  <a:pt x="250" y="190"/>
                  <a:pt x="250" y="190"/>
                </a:cubicBezTo>
                <a:cubicBezTo>
                  <a:pt x="265" y="63"/>
                  <a:pt x="204" y="0"/>
                  <a:pt x="138" y="0"/>
                </a:cubicBezTo>
                <a:cubicBezTo>
                  <a:pt x="72" y="0"/>
                  <a:pt x="0" y="61"/>
                  <a:pt x="0" y="61"/>
                </a:cubicBezTo>
                <a:close/>
              </a:path>
            </a:pathLst>
          </a:custGeom>
          <a:gradFill rotWithShape="0">
            <a:gsLst>
              <a:gs pos="0">
                <a:srgbClr val="7d0619"/>
              </a:gs>
              <a:gs pos="50000">
                <a:srgbClr val="be0926"/>
              </a:gs>
              <a:gs pos="100000">
                <a:srgbClr val="7d06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4522320" y="3346920"/>
            <a:ext cx="858240" cy="1226880"/>
          </a:xfrm>
          <a:custGeom>
            <a:avLst/>
            <a:gdLst>
              <a:gd name="textAreaLeft" fmla="*/ 0 w 858240"/>
              <a:gd name="textAreaRight" fmla="*/ 858600 w 85824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w="240" h="343">
                <a:moveTo>
                  <a:pt x="240" y="0"/>
                </a:moveTo>
                <a:cubicBezTo>
                  <a:pt x="138" y="166"/>
                  <a:pt x="0" y="207"/>
                  <a:pt x="0" y="343"/>
                </a:cubicBezTo>
                <a:cubicBezTo>
                  <a:pt x="94" y="203"/>
                  <a:pt x="240" y="158"/>
                  <a:pt x="240" y="0"/>
                </a:cubicBezTo>
                <a:close/>
              </a:path>
            </a:pathLst>
          </a:custGeom>
          <a:gradFill rotWithShape="0">
            <a:gsLst>
              <a:gs pos="0">
                <a:srgbClr val="950011"/>
              </a:gs>
              <a:gs pos="50000">
                <a:srgbClr val="e2001a"/>
              </a:gs>
              <a:gs pos="100000">
                <a:srgbClr val="95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4"/>
          <p:cNvSpPr/>
          <p:nvPr/>
        </p:nvSpPr>
        <p:spPr>
          <a:xfrm>
            <a:off x="3450240" y="2713680"/>
            <a:ext cx="1026360" cy="686160"/>
          </a:xfrm>
          <a:custGeom>
            <a:avLst/>
            <a:gdLst>
              <a:gd name="textAreaLeft" fmla="*/ 0 w 1026360"/>
              <a:gd name="textAreaRight" fmla="*/ 1026720 w 1026360"/>
              <a:gd name="textAreaTop" fmla="*/ 0 h 686160"/>
              <a:gd name="textAreaBottom" fmla="*/ 686520 h 686160"/>
            </a:gdLst>
            <a:ahLst/>
            <a:rect l="textAreaLeft" t="textAreaTop" r="textAreaRight" b="textAreaBottom"/>
            <a:pathLst>
              <a:path w="288" h="192">
                <a:moveTo>
                  <a:pt x="288" y="142"/>
                </a:moveTo>
                <a:cubicBezTo>
                  <a:pt x="288" y="142"/>
                  <a:pt x="233" y="80"/>
                  <a:pt x="160" y="80"/>
                </a:cubicBezTo>
                <a:cubicBezTo>
                  <a:pt x="87" y="80"/>
                  <a:pt x="30" y="173"/>
                  <a:pt x="30" y="192"/>
                </a:cubicBezTo>
                <a:cubicBezTo>
                  <a:pt x="30" y="192"/>
                  <a:pt x="0" y="25"/>
                  <a:pt x="160" y="5"/>
                </a:cubicBezTo>
                <a:cubicBezTo>
                  <a:pt x="244" y="0"/>
                  <a:pt x="288" y="71"/>
                  <a:pt x="288" y="71"/>
                </a:cubicBezTo>
                <a:lnTo>
                  <a:pt x="288" y="142"/>
                </a:lnTo>
                <a:close/>
              </a:path>
            </a:pathLst>
          </a:custGeom>
          <a:gradFill rotWithShape="0">
            <a:gsLst>
              <a:gs pos="0">
                <a:srgbClr val="7d0619"/>
              </a:gs>
              <a:gs pos="50000">
                <a:srgbClr val="be0926"/>
              </a:gs>
              <a:gs pos="100000">
                <a:srgbClr val="7d06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25"/>
          <p:cNvSpPr/>
          <p:nvPr/>
        </p:nvSpPr>
        <p:spPr>
          <a:xfrm>
            <a:off x="3524400" y="3357720"/>
            <a:ext cx="1062720" cy="1445040"/>
          </a:xfrm>
          <a:custGeom>
            <a:avLst/>
            <a:gdLst>
              <a:gd name="textAreaLeft" fmla="*/ 0 w 1062720"/>
              <a:gd name="textAreaRight" fmla="*/ 1063080 w 1062720"/>
              <a:gd name="textAreaTop" fmla="*/ 0 h 1445040"/>
              <a:gd name="textAreaBottom" fmla="*/ 1445400 h 1445040"/>
            </a:gdLst>
            <a:ahLst/>
            <a:rect l="textAreaLeft" t="textAreaTop" r="textAreaRight" b="textAreaBottom"/>
            <a:pathLst>
              <a:path w="297" h="404">
                <a:moveTo>
                  <a:pt x="8" y="0"/>
                </a:moveTo>
                <a:cubicBezTo>
                  <a:pt x="0" y="224"/>
                  <a:pt x="297" y="238"/>
                  <a:pt x="248" y="404"/>
                </a:cubicBezTo>
                <a:cubicBezTo>
                  <a:pt x="248" y="404"/>
                  <a:pt x="279" y="353"/>
                  <a:pt x="279" y="340"/>
                </a:cubicBezTo>
                <a:cubicBezTo>
                  <a:pt x="279" y="169"/>
                  <a:pt x="59" y="146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950011"/>
              </a:gs>
              <a:gs pos="50000">
                <a:srgbClr val="e2001a"/>
              </a:gs>
              <a:gs pos="100000">
                <a:srgbClr val="95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26"/>
          <p:cNvSpPr/>
          <p:nvPr/>
        </p:nvSpPr>
        <p:spPr>
          <a:xfrm>
            <a:off x="2799000" y="3915000"/>
            <a:ext cx="1722960" cy="1539000"/>
          </a:xfrm>
          <a:custGeom>
            <a:avLst/>
            <a:gdLst>
              <a:gd name="textAreaLeft" fmla="*/ 0 w 1722960"/>
              <a:gd name="textAreaRight" fmla="*/ 1723320 w 1722960"/>
              <a:gd name="textAreaTop" fmla="*/ 0 h 1539000"/>
              <a:gd name="textAreaBottom" fmla="*/ 1539360 h 1539000"/>
            </a:gdLst>
            <a:ahLst/>
            <a:rect l="textAreaLeft" t="textAreaTop" r="textAreaRight" b="textAreaBottom"/>
            <a:pathLst>
              <a:path w="482" h="430">
                <a:moveTo>
                  <a:pt x="482" y="184"/>
                </a:moveTo>
                <a:cubicBezTo>
                  <a:pt x="482" y="195"/>
                  <a:pt x="454" y="365"/>
                  <a:pt x="333" y="358"/>
                </a:cubicBezTo>
                <a:cubicBezTo>
                  <a:pt x="212" y="351"/>
                  <a:pt x="119" y="215"/>
                  <a:pt x="76" y="215"/>
                </a:cubicBezTo>
                <a:cubicBezTo>
                  <a:pt x="76" y="215"/>
                  <a:pt x="0" y="24"/>
                  <a:pt x="53" y="0"/>
                </a:cubicBezTo>
                <a:cubicBezTo>
                  <a:pt x="149" y="0"/>
                  <a:pt x="380" y="430"/>
                  <a:pt x="482" y="184"/>
                </a:cubicBezTo>
                <a:close/>
              </a:path>
            </a:pathLst>
          </a:custGeom>
          <a:gradFill rotWithShape="0">
            <a:gsLst>
              <a:gs pos="0">
                <a:srgbClr val="7d0619"/>
              </a:gs>
              <a:gs pos="50000">
                <a:srgbClr val="be0926"/>
              </a:gs>
              <a:gs pos="100000">
                <a:srgbClr val="7d06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27"/>
          <p:cNvSpPr/>
          <p:nvPr/>
        </p:nvSpPr>
        <p:spPr>
          <a:xfrm>
            <a:off x="191160" y="4333320"/>
            <a:ext cx="1236960" cy="65556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346" h="183">
                <a:moveTo>
                  <a:pt x="346" y="23"/>
                </a:moveTo>
                <a:cubicBezTo>
                  <a:pt x="346" y="23"/>
                  <a:pt x="221" y="104"/>
                  <a:pt x="152" y="183"/>
                </a:cubicBezTo>
                <a:cubicBezTo>
                  <a:pt x="0" y="130"/>
                  <a:pt x="0" y="130"/>
                  <a:pt x="0" y="130"/>
                </a:cubicBezTo>
                <a:cubicBezTo>
                  <a:pt x="0" y="130"/>
                  <a:pt x="143" y="0"/>
                  <a:pt x="243" y="0"/>
                </a:cubicBezTo>
                <a:cubicBezTo>
                  <a:pt x="343" y="0"/>
                  <a:pt x="346" y="23"/>
                  <a:pt x="346" y="23"/>
                </a:cubicBezTo>
                <a:close/>
              </a:path>
            </a:pathLst>
          </a:custGeom>
          <a:gradFill rotWithShape="0">
            <a:gsLst>
              <a:gs pos="0">
                <a:srgbClr val="be0926"/>
              </a:gs>
              <a:gs pos="100000">
                <a:srgbClr val="7d06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28"/>
          <p:cNvSpPr/>
          <p:nvPr/>
        </p:nvSpPr>
        <p:spPr>
          <a:xfrm>
            <a:off x="1060200" y="4333320"/>
            <a:ext cx="1648800" cy="1170720"/>
          </a:xfrm>
          <a:custGeom>
            <a:avLst/>
            <a:gdLst>
              <a:gd name="textAreaLeft" fmla="*/ 0 w 1648800"/>
              <a:gd name="textAreaRight" fmla="*/ 1649160 w 1648800"/>
              <a:gd name="textAreaTop" fmla="*/ 0 h 1170720"/>
              <a:gd name="textAreaBottom" fmla="*/ 1171080 h 1170720"/>
            </a:gdLst>
            <a:ahLst/>
            <a:rect l="textAreaLeft" t="textAreaTop" r="textAreaRight" b="textAreaBottom"/>
            <a:pathLst>
              <a:path w="461" h="327">
                <a:moveTo>
                  <a:pt x="431" y="246"/>
                </a:moveTo>
                <a:cubicBezTo>
                  <a:pt x="316" y="327"/>
                  <a:pt x="170" y="0"/>
                  <a:pt x="0" y="0"/>
                </a:cubicBezTo>
                <a:cubicBezTo>
                  <a:pt x="344" y="0"/>
                  <a:pt x="309" y="83"/>
                  <a:pt x="437" y="127"/>
                </a:cubicBezTo>
                <a:cubicBezTo>
                  <a:pt x="437" y="127"/>
                  <a:pt x="461" y="145"/>
                  <a:pt x="431" y="246"/>
                </a:cubicBezTo>
                <a:close/>
              </a:path>
            </a:pathLst>
          </a:custGeom>
          <a:gradFill rotWithShape="0">
            <a:gsLst>
              <a:gs pos="0">
                <a:srgbClr val="e2001a"/>
              </a:gs>
              <a:gs pos="100000">
                <a:srgbClr val="95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9"/>
          <p:cNvSpPr/>
          <p:nvPr/>
        </p:nvSpPr>
        <p:spPr>
          <a:xfrm>
            <a:off x="2494440" y="3915000"/>
            <a:ext cx="693360" cy="1298160"/>
          </a:xfrm>
          <a:custGeom>
            <a:avLst/>
            <a:gdLst>
              <a:gd name="textAreaLeft" fmla="*/ 0 w 693360"/>
              <a:gd name="textAreaRight" fmla="*/ 693720 w 693360"/>
              <a:gd name="textAreaTop" fmla="*/ 0 h 1298160"/>
              <a:gd name="textAreaBottom" fmla="*/ 1298520 h 1298160"/>
            </a:gdLst>
            <a:ahLst/>
            <a:rect l="textAreaLeft" t="textAreaTop" r="textAreaRight" b="textAreaBottom"/>
            <a:pathLst>
              <a:path w="194" h="363">
                <a:moveTo>
                  <a:pt x="0" y="88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47"/>
                  <a:pt x="194" y="165"/>
                  <a:pt x="170" y="256"/>
                </a:cubicBezTo>
                <a:cubicBezTo>
                  <a:pt x="30" y="363"/>
                  <a:pt x="30" y="363"/>
                  <a:pt x="30" y="363"/>
                </a:cubicBezTo>
                <a:cubicBezTo>
                  <a:pt x="50" y="249"/>
                  <a:pt x="0" y="182"/>
                  <a:pt x="0" y="88"/>
                </a:cubicBezTo>
                <a:close/>
              </a:path>
            </a:pathLst>
          </a:custGeom>
          <a:gradFill rotWithShape="0">
            <a:gsLst>
              <a:gs pos="0">
                <a:srgbClr val="e2001a"/>
              </a:gs>
              <a:gs pos="100000">
                <a:srgbClr val="c200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35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e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uppieren 1043"/>
          <p:cNvGrpSpPr/>
          <p:nvPr/>
        </p:nvGrpSpPr>
        <p:grpSpPr>
          <a:xfrm>
            <a:off x="62640" y="3516840"/>
            <a:ext cx="2759760" cy="1932120"/>
            <a:chOff x="62640" y="3516840"/>
            <a:chExt cx="2759760" cy="1932120"/>
          </a:xfrm>
        </p:grpSpPr>
        <p:sp>
          <p:nvSpPr>
            <p:cNvPr id="266" name="Freeform 45"/>
            <p:cNvSpPr/>
            <p:nvPr/>
          </p:nvSpPr>
          <p:spPr>
            <a:xfrm flipH="1">
              <a:off x="62640" y="3516840"/>
              <a:ext cx="2759760" cy="1206720"/>
            </a:xfrm>
            <a:custGeom>
              <a:avLst/>
              <a:gdLst>
                <a:gd name="textAreaLeft" fmla="*/ 360 w 2759760"/>
                <a:gd name="textAreaRight" fmla="*/ 2760480 w 2759760"/>
                <a:gd name="textAreaTop" fmla="*/ 0 h 1206720"/>
                <a:gd name="textAreaBottom" fmla="*/ 1207080 h 1206720"/>
              </a:gdLst>
              <a:ahLst/>
              <a:rect l="textAreaLeft" t="textAreaTop" r="textAreaRight" b="textAreaBottom"/>
              <a:pathLst>
                <a:path w="2167" h="903">
                  <a:moveTo>
                    <a:pt x="936" y="15"/>
                  </a:moveTo>
                  <a:cubicBezTo>
                    <a:pt x="882" y="4"/>
                    <a:pt x="846" y="0"/>
                    <a:pt x="793" y="20"/>
                  </a:cubicBezTo>
                  <a:cubicBezTo>
                    <a:pt x="768" y="29"/>
                    <a:pt x="747" y="25"/>
                    <a:pt x="719" y="31"/>
                  </a:cubicBezTo>
                  <a:cubicBezTo>
                    <a:pt x="700" y="35"/>
                    <a:pt x="675" y="50"/>
                    <a:pt x="656" y="55"/>
                  </a:cubicBezTo>
                  <a:cubicBezTo>
                    <a:pt x="589" y="72"/>
                    <a:pt x="392" y="57"/>
                    <a:pt x="395" y="170"/>
                  </a:cubicBezTo>
                  <a:cubicBezTo>
                    <a:pt x="360" y="172"/>
                    <a:pt x="346" y="179"/>
                    <a:pt x="319" y="194"/>
                  </a:cubicBezTo>
                  <a:cubicBezTo>
                    <a:pt x="303" y="203"/>
                    <a:pt x="250" y="215"/>
                    <a:pt x="251" y="242"/>
                  </a:cubicBezTo>
                  <a:cubicBezTo>
                    <a:pt x="190" y="272"/>
                    <a:pt x="137" y="258"/>
                    <a:pt x="100" y="327"/>
                  </a:cubicBezTo>
                  <a:cubicBezTo>
                    <a:pt x="66" y="388"/>
                    <a:pt x="71" y="446"/>
                    <a:pt x="67" y="518"/>
                  </a:cubicBezTo>
                  <a:cubicBezTo>
                    <a:pt x="29" y="531"/>
                    <a:pt x="0" y="584"/>
                    <a:pt x="8" y="623"/>
                  </a:cubicBezTo>
                  <a:cubicBezTo>
                    <a:pt x="17" y="672"/>
                    <a:pt x="74" y="685"/>
                    <a:pt x="115" y="691"/>
                  </a:cubicBezTo>
                  <a:cubicBezTo>
                    <a:pt x="113" y="718"/>
                    <a:pt x="141" y="740"/>
                    <a:pt x="160" y="755"/>
                  </a:cubicBezTo>
                  <a:cubicBezTo>
                    <a:pt x="177" y="769"/>
                    <a:pt x="201" y="786"/>
                    <a:pt x="223" y="800"/>
                  </a:cubicBezTo>
                  <a:cubicBezTo>
                    <a:pt x="243" y="813"/>
                    <a:pt x="274" y="824"/>
                    <a:pt x="299" y="827"/>
                  </a:cubicBezTo>
                  <a:cubicBezTo>
                    <a:pt x="336" y="831"/>
                    <a:pt x="350" y="834"/>
                    <a:pt x="382" y="852"/>
                  </a:cubicBezTo>
                  <a:cubicBezTo>
                    <a:pt x="439" y="883"/>
                    <a:pt x="473" y="781"/>
                    <a:pt x="538" y="785"/>
                  </a:cubicBezTo>
                  <a:cubicBezTo>
                    <a:pt x="578" y="787"/>
                    <a:pt x="599" y="790"/>
                    <a:pt x="634" y="801"/>
                  </a:cubicBezTo>
                  <a:cubicBezTo>
                    <a:pt x="679" y="815"/>
                    <a:pt x="675" y="794"/>
                    <a:pt x="709" y="785"/>
                  </a:cubicBezTo>
                  <a:cubicBezTo>
                    <a:pt x="722" y="781"/>
                    <a:pt x="744" y="788"/>
                    <a:pt x="757" y="790"/>
                  </a:cubicBezTo>
                  <a:cubicBezTo>
                    <a:pt x="768" y="792"/>
                    <a:pt x="794" y="794"/>
                    <a:pt x="809" y="797"/>
                  </a:cubicBezTo>
                  <a:cubicBezTo>
                    <a:pt x="839" y="805"/>
                    <a:pt x="870" y="801"/>
                    <a:pt x="900" y="816"/>
                  </a:cubicBezTo>
                  <a:cubicBezTo>
                    <a:pt x="950" y="840"/>
                    <a:pt x="1000" y="823"/>
                    <a:pt x="1053" y="828"/>
                  </a:cubicBezTo>
                  <a:cubicBezTo>
                    <a:pt x="1091" y="831"/>
                    <a:pt x="1147" y="841"/>
                    <a:pt x="1178" y="824"/>
                  </a:cubicBezTo>
                  <a:cubicBezTo>
                    <a:pt x="1210" y="807"/>
                    <a:pt x="1209" y="845"/>
                    <a:pt x="1246" y="845"/>
                  </a:cubicBezTo>
                  <a:cubicBezTo>
                    <a:pt x="1314" y="845"/>
                    <a:pt x="1362" y="817"/>
                    <a:pt x="1430" y="817"/>
                  </a:cubicBezTo>
                  <a:cubicBezTo>
                    <a:pt x="1466" y="817"/>
                    <a:pt x="1492" y="819"/>
                    <a:pt x="1519" y="802"/>
                  </a:cubicBezTo>
                  <a:cubicBezTo>
                    <a:pt x="1533" y="792"/>
                    <a:pt x="1528" y="783"/>
                    <a:pt x="1546" y="777"/>
                  </a:cubicBezTo>
                  <a:cubicBezTo>
                    <a:pt x="1560" y="771"/>
                    <a:pt x="1586" y="777"/>
                    <a:pt x="1602" y="777"/>
                  </a:cubicBezTo>
                  <a:cubicBezTo>
                    <a:pt x="1671" y="777"/>
                    <a:pt x="1760" y="903"/>
                    <a:pt x="1824" y="884"/>
                  </a:cubicBezTo>
                  <a:cubicBezTo>
                    <a:pt x="1853" y="875"/>
                    <a:pt x="1874" y="854"/>
                    <a:pt x="1900" y="843"/>
                  </a:cubicBezTo>
                  <a:cubicBezTo>
                    <a:pt x="1914" y="838"/>
                    <a:pt x="1935" y="845"/>
                    <a:pt x="1948" y="839"/>
                  </a:cubicBezTo>
                  <a:cubicBezTo>
                    <a:pt x="1973" y="826"/>
                    <a:pt x="1956" y="825"/>
                    <a:pt x="1971" y="802"/>
                  </a:cubicBezTo>
                  <a:cubicBezTo>
                    <a:pt x="1985" y="781"/>
                    <a:pt x="2012" y="766"/>
                    <a:pt x="2029" y="752"/>
                  </a:cubicBezTo>
                  <a:cubicBezTo>
                    <a:pt x="2050" y="733"/>
                    <a:pt x="2063" y="712"/>
                    <a:pt x="2083" y="694"/>
                  </a:cubicBezTo>
                  <a:cubicBezTo>
                    <a:pt x="2132" y="647"/>
                    <a:pt x="2167" y="609"/>
                    <a:pt x="2144" y="535"/>
                  </a:cubicBezTo>
                  <a:cubicBezTo>
                    <a:pt x="2140" y="524"/>
                    <a:pt x="2127" y="517"/>
                    <a:pt x="2123" y="507"/>
                  </a:cubicBezTo>
                  <a:cubicBezTo>
                    <a:pt x="2118" y="490"/>
                    <a:pt x="2127" y="468"/>
                    <a:pt x="2124" y="451"/>
                  </a:cubicBezTo>
                  <a:cubicBezTo>
                    <a:pt x="2118" y="419"/>
                    <a:pt x="2104" y="407"/>
                    <a:pt x="2085" y="382"/>
                  </a:cubicBezTo>
                  <a:cubicBezTo>
                    <a:pt x="2069" y="361"/>
                    <a:pt x="2061" y="342"/>
                    <a:pt x="2047" y="320"/>
                  </a:cubicBezTo>
                  <a:cubicBezTo>
                    <a:pt x="2027" y="290"/>
                    <a:pt x="2005" y="295"/>
                    <a:pt x="1977" y="278"/>
                  </a:cubicBezTo>
                  <a:cubicBezTo>
                    <a:pt x="1950" y="261"/>
                    <a:pt x="1933" y="231"/>
                    <a:pt x="1904" y="215"/>
                  </a:cubicBezTo>
                  <a:cubicBezTo>
                    <a:pt x="1874" y="198"/>
                    <a:pt x="1838" y="208"/>
                    <a:pt x="1808" y="199"/>
                  </a:cubicBezTo>
                  <a:cubicBezTo>
                    <a:pt x="1783" y="191"/>
                    <a:pt x="1762" y="172"/>
                    <a:pt x="1736" y="167"/>
                  </a:cubicBezTo>
                  <a:cubicBezTo>
                    <a:pt x="1702" y="159"/>
                    <a:pt x="1669" y="168"/>
                    <a:pt x="1639" y="152"/>
                  </a:cubicBezTo>
                  <a:cubicBezTo>
                    <a:pt x="1624" y="144"/>
                    <a:pt x="1616" y="129"/>
                    <a:pt x="1600" y="122"/>
                  </a:cubicBezTo>
                  <a:cubicBezTo>
                    <a:pt x="1582" y="114"/>
                    <a:pt x="1564" y="121"/>
                    <a:pt x="1548" y="115"/>
                  </a:cubicBezTo>
                  <a:cubicBezTo>
                    <a:pt x="1524" y="106"/>
                    <a:pt x="1502" y="84"/>
                    <a:pt x="1477" y="74"/>
                  </a:cubicBezTo>
                  <a:cubicBezTo>
                    <a:pt x="1445" y="60"/>
                    <a:pt x="1426" y="49"/>
                    <a:pt x="1391" y="54"/>
                  </a:cubicBezTo>
                  <a:cubicBezTo>
                    <a:pt x="1362" y="57"/>
                    <a:pt x="1328" y="71"/>
                    <a:pt x="1296" y="63"/>
                  </a:cubicBezTo>
                  <a:cubicBezTo>
                    <a:pt x="1260" y="54"/>
                    <a:pt x="1252" y="38"/>
                    <a:pt x="1211" y="46"/>
                  </a:cubicBezTo>
                  <a:cubicBezTo>
                    <a:pt x="1173" y="53"/>
                    <a:pt x="1158" y="49"/>
                    <a:pt x="1121" y="38"/>
                  </a:cubicBezTo>
                  <a:cubicBezTo>
                    <a:pt x="1093" y="30"/>
                    <a:pt x="1058" y="15"/>
                    <a:pt x="1028" y="19"/>
                  </a:cubicBezTo>
                  <a:cubicBezTo>
                    <a:pt x="1000" y="22"/>
                    <a:pt x="962" y="47"/>
                    <a:pt x="940" y="15"/>
                  </a:cubicBezTo>
                  <a:lnTo>
                    <a:pt x="936" y="15"/>
                  </a:lnTo>
                  <a:close/>
                </a:path>
              </a:pathLst>
            </a:custGeom>
            <a:gradFill rotWithShape="0">
              <a:gsLst>
                <a:gs pos="78000">
                  <a:srgbClr val="bae191"/>
                </a:gs>
                <a:gs pos="100000">
                  <a:srgbClr val="92d05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46"/>
            <p:cNvSpPr/>
            <p:nvPr/>
          </p:nvSpPr>
          <p:spPr>
            <a:xfrm flipH="1">
              <a:off x="700560" y="4591800"/>
              <a:ext cx="1402920" cy="857160"/>
            </a:xfrm>
            <a:custGeom>
              <a:avLst/>
              <a:gdLst>
                <a:gd name="textAreaLeft" fmla="*/ -360 w 1402920"/>
                <a:gd name="textAreaRight" fmla="*/ 1402920 w 14029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1101" h="642">
                  <a:moveTo>
                    <a:pt x="1075" y="597"/>
                  </a:moveTo>
                  <a:cubicBezTo>
                    <a:pt x="1024" y="597"/>
                    <a:pt x="972" y="599"/>
                    <a:pt x="921" y="597"/>
                  </a:cubicBezTo>
                  <a:cubicBezTo>
                    <a:pt x="895" y="596"/>
                    <a:pt x="870" y="592"/>
                    <a:pt x="844" y="590"/>
                  </a:cubicBezTo>
                  <a:cubicBezTo>
                    <a:pt x="828" y="589"/>
                    <a:pt x="812" y="588"/>
                    <a:pt x="797" y="585"/>
                  </a:cubicBezTo>
                  <a:cubicBezTo>
                    <a:pt x="782" y="581"/>
                    <a:pt x="768" y="576"/>
                    <a:pt x="755" y="571"/>
                  </a:cubicBezTo>
                  <a:cubicBezTo>
                    <a:pt x="733" y="564"/>
                    <a:pt x="712" y="556"/>
                    <a:pt x="689" y="550"/>
                  </a:cubicBezTo>
                  <a:cubicBezTo>
                    <a:pt x="683" y="548"/>
                    <a:pt x="676" y="547"/>
                    <a:pt x="669" y="545"/>
                  </a:cubicBezTo>
                  <a:cubicBezTo>
                    <a:pt x="667" y="542"/>
                    <a:pt x="664" y="539"/>
                    <a:pt x="659" y="538"/>
                  </a:cubicBezTo>
                  <a:cubicBezTo>
                    <a:pt x="657" y="532"/>
                    <a:pt x="651" y="527"/>
                    <a:pt x="642" y="527"/>
                  </a:cubicBezTo>
                  <a:cubicBezTo>
                    <a:pt x="640" y="527"/>
                    <a:pt x="638" y="527"/>
                    <a:pt x="636" y="527"/>
                  </a:cubicBezTo>
                  <a:cubicBezTo>
                    <a:pt x="634" y="526"/>
                    <a:pt x="631" y="525"/>
                    <a:pt x="628" y="524"/>
                  </a:cubicBezTo>
                  <a:cubicBezTo>
                    <a:pt x="625" y="518"/>
                    <a:pt x="620" y="513"/>
                    <a:pt x="612" y="512"/>
                  </a:cubicBezTo>
                  <a:cubicBezTo>
                    <a:pt x="610" y="505"/>
                    <a:pt x="604" y="499"/>
                    <a:pt x="594" y="499"/>
                  </a:cubicBezTo>
                  <a:cubicBezTo>
                    <a:pt x="590" y="493"/>
                    <a:pt x="586" y="488"/>
                    <a:pt x="583" y="482"/>
                  </a:cubicBezTo>
                  <a:cubicBezTo>
                    <a:pt x="578" y="472"/>
                    <a:pt x="575" y="461"/>
                    <a:pt x="572" y="451"/>
                  </a:cubicBezTo>
                  <a:cubicBezTo>
                    <a:pt x="571" y="449"/>
                    <a:pt x="570" y="448"/>
                    <a:pt x="570" y="446"/>
                  </a:cubicBezTo>
                  <a:cubicBezTo>
                    <a:pt x="568" y="437"/>
                    <a:pt x="567" y="428"/>
                    <a:pt x="565" y="419"/>
                  </a:cubicBezTo>
                  <a:cubicBezTo>
                    <a:pt x="573" y="397"/>
                    <a:pt x="562" y="376"/>
                    <a:pt x="561" y="353"/>
                  </a:cubicBezTo>
                  <a:cubicBezTo>
                    <a:pt x="561" y="327"/>
                    <a:pt x="565" y="301"/>
                    <a:pt x="567" y="275"/>
                  </a:cubicBezTo>
                  <a:cubicBezTo>
                    <a:pt x="567" y="272"/>
                    <a:pt x="567" y="270"/>
                    <a:pt x="566" y="267"/>
                  </a:cubicBezTo>
                  <a:cubicBezTo>
                    <a:pt x="567" y="263"/>
                    <a:pt x="566" y="258"/>
                    <a:pt x="564" y="254"/>
                  </a:cubicBezTo>
                  <a:cubicBezTo>
                    <a:pt x="563" y="250"/>
                    <a:pt x="561" y="246"/>
                    <a:pt x="559" y="243"/>
                  </a:cubicBezTo>
                  <a:cubicBezTo>
                    <a:pt x="560" y="233"/>
                    <a:pt x="561" y="223"/>
                    <a:pt x="561" y="214"/>
                  </a:cubicBezTo>
                  <a:cubicBezTo>
                    <a:pt x="563" y="212"/>
                    <a:pt x="565" y="210"/>
                    <a:pt x="567" y="207"/>
                  </a:cubicBezTo>
                  <a:cubicBezTo>
                    <a:pt x="576" y="192"/>
                    <a:pt x="593" y="183"/>
                    <a:pt x="604" y="169"/>
                  </a:cubicBezTo>
                  <a:cubicBezTo>
                    <a:pt x="613" y="157"/>
                    <a:pt x="619" y="142"/>
                    <a:pt x="625" y="128"/>
                  </a:cubicBezTo>
                  <a:cubicBezTo>
                    <a:pt x="630" y="127"/>
                    <a:pt x="634" y="124"/>
                    <a:pt x="636" y="119"/>
                  </a:cubicBezTo>
                  <a:cubicBezTo>
                    <a:pt x="637" y="118"/>
                    <a:pt x="638" y="117"/>
                    <a:pt x="638" y="115"/>
                  </a:cubicBezTo>
                  <a:cubicBezTo>
                    <a:pt x="648" y="112"/>
                    <a:pt x="652" y="103"/>
                    <a:pt x="652" y="94"/>
                  </a:cubicBezTo>
                  <a:cubicBezTo>
                    <a:pt x="652" y="94"/>
                    <a:pt x="653" y="93"/>
                    <a:pt x="653" y="93"/>
                  </a:cubicBezTo>
                  <a:cubicBezTo>
                    <a:pt x="654" y="92"/>
                    <a:pt x="655" y="91"/>
                    <a:pt x="656" y="89"/>
                  </a:cubicBezTo>
                  <a:cubicBezTo>
                    <a:pt x="659" y="88"/>
                    <a:pt x="661" y="85"/>
                    <a:pt x="662" y="83"/>
                  </a:cubicBezTo>
                  <a:cubicBezTo>
                    <a:pt x="674" y="75"/>
                    <a:pt x="683" y="64"/>
                    <a:pt x="691" y="50"/>
                  </a:cubicBezTo>
                  <a:cubicBezTo>
                    <a:pt x="701" y="33"/>
                    <a:pt x="716" y="17"/>
                    <a:pt x="730" y="1"/>
                  </a:cubicBezTo>
                  <a:cubicBezTo>
                    <a:pt x="722" y="1"/>
                    <a:pt x="715" y="1"/>
                    <a:pt x="707" y="1"/>
                  </a:cubicBezTo>
                  <a:cubicBezTo>
                    <a:pt x="695" y="1"/>
                    <a:pt x="682" y="1"/>
                    <a:pt x="669" y="0"/>
                  </a:cubicBezTo>
                  <a:cubicBezTo>
                    <a:pt x="667" y="1"/>
                    <a:pt x="665" y="3"/>
                    <a:pt x="663" y="6"/>
                  </a:cubicBezTo>
                  <a:cubicBezTo>
                    <a:pt x="657" y="15"/>
                    <a:pt x="647" y="24"/>
                    <a:pt x="640" y="34"/>
                  </a:cubicBezTo>
                  <a:cubicBezTo>
                    <a:pt x="637" y="35"/>
                    <a:pt x="635" y="36"/>
                    <a:pt x="632" y="38"/>
                  </a:cubicBezTo>
                  <a:cubicBezTo>
                    <a:pt x="630" y="39"/>
                    <a:pt x="627" y="41"/>
                    <a:pt x="625" y="43"/>
                  </a:cubicBezTo>
                  <a:cubicBezTo>
                    <a:pt x="624" y="44"/>
                    <a:pt x="623" y="45"/>
                    <a:pt x="623" y="46"/>
                  </a:cubicBezTo>
                  <a:cubicBezTo>
                    <a:pt x="614" y="48"/>
                    <a:pt x="607" y="56"/>
                    <a:pt x="607" y="65"/>
                  </a:cubicBezTo>
                  <a:cubicBezTo>
                    <a:pt x="607" y="68"/>
                    <a:pt x="607" y="70"/>
                    <a:pt x="607" y="73"/>
                  </a:cubicBezTo>
                  <a:cubicBezTo>
                    <a:pt x="607" y="74"/>
                    <a:pt x="607" y="75"/>
                    <a:pt x="607" y="76"/>
                  </a:cubicBezTo>
                  <a:cubicBezTo>
                    <a:pt x="603" y="80"/>
                    <a:pt x="601" y="85"/>
                    <a:pt x="598" y="91"/>
                  </a:cubicBezTo>
                  <a:cubicBezTo>
                    <a:pt x="598" y="91"/>
                    <a:pt x="598" y="92"/>
                    <a:pt x="598" y="92"/>
                  </a:cubicBezTo>
                  <a:cubicBezTo>
                    <a:pt x="595" y="98"/>
                    <a:pt x="593" y="103"/>
                    <a:pt x="590" y="109"/>
                  </a:cubicBezTo>
                  <a:cubicBezTo>
                    <a:pt x="582" y="112"/>
                    <a:pt x="576" y="119"/>
                    <a:pt x="576" y="128"/>
                  </a:cubicBezTo>
                  <a:cubicBezTo>
                    <a:pt x="575" y="128"/>
                    <a:pt x="574" y="129"/>
                    <a:pt x="571" y="130"/>
                  </a:cubicBezTo>
                  <a:cubicBezTo>
                    <a:pt x="571" y="130"/>
                    <a:pt x="571" y="130"/>
                    <a:pt x="571" y="130"/>
                  </a:cubicBezTo>
                  <a:cubicBezTo>
                    <a:pt x="569" y="129"/>
                    <a:pt x="566" y="128"/>
                    <a:pt x="563" y="128"/>
                  </a:cubicBezTo>
                  <a:cubicBezTo>
                    <a:pt x="562" y="128"/>
                    <a:pt x="562" y="128"/>
                    <a:pt x="562" y="128"/>
                  </a:cubicBezTo>
                  <a:cubicBezTo>
                    <a:pt x="560" y="128"/>
                    <a:pt x="558" y="128"/>
                    <a:pt x="557" y="129"/>
                  </a:cubicBezTo>
                  <a:cubicBezTo>
                    <a:pt x="557" y="127"/>
                    <a:pt x="558" y="125"/>
                    <a:pt x="559" y="124"/>
                  </a:cubicBezTo>
                  <a:cubicBezTo>
                    <a:pt x="559" y="124"/>
                    <a:pt x="559" y="124"/>
                    <a:pt x="559" y="123"/>
                  </a:cubicBezTo>
                  <a:cubicBezTo>
                    <a:pt x="552" y="114"/>
                    <a:pt x="550" y="102"/>
                    <a:pt x="552" y="91"/>
                  </a:cubicBezTo>
                  <a:cubicBezTo>
                    <a:pt x="556" y="64"/>
                    <a:pt x="556" y="37"/>
                    <a:pt x="555" y="10"/>
                  </a:cubicBezTo>
                  <a:cubicBezTo>
                    <a:pt x="532" y="10"/>
                    <a:pt x="509" y="10"/>
                    <a:pt x="486" y="11"/>
                  </a:cubicBezTo>
                  <a:cubicBezTo>
                    <a:pt x="465" y="13"/>
                    <a:pt x="444" y="15"/>
                    <a:pt x="423" y="16"/>
                  </a:cubicBezTo>
                  <a:cubicBezTo>
                    <a:pt x="422" y="15"/>
                    <a:pt x="421" y="13"/>
                    <a:pt x="420" y="12"/>
                  </a:cubicBezTo>
                  <a:cubicBezTo>
                    <a:pt x="404" y="12"/>
                    <a:pt x="387" y="12"/>
                    <a:pt x="371" y="12"/>
                  </a:cubicBezTo>
                  <a:cubicBezTo>
                    <a:pt x="372" y="15"/>
                    <a:pt x="374" y="19"/>
                    <a:pt x="377" y="22"/>
                  </a:cubicBezTo>
                  <a:cubicBezTo>
                    <a:pt x="379" y="24"/>
                    <a:pt x="381" y="26"/>
                    <a:pt x="382" y="28"/>
                  </a:cubicBezTo>
                  <a:cubicBezTo>
                    <a:pt x="383" y="35"/>
                    <a:pt x="386" y="42"/>
                    <a:pt x="393" y="45"/>
                  </a:cubicBezTo>
                  <a:cubicBezTo>
                    <a:pt x="393" y="45"/>
                    <a:pt x="393" y="45"/>
                    <a:pt x="393" y="45"/>
                  </a:cubicBezTo>
                  <a:cubicBezTo>
                    <a:pt x="388" y="54"/>
                    <a:pt x="390" y="67"/>
                    <a:pt x="399" y="73"/>
                  </a:cubicBezTo>
                  <a:cubicBezTo>
                    <a:pt x="397" y="80"/>
                    <a:pt x="399" y="88"/>
                    <a:pt x="404" y="93"/>
                  </a:cubicBezTo>
                  <a:cubicBezTo>
                    <a:pt x="404" y="98"/>
                    <a:pt x="405" y="103"/>
                    <a:pt x="405" y="109"/>
                  </a:cubicBezTo>
                  <a:cubicBezTo>
                    <a:pt x="406" y="120"/>
                    <a:pt x="407" y="131"/>
                    <a:pt x="407" y="143"/>
                  </a:cubicBezTo>
                  <a:cubicBezTo>
                    <a:pt x="402" y="146"/>
                    <a:pt x="400" y="152"/>
                    <a:pt x="400" y="157"/>
                  </a:cubicBezTo>
                  <a:cubicBezTo>
                    <a:pt x="401" y="159"/>
                    <a:pt x="401" y="161"/>
                    <a:pt x="401" y="163"/>
                  </a:cubicBezTo>
                  <a:cubicBezTo>
                    <a:pt x="401" y="163"/>
                    <a:pt x="401" y="164"/>
                    <a:pt x="401" y="165"/>
                  </a:cubicBezTo>
                  <a:cubicBezTo>
                    <a:pt x="400" y="165"/>
                    <a:pt x="400" y="166"/>
                    <a:pt x="400" y="167"/>
                  </a:cubicBezTo>
                  <a:cubicBezTo>
                    <a:pt x="400" y="168"/>
                    <a:pt x="399" y="170"/>
                    <a:pt x="399" y="172"/>
                  </a:cubicBezTo>
                  <a:cubicBezTo>
                    <a:pt x="400" y="168"/>
                    <a:pt x="397" y="174"/>
                    <a:pt x="396" y="175"/>
                  </a:cubicBezTo>
                  <a:cubicBezTo>
                    <a:pt x="392" y="182"/>
                    <a:pt x="393" y="191"/>
                    <a:pt x="398" y="198"/>
                  </a:cubicBezTo>
                  <a:cubicBezTo>
                    <a:pt x="397" y="199"/>
                    <a:pt x="396" y="201"/>
                    <a:pt x="396" y="203"/>
                  </a:cubicBezTo>
                  <a:cubicBezTo>
                    <a:pt x="389" y="224"/>
                    <a:pt x="386" y="250"/>
                    <a:pt x="392" y="271"/>
                  </a:cubicBezTo>
                  <a:cubicBezTo>
                    <a:pt x="393" y="275"/>
                    <a:pt x="394" y="279"/>
                    <a:pt x="396" y="282"/>
                  </a:cubicBezTo>
                  <a:cubicBezTo>
                    <a:pt x="395" y="287"/>
                    <a:pt x="395" y="291"/>
                    <a:pt x="394" y="296"/>
                  </a:cubicBezTo>
                  <a:cubicBezTo>
                    <a:pt x="393" y="308"/>
                    <a:pt x="392" y="321"/>
                    <a:pt x="391" y="333"/>
                  </a:cubicBezTo>
                  <a:cubicBezTo>
                    <a:pt x="391" y="360"/>
                    <a:pt x="401" y="388"/>
                    <a:pt x="397" y="414"/>
                  </a:cubicBezTo>
                  <a:cubicBezTo>
                    <a:pt x="396" y="418"/>
                    <a:pt x="395" y="422"/>
                    <a:pt x="394" y="425"/>
                  </a:cubicBezTo>
                  <a:cubicBezTo>
                    <a:pt x="394" y="426"/>
                    <a:pt x="394" y="427"/>
                    <a:pt x="395" y="428"/>
                  </a:cubicBezTo>
                  <a:cubicBezTo>
                    <a:pt x="398" y="446"/>
                    <a:pt x="399" y="460"/>
                    <a:pt x="394" y="477"/>
                  </a:cubicBezTo>
                  <a:cubicBezTo>
                    <a:pt x="401" y="489"/>
                    <a:pt x="401" y="502"/>
                    <a:pt x="397" y="515"/>
                  </a:cubicBezTo>
                  <a:cubicBezTo>
                    <a:pt x="391" y="518"/>
                    <a:pt x="388" y="525"/>
                    <a:pt x="388" y="531"/>
                  </a:cubicBezTo>
                  <a:cubicBezTo>
                    <a:pt x="384" y="533"/>
                    <a:pt x="381" y="535"/>
                    <a:pt x="380" y="539"/>
                  </a:cubicBezTo>
                  <a:cubicBezTo>
                    <a:pt x="377" y="537"/>
                    <a:pt x="374" y="536"/>
                    <a:pt x="370" y="536"/>
                  </a:cubicBezTo>
                  <a:cubicBezTo>
                    <a:pt x="360" y="536"/>
                    <a:pt x="354" y="542"/>
                    <a:pt x="351" y="549"/>
                  </a:cubicBezTo>
                  <a:cubicBezTo>
                    <a:pt x="351" y="549"/>
                    <a:pt x="351" y="549"/>
                    <a:pt x="351" y="549"/>
                  </a:cubicBezTo>
                  <a:cubicBezTo>
                    <a:pt x="338" y="549"/>
                    <a:pt x="332" y="559"/>
                    <a:pt x="332" y="569"/>
                  </a:cubicBezTo>
                  <a:cubicBezTo>
                    <a:pt x="329" y="567"/>
                    <a:pt x="325" y="565"/>
                    <a:pt x="320" y="565"/>
                  </a:cubicBezTo>
                  <a:cubicBezTo>
                    <a:pt x="314" y="565"/>
                    <a:pt x="310" y="567"/>
                    <a:pt x="307" y="571"/>
                  </a:cubicBezTo>
                  <a:cubicBezTo>
                    <a:pt x="295" y="570"/>
                    <a:pt x="284" y="568"/>
                    <a:pt x="272" y="567"/>
                  </a:cubicBezTo>
                  <a:cubicBezTo>
                    <a:pt x="266" y="566"/>
                    <a:pt x="260" y="566"/>
                    <a:pt x="254" y="565"/>
                  </a:cubicBezTo>
                  <a:cubicBezTo>
                    <a:pt x="253" y="565"/>
                    <a:pt x="252" y="565"/>
                    <a:pt x="251" y="565"/>
                  </a:cubicBezTo>
                  <a:cubicBezTo>
                    <a:pt x="240" y="564"/>
                    <a:pt x="228" y="563"/>
                    <a:pt x="217" y="562"/>
                  </a:cubicBezTo>
                  <a:cubicBezTo>
                    <a:pt x="215" y="563"/>
                    <a:pt x="213" y="563"/>
                    <a:pt x="211" y="564"/>
                  </a:cubicBezTo>
                  <a:cubicBezTo>
                    <a:pt x="188" y="570"/>
                    <a:pt x="167" y="579"/>
                    <a:pt x="143" y="579"/>
                  </a:cubicBezTo>
                  <a:cubicBezTo>
                    <a:pt x="121" y="579"/>
                    <a:pt x="100" y="580"/>
                    <a:pt x="78" y="580"/>
                  </a:cubicBezTo>
                  <a:cubicBezTo>
                    <a:pt x="72" y="581"/>
                    <a:pt x="65" y="581"/>
                    <a:pt x="59" y="581"/>
                  </a:cubicBezTo>
                  <a:cubicBezTo>
                    <a:pt x="50" y="582"/>
                    <a:pt x="41" y="584"/>
                    <a:pt x="32" y="585"/>
                  </a:cubicBezTo>
                  <a:cubicBezTo>
                    <a:pt x="27" y="587"/>
                    <a:pt x="21" y="589"/>
                    <a:pt x="16" y="590"/>
                  </a:cubicBezTo>
                  <a:cubicBezTo>
                    <a:pt x="15" y="590"/>
                    <a:pt x="14" y="590"/>
                    <a:pt x="12" y="590"/>
                  </a:cubicBezTo>
                  <a:cubicBezTo>
                    <a:pt x="0" y="602"/>
                    <a:pt x="4" y="627"/>
                    <a:pt x="24" y="625"/>
                  </a:cubicBezTo>
                  <a:cubicBezTo>
                    <a:pt x="41" y="624"/>
                    <a:pt x="57" y="622"/>
                    <a:pt x="72" y="618"/>
                  </a:cubicBezTo>
                  <a:cubicBezTo>
                    <a:pt x="76" y="623"/>
                    <a:pt x="81" y="627"/>
                    <a:pt x="88" y="628"/>
                  </a:cubicBezTo>
                  <a:cubicBezTo>
                    <a:pt x="148" y="635"/>
                    <a:pt x="207" y="634"/>
                    <a:pt x="267" y="635"/>
                  </a:cubicBezTo>
                  <a:cubicBezTo>
                    <a:pt x="327" y="637"/>
                    <a:pt x="387" y="637"/>
                    <a:pt x="447" y="639"/>
                  </a:cubicBezTo>
                  <a:cubicBezTo>
                    <a:pt x="509" y="640"/>
                    <a:pt x="572" y="640"/>
                    <a:pt x="634" y="639"/>
                  </a:cubicBezTo>
                  <a:cubicBezTo>
                    <a:pt x="678" y="639"/>
                    <a:pt x="721" y="638"/>
                    <a:pt x="765" y="639"/>
                  </a:cubicBezTo>
                  <a:cubicBezTo>
                    <a:pt x="782" y="640"/>
                    <a:pt x="800" y="641"/>
                    <a:pt x="818" y="641"/>
                  </a:cubicBezTo>
                  <a:cubicBezTo>
                    <a:pt x="824" y="641"/>
                    <a:pt x="829" y="639"/>
                    <a:pt x="832" y="636"/>
                  </a:cubicBezTo>
                  <a:cubicBezTo>
                    <a:pt x="853" y="640"/>
                    <a:pt x="875" y="642"/>
                    <a:pt x="898" y="640"/>
                  </a:cubicBezTo>
                  <a:cubicBezTo>
                    <a:pt x="902" y="640"/>
                    <a:pt x="905" y="638"/>
                    <a:pt x="908" y="636"/>
                  </a:cubicBezTo>
                  <a:cubicBezTo>
                    <a:pt x="963" y="640"/>
                    <a:pt x="1020" y="637"/>
                    <a:pt x="1075" y="637"/>
                  </a:cubicBezTo>
                  <a:cubicBezTo>
                    <a:pt x="1101" y="637"/>
                    <a:pt x="1101" y="597"/>
                    <a:pt x="1075" y="597"/>
                  </a:cubicBezTo>
                  <a:close/>
                </a:path>
              </a:pathLst>
            </a:custGeom>
            <a:gradFill rotWithShape="0">
              <a:gsLst>
                <a:gs pos="78000">
                  <a:srgbClr val="bae191"/>
                </a:gs>
                <a:gs pos="100000">
                  <a:srgbClr val="92d05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uppieren 1043"/>
          <p:cNvGrpSpPr/>
          <p:nvPr/>
        </p:nvGrpSpPr>
        <p:grpSpPr>
          <a:xfrm>
            <a:off x="1907640" y="2792880"/>
            <a:ext cx="3422520" cy="2648160"/>
            <a:chOff x="1907640" y="2792880"/>
            <a:chExt cx="3422520" cy="2648160"/>
          </a:xfrm>
        </p:grpSpPr>
        <p:sp>
          <p:nvSpPr>
            <p:cNvPr id="269" name="Freeform 45"/>
            <p:cNvSpPr/>
            <p:nvPr/>
          </p:nvSpPr>
          <p:spPr>
            <a:xfrm>
              <a:off x="1907640" y="2792880"/>
              <a:ext cx="3422520" cy="1653840"/>
            </a:xfrm>
            <a:custGeom>
              <a:avLst/>
              <a:gdLst>
                <a:gd name="textAreaLeft" fmla="*/ 0 w 3422520"/>
                <a:gd name="textAreaRight" fmla="*/ 3422880 w 342252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2167" h="903">
                  <a:moveTo>
                    <a:pt x="936" y="15"/>
                  </a:moveTo>
                  <a:cubicBezTo>
                    <a:pt x="882" y="4"/>
                    <a:pt x="846" y="0"/>
                    <a:pt x="793" y="20"/>
                  </a:cubicBezTo>
                  <a:cubicBezTo>
                    <a:pt x="768" y="29"/>
                    <a:pt x="747" y="25"/>
                    <a:pt x="719" y="31"/>
                  </a:cubicBezTo>
                  <a:cubicBezTo>
                    <a:pt x="700" y="35"/>
                    <a:pt x="675" y="50"/>
                    <a:pt x="656" y="55"/>
                  </a:cubicBezTo>
                  <a:cubicBezTo>
                    <a:pt x="589" y="72"/>
                    <a:pt x="392" y="57"/>
                    <a:pt x="395" y="170"/>
                  </a:cubicBezTo>
                  <a:cubicBezTo>
                    <a:pt x="360" y="172"/>
                    <a:pt x="346" y="179"/>
                    <a:pt x="319" y="194"/>
                  </a:cubicBezTo>
                  <a:cubicBezTo>
                    <a:pt x="303" y="203"/>
                    <a:pt x="250" y="215"/>
                    <a:pt x="251" y="242"/>
                  </a:cubicBezTo>
                  <a:cubicBezTo>
                    <a:pt x="190" y="272"/>
                    <a:pt x="137" y="258"/>
                    <a:pt x="100" y="327"/>
                  </a:cubicBezTo>
                  <a:cubicBezTo>
                    <a:pt x="66" y="388"/>
                    <a:pt x="71" y="446"/>
                    <a:pt x="67" y="518"/>
                  </a:cubicBezTo>
                  <a:cubicBezTo>
                    <a:pt x="29" y="531"/>
                    <a:pt x="0" y="584"/>
                    <a:pt x="8" y="623"/>
                  </a:cubicBezTo>
                  <a:cubicBezTo>
                    <a:pt x="17" y="672"/>
                    <a:pt x="74" y="685"/>
                    <a:pt x="115" y="691"/>
                  </a:cubicBezTo>
                  <a:cubicBezTo>
                    <a:pt x="113" y="718"/>
                    <a:pt x="141" y="740"/>
                    <a:pt x="160" y="755"/>
                  </a:cubicBezTo>
                  <a:cubicBezTo>
                    <a:pt x="177" y="769"/>
                    <a:pt x="201" y="786"/>
                    <a:pt x="223" y="800"/>
                  </a:cubicBezTo>
                  <a:cubicBezTo>
                    <a:pt x="243" y="813"/>
                    <a:pt x="274" y="824"/>
                    <a:pt x="299" y="827"/>
                  </a:cubicBezTo>
                  <a:cubicBezTo>
                    <a:pt x="336" y="831"/>
                    <a:pt x="350" y="834"/>
                    <a:pt x="382" y="852"/>
                  </a:cubicBezTo>
                  <a:cubicBezTo>
                    <a:pt x="439" y="883"/>
                    <a:pt x="473" y="781"/>
                    <a:pt x="538" y="785"/>
                  </a:cubicBezTo>
                  <a:cubicBezTo>
                    <a:pt x="578" y="787"/>
                    <a:pt x="599" y="790"/>
                    <a:pt x="634" y="801"/>
                  </a:cubicBezTo>
                  <a:cubicBezTo>
                    <a:pt x="679" y="815"/>
                    <a:pt x="675" y="794"/>
                    <a:pt x="709" y="785"/>
                  </a:cubicBezTo>
                  <a:cubicBezTo>
                    <a:pt x="722" y="781"/>
                    <a:pt x="744" y="788"/>
                    <a:pt x="757" y="790"/>
                  </a:cubicBezTo>
                  <a:cubicBezTo>
                    <a:pt x="768" y="792"/>
                    <a:pt x="794" y="794"/>
                    <a:pt x="809" y="797"/>
                  </a:cubicBezTo>
                  <a:cubicBezTo>
                    <a:pt x="839" y="805"/>
                    <a:pt x="870" y="801"/>
                    <a:pt x="900" y="816"/>
                  </a:cubicBezTo>
                  <a:cubicBezTo>
                    <a:pt x="950" y="840"/>
                    <a:pt x="1000" y="823"/>
                    <a:pt x="1053" y="828"/>
                  </a:cubicBezTo>
                  <a:cubicBezTo>
                    <a:pt x="1091" y="831"/>
                    <a:pt x="1147" y="841"/>
                    <a:pt x="1178" y="824"/>
                  </a:cubicBezTo>
                  <a:cubicBezTo>
                    <a:pt x="1210" y="807"/>
                    <a:pt x="1209" y="845"/>
                    <a:pt x="1246" y="845"/>
                  </a:cubicBezTo>
                  <a:cubicBezTo>
                    <a:pt x="1314" y="845"/>
                    <a:pt x="1362" y="817"/>
                    <a:pt x="1430" y="817"/>
                  </a:cubicBezTo>
                  <a:cubicBezTo>
                    <a:pt x="1466" y="817"/>
                    <a:pt x="1492" y="819"/>
                    <a:pt x="1519" y="802"/>
                  </a:cubicBezTo>
                  <a:cubicBezTo>
                    <a:pt x="1533" y="792"/>
                    <a:pt x="1528" y="783"/>
                    <a:pt x="1546" y="777"/>
                  </a:cubicBezTo>
                  <a:cubicBezTo>
                    <a:pt x="1560" y="771"/>
                    <a:pt x="1586" y="777"/>
                    <a:pt x="1602" y="777"/>
                  </a:cubicBezTo>
                  <a:cubicBezTo>
                    <a:pt x="1671" y="777"/>
                    <a:pt x="1760" y="903"/>
                    <a:pt x="1824" y="884"/>
                  </a:cubicBezTo>
                  <a:cubicBezTo>
                    <a:pt x="1853" y="875"/>
                    <a:pt x="1874" y="854"/>
                    <a:pt x="1900" y="843"/>
                  </a:cubicBezTo>
                  <a:cubicBezTo>
                    <a:pt x="1914" y="838"/>
                    <a:pt x="1935" y="845"/>
                    <a:pt x="1948" y="839"/>
                  </a:cubicBezTo>
                  <a:cubicBezTo>
                    <a:pt x="1973" y="826"/>
                    <a:pt x="1956" y="825"/>
                    <a:pt x="1971" y="802"/>
                  </a:cubicBezTo>
                  <a:cubicBezTo>
                    <a:pt x="1985" y="781"/>
                    <a:pt x="2012" y="766"/>
                    <a:pt x="2029" y="752"/>
                  </a:cubicBezTo>
                  <a:cubicBezTo>
                    <a:pt x="2050" y="733"/>
                    <a:pt x="2063" y="712"/>
                    <a:pt x="2083" y="694"/>
                  </a:cubicBezTo>
                  <a:cubicBezTo>
                    <a:pt x="2132" y="647"/>
                    <a:pt x="2167" y="609"/>
                    <a:pt x="2144" y="535"/>
                  </a:cubicBezTo>
                  <a:cubicBezTo>
                    <a:pt x="2140" y="524"/>
                    <a:pt x="2127" y="517"/>
                    <a:pt x="2123" y="507"/>
                  </a:cubicBezTo>
                  <a:cubicBezTo>
                    <a:pt x="2118" y="490"/>
                    <a:pt x="2127" y="468"/>
                    <a:pt x="2124" y="451"/>
                  </a:cubicBezTo>
                  <a:cubicBezTo>
                    <a:pt x="2118" y="419"/>
                    <a:pt x="2104" y="407"/>
                    <a:pt x="2085" y="382"/>
                  </a:cubicBezTo>
                  <a:cubicBezTo>
                    <a:pt x="2069" y="361"/>
                    <a:pt x="2061" y="342"/>
                    <a:pt x="2047" y="320"/>
                  </a:cubicBezTo>
                  <a:cubicBezTo>
                    <a:pt x="2027" y="290"/>
                    <a:pt x="2005" y="295"/>
                    <a:pt x="1977" y="278"/>
                  </a:cubicBezTo>
                  <a:cubicBezTo>
                    <a:pt x="1950" y="261"/>
                    <a:pt x="1933" y="231"/>
                    <a:pt x="1904" y="215"/>
                  </a:cubicBezTo>
                  <a:cubicBezTo>
                    <a:pt x="1874" y="198"/>
                    <a:pt x="1838" y="208"/>
                    <a:pt x="1808" y="199"/>
                  </a:cubicBezTo>
                  <a:cubicBezTo>
                    <a:pt x="1783" y="191"/>
                    <a:pt x="1762" y="172"/>
                    <a:pt x="1736" y="167"/>
                  </a:cubicBezTo>
                  <a:cubicBezTo>
                    <a:pt x="1702" y="159"/>
                    <a:pt x="1669" y="168"/>
                    <a:pt x="1639" y="152"/>
                  </a:cubicBezTo>
                  <a:cubicBezTo>
                    <a:pt x="1624" y="144"/>
                    <a:pt x="1616" y="129"/>
                    <a:pt x="1600" y="122"/>
                  </a:cubicBezTo>
                  <a:cubicBezTo>
                    <a:pt x="1582" y="114"/>
                    <a:pt x="1564" y="121"/>
                    <a:pt x="1548" y="115"/>
                  </a:cubicBezTo>
                  <a:cubicBezTo>
                    <a:pt x="1524" y="106"/>
                    <a:pt x="1502" y="84"/>
                    <a:pt x="1477" y="74"/>
                  </a:cubicBezTo>
                  <a:cubicBezTo>
                    <a:pt x="1445" y="60"/>
                    <a:pt x="1426" y="49"/>
                    <a:pt x="1391" y="54"/>
                  </a:cubicBezTo>
                  <a:cubicBezTo>
                    <a:pt x="1362" y="57"/>
                    <a:pt x="1328" y="71"/>
                    <a:pt x="1296" y="63"/>
                  </a:cubicBezTo>
                  <a:cubicBezTo>
                    <a:pt x="1260" y="54"/>
                    <a:pt x="1252" y="38"/>
                    <a:pt x="1211" y="46"/>
                  </a:cubicBezTo>
                  <a:cubicBezTo>
                    <a:pt x="1173" y="53"/>
                    <a:pt x="1158" y="49"/>
                    <a:pt x="1121" y="38"/>
                  </a:cubicBezTo>
                  <a:cubicBezTo>
                    <a:pt x="1093" y="30"/>
                    <a:pt x="1058" y="15"/>
                    <a:pt x="1028" y="19"/>
                  </a:cubicBezTo>
                  <a:cubicBezTo>
                    <a:pt x="1000" y="22"/>
                    <a:pt x="962" y="47"/>
                    <a:pt x="940" y="15"/>
                  </a:cubicBezTo>
                  <a:lnTo>
                    <a:pt x="936" y="15"/>
                  </a:lnTo>
                  <a:close/>
                </a:path>
              </a:pathLst>
            </a:custGeom>
            <a:gradFill rotWithShape="0">
              <a:gsLst>
                <a:gs pos="78000">
                  <a:srgbClr val="9ad35c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46"/>
            <p:cNvSpPr/>
            <p:nvPr/>
          </p:nvSpPr>
          <p:spPr>
            <a:xfrm>
              <a:off x="2798280" y="4266360"/>
              <a:ext cx="1739880" cy="117468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1101" h="642">
                  <a:moveTo>
                    <a:pt x="1075" y="597"/>
                  </a:moveTo>
                  <a:cubicBezTo>
                    <a:pt x="1024" y="597"/>
                    <a:pt x="972" y="599"/>
                    <a:pt x="921" y="597"/>
                  </a:cubicBezTo>
                  <a:cubicBezTo>
                    <a:pt x="895" y="596"/>
                    <a:pt x="870" y="592"/>
                    <a:pt x="844" y="590"/>
                  </a:cubicBezTo>
                  <a:cubicBezTo>
                    <a:pt x="828" y="589"/>
                    <a:pt x="812" y="588"/>
                    <a:pt x="797" y="585"/>
                  </a:cubicBezTo>
                  <a:cubicBezTo>
                    <a:pt x="782" y="581"/>
                    <a:pt x="768" y="576"/>
                    <a:pt x="755" y="571"/>
                  </a:cubicBezTo>
                  <a:cubicBezTo>
                    <a:pt x="733" y="564"/>
                    <a:pt x="712" y="556"/>
                    <a:pt x="689" y="550"/>
                  </a:cubicBezTo>
                  <a:cubicBezTo>
                    <a:pt x="683" y="548"/>
                    <a:pt x="676" y="547"/>
                    <a:pt x="669" y="545"/>
                  </a:cubicBezTo>
                  <a:cubicBezTo>
                    <a:pt x="667" y="542"/>
                    <a:pt x="664" y="539"/>
                    <a:pt x="659" y="538"/>
                  </a:cubicBezTo>
                  <a:cubicBezTo>
                    <a:pt x="657" y="532"/>
                    <a:pt x="651" y="527"/>
                    <a:pt x="642" y="527"/>
                  </a:cubicBezTo>
                  <a:cubicBezTo>
                    <a:pt x="640" y="527"/>
                    <a:pt x="638" y="527"/>
                    <a:pt x="636" y="527"/>
                  </a:cubicBezTo>
                  <a:cubicBezTo>
                    <a:pt x="634" y="526"/>
                    <a:pt x="631" y="525"/>
                    <a:pt x="628" y="524"/>
                  </a:cubicBezTo>
                  <a:cubicBezTo>
                    <a:pt x="625" y="518"/>
                    <a:pt x="620" y="513"/>
                    <a:pt x="612" y="512"/>
                  </a:cubicBezTo>
                  <a:cubicBezTo>
                    <a:pt x="610" y="505"/>
                    <a:pt x="604" y="499"/>
                    <a:pt x="594" y="499"/>
                  </a:cubicBezTo>
                  <a:cubicBezTo>
                    <a:pt x="590" y="493"/>
                    <a:pt x="586" y="488"/>
                    <a:pt x="583" y="482"/>
                  </a:cubicBezTo>
                  <a:cubicBezTo>
                    <a:pt x="578" y="472"/>
                    <a:pt x="575" y="461"/>
                    <a:pt x="572" y="451"/>
                  </a:cubicBezTo>
                  <a:cubicBezTo>
                    <a:pt x="571" y="449"/>
                    <a:pt x="570" y="448"/>
                    <a:pt x="570" y="446"/>
                  </a:cubicBezTo>
                  <a:cubicBezTo>
                    <a:pt x="568" y="437"/>
                    <a:pt x="567" y="428"/>
                    <a:pt x="565" y="419"/>
                  </a:cubicBezTo>
                  <a:cubicBezTo>
                    <a:pt x="573" y="397"/>
                    <a:pt x="562" y="376"/>
                    <a:pt x="561" y="353"/>
                  </a:cubicBezTo>
                  <a:cubicBezTo>
                    <a:pt x="561" y="327"/>
                    <a:pt x="565" y="301"/>
                    <a:pt x="567" y="275"/>
                  </a:cubicBezTo>
                  <a:cubicBezTo>
                    <a:pt x="567" y="272"/>
                    <a:pt x="567" y="270"/>
                    <a:pt x="566" y="267"/>
                  </a:cubicBezTo>
                  <a:cubicBezTo>
                    <a:pt x="567" y="263"/>
                    <a:pt x="566" y="258"/>
                    <a:pt x="564" y="254"/>
                  </a:cubicBezTo>
                  <a:cubicBezTo>
                    <a:pt x="563" y="250"/>
                    <a:pt x="561" y="246"/>
                    <a:pt x="559" y="243"/>
                  </a:cubicBezTo>
                  <a:cubicBezTo>
                    <a:pt x="560" y="233"/>
                    <a:pt x="561" y="223"/>
                    <a:pt x="561" y="214"/>
                  </a:cubicBezTo>
                  <a:cubicBezTo>
                    <a:pt x="563" y="212"/>
                    <a:pt x="565" y="210"/>
                    <a:pt x="567" y="207"/>
                  </a:cubicBezTo>
                  <a:cubicBezTo>
                    <a:pt x="576" y="192"/>
                    <a:pt x="593" y="183"/>
                    <a:pt x="604" y="169"/>
                  </a:cubicBezTo>
                  <a:cubicBezTo>
                    <a:pt x="613" y="157"/>
                    <a:pt x="619" y="142"/>
                    <a:pt x="625" y="128"/>
                  </a:cubicBezTo>
                  <a:cubicBezTo>
                    <a:pt x="630" y="127"/>
                    <a:pt x="634" y="124"/>
                    <a:pt x="636" y="119"/>
                  </a:cubicBezTo>
                  <a:cubicBezTo>
                    <a:pt x="637" y="118"/>
                    <a:pt x="638" y="117"/>
                    <a:pt x="638" y="115"/>
                  </a:cubicBezTo>
                  <a:cubicBezTo>
                    <a:pt x="648" y="112"/>
                    <a:pt x="652" y="103"/>
                    <a:pt x="652" y="94"/>
                  </a:cubicBezTo>
                  <a:cubicBezTo>
                    <a:pt x="652" y="94"/>
                    <a:pt x="653" y="93"/>
                    <a:pt x="653" y="93"/>
                  </a:cubicBezTo>
                  <a:cubicBezTo>
                    <a:pt x="654" y="92"/>
                    <a:pt x="655" y="91"/>
                    <a:pt x="656" y="89"/>
                  </a:cubicBezTo>
                  <a:cubicBezTo>
                    <a:pt x="659" y="88"/>
                    <a:pt x="661" y="85"/>
                    <a:pt x="662" y="83"/>
                  </a:cubicBezTo>
                  <a:cubicBezTo>
                    <a:pt x="674" y="75"/>
                    <a:pt x="683" y="64"/>
                    <a:pt x="691" y="50"/>
                  </a:cubicBezTo>
                  <a:cubicBezTo>
                    <a:pt x="701" y="33"/>
                    <a:pt x="716" y="17"/>
                    <a:pt x="730" y="1"/>
                  </a:cubicBezTo>
                  <a:cubicBezTo>
                    <a:pt x="722" y="1"/>
                    <a:pt x="715" y="1"/>
                    <a:pt x="707" y="1"/>
                  </a:cubicBezTo>
                  <a:cubicBezTo>
                    <a:pt x="695" y="1"/>
                    <a:pt x="682" y="1"/>
                    <a:pt x="669" y="0"/>
                  </a:cubicBezTo>
                  <a:cubicBezTo>
                    <a:pt x="667" y="1"/>
                    <a:pt x="665" y="3"/>
                    <a:pt x="663" y="6"/>
                  </a:cubicBezTo>
                  <a:cubicBezTo>
                    <a:pt x="657" y="15"/>
                    <a:pt x="647" y="24"/>
                    <a:pt x="640" y="34"/>
                  </a:cubicBezTo>
                  <a:cubicBezTo>
                    <a:pt x="637" y="35"/>
                    <a:pt x="635" y="36"/>
                    <a:pt x="632" y="38"/>
                  </a:cubicBezTo>
                  <a:cubicBezTo>
                    <a:pt x="630" y="39"/>
                    <a:pt x="627" y="41"/>
                    <a:pt x="625" y="43"/>
                  </a:cubicBezTo>
                  <a:cubicBezTo>
                    <a:pt x="624" y="44"/>
                    <a:pt x="623" y="45"/>
                    <a:pt x="623" y="46"/>
                  </a:cubicBezTo>
                  <a:cubicBezTo>
                    <a:pt x="614" y="48"/>
                    <a:pt x="607" y="56"/>
                    <a:pt x="607" y="65"/>
                  </a:cubicBezTo>
                  <a:cubicBezTo>
                    <a:pt x="607" y="68"/>
                    <a:pt x="607" y="70"/>
                    <a:pt x="607" y="73"/>
                  </a:cubicBezTo>
                  <a:cubicBezTo>
                    <a:pt x="607" y="74"/>
                    <a:pt x="607" y="75"/>
                    <a:pt x="607" y="76"/>
                  </a:cubicBezTo>
                  <a:cubicBezTo>
                    <a:pt x="603" y="80"/>
                    <a:pt x="601" y="85"/>
                    <a:pt x="598" y="91"/>
                  </a:cubicBezTo>
                  <a:cubicBezTo>
                    <a:pt x="598" y="91"/>
                    <a:pt x="598" y="92"/>
                    <a:pt x="598" y="92"/>
                  </a:cubicBezTo>
                  <a:cubicBezTo>
                    <a:pt x="595" y="98"/>
                    <a:pt x="593" y="103"/>
                    <a:pt x="590" y="109"/>
                  </a:cubicBezTo>
                  <a:cubicBezTo>
                    <a:pt x="582" y="112"/>
                    <a:pt x="576" y="119"/>
                    <a:pt x="576" y="128"/>
                  </a:cubicBezTo>
                  <a:cubicBezTo>
                    <a:pt x="575" y="128"/>
                    <a:pt x="574" y="129"/>
                    <a:pt x="571" y="130"/>
                  </a:cubicBezTo>
                  <a:cubicBezTo>
                    <a:pt x="571" y="130"/>
                    <a:pt x="571" y="130"/>
                    <a:pt x="571" y="130"/>
                  </a:cubicBezTo>
                  <a:cubicBezTo>
                    <a:pt x="569" y="129"/>
                    <a:pt x="566" y="128"/>
                    <a:pt x="563" y="128"/>
                  </a:cubicBezTo>
                  <a:cubicBezTo>
                    <a:pt x="562" y="128"/>
                    <a:pt x="562" y="128"/>
                    <a:pt x="562" y="128"/>
                  </a:cubicBezTo>
                  <a:cubicBezTo>
                    <a:pt x="560" y="128"/>
                    <a:pt x="558" y="128"/>
                    <a:pt x="557" y="129"/>
                  </a:cubicBezTo>
                  <a:cubicBezTo>
                    <a:pt x="557" y="127"/>
                    <a:pt x="558" y="125"/>
                    <a:pt x="559" y="124"/>
                  </a:cubicBezTo>
                  <a:cubicBezTo>
                    <a:pt x="559" y="124"/>
                    <a:pt x="559" y="124"/>
                    <a:pt x="559" y="123"/>
                  </a:cubicBezTo>
                  <a:cubicBezTo>
                    <a:pt x="552" y="114"/>
                    <a:pt x="550" y="102"/>
                    <a:pt x="552" y="91"/>
                  </a:cubicBezTo>
                  <a:cubicBezTo>
                    <a:pt x="556" y="64"/>
                    <a:pt x="556" y="37"/>
                    <a:pt x="555" y="10"/>
                  </a:cubicBezTo>
                  <a:cubicBezTo>
                    <a:pt x="532" y="10"/>
                    <a:pt x="509" y="10"/>
                    <a:pt x="486" y="11"/>
                  </a:cubicBezTo>
                  <a:cubicBezTo>
                    <a:pt x="465" y="13"/>
                    <a:pt x="444" y="15"/>
                    <a:pt x="423" y="16"/>
                  </a:cubicBezTo>
                  <a:cubicBezTo>
                    <a:pt x="422" y="15"/>
                    <a:pt x="421" y="13"/>
                    <a:pt x="420" y="12"/>
                  </a:cubicBezTo>
                  <a:cubicBezTo>
                    <a:pt x="404" y="12"/>
                    <a:pt x="387" y="12"/>
                    <a:pt x="371" y="12"/>
                  </a:cubicBezTo>
                  <a:cubicBezTo>
                    <a:pt x="372" y="15"/>
                    <a:pt x="374" y="19"/>
                    <a:pt x="377" y="22"/>
                  </a:cubicBezTo>
                  <a:cubicBezTo>
                    <a:pt x="379" y="24"/>
                    <a:pt x="381" y="26"/>
                    <a:pt x="382" y="28"/>
                  </a:cubicBezTo>
                  <a:cubicBezTo>
                    <a:pt x="383" y="35"/>
                    <a:pt x="386" y="42"/>
                    <a:pt x="393" y="45"/>
                  </a:cubicBezTo>
                  <a:cubicBezTo>
                    <a:pt x="393" y="45"/>
                    <a:pt x="393" y="45"/>
                    <a:pt x="393" y="45"/>
                  </a:cubicBezTo>
                  <a:cubicBezTo>
                    <a:pt x="388" y="54"/>
                    <a:pt x="390" y="67"/>
                    <a:pt x="399" y="73"/>
                  </a:cubicBezTo>
                  <a:cubicBezTo>
                    <a:pt x="397" y="80"/>
                    <a:pt x="399" y="88"/>
                    <a:pt x="404" y="93"/>
                  </a:cubicBezTo>
                  <a:cubicBezTo>
                    <a:pt x="404" y="98"/>
                    <a:pt x="405" y="103"/>
                    <a:pt x="405" y="109"/>
                  </a:cubicBezTo>
                  <a:cubicBezTo>
                    <a:pt x="406" y="120"/>
                    <a:pt x="407" y="131"/>
                    <a:pt x="407" y="143"/>
                  </a:cubicBezTo>
                  <a:cubicBezTo>
                    <a:pt x="402" y="146"/>
                    <a:pt x="400" y="152"/>
                    <a:pt x="400" y="157"/>
                  </a:cubicBezTo>
                  <a:cubicBezTo>
                    <a:pt x="401" y="159"/>
                    <a:pt x="401" y="161"/>
                    <a:pt x="401" y="163"/>
                  </a:cubicBezTo>
                  <a:cubicBezTo>
                    <a:pt x="401" y="163"/>
                    <a:pt x="401" y="164"/>
                    <a:pt x="401" y="165"/>
                  </a:cubicBezTo>
                  <a:cubicBezTo>
                    <a:pt x="400" y="165"/>
                    <a:pt x="400" y="166"/>
                    <a:pt x="400" y="167"/>
                  </a:cubicBezTo>
                  <a:cubicBezTo>
                    <a:pt x="400" y="168"/>
                    <a:pt x="399" y="170"/>
                    <a:pt x="399" y="172"/>
                  </a:cubicBezTo>
                  <a:cubicBezTo>
                    <a:pt x="400" y="168"/>
                    <a:pt x="397" y="174"/>
                    <a:pt x="396" y="175"/>
                  </a:cubicBezTo>
                  <a:cubicBezTo>
                    <a:pt x="392" y="182"/>
                    <a:pt x="393" y="191"/>
                    <a:pt x="398" y="198"/>
                  </a:cubicBezTo>
                  <a:cubicBezTo>
                    <a:pt x="397" y="199"/>
                    <a:pt x="396" y="201"/>
                    <a:pt x="396" y="203"/>
                  </a:cubicBezTo>
                  <a:cubicBezTo>
                    <a:pt x="389" y="224"/>
                    <a:pt x="386" y="250"/>
                    <a:pt x="392" y="271"/>
                  </a:cubicBezTo>
                  <a:cubicBezTo>
                    <a:pt x="393" y="275"/>
                    <a:pt x="394" y="279"/>
                    <a:pt x="396" y="282"/>
                  </a:cubicBezTo>
                  <a:cubicBezTo>
                    <a:pt x="395" y="287"/>
                    <a:pt x="395" y="291"/>
                    <a:pt x="394" y="296"/>
                  </a:cubicBezTo>
                  <a:cubicBezTo>
                    <a:pt x="393" y="308"/>
                    <a:pt x="392" y="321"/>
                    <a:pt x="391" y="333"/>
                  </a:cubicBezTo>
                  <a:cubicBezTo>
                    <a:pt x="391" y="360"/>
                    <a:pt x="401" y="388"/>
                    <a:pt x="397" y="414"/>
                  </a:cubicBezTo>
                  <a:cubicBezTo>
                    <a:pt x="396" y="418"/>
                    <a:pt x="395" y="422"/>
                    <a:pt x="394" y="425"/>
                  </a:cubicBezTo>
                  <a:cubicBezTo>
                    <a:pt x="394" y="426"/>
                    <a:pt x="394" y="427"/>
                    <a:pt x="395" y="428"/>
                  </a:cubicBezTo>
                  <a:cubicBezTo>
                    <a:pt x="398" y="446"/>
                    <a:pt x="399" y="460"/>
                    <a:pt x="394" y="477"/>
                  </a:cubicBezTo>
                  <a:cubicBezTo>
                    <a:pt x="401" y="489"/>
                    <a:pt x="401" y="502"/>
                    <a:pt x="397" y="515"/>
                  </a:cubicBezTo>
                  <a:cubicBezTo>
                    <a:pt x="391" y="518"/>
                    <a:pt x="388" y="525"/>
                    <a:pt x="388" y="531"/>
                  </a:cubicBezTo>
                  <a:cubicBezTo>
                    <a:pt x="384" y="533"/>
                    <a:pt x="381" y="535"/>
                    <a:pt x="380" y="539"/>
                  </a:cubicBezTo>
                  <a:cubicBezTo>
                    <a:pt x="377" y="537"/>
                    <a:pt x="374" y="536"/>
                    <a:pt x="370" y="536"/>
                  </a:cubicBezTo>
                  <a:cubicBezTo>
                    <a:pt x="360" y="536"/>
                    <a:pt x="354" y="542"/>
                    <a:pt x="351" y="549"/>
                  </a:cubicBezTo>
                  <a:cubicBezTo>
                    <a:pt x="351" y="549"/>
                    <a:pt x="351" y="549"/>
                    <a:pt x="351" y="549"/>
                  </a:cubicBezTo>
                  <a:cubicBezTo>
                    <a:pt x="338" y="549"/>
                    <a:pt x="332" y="559"/>
                    <a:pt x="332" y="569"/>
                  </a:cubicBezTo>
                  <a:cubicBezTo>
                    <a:pt x="329" y="567"/>
                    <a:pt x="325" y="565"/>
                    <a:pt x="320" y="565"/>
                  </a:cubicBezTo>
                  <a:cubicBezTo>
                    <a:pt x="314" y="565"/>
                    <a:pt x="310" y="567"/>
                    <a:pt x="307" y="571"/>
                  </a:cubicBezTo>
                  <a:cubicBezTo>
                    <a:pt x="295" y="570"/>
                    <a:pt x="284" y="568"/>
                    <a:pt x="272" y="567"/>
                  </a:cubicBezTo>
                  <a:cubicBezTo>
                    <a:pt x="266" y="566"/>
                    <a:pt x="260" y="566"/>
                    <a:pt x="254" y="565"/>
                  </a:cubicBezTo>
                  <a:cubicBezTo>
                    <a:pt x="253" y="565"/>
                    <a:pt x="252" y="565"/>
                    <a:pt x="251" y="565"/>
                  </a:cubicBezTo>
                  <a:cubicBezTo>
                    <a:pt x="240" y="564"/>
                    <a:pt x="228" y="563"/>
                    <a:pt x="217" y="562"/>
                  </a:cubicBezTo>
                  <a:cubicBezTo>
                    <a:pt x="215" y="563"/>
                    <a:pt x="213" y="563"/>
                    <a:pt x="211" y="564"/>
                  </a:cubicBezTo>
                  <a:cubicBezTo>
                    <a:pt x="188" y="570"/>
                    <a:pt x="167" y="579"/>
                    <a:pt x="143" y="579"/>
                  </a:cubicBezTo>
                  <a:cubicBezTo>
                    <a:pt x="121" y="579"/>
                    <a:pt x="100" y="580"/>
                    <a:pt x="78" y="580"/>
                  </a:cubicBezTo>
                  <a:cubicBezTo>
                    <a:pt x="72" y="581"/>
                    <a:pt x="65" y="581"/>
                    <a:pt x="59" y="581"/>
                  </a:cubicBezTo>
                  <a:cubicBezTo>
                    <a:pt x="50" y="582"/>
                    <a:pt x="41" y="584"/>
                    <a:pt x="32" y="585"/>
                  </a:cubicBezTo>
                  <a:cubicBezTo>
                    <a:pt x="27" y="587"/>
                    <a:pt x="21" y="589"/>
                    <a:pt x="16" y="590"/>
                  </a:cubicBezTo>
                  <a:cubicBezTo>
                    <a:pt x="15" y="590"/>
                    <a:pt x="14" y="590"/>
                    <a:pt x="12" y="590"/>
                  </a:cubicBezTo>
                  <a:cubicBezTo>
                    <a:pt x="0" y="602"/>
                    <a:pt x="4" y="627"/>
                    <a:pt x="24" y="625"/>
                  </a:cubicBezTo>
                  <a:cubicBezTo>
                    <a:pt x="41" y="624"/>
                    <a:pt x="57" y="622"/>
                    <a:pt x="72" y="618"/>
                  </a:cubicBezTo>
                  <a:cubicBezTo>
                    <a:pt x="76" y="623"/>
                    <a:pt x="81" y="627"/>
                    <a:pt x="88" y="628"/>
                  </a:cubicBezTo>
                  <a:cubicBezTo>
                    <a:pt x="148" y="635"/>
                    <a:pt x="207" y="634"/>
                    <a:pt x="267" y="635"/>
                  </a:cubicBezTo>
                  <a:cubicBezTo>
                    <a:pt x="327" y="637"/>
                    <a:pt x="387" y="637"/>
                    <a:pt x="447" y="639"/>
                  </a:cubicBezTo>
                  <a:cubicBezTo>
                    <a:pt x="509" y="640"/>
                    <a:pt x="572" y="640"/>
                    <a:pt x="634" y="639"/>
                  </a:cubicBezTo>
                  <a:cubicBezTo>
                    <a:pt x="678" y="639"/>
                    <a:pt x="721" y="638"/>
                    <a:pt x="765" y="639"/>
                  </a:cubicBezTo>
                  <a:cubicBezTo>
                    <a:pt x="782" y="640"/>
                    <a:pt x="800" y="641"/>
                    <a:pt x="818" y="641"/>
                  </a:cubicBezTo>
                  <a:cubicBezTo>
                    <a:pt x="824" y="641"/>
                    <a:pt x="829" y="639"/>
                    <a:pt x="832" y="636"/>
                  </a:cubicBezTo>
                  <a:cubicBezTo>
                    <a:pt x="853" y="640"/>
                    <a:pt x="875" y="642"/>
                    <a:pt x="898" y="640"/>
                  </a:cubicBezTo>
                  <a:cubicBezTo>
                    <a:pt x="902" y="640"/>
                    <a:pt x="905" y="638"/>
                    <a:pt x="908" y="636"/>
                  </a:cubicBezTo>
                  <a:cubicBezTo>
                    <a:pt x="963" y="640"/>
                    <a:pt x="1020" y="637"/>
                    <a:pt x="1075" y="637"/>
                  </a:cubicBezTo>
                  <a:cubicBezTo>
                    <a:pt x="1101" y="637"/>
                    <a:pt x="1101" y="597"/>
                    <a:pt x="1075" y="597"/>
                  </a:cubicBezTo>
                  <a:close/>
                </a:path>
              </a:pathLst>
            </a:custGeom>
            <a:gradFill rotWithShape="0">
              <a:gsLst>
                <a:gs pos="78000">
                  <a:srgbClr val="9ad35c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Gruppieren 1042"/>
          <p:cNvGrpSpPr/>
          <p:nvPr/>
        </p:nvGrpSpPr>
        <p:grpSpPr>
          <a:xfrm>
            <a:off x="4452120" y="2939040"/>
            <a:ext cx="3706920" cy="2568960"/>
            <a:chOff x="4452120" y="2939040"/>
            <a:chExt cx="3706920" cy="2568960"/>
          </a:xfrm>
        </p:grpSpPr>
        <p:sp>
          <p:nvSpPr>
            <p:cNvPr id="272" name="Freeform 47"/>
            <p:cNvSpPr/>
            <p:nvPr/>
          </p:nvSpPr>
          <p:spPr>
            <a:xfrm>
              <a:off x="4452120" y="2939040"/>
              <a:ext cx="3706920" cy="1810440"/>
            </a:xfrm>
            <a:custGeom>
              <a:avLst/>
              <a:gdLst>
                <a:gd name="textAreaLeft" fmla="*/ 0 w 3706920"/>
                <a:gd name="textAreaRight" fmla="*/ 3707280 w 3706920"/>
                <a:gd name="textAreaTop" fmla="*/ 0 h 1810440"/>
                <a:gd name="textAreaBottom" fmla="*/ 1810800 h 1810440"/>
              </a:gdLst>
              <a:ahLst/>
              <a:rect l="textAreaLeft" t="textAreaTop" r="textAreaRight" b="textAreaBottom"/>
              <a:pathLst>
                <a:path w="1946" h="1124">
                  <a:moveTo>
                    <a:pt x="1049" y="0"/>
                  </a:moveTo>
                  <a:cubicBezTo>
                    <a:pt x="1012" y="0"/>
                    <a:pt x="995" y="9"/>
                    <a:pt x="965" y="20"/>
                  </a:cubicBezTo>
                  <a:cubicBezTo>
                    <a:pt x="947" y="27"/>
                    <a:pt x="894" y="21"/>
                    <a:pt x="888" y="43"/>
                  </a:cubicBezTo>
                  <a:cubicBezTo>
                    <a:pt x="822" y="55"/>
                    <a:pt x="782" y="84"/>
                    <a:pt x="709" y="84"/>
                  </a:cubicBezTo>
                  <a:cubicBezTo>
                    <a:pt x="658" y="84"/>
                    <a:pt x="576" y="77"/>
                    <a:pt x="542" y="125"/>
                  </a:cubicBezTo>
                  <a:cubicBezTo>
                    <a:pt x="532" y="139"/>
                    <a:pt x="537" y="152"/>
                    <a:pt x="533" y="168"/>
                  </a:cubicBezTo>
                  <a:cubicBezTo>
                    <a:pt x="527" y="190"/>
                    <a:pt x="525" y="189"/>
                    <a:pt x="510" y="205"/>
                  </a:cubicBezTo>
                  <a:cubicBezTo>
                    <a:pt x="490" y="226"/>
                    <a:pt x="467" y="240"/>
                    <a:pt x="441" y="248"/>
                  </a:cubicBezTo>
                  <a:cubicBezTo>
                    <a:pt x="409" y="258"/>
                    <a:pt x="391" y="265"/>
                    <a:pt x="362" y="285"/>
                  </a:cubicBezTo>
                  <a:cubicBezTo>
                    <a:pt x="336" y="304"/>
                    <a:pt x="332" y="330"/>
                    <a:pt x="313" y="348"/>
                  </a:cubicBezTo>
                  <a:cubicBezTo>
                    <a:pt x="311" y="351"/>
                    <a:pt x="309" y="355"/>
                    <a:pt x="308" y="359"/>
                  </a:cubicBezTo>
                  <a:cubicBezTo>
                    <a:pt x="271" y="361"/>
                    <a:pt x="249" y="357"/>
                    <a:pt x="222" y="377"/>
                  </a:cubicBezTo>
                  <a:cubicBezTo>
                    <a:pt x="199" y="393"/>
                    <a:pt x="188" y="422"/>
                    <a:pt x="168" y="443"/>
                  </a:cubicBezTo>
                  <a:cubicBezTo>
                    <a:pt x="129" y="484"/>
                    <a:pt x="66" y="507"/>
                    <a:pt x="34" y="553"/>
                  </a:cubicBezTo>
                  <a:cubicBezTo>
                    <a:pt x="0" y="603"/>
                    <a:pt x="14" y="686"/>
                    <a:pt x="41" y="732"/>
                  </a:cubicBezTo>
                  <a:cubicBezTo>
                    <a:pt x="70" y="782"/>
                    <a:pt x="109" y="799"/>
                    <a:pt x="156" y="830"/>
                  </a:cubicBezTo>
                  <a:cubicBezTo>
                    <a:pt x="204" y="861"/>
                    <a:pt x="269" y="872"/>
                    <a:pt x="328" y="873"/>
                  </a:cubicBezTo>
                  <a:cubicBezTo>
                    <a:pt x="331" y="912"/>
                    <a:pt x="326" y="928"/>
                    <a:pt x="357" y="948"/>
                  </a:cubicBezTo>
                  <a:cubicBezTo>
                    <a:pt x="380" y="963"/>
                    <a:pt x="402" y="971"/>
                    <a:pt x="426" y="987"/>
                  </a:cubicBezTo>
                  <a:cubicBezTo>
                    <a:pt x="469" y="1016"/>
                    <a:pt x="531" y="1055"/>
                    <a:pt x="585" y="1060"/>
                  </a:cubicBezTo>
                  <a:cubicBezTo>
                    <a:pt x="619" y="1063"/>
                    <a:pt x="645" y="1058"/>
                    <a:pt x="676" y="1073"/>
                  </a:cubicBezTo>
                  <a:cubicBezTo>
                    <a:pt x="709" y="1089"/>
                    <a:pt x="724" y="1102"/>
                    <a:pt x="761" y="1104"/>
                  </a:cubicBezTo>
                  <a:cubicBezTo>
                    <a:pt x="836" y="1108"/>
                    <a:pt x="891" y="1096"/>
                    <a:pt x="957" y="1076"/>
                  </a:cubicBezTo>
                  <a:cubicBezTo>
                    <a:pt x="1016" y="1058"/>
                    <a:pt x="1086" y="1046"/>
                    <a:pt x="1150" y="1055"/>
                  </a:cubicBezTo>
                  <a:cubicBezTo>
                    <a:pt x="1210" y="1064"/>
                    <a:pt x="1261" y="1096"/>
                    <a:pt x="1321" y="1109"/>
                  </a:cubicBezTo>
                  <a:cubicBezTo>
                    <a:pt x="1393" y="1124"/>
                    <a:pt x="1439" y="1094"/>
                    <a:pt x="1509" y="1092"/>
                  </a:cubicBezTo>
                  <a:cubicBezTo>
                    <a:pt x="1553" y="1090"/>
                    <a:pt x="1557" y="1066"/>
                    <a:pt x="1597" y="1053"/>
                  </a:cubicBezTo>
                  <a:cubicBezTo>
                    <a:pt x="1628" y="1043"/>
                    <a:pt x="1664" y="1050"/>
                    <a:pt x="1697" y="1048"/>
                  </a:cubicBezTo>
                  <a:cubicBezTo>
                    <a:pt x="1772" y="1044"/>
                    <a:pt x="1788" y="990"/>
                    <a:pt x="1852" y="964"/>
                  </a:cubicBezTo>
                  <a:cubicBezTo>
                    <a:pt x="1879" y="953"/>
                    <a:pt x="1905" y="951"/>
                    <a:pt x="1921" y="927"/>
                  </a:cubicBezTo>
                  <a:cubicBezTo>
                    <a:pt x="1937" y="905"/>
                    <a:pt x="1946" y="857"/>
                    <a:pt x="1945" y="828"/>
                  </a:cubicBezTo>
                  <a:cubicBezTo>
                    <a:pt x="1943" y="772"/>
                    <a:pt x="1881" y="746"/>
                    <a:pt x="1857" y="700"/>
                  </a:cubicBezTo>
                  <a:cubicBezTo>
                    <a:pt x="1828" y="644"/>
                    <a:pt x="1798" y="604"/>
                    <a:pt x="1742" y="571"/>
                  </a:cubicBezTo>
                  <a:cubicBezTo>
                    <a:pt x="1691" y="541"/>
                    <a:pt x="1649" y="523"/>
                    <a:pt x="1610" y="476"/>
                  </a:cubicBezTo>
                  <a:cubicBezTo>
                    <a:pt x="1591" y="453"/>
                    <a:pt x="1567" y="432"/>
                    <a:pt x="1549" y="412"/>
                  </a:cubicBezTo>
                  <a:cubicBezTo>
                    <a:pt x="1524" y="385"/>
                    <a:pt x="1530" y="367"/>
                    <a:pt x="1517" y="332"/>
                  </a:cubicBezTo>
                  <a:cubicBezTo>
                    <a:pt x="1495" y="271"/>
                    <a:pt x="1437" y="269"/>
                    <a:pt x="1384" y="241"/>
                  </a:cubicBezTo>
                  <a:cubicBezTo>
                    <a:pt x="1334" y="215"/>
                    <a:pt x="1307" y="153"/>
                    <a:pt x="1256" y="129"/>
                  </a:cubicBezTo>
                  <a:cubicBezTo>
                    <a:pt x="1232" y="118"/>
                    <a:pt x="1224" y="121"/>
                    <a:pt x="1206" y="103"/>
                  </a:cubicBezTo>
                  <a:cubicBezTo>
                    <a:pt x="1192" y="89"/>
                    <a:pt x="1188" y="68"/>
                    <a:pt x="1176" y="53"/>
                  </a:cubicBezTo>
                  <a:cubicBezTo>
                    <a:pt x="1144" y="11"/>
                    <a:pt x="1121" y="0"/>
                    <a:pt x="1069" y="0"/>
                  </a:cubicBezTo>
                  <a:lnTo>
                    <a:pt x="1049" y="0"/>
                  </a:lnTo>
                  <a:close/>
                </a:path>
              </a:pathLst>
            </a:custGeom>
            <a:gradFill rotWithShape="0">
              <a:gsLst>
                <a:gs pos="78000">
                  <a:srgbClr val="bae191"/>
                </a:gs>
                <a:gs pos="100000">
                  <a:srgbClr val="92d05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8"/>
            <p:cNvSpPr/>
            <p:nvPr/>
          </p:nvSpPr>
          <p:spPr>
            <a:xfrm>
              <a:off x="5217120" y="4511520"/>
              <a:ext cx="2223720" cy="996480"/>
            </a:xfrm>
            <a:custGeom>
              <a:avLst/>
              <a:gdLst>
                <a:gd name="textAreaLeft" fmla="*/ 0 w 2223720"/>
                <a:gd name="textAreaRight" fmla="*/ 2224080 w 2223720"/>
                <a:gd name="textAreaTop" fmla="*/ 0 h 996480"/>
                <a:gd name="textAreaBottom" fmla="*/ 996840 h 996480"/>
              </a:gdLst>
              <a:ahLst/>
              <a:rect l="textAreaLeft" t="textAreaTop" r="textAreaRight" b="textAreaBottom"/>
              <a:pathLst>
                <a:path w="1380" h="618">
                  <a:moveTo>
                    <a:pt x="1375" y="568"/>
                  </a:moveTo>
                  <a:cubicBezTo>
                    <a:pt x="1379" y="554"/>
                    <a:pt x="1304" y="574"/>
                    <a:pt x="1299" y="559"/>
                  </a:cubicBezTo>
                  <a:cubicBezTo>
                    <a:pt x="1295" y="548"/>
                    <a:pt x="1280" y="541"/>
                    <a:pt x="1268" y="540"/>
                  </a:cubicBezTo>
                  <a:cubicBezTo>
                    <a:pt x="1241" y="537"/>
                    <a:pt x="1232" y="552"/>
                    <a:pt x="1205" y="552"/>
                  </a:cubicBezTo>
                  <a:cubicBezTo>
                    <a:pt x="1170" y="552"/>
                    <a:pt x="1149" y="556"/>
                    <a:pt x="1115" y="550"/>
                  </a:cubicBezTo>
                  <a:cubicBezTo>
                    <a:pt x="1106" y="549"/>
                    <a:pt x="1073" y="548"/>
                    <a:pt x="1066" y="543"/>
                  </a:cubicBezTo>
                  <a:cubicBezTo>
                    <a:pt x="1061" y="540"/>
                    <a:pt x="1052" y="526"/>
                    <a:pt x="1047" y="525"/>
                  </a:cubicBezTo>
                  <a:cubicBezTo>
                    <a:pt x="1035" y="522"/>
                    <a:pt x="1026" y="537"/>
                    <a:pt x="1011" y="527"/>
                  </a:cubicBezTo>
                  <a:cubicBezTo>
                    <a:pt x="999" y="519"/>
                    <a:pt x="1000" y="548"/>
                    <a:pt x="988" y="539"/>
                  </a:cubicBezTo>
                  <a:cubicBezTo>
                    <a:pt x="975" y="529"/>
                    <a:pt x="962" y="540"/>
                    <a:pt x="950" y="529"/>
                  </a:cubicBezTo>
                  <a:cubicBezTo>
                    <a:pt x="929" y="509"/>
                    <a:pt x="893" y="531"/>
                    <a:pt x="876" y="508"/>
                  </a:cubicBezTo>
                  <a:cubicBezTo>
                    <a:pt x="859" y="484"/>
                    <a:pt x="809" y="494"/>
                    <a:pt x="802" y="466"/>
                  </a:cubicBezTo>
                  <a:cubicBezTo>
                    <a:pt x="794" y="434"/>
                    <a:pt x="786" y="298"/>
                    <a:pt x="784" y="260"/>
                  </a:cubicBezTo>
                  <a:cubicBezTo>
                    <a:pt x="782" y="222"/>
                    <a:pt x="825" y="160"/>
                    <a:pt x="833" y="129"/>
                  </a:cubicBezTo>
                  <a:cubicBezTo>
                    <a:pt x="837" y="115"/>
                    <a:pt x="841" y="101"/>
                    <a:pt x="846" y="87"/>
                  </a:cubicBezTo>
                  <a:cubicBezTo>
                    <a:pt x="850" y="76"/>
                    <a:pt x="859" y="60"/>
                    <a:pt x="867" y="52"/>
                  </a:cubicBezTo>
                  <a:cubicBezTo>
                    <a:pt x="829" y="34"/>
                    <a:pt x="829" y="34"/>
                    <a:pt x="829" y="34"/>
                  </a:cubicBezTo>
                  <a:cubicBezTo>
                    <a:pt x="829" y="45"/>
                    <a:pt x="815" y="58"/>
                    <a:pt x="809" y="67"/>
                  </a:cubicBezTo>
                  <a:cubicBezTo>
                    <a:pt x="802" y="78"/>
                    <a:pt x="796" y="98"/>
                    <a:pt x="785" y="106"/>
                  </a:cubicBezTo>
                  <a:cubicBezTo>
                    <a:pt x="777" y="72"/>
                    <a:pt x="776" y="37"/>
                    <a:pt x="776" y="0"/>
                  </a:cubicBezTo>
                  <a:cubicBezTo>
                    <a:pt x="619" y="5"/>
                    <a:pt x="619" y="5"/>
                    <a:pt x="619" y="5"/>
                  </a:cubicBezTo>
                  <a:cubicBezTo>
                    <a:pt x="617" y="27"/>
                    <a:pt x="627" y="74"/>
                    <a:pt x="616" y="92"/>
                  </a:cubicBezTo>
                  <a:cubicBezTo>
                    <a:pt x="604" y="111"/>
                    <a:pt x="614" y="163"/>
                    <a:pt x="596" y="177"/>
                  </a:cubicBezTo>
                  <a:cubicBezTo>
                    <a:pt x="585" y="161"/>
                    <a:pt x="538" y="113"/>
                    <a:pt x="528" y="97"/>
                  </a:cubicBezTo>
                  <a:cubicBezTo>
                    <a:pt x="518" y="83"/>
                    <a:pt x="508" y="63"/>
                    <a:pt x="492" y="55"/>
                  </a:cubicBezTo>
                  <a:cubicBezTo>
                    <a:pt x="438" y="65"/>
                    <a:pt x="438" y="65"/>
                    <a:pt x="438" y="65"/>
                  </a:cubicBezTo>
                  <a:cubicBezTo>
                    <a:pt x="449" y="65"/>
                    <a:pt x="465" y="83"/>
                    <a:pt x="472" y="91"/>
                  </a:cubicBezTo>
                  <a:cubicBezTo>
                    <a:pt x="481" y="102"/>
                    <a:pt x="486" y="115"/>
                    <a:pt x="494" y="126"/>
                  </a:cubicBezTo>
                  <a:cubicBezTo>
                    <a:pt x="509" y="149"/>
                    <a:pt x="525" y="171"/>
                    <a:pt x="538" y="195"/>
                  </a:cubicBezTo>
                  <a:cubicBezTo>
                    <a:pt x="552" y="219"/>
                    <a:pt x="572" y="239"/>
                    <a:pt x="580" y="266"/>
                  </a:cubicBezTo>
                  <a:cubicBezTo>
                    <a:pt x="589" y="297"/>
                    <a:pt x="587" y="334"/>
                    <a:pt x="586" y="367"/>
                  </a:cubicBezTo>
                  <a:cubicBezTo>
                    <a:pt x="585" y="384"/>
                    <a:pt x="582" y="401"/>
                    <a:pt x="581" y="417"/>
                  </a:cubicBezTo>
                  <a:cubicBezTo>
                    <a:pt x="580" y="435"/>
                    <a:pt x="583" y="451"/>
                    <a:pt x="584" y="468"/>
                  </a:cubicBezTo>
                  <a:cubicBezTo>
                    <a:pt x="585" y="484"/>
                    <a:pt x="567" y="490"/>
                    <a:pt x="559" y="503"/>
                  </a:cubicBezTo>
                  <a:cubicBezTo>
                    <a:pt x="552" y="515"/>
                    <a:pt x="521" y="502"/>
                    <a:pt x="496" y="524"/>
                  </a:cubicBezTo>
                  <a:cubicBezTo>
                    <a:pt x="471" y="546"/>
                    <a:pt x="430" y="528"/>
                    <a:pt x="395" y="528"/>
                  </a:cubicBezTo>
                  <a:cubicBezTo>
                    <a:pt x="361" y="528"/>
                    <a:pt x="294" y="530"/>
                    <a:pt x="262" y="540"/>
                  </a:cubicBezTo>
                  <a:cubicBezTo>
                    <a:pt x="235" y="549"/>
                    <a:pt x="173" y="535"/>
                    <a:pt x="145" y="539"/>
                  </a:cubicBezTo>
                  <a:cubicBezTo>
                    <a:pt x="115" y="543"/>
                    <a:pt x="37" y="548"/>
                    <a:pt x="7" y="549"/>
                  </a:cubicBezTo>
                  <a:cubicBezTo>
                    <a:pt x="0" y="598"/>
                    <a:pt x="0" y="598"/>
                    <a:pt x="0" y="598"/>
                  </a:cubicBezTo>
                  <a:cubicBezTo>
                    <a:pt x="1380" y="618"/>
                    <a:pt x="1380" y="618"/>
                    <a:pt x="1380" y="618"/>
                  </a:cubicBezTo>
                  <a:lnTo>
                    <a:pt x="1375" y="568"/>
                  </a:lnTo>
                  <a:close/>
                </a:path>
              </a:pathLst>
            </a:custGeom>
            <a:gradFill rotWithShape="0">
              <a:gsLst>
                <a:gs pos="78000">
                  <a:srgbClr val="bae191"/>
                </a:gs>
                <a:gs pos="100000">
                  <a:srgbClr val="92d05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Herz 181"/>
          <p:cNvSpPr/>
          <p:nvPr/>
        </p:nvSpPr>
        <p:spPr>
          <a:xfrm>
            <a:off x="4788000" y="4777200"/>
            <a:ext cx="128160" cy="10692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Herz 182"/>
          <p:cNvSpPr/>
          <p:nvPr/>
        </p:nvSpPr>
        <p:spPr>
          <a:xfrm>
            <a:off x="4876200" y="4731840"/>
            <a:ext cx="128160" cy="10692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Herz 183"/>
          <p:cNvSpPr/>
          <p:nvPr/>
        </p:nvSpPr>
        <p:spPr>
          <a:xfrm>
            <a:off x="4788000" y="4624560"/>
            <a:ext cx="128160" cy="10692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7" name="Gruppieren 148"/>
          <p:cNvGrpSpPr/>
          <p:nvPr/>
        </p:nvGrpSpPr>
        <p:grpSpPr>
          <a:xfrm>
            <a:off x="2709360" y="5191920"/>
            <a:ext cx="346680" cy="346320"/>
            <a:chOff x="2709360" y="5191920"/>
            <a:chExt cx="346680" cy="346320"/>
          </a:xfrm>
        </p:grpSpPr>
        <p:cxnSp>
          <p:nvCxnSpPr>
            <p:cNvPr id="278" name="Gerade Verbindung 149"/>
            <p:cNvCxnSpPr/>
            <p:nvPr/>
          </p:nvCxnSpPr>
          <p:spPr>
            <a:xfrm flipH="1" flipV="1">
              <a:off x="2818440" y="5300640"/>
              <a:ext cx="237960" cy="237960"/>
            </a:xfrm>
            <a:prstGeom prst="straightConnector1">
              <a:avLst/>
            </a:prstGeom>
            <a:ln w="12700">
              <a:solidFill>
                <a:srgbClr val="ff9966"/>
              </a:solidFill>
              <a:round/>
            </a:ln>
          </p:spPr>
        </p:cxnSp>
        <p:grpSp>
          <p:nvGrpSpPr>
            <p:cNvPr id="279" name="Gruppieren 150"/>
            <p:cNvGrpSpPr/>
            <p:nvPr/>
          </p:nvGrpSpPr>
          <p:grpSpPr>
            <a:xfrm>
              <a:off x="2709360" y="5191920"/>
              <a:ext cx="149760" cy="149400"/>
              <a:chOff x="2709360" y="5191920"/>
              <a:chExt cx="149760" cy="149400"/>
            </a:xfrm>
          </p:grpSpPr>
          <p:sp>
            <p:nvSpPr>
              <p:cNvPr id="280" name="Gleichschenkliges Dreieck 151"/>
              <p:cNvSpPr/>
              <p:nvPr/>
            </p:nvSpPr>
            <p:spPr>
              <a:xfrm rot="8100000">
                <a:off x="2780280" y="5253120"/>
                <a:ext cx="59760" cy="78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1" name="Rechteck 152"/>
              <p:cNvSpPr/>
              <p:nvPr/>
            </p:nvSpPr>
            <p:spPr>
              <a:xfrm rot="18900000">
                <a:off x="2726280" y="5202000"/>
                <a:ext cx="59760" cy="72720"/>
              </a:xfrm>
              <a:prstGeom prst="rect">
                <a:avLst/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Gruppieren 1043"/>
          <p:cNvGrpSpPr/>
          <p:nvPr/>
        </p:nvGrpSpPr>
        <p:grpSpPr>
          <a:xfrm>
            <a:off x="7500240" y="3501000"/>
            <a:ext cx="2759760" cy="1932120"/>
            <a:chOff x="7500240" y="3501000"/>
            <a:chExt cx="2759760" cy="1932120"/>
          </a:xfrm>
        </p:grpSpPr>
        <p:sp>
          <p:nvSpPr>
            <p:cNvPr id="283" name="Freeform 45"/>
            <p:cNvSpPr/>
            <p:nvPr/>
          </p:nvSpPr>
          <p:spPr>
            <a:xfrm>
              <a:off x="7500240" y="3501000"/>
              <a:ext cx="2759760" cy="1206720"/>
            </a:xfrm>
            <a:custGeom>
              <a:avLst/>
              <a:gdLst>
                <a:gd name="textAreaLeft" fmla="*/ 0 w 2759760"/>
                <a:gd name="textAreaRight" fmla="*/ 2760120 w 2759760"/>
                <a:gd name="textAreaTop" fmla="*/ 0 h 1206720"/>
                <a:gd name="textAreaBottom" fmla="*/ 1207080 h 1206720"/>
              </a:gdLst>
              <a:ahLst/>
              <a:rect l="textAreaLeft" t="textAreaTop" r="textAreaRight" b="textAreaBottom"/>
              <a:pathLst>
                <a:path w="2167" h="903">
                  <a:moveTo>
                    <a:pt x="936" y="15"/>
                  </a:moveTo>
                  <a:cubicBezTo>
                    <a:pt x="882" y="4"/>
                    <a:pt x="846" y="0"/>
                    <a:pt x="793" y="20"/>
                  </a:cubicBezTo>
                  <a:cubicBezTo>
                    <a:pt x="768" y="29"/>
                    <a:pt x="747" y="25"/>
                    <a:pt x="719" y="31"/>
                  </a:cubicBezTo>
                  <a:cubicBezTo>
                    <a:pt x="700" y="35"/>
                    <a:pt x="675" y="50"/>
                    <a:pt x="656" y="55"/>
                  </a:cubicBezTo>
                  <a:cubicBezTo>
                    <a:pt x="589" y="72"/>
                    <a:pt x="392" y="57"/>
                    <a:pt x="395" y="170"/>
                  </a:cubicBezTo>
                  <a:cubicBezTo>
                    <a:pt x="360" y="172"/>
                    <a:pt x="346" y="179"/>
                    <a:pt x="319" y="194"/>
                  </a:cubicBezTo>
                  <a:cubicBezTo>
                    <a:pt x="303" y="203"/>
                    <a:pt x="250" y="215"/>
                    <a:pt x="251" y="242"/>
                  </a:cubicBezTo>
                  <a:cubicBezTo>
                    <a:pt x="190" y="272"/>
                    <a:pt x="137" y="258"/>
                    <a:pt x="100" y="327"/>
                  </a:cubicBezTo>
                  <a:cubicBezTo>
                    <a:pt x="66" y="388"/>
                    <a:pt x="71" y="446"/>
                    <a:pt x="67" y="518"/>
                  </a:cubicBezTo>
                  <a:cubicBezTo>
                    <a:pt x="29" y="531"/>
                    <a:pt x="0" y="584"/>
                    <a:pt x="8" y="623"/>
                  </a:cubicBezTo>
                  <a:cubicBezTo>
                    <a:pt x="17" y="672"/>
                    <a:pt x="74" y="685"/>
                    <a:pt x="115" y="691"/>
                  </a:cubicBezTo>
                  <a:cubicBezTo>
                    <a:pt x="113" y="718"/>
                    <a:pt x="141" y="740"/>
                    <a:pt x="160" y="755"/>
                  </a:cubicBezTo>
                  <a:cubicBezTo>
                    <a:pt x="177" y="769"/>
                    <a:pt x="201" y="786"/>
                    <a:pt x="223" y="800"/>
                  </a:cubicBezTo>
                  <a:cubicBezTo>
                    <a:pt x="243" y="813"/>
                    <a:pt x="274" y="824"/>
                    <a:pt x="299" y="827"/>
                  </a:cubicBezTo>
                  <a:cubicBezTo>
                    <a:pt x="336" y="831"/>
                    <a:pt x="350" y="834"/>
                    <a:pt x="382" y="852"/>
                  </a:cubicBezTo>
                  <a:cubicBezTo>
                    <a:pt x="439" y="883"/>
                    <a:pt x="473" y="781"/>
                    <a:pt x="538" y="785"/>
                  </a:cubicBezTo>
                  <a:cubicBezTo>
                    <a:pt x="578" y="787"/>
                    <a:pt x="599" y="790"/>
                    <a:pt x="634" y="801"/>
                  </a:cubicBezTo>
                  <a:cubicBezTo>
                    <a:pt x="679" y="815"/>
                    <a:pt x="675" y="794"/>
                    <a:pt x="709" y="785"/>
                  </a:cubicBezTo>
                  <a:cubicBezTo>
                    <a:pt x="722" y="781"/>
                    <a:pt x="744" y="788"/>
                    <a:pt x="757" y="790"/>
                  </a:cubicBezTo>
                  <a:cubicBezTo>
                    <a:pt x="768" y="792"/>
                    <a:pt x="794" y="794"/>
                    <a:pt x="809" y="797"/>
                  </a:cubicBezTo>
                  <a:cubicBezTo>
                    <a:pt x="839" y="805"/>
                    <a:pt x="870" y="801"/>
                    <a:pt x="900" y="816"/>
                  </a:cubicBezTo>
                  <a:cubicBezTo>
                    <a:pt x="950" y="840"/>
                    <a:pt x="1000" y="823"/>
                    <a:pt x="1053" y="828"/>
                  </a:cubicBezTo>
                  <a:cubicBezTo>
                    <a:pt x="1091" y="831"/>
                    <a:pt x="1147" y="841"/>
                    <a:pt x="1178" y="824"/>
                  </a:cubicBezTo>
                  <a:cubicBezTo>
                    <a:pt x="1210" y="807"/>
                    <a:pt x="1209" y="845"/>
                    <a:pt x="1246" y="845"/>
                  </a:cubicBezTo>
                  <a:cubicBezTo>
                    <a:pt x="1314" y="845"/>
                    <a:pt x="1362" y="817"/>
                    <a:pt x="1430" y="817"/>
                  </a:cubicBezTo>
                  <a:cubicBezTo>
                    <a:pt x="1466" y="817"/>
                    <a:pt x="1492" y="819"/>
                    <a:pt x="1519" y="802"/>
                  </a:cubicBezTo>
                  <a:cubicBezTo>
                    <a:pt x="1533" y="792"/>
                    <a:pt x="1528" y="783"/>
                    <a:pt x="1546" y="777"/>
                  </a:cubicBezTo>
                  <a:cubicBezTo>
                    <a:pt x="1560" y="771"/>
                    <a:pt x="1586" y="777"/>
                    <a:pt x="1602" y="777"/>
                  </a:cubicBezTo>
                  <a:cubicBezTo>
                    <a:pt x="1671" y="777"/>
                    <a:pt x="1760" y="903"/>
                    <a:pt x="1824" y="884"/>
                  </a:cubicBezTo>
                  <a:cubicBezTo>
                    <a:pt x="1853" y="875"/>
                    <a:pt x="1874" y="854"/>
                    <a:pt x="1900" y="843"/>
                  </a:cubicBezTo>
                  <a:cubicBezTo>
                    <a:pt x="1914" y="838"/>
                    <a:pt x="1935" y="845"/>
                    <a:pt x="1948" y="839"/>
                  </a:cubicBezTo>
                  <a:cubicBezTo>
                    <a:pt x="1973" y="826"/>
                    <a:pt x="1956" y="825"/>
                    <a:pt x="1971" y="802"/>
                  </a:cubicBezTo>
                  <a:cubicBezTo>
                    <a:pt x="1985" y="781"/>
                    <a:pt x="2012" y="766"/>
                    <a:pt x="2029" y="752"/>
                  </a:cubicBezTo>
                  <a:cubicBezTo>
                    <a:pt x="2050" y="733"/>
                    <a:pt x="2063" y="712"/>
                    <a:pt x="2083" y="694"/>
                  </a:cubicBezTo>
                  <a:cubicBezTo>
                    <a:pt x="2132" y="647"/>
                    <a:pt x="2167" y="609"/>
                    <a:pt x="2144" y="535"/>
                  </a:cubicBezTo>
                  <a:cubicBezTo>
                    <a:pt x="2140" y="524"/>
                    <a:pt x="2127" y="517"/>
                    <a:pt x="2123" y="507"/>
                  </a:cubicBezTo>
                  <a:cubicBezTo>
                    <a:pt x="2118" y="490"/>
                    <a:pt x="2127" y="468"/>
                    <a:pt x="2124" y="451"/>
                  </a:cubicBezTo>
                  <a:cubicBezTo>
                    <a:pt x="2118" y="419"/>
                    <a:pt x="2104" y="407"/>
                    <a:pt x="2085" y="382"/>
                  </a:cubicBezTo>
                  <a:cubicBezTo>
                    <a:pt x="2069" y="361"/>
                    <a:pt x="2061" y="342"/>
                    <a:pt x="2047" y="320"/>
                  </a:cubicBezTo>
                  <a:cubicBezTo>
                    <a:pt x="2027" y="290"/>
                    <a:pt x="2005" y="295"/>
                    <a:pt x="1977" y="278"/>
                  </a:cubicBezTo>
                  <a:cubicBezTo>
                    <a:pt x="1950" y="261"/>
                    <a:pt x="1933" y="231"/>
                    <a:pt x="1904" y="215"/>
                  </a:cubicBezTo>
                  <a:cubicBezTo>
                    <a:pt x="1874" y="198"/>
                    <a:pt x="1838" y="208"/>
                    <a:pt x="1808" y="199"/>
                  </a:cubicBezTo>
                  <a:cubicBezTo>
                    <a:pt x="1783" y="191"/>
                    <a:pt x="1762" y="172"/>
                    <a:pt x="1736" y="167"/>
                  </a:cubicBezTo>
                  <a:cubicBezTo>
                    <a:pt x="1702" y="159"/>
                    <a:pt x="1669" y="168"/>
                    <a:pt x="1639" y="152"/>
                  </a:cubicBezTo>
                  <a:cubicBezTo>
                    <a:pt x="1624" y="144"/>
                    <a:pt x="1616" y="129"/>
                    <a:pt x="1600" y="122"/>
                  </a:cubicBezTo>
                  <a:cubicBezTo>
                    <a:pt x="1582" y="114"/>
                    <a:pt x="1564" y="121"/>
                    <a:pt x="1548" y="115"/>
                  </a:cubicBezTo>
                  <a:cubicBezTo>
                    <a:pt x="1524" y="106"/>
                    <a:pt x="1502" y="84"/>
                    <a:pt x="1477" y="74"/>
                  </a:cubicBezTo>
                  <a:cubicBezTo>
                    <a:pt x="1445" y="60"/>
                    <a:pt x="1426" y="49"/>
                    <a:pt x="1391" y="54"/>
                  </a:cubicBezTo>
                  <a:cubicBezTo>
                    <a:pt x="1362" y="57"/>
                    <a:pt x="1328" y="71"/>
                    <a:pt x="1296" y="63"/>
                  </a:cubicBezTo>
                  <a:cubicBezTo>
                    <a:pt x="1260" y="54"/>
                    <a:pt x="1252" y="38"/>
                    <a:pt x="1211" y="46"/>
                  </a:cubicBezTo>
                  <a:cubicBezTo>
                    <a:pt x="1173" y="53"/>
                    <a:pt x="1158" y="49"/>
                    <a:pt x="1121" y="38"/>
                  </a:cubicBezTo>
                  <a:cubicBezTo>
                    <a:pt x="1093" y="30"/>
                    <a:pt x="1058" y="15"/>
                    <a:pt x="1028" y="19"/>
                  </a:cubicBezTo>
                  <a:cubicBezTo>
                    <a:pt x="1000" y="22"/>
                    <a:pt x="962" y="47"/>
                    <a:pt x="940" y="15"/>
                  </a:cubicBezTo>
                  <a:lnTo>
                    <a:pt x="936" y="15"/>
                  </a:lnTo>
                  <a:close/>
                </a:path>
              </a:pathLst>
            </a:custGeom>
            <a:gradFill rotWithShape="0">
              <a:gsLst>
                <a:gs pos="78000">
                  <a:srgbClr val="9fd665"/>
                </a:gs>
                <a:gs pos="100000">
                  <a:srgbClr val="92d05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46"/>
            <p:cNvSpPr/>
            <p:nvPr/>
          </p:nvSpPr>
          <p:spPr>
            <a:xfrm>
              <a:off x="8218440" y="4575960"/>
              <a:ext cx="1402920" cy="85716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1101" h="642">
                  <a:moveTo>
                    <a:pt x="1075" y="597"/>
                  </a:moveTo>
                  <a:cubicBezTo>
                    <a:pt x="1024" y="597"/>
                    <a:pt x="972" y="599"/>
                    <a:pt x="921" y="597"/>
                  </a:cubicBezTo>
                  <a:cubicBezTo>
                    <a:pt x="895" y="596"/>
                    <a:pt x="870" y="592"/>
                    <a:pt x="844" y="590"/>
                  </a:cubicBezTo>
                  <a:cubicBezTo>
                    <a:pt x="828" y="589"/>
                    <a:pt x="812" y="588"/>
                    <a:pt x="797" y="585"/>
                  </a:cubicBezTo>
                  <a:cubicBezTo>
                    <a:pt x="782" y="581"/>
                    <a:pt x="768" y="576"/>
                    <a:pt x="755" y="571"/>
                  </a:cubicBezTo>
                  <a:cubicBezTo>
                    <a:pt x="733" y="564"/>
                    <a:pt x="712" y="556"/>
                    <a:pt x="689" y="550"/>
                  </a:cubicBezTo>
                  <a:cubicBezTo>
                    <a:pt x="683" y="548"/>
                    <a:pt x="676" y="547"/>
                    <a:pt x="669" y="545"/>
                  </a:cubicBezTo>
                  <a:cubicBezTo>
                    <a:pt x="667" y="542"/>
                    <a:pt x="664" y="539"/>
                    <a:pt x="659" y="538"/>
                  </a:cubicBezTo>
                  <a:cubicBezTo>
                    <a:pt x="657" y="532"/>
                    <a:pt x="651" y="527"/>
                    <a:pt x="642" y="527"/>
                  </a:cubicBezTo>
                  <a:cubicBezTo>
                    <a:pt x="640" y="527"/>
                    <a:pt x="638" y="527"/>
                    <a:pt x="636" y="527"/>
                  </a:cubicBezTo>
                  <a:cubicBezTo>
                    <a:pt x="634" y="526"/>
                    <a:pt x="631" y="525"/>
                    <a:pt x="628" y="524"/>
                  </a:cubicBezTo>
                  <a:cubicBezTo>
                    <a:pt x="625" y="518"/>
                    <a:pt x="620" y="513"/>
                    <a:pt x="612" y="512"/>
                  </a:cubicBezTo>
                  <a:cubicBezTo>
                    <a:pt x="610" y="505"/>
                    <a:pt x="604" y="499"/>
                    <a:pt x="594" y="499"/>
                  </a:cubicBezTo>
                  <a:cubicBezTo>
                    <a:pt x="590" y="493"/>
                    <a:pt x="586" y="488"/>
                    <a:pt x="583" y="482"/>
                  </a:cubicBezTo>
                  <a:cubicBezTo>
                    <a:pt x="578" y="472"/>
                    <a:pt x="575" y="461"/>
                    <a:pt x="572" y="451"/>
                  </a:cubicBezTo>
                  <a:cubicBezTo>
                    <a:pt x="571" y="449"/>
                    <a:pt x="570" y="448"/>
                    <a:pt x="570" y="446"/>
                  </a:cubicBezTo>
                  <a:cubicBezTo>
                    <a:pt x="568" y="437"/>
                    <a:pt x="567" y="428"/>
                    <a:pt x="565" y="419"/>
                  </a:cubicBezTo>
                  <a:cubicBezTo>
                    <a:pt x="573" y="397"/>
                    <a:pt x="562" y="376"/>
                    <a:pt x="561" y="353"/>
                  </a:cubicBezTo>
                  <a:cubicBezTo>
                    <a:pt x="561" y="327"/>
                    <a:pt x="565" y="301"/>
                    <a:pt x="567" y="275"/>
                  </a:cubicBezTo>
                  <a:cubicBezTo>
                    <a:pt x="567" y="272"/>
                    <a:pt x="567" y="270"/>
                    <a:pt x="566" y="267"/>
                  </a:cubicBezTo>
                  <a:cubicBezTo>
                    <a:pt x="567" y="263"/>
                    <a:pt x="566" y="258"/>
                    <a:pt x="564" y="254"/>
                  </a:cubicBezTo>
                  <a:cubicBezTo>
                    <a:pt x="563" y="250"/>
                    <a:pt x="561" y="246"/>
                    <a:pt x="559" y="243"/>
                  </a:cubicBezTo>
                  <a:cubicBezTo>
                    <a:pt x="560" y="233"/>
                    <a:pt x="561" y="223"/>
                    <a:pt x="561" y="214"/>
                  </a:cubicBezTo>
                  <a:cubicBezTo>
                    <a:pt x="563" y="212"/>
                    <a:pt x="565" y="210"/>
                    <a:pt x="567" y="207"/>
                  </a:cubicBezTo>
                  <a:cubicBezTo>
                    <a:pt x="576" y="192"/>
                    <a:pt x="593" y="183"/>
                    <a:pt x="604" y="169"/>
                  </a:cubicBezTo>
                  <a:cubicBezTo>
                    <a:pt x="613" y="157"/>
                    <a:pt x="619" y="142"/>
                    <a:pt x="625" y="128"/>
                  </a:cubicBezTo>
                  <a:cubicBezTo>
                    <a:pt x="630" y="127"/>
                    <a:pt x="634" y="124"/>
                    <a:pt x="636" y="119"/>
                  </a:cubicBezTo>
                  <a:cubicBezTo>
                    <a:pt x="637" y="118"/>
                    <a:pt x="638" y="117"/>
                    <a:pt x="638" y="115"/>
                  </a:cubicBezTo>
                  <a:cubicBezTo>
                    <a:pt x="648" y="112"/>
                    <a:pt x="652" y="103"/>
                    <a:pt x="652" y="94"/>
                  </a:cubicBezTo>
                  <a:cubicBezTo>
                    <a:pt x="652" y="94"/>
                    <a:pt x="653" y="93"/>
                    <a:pt x="653" y="93"/>
                  </a:cubicBezTo>
                  <a:cubicBezTo>
                    <a:pt x="654" y="92"/>
                    <a:pt x="655" y="91"/>
                    <a:pt x="656" y="89"/>
                  </a:cubicBezTo>
                  <a:cubicBezTo>
                    <a:pt x="659" y="88"/>
                    <a:pt x="661" y="85"/>
                    <a:pt x="662" y="83"/>
                  </a:cubicBezTo>
                  <a:cubicBezTo>
                    <a:pt x="674" y="75"/>
                    <a:pt x="683" y="64"/>
                    <a:pt x="691" y="50"/>
                  </a:cubicBezTo>
                  <a:cubicBezTo>
                    <a:pt x="701" y="33"/>
                    <a:pt x="716" y="17"/>
                    <a:pt x="730" y="1"/>
                  </a:cubicBezTo>
                  <a:cubicBezTo>
                    <a:pt x="722" y="1"/>
                    <a:pt x="715" y="1"/>
                    <a:pt x="707" y="1"/>
                  </a:cubicBezTo>
                  <a:cubicBezTo>
                    <a:pt x="695" y="1"/>
                    <a:pt x="682" y="1"/>
                    <a:pt x="669" y="0"/>
                  </a:cubicBezTo>
                  <a:cubicBezTo>
                    <a:pt x="667" y="1"/>
                    <a:pt x="665" y="3"/>
                    <a:pt x="663" y="6"/>
                  </a:cubicBezTo>
                  <a:cubicBezTo>
                    <a:pt x="657" y="15"/>
                    <a:pt x="647" y="24"/>
                    <a:pt x="640" y="34"/>
                  </a:cubicBezTo>
                  <a:cubicBezTo>
                    <a:pt x="637" y="35"/>
                    <a:pt x="635" y="36"/>
                    <a:pt x="632" y="38"/>
                  </a:cubicBezTo>
                  <a:cubicBezTo>
                    <a:pt x="630" y="39"/>
                    <a:pt x="627" y="41"/>
                    <a:pt x="625" y="43"/>
                  </a:cubicBezTo>
                  <a:cubicBezTo>
                    <a:pt x="624" y="44"/>
                    <a:pt x="623" y="45"/>
                    <a:pt x="623" y="46"/>
                  </a:cubicBezTo>
                  <a:cubicBezTo>
                    <a:pt x="614" y="48"/>
                    <a:pt x="607" y="56"/>
                    <a:pt x="607" y="65"/>
                  </a:cubicBezTo>
                  <a:cubicBezTo>
                    <a:pt x="607" y="68"/>
                    <a:pt x="607" y="70"/>
                    <a:pt x="607" y="73"/>
                  </a:cubicBezTo>
                  <a:cubicBezTo>
                    <a:pt x="607" y="74"/>
                    <a:pt x="607" y="75"/>
                    <a:pt x="607" y="76"/>
                  </a:cubicBezTo>
                  <a:cubicBezTo>
                    <a:pt x="603" y="80"/>
                    <a:pt x="601" y="85"/>
                    <a:pt x="598" y="91"/>
                  </a:cubicBezTo>
                  <a:cubicBezTo>
                    <a:pt x="598" y="91"/>
                    <a:pt x="598" y="92"/>
                    <a:pt x="598" y="92"/>
                  </a:cubicBezTo>
                  <a:cubicBezTo>
                    <a:pt x="595" y="98"/>
                    <a:pt x="593" y="103"/>
                    <a:pt x="590" y="109"/>
                  </a:cubicBezTo>
                  <a:cubicBezTo>
                    <a:pt x="582" y="112"/>
                    <a:pt x="576" y="119"/>
                    <a:pt x="576" y="128"/>
                  </a:cubicBezTo>
                  <a:cubicBezTo>
                    <a:pt x="575" y="128"/>
                    <a:pt x="574" y="129"/>
                    <a:pt x="571" y="130"/>
                  </a:cubicBezTo>
                  <a:cubicBezTo>
                    <a:pt x="571" y="130"/>
                    <a:pt x="571" y="130"/>
                    <a:pt x="571" y="130"/>
                  </a:cubicBezTo>
                  <a:cubicBezTo>
                    <a:pt x="569" y="129"/>
                    <a:pt x="566" y="128"/>
                    <a:pt x="563" y="128"/>
                  </a:cubicBezTo>
                  <a:cubicBezTo>
                    <a:pt x="562" y="128"/>
                    <a:pt x="562" y="128"/>
                    <a:pt x="562" y="128"/>
                  </a:cubicBezTo>
                  <a:cubicBezTo>
                    <a:pt x="560" y="128"/>
                    <a:pt x="558" y="128"/>
                    <a:pt x="557" y="129"/>
                  </a:cubicBezTo>
                  <a:cubicBezTo>
                    <a:pt x="557" y="127"/>
                    <a:pt x="558" y="125"/>
                    <a:pt x="559" y="124"/>
                  </a:cubicBezTo>
                  <a:cubicBezTo>
                    <a:pt x="559" y="124"/>
                    <a:pt x="559" y="124"/>
                    <a:pt x="559" y="123"/>
                  </a:cubicBezTo>
                  <a:cubicBezTo>
                    <a:pt x="552" y="114"/>
                    <a:pt x="550" y="102"/>
                    <a:pt x="552" y="91"/>
                  </a:cubicBezTo>
                  <a:cubicBezTo>
                    <a:pt x="556" y="64"/>
                    <a:pt x="556" y="37"/>
                    <a:pt x="555" y="10"/>
                  </a:cubicBezTo>
                  <a:cubicBezTo>
                    <a:pt x="532" y="10"/>
                    <a:pt x="509" y="10"/>
                    <a:pt x="486" y="11"/>
                  </a:cubicBezTo>
                  <a:cubicBezTo>
                    <a:pt x="465" y="13"/>
                    <a:pt x="444" y="15"/>
                    <a:pt x="423" y="16"/>
                  </a:cubicBezTo>
                  <a:cubicBezTo>
                    <a:pt x="422" y="15"/>
                    <a:pt x="421" y="13"/>
                    <a:pt x="420" y="12"/>
                  </a:cubicBezTo>
                  <a:cubicBezTo>
                    <a:pt x="404" y="12"/>
                    <a:pt x="387" y="12"/>
                    <a:pt x="371" y="12"/>
                  </a:cubicBezTo>
                  <a:cubicBezTo>
                    <a:pt x="372" y="15"/>
                    <a:pt x="374" y="19"/>
                    <a:pt x="377" y="22"/>
                  </a:cubicBezTo>
                  <a:cubicBezTo>
                    <a:pt x="379" y="24"/>
                    <a:pt x="381" y="26"/>
                    <a:pt x="382" y="28"/>
                  </a:cubicBezTo>
                  <a:cubicBezTo>
                    <a:pt x="383" y="35"/>
                    <a:pt x="386" y="42"/>
                    <a:pt x="393" y="45"/>
                  </a:cubicBezTo>
                  <a:cubicBezTo>
                    <a:pt x="393" y="45"/>
                    <a:pt x="393" y="45"/>
                    <a:pt x="393" y="45"/>
                  </a:cubicBezTo>
                  <a:cubicBezTo>
                    <a:pt x="388" y="54"/>
                    <a:pt x="390" y="67"/>
                    <a:pt x="399" y="73"/>
                  </a:cubicBezTo>
                  <a:cubicBezTo>
                    <a:pt x="397" y="80"/>
                    <a:pt x="399" y="88"/>
                    <a:pt x="404" y="93"/>
                  </a:cubicBezTo>
                  <a:cubicBezTo>
                    <a:pt x="404" y="98"/>
                    <a:pt x="405" y="103"/>
                    <a:pt x="405" y="109"/>
                  </a:cubicBezTo>
                  <a:cubicBezTo>
                    <a:pt x="406" y="120"/>
                    <a:pt x="407" y="131"/>
                    <a:pt x="407" y="143"/>
                  </a:cubicBezTo>
                  <a:cubicBezTo>
                    <a:pt x="402" y="146"/>
                    <a:pt x="400" y="152"/>
                    <a:pt x="400" y="157"/>
                  </a:cubicBezTo>
                  <a:cubicBezTo>
                    <a:pt x="401" y="159"/>
                    <a:pt x="401" y="161"/>
                    <a:pt x="401" y="163"/>
                  </a:cubicBezTo>
                  <a:cubicBezTo>
                    <a:pt x="401" y="163"/>
                    <a:pt x="401" y="164"/>
                    <a:pt x="401" y="165"/>
                  </a:cubicBezTo>
                  <a:cubicBezTo>
                    <a:pt x="400" y="165"/>
                    <a:pt x="400" y="166"/>
                    <a:pt x="400" y="167"/>
                  </a:cubicBezTo>
                  <a:cubicBezTo>
                    <a:pt x="400" y="168"/>
                    <a:pt x="399" y="170"/>
                    <a:pt x="399" y="172"/>
                  </a:cubicBezTo>
                  <a:cubicBezTo>
                    <a:pt x="400" y="168"/>
                    <a:pt x="397" y="174"/>
                    <a:pt x="396" y="175"/>
                  </a:cubicBezTo>
                  <a:cubicBezTo>
                    <a:pt x="392" y="182"/>
                    <a:pt x="393" y="191"/>
                    <a:pt x="398" y="198"/>
                  </a:cubicBezTo>
                  <a:cubicBezTo>
                    <a:pt x="397" y="199"/>
                    <a:pt x="396" y="201"/>
                    <a:pt x="396" y="203"/>
                  </a:cubicBezTo>
                  <a:cubicBezTo>
                    <a:pt x="389" y="224"/>
                    <a:pt x="386" y="250"/>
                    <a:pt x="392" y="271"/>
                  </a:cubicBezTo>
                  <a:cubicBezTo>
                    <a:pt x="393" y="275"/>
                    <a:pt x="394" y="279"/>
                    <a:pt x="396" y="282"/>
                  </a:cubicBezTo>
                  <a:cubicBezTo>
                    <a:pt x="395" y="287"/>
                    <a:pt x="395" y="291"/>
                    <a:pt x="394" y="296"/>
                  </a:cubicBezTo>
                  <a:cubicBezTo>
                    <a:pt x="393" y="308"/>
                    <a:pt x="392" y="321"/>
                    <a:pt x="391" y="333"/>
                  </a:cubicBezTo>
                  <a:cubicBezTo>
                    <a:pt x="391" y="360"/>
                    <a:pt x="401" y="388"/>
                    <a:pt x="397" y="414"/>
                  </a:cubicBezTo>
                  <a:cubicBezTo>
                    <a:pt x="396" y="418"/>
                    <a:pt x="395" y="422"/>
                    <a:pt x="394" y="425"/>
                  </a:cubicBezTo>
                  <a:cubicBezTo>
                    <a:pt x="394" y="426"/>
                    <a:pt x="394" y="427"/>
                    <a:pt x="395" y="428"/>
                  </a:cubicBezTo>
                  <a:cubicBezTo>
                    <a:pt x="398" y="446"/>
                    <a:pt x="399" y="460"/>
                    <a:pt x="394" y="477"/>
                  </a:cubicBezTo>
                  <a:cubicBezTo>
                    <a:pt x="401" y="489"/>
                    <a:pt x="401" y="502"/>
                    <a:pt x="397" y="515"/>
                  </a:cubicBezTo>
                  <a:cubicBezTo>
                    <a:pt x="391" y="518"/>
                    <a:pt x="388" y="525"/>
                    <a:pt x="388" y="531"/>
                  </a:cubicBezTo>
                  <a:cubicBezTo>
                    <a:pt x="384" y="533"/>
                    <a:pt x="381" y="535"/>
                    <a:pt x="380" y="539"/>
                  </a:cubicBezTo>
                  <a:cubicBezTo>
                    <a:pt x="377" y="537"/>
                    <a:pt x="374" y="536"/>
                    <a:pt x="370" y="536"/>
                  </a:cubicBezTo>
                  <a:cubicBezTo>
                    <a:pt x="360" y="536"/>
                    <a:pt x="354" y="542"/>
                    <a:pt x="351" y="549"/>
                  </a:cubicBezTo>
                  <a:cubicBezTo>
                    <a:pt x="351" y="549"/>
                    <a:pt x="351" y="549"/>
                    <a:pt x="351" y="549"/>
                  </a:cubicBezTo>
                  <a:cubicBezTo>
                    <a:pt x="338" y="549"/>
                    <a:pt x="332" y="559"/>
                    <a:pt x="332" y="569"/>
                  </a:cubicBezTo>
                  <a:cubicBezTo>
                    <a:pt x="329" y="567"/>
                    <a:pt x="325" y="565"/>
                    <a:pt x="320" y="565"/>
                  </a:cubicBezTo>
                  <a:cubicBezTo>
                    <a:pt x="314" y="565"/>
                    <a:pt x="310" y="567"/>
                    <a:pt x="307" y="571"/>
                  </a:cubicBezTo>
                  <a:cubicBezTo>
                    <a:pt x="295" y="570"/>
                    <a:pt x="284" y="568"/>
                    <a:pt x="272" y="567"/>
                  </a:cubicBezTo>
                  <a:cubicBezTo>
                    <a:pt x="266" y="566"/>
                    <a:pt x="260" y="566"/>
                    <a:pt x="254" y="565"/>
                  </a:cubicBezTo>
                  <a:cubicBezTo>
                    <a:pt x="253" y="565"/>
                    <a:pt x="252" y="565"/>
                    <a:pt x="251" y="565"/>
                  </a:cubicBezTo>
                  <a:cubicBezTo>
                    <a:pt x="240" y="564"/>
                    <a:pt x="228" y="563"/>
                    <a:pt x="217" y="562"/>
                  </a:cubicBezTo>
                  <a:cubicBezTo>
                    <a:pt x="215" y="563"/>
                    <a:pt x="213" y="563"/>
                    <a:pt x="211" y="564"/>
                  </a:cubicBezTo>
                  <a:cubicBezTo>
                    <a:pt x="188" y="570"/>
                    <a:pt x="167" y="579"/>
                    <a:pt x="143" y="579"/>
                  </a:cubicBezTo>
                  <a:cubicBezTo>
                    <a:pt x="121" y="579"/>
                    <a:pt x="100" y="580"/>
                    <a:pt x="78" y="580"/>
                  </a:cubicBezTo>
                  <a:cubicBezTo>
                    <a:pt x="72" y="581"/>
                    <a:pt x="65" y="581"/>
                    <a:pt x="59" y="581"/>
                  </a:cubicBezTo>
                  <a:cubicBezTo>
                    <a:pt x="50" y="582"/>
                    <a:pt x="41" y="584"/>
                    <a:pt x="32" y="585"/>
                  </a:cubicBezTo>
                  <a:cubicBezTo>
                    <a:pt x="27" y="587"/>
                    <a:pt x="21" y="589"/>
                    <a:pt x="16" y="590"/>
                  </a:cubicBezTo>
                  <a:cubicBezTo>
                    <a:pt x="15" y="590"/>
                    <a:pt x="14" y="590"/>
                    <a:pt x="12" y="590"/>
                  </a:cubicBezTo>
                  <a:cubicBezTo>
                    <a:pt x="0" y="602"/>
                    <a:pt x="4" y="627"/>
                    <a:pt x="24" y="625"/>
                  </a:cubicBezTo>
                  <a:cubicBezTo>
                    <a:pt x="41" y="624"/>
                    <a:pt x="57" y="622"/>
                    <a:pt x="72" y="618"/>
                  </a:cubicBezTo>
                  <a:cubicBezTo>
                    <a:pt x="76" y="623"/>
                    <a:pt x="81" y="627"/>
                    <a:pt x="88" y="628"/>
                  </a:cubicBezTo>
                  <a:cubicBezTo>
                    <a:pt x="148" y="635"/>
                    <a:pt x="207" y="634"/>
                    <a:pt x="267" y="635"/>
                  </a:cubicBezTo>
                  <a:cubicBezTo>
                    <a:pt x="327" y="637"/>
                    <a:pt x="387" y="637"/>
                    <a:pt x="447" y="639"/>
                  </a:cubicBezTo>
                  <a:cubicBezTo>
                    <a:pt x="509" y="640"/>
                    <a:pt x="572" y="640"/>
                    <a:pt x="634" y="639"/>
                  </a:cubicBezTo>
                  <a:cubicBezTo>
                    <a:pt x="678" y="639"/>
                    <a:pt x="721" y="638"/>
                    <a:pt x="765" y="639"/>
                  </a:cubicBezTo>
                  <a:cubicBezTo>
                    <a:pt x="782" y="640"/>
                    <a:pt x="800" y="641"/>
                    <a:pt x="818" y="641"/>
                  </a:cubicBezTo>
                  <a:cubicBezTo>
                    <a:pt x="824" y="641"/>
                    <a:pt x="829" y="639"/>
                    <a:pt x="832" y="636"/>
                  </a:cubicBezTo>
                  <a:cubicBezTo>
                    <a:pt x="853" y="640"/>
                    <a:pt x="875" y="642"/>
                    <a:pt x="898" y="640"/>
                  </a:cubicBezTo>
                  <a:cubicBezTo>
                    <a:pt x="902" y="640"/>
                    <a:pt x="905" y="638"/>
                    <a:pt x="908" y="636"/>
                  </a:cubicBezTo>
                  <a:cubicBezTo>
                    <a:pt x="963" y="640"/>
                    <a:pt x="1020" y="637"/>
                    <a:pt x="1075" y="637"/>
                  </a:cubicBezTo>
                  <a:cubicBezTo>
                    <a:pt x="1101" y="637"/>
                    <a:pt x="1101" y="597"/>
                    <a:pt x="1075" y="597"/>
                  </a:cubicBezTo>
                  <a:close/>
                </a:path>
              </a:pathLst>
            </a:custGeom>
            <a:gradFill rotWithShape="0">
              <a:gsLst>
                <a:gs pos="78000">
                  <a:srgbClr val="9fd665"/>
                </a:gs>
                <a:gs pos="100000">
                  <a:srgbClr val="92d05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Textfeld 179"/>
          <p:cNvSpPr/>
          <p:nvPr/>
        </p:nvSpPr>
        <p:spPr>
          <a:xfrm>
            <a:off x="4754160" y="3620160"/>
            <a:ext cx="345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uppieren 60"/>
          <p:cNvGrpSpPr/>
          <p:nvPr/>
        </p:nvGrpSpPr>
        <p:grpSpPr>
          <a:xfrm>
            <a:off x="1103760" y="5872680"/>
            <a:ext cx="619920" cy="777600"/>
            <a:chOff x="1103760" y="5872680"/>
            <a:chExt cx="619920" cy="777600"/>
          </a:xfrm>
        </p:grpSpPr>
        <p:sp>
          <p:nvSpPr>
            <p:cNvPr id="287" name="Freeform 6"/>
            <p:cNvSpPr/>
            <p:nvPr/>
          </p:nvSpPr>
          <p:spPr>
            <a:xfrm>
              <a:off x="1103760" y="6054480"/>
              <a:ext cx="198720" cy="5500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117" h="324">
                  <a:moveTo>
                    <a:pt x="110" y="324"/>
                  </a:moveTo>
                  <a:cubicBezTo>
                    <a:pt x="110" y="324"/>
                    <a:pt x="110" y="320"/>
                    <a:pt x="109" y="314"/>
                  </a:cubicBezTo>
                  <a:cubicBezTo>
                    <a:pt x="104" y="263"/>
                    <a:pt x="76" y="30"/>
                    <a:pt x="0" y="0"/>
                  </a:cubicBezTo>
                  <a:cubicBezTo>
                    <a:pt x="86" y="48"/>
                    <a:pt x="110" y="151"/>
                    <a:pt x="113" y="196"/>
                  </a:cubicBezTo>
                  <a:cubicBezTo>
                    <a:pt x="117" y="241"/>
                    <a:pt x="110" y="324"/>
                    <a:pt x="110" y="3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"/>
            <p:cNvSpPr/>
            <p:nvPr/>
          </p:nvSpPr>
          <p:spPr>
            <a:xfrm>
              <a:off x="1220760" y="5872680"/>
              <a:ext cx="157680" cy="74844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748440"/>
                <a:gd name="textAreaBottom" fmla="*/ 748800 h 748440"/>
              </a:gdLst>
              <a:ahLst/>
              <a:rect l="textAreaLeft" t="textAreaTop" r="textAreaRight" b="textAreaBottom"/>
              <a:pathLst>
                <a:path w="93" h="441">
                  <a:moveTo>
                    <a:pt x="0" y="0"/>
                  </a:moveTo>
                  <a:cubicBezTo>
                    <a:pt x="0" y="0"/>
                    <a:pt x="89" y="307"/>
                    <a:pt x="44" y="441"/>
                  </a:cubicBezTo>
                  <a:cubicBezTo>
                    <a:pt x="93" y="296"/>
                    <a:pt x="93" y="16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8"/>
            <p:cNvSpPr/>
            <p:nvPr/>
          </p:nvSpPr>
          <p:spPr>
            <a:xfrm>
              <a:off x="1338120" y="6217560"/>
              <a:ext cx="138960" cy="38700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82" h="228">
                  <a:moveTo>
                    <a:pt x="3" y="228"/>
                  </a:moveTo>
                  <a:cubicBezTo>
                    <a:pt x="3" y="228"/>
                    <a:pt x="0" y="62"/>
                    <a:pt x="82" y="0"/>
                  </a:cubicBezTo>
                  <a:cubicBezTo>
                    <a:pt x="48" y="83"/>
                    <a:pt x="13" y="148"/>
                    <a:pt x="3" y="228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"/>
            <p:cNvSpPr/>
            <p:nvPr/>
          </p:nvSpPr>
          <p:spPr>
            <a:xfrm>
              <a:off x="1331640" y="6129000"/>
              <a:ext cx="392040" cy="52128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231" h="307">
                  <a:moveTo>
                    <a:pt x="231" y="24"/>
                  </a:moveTo>
                  <a:cubicBezTo>
                    <a:pt x="42" y="0"/>
                    <a:pt x="0" y="307"/>
                    <a:pt x="7" y="283"/>
                  </a:cubicBezTo>
                  <a:cubicBezTo>
                    <a:pt x="66" y="90"/>
                    <a:pt x="231" y="24"/>
                    <a:pt x="231" y="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Gruppieren 84"/>
          <p:cNvGrpSpPr/>
          <p:nvPr/>
        </p:nvGrpSpPr>
        <p:grpSpPr>
          <a:xfrm>
            <a:off x="-1477080" y="2283480"/>
            <a:ext cx="4771080" cy="3306960"/>
            <a:chOff x="-1477080" y="2283480"/>
            <a:chExt cx="4771080" cy="3306960"/>
          </a:xfrm>
        </p:grpSpPr>
        <p:grpSp>
          <p:nvGrpSpPr>
            <p:cNvPr id="292" name="Gruppieren 1042"/>
            <p:cNvGrpSpPr/>
            <p:nvPr/>
          </p:nvGrpSpPr>
          <p:grpSpPr>
            <a:xfrm>
              <a:off x="-1477080" y="2283480"/>
              <a:ext cx="4771080" cy="3306960"/>
              <a:chOff x="-1477080" y="2283480"/>
              <a:chExt cx="4771080" cy="3306960"/>
            </a:xfrm>
          </p:grpSpPr>
          <p:sp>
            <p:nvSpPr>
              <p:cNvPr id="293" name="Freeform 48"/>
              <p:cNvSpPr/>
              <p:nvPr/>
            </p:nvSpPr>
            <p:spPr>
              <a:xfrm flipH="1">
                <a:off x="-552600" y="4307760"/>
                <a:ext cx="2862000" cy="1282680"/>
              </a:xfrm>
              <a:custGeom>
                <a:avLst/>
                <a:gdLst>
                  <a:gd name="textAreaLeft" fmla="*/ 360 w 2862000"/>
                  <a:gd name="textAreaRight" fmla="*/ 2862720 w 2862000"/>
                  <a:gd name="textAreaTop" fmla="*/ 0 h 1282680"/>
                  <a:gd name="textAreaBottom" fmla="*/ 1283040 h 1282680"/>
                </a:gdLst>
                <a:ahLst/>
                <a:rect l="textAreaLeft" t="textAreaTop" r="textAreaRight" b="textAreaBottom"/>
                <a:pathLst>
                  <a:path w="1380" h="618">
                    <a:moveTo>
                      <a:pt x="1375" y="568"/>
                    </a:moveTo>
                    <a:cubicBezTo>
                      <a:pt x="1379" y="554"/>
                      <a:pt x="1304" y="574"/>
                      <a:pt x="1299" y="559"/>
                    </a:cubicBezTo>
                    <a:cubicBezTo>
                      <a:pt x="1295" y="548"/>
                      <a:pt x="1280" y="541"/>
                      <a:pt x="1268" y="540"/>
                    </a:cubicBezTo>
                    <a:cubicBezTo>
                      <a:pt x="1241" y="537"/>
                      <a:pt x="1232" y="552"/>
                      <a:pt x="1205" y="552"/>
                    </a:cubicBezTo>
                    <a:cubicBezTo>
                      <a:pt x="1170" y="552"/>
                      <a:pt x="1149" y="556"/>
                      <a:pt x="1115" y="550"/>
                    </a:cubicBezTo>
                    <a:cubicBezTo>
                      <a:pt x="1106" y="549"/>
                      <a:pt x="1073" y="548"/>
                      <a:pt x="1066" y="543"/>
                    </a:cubicBezTo>
                    <a:cubicBezTo>
                      <a:pt x="1061" y="540"/>
                      <a:pt x="1052" y="526"/>
                      <a:pt x="1047" y="525"/>
                    </a:cubicBezTo>
                    <a:cubicBezTo>
                      <a:pt x="1035" y="522"/>
                      <a:pt x="1026" y="537"/>
                      <a:pt x="1011" y="527"/>
                    </a:cubicBezTo>
                    <a:cubicBezTo>
                      <a:pt x="999" y="519"/>
                      <a:pt x="1000" y="548"/>
                      <a:pt x="988" y="539"/>
                    </a:cubicBezTo>
                    <a:cubicBezTo>
                      <a:pt x="975" y="529"/>
                      <a:pt x="962" y="540"/>
                      <a:pt x="950" y="529"/>
                    </a:cubicBezTo>
                    <a:cubicBezTo>
                      <a:pt x="929" y="509"/>
                      <a:pt x="893" y="531"/>
                      <a:pt x="876" y="508"/>
                    </a:cubicBezTo>
                    <a:cubicBezTo>
                      <a:pt x="859" y="484"/>
                      <a:pt x="809" y="494"/>
                      <a:pt x="802" y="466"/>
                    </a:cubicBezTo>
                    <a:cubicBezTo>
                      <a:pt x="794" y="434"/>
                      <a:pt x="786" y="298"/>
                      <a:pt x="784" y="260"/>
                    </a:cubicBezTo>
                    <a:cubicBezTo>
                      <a:pt x="782" y="222"/>
                      <a:pt x="825" y="160"/>
                      <a:pt x="833" y="129"/>
                    </a:cubicBezTo>
                    <a:cubicBezTo>
                      <a:pt x="837" y="115"/>
                      <a:pt x="841" y="101"/>
                      <a:pt x="846" y="87"/>
                    </a:cubicBezTo>
                    <a:cubicBezTo>
                      <a:pt x="850" y="76"/>
                      <a:pt x="859" y="60"/>
                      <a:pt x="867" y="52"/>
                    </a:cubicBezTo>
                    <a:cubicBezTo>
                      <a:pt x="829" y="34"/>
                      <a:pt x="829" y="34"/>
                      <a:pt x="829" y="34"/>
                    </a:cubicBezTo>
                    <a:cubicBezTo>
                      <a:pt x="829" y="45"/>
                      <a:pt x="815" y="58"/>
                      <a:pt x="809" y="67"/>
                    </a:cubicBezTo>
                    <a:cubicBezTo>
                      <a:pt x="802" y="78"/>
                      <a:pt x="796" y="98"/>
                      <a:pt x="785" y="106"/>
                    </a:cubicBezTo>
                    <a:cubicBezTo>
                      <a:pt x="777" y="72"/>
                      <a:pt x="776" y="37"/>
                      <a:pt x="776" y="0"/>
                    </a:cubicBezTo>
                    <a:cubicBezTo>
                      <a:pt x="619" y="5"/>
                      <a:pt x="619" y="5"/>
                      <a:pt x="619" y="5"/>
                    </a:cubicBezTo>
                    <a:cubicBezTo>
                      <a:pt x="617" y="27"/>
                      <a:pt x="627" y="74"/>
                      <a:pt x="616" y="92"/>
                    </a:cubicBezTo>
                    <a:cubicBezTo>
                      <a:pt x="604" y="111"/>
                      <a:pt x="614" y="163"/>
                      <a:pt x="596" y="177"/>
                    </a:cubicBezTo>
                    <a:cubicBezTo>
                      <a:pt x="585" y="161"/>
                      <a:pt x="538" y="113"/>
                      <a:pt x="528" y="97"/>
                    </a:cubicBezTo>
                    <a:cubicBezTo>
                      <a:pt x="518" y="83"/>
                      <a:pt x="508" y="63"/>
                      <a:pt x="492" y="55"/>
                    </a:cubicBezTo>
                    <a:cubicBezTo>
                      <a:pt x="438" y="65"/>
                      <a:pt x="438" y="65"/>
                      <a:pt x="438" y="65"/>
                    </a:cubicBezTo>
                    <a:cubicBezTo>
                      <a:pt x="449" y="65"/>
                      <a:pt x="465" y="83"/>
                      <a:pt x="472" y="91"/>
                    </a:cubicBezTo>
                    <a:cubicBezTo>
                      <a:pt x="481" y="102"/>
                      <a:pt x="486" y="115"/>
                      <a:pt x="494" y="126"/>
                    </a:cubicBezTo>
                    <a:cubicBezTo>
                      <a:pt x="509" y="149"/>
                      <a:pt x="525" y="171"/>
                      <a:pt x="538" y="195"/>
                    </a:cubicBezTo>
                    <a:cubicBezTo>
                      <a:pt x="552" y="219"/>
                      <a:pt x="572" y="239"/>
                      <a:pt x="580" y="266"/>
                    </a:cubicBezTo>
                    <a:cubicBezTo>
                      <a:pt x="589" y="297"/>
                      <a:pt x="587" y="334"/>
                      <a:pt x="586" y="367"/>
                    </a:cubicBezTo>
                    <a:cubicBezTo>
                      <a:pt x="585" y="384"/>
                      <a:pt x="582" y="401"/>
                      <a:pt x="581" y="417"/>
                    </a:cubicBezTo>
                    <a:cubicBezTo>
                      <a:pt x="580" y="435"/>
                      <a:pt x="583" y="451"/>
                      <a:pt x="584" y="468"/>
                    </a:cubicBezTo>
                    <a:cubicBezTo>
                      <a:pt x="585" y="484"/>
                      <a:pt x="567" y="490"/>
                      <a:pt x="559" y="503"/>
                    </a:cubicBezTo>
                    <a:cubicBezTo>
                      <a:pt x="552" y="515"/>
                      <a:pt x="521" y="502"/>
                      <a:pt x="496" y="524"/>
                    </a:cubicBezTo>
                    <a:cubicBezTo>
                      <a:pt x="471" y="546"/>
                      <a:pt x="430" y="528"/>
                      <a:pt x="395" y="528"/>
                    </a:cubicBezTo>
                    <a:cubicBezTo>
                      <a:pt x="361" y="528"/>
                      <a:pt x="294" y="530"/>
                      <a:pt x="262" y="540"/>
                    </a:cubicBezTo>
                    <a:cubicBezTo>
                      <a:pt x="235" y="549"/>
                      <a:pt x="173" y="535"/>
                      <a:pt x="145" y="539"/>
                    </a:cubicBezTo>
                    <a:cubicBezTo>
                      <a:pt x="115" y="543"/>
                      <a:pt x="37" y="548"/>
                      <a:pt x="7" y="549"/>
                    </a:cubicBezTo>
                    <a:cubicBezTo>
                      <a:pt x="0" y="598"/>
                      <a:pt x="0" y="598"/>
                      <a:pt x="0" y="598"/>
                    </a:cubicBezTo>
                    <a:cubicBezTo>
                      <a:pt x="1380" y="618"/>
                      <a:pt x="1380" y="618"/>
                      <a:pt x="1380" y="618"/>
                    </a:cubicBezTo>
                    <a:lnTo>
                      <a:pt x="1375" y="568"/>
                    </a:lnTo>
                    <a:close/>
                  </a:path>
                </a:pathLst>
              </a:custGeom>
              <a:gradFill rotWithShape="0">
                <a:gsLst>
                  <a:gs pos="87000">
                    <a:srgbClr val="c96137"/>
                  </a:gs>
                  <a:gs pos="100000">
                    <a:srgbClr val="95471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47"/>
              <p:cNvSpPr/>
              <p:nvPr/>
            </p:nvSpPr>
            <p:spPr>
              <a:xfrm flipH="1">
                <a:off x="-1477440" y="2283480"/>
                <a:ext cx="4771080" cy="2330280"/>
              </a:xfrm>
              <a:custGeom>
                <a:avLst/>
                <a:gdLst>
                  <a:gd name="textAreaLeft" fmla="*/ -360 w 4771080"/>
                  <a:gd name="textAreaRight" fmla="*/ 4771080 w 4771080"/>
                  <a:gd name="textAreaTop" fmla="*/ 0 h 2330280"/>
                  <a:gd name="textAreaBottom" fmla="*/ 2330640 h 2330280"/>
                </a:gdLst>
                <a:ahLst/>
                <a:rect l="textAreaLeft" t="textAreaTop" r="textAreaRight" b="textAreaBottom"/>
                <a:pathLst>
                  <a:path w="1946" h="1124">
                    <a:moveTo>
                      <a:pt x="1049" y="0"/>
                    </a:moveTo>
                    <a:cubicBezTo>
                      <a:pt x="1012" y="0"/>
                      <a:pt x="995" y="9"/>
                      <a:pt x="965" y="20"/>
                    </a:cubicBezTo>
                    <a:cubicBezTo>
                      <a:pt x="947" y="27"/>
                      <a:pt x="894" y="21"/>
                      <a:pt x="888" y="43"/>
                    </a:cubicBezTo>
                    <a:cubicBezTo>
                      <a:pt x="822" y="55"/>
                      <a:pt x="782" y="84"/>
                      <a:pt x="709" y="84"/>
                    </a:cubicBezTo>
                    <a:cubicBezTo>
                      <a:pt x="658" y="84"/>
                      <a:pt x="576" y="77"/>
                      <a:pt x="542" y="125"/>
                    </a:cubicBezTo>
                    <a:cubicBezTo>
                      <a:pt x="532" y="139"/>
                      <a:pt x="537" y="152"/>
                      <a:pt x="533" y="168"/>
                    </a:cubicBezTo>
                    <a:cubicBezTo>
                      <a:pt x="527" y="190"/>
                      <a:pt x="525" y="189"/>
                      <a:pt x="510" y="205"/>
                    </a:cubicBezTo>
                    <a:cubicBezTo>
                      <a:pt x="490" y="226"/>
                      <a:pt x="467" y="240"/>
                      <a:pt x="441" y="248"/>
                    </a:cubicBezTo>
                    <a:cubicBezTo>
                      <a:pt x="409" y="258"/>
                      <a:pt x="391" y="265"/>
                      <a:pt x="362" y="285"/>
                    </a:cubicBezTo>
                    <a:cubicBezTo>
                      <a:pt x="336" y="304"/>
                      <a:pt x="332" y="330"/>
                      <a:pt x="313" y="348"/>
                    </a:cubicBezTo>
                    <a:cubicBezTo>
                      <a:pt x="311" y="351"/>
                      <a:pt x="309" y="355"/>
                      <a:pt x="308" y="359"/>
                    </a:cubicBezTo>
                    <a:cubicBezTo>
                      <a:pt x="271" y="361"/>
                      <a:pt x="249" y="357"/>
                      <a:pt x="222" y="377"/>
                    </a:cubicBezTo>
                    <a:cubicBezTo>
                      <a:pt x="199" y="393"/>
                      <a:pt x="188" y="422"/>
                      <a:pt x="168" y="443"/>
                    </a:cubicBezTo>
                    <a:cubicBezTo>
                      <a:pt x="129" y="484"/>
                      <a:pt x="66" y="507"/>
                      <a:pt x="34" y="553"/>
                    </a:cubicBezTo>
                    <a:cubicBezTo>
                      <a:pt x="0" y="603"/>
                      <a:pt x="14" y="686"/>
                      <a:pt x="41" y="732"/>
                    </a:cubicBezTo>
                    <a:cubicBezTo>
                      <a:pt x="70" y="782"/>
                      <a:pt x="109" y="799"/>
                      <a:pt x="156" y="830"/>
                    </a:cubicBezTo>
                    <a:cubicBezTo>
                      <a:pt x="204" y="861"/>
                      <a:pt x="269" y="872"/>
                      <a:pt x="328" y="873"/>
                    </a:cubicBezTo>
                    <a:cubicBezTo>
                      <a:pt x="331" y="912"/>
                      <a:pt x="326" y="928"/>
                      <a:pt x="357" y="948"/>
                    </a:cubicBezTo>
                    <a:cubicBezTo>
                      <a:pt x="380" y="963"/>
                      <a:pt x="402" y="971"/>
                      <a:pt x="426" y="987"/>
                    </a:cubicBezTo>
                    <a:cubicBezTo>
                      <a:pt x="469" y="1016"/>
                      <a:pt x="531" y="1055"/>
                      <a:pt x="585" y="1060"/>
                    </a:cubicBezTo>
                    <a:cubicBezTo>
                      <a:pt x="619" y="1063"/>
                      <a:pt x="645" y="1058"/>
                      <a:pt x="676" y="1073"/>
                    </a:cubicBezTo>
                    <a:cubicBezTo>
                      <a:pt x="709" y="1089"/>
                      <a:pt x="724" y="1102"/>
                      <a:pt x="761" y="1104"/>
                    </a:cubicBezTo>
                    <a:cubicBezTo>
                      <a:pt x="836" y="1108"/>
                      <a:pt x="891" y="1096"/>
                      <a:pt x="957" y="1076"/>
                    </a:cubicBezTo>
                    <a:cubicBezTo>
                      <a:pt x="1016" y="1058"/>
                      <a:pt x="1086" y="1046"/>
                      <a:pt x="1150" y="1055"/>
                    </a:cubicBezTo>
                    <a:cubicBezTo>
                      <a:pt x="1210" y="1064"/>
                      <a:pt x="1261" y="1096"/>
                      <a:pt x="1321" y="1109"/>
                    </a:cubicBezTo>
                    <a:cubicBezTo>
                      <a:pt x="1393" y="1124"/>
                      <a:pt x="1439" y="1094"/>
                      <a:pt x="1509" y="1092"/>
                    </a:cubicBezTo>
                    <a:cubicBezTo>
                      <a:pt x="1553" y="1090"/>
                      <a:pt x="1557" y="1066"/>
                      <a:pt x="1597" y="1053"/>
                    </a:cubicBezTo>
                    <a:cubicBezTo>
                      <a:pt x="1628" y="1043"/>
                      <a:pt x="1664" y="1050"/>
                      <a:pt x="1697" y="1048"/>
                    </a:cubicBezTo>
                    <a:cubicBezTo>
                      <a:pt x="1772" y="1044"/>
                      <a:pt x="1788" y="990"/>
                      <a:pt x="1852" y="964"/>
                    </a:cubicBezTo>
                    <a:cubicBezTo>
                      <a:pt x="1879" y="953"/>
                      <a:pt x="1905" y="951"/>
                      <a:pt x="1921" y="927"/>
                    </a:cubicBezTo>
                    <a:cubicBezTo>
                      <a:pt x="1937" y="905"/>
                      <a:pt x="1946" y="857"/>
                      <a:pt x="1945" y="828"/>
                    </a:cubicBezTo>
                    <a:cubicBezTo>
                      <a:pt x="1943" y="772"/>
                      <a:pt x="1881" y="746"/>
                      <a:pt x="1857" y="700"/>
                    </a:cubicBezTo>
                    <a:cubicBezTo>
                      <a:pt x="1828" y="644"/>
                      <a:pt x="1798" y="604"/>
                      <a:pt x="1742" y="571"/>
                    </a:cubicBezTo>
                    <a:cubicBezTo>
                      <a:pt x="1691" y="541"/>
                      <a:pt x="1649" y="523"/>
                      <a:pt x="1610" y="476"/>
                    </a:cubicBezTo>
                    <a:cubicBezTo>
                      <a:pt x="1591" y="453"/>
                      <a:pt x="1567" y="432"/>
                      <a:pt x="1549" y="412"/>
                    </a:cubicBezTo>
                    <a:cubicBezTo>
                      <a:pt x="1524" y="385"/>
                      <a:pt x="1530" y="367"/>
                      <a:pt x="1517" y="332"/>
                    </a:cubicBezTo>
                    <a:cubicBezTo>
                      <a:pt x="1495" y="271"/>
                      <a:pt x="1437" y="269"/>
                      <a:pt x="1384" y="241"/>
                    </a:cubicBezTo>
                    <a:cubicBezTo>
                      <a:pt x="1334" y="215"/>
                      <a:pt x="1307" y="153"/>
                      <a:pt x="1256" y="129"/>
                    </a:cubicBezTo>
                    <a:cubicBezTo>
                      <a:pt x="1232" y="118"/>
                      <a:pt x="1224" y="121"/>
                      <a:pt x="1206" y="103"/>
                    </a:cubicBezTo>
                    <a:cubicBezTo>
                      <a:pt x="1192" y="89"/>
                      <a:pt x="1188" y="68"/>
                      <a:pt x="1176" y="53"/>
                    </a:cubicBezTo>
                    <a:cubicBezTo>
                      <a:pt x="1144" y="11"/>
                      <a:pt x="1121" y="0"/>
                      <a:pt x="1069" y="0"/>
                    </a:cubicBezTo>
                    <a:lnTo>
                      <a:pt x="10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Gruppieren 55"/>
            <p:cNvGrpSpPr/>
            <p:nvPr/>
          </p:nvGrpSpPr>
          <p:grpSpPr>
            <a:xfrm>
              <a:off x="768960" y="5181840"/>
              <a:ext cx="219240" cy="275400"/>
              <a:chOff x="768960" y="5181840"/>
              <a:chExt cx="219240" cy="27540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768960" y="5246280"/>
                <a:ext cx="70200" cy="1947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7" h="324">
                    <a:moveTo>
                      <a:pt x="110" y="324"/>
                    </a:moveTo>
                    <a:cubicBezTo>
                      <a:pt x="110" y="324"/>
                      <a:pt x="110" y="320"/>
                      <a:pt x="109" y="314"/>
                    </a:cubicBezTo>
                    <a:cubicBezTo>
                      <a:pt x="104" y="263"/>
                      <a:pt x="76" y="30"/>
                      <a:pt x="0" y="0"/>
                    </a:cubicBezTo>
                    <a:cubicBezTo>
                      <a:pt x="86" y="48"/>
                      <a:pt x="110" y="151"/>
                      <a:pt x="113" y="196"/>
                    </a:cubicBezTo>
                    <a:cubicBezTo>
                      <a:pt x="117" y="241"/>
                      <a:pt x="110" y="324"/>
                      <a:pt x="110" y="3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810360" y="5181840"/>
                <a:ext cx="55800" cy="2649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93" h="441">
                    <a:moveTo>
                      <a:pt x="0" y="0"/>
                    </a:moveTo>
                    <a:cubicBezTo>
                      <a:pt x="0" y="0"/>
                      <a:pt x="89" y="307"/>
                      <a:pt x="44" y="441"/>
                    </a:cubicBezTo>
                    <a:cubicBezTo>
                      <a:pt x="93" y="296"/>
                      <a:pt x="93" y="165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851760" y="5304240"/>
                <a:ext cx="48960" cy="1368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" y="228"/>
                    </a:moveTo>
                    <a:cubicBezTo>
                      <a:pt x="3" y="228"/>
                      <a:pt x="0" y="62"/>
                      <a:pt x="82" y="0"/>
                    </a:cubicBezTo>
                    <a:cubicBezTo>
                      <a:pt x="48" y="83"/>
                      <a:pt x="13" y="148"/>
                      <a:pt x="3" y="228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849600" y="5272920"/>
                <a:ext cx="138600" cy="1843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231" h="307">
                    <a:moveTo>
                      <a:pt x="231" y="24"/>
                    </a:moveTo>
                    <a:cubicBezTo>
                      <a:pt x="42" y="0"/>
                      <a:pt x="0" y="307"/>
                      <a:pt x="7" y="283"/>
                    </a:cubicBezTo>
                    <a:cubicBezTo>
                      <a:pt x="66" y="90"/>
                      <a:pt x="231" y="24"/>
                      <a:pt x="231" y="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Gruppieren 43"/>
          <p:cNvGrpSpPr/>
          <p:nvPr/>
        </p:nvGrpSpPr>
        <p:grpSpPr>
          <a:xfrm>
            <a:off x="5036040" y="866880"/>
            <a:ext cx="5124600" cy="5187240"/>
            <a:chOff x="5036040" y="866880"/>
            <a:chExt cx="5124600" cy="5187240"/>
          </a:xfrm>
        </p:grpSpPr>
        <p:grpSp>
          <p:nvGrpSpPr>
            <p:cNvPr id="301" name="Gruppieren 48"/>
            <p:cNvGrpSpPr/>
            <p:nvPr/>
          </p:nvGrpSpPr>
          <p:grpSpPr>
            <a:xfrm>
              <a:off x="8085960" y="5117400"/>
              <a:ext cx="619920" cy="777960"/>
              <a:chOff x="8085960" y="5117400"/>
              <a:chExt cx="619920" cy="777960"/>
            </a:xfrm>
          </p:grpSpPr>
          <p:sp>
            <p:nvSpPr>
              <p:cNvPr id="302" name="Freeform 6"/>
              <p:cNvSpPr/>
              <p:nvPr/>
            </p:nvSpPr>
            <p:spPr>
              <a:xfrm>
                <a:off x="8085960" y="5299200"/>
                <a:ext cx="198720" cy="5500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50080"/>
                  <a:gd name="textAreaBottom" fmla="*/ 550440 h 550080"/>
                </a:gdLst>
                <a:ahLst/>
                <a:rect l="textAreaLeft" t="textAreaTop" r="textAreaRight" b="textAreaBottom"/>
                <a:pathLst>
                  <a:path w="117" h="324">
                    <a:moveTo>
                      <a:pt x="110" y="324"/>
                    </a:moveTo>
                    <a:cubicBezTo>
                      <a:pt x="110" y="324"/>
                      <a:pt x="110" y="320"/>
                      <a:pt x="109" y="314"/>
                    </a:cubicBezTo>
                    <a:cubicBezTo>
                      <a:pt x="104" y="263"/>
                      <a:pt x="76" y="30"/>
                      <a:pt x="0" y="0"/>
                    </a:cubicBezTo>
                    <a:cubicBezTo>
                      <a:pt x="86" y="48"/>
                      <a:pt x="110" y="151"/>
                      <a:pt x="113" y="196"/>
                    </a:cubicBezTo>
                    <a:cubicBezTo>
                      <a:pt x="117" y="241"/>
                      <a:pt x="110" y="324"/>
                      <a:pt x="110" y="3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7"/>
              <p:cNvSpPr/>
              <p:nvPr/>
            </p:nvSpPr>
            <p:spPr>
              <a:xfrm>
                <a:off x="8203320" y="5117400"/>
                <a:ext cx="157680" cy="74844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748440"/>
                  <a:gd name="textAreaBottom" fmla="*/ 748800 h 748440"/>
                </a:gdLst>
                <a:ahLst/>
                <a:rect l="textAreaLeft" t="textAreaTop" r="textAreaRight" b="textAreaBottom"/>
                <a:pathLst>
                  <a:path w="93" h="441">
                    <a:moveTo>
                      <a:pt x="0" y="0"/>
                    </a:moveTo>
                    <a:cubicBezTo>
                      <a:pt x="0" y="0"/>
                      <a:pt x="89" y="307"/>
                      <a:pt x="44" y="441"/>
                    </a:cubicBezTo>
                    <a:cubicBezTo>
                      <a:pt x="93" y="296"/>
                      <a:pt x="93" y="165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8"/>
              <p:cNvSpPr/>
              <p:nvPr/>
            </p:nvSpPr>
            <p:spPr>
              <a:xfrm>
                <a:off x="8320320" y="5462280"/>
                <a:ext cx="138960" cy="38700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87000"/>
                  <a:gd name="textAreaBottom" fmla="*/ 387360 h 38700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" y="228"/>
                    </a:moveTo>
                    <a:cubicBezTo>
                      <a:pt x="3" y="228"/>
                      <a:pt x="0" y="62"/>
                      <a:pt x="82" y="0"/>
                    </a:cubicBezTo>
                    <a:cubicBezTo>
                      <a:pt x="48" y="83"/>
                      <a:pt x="13" y="148"/>
                      <a:pt x="3" y="228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9"/>
              <p:cNvSpPr/>
              <p:nvPr/>
            </p:nvSpPr>
            <p:spPr>
              <a:xfrm>
                <a:off x="8313840" y="5374080"/>
                <a:ext cx="392040" cy="5212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521280"/>
                  <a:gd name="textAreaBottom" fmla="*/ 521640 h 521280"/>
                </a:gdLst>
                <a:ahLst/>
                <a:rect l="textAreaLeft" t="textAreaTop" r="textAreaRight" b="textAreaBottom"/>
                <a:pathLst>
                  <a:path w="231" h="307">
                    <a:moveTo>
                      <a:pt x="231" y="24"/>
                    </a:moveTo>
                    <a:cubicBezTo>
                      <a:pt x="42" y="0"/>
                      <a:pt x="0" y="307"/>
                      <a:pt x="7" y="283"/>
                    </a:cubicBezTo>
                    <a:cubicBezTo>
                      <a:pt x="66" y="90"/>
                      <a:pt x="231" y="24"/>
                      <a:pt x="231" y="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6" name="Gruppieren 1043"/>
            <p:cNvGrpSpPr/>
            <p:nvPr/>
          </p:nvGrpSpPr>
          <p:grpSpPr>
            <a:xfrm>
              <a:off x="5036040" y="866880"/>
              <a:ext cx="5124600" cy="5187240"/>
              <a:chOff x="5036040" y="866880"/>
              <a:chExt cx="5124600" cy="5187240"/>
            </a:xfrm>
          </p:grpSpPr>
          <p:sp>
            <p:nvSpPr>
              <p:cNvPr id="307" name="Freeform 46"/>
              <p:cNvSpPr/>
              <p:nvPr/>
            </p:nvSpPr>
            <p:spPr>
              <a:xfrm>
                <a:off x="6447960" y="3729240"/>
                <a:ext cx="2605320" cy="2324880"/>
              </a:xfrm>
              <a:custGeom>
                <a:avLst/>
                <a:gdLst>
                  <a:gd name="textAreaLeft" fmla="*/ 0 w 2605320"/>
                  <a:gd name="textAreaRight" fmla="*/ 2605680 w 2605320"/>
                  <a:gd name="textAreaTop" fmla="*/ 0 h 2324880"/>
                  <a:gd name="textAreaBottom" fmla="*/ 2325240 h 2324880"/>
                </a:gdLst>
                <a:ahLst/>
                <a:rect l="textAreaLeft" t="textAreaTop" r="textAreaRight" b="textAreaBottom"/>
                <a:pathLst>
                  <a:path w="1101" h="642">
                    <a:moveTo>
                      <a:pt x="1075" y="597"/>
                    </a:moveTo>
                    <a:cubicBezTo>
                      <a:pt x="1024" y="597"/>
                      <a:pt x="972" y="599"/>
                      <a:pt x="921" y="597"/>
                    </a:cubicBezTo>
                    <a:cubicBezTo>
                      <a:pt x="895" y="596"/>
                      <a:pt x="870" y="592"/>
                      <a:pt x="844" y="590"/>
                    </a:cubicBezTo>
                    <a:cubicBezTo>
                      <a:pt x="828" y="589"/>
                      <a:pt x="812" y="588"/>
                      <a:pt x="797" y="585"/>
                    </a:cubicBezTo>
                    <a:cubicBezTo>
                      <a:pt x="782" y="581"/>
                      <a:pt x="768" y="576"/>
                      <a:pt x="755" y="571"/>
                    </a:cubicBezTo>
                    <a:cubicBezTo>
                      <a:pt x="733" y="564"/>
                      <a:pt x="712" y="556"/>
                      <a:pt x="689" y="550"/>
                    </a:cubicBezTo>
                    <a:cubicBezTo>
                      <a:pt x="683" y="548"/>
                      <a:pt x="676" y="547"/>
                      <a:pt x="669" y="545"/>
                    </a:cubicBezTo>
                    <a:cubicBezTo>
                      <a:pt x="667" y="542"/>
                      <a:pt x="664" y="539"/>
                      <a:pt x="659" y="538"/>
                    </a:cubicBezTo>
                    <a:cubicBezTo>
                      <a:pt x="657" y="532"/>
                      <a:pt x="651" y="527"/>
                      <a:pt x="642" y="527"/>
                    </a:cubicBezTo>
                    <a:cubicBezTo>
                      <a:pt x="640" y="527"/>
                      <a:pt x="638" y="527"/>
                      <a:pt x="636" y="527"/>
                    </a:cubicBezTo>
                    <a:cubicBezTo>
                      <a:pt x="634" y="526"/>
                      <a:pt x="631" y="525"/>
                      <a:pt x="628" y="524"/>
                    </a:cubicBezTo>
                    <a:cubicBezTo>
                      <a:pt x="625" y="518"/>
                      <a:pt x="620" y="513"/>
                      <a:pt x="612" y="512"/>
                    </a:cubicBezTo>
                    <a:cubicBezTo>
                      <a:pt x="610" y="505"/>
                      <a:pt x="604" y="499"/>
                      <a:pt x="594" y="499"/>
                    </a:cubicBezTo>
                    <a:cubicBezTo>
                      <a:pt x="590" y="493"/>
                      <a:pt x="586" y="488"/>
                      <a:pt x="583" y="482"/>
                    </a:cubicBezTo>
                    <a:cubicBezTo>
                      <a:pt x="578" y="472"/>
                      <a:pt x="575" y="461"/>
                      <a:pt x="572" y="451"/>
                    </a:cubicBezTo>
                    <a:cubicBezTo>
                      <a:pt x="571" y="449"/>
                      <a:pt x="570" y="448"/>
                      <a:pt x="570" y="446"/>
                    </a:cubicBezTo>
                    <a:cubicBezTo>
                      <a:pt x="568" y="437"/>
                      <a:pt x="567" y="428"/>
                      <a:pt x="565" y="419"/>
                    </a:cubicBezTo>
                    <a:cubicBezTo>
                      <a:pt x="573" y="397"/>
                      <a:pt x="562" y="376"/>
                      <a:pt x="561" y="353"/>
                    </a:cubicBezTo>
                    <a:cubicBezTo>
                      <a:pt x="561" y="327"/>
                      <a:pt x="565" y="301"/>
                      <a:pt x="567" y="275"/>
                    </a:cubicBezTo>
                    <a:cubicBezTo>
                      <a:pt x="567" y="272"/>
                      <a:pt x="567" y="270"/>
                      <a:pt x="566" y="267"/>
                    </a:cubicBezTo>
                    <a:cubicBezTo>
                      <a:pt x="567" y="263"/>
                      <a:pt x="566" y="258"/>
                      <a:pt x="564" y="254"/>
                    </a:cubicBezTo>
                    <a:cubicBezTo>
                      <a:pt x="563" y="250"/>
                      <a:pt x="561" y="246"/>
                      <a:pt x="559" y="243"/>
                    </a:cubicBezTo>
                    <a:cubicBezTo>
                      <a:pt x="560" y="233"/>
                      <a:pt x="561" y="223"/>
                      <a:pt x="561" y="214"/>
                    </a:cubicBezTo>
                    <a:cubicBezTo>
                      <a:pt x="563" y="212"/>
                      <a:pt x="565" y="210"/>
                      <a:pt x="567" y="207"/>
                    </a:cubicBezTo>
                    <a:cubicBezTo>
                      <a:pt x="576" y="192"/>
                      <a:pt x="593" y="183"/>
                      <a:pt x="604" y="169"/>
                    </a:cubicBezTo>
                    <a:cubicBezTo>
                      <a:pt x="613" y="157"/>
                      <a:pt x="619" y="142"/>
                      <a:pt x="625" y="128"/>
                    </a:cubicBezTo>
                    <a:cubicBezTo>
                      <a:pt x="630" y="127"/>
                      <a:pt x="634" y="124"/>
                      <a:pt x="636" y="119"/>
                    </a:cubicBezTo>
                    <a:cubicBezTo>
                      <a:pt x="637" y="118"/>
                      <a:pt x="638" y="117"/>
                      <a:pt x="638" y="115"/>
                    </a:cubicBezTo>
                    <a:cubicBezTo>
                      <a:pt x="648" y="112"/>
                      <a:pt x="652" y="103"/>
                      <a:pt x="652" y="94"/>
                    </a:cubicBezTo>
                    <a:cubicBezTo>
                      <a:pt x="652" y="94"/>
                      <a:pt x="653" y="93"/>
                      <a:pt x="653" y="93"/>
                    </a:cubicBezTo>
                    <a:cubicBezTo>
                      <a:pt x="654" y="92"/>
                      <a:pt x="655" y="91"/>
                      <a:pt x="656" y="89"/>
                    </a:cubicBezTo>
                    <a:cubicBezTo>
                      <a:pt x="659" y="88"/>
                      <a:pt x="661" y="85"/>
                      <a:pt x="662" y="83"/>
                    </a:cubicBezTo>
                    <a:cubicBezTo>
                      <a:pt x="674" y="75"/>
                      <a:pt x="683" y="64"/>
                      <a:pt x="691" y="50"/>
                    </a:cubicBezTo>
                    <a:cubicBezTo>
                      <a:pt x="701" y="33"/>
                      <a:pt x="716" y="17"/>
                      <a:pt x="730" y="1"/>
                    </a:cubicBezTo>
                    <a:cubicBezTo>
                      <a:pt x="722" y="1"/>
                      <a:pt x="715" y="1"/>
                      <a:pt x="707" y="1"/>
                    </a:cubicBezTo>
                    <a:cubicBezTo>
                      <a:pt x="695" y="1"/>
                      <a:pt x="682" y="1"/>
                      <a:pt x="669" y="0"/>
                    </a:cubicBezTo>
                    <a:cubicBezTo>
                      <a:pt x="667" y="1"/>
                      <a:pt x="665" y="3"/>
                      <a:pt x="663" y="6"/>
                    </a:cubicBezTo>
                    <a:cubicBezTo>
                      <a:pt x="657" y="15"/>
                      <a:pt x="647" y="24"/>
                      <a:pt x="640" y="34"/>
                    </a:cubicBezTo>
                    <a:cubicBezTo>
                      <a:pt x="637" y="35"/>
                      <a:pt x="635" y="36"/>
                      <a:pt x="632" y="38"/>
                    </a:cubicBezTo>
                    <a:cubicBezTo>
                      <a:pt x="630" y="39"/>
                      <a:pt x="627" y="41"/>
                      <a:pt x="625" y="43"/>
                    </a:cubicBezTo>
                    <a:cubicBezTo>
                      <a:pt x="624" y="44"/>
                      <a:pt x="623" y="45"/>
                      <a:pt x="623" y="46"/>
                    </a:cubicBezTo>
                    <a:cubicBezTo>
                      <a:pt x="614" y="48"/>
                      <a:pt x="607" y="56"/>
                      <a:pt x="607" y="65"/>
                    </a:cubicBezTo>
                    <a:cubicBezTo>
                      <a:pt x="607" y="68"/>
                      <a:pt x="607" y="70"/>
                      <a:pt x="607" y="73"/>
                    </a:cubicBezTo>
                    <a:cubicBezTo>
                      <a:pt x="607" y="74"/>
                      <a:pt x="607" y="75"/>
                      <a:pt x="607" y="76"/>
                    </a:cubicBezTo>
                    <a:cubicBezTo>
                      <a:pt x="603" y="80"/>
                      <a:pt x="601" y="85"/>
                      <a:pt x="598" y="91"/>
                    </a:cubicBezTo>
                    <a:cubicBezTo>
                      <a:pt x="598" y="91"/>
                      <a:pt x="598" y="92"/>
                      <a:pt x="598" y="92"/>
                    </a:cubicBezTo>
                    <a:cubicBezTo>
                      <a:pt x="595" y="98"/>
                      <a:pt x="593" y="103"/>
                      <a:pt x="590" y="109"/>
                    </a:cubicBezTo>
                    <a:cubicBezTo>
                      <a:pt x="582" y="112"/>
                      <a:pt x="576" y="119"/>
                      <a:pt x="576" y="128"/>
                    </a:cubicBezTo>
                    <a:cubicBezTo>
                      <a:pt x="575" y="128"/>
                      <a:pt x="574" y="129"/>
                      <a:pt x="571" y="130"/>
                    </a:cubicBezTo>
                    <a:cubicBezTo>
                      <a:pt x="571" y="130"/>
                      <a:pt x="571" y="130"/>
                      <a:pt x="571" y="130"/>
                    </a:cubicBezTo>
                    <a:cubicBezTo>
                      <a:pt x="569" y="129"/>
                      <a:pt x="566" y="128"/>
                      <a:pt x="563" y="128"/>
                    </a:cubicBezTo>
                    <a:cubicBezTo>
                      <a:pt x="562" y="128"/>
                      <a:pt x="562" y="128"/>
                      <a:pt x="562" y="128"/>
                    </a:cubicBezTo>
                    <a:cubicBezTo>
                      <a:pt x="560" y="128"/>
                      <a:pt x="558" y="128"/>
                      <a:pt x="557" y="129"/>
                    </a:cubicBezTo>
                    <a:cubicBezTo>
                      <a:pt x="557" y="127"/>
                      <a:pt x="558" y="125"/>
                      <a:pt x="559" y="124"/>
                    </a:cubicBezTo>
                    <a:cubicBezTo>
                      <a:pt x="559" y="124"/>
                      <a:pt x="559" y="124"/>
                      <a:pt x="559" y="123"/>
                    </a:cubicBezTo>
                    <a:cubicBezTo>
                      <a:pt x="552" y="114"/>
                      <a:pt x="550" y="102"/>
                      <a:pt x="552" y="91"/>
                    </a:cubicBezTo>
                    <a:cubicBezTo>
                      <a:pt x="556" y="64"/>
                      <a:pt x="556" y="37"/>
                      <a:pt x="555" y="10"/>
                    </a:cubicBezTo>
                    <a:cubicBezTo>
                      <a:pt x="532" y="10"/>
                      <a:pt x="509" y="10"/>
                      <a:pt x="486" y="11"/>
                    </a:cubicBezTo>
                    <a:cubicBezTo>
                      <a:pt x="465" y="13"/>
                      <a:pt x="444" y="15"/>
                      <a:pt x="423" y="16"/>
                    </a:cubicBezTo>
                    <a:cubicBezTo>
                      <a:pt x="422" y="15"/>
                      <a:pt x="421" y="13"/>
                      <a:pt x="420" y="12"/>
                    </a:cubicBezTo>
                    <a:cubicBezTo>
                      <a:pt x="404" y="12"/>
                      <a:pt x="387" y="12"/>
                      <a:pt x="371" y="12"/>
                    </a:cubicBezTo>
                    <a:cubicBezTo>
                      <a:pt x="372" y="15"/>
                      <a:pt x="374" y="19"/>
                      <a:pt x="377" y="22"/>
                    </a:cubicBezTo>
                    <a:cubicBezTo>
                      <a:pt x="379" y="24"/>
                      <a:pt x="381" y="26"/>
                      <a:pt x="382" y="28"/>
                    </a:cubicBezTo>
                    <a:cubicBezTo>
                      <a:pt x="383" y="35"/>
                      <a:pt x="386" y="42"/>
                      <a:pt x="393" y="45"/>
                    </a:cubicBezTo>
                    <a:cubicBezTo>
                      <a:pt x="393" y="45"/>
                      <a:pt x="393" y="45"/>
                      <a:pt x="393" y="45"/>
                    </a:cubicBezTo>
                    <a:cubicBezTo>
                      <a:pt x="388" y="54"/>
                      <a:pt x="390" y="67"/>
                      <a:pt x="399" y="73"/>
                    </a:cubicBezTo>
                    <a:cubicBezTo>
                      <a:pt x="397" y="80"/>
                      <a:pt x="399" y="88"/>
                      <a:pt x="404" y="93"/>
                    </a:cubicBezTo>
                    <a:cubicBezTo>
                      <a:pt x="404" y="98"/>
                      <a:pt x="405" y="103"/>
                      <a:pt x="405" y="109"/>
                    </a:cubicBezTo>
                    <a:cubicBezTo>
                      <a:pt x="406" y="120"/>
                      <a:pt x="407" y="131"/>
                      <a:pt x="407" y="143"/>
                    </a:cubicBezTo>
                    <a:cubicBezTo>
                      <a:pt x="402" y="146"/>
                      <a:pt x="400" y="152"/>
                      <a:pt x="400" y="157"/>
                    </a:cubicBezTo>
                    <a:cubicBezTo>
                      <a:pt x="401" y="159"/>
                      <a:pt x="401" y="161"/>
                      <a:pt x="401" y="163"/>
                    </a:cubicBezTo>
                    <a:cubicBezTo>
                      <a:pt x="401" y="163"/>
                      <a:pt x="401" y="164"/>
                      <a:pt x="401" y="165"/>
                    </a:cubicBezTo>
                    <a:cubicBezTo>
                      <a:pt x="400" y="165"/>
                      <a:pt x="400" y="166"/>
                      <a:pt x="400" y="167"/>
                    </a:cubicBezTo>
                    <a:cubicBezTo>
                      <a:pt x="400" y="168"/>
                      <a:pt x="399" y="170"/>
                      <a:pt x="399" y="172"/>
                    </a:cubicBezTo>
                    <a:cubicBezTo>
                      <a:pt x="400" y="168"/>
                      <a:pt x="397" y="174"/>
                      <a:pt x="396" y="175"/>
                    </a:cubicBezTo>
                    <a:cubicBezTo>
                      <a:pt x="392" y="182"/>
                      <a:pt x="393" y="191"/>
                      <a:pt x="398" y="198"/>
                    </a:cubicBezTo>
                    <a:cubicBezTo>
                      <a:pt x="397" y="199"/>
                      <a:pt x="396" y="201"/>
                      <a:pt x="396" y="203"/>
                    </a:cubicBezTo>
                    <a:cubicBezTo>
                      <a:pt x="389" y="224"/>
                      <a:pt x="386" y="250"/>
                      <a:pt x="392" y="271"/>
                    </a:cubicBezTo>
                    <a:cubicBezTo>
                      <a:pt x="393" y="275"/>
                      <a:pt x="394" y="279"/>
                      <a:pt x="396" y="282"/>
                    </a:cubicBezTo>
                    <a:cubicBezTo>
                      <a:pt x="395" y="287"/>
                      <a:pt x="395" y="291"/>
                      <a:pt x="394" y="296"/>
                    </a:cubicBezTo>
                    <a:cubicBezTo>
                      <a:pt x="393" y="308"/>
                      <a:pt x="392" y="321"/>
                      <a:pt x="391" y="333"/>
                    </a:cubicBezTo>
                    <a:cubicBezTo>
                      <a:pt x="391" y="360"/>
                      <a:pt x="401" y="388"/>
                      <a:pt x="397" y="414"/>
                    </a:cubicBezTo>
                    <a:cubicBezTo>
                      <a:pt x="396" y="418"/>
                      <a:pt x="395" y="422"/>
                      <a:pt x="394" y="425"/>
                    </a:cubicBezTo>
                    <a:cubicBezTo>
                      <a:pt x="394" y="426"/>
                      <a:pt x="394" y="427"/>
                      <a:pt x="395" y="428"/>
                    </a:cubicBezTo>
                    <a:cubicBezTo>
                      <a:pt x="398" y="446"/>
                      <a:pt x="399" y="460"/>
                      <a:pt x="394" y="477"/>
                    </a:cubicBezTo>
                    <a:cubicBezTo>
                      <a:pt x="401" y="489"/>
                      <a:pt x="401" y="502"/>
                      <a:pt x="397" y="515"/>
                    </a:cubicBezTo>
                    <a:cubicBezTo>
                      <a:pt x="391" y="518"/>
                      <a:pt x="388" y="525"/>
                      <a:pt x="388" y="531"/>
                    </a:cubicBezTo>
                    <a:cubicBezTo>
                      <a:pt x="384" y="533"/>
                      <a:pt x="381" y="535"/>
                      <a:pt x="380" y="539"/>
                    </a:cubicBezTo>
                    <a:cubicBezTo>
                      <a:pt x="377" y="537"/>
                      <a:pt x="374" y="536"/>
                      <a:pt x="370" y="536"/>
                    </a:cubicBezTo>
                    <a:cubicBezTo>
                      <a:pt x="360" y="536"/>
                      <a:pt x="354" y="542"/>
                      <a:pt x="351" y="549"/>
                    </a:cubicBezTo>
                    <a:cubicBezTo>
                      <a:pt x="351" y="549"/>
                      <a:pt x="351" y="549"/>
                      <a:pt x="351" y="549"/>
                    </a:cubicBezTo>
                    <a:cubicBezTo>
                      <a:pt x="338" y="549"/>
                      <a:pt x="332" y="559"/>
                      <a:pt x="332" y="569"/>
                    </a:cubicBezTo>
                    <a:cubicBezTo>
                      <a:pt x="329" y="567"/>
                      <a:pt x="325" y="565"/>
                      <a:pt x="320" y="565"/>
                    </a:cubicBezTo>
                    <a:cubicBezTo>
                      <a:pt x="314" y="565"/>
                      <a:pt x="310" y="567"/>
                      <a:pt x="307" y="571"/>
                    </a:cubicBezTo>
                    <a:cubicBezTo>
                      <a:pt x="295" y="570"/>
                      <a:pt x="284" y="568"/>
                      <a:pt x="272" y="567"/>
                    </a:cubicBezTo>
                    <a:cubicBezTo>
                      <a:pt x="266" y="566"/>
                      <a:pt x="260" y="566"/>
                      <a:pt x="254" y="565"/>
                    </a:cubicBezTo>
                    <a:cubicBezTo>
                      <a:pt x="253" y="565"/>
                      <a:pt x="252" y="565"/>
                      <a:pt x="251" y="565"/>
                    </a:cubicBezTo>
                    <a:cubicBezTo>
                      <a:pt x="240" y="564"/>
                      <a:pt x="228" y="563"/>
                      <a:pt x="217" y="562"/>
                    </a:cubicBezTo>
                    <a:cubicBezTo>
                      <a:pt x="215" y="563"/>
                      <a:pt x="213" y="563"/>
                      <a:pt x="211" y="564"/>
                    </a:cubicBezTo>
                    <a:cubicBezTo>
                      <a:pt x="188" y="570"/>
                      <a:pt x="167" y="579"/>
                      <a:pt x="143" y="579"/>
                    </a:cubicBezTo>
                    <a:cubicBezTo>
                      <a:pt x="121" y="579"/>
                      <a:pt x="100" y="580"/>
                      <a:pt x="78" y="580"/>
                    </a:cubicBezTo>
                    <a:cubicBezTo>
                      <a:pt x="72" y="581"/>
                      <a:pt x="65" y="581"/>
                      <a:pt x="59" y="581"/>
                    </a:cubicBezTo>
                    <a:cubicBezTo>
                      <a:pt x="50" y="582"/>
                      <a:pt x="41" y="584"/>
                      <a:pt x="32" y="585"/>
                    </a:cubicBezTo>
                    <a:cubicBezTo>
                      <a:pt x="27" y="587"/>
                      <a:pt x="21" y="589"/>
                      <a:pt x="16" y="590"/>
                    </a:cubicBezTo>
                    <a:cubicBezTo>
                      <a:pt x="15" y="590"/>
                      <a:pt x="14" y="590"/>
                      <a:pt x="12" y="590"/>
                    </a:cubicBezTo>
                    <a:cubicBezTo>
                      <a:pt x="0" y="602"/>
                      <a:pt x="4" y="627"/>
                      <a:pt x="24" y="625"/>
                    </a:cubicBezTo>
                    <a:cubicBezTo>
                      <a:pt x="41" y="624"/>
                      <a:pt x="57" y="622"/>
                      <a:pt x="72" y="618"/>
                    </a:cubicBezTo>
                    <a:cubicBezTo>
                      <a:pt x="76" y="623"/>
                      <a:pt x="81" y="627"/>
                      <a:pt x="88" y="628"/>
                    </a:cubicBezTo>
                    <a:cubicBezTo>
                      <a:pt x="148" y="635"/>
                      <a:pt x="207" y="634"/>
                      <a:pt x="267" y="635"/>
                    </a:cubicBezTo>
                    <a:cubicBezTo>
                      <a:pt x="327" y="637"/>
                      <a:pt x="387" y="637"/>
                      <a:pt x="447" y="639"/>
                    </a:cubicBezTo>
                    <a:cubicBezTo>
                      <a:pt x="509" y="640"/>
                      <a:pt x="572" y="640"/>
                      <a:pt x="634" y="639"/>
                    </a:cubicBezTo>
                    <a:cubicBezTo>
                      <a:pt x="678" y="639"/>
                      <a:pt x="721" y="638"/>
                      <a:pt x="765" y="639"/>
                    </a:cubicBezTo>
                    <a:cubicBezTo>
                      <a:pt x="782" y="640"/>
                      <a:pt x="800" y="641"/>
                      <a:pt x="818" y="641"/>
                    </a:cubicBezTo>
                    <a:cubicBezTo>
                      <a:pt x="824" y="641"/>
                      <a:pt x="829" y="639"/>
                      <a:pt x="832" y="636"/>
                    </a:cubicBezTo>
                    <a:cubicBezTo>
                      <a:pt x="853" y="640"/>
                      <a:pt x="875" y="642"/>
                      <a:pt x="898" y="640"/>
                    </a:cubicBezTo>
                    <a:cubicBezTo>
                      <a:pt x="902" y="640"/>
                      <a:pt x="905" y="638"/>
                      <a:pt x="908" y="636"/>
                    </a:cubicBezTo>
                    <a:cubicBezTo>
                      <a:pt x="963" y="640"/>
                      <a:pt x="1020" y="637"/>
                      <a:pt x="1075" y="637"/>
                    </a:cubicBezTo>
                    <a:cubicBezTo>
                      <a:pt x="1101" y="637"/>
                      <a:pt x="1101" y="597"/>
                      <a:pt x="1075" y="597"/>
                    </a:cubicBezTo>
                    <a:close/>
                  </a:path>
                </a:pathLst>
              </a:custGeom>
              <a:gradFill rotWithShape="0">
                <a:gsLst>
                  <a:gs pos="89000">
                    <a:srgbClr val="c96137"/>
                  </a:gs>
                  <a:gs pos="100000">
                    <a:srgbClr val="95471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45"/>
              <p:cNvSpPr/>
              <p:nvPr/>
            </p:nvSpPr>
            <p:spPr>
              <a:xfrm>
                <a:off x="5036040" y="866880"/>
                <a:ext cx="5124600" cy="3272400"/>
              </a:xfrm>
              <a:custGeom>
                <a:avLst/>
                <a:gdLst>
                  <a:gd name="textAreaLeft" fmla="*/ 0 w 5124600"/>
                  <a:gd name="textAreaRight" fmla="*/ 5124960 w 5124600"/>
                  <a:gd name="textAreaTop" fmla="*/ 0 h 3272400"/>
                  <a:gd name="textAreaBottom" fmla="*/ 3272760 h 3272400"/>
                </a:gdLst>
                <a:ahLst/>
                <a:rect l="textAreaLeft" t="textAreaTop" r="textAreaRight" b="textAreaBottom"/>
                <a:pathLst>
                  <a:path w="2167" h="903">
                    <a:moveTo>
                      <a:pt x="936" y="15"/>
                    </a:moveTo>
                    <a:cubicBezTo>
                      <a:pt x="882" y="4"/>
                      <a:pt x="846" y="0"/>
                      <a:pt x="793" y="20"/>
                    </a:cubicBezTo>
                    <a:cubicBezTo>
                      <a:pt x="768" y="29"/>
                      <a:pt x="747" y="25"/>
                      <a:pt x="719" y="31"/>
                    </a:cubicBezTo>
                    <a:cubicBezTo>
                      <a:pt x="700" y="35"/>
                      <a:pt x="675" y="50"/>
                      <a:pt x="656" y="55"/>
                    </a:cubicBezTo>
                    <a:cubicBezTo>
                      <a:pt x="589" y="72"/>
                      <a:pt x="392" y="57"/>
                      <a:pt x="395" y="170"/>
                    </a:cubicBezTo>
                    <a:cubicBezTo>
                      <a:pt x="360" y="172"/>
                      <a:pt x="346" y="179"/>
                      <a:pt x="319" y="194"/>
                    </a:cubicBezTo>
                    <a:cubicBezTo>
                      <a:pt x="303" y="203"/>
                      <a:pt x="250" y="215"/>
                      <a:pt x="251" y="242"/>
                    </a:cubicBezTo>
                    <a:cubicBezTo>
                      <a:pt x="190" y="272"/>
                      <a:pt x="137" y="258"/>
                      <a:pt x="100" y="327"/>
                    </a:cubicBezTo>
                    <a:cubicBezTo>
                      <a:pt x="66" y="388"/>
                      <a:pt x="71" y="446"/>
                      <a:pt x="67" y="518"/>
                    </a:cubicBezTo>
                    <a:cubicBezTo>
                      <a:pt x="29" y="531"/>
                      <a:pt x="0" y="584"/>
                      <a:pt x="8" y="623"/>
                    </a:cubicBezTo>
                    <a:cubicBezTo>
                      <a:pt x="17" y="672"/>
                      <a:pt x="74" y="685"/>
                      <a:pt x="115" y="691"/>
                    </a:cubicBezTo>
                    <a:cubicBezTo>
                      <a:pt x="113" y="718"/>
                      <a:pt x="141" y="740"/>
                      <a:pt x="160" y="755"/>
                    </a:cubicBezTo>
                    <a:cubicBezTo>
                      <a:pt x="177" y="769"/>
                      <a:pt x="201" y="786"/>
                      <a:pt x="223" y="800"/>
                    </a:cubicBezTo>
                    <a:cubicBezTo>
                      <a:pt x="243" y="813"/>
                      <a:pt x="274" y="824"/>
                      <a:pt x="299" y="827"/>
                    </a:cubicBezTo>
                    <a:cubicBezTo>
                      <a:pt x="336" y="831"/>
                      <a:pt x="350" y="834"/>
                      <a:pt x="382" y="852"/>
                    </a:cubicBezTo>
                    <a:cubicBezTo>
                      <a:pt x="439" y="883"/>
                      <a:pt x="473" y="781"/>
                      <a:pt x="538" y="785"/>
                    </a:cubicBezTo>
                    <a:cubicBezTo>
                      <a:pt x="578" y="787"/>
                      <a:pt x="599" y="790"/>
                      <a:pt x="634" y="801"/>
                    </a:cubicBezTo>
                    <a:cubicBezTo>
                      <a:pt x="679" y="815"/>
                      <a:pt x="675" y="794"/>
                      <a:pt x="709" y="785"/>
                    </a:cubicBezTo>
                    <a:cubicBezTo>
                      <a:pt x="722" y="781"/>
                      <a:pt x="744" y="788"/>
                      <a:pt x="757" y="790"/>
                    </a:cubicBezTo>
                    <a:cubicBezTo>
                      <a:pt x="768" y="792"/>
                      <a:pt x="794" y="794"/>
                      <a:pt x="809" y="797"/>
                    </a:cubicBezTo>
                    <a:cubicBezTo>
                      <a:pt x="839" y="805"/>
                      <a:pt x="870" y="801"/>
                      <a:pt x="900" y="816"/>
                    </a:cubicBezTo>
                    <a:cubicBezTo>
                      <a:pt x="950" y="840"/>
                      <a:pt x="1000" y="823"/>
                      <a:pt x="1053" y="828"/>
                    </a:cubicBezTo>
                    <a:cubicBezTo>
                      <a:pt x="1091" y="831"/>
                      <a:pt x="1147" y="841"/>
                      <a:pt x="1178" y="824"/>
                    </a:cubicBezTo>
                    <a:cubicBezTo>
                      <a:pt x="1210" y="807"/>
                      <a:pt x="1209" y="845"/>
                      <a:pt x="1246" y="845"/>
                    </a:cubicBezTo>
                    <a:cubicBezTo>
                      <a:pt x="1314" y="845"/>
                      <a:pt x="1362" y="817"/>
                      <a:pt x="1430" y="817"/>
                    </a:cubicBezTo>
                    <a:cubicBezTo>
                      <a:pt x="1466" y="817"/>
                      <a:pt x="1492" y="819"/>
                      <a:pt x="1519" y="802"/>
                    </a:cubicBezTo>
                    <a:cubicBezTo>
                      <a:pt x="1533" y="792"/>
                      <a:pt x="1528" y="783"/>
                      <a:pt x="1546" y="777"/>
                    </a:cubicBezTo>
                    <a:cubicBezTo>
                      <a:pt x="1560" y="771"/>
                      <a:pt x="1586" y="777"/>
                      <a:pt x="1602" y="777"/>
                    </a:cubicBezTo>
                    <a:cubicBezTo>
                      <a:pt x="1671" y="777"/>
                      <a:pt x="1760" y="903"/>
                      <a:pt x="1824" y="884"/>
                    </a:cubicBezTo>
                    <a:cubicBezTo>
                      <a:pt x="1853" y="875"/>
                      <a:pt x="1874" y="854"/>
                      <a:pt x="1900" y="843"/>
                    </a:cubicBezTo>
                    <a:cubicBezTo>
                      <a:pt x="1914" y="838"/>
                      <a:pt x="1935" y="845"/>
                      <a:pt x="1948" y="839"/>
                    </a:cubicBezTo>
                    <a:cubicBezTo>
                      <a:pt x="1973" y="826"/>
                      <a:pt x="1956" y="825"/>
                      <a:pt x="1971" y="802"/>
                    </a:cubicBezTo>
                    <a:cubicBezTo>
                      <a:pt x="1985" y="781"/>
                      <a:pt x="2012" y="766"/>
                      <a:pt x="2029" y="752"/>
                    </a:cubicBezTo>
                    <a:cubicBezTo>
                      <a:pt x="2050" y="733"/>
                      <a:pt x="2063" y="712"/>
                      <a:pt x="2083" y="694"/>
                    </a:cubicBezTo>
                    <a:cubicBezTo>
                      <a:pt x="2132" y="647"/>
                      <a:pt x="2167" y="609"/>
                      <a:pt x="2144" y="535"/>
                    </a:cubicBezTo>
                    <a:cubicBezTo>
                      <a:pt x="2140" y="524"/>
                      <a:pt x="2127" y="517"/>
                      <a:pt x="2123" y="507"/>
                    </a:cubicBezTo>
                    <a:cubicBezTo>
                      <a:pt x="2118" y="490"/>
                      <a:pt x="2127" y="468"/>
                      <a:pt x="2124" y="451"/>
                    </a:cubicBezTo>
                    <a:cubicBezTo>
                      <a:pt x="2118" y="419"/>
                      <a:pt x="2104" y="407"/>
                      <a:pt x="2085" y="382"/>
                    </a:cubicBezTo>
                    <a:cubicBezTo>
                      <a:pt x="2069" y="361"/>
                      <a:pt x="2061" y="342"/>
                      <a:pt x="2047" y="320"/>
                    </a:cubicBezTo>
                    <a:cubicBezTo>
                      <a:pt x="2027" y="290"/>
                      <a:pt x="2005" y="295"/>
                      <a:pt x="1977" y="278"/>
                    </a:cubicBezTo>
                    <a:cubicBezTo>
                      <a:pt x="1950" y="261"/>
                      <a:pt x="1933" y="231"/>
                      <a:pt x="1904" y="215"/>
                    </a:cubicBezTo>
                    <a:cubicBezTo>
                      <a:pt x="1874" y="198"/>
                      <a:pt x="1838" y="208"/>
                      <a:pt x="1808" y="199"/>
                    </a:cubicBezTo>
                    <a:cubicBezTo>
                      <a:pt x="1783" y="191"/>
                      <a:pt x="1762" y="172"/>
                      <a:pt x="1736" y="167"/>
                    </a:cubicBezTo>
                    <a:cubicBezTo>
                      <a:pt x="1702" y="159"/>
                      <a:pt x="1669" y="168"/>
                      <a:pt x="1639" y="152"/>
                    </a:cubicBezTo>
                    <a:cubicBezTo>
                      <a:pt x="1624" y="144"/>
                      <a:pt x="1616" y="129"/>
                      <a:pt x="1600" y="122"/>
                    </a:cubicBezTo>
                    <a:cubicBezTo>
                      <a:pt x="1582" y="114"/>
                      <a:pt x="1564" y="121"/>
                      <a:pt x="1548" y="115"/>
                    </a:cubicBezTo>
                    <a:cubicBezTo>
                      <a:pt x="1524" y="106"/>
                      <a:pt x="1502" y="84"/>
                      <a:pt x="1477" y="74"/>
                    </a:cubicBezTo>
                    <a:cubicBezTo>
                      <a:pt x="1445" y="60"/>
                      <a:pt x="1426" y="49"/>
                      <a:pt x="1391" y="54"/>
                    </a:cubicBezTo>
                    <a:cubicBezTo>
                      <a:pt x="1362" y="57"/>
                      <a:pt x="1328" y="71"/>
                      <a:pt x="1296" y="63"/>
                    </a:cubicBezTo>
                    <a:cubicBezTo>
                      <a:pt x="1260" y="54"/>
                      <a:pt x="1252" y="38"/>
                      <a:pt x="1211" y="46"/>
                    </a:cubicBezTo>
                    <a:cubicBezTo>
                      <a:pt x="1173" y="53"/>
                      <a:pt x="1158" y="49"/>
                      <a:pt x="1121" y="38"/>
                    </a:cubicBezTo>
                    <a:cubicBezTo>
                      <a:pt x="1093" y="30"/>
                      <a:pt x="1058" y="15"/>
                      <a:pt x="1028" y="19"/>
                    </a:cubicBezTo>
                    <a:cubicBezTo>
                      <a:pt x="1000" y="22"/>
                      <a:pt x="962" y="47"/>
                      <a:pt x="940" y="15"/>
                    </a:cubicBezTo>
                    <a:lnTo>
                      <a:pt x="936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" name="Gruppieren 50"/>
            <p:cNvGrpSpPr/>
            <p:nvPr/>
          </p:nvGrpSpPr>
          <p:grpSpPr>
            <a:xfrm>
              <a:off x="6781680" y="5445360"/>
              <a:ext cx="379800" cy="476280"/>
              <a:chOff x="6781680" y="5445360"/>
              <a:chExt cx="379800" cy="476280"/>
            </a:xfrm>
          </p:grpSpPr>
          <p:sp>
            <p:nvSpPr>
              <p:cNvPr id="310" name="Freeform 6"/>
              <p:cNvSpPr/>
              <p:nvPr/>
            </p:nvSpPr>
            <p:spPr>
              <a:xfrm>
                <a:off x="6781680" y="5556600"/>
                <a:ext cx="121680" cy="33696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117" h="324">
                    <a:moveTo>
                      <a:pt x="110" y="324"/>
                    </a:moveTo>
                    <a:cubicBezTo>
                      <a:pt x="110" y="324"/>
                      <a:pt x="110" y="320"/>
                      <a:pt x="109" y="314"/>
                    </a:cubicBezTo>
                    <a:cubicBezTo>
                      <a:pt x="104" y="263"/>
                      <a:pt x="76" y="30"/>
                      <a:pt x="0" y="0"/>
                    </a:cubicBezTo>
                    <a:cubicBezTo>
                      <a:pt x="86" y="48"/>
                      <a:pt x="110" y="151"/>
                      <a:pt x="113" y="196"/>
                    </a:cubicBezTo>
                    <a:cubicBezTo>
                      <a:pt x="117" y="241"/>
                      <a:pt x="110" y="324"/>
                      <a:pt x="110" y="3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7"/>
              <p:cNvSpPr/>
              <p:nvPr/>
            </p:nvSpPr>
            <p:spPr>
              <a:xfrm>
                <a:off x="6853680" y="5445360"/>
                <a:ext cx="96480" cy="4586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93" h="441">
                    <a:moveTo>
                      <a:pt x="0" y="0"/>
                    </a:moveTo>
                    <a:cubicBezTo>
                      <a:pt x="0" y="0"/>
                      <a:pt x="89" y="307"/>
                      <a:pt x="44" y="441"/>
                    </a:cubicBezTo>
                    <a:cubicBezTo>
                      <a:pt x="93" y="296"/>
                      <a:pt x="93" y="165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8"/>
              <p:cNvSpPr/>
              <p:nvPr/>
            </p:nvSpPr>
            <p:spPr>
              <a:xfrm>
                <a:off x="6925320" y="5656680"/>
                <a:ext cx="84960" cy="23688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" y="228"/>
                    </a:moveTo>
                    <a:cubicBezTo>
                      <a:pt x="3" y="228"/>
                      <a:pt x="0" y="62"/>
                      <a:pt x="82" y="0"/>
                    </a:cubicBezTo>
                    <a:cubicBezTo>
                      <a:pt x="48" y="83"/>
                      <a:pt x="13" y="148"/>
                      <a:pt x="3" y="228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9"/>
              <p:cNvSpPr/>
              <p:nvPr/>
            </p:nvSpPr>
            <p:spPr>
              <a:xfrm>
                <a:off x="6921360" y="5602320"/>
                <a:ext cx="240120" cy="31932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231" h="307">
                    <a:moveTo>
                      <a:pt x="231" y="24"/>
                    </a:moveTo>
                    <a:cubicBezTo>
                      <a:pt x="42" y="0"/>
                      <a:pt x="0" y="307"/>
                      <a:pt x="7" y="283"/>
                    </a:cubicBezTo>
                    <a:cubicBezTo>
                      <a:pt x="66" y="90"/>
                      <a:pt x="231" y="24"/>
                      <a:pt x="231" y="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" name="Gruppieren 65"/>
            <p:cNvGrpSpPr/>
            <p:nvPr/>
          </p:nvGrpSpPr>
          <p:grpSpPr>
            <a:xfrm>
              <a:off x="7816680" y="5248800"/>
              <a:ext cx="549360" cy="799200"/>
              <a:chOff x="7816680" y="5248800"/>
              <a:chExt cx="549360" cy="799200"/>
            </a:xfrm>
          </p:grpSpPr>
          <p:sp>
            <p:nvSpPr>
              <p:cNvPr id="315" name="Freeform 6"/>
              <p:cNvSpPr/>
              <p:nvPr/>
            </p:nvSpPr>
            <p:spPr>
              <a:xfrm>
                <a:off x="7816680" y="5435280"/>
                <a:ext cx="176040" cy="56520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565200"/>
                  <a:gd name="textAreaBottom" fmla="*/ 565560 h 565200"/>
                </a:gdLst>
                <a:ahLst/>
                <a:rect l="textAreaLeft" t="textAreaTop" r="textAreaRight" b="textAreaBottom"/>
                <a:pathLst>
                  <a:path w="117" h="324">
                    <a:moveTo>
                      <a:pt x="110" y="324"/>
                    </a:moveTo>
                    <a:cubicBezTo>
                      <a:pt x="110" y="324"/>
                      <a:pt x="110" y="320"/>
                      <a:pt x="109" y="314"/>
                    </a:cubicBezTo>
                    <a:cubicBezTo>
                      <a:pt x="104" y="263"/>
                      <a:pt x="76" y="30"/>
                      <a:pt x="0" y="0"/>
                    </a:cubicBezTo>
                    <a:cubicBezTo>
                      <a:pt x="86" y="48"/>
                      <a:pt x="110" y="151"/>
                      <a:pt x="113" y="196"/>
                    </a:cubicBezTo>
                    <a:cubicBezTo>
                      <a:pt x="117" y="241"/>
                      <a:pt x="110" y="324"/>
                      <a:pt x="110" y="3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7"/>
              <p:cNvSpPr/>
              <p:nvPr/>
            </p:nvSpPr>
            <p:spPr>
              <a:xfrm>
                <a:off x="7920360" y="5248800"/>
                <a:ext cx="139680" cy="7689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768960"/>
                  <a:gd name="textAreaBottom" fmla="*/ 769320 h 768960"/>
                </a:gdLst>
                <a:ahLst/>
                <a:rect l="textAreaLeft" t="textAreaTop" r="textAreaRight" b="textAreaBottom"/>
                <a:pathLst>
                  <a:path w="93" h="441">
                    <a:moveTo>
                      <a:pt x="0" y="0"/>
                    </a:moveTo>
                    <a:cubicBezTo>
                      <a:pt x="0" y="0"/>
                      <a:pt x="89" y="307"/>
                      <a:pt x="44" y="441"/>
                    </a:cubicBezTo>
                    <a:cubicBezTo>
                      <a:pt x="93" y="296"/>
                      <a:pt x="93" y="165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8"/>
              <p:cNvSpPr/>
              <p:nvPr/>
            </p:nvSpPr>
            <p:spPr>
              <a:xfrm>
                <a:off x="8024400" y="5603040"/>
                <a:ext cx="123120" cy="3974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397440"/>
                  <a:gd name="textAreaBottom" fmla="*/ 397800 h 39744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" y="228"/>
                    </a:moveTo>
                    <a:cubicBezTo>
                      <a:pt x="3" y="228"/>
                      <a:pt x="0" y="62"/>
                      <a:pt x="82" y="0"/>
                    </a:cubicBezTo>
                    <a:cubicBezTo>
                      <a:pt x="48" y="83"/>
                      <a:pt x="13" y="148"/>
                      <a:pt x="3" y="228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9"/>
              <p:cNvSpPr/>
              <p:nvPr/>
            </p:nvSpPr>
            <p:spPr>
              <a:xfrm>
                <a:off x="8018640" y="5512320"/>
                <a:ext cx="347400" cy="53568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535680"/>
                  <a:gd name="textAreaBottom" fmla="*/ 536040 h 535680"/>
                </a:gdLst>
                <a:ahLst/>
                <a:rect l="textAreaLeft" t="textAreaTop" r="textAreaRight" b="textAreaBottom"/>
                <a:pathLst>
                  <a:path w="231" h="307">
                    <a:moveTo>
                      <a:pt x="231" y="24"/>
                    </a:moveTo>
                    <a:cubicBezTo>
                      <a:pt x="42" y="0"/>
                      <a:pt x="0" y="307"/>
                      <a:pt x="7" y="283"/>
                    </a:cubicBezTo>
                    <a:cubicBezTo>
                      <a:pt x="66" y="90"/>
                      <a:pt x="231" y="24"/>
                      <a:pt x="231" y="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9" name="Gruppieren 70"/>
            <p:cNvGrpSpPr/>
            <p:nvPr/>
          </p:nvGrpSpPr>
          <p:grpSpPr>
            <a:xfrm>
              <a:off x="7283880" y="5556240"/>
              <a:ext cx="314280" cy="456480"/>
              <a:chOff x="7283880" y="5556240"/>
              <a:chExt cx="314280" cy="456480"/>
            </a:xfrm>
          </p:grpSpPr>
          <p:sp>
            <p:nvSpPr>
              <p:cNvPr id="320" name="Freeform 6"/>
              <p:cNvSpPr/>
              <p:nvPr/>
            </p:nvSpPr>
            <p:spPr>
              <a:xfrm>
                <a:off x="7283880" y="5662800"/>
                <a:ext cx="100440" cy="322920"/>
              </a:xfrm>
              <a:custGeom>
                <a:avLst/>
                <a:gdLst>
                  <a:gd name="textAreaLeft" fmla="*/ 0 w 100440"/>
                  <a:gd name="textAreaRight" fmla="*/ 100800 w 10044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117" h="324">
                    <a:moveTo>
                      <a:pt x="110" y="324"/>
                    </a:moveTo>
                    <a:cubicBezTo>
                      <a:pt x="110" y="324"/>
                      <a:pt x="110" y="320"/>
                      <a:pt x="109" y="314"/>
                    </a:cubicBezTo>
                    <a:cubicBezTo>
                      <a:pt x="104" y="263"/>
                      <a:pt x="76" y="30"/>
                      <a:pt x="0" y="0"/>
                    </a:cubicBezTo>
                    <a:cubicBezTo>
                      <a:pt x="86" y="48"/>
                      <a:pt x="110" y="151"/>
                      <a:pt x="113" y="196"/>
                    </a:cubicBezTo>
                    <a:cubicBezTo>
                      <a:pt x="117" y="241"/>
                      <a:pt x="110" y="324"/>
                      <a:pt x="110" y="3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7343280" y="5556240"/>
                <a:ext cx="79920" cy="4395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439560"/>
                  <a:gd name="textAreaBottom" fmla="*/ 439920 h 439560"/>
                </a:gdLst>
                <a:ahLst/>
                <a:rect l="textAreaLeft" t="textAreaTop" r="textAreaRight" b="textAreaBottom"/>
                <a:pathLst>
                  <a:path w="93" h="441">
                    <a:moveTo>
                      <a:pt x="0" y="0"/>
                    </a:moveTo>
                    <a:cubicBezTo>
                      <a:pt x="0" y="0"/>
                      <a:pt x="89" y="307"/>
                      <a:pt x="44" y="441"/>
                    </a:cubicBezTo>
                    <a:cubicBezTo>
                      <a:pt x="93" y="296"/>
                      <a:pt x="93" y="165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402680" y="5758920"/>
                <a:ext cx="70200" cy="2271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" y="228"/>
                    </a:moveTo>
                    <a:cubicBezTo>
                      <a:pt x="3" y="228"/>
                      <a:pt x="0" y="62"/>
                      <a:pt x="82" y="0"/>
                    </a:cubicBezTo>
                    <a:cubicBezTo>
                      <a:pt x="48" y="83"/>
                      <a:pt x="13" y="148"/>
                      <a:pt x="3" y="228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7399440" y="5706720"/>
                <a:ext cx="198720" cy="3060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231" h="307">
                    <a:moveTo>
                      <a:pt x="231" y="24"/>
                    </a:moveTo>
                    <a:cubicBezTo>
                      <a:pt x="42" y="0"/>
                      <a:pt x="0" y="307"/>
                      <a:pt x="7" y="283"/>
                    </a:cubicBezTo>
                    <a:cubicBezTo>
                      <a:pt x="66" y="90"/>
                      <a:pt x="231" y="24"/>
                      <a:pt x="231" y="24"/>
                    </a:cubicBezTo>
                    <a:close/>
                  </a:path>
                </a:pathLst>
              </a:custGeom>
              <a:gradFill rotWithShape="0">
                <a:gsLst>
                  <a:gs pos="1000">
                    <a:srgbClr val="92d050"/>
                  </a:gs>
                  <a:gs pos="100000">
                    <a:srgbClr val="00b050"/>
                  </a:gs>
                </a:gsLst>
                <a:lin ang="16200000"/>
              </a:gradFill>
              <a:ln w="1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4" name="Bein hinten"/>
          <p:cNvGrpSpPr/>
          <p:nvPr/>
        </p:nvGrpSpPr>
        <p:grpSpPr>
          <a:xfrm>
            <a:off x="-2289240" y="4947840"/>
            <a:ext cx="459720" cy="690120"/>
            <a:chOff x="-2289240" y="4947840"/>
            <a:chExt cx="459720" cy="690120"/>
          </a:xfrm>
        </p:grpSpPr>
        <p:sp>
          <p:nvSpPr>
            <p:cNvPr id="325" name="Freeform 12"/>
            <p:cNvSpPr/>
            <p:nvPr/>
          </p:nvSpPr>
          <p:spPr>
            <a:xfrm rot="20572200">
              <a:off x="-2251080" y="5305680"/>
              <a:ext cx="271440" cy="298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94" h="104">
                  <a:moveTo>
                    <a:pt x="93" y="13"/>
                  </a:moveTo>
                  <a:cubicBezTo>
                    <a:pt x="94" y="13"/>
                    <a:pt x="86" y="22"/>
                    <a:pt x="68" y="41"/>
                  </a:cubicBezTo>
                  <a:cubicBezTo>
                    <a:pt x="33" y="79"/>
                    <a:pt x="9" y="104"/>
                    <a:pt x="9" y="104"/>
                  </a:cubicBezTo>
                  <a:cubicBezTo>
                    <a:pt x="9" y="104"/>
                    <a:pt x="0" y="97"/>
                    <a:pt x="14" y="76"/>
                  </a:cubicBezTo>
                  <a:cubicBezTo>
                    <a:pt x="24" y="64"/>
                    <a:pt x="31" y="56"/>
                    <a:pt x="54" y="30"/>
                  </a:cubicBezTo>
                  <a:cubicBezTo>
                    <a:pt x="79" y="0"/>
                    <a:pt x="81" y="3"/>
                    <a:pt x="81" y="3"/>
                  </a:cubicBezTo>
                  <a:cubicBezTo>
                    <a:pt x="87" y="8"/>
                    <a:pt x="92" y="13"/>
                    <a:pt x="93" y="13"/>
                  </a:cubicBezTo>
                  <a:close/>
                </a:path>
              </a:pathLst>
            </a:custGeom>
            <a:gradFill rotWithShape="0">
              <a:gsLst>
                <a:gs pos="0">
                  <a:srgbClr val="f9ae71"/>
                </a:gs>
                <a:gs pos="100000">
                  <a:srgbClr val="f9ad6f"/>
                </a:gs>
              </a:gsLst>
              <a:lin ang="178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3"/>
            <p:cNvSpPr/>
            <p:nvPr/>
          </p:nvSpPr>
          <p:spPr>
            <a:xfrm rot="20572200">
              <a:off x="-2138760" y="4980960"/>
              <a:ext cx="271440" cy="298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94" h="104">
                  <a:moveTo>
                    <a:pt x="1" y="91"/>
                  </a:moveTo>
                  <a:cubicBezTo>
                    <a:pt x="0" y="92"/>
                    <a:pt x="8" y="82"/>
                    <a:pt x="26" y="64"/>
                  </a:cubicBezTo>
                  <a:cubicBezTo>
                    <a:pt x="61" y="26"/>
                    <a:pt x="85" y="0"/>
                    <a:pt x="85" y="0"/>
                  </a:cubicBezTo>
                  <a:cubicBezTo>
                    <a:pt x="85" y="0"/>
                    <a:pt x="94" y="8"/>
                    <a:pt x="80" y="28"/>
                  </a:cubicBezTo>
                  <a:cubicBezTo>
                    <a:pt x="70" y="41"/>
                    <a:pt x="63" y="48"/>
                    <a:pt x="40" y="75"/>
                  </a:cubicBezTo>
                  <a:cubicBezTo>
                    <a:pt x="15" y="104"/>
                    <a:pt x="13" y="101"/>
                    <a:pt x="13" y="101"/>
                  </a:cubicBezTo>
                  <a:cubicBezTo>
                    <a:pt x="7" y="97"/>
                    <a:pt x="2" y="91"/>
                    <a:pt x="1" y="91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Arm Hinten"/>
          <p:cNvGrpSpPr/>
          <p:nvPr/>
        </p:nvGrpSpPr>
        <p:grpSpPr>
          <a:xfrm>
            <a:off x="-2211480" y="4809960"/>
            <a:ext cx="318600" cy="401040"/>
            <a:chOff x="-2211480" y="4809960"/>
            <a:chExt cx="318600" cy="401040"/>
          </a:xfrm>
        </p:grpSpPr>
        <p:sp>
          <p:nvSpPr>
            <p:cNvPr id="328" name="Freeform 12"/>
            <p:cNvSpPr/>
            <p:nvPr/>
          </p:nvSpPr>
          <p:spPr>
            <a:xfrm rot="21033600">
              <a:off x="-2196720" y="5007960"/>
              <a:ext cx="172800" cy="190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94" h="104">
                  <a:moveTo>
                    <a:pt x="93" y="13"/>
                  </a:moveTo>
                  <a:cubicBezTo>
                    <a:pt x="94" y="13"/>
                    <a:pt x="86" y="22"/>
                    <a:pt x="68" y="41"/>
                  </a:cubicBezTo>
                  <a:cubicBezTo>
                    <a:pt x="33" y="79"/>
                    <a:pt x="9" y="104"/>
                    <a:pt x="9" y="104"/>
                  </a:cubicBezTo>
                  <a:cubicBezTo>
                    <a:pt x="9" y="104"/>
                    <a:pt x="0" y="97"/>
                    <a:pt x="14" y="76"/>
                  </a:cubicBezTo>
                  <a:cubicBezTo>
                    <a:pt x="24" y="64"/>
                    <a:pt x="31" y="56"/>
                    <a:pt x="54" y="30"/>
                  </a:cubicBezTo>
                  <a:cubicBezTo>
                    <a:pt x="79" y="0"/>
                    <a:pt x="81" y="3"/>
                    <a:pt x="81" y="3"/>
                  </a:cubicBezTo>
                  <a:cubicBezTo>
                    <a:pt x="87" y="8"/>
                    <a:pt x="92" y="13"/>
                    <a:pt x="93" y="13"/>
                  </a:cubicBezTo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3"/>
            <p:cNvSpPr/>
            <p:nvPr/>
          </p:nvSpPr>
          <p:spPr>
            <a:xfrm rot="21033600">
              <a:off x="-2079720" y="4822920"/>
              <a:ext cx="172800" cy="190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94" h="104">
                  <a:moveTo>
                    <a:pt x="1" y="91"/>
                  </a:moveTo>
                  <a:cubicBezTo>
                    <a:pt x="0" y="92"/>
                    <a:pt x="8" y="82"/>
                    <a:pt x="26" y="64"/>
                  </a:cubicBezTo>
                  <a:cubicBezTo>
                    <a:pt x="61" y="26"/>
                    <a:pt x="85" y="0"/>
                    <a:pt x="85" y="0"/>
                  </a:cubicBezTo>
                  <a:cubicBezTo>
                    <a:pt x="85" y="0"/>
                    <a:pt x="94" y="8"/>
                    <a:pt x="80" y="28"/>
                  </a:cubicBezTo>
                  <a:cubicBezTo>
                    <a:pt x="70" y="41"/>
                    <a:pt x="63" y="48"/>
                    <a:pt x="40" y="75"/>
                  </a:cubicBezTo>
                  <a:cubicBezTo>
                    <a:pt x="15" y="104"/>
                    <a:pt x="13" y="101"/>
                    <a:pt x="13" y="101"/>
                  </a:cubicBezTo>
                  <a:cubicBezTo>
                    <a:pt x="7" y="97"/>
                    <a:pt x="2" y="91"/>
                    <a:pt x="1" y="91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Bein vorne"/>
          <p:cNvGrpSpPr/>
          <p:nvPr/>
        </p:nvGrpSpPr>
        <p:grpSpPr>
          <a:xfrm>
            <a:off x="-2252520" y="4948560"/>
            <a:ext cx="478080" cy="729720"/>
            <a:chOff x="-2252520" y="4948560"/>
            <a:chExt cx="478080" cy="729720"/>
          </a:xfrm>
        </p:grpSpPr>
        <p:sp>
          <p:nvSpPr>
            <p:cNvPr id="331" name="Freeform 12"/>
            <p:cNvSpPr/>
            <p:nvPr/>
          </p:nvSpPr>
          <p:spPr>
            <a:xfrm rot="18315000">
              <a:off x="-2110320" y="5331600"/>
              <a:ext cx="271440" cy="298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94" h="104">
                  <a:moveTo>
                    <a:pt x="93" y="13"/>
                  </a:moveTo>
                  <a:cubicBezTo>
                    <a:pt x="94" y="13"/>
                    <a:pt x="86" y="22"/>
                    <a:pt x="68" y="41"/>
                  </a:cubicBezTo>
                  <a:cubicBezTo>
                    <a:pt x="33" y="79"/>
                    <a:pt x="9" y="104"/>
                    <a:pt x="9" y="104"/>
                  </a:cubicBezTo>
                  <a:cubicBezTo>
                    <a:pt x="9" y="104"/>
                    <a:pt x="0" y="97"/>
                    <a:pt x="14" y="76"/>
                  </a:cubicBezTo>
                  <a:cubicBezTo>
                    <a:pt x="24" y="64"/>
                    <a:pt x="31" y="56"/>
                    <a:pt x="54" y="30"/>
                  </a:cubicBezTo>
                  <a:cubicBezTo>
                    <a:pt x="79" y="0"/>
                    <a:pt x="81" y="3"/>
                    <a:pt x="81" y="3"/>
                  </a:cubicBezTo>
                  <a:cubicBezTo>
                    <a:pt x="87" y="8"/>
                    <a:pt x="92" y="13"/>
                    <a:pt x="93" y="13"/>
                  </a:cubicBezTo>
                  <a:close/>
                </a:path>
              </a:pathLst>
            </a:custGeom>
            <a:gradFill rotWithShape="0">
              <a:gsLst>
                <a:gs pos="0">
                  <a:srgbClr val="fac090"/>
                </a:gs>
                <a:gs pos="50000">
                  <a:srgbClr val="fac090"/>
                </a:gs>
                <a:gs pos="100000">
                  <a:srgbClr val="fac090"/>
                </a:gs>
              </a:gsLst>
              <a:lin ang="178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3"/>
            <p:cNvSpPr/>
            <p:nvPr/>
          </p:nvSpPr>
          <p:spPr>
            <a:xfrm rot="18315000">
              <a:off x="-2187720" y="4996080"/>
              <a:ext cx="271440" cy="298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94" h="104">
                  <a:moveTo>
                    <a:pt x="1" y="91"/>
                  </a:moveTo>
                  <a:cubicBezTo>
                    <a:pt x="0" y="92"/>
                    <a:pt x="8" y="82"/>
                    <a:pt x="26" y="64"/>
                  </a:cubicBezTo>
                  <a:cubicBezTo>
                    <a:pt x="61" y="26"/>
                    <a:pt x="85" y="0"/>
                    <a:pt x="85" y="0"/>
                  </a:cubicBezTo>
                  <a:cubicBezTo>
                    <a:pt x="85" y="0"/>
                    <a:pt x="94" y="8"/>
                    <a:pt x="80" y="28"/>
                  </a:cubicBezTo>
                  <a:cubicBezTo>
                    <a:pt x="70" y="41"/>
                    <a:pt x="63" y="48"/>
                    <a:pt x="40" y="75"/>
                  </a:cubicBezTo>
                  <a:cubicBezTo>
                    <a:pt x="15" y="104"/>
                    <a:pt x="13" y="101"/>
                    <a:pt x="13" y="101"/>
                  </a:cubicBezTo>
                  <a:cubicBezTo>
                    <a:pt x="7" y="97"/>
                    <a:pt x="2" y="91"/>
                    <a:pt x="1" y="91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Gruppieren 1052"/>
          <p:cNvGrpSpPr/>
          <p:nvPr/>
        </p:nvGrpSpPr>
        <p:grpSpPr>
          <a:xfrm>
            <a:off x="-2445840" y="4577400"/>
            <a:ext cx="685080" cy="821880"/>
            <a:chOff x="-2445840" y="4577400"/>
            <a:chExt cx="685080" cy="821880"/>
          </a:xfrm>
        </p:grpSpPr>
        <p:sp>
          <p:nvSpPr>
            <p:cNvPr id="334" name="Rock"/>
            <p:cNvSpPr/>
            <p:nvPr/>
          </p:nvSpPr>
          <p:spPr>
            <a:xfrm rot="21282600">
              <a:off x="-2194920" y="5196240"/>
              <a:ext cx="280800" cy="1900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53" h="104">
                  <a:moveTo>
                    <a:pt x="136" y="80"/>
                  </a:moveTo>
                  <a:cubicBezTo>
                    <a:pt x="144" y="96"/>
                    <a:pt x="144" y="96"/>
                    <a:pt x="144" y="96"/>
                  </a:cubicBezTo>
                  <a:cubicBezTo>
                    <a:pt x="147" y="94"/>
                    <a:pt x="151" y="93"/>
                    <a:pt x="153" y="91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29" y="41"/>
                    <a:pt x="111" y="0"/>
                    <a:pt x="65" y="27"/>
                  </a:cubicBezTo>
                  <a:cubicBezTo>
                    <a:pt x="58" y="30"/>
                    <a:pt x="0" y="52"/>
                    <a:pt x="0" y="52"/>
                  </a:cubicBezTo>
                  <a:cubicBezTo>
                    <a:pt x="0" y="52"/>
                    <a:pt x="3" y="56"/>
                    <a:pt x="6" y="60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12" y="67"/>
                    <a:pt x="16" y="71"/>
                    <a:pt x="20" y="74"/>
                  </a:cubicBezTo>
                  <a:cubicBezTo>
                    <a:pt x="20" y="74"/>
                    <a:pt x="24" y="77"/>
                    <a:pt x="29" y="80"/>
                  </a:cubicBezTo>
                  <a:cubicBezTo>
                    <a:pt x="36" y="74"/>
                    <a:pt x="36" y="74"/>
                    <a:pt x="36" y="74"/>
                  </a:cubicBezTo>
                  <a:cubicBezTo>
                    <a:pt x="30" y="81"/>
                    <a:pt x="30" y="81"/>
                    <a:pt x="30" y="81"/>
                  </a:cubicBezTo>
                  <a:cubicBezTo>
                    <a:pt x="36" y="84"/>
                    <a:pt x="43" y="89"/>
                    <a:pt x="50" y="92"/>
                  </a:cubicBezTo>
                  <a:cubicBezTo>
                    <a:pt x="60" y="77"/>
                    <a:pt x="60" y="77"/>
                    <a:pt x="60" y="77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60" y="97"/>
                    <a:pt x="66" y="99"/>
                    <a:pt x="72" y="101"/>
                  </a:cubicBezTo>
                  <a:cubicBezTo>
                    <a:pt x="73" y="97"/>
                    <a:pt x="73" y="97"/>
                    <a:pt x="73" y="97"/>
                  </a:cubicBezTo>
                  <a:cubicBezTo>
                    <a:pt x="74" y="102"/>
                    <a:pt x="74" y="102"/>
                    <a:pt x="74" y="102"/>
                  </a:cubicBezTo>
                  <a:cubicBezTo>
                    <a:pt x="79" y="103"/>
                    <a:pt x="83" y="104"/>
                    <a:pt x="88" y="104"/>
                  </a:cubicBezTo>
                  <a:cubicBezTo>
                    <a:pt x="90" y="104"/>
                    <a:pt x="93" y="104"/>
                    <a:pt x="96" y="104"/>
                  </a:cubicBezTo>
                  <a:cubicBezTo>
                    <a:pt x="96" y="78"/>
                    <a:pt x="96" y="78"/>
                    <a:pt x="96" y="78"/>
                  </a:cubicBezTo>
                  <a:cubicBezTo>
                    <a:pt x="101" y="104"/>
                    <a:pt x="101" y="104"/>
                    <a:pt x="101" y="104"/>
                  </a:cubicBezTo>
                  <a:cubicBezTo>
                    <a:pt x="108" y="104"/>
                    <a:pt x="113" y="104"/>
                    <a:pt x="119" y="103"/>
                  </a:cubicBezTo>
                  <a:cubicBezTo>
                    <a:pt x="118" y="97"/>
                    <a:pt x="118" y="97"/>
                    <a:pt x="118" y="97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9" y="101"/>
                    <a:pt x="136" y="99"/>
                    <a:pt x="142" y="96"/>
                  </a:cubicBezTo>
                  <a:lnTo>
                    <a:pt x="136" y="80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5" name="Gruppieren 1051"/>
            <p:cNvGrpSpPr/>
            <p:nvPr/>
          </p:nvGrpSpPr>
          <p:grpSpPr>
            <a:xfrm>
              <a:off x="-2445840" y="4577400"/>
              <a:ext cx="685080" cy="713880"/>
              <a:chOff x="-2445840" y="4577400"/>
              <a:chExt cx="685080" cy="713880"/>
            </a:xfrm>
          </p:grpSpPr>
          <p:sp>
            <p:nvSpPr>
              <p:cNvPr id="336" name="Freeform 11"/>
              <p:cNvSpPr/>
              <p:nvPr/>
            </p:nvSpPr>
            <p:spPr>
              <a:xfrm>
                <a:off x="-2094840" y="4939200"/>
                <a:ext cx="137880" cy="3520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76" h="192">
                    <a:moveTo>
                      <a:pt x="23" y="8"/>
                    </a:moveTo>
                    <a:cubicBezTo>
                      <a:pt x="23" y="8"/>
                      <a:pt x="0" y="34"/>
                      <a:pt x="15" y="63"/>
                    </a:cubicBezTo>
                    <a:cubicBezTo>
                      <a:pt x="28" y="87"/>
                      <a:pt x="26" y="113"/>
                      <a:pt x="24" y="126"/>
                    </a:cubicBezTo>
                    <a:cubicBezTo>
                      <a:pt x="18" y="157"/>
                      <a:pt x="4" y="164"/>
                      <a:pt x="4" y="164"/>
                    </a:cubicBezTo>
                    <a:cubicBezTo>
                      <a:pt x="4" y="164"/>
                      <a:pt x="13" y="180"/>
                      <a:pt x="31" y="186"/>
                    </a:cubicBezTo>
                    <a:cubicBezTo>
                      <a:pt x="48" y="192"/>
                      <a:pt x="73" y="173"/>
                      <a:pt x="73" y="173"/>
                    </a:cubicBezTo>
                    <a:cubicBezTo>
                      <a:pt x="73" y="173"/>
                      <a:pt x="59" y="139"/>
                      <a:pt x="57" y="116"/>
                    </a:cubicBezTo>
                    <a:cubicBezTo>
                      <a:pt x="57" y="102"/>
                      <a:pt x="56" y="88"/>
                      <a:pt x="60" y="88"/>
                    </a:cubicBezTo>
                    <a:cubicBezTo>
                      <a:pt x="71" y="88"/>
                      <a:pt x="76" y="80"/>
                      <a:pt x="75" y="72"/>
                    </a:cubicBezTo>
                    <a:cubicBezTo>
                      <a:pt x="61" y="55"/>
                      <a:pt x="57" y="47"/>
                      <a:pt x="57" y="32"/>
                    </a:cubicBezTo>
                    <a:cubicBezTo>
                      <a:pt x="57" y="32"/>
                      <a:pt x="38" y="0"/>
                      <a:pt x="23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37" name="Kopf"/>
              <p:cNvGrpSpPr/>
              <p:nvPr/>
            </p:nvGrpSpPr>
            <p:grpSpPr>
              <a:xfrm>
                <a:off x="-2445840" y="4577400"/>
                <a:ext cx="685080" cy="474480"/>
                <a:chOff x="-2445840" y="4577400"/>
                <a:chExt cx="685080" cy="474480"/>
              </a:xfrm>
            </p:grpSpPr>
            <p:sp>
              <p:nvSpPr>
                <p:cNvPr id="338" name="Freeform 6"/>
                <p:cNvSpPr/>
                <p:nvPr/>
              </p:nvSpPr>
              <p:spPr>
                <a:xfrm rot="20946600">
                  <a:off x="-2100960" y="4698000"/>
                  <a:ext cx="256680" cy="315720"/>
                </a:xfrm>
                <a:custGeom>
                  <a:avLst/>
                  <a:gdLst>
                    <a:gd name="textAreaLeft" fmla="*/ 0 w 256680"/>
                    <a:gd name="textAreaRight" fmla="*/ 257040 w 25668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141" h="172">
                      <a:moveTo>
                        <a:pt x="128" y="100"/>
                      </a:moveTo>
                      <a:cubicBezTo>
                        <a:pt x="117" y="131"/>
                        <a:pt x="97" y="153"/>
                        <a:pt x="67" y="167"/>
                      </a:cubicBezTo>
                      <a:cubicBezTo>
                        <a:pt x="62" y="172"/>
                        <a:pt x="0" y="109"/>
                        <a:pt x="14" y="61"/>
                      </a:cubicBezTo>
                      <a:cubicBezTo>
                        <a:pt x="31" y="2"/>
                        <a:pt x="66" y="0"/>
                        <a:pt x="92" y="6"/>
                      </a:cubicBezTo>
                      <a:cubicBezTo>
                        <a:pt x="127" y="15"/>
                        <a:pt x="141" y="68"/>
                        <a:pt x="128" y="1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ac090"/>
                    </a:gs>
                    <a:gs pos="50000">
                      <a:srgbClr val="fac090"/>
                    </a:gs>
                    <a:gs pos="100000">
                      <a:srgbClr val="fac090"/>
                    </a:gs>
                  </a:gsLst>
                  <a:lin ang="74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de-DE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39" name="Gruppieren 1049"/>
                <p:cNvGrpSpPr/>
                <p:nvPr/>
              </p:nvGrpSpPr>
              <p:grpSpPr>
                <a:xfrm>
                  <a:off x="-2445840" y="4577400"/>
                  <a:ext cx="685080" cy="474480"/>
                  <a:chOff x="-2445840" y="4577400"/>
                  <a:chExt cx="685080" cy="474480"/>
                </a:xfrm>
              </p:grpSpPr>
              <p:sp>
                <p:nvSpPr>
                  <p:cNvPr id="340" name="Freeform 7"/>
                  <p:cNvSpPr/>
                  <p:nvPr/>
                </p:nvSpPr>
                <p:spPr>
                  <a:xfrm rot="20946600">
                    <a:off x="-2242800" y="4634640"/>
                    <a:ext cx="458280" cy="294840"/>
                  </a:xfrm>
                  <a:custGeom>
                    <a:avLst/>
                    <a:gdLst>
                      <a:gd name="textAreaLeft" fmla="*/ 0 w 458280"/>
                      <a:gd name="textAreaRight" fmla="*/ 458640 w 4582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250" h="161">
                        <a:moveTo>
                          <a:pt x="114" y="82"/>
                        </a:moveTo>
                        <a:cubicBezTo>
                          <a:pt x="114" y="82"/>
                          <a:pt x="214" y="119"/>
                          <a:pt x="215" y="161"/>
                        </a:cubicBezTo>
                        <a:cubicBezTo>
                          <a:pt x="215" y="161"/>
                          <a:pt x="250" y="0"/>
                          <a:pt x="125" y="13"/>
                        </a:cubicBezTo>
                        <a:cubicBezTo>
                          <a:pt x="0" y="26"/>
                          <a:pt x="114" y="82"/>
                          <a:pt x="114" y="8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c000"/>
                      </a:gs>
                    </a:gsLst>
                    <a:lin ang="1284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0" lang="de-DE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1" name="Freeform 8"/>
                  <p:cNvSpPr/>
                  <p:nvPr/>
                </p:nvSpPr>
                <p:spPr>
                  <a:xfrm rot="20946600">
                    <a:off x="-2231640" y="4685760"/>
                    <a:ext cx="279000" cy="34272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342720"/>
                      <a:gd name="textAreaBottom" fmla="*/ 343080 h 342720"/>
                    </a:gdLst>
                    <a:ahLst/>
                    <a:rect l="textAreaLeft" t="textAreaTop" r="textAreaRight" b="textAreaBottom"/>
                    <a:pathLst>
                      <a:path w="153" h="187">
                        <a:moveTo>
                          <a:pt x="0" y="152"/>
                        </a:moveTo>
                        <a:cubicBezTo>
                          <a:pt x="0" y="152"/>
                          <a:pt x="48" y="138"/>
                          <a:pt x="49" y="81"/>
                        </a:cubicBezTo>
                        <a:cubicBezTo>
                          <a:pt x="50" y="24"/>
                          <a:pt x="66" y="0"/>
                          <a:pt x="90" y="3"/>
                        </a:cubicBezTo>
                        <a:cubicBezTo>
                          <a:pt x="114" y="6"/>
                          <a:pt x="153" y="40"/>
                          <a:pt x="130" y="63"/>
                        </a:cubicBezTo>
                        <a:cubicBezTo>
                          <a:pt x="107" y="86"/>
                          <a:pt x="112" y="187"/>
                          <a:pt x="0" y="15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c900"/>
                      </a:gs>
                    </a:gsLst>
                    <a:lin ang="204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0" lang="de-DE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2" name="Freeform 9"/>
                  <p:cNvSpPr/>
                  <p:nvPr/>
                </p:nvSpPr>
                <p:spPr>
                  <a:xfrm rot="20946600">
                    <a:off x="-2164680" y="4678560"/>
                    <a:ext cx="56880" cy="6300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63000"/>
                      <a:gd name="textAreaBottom" fmla="*/ 63360 h 63000"/>
                    </a:gdLst>
                    <a:ahLst/>
                    <a:rect l="textAreaLeft" t="textAreaTop" r="textAreaRight" b="textAreaBottom"/>
                    <a:pathLst>
                      <a:path w="31" h="35">
                        <a:moveTo>
                          <a:pt x="21" y="22"/>
                        </a:moveTo>
                        <a:cubicBezTo>
                          <a:pt x="14" y="31"/>
                          <a:pt x="6" y="35"/>
                          <a:pt x="3" y="32"/>
                        </a:cubicBezTo>
                        <a:cubicBezTo>
                          <a:pt x="0" y="30"/>
                          <a:pt x="3" y="21"/>
                          <a:pt x="9" y="13"/>
                        </a:cubicBezTo>
                        <a:cubicBezTo>
                          <a:pt x="16" y="4"/>
                          <a:pt x="24" y="0"/>
                          <a:pt x="28" y="3"/>
                        </a:cubicBezTo>
                        <a:cubicBezTo>
                          <a:pt x="31" y="5"/>
                          <a:pt x="28" y="14"/>
                          <a:pt x="21" y="22"/>
                        </a:cubicBez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1680" bIns="31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0" lang="de-DE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3" name="Freeform 10"/>
                  <p:cNvSpPr/>
                  <p:nvPr/>
                </p:nvSpPr>
                <p:spPr>
                  <a:xfrm rot="20946600">
                    <a:off x="-2421720" y="4601520"/>
                    <a:ext cx="283680" cy="279000"/>
                  </a:xfrm>
                  <a:custGeom>
                    <a:avLst/>
                    <a:gdLst>
                      <a:gd name="textAreaLeft" fmla="*/ 0 w 283680"/>
                      <a:gd name="textAreaRight" fmla="*/ 283680 w 283680"/>
                      <a:gd name="textAreaTop" fmla="*/ 0 h 279000"/>
                      <a:gd name="textAreaBottom" fmla="*/ 279360 h 279000"/>
                    </a:gdLst>
                    <a:ahLst/>
                    <a:rect l="textAreaLeft" t="textAreaTop" r="textAreaRight" b="textAreaBottom"/>
                    <a:pathLst>
                      <a:path w="155" h="152">
                        <a:moveTo>
                          <a:pt x="155" y="66"/>
                        </a:moveTo>
                        <a:cubicBezTo>
                          <a:pt x="146" y="49"/>
                          <a:pt x="146" y="49"/>
                          <a:pt x="146" y="49"/>
                        </a:cubicBezTo>
                        <a:cubicBezTo>
                          <a:pt x="112" y="0"/>
                          <a:pt x="0" y="29"/>
                          <a:pt x="29" y="102"/>
                        </a:cubicBezTo>
                        <a:cubicBezTo>
                          <a:pt x="40" y="129"/>
                          <a:pt x="54" y="130"/>
                          <a:pt x="54" y="130"/>
                        </a:cubicBezTo>
                        <a:cubicBezTo>
                          <a:pt x="54" y="130"/>
                          <a:pt x="45" y="109"/>
                          <a:pt x="50" y="100"/>
                        </a:cubicBezTo>
                        <a:cubicBezTo>
                          <a:pt x="50" y="100"/>
                          <a:pt x="73" y="143"/>
                          <a:pt x="90" y="152"/>
                        </a:cubicBezTo>
                        <a:cubicBezTo>
                          <a:pt x="90" y="152"/>
                          <a:pt x="61" y="81"/>
                          <a:pt x="85" y="72"/>
                        </a:cubicBezTo>
                        <a:cubicBezTo>
                          <a:pt x="85" y="72"/>
                          <a:pt x="128" y="60"/>
                          <a:pt x="146" y="81"/>
                        </a:cubicBezTo>
                        <a:lnTo>
                          <a:pt x="155" y="6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900"/>
                      </a:gs>
                      <a:gs pos="100000">
                        <a:srgbClr val="ffc000"/>
                      </a:gs>
                    </a:gsLst>
                    <a:lin ang="744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0" lang="de-DE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344" name="Arm vorne"/>
          <p:cNvGrpSpPr/>
          <p:nvPr/>
        </p:nvGrpSpPr>
        <p:grpSpPr>
          <a:xfrm>
            <a:off x="-2203200" y="4802400"/>
            <a:ext cx="335520" cy="432360"/>
            <a:chOff x="-2203200" y="4802400"/>
            <a:chExt cx="335520" cy="432360"/>
          </a:xfrm>
        </p:grpSpPr>
        <p:sp>
          <p:nvSpPr>
            <p:cNvPr id="345" name="Freeform 12"/>
            <p:cNvSpPr/>
            <p:nvPr/>
          </p:nvSpPr>
          <p:spPr>
            <a:xfrm rot="17595000">
              <a:off x="-2075400" y="5022720"/>
              <a:ext cx="172800" cy="190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94" h="104">
                  <a:moveTo>
                    <a:pt x="93" y="13"/>
                  </a:moveTo>
                  <a:cubicBezTo>
                    <a:pt x="94" y="13"/>
                    <a:pt x="86" y="22"/>
                    <a:pt x="68" y="41"/>
                  </a:cubicBezTo>
                  <a:cubicBezTo>
                    <a:pt x="33" y="79"/>
                    <a:pt x="9" y="104"/>
                    <a:pt x="9" y="104"/>
                  </a:cubicBezTo>
                  <a:cubicBezTo>
                    <a:pt x="9" y="104"/>
                    <a:pt x="0" y="97"/>
                    <a:pt x="14" y="76"/>
                  </a:cubicBezTo>
                  <a:cubicBezTo>
                    <a:pt x="24" y="64"/>
                    <a:pt x="31" y="56"/>
                    <a:pt x="54" y="30"/>
                  </a:cubicBezTo>
                  <a:cubicBezTo>
                    <a:pt x="79" y="0"/>
                    <a:pt x="81" y="3"/>
                    <a:pt x="81" y="3"/>
                  </a:cubicBezTo>
                  <a:cubicBezTo>
                    <a:pt x="87" y="8"/>
                    <a:pt x="92" y="13"/>
                    <a:pt x="93" y="13"/>
                  </a:cubicBezTo>
                  <a:close/>
                </a:path>
              </a:pathLst>
            </a:custGeom>
            <a:gradFill rotWithShape="0">
              <a:gsLst>
                <a:gs pos="0">
                  <a:srgbClr val="fac090"/>
                </a:gs>
                <a:gs pos="50000">
                  <a:srgbClr val="fac090"/>
                </a:gs>
                <a:gs pos="100000">
                  <a:srgbClr val="fac090"/>
                </a:gs>
              </a:gsLst>
              <a:lin ang="40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 rot="17595000">
              <a:off x="-2167920" y="4824000"/>
              <a:ext cx="172800" cy="190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94" h="104">
                  <a:moveTo>
                    <a:pt x="1" y="91"/>
                  </a:moveTo>
                  <a:cubicBezTo>
                    <a:pt x="0" y="92"/>
                    <a:pt x="8" y="82"/>
                    <a:pt x="26" y="64"/>
                  </a:cubicBezTo>
                  <a:cubicBezTo>
                    <a:pt x="61" y="26"/>
                    <a:pt x="85" y="0"/>
                    <a:pt x="85" y="0"/>
                  </a:cubicBezTo>
                  <a:cubicBezTo>
                    <a:pt x="85" y="0"/>
                    <a:pt x="94" y="8"/>
                    <a:pt x="80" y="28"/>
                  </a:cubicBezTo>
                  <a:cubicBezTo>
                    <a:pt x="70" y="41"/>
                    <a:pt x="63" y="48"/>
                    <a:pt x="40" y="75"/>
                  </a:cubicBezTo>
                  <a:cubicBezTo>
                    <a:pt x="15" y="104"/>
                    <a:pt x="13" y="101"/>
                    <a:pt x="13" y="101"/>
                  </a:cubicBezTo>
                  <a:cubicBezTo>
                    <a:pt x="7" y="97"/>
                    <a:pt x="2" y="91"/>
                    <a:pt x="1" y="91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Gruppieren 99"/>
          <p:cNvGrpSpPr/>
          <p:nvPr/>
        </p:nvGrpSpPr>
        <p:grpSpPr>
          <a:xfrm>
            <a:off x="-2335680" y="3848400"/>
            <a:ext cx="1215360" cy="1255320"/>
            <a:chOff x="-2335680" y="3848400"/>
            <a:chExt cx="1215360" cy="1255320"/>
          </a:xfrm>
        </p:grpSpPr>
        <p:sp>
          <p:nvSpPr>
            <p:cNvPr id="348" name="Freeform 6"/>
            <p:cNvSpPr/>
            <p:nvPr/>
          </p:nvSpPr>
          <p:spPr>
            <a:xfrm>
              <a:off x="-2335680" y="3848400"/>
              <a:ext cx="1215360" cy="1255320"/>
            </a:xfrm>
            <a:custGeom>
              <a:avLst/>
              <a:gdLst>
                <a:gd name="textAreaLeft" fmla="*/ 0 w 1215360"/>
                <a:gd name="textAreaRight" fmla="*/ 1215720 w 1215360"/>
                <a:gd name="textAreaTop" fmla="*/ 0 h 1255320"/>
                <a:gd name="textAreaBottom" fmla="*/ 1255680 h 1255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4716" y="4194"/>
                  </a:moveTo>
                  <a:cubicBezTo>
                    <a:pt x="4716" y="4194"/>
                    <a:pt x="4804" y="3399"/>
                    <a:pt x="4218" y="3088"/>
                  </a:cubicBezTo>
                  <a:cubicBezTo>
                    <a:pt x="3661" y="2776"/>
                    <a:pt x="3105" y="2606"/>
                    <a:pt x="2929" y="1755"/>
                  </a:cubicBezTo>
                  <a:cubicBezTo>
                    <a:pt x="2753" y="904"/>
                    <a:pt x="2812" y="-174"/>
                    <a:pt x="2606" y="25"/>
                  </a:cubicBezTo>
                  <a:cubicBezTo>
                    <a:pt x="2373" y="223"/>
                    <a:pt x="2314" y="449"/>
                    <a:pt x="2373" y="875"/>
                  </a:cubicBezTo>
                  <a:cubicBezTo>
                    <a:pt x="2373" y="875"/>
                    <a:pt x="1991" y="648"/>
                    <a:pt x="2079" y="1300"/>
                  </a:cubicBezTo>
                  <a:cubicBezTo>
                    <a:pt x="2167" y="1840"/>
                    <a:pt x="2285" y="1925"/>
                    <a:pt x="2285" y="1925"/>
                  </a:cubicBezTo>
                  <a:cubicBezTo>
                    <a:pt x="2285" y="1925"/>
                    <a:pt x="1845" y="1215"/>
                    <a:pt x="1757" y="1811"/>
                  </a:cubicBezTo>
                  <a:cubicBezTo>
                    <a:pt x="1669" y="2350"/>
                    <a:pt x="1991" y="2889"/>
                    <a:pt x="2226" y="3059"/>
                  </a:cubicBezTo>
                  <a:cubicBezTo>
                    <a:pt x="2430" y="3229"/>
                    <a:pt x="1727" y="2861"/>
                    <a:pt x="1757" y="3144"/>
                  </a:cubicBezTo>
                  <a:cubicBezTo>
                    <a:pt x="1757" y="3399"/>
                    <a:pt x="2021" y="3939"/>
                    <a:pt x="2430" y="4051"/>
                  </a:cubicBezTo>
                  <a:cubicBezTo>
                    <a:pt x="2870" y="4165"/>
                    <a:pt x="1347" y="3768"/>
                    <a:pt x="2314" y="4477"/>
                  </a:cubicBezTo>
                  <a:cubicBezTo>
                    <a:pt x="2314" y="4477"/>
                    <a:pt x="2460" y="4562"/>
                    <a:pt x="3046" y="4647"/>
                  </a:cubicBezTo>
                  <a:cubicBezTo>
                    <a:pt x="3046" y="4647"/>
                    <a:pt x="2518" y="4960"/>
                    <a:pt x="3105" y="4988"/>
                  </a:cubicBezTo>
                  <a:cubicBezTo>
                    <a:pt x="3720" y="5016"/>
                    <a:pt x="3339" y="5073"/>
                    <a:pt x="3046" y="5130"/>
                  </a:cubicBezTo>
                  <a:cubicBezTo>
                    <a:pt x="2606" y="5186"/>
                    <a:pt x="2109" y="5640"/>
                    <a:pt x="2460" y="6320"/>
                  </a:cubicBezTo>
                  <a:cubicBezTo>
                    <a:pt x="2812" y="7001"/>
                    <a:pt x="3134" y="7541"/>
                    <a:pt x="2812" y="7342"/>
                  </a:cubicBezTo>
                  <a:cubicBezTo>
                    <a:pt x="2489" y="7143"/>
                    <a:pt x="2226" y="7058"/>
                    <a:pt x="2226" y="7058"/>
                  </a:cubicBezTo>
                  <a:cubicBezTo>
                    <a:pt x="2226" y="7058"/>
                    <a:pt x="2285" y="6463"/>
                    <a:pt x="2050" y="6406"/>
                  </a:cubicBezTo>
                  <a:cubicBezTo>
                    <a:pt x="1845" y="6378"/>
                    <a:pt x="1610" y="6519"/>
                    <a:pt x="1551" y="6519"/>
                  </a:cubicBezTo>
                  <a:cubicBezTo>
                    <a:pt x="1493" y="6519"/>
                    <a:pt x="1171" y="6320"/>
                    <a:pt x="1083" y="6320"/>
                  </a:cubicBezTo>
                  <a:cubicBezTo>
                    <a:pt x="966" y="6293"/>
                    <a:pt x="819" y="6264"/>
                    <a:pt x="790" y="6179"/>
                  </a:cubicBezTo>
                  <a:cubicBezTo>
                    <a:pt x="731" y="6123"/>
                    <a:pt x="410" y="6123"/>
                    <a:pt x="702" y="6378"/>
                  </a:cubicBezTo>
                  <a:cubicBezTo>
                    <a:pt x="966" y="6661"/>
                    <a:pt x="1406" y="7143"/>
                    <a:pt x="1581" y="7200"/>
                  </a:cubicBezTo>
                  <a:cubicBezTo>
                    <a:pt x="1786" y="7257"/>
                    <a:pt x="2373" y="7937"/>
                    <a:pt x="2401" y="7994"/>
                  </a:cubicBezTo>
                  <a:cubicBezTo>
                    <a:pt x="2430" y="8023"/>
                    <a:pt x="1933" y="8278"/>
                    <a:pt x="1757" y="8590"/>
                  </a:cubicBezTo>
                  <a:cubicBezTo>
                    <a:pt x="1757" y="8590"/>
                    <a:pt x="1581" y="8760"/>
                    <a:pt x="1493" y="8675"/>
                  </a:cubicBezTo>
                  <a:cubicBezTo>
                    <a:pt x="1434" y="8590"/>
                    <a:pt x="995" y="8477"/>
                    <a:pt x="907" y="8816"/>
                  </a:cubicBezTo>
                  <a:cubicBezTo>
                    <a:pt x="819" y="9157"/>
                    <a:pt x="585" y="9242"/>
                    <a:pt x="585" y="9242"/>
                  </a:cubicBezTo>
                  <a:cubicBezTo>
                    <a:pt x="585" y="9242"/>
                    <a:pt x="263" y="9384"/>
                    <a:pt x="204" y="9696"/>
                  </a:cubicBezTo>
                  <a:cubicBezTo>
                    <a:pt x="204" y="9696"/>
                    <a:pt x="-89" y="9895"/>
                    <a:pt x="28" y="9980"/>
                  </a:cubicBezTo>
                  <a:cubicBezTo>
                    <a:pt x="175" y="10065"/>
                    <a:pt x="410" y="9866"/>
                    <a:pt x="643" y="9810"/>
                  </a:cubicBezTo>
                  <a:cubicBezTo>
                    <a:pt x="878" y="9725"/>
                    <a:pt x="1522" y="9327"/>
                    <a:pt x="1522" y="9327"/>
                  </a:cubicBezTo>
                  <a:cubicBezTo>
                    <a:pt x="1522" y="9327"/>
                    <a:pt x="2636" y="9015"/>
                    <a:pt x="2841" y="8874"/>
                  </a:cubicBezTo>
                  <a:cubicBezTo>
                    <a:pt x="3046" y="8731"/>
                    <a:pt x="3105" y="8731"/>
                    <a:pt x="3368" y="8788"/>
                  </a:cubicBezTo>
                  <a:cubicBezTo>
                    <a:pt x="3632" y="8845"/>
                    <a:pt x="4306" y="8959"/>
                    <a:pt x="4364" y="8278"/>
                  </a:cubicBezTo>
                  <a:cubicBezTo>
                    <a:pt x="4423" y="7597"/>
                    <a:pt x="4393" y="7058"/>
                    <a:pt x="4393" y="7058"/>
                  </a:cubicBezTo>
                  <a:cubicBezTo>
                    <a:pt x="4393" y="7058"/>
                    <a:pt x="5477" y="6293"/>
                    <a:pt x="5595" y="5952"/>
                  </a:cubicBezTo>
                  <a:cubicBezTo>
                    <a:pt x="5595" y="5952"/>
                    <a:pt x="5741" y="5924"/>
                    <a:pt x="5800" y="6009"/>
                  </a:cubicBezTo>
                  <a:cubicBezTo>
                    <a:pt x="5859" y="6094"/>
                    <a:pt x="6240" y="6604"/>
                    <a:pt x="6532" y="6661"/>
                  </a:cubicBezTo>
                  <a:cubicBezTo>
                    <a:pt x="6826" y="6746"/>
                    <a:pt x="6972" y="6718"/>
                    <a:pt x="7235" y="6746"/>
                  </a:cubicBezTo>
                  <a:cubicBezTo>
                    <a:pt x="7470" y="6746"/>
                    <a:pt x="7734" y="6802"/>
                    <a:pt x="7822" y="6945"/>
                  </a:cubicBezTo>
                  <a:cubicBezTo>
                    <a:pt x="7910" y="7058"/>
                    <a:pt x="8027" y="7626"/>
                    <a:pt x="7235" y="8023"/>
                  </a:cubicBezTo>
                  <a:cubicBezTo>
                    <a:pt x="6474" y="8419"/>
                    <a:pt x="5068" y="8249"/>
                    <a:pt x="5068" y="8249"/>
                  </a:cubicBezTo>
                  <a:cubicBezTo>
                    <a:pt x="5068" y="8249"/>
                    <a:pt x="4452" y="8249"/>
                    <a:pt x="4569" y="8731"/>
                  </a:cubicBezTo>
                  <a:cubicBezTo>
                    <a:pt x="4745" y="9100"/>
                    <a:pt x="5185" y="8816"/>
                    <a:pt x="5156" y="8646"/>
                  </a:cubicBezTo>
                  <a:cubicBezTo>
                    <a:pt x="5156" y="8646"/>
                    <a:pt x="4745" y="8959"/>
                    <a:pt x="4716" y="8675"/>
                  </a:cubicBezTo>
                  <a:cubicBezTo>
                    <a:pt x="4657" y="8307"/>
                    <a:pt x="5126" y="8363"/>
                    <a:pt x="5360" y="8392"/>
                  </a:cubicBezTo>
                  <a:cubicBezTo>
                    <a:pt x="5595" y="8448"/>
                    <a:pt x="7528" y="9044"/>
                    <a:pt x="8027" y="8363"/>
                  </a:cubicBezTo>
                  <a:cubicBezTo>
                    <a:pt x="8495" y="7682"/>
                    <a:pt x="8231" y="7342"/>
                    <a:pt x="8231" y="7342"/>
                  </a:cubicBezTo>
                  <a:cubicBezTo>
                    <a:pt x="8231" y="7342"/>
                    <a:pt x="8407" y="7257"/>
                    <a:pt x="8495" y="7257"/>
                  </a:cubicBezTo>
                  <a:cubicBezTo>
                    <a:pt x="8554" y="7257"/>
                    <a:pt x="8906" y="6802"/>
                    <a:pt x="8906" y="6802"/>
                  </a:cubicBezTo>
                  <a:cubicBezTo>
                    <a:pt x="8886" y="6717"/>
                    <a:pt x="8867" y="6633"/>
                    <a:pt x="8847" y="6548"/>
                  </a:cubicBezTo>
                  <a:cubicBezTo>
                    <a:pt x="8847" y="6548"/>
                    <a:pt x="10253" y="6320"/>
                    <a:pt x="9961" y="5243"/>
                  </a:cubicBezTo>
                  <a:cubicBezTo>
                    <a:pt x="9667" y="4137"/>
                    <a:pt x="9257" y="3626"/>
                    <a:pt x="9315" y="2832"/>
                  </a:cubicBezTo>
                  <a:cubicBezTo>
                    <a:pt x="9345" y="2662"/>
                    <a:pt x="9755" y="2662"/>
                    <a:pt x="9667" y="3002"/>
                  </a:cubicBezTo>
                  <a:cubicBezTo>
                    <a:pt x="9638" y="3144"/>
                    <a:pt x="9462" y="3059"/>
                    <a:pt x="9462" y="3059"/>
                  </a:cubicBezTo>
                  <a:cubicBezTo>
                    <a:pt x="9462" y="3059"/>
                    <a:pt x="9755" y="3229"/>
                    <a:pt x="9814" y="2946"/>
                  </a:cubicBezTo>
                  <a:cubicBezTo>
                    <a:pt x="9902" y="2606"/>
                    <a:pt x="9462" y="2407"/>
                    <a:pt x="9170" y="2691"/>
                  </a:cubicBezTo>
                  <a:cubicBezTo>
                    <a:pt x="8906" y="2974"/>
                    <a:pt x="9491" y="4222"/>
                    <a:pt x="9374" y="4902"/>
                  </a:cubicBezTo>
                  <a:cubicBezTo>
                    <a:pt x="9227" y="5612"/>
                    <a:pt x="8789" y="6235"/>
                    <a:pt x="8554" y="6264"/>
                  </a:cubicBezTo>
                  <a:cubicBezTo>
                    <a:pt x="8319" y="6293"/>
                    <a:pt x="8174" y="6548"/>
                    <a:pt x="8086" y="6519"/>
                  </a:cubicBezTo>
                  <a:cubicBezTo>
                    <a:pt x="7968" y="6491"/>
                    <a:pt x="6796" y="6037"/>
                    <a:pt x="6767" y="5924"/>
                  </a:cubicBezTo>
                  <a:cubicBezTo>
                    <a:pt x="6767" y="5839"/>
                    <a:pt x="7031" y="5612"/>
                    <a:pt x="7119" y="5753"/>
                  </a:cubicBezTo>
                  <a:cubicBezTo>
                    <a:pt x="7207" y="5924"/>
                    <a:pt x="7528" y="5810"/>
                    <a:pt x="7675" y="5612"/>
                  </a:cubicBezTo>
                  <a:cubicBezTo>
                    <a:pt x="7822" y="5413"/>
                    <a:pt x="7792" y="4902"/>
                    <a:pt x="7704" y="4902"/>
                  </a:cubicBezTo>
                  <a:cubicBezTo>
                    <a:pt x="7587" y="4875"/>
                    <a:pt x="7177" y="4846"/>
                    <a:pt x="7031" y="4988"/>
                  </a:cubicBezTo>
                  <a:cubicBezTo>
                    <a:pt x="6855" y="5158"/>
                    <a:pt x="6474" y="5384"/>
                    <a:pt x="6386" y="5272"/>
                  </a:cubicBezTo>
                  <a:cubicBezTo>
                    <a:pt x="6268" y="5158"/>
                    <a:pt x="6268" y="4790"/>
                    <a:pt x="6093" y="4591"/>
                  </a:cubicBezTo>
                  <a:cubicBezTo>
                    <a:pt x="5888" y="4392"/>
                    <a:pt x="6119" y="4248"/>
                    <a:pt x="6240" y="4222"/>
                  </a:cubicBezTo>
                  <a:cubicBezTo>
                    <a:pt x="6361" y="4197"/>
                    <a:pt x="6608" y="4450"/>
                    <a:pt x="6818" y="4435"/>
                  </a:cubicBezTo>
                  <a:cubicBezTo>
                    <a:pt x="7028" y="4420"/>
                    <a:pt x="7238" y="4388"/>
                    <a:pt x="7502" y="4132"/>
                  </a:cubicBezTo>
                  <a:cubicBezTo>
                    <a:pt x="7599" y="4002"/>
                    <a:pt x="7822" y="3711"/>
                    <a:pt x="7616" y="3144"/>
                  </a:cubicBezTo>
                  <a:cubicBezTo>
                    <a:pt x="7558" y="3031"/>
                    <a:pt x="7822" y="3031"/>
                    <a:pt x="7822" y="3229"/>
                  </a:cubicBezTo>
                  <a:cubicBezTo>
                    <a:pt x="7822" y="3229"/>
                    <a:pt x="8027" y="2718"/>
                    <a:pt x="8086" y="2946"/>
                  </a:cubicBezTo>
                  <a:cubicBezTo>
                    <a:pt x="8144" y="3173"/>
                    <a:pt x="8144" y="3343"/>
                    <a:pt x="8144" y="3343"/>
                  </a:cubicBezTo>
                  <a:cubicBezTo>
                    <a:pt x="8144" y="3343"/>
                    <a:pt x="8877" y="3116"/>
                    <a:pt x="8174" y="2606"/>
                  </a:cubicBezTo>
                  <a:cubicBezTo>
                    <a:pt x="8174" y="2606"/>
                    <a:pt x="8115" y="2463"/>
                    <a:pt x="8174" y="2350"/>
                  </a:cubicBezTo>
                  <a:cubicBezTo>
                    <a:pt x="8231" y="2237"/>
                    <a:pt x="8261" y="1954"/>
                    <a:pt x="7910" y="1954"/>
                  </a:cubicBezTo>
                  <a:cubicBezTo>
                    <a:pt x="7528" y="1981"/>
                    <a:pt x="7734" y="1783"/>
                    <a:pt x="7704" y="1698"/>
                  </a:cubicBezTo>
                  <a:cubicBezTo>
                    <a:pt x="7646" y="1613"/>
                    <a:pt x="7499" y="1613"/>
                    <a:pt x="7440" y="1641"/>
                  </a:cubicBezTo>
                  <a:cubicBezTo>
                    <a:pt x="7382" y="1641"/>
                    <a:pt x="6738" y="705"/>
                    <a:pt x="6005" y="1414"/>
                  </a:cubicBezTo>
                  <a:cubicBezTo>
                    <a:pt x="6005" y="1414"/>
                    <a:pt x="5947" y="1159"/>
                    <a:pt x="6093" y="1130"/>
                  </a:cubicBezTo>
                  <a:cubicBezTo>
                    <a:pt x="6093" y="1130"/>
                    <a:pt x="5741" y="1188"/>
                    <a:pt x="5859" y="1386"/>
                  </a:cubicBezTo>
                  <a:lnTo>
                    <a:pt x="5683" y="1471"/>
                  </a:lnTo>
                  <a:cubicBezTo>
                    <a:pt x="5683" y="1471"/>
                    <a:pt x="5947" y="1641"/>
                    <a:pt x="5771" y="1641"/>
                  </a:cubicBezTo>
                  <a:cubicBezTo>
                    <a:pt x="5595" y="1670"/>
                    <a:pt x="4775" y="1925"/>
                    <a:pt x="5039" y="2293"/>
                  </a:cubicBezTo>
                  <a:cubicBezTo>
                    <a:pt x="5301" y="2633"/>
                    <a:pt x="4921" y="2521"/>
                    <a:pt x="4921" y="2521"/>
                  </a:cubicBezTo>
                  <a:cubicBezTo>
                    <a:pt x="4921" y="2521"/>
                    <a:pt x="4599" y="2946"/>
                    <a:pt x="4921" y="2946"/>
                  </a:cubicBezTo>
                  <a:cubicBezTo>
                    <a:pt x="4921" y="2946"/>
                    <a:pt x="5009" y="3088"/>
                    <a:pt x="4804" y="3088"/>
                  </a:cubicBezTo>
                  <a:cubicBezTo>
                    <a:pt x="4569" y="3116"/>
                    <a:pt x="4540" y="3258"/>
                    <a:pt x="4628" y="3428"/>
                  </a:cubicBezTo>
                  <a:cubicBezTo>
                    <a:pt x="4716" y="3570"/>
                    <a:pt x="4892" y="3683"/>
                    <a:pt x="4921" y="3825"/>
                  </a:cubicBezTo>
                  <a:cubicBezTo>
                    <a:pt x="4980" y="3995"/>
                    <a:pt x="5009" y="4137"/>
                    <a:pt x="4951" y="4137"/>
                  </a:cubicBezTo>
                  <a:cubicBezTo>
                    <a:pt x="4892" y="4165"/>
                    <a:pt x="4716" y="4194"/>
                    <a:pt x="4716" y="4194"/>
                  </a:cubicBezTo>
                  <a:close/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7"/>
            <p:cNvSpPr/>
            <p:nvPr/>
          </p:nvSpPr>
          <p:spPr>
            <a:xfrm>
              <a:off x="-1719720" y="4268160"/>
              <a:ext cx="495000" cy="61560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139" h="173">
                  <a:moveTo>
                    <a:pt x="139" y="0"/>
                  </a:moveTo>
                  <a:cubicBezTo>
                    <a:pt x="139" y="0"/>
                    <a:pt x="68" y="59"/>
                    <a:pt x="0" y="173"/>
                  </a:cubicBezTo>
                </a:path>
              </a:pathLst>
            </a:custGeom>
            <a:solidFill>
              <a:srgbClr val="ff5050"/>
            </a:solidFill>
            <a:ln w="21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Gruppieren 104"/>
          <p:cNvGrpSpPr/>
          <p:nvPr/>
        </p:nvGrpSpPr>
        <p:grpSpPr>
          <a:xfrm>
            <a:off x="4322520" y="5860080"/>
            <a:ext cx="431280" cy="541800"/>
            <a:chOff x="4322520" y="5860080"/>
            <a:chExt cx="431280" cy="541800"/>
          </a:xfrm>
        </p:grpSpPr>
        <p:sp>
          <p:nvSpPr>
            <p:cNvPr id="351" name="Freeform 6"/>
            <p:cNvSpPr/>
            <p:nvPr/>
          </p:nvSpPr>
          <p:spPr>
            <a:xfrm>
              <a:off x="4322520" y="5986800"/>
              <a:ext cx="138240" cy="3830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117" h="324">
                  <a:moveTo>
                    <a:pt x="110" y="324"/>
                  </a:moveTo>
                  <a:cubicBezTo>
                    <a:pt x="110" y="324"/>
                    <a:pt x="110" y="320"/>
                    <a:pt x="109" y="314"/>
                  </a:cubicBezTo>
                  <a:cubicBezTo>
                    <a:pt x="104" y="263"/>
                    <a:pt x="76" y="30"/>
                    <a:pt x="0" y="0"/>
                  </a:cubicBezTo>
                  <a:cubicBezTo>
                    <a:pt x="86" y="48"/>
                    <a:pt x="110" y="151"/>
                    <a:pt x="113" y="196"/>
                  </a:cubicBezTo>
                  <a:cubicBezTo>
                    <a:pt x="117" y="241"/>
                    <a:pt x="110" y="324"/>
                    <a:pt x="110" y="3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7"/>
            <p:cNvSpPr/>
            <p:nvPr/>
          </p:nvSpPr>
          <p:spPr>
            <a:xfrm>
              <a:off x="4403880" y="5860080"/>
              <a:ext cx="109800" cy="5212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93" h="441">
                  <a:moveTo>
                    <a:pt x="0" y="0"/>
                  </a:moveTo>
                  <a:cubicBezTo>
                    <a:pt x="0" y="0"/>
                    <a:pt x="89" y="307"/>
                    <a:pt x="44" y="441"/>
                  </a:cubicBezTo>
                  <a:cubicBezTo>
                    <a:pt x="93" y="296"/>
                    <a:pt x="93" y="16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8"/>
            <p:cNvSpPr/>
            <p:nvPr/>
          </p:nvSpPr>
          <p:spPr>
            <a:xfrm>
              <a:off x="4485600" y="6100560"/>
              <a:ext cx="96840" cy="2696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82" h="228">
                  <a:moveTo>
                    <a:pt x="3" y="228"/>
                  </a:moveTo>
                  <a:cubicBezTo>
                    <a:pt x="3" y="228"/>
                    <a:pt x="0" y="62"/>
                    <a:pt x="82" y="0"/>
                  </a:cubicBezTo>
                  <a:cubicBezTo>
                    <a:pt x="48" y="83"/>
                    <a:pt x="13" y="148"/>
                    <a:pt x="3" y="228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9"/>
            <p:cNvSpPr/>
            <p:nvPr/>
          </p:nvSpPr>
          <p:spPr>
            <a:xfrm>
              <a:off x="4480920" y="6038640"/>
              <a:ext cx="272880" cy="3632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31" h="307">
                  <a:moveTo>
                    <a:pt x="231" y="24"/>
                  </a:moveTo>
                  <a:cubicBezTo>
                    <a:pt x="42" y="0"/>
                    <a:pt x="0" y="307"/>
                    <a:pt x="7" y="283"/>
                  </a:cubicBezTo>
                  <a:cubicBezTo>
                    <a:pt x="66" y="90"/>
                    <a:pt x="231" y="24"/>
                    <a:pt x="231" y="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Gruppieren 109"/>
          <p:cNvGrpSpPr/>
          <p:nvPr/>
        </p:nvGrpSpPr>
        <p:grpSpPr>
          <a:xfrm>
            <a:off x="5950440" y="5996160"/>
            <a:ext cx="1007640" cy="1264680"/>
            <a:chOff x="5950440" y="5996160"/>
            <a:chExt cx="1007640" cy="1264680"/>
          </a:xfrm>
        </p:grpSpPr>
        <p:sp>
          <p:nvSpPr>
            <p:cNvPr id="356" name="Freeform 6"/>
            <p:cNvSpPr/>
            <p:nvPr/>
          </p:nvSpPr>
          <p:spPr>
            <a:xfrm>
              <a:off x="5950440" y="6291720"/>
              <a:ext cx="323280" cy="89460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894600"/>
                <a:gd name="textAreaBottom" fmla="*/ 894960 h 894600"/>
              </a:gdLst>
              <a:ahLst/>
              <a:rect l="textAreaLeft" t="textAreaTop" r="textAreaRight" b="textAreaBottom"/>
              <a:pathLst>
                <a:path w="117" h="324">
                  <a:moveTo>
                    <a:pt x="110" y="324"/>
                  </a:moveTo>
                  <a:cubicBezTo>
                    <a:pt x="110" y="324"/>
                    <a:pt x="110" y="320"/>
                    <a:pt x="109" y="314"/>
                  </a:cubicBezTo>
                  <a:cubicBezTo>
                    <a:pt x="104" y="263"/>
                    <a:pt x="76" y="30"/>
                    <a:pt x="0" y="0"/>
                  </a:cubicBezTo>
                  <a:cubicBezTo>
                    <a:pt x="86" y="48"/>
                    <a:pt x="110" y="151"/>
                    <a:pt x="113" y="196"/>
                  </a:cubicBezTo>
                  <a:cubicBezTo>
                    <a:pt x="117" y="241"/>
                    <a:pt x="110" y="324"/>
                    <a:pt x="110" y="3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6140880" y="5996160"/>
              <a:ext cx="256680" cy="121680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216800"/>
                <a:gd name="textAreaBottom" fmla="*/ 1217160 h 1216800"/>
              </a:gdLst>
              <a:ahLst/>
              <a:rect l="textAreaLeft" t="textAreaTop" r="textAreaRight" b="textAreaBottom"/>
              <a:pathLst>
                <a:path w="93" h="441">
                  <a:moveTo>
                    <a:pt x="0" y="0"/>
                  </a:moveTo>
                  <a:cubicBezTo>
                    <a:pt x="0" y="0"/>
                    <a:pt x="89" y="307"/>
                    <a:pt x="44" y="441"/>
                  </a:cubicBezTo>
                  <a:cubicBezTo>
                    <a:pt x="93" y="296"/>
                    <a:pt x="93" y="16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>
              <a:off x="6331320" y="6556680"/>
              <a:ext cx="226440" cy="62928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82" h="228">
                  <a:moveTo>
                    <a:pt x="3" y="228"/>
                  </a:moveTo>
                  <a:cubicBezTo>
                    <a:pt x="3" y="228"/>
                    <a:pt x="0" y="62"/>
                    <a:pt x="82" y="0"/>
                  </a:cubicBezTo>
                  <a:cubicBezTo>
                    <a:pt x="48" y="83"/>
                    <a:pt x="13" y="148"/>
                    <a:pt x="3" y="228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>
              <a:off x="6320520" y="6413040"/>
              <a:ext cx="637560" cy="847800"/>
            </a:xfrm>
            <a:custGeom>
              <a:avLst/>
              <a:gdLst>
                <a:gd name="textAreaLeft" fmla="*/ 0 w 637560"/>
                <a:gd name="textAreaRight" fmla="*/ 637920 w 63756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231" h="307">
                  <a:moveTo>
                    <a:pt x="231" y="24"/>
                  </a:moveTo>
                  <a:cubicBezTo>
                    <a:pt x="42" y="0"/>
                    <a:pt x="0" y="307"/>
                    <a:pt x="7" y="283"/>
                  </a:cubicBezTo>
                  <a:cubicBezTo>
                    <a:pt x="66" y="90"/>
                    <a:pt x="231" y="24"/>
                    <a:pt x="231" y="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162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37"/>
          <p:cNvGrpSpPr/>
          <p:nvPr/>
        </p:nvGrpSpPr>
        <p:grpSpPr>
          <a:xfrm>
            <a:off x="1503720" y="5440680"/>
            <a:ext cx="685800" cy="685800"/>
            <a:chOff x="1503720" y="5440680"/>
            <a:chExt cx="685800" cy="685800"/>
          </a:xfrm>
        </p:grpSpPr>
        <p:cxnSp>
          <p:nvCxnSpPr>
            <p:cNvPr id="361" name="Gerade Verbindung 139"/>
            <p:cNvCxnSpPr/>
            <p:nvPr/>
          </p:nvCxnSpPr>
          <p:spPr>
            <a:xfrm flipH="1" flipV="1">
              <a:off x="1719720" y="5656680"/>
              <a:ext cx="470160" cy="470160"/>
            </a:xfrm>
            <a:prstGeom prst="straightConnector1">
              <a:avLst/>
            </a:prstGeom>
            <a:ln w="12700">
              <a:solidFill>
                <a:srgbClr val="ff9966"/>
              </a:solidFill>
              <a:round/>
            </a:ln>
          </p:spPr>
        </p:cxnSp>
        <p:grpSp>
          <p:nvGrpSpPr>
            <p:cNvPr id="362" name="Gruppieren 140"/>
            <p:cNvGrpSpPr/>
            <p:nvPr/>
          </p:nvGrpSpPr>
          <p:grpSpPr>
            <a:xfrm>
              <a:off x="1503720" y="5440680"/>
              <a:ext cx="296640" cy="296640"/>
              <a:chOff x="1503720" y="5440680"/>
              <a:chExt cx="296640" cy="296640"/>
            </a:xfrm>
          </p:grpSpPr>
          <p:sp>
            <p:nvSpPr>
              <p:cNvPr id="363" name="Gleichschenkliges Dreieck 141"/>
              <p:cNvSpPr/>
              <p:nvPr/>
            </p:nvSpPr>
            <p:spPr>
              <a:xfrm rot="8100000">
                <a:off x="1644120" y="5562000"/>
                <a:ext cx="118440" cy="1558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4" name="Rechteck 142"/>
              <p:cNvSpPr/>
              <p:nvPr/>
            </p:nvSpPr>
            <p:spPr>
              <a:xfrm rot="18900000">
                <a:off x="1537200" y="5461200"/>
                <a:ext cx="118440" cy="144360"/>
              </a:xfrm>
              <a:prstGeom prst="rect">
                <a:avLst/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65" name="Gruppieren 114"/>
          <p:cNvGrpSpPr/>
          <p:nvPr/>
        </p:nvGrpSpPr>
        <p:grpSpPr>
          <a:xfrm>
            <a:off x="2630880" y="5462640"/>
            <a:ext cx="638280" cy="621000"/>
            <a:chOff x="2630880" y="5462640"/>
            <a:chExt cx="638280" cy="621000"/>
          </a:xfrm>
        </p:grpSpPr>
        <p:sp>
          <p:nvSpPr>
            <p:cNvPr id="366" name="Freeform 6"/>
            <p:cNvSpPr/>
            <p:nvPr/>
          </p:nvSpPr>
          <p:spPr>
            <a:xfrm flipV="1" rot="11690400">
              <a:off x="3044520" y="5632560"/>
              <a:ext cx="171360" cy="4359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-360 h 435960"/>
                <a:gd name="textAreaBottom" fmla="*/ 435960 h 435960"/>
              </a:gdLst>
              <a:ahLst/>
              <a:rect l="textAreaLeft" t="textAreaTop" r="textAreaRight" b="textAreaBottom"/>
              <a:pathLst>
                <a:path w="117" h="324">
                  <a:moveTo>
                    <a:pt x="110" y="324"/>
                  </a:moveTo>
                  <a:cubicBezTo>
                    <a:pt x="110" y="324"/>
                    <a:pt x="110" y="320"/>
                    <a:pt x="109" y="314"/>
                  </a:cubicBezTo>
                  <a:cubicBezTo>
                    <a:pt x="104" y="263"/>
                    <a:pt x="76" y="30"/>
                    <a:pt x="0" y="0"/>
                  </a:cubicBezTo>
                  <a:cubicBezTo>
                    <a:pt x="86" y="48"/>
                    <a:pt x="110" y="151"/>
                    <a:pt x="113" y="196"/>
                  </a:cubicBezTo>
                  <a:cubicBezTo>
                    <a:pt x="117" y="241"/>
                    <a:pt x="110" y="324"/>
                    <a:pt x="110" y="3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7"/>
            <p:cNvSpPr/>
            <p:nvPr/>
          </p:nvSpPr>
          <p:spPr>
            <a:xfrm flipV="1" rot="11690400">
              <a:off x="2998080" y="5470200"/>
              <a:ext cx="136080" cy="59328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360 h 593280"/>
                <a:gd name="textAreaBottom" fmla="*/ 594000 h 593280"/>
              </a:gdLst>
              <a:ahLst/>
              <a:rect l="textAreaLeft" t="textAreaTop" r="textAreaRight" b="textAreaBottom"/>
              <a:pathLst>
                <a:path w="93" h="441">
                  <a:moveTo>
                    <a:pt x="0" y="0"/>
                  </a:moveTo>
                  <a:cubicBezTo>
                    <a:pt x="0" y="0"/>
                    <a:pt x="89" y="307"/>
                    <a:pt x="44" y="441"/>
                  </a:cubicBezTo>
                  <a:cubicBezTo>
                    <a:pt x="93" y="296"/>
                    <a:pt x="93" y="16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8"/>
            <p:cNvSpPr/>
            <p:nvPr/>
          </p:nvSpPr>
          <p:spPr>
            <a:xfrm flipV="1" rot="11690400">
              <a:off x="2883240" y="5714640"/>
              <a:ext cx="119880" cy="3063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-36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82" h="228">
                  <a:moveTo>
                    <a:pt x="3" y="228"/>
                  </a:moveTo>
                  <a:cubicBezTo>
                    <a:pt x="3" y="228"/>
                    <a:pt x="0" y="62"/>
                    <a:pt x="82" y="0"/>
                  </a:cubicBezTo>
                  <a:cubicBezTo>
                    <a:pt x="48" y="83"/>
                    <a:pt x="13" y="148"/>
                    <a:pt x="3" y="228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9"/>
            <p:cNvSpPr/>
            <p:nvPr/>
          </p:nvSpPr>
          <p:spPr>
            <a:xfrm flipV="1" rot="11690400">
              <a:off x="2678040" y="5618160"/>
              <a:ext cx="338400" cy="41328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360 h 413280"/>
                <a:gd name="textAreaBottom" fmla="*/ 414000 h 413280"/>
              </a:gdLst>
              <a:ahLst/>
              <a:rect l="textAreaLeft" t="textAreaTop" r="textAreaRight" b="textAreaBottom"/>
              <a:pathLst>
                <a:path w="231" h="307">
                  <a:moveTo>
                    <a:pt x="231" y="24"/>
                  </a:moveTo>
                  <a:cubicBezTo>
                    <a:pt x="42" y="0"/>
                    <a:pt x="0" y="307"/>
                    <a:pt x="7" y="283"/>
                  </a:cubicBezTo>
                  <a:cubicBezTo>
                    <a:pt x="66" y="90"/>
                    <a:pt x="231" y="24"/>
                    <a:pt x="231" y="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Gruppieren 119"/>
          <p:cNvGrpSpPr/>
          <p:nvPr/>
        </p:nvGrpSpPr>
        <p:grpSpPr>
          <a:xfrm>
            <a:off x="4468680" y="6042240"/>
            <a:ext cx="382680" cy="395280"/>
            <a:chOff x="4468680" y="6042240"/>
            <a:chExt cx="382680" cy="395280"/>
          </a:xfrm>
        </p:grpSpPr>
        <p:sp>
          <p:nvSpPr>
            <p:cNvPr id="371" name="Freeform 6"/>
            <p:cNvSpPr/>
            <p:nvPr/>
          </p:nvSpPr>
          <p:spPr>
            <a:xfrm flipV="1" rot="12259200">
              <a:off x="4706640" y="6147360"/>
              <a:ext cx="90000" cy="28368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360 h 283680"/>
                <a:gd name="textAreaBottom" fmla="*/ 284400 h 283680"/>
              </a:gdLst>
              <a:ahLst/>
              <a:rect l="textAreaLeft" t="textAreaTop" r="textAreaRight" b="textAreaBottom"/>
              <a:pathLst>
                <a:path w="117" h="324">
                  <a:moveTo>
                    <a:pt x="110" y="324"/>
                  </a:moveTo>
                  <a:cubicBezTo>
                    <a:pt x="110" y="324"/>
                    <a:pt x="110" y="320"/>
                    <a:pt x="109" y="314"/>
                  </a:cubicBezTo>
                  <a:cubicBezTo>
                    <a:pt x="104" y="263"/>
                    <a:pt x="76" y="30"/>
                    <a:pt x="0" y="0"/>
                  </a:cubicBezTo>
                  <a:cubicBezTo>
                    <a:pt x="86" y="48"/>
                    <a:pt x="110" y="151"/>
                    <a:pt x="113" y="196"/>
                  </a:cubicBezTo>
                  <a:cubicBezTo>
                    <a:pt x="117" y="241"/>
                    <a:pt x="110" y="324"/>
                    <a:pt x="110" y="3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7"/>
            <p:cNvSpPr/>
            <p:nvPr/>
          </p:nvSpPr>
          <p:spPr>
            <a:xfrm flipV="1" rot="12259200">
              <a:off x="4693320" y="6039720"/>
              <a:ext cx="71280" cy="385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360 h 385920"/>
                <a:gd name="textAreaBottom" fmla="*/ 386640 h 385920"/>
              </a:gdLst>
              <a:ahLst/>
              <a:rect l="textAreaLeft" t="textAreaTop" r="textAreaRight" b="textAreaBottom"/>
              <a:pathLst>
                <a:path w="93" h="441">
                  <a:moveTo>
                    <a:pt x="0" y="0"/>
                  </a:moveTo>
                  <a:cubicBezTo>
                    <a:pt x="0" y="0"/>
                    <a:pt x="89" y="307"/>
                    <a:pt x="44" y="441"/>
                  </a:cubicBezTo>
                  <a:cubicBezTo>
                    <a:pt x="93" y="296"/>
                    <a:pt x="93" y="16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8"/>
            <p:cNvSpPr/>
            <p:nvPr/>
          </p:nvSpPr>
          <p:spPr>
            <a:xfrm flipV="1" rot="12259200">
              <a:off x="4618440" y="6189480"/>
              <a:ext cx="63000" cy="1994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360 h 199440"/>
                <a:gd name="textAreaBottom" fmla="*/ 200160 h 199440"/>
              </a:gdLst>
              <a:ahLst/>
              <a:rect l="textAreaLeft" t="textAreaTop" r="textAreaRight" b="textAreaBottom"/>
              <a:pathLst>
                <a:path w="82" h="228">
                  <a:moveTo>
                    <a:pt x="3" y="228"/>
                  </a:moveTo>
                  <a:cubicBezTo>
                    <a:pt x="3" y="228"/>
                    <a:pt x="0" y="62"/>
                    <a:pt x="82" y="0"/>
                  </a:cubicBezTo>
                  <a:cubicBezTo>
                    <a:pt x="48" y="83"/>
                    <a:pt x="13" y="148"/>
                    <a:pt x="3" y="228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 flipV="1" rot="12259200">
              <a:off x="4516200" y="6122880"/>
              <a:ext cx="177480" cy="2689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-360 h 268920"/>
                <a:gd name="textAreaBottom" fmla="*/ 268920 h 268920"/>
              </a:gdLst>
              <a:ahLst/>
              <a:rect l="textAreaLeft" t="textAreaTop" r="textAreaRight" b="textAreaBottom"/>
              <a:pathLst>
                <a:path w="231" h="307">
                  <a:moveTo>
                    <a:pt x="231" y="24"/>
                  </a:moveTo>
                  <a:cubicBezTo>
                    <a:pt x="42" y="0"/>
                    <a:pt x="0" y="307"/>
                    <a:pt x="7" y="283"/>
                  </a:cubicBezTo>
                  <a:cubicBezTo>
                    <a:pt x="66" y="90"/>
                    <a:pt x="231" y="24"/>
                    <a:pt x="231" y="24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92d050"/>
                </a:gs>
                <a:gs pos="100000">
                  <a:srgbClr val="004a22"/>
                </a:gs>
              </a:gsLst>
              <a:lin ang="5400000"/>
            </a:gradFill>
            <a:ln w="1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5" name="Gruppieren 143"/>
          <p:cNvGrpSpPr/>
          <p:nvPr/>
        </p:nvGrpSpPr>
        <p:grpSpPr>
          <a:xfrm>
            <a:off x="2266920" y="5603040"/>
            <a:ext cx="1627920" cy="1627560"/>
            <a:chOff x="2266920" y="5603040"/>
            <a:chExt cx="1627920" cy="1627560"/>
          </a:xfrm>
        </p:grpSpPr>
        <p:cxnSp>
          <p:nvCxnSpPr>
            <p:cNvPr id="376" name="Gerade Verbindung 144"/>
            <p:cNvCxnSpPr/>
            <p:nvPr/>
          </p:nvCxnSpPr>
          <p:spPr>
            <a:xfrm flipH="1" flipV="1">
              <a:off x="2779920" y="6116040"/>
              <a:ext cx="1115280" cy="1114920"/>
            </a:xfrm>
            <a:prstGeom prst="straightConnector1">
              <a:avLst/>
            </a:prstGeom>
            <a:ln w="12700">
              <a:solidFill>
                <a:srgbClr val="ff9966"/>
              </a:solidFill>
              <a:round/>
            </a:ln>
          </p:spPr>
        </p:cxnSp>
        <p:grpSp>
          <p:nvGrpSpPr>
            <p:cNvPr id="377" name="Gruppieren 145"/>
            <p:cNvGrpSpPr/>
            <p:nvPr/>
          </p:nvGrpSpPr>
          <p:grpSpPr>
            <a:xfrm>
              <a:off x="2266920" y="5603040"/>
              <a:ext cx="703800" cy="703440"/>
              <a:chOff x="2266920" y="5603040"/>
              <a:chExt cx="703800" cy="703440"/>
            </a:xfrm>
          </p:grpSpPr>
          <p:sp>
            <p:nvSpPr>
              <p:cNvPr id="378" name="Gleichschenkliges Dreieck 146"/>
              <p:cNvSpPr/>
              <p:nvPr/>
            </p:nvSpPr>
            <p:spPr>
              <a:xfrm rot="8100000">
                <a:off x="2599560" y="5891040"/>
                <a:ext cx="281520" cy="370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9" name="Rechteck 147"/>
              <p:cNvSpPr/>
              <p:nvPr/>
            </p:nvSpPr>
            <p:spPr>
              <a:xfrm rot="18900000">
                <a:off x="2346840" y="5652360"/>
                <a:ext cx="281520" cy="342720"/>
              </a:xfrm>
              <a:prstGeom prst="rect">
                <a:avLst/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Gruppieren 153"/>
          <p:cNvGrpSpPr/>
          <p:nvPr/>
        </p:nvGrpSpPr>
        <p:grpSpPr>
          <a:xfrm>
            <a:off x="4890960" y="2713320"/>
            <a:ext cx="365760" cy="365040"/>
            <a:chOff x="4890960" y="2713320"/>
            <a:chExt cx="365760" cy="365040"/>
          </a:xfrm>
        </p:grpSpPr>
        <p:cxnSp>
          <p:nvCxnSpPr>
            <p:cNvPr id="381" name="Gerade Verbindung 154"/>
            <p:cNvCxnSpPr/>
            <p:nvPr/>
          </p:nvCxnSpPr>
          <p:spPr>
            <a:xfrm flipH="1" flipV="1">
              <a:off x="5006160" y="2827800"/>
              <a:ext cx="250920" cy="250920"/>
            </a:xfrm>
            <a:prstGeom prst="straightConnector1">
              <a:avLst/>
            </a:prstGeom>
            <a:ln w="12700">
              <a:solidFill>
                <a:srgbClr val="ff9966"/>
              </a:solidFill>
              <a:round/>
            </a:ln>
          </p:spPr>
        </p:cxnSp>
        <p:grpSp>
          <p:nvGrpSpPr>
            <p:cNvPr id="382" name="Gruppieren 155"/>
            <p:cNvGrpSpPr/>
            <p:nvPr/>
          </p:nvGrpSpPr>
          <p:grpSpPr>
            <a:xfrm>
              <a:off x="4890960" y="2713320"/>
              <a:ext cx="158040" cy="156600"/>
              <a:chOff x="4890960" y="2713320"/>
              <a:chExt cx="158040" cy="156600"/>
            </a:xfrm>
          </p:grpSpPr>
          <p:sp>
            <p:nvSpPr>
              <p:cNvPr id="383" name="Gleichschenkliges Dreieck 156"/>
              <p:cNvSpPr/>
              <p:nvPr/>
            </p:nvSpPr>
            <p:spPr>
              <a:xfrm flipV="1" rot="18900000">
                <a:off x="4965840" y="2776320"/>
                <a:ext cx="63000" cy="82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4" name="Rechteck 157"/>
              <p:cNvSpPr/>
              <p:nvPr/>
            </p:nvSpPr>
            <p:spPr>
              <a:xfrm flipV="1" rot="8100000">
                <a:off x="4908600" y="2724120"/>
                <a:ext cx="63000" cy="76680"/>
              </a:xfrm>
              <a:prstGeom prst="rect">
                <a:avLst/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85" name="Gruppieren 158"/>
          <p:cNvGrpSpPr/>
          <p:nvPr/>
        </p:nvGrpSpPr>
        <p:grpSpPr>
          <a:xfrm>
            <a:off x="6869160" y="2686320"/>
            <a:ext cx="476640" cy="476640"/>
            <a:chOff x="6869160" y="2686320"/>
            <a:chExt cx="476640" cy="476640"/>
          </a:xfrm>
        </p:grpSpPr>
        <p:cxnSp>
          <p:nvCxnSpPr>
            <p:cNvPr id="386" name="Gerade Verbindung 159"/>
            <p:cNvCxnSpPr/>
            <p:nvPr/>
          </p:nvCxnSpPr>
          <p:spPr>
            <a:xfrm flipH="1" flipV="1">
              <a:off x="7018920" y="2836080"/>
              <a:ext cx="327240" cy="327240"/>
            </a:xfrm>
            <a:prstGeom prst="straightConnector1">
              <a:avLst/>
            </a:prstGeom>
            <a:ln w="12700">
              <a:solidFill>
                <a:srgbClr val="ff9966"/>
              </a:solidFill>
              <a:round/>
            </a:ln>
          </p:spPr>
        </p:cxnSp>
        <p:grpSp>
          <p:nvGrpSpPr>
            <p:cNvPr id="387" name="Gruppieren 160"/>
            <p:cNvGrpSpPr/>
            <p:nvPr/>
          </p:nvGrpSpPr>
          <p:grpSpPr>
            <a:xfrm>
              <a:off x="6869160" y="2686320"/>
              <a:ext cx="205560" cy="205200"/>
              <a:chOff x="6869160" y="2686320"/>
              <a:chExt cx="205560" cy="205200"/>
            </a:xfrm>
          </p:grpSpPr>
          <p:sp>
            <p:nvSpPr>
              <p:cNvPr id="388" name="Gleichschenkliges Dreieck 161"/>
              <p:cNvSpPr/>
              <p:nvPr/>
            </p:nvSpPr>
            <p:spPr>
              <a:xfrm flipV="1" rot="18900000">
                <a:off x="6966360" y="2769840"/>
                <a:ext cx="82080" cy="108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9" name="Rechteck 162"/>
              <p:cNvSpPr/>
              <p:nvPr/>
            </p:nvSpPr>
            <p:spPr>
              <a:xfrm flipV="1" rot="8100000">
                <a:off x="6892200" y="2700720"/>
                <a:ext cx="82080" cy="100080"/>
              </a:xfrm>
              <a:prstGeom prst="rect">
                <a:avLst/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90" name="Gruppieren 163"/>
          <p:cNvGrpSpPr/>
          <p:nvPr/>
        </p:nvGrpSpPr>
        <p:grpSpPr>
          <a:xfrm>
            <a:off x="6774120" y="5566680"/>
            <a:ext cx="826920" cy="826560"/>
            <a:chOff x="6774120" y="5566680"/>
            <a:chExt cx="826920" cy="826560"/>
          </a:xfrm>
        </p:grpSpPr>
        <p:cxnSp>
          <p:nvCxnSpPr>
            <p:cNvPr id="391" name="Gerade Verbindung 164"/>
            <p:cNvCxnSpPr/>
            <p:nvPr/>
          </p:nvCxnSpPr>
          <p:spPr>
            <a:xfrm flipH="1" flipV="1">
              <a:off x="7034760" y="5826960"/>
              <a:ext cx="566640" cy="566640"/>
            </a:xfrm>
            <a:prstGeom prst="straightConnector1">
              <a:avLst/>
            </a:prstGeom>
            <a:ln w="12700">
              <a:solidFill>
                <a:srgbClr val="ff9966"/>
              </a:solidFill>
              <a:round/>
            </a:ln>
          </p:spPr>
        </p:cxnSp>
        <p:grpSp>
          <p:nvGrpSpPr>
            <p:cNvPr id="392" name="Gruppieren 165"/>
            <p:cNvGrpSpPr/>
            <p:nvPr/>
          </p:nvGrpSpPr>
          <p:grpSpPr>
            <a:xfrm>
              <a:off x="6774120" y="5566680"/>
              <a:ext cx="357480" cy="356760"/>
              <a:chOff x="6774120" y="5566680"/>
              <a:chExt cx="357480" cy="356760"/>
            </a:xfrm>
          </p:grpSpPr>
          <p:sp>
            <p:nvSpPr>
              <p:cNvPr id="393" name="Gleichschenkliges Dreieck 166"/>
              <p:cNvSpPr/>
              <p:nvPr/>
            </p:nvSpPr>
            <p:spPr>
              <a:xfrm flipV="1" rot="18900000">
                <a:off x="6942960" y="5712120"/>
                <a:ext cx="142920" cy="187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4" name="Rechteck 167"/>
              <p:cNvSpPr/>
              <p:nvPr/>
            </p:nvSpPr>
            <p:spPr>
              <a:xfrm flipV="1" rot="8100000">
                <a:off x="6814440" y="5591520"/>
                <a:ext cx="142920" cy="173880"/>
              </a:xfrm>
              <a:prstGeom prst="rect">
                <a:avLst/>
              </a:prstGeom>
              <a:gradFill rotWithShape="0">
                <a:gsLst>
                  <a:gs pos="0">
                    <a:srgbClr val="e9e8e7"/>
                  </a:gs>
                  <a:gs pos="50000">
                    <a:srgbClr val="b7b4b1"/>
                  </a:gs>
                  <a:gs pos="100000">
                    <a:srgbClr val="e9e8e7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95" name="Gruppieren 17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96" name="Ellipse 180"/>
          <p:cNvSpPr/>
          <p:nvPr/>
        </p:nvSpPr>
        <p:spPr>
          <a:xfrm>
            <a:off x="-4260240" y="-2432880"/>
            <a:ext cx="18400680" cy="14286600"/>
          </a:xfrm>
          <a:prstGeom prst="ellipse">
            <a:avLst/>
          </a:prstGeom>
          <a:gradFill rotWithShape="0">
            <a:gsLst>
              <a:gs pos="0">
                <a:srgbClr val="ff0000">
                  <a:alpha val="0"/>
                </a:srgbClr>
              </a:gs>
              <a:gs pos="100000">
                <a:srgbClr val="860000"/>
              </a:gs>
            </a:gsLst>
            <a:path path="rect">
              <a:fillToRect l="50000" t="50000" r="50000" b="50000"/>
            </a:path>
          </a:gradFill>
          <a:ln w="1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feld 184"/>
          <p:cNvSpPr/>
          <p:nvPr/>
        </p:nvSpPr>
        <p:spPr>
          <a:xfrm>
            <a:off x="331560" y="1728000"/>
            <a:ext cx="85312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Happy </a:t>
            </a: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Valentines</a:t>
            </a: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feld 185"/>
          <p:cNvSpPr/>
          <p:nvPr/>
        </p:nvSpPr>
        <p:spPr>
          <a:xfrm>
            <a:off x="2183040" y="2743560"/>
            <a:ext cx="4777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express your love righ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autoRev="1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450" dur="104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autoRev="1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45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75173 4.44444E-006 E">
                                      <p:cBhvr>
                                        <p:cTn id="454" dur="107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1481E-006 L 0.7467 -0.00138 E">
                                      <p:cBhvr>
                                        <p:cTn id="456" dur="1075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0.75086 0.00093 E">
                                      <p:cBhvr>
                                        <p:cTn id="458" dur="107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96296E-006 L 0.74861 0.00324 E">
                                      <p:cBhvr>
                                        <p:cTn id="460" dur="1075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40741E-007 L 0.74913 -0.00023 E">
                                      <p:cBhvr>
                                        <p:cTn id="462" dur="1075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autoRev="1" nodeType="withEffect" fill="hold" presetClass="emph" presetID="8" repeatCount="5000">
                                  <p:stCondLst>
                                    <p:cond delay="250"/>
                                  </p:stCondLst>
                                  <p:childTnLst>
                                    <p:animRot by="-2700000">
                                      <p:cBhvr>
                                        <p:cTn id="46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autoRev="1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46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37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5E-006 0.0199 C -5E-006 0.0199 0.02813 -0.16922 0.04202 -0.15996 C 0.06407 -0.15324 -0.01563 -0.1213 -0.03021 -0.14352 C -0.0448 -0.16528 -0.06754 -0.20718 -0.04549 -0.29167 C 0.01388 -0.32477 0.03889 -0.54653 0.10174 -0.6507 C 0.16494 -0.75486 0.28091 -0.58033 0.34601 -0.4507 E">
                                      <p:cBhvr>
                                        <p:cTn id="46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9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4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9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7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7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9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9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5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5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2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4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47" repeatCount="indefinite">
                                  <p:stCondLst>
                                    <p:cond delay="1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47" repeatCount="indefinite">
                                  <p:stCondLst>
                                    <p:cond delay="20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47" repeatCount="indefinite">
                                  <p:stCondLst>
                                    <p:cond delay="20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2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2">
                                  <p:stCondLst>
                                    <p:cond delay="2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Larissa">
  <a:themeElements>
    <a:clrScheme name="Larissa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Larissa">
  <a:themeElements>
    <a:clrScheme name="Larissa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Larissa">
  <a:themeElements>
    <a:clrScheme name="Larissa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HyperlinkBase>www.presentationload.com</HyperlinkBase>
  <AppVersion>15.0000</AppVersion>
  <Words>167</Words>
  <Paragraphs>48</Paragraphs>
  <Company>Inscale GmbH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0:28:54Z</dcterms:created>
  <dc:creator>PresentationLoad</dc:creator>
  <dc:description>Professional PowerPoint templates for download_x005F_x000d_
</dc:description>
  <dc:language>en-US</dc:language>
  <cp:lastModifiedBy>王玉清</cp:lastModifiedBy>
  <dcterms:modified xsi:type="dcterms:W3CDTF">2016-02-19T03:58:52Z</dcterms:modified>
  <cp:revision>145</cp:revision>
  <dc:subject/>
  <dc:title>FP02 Valentines Day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6</vt:r8>
  </property>
</Properties>
</file>