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CC2-7C67-4F77-89EE-864D64F2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3D2-3DCE-4001-ACCA-DEB2EAA2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C04-C8EA-4B11-8EDC-F6214374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141-C411-48A0-B687-D7BA02CD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847-46DB-434A-B6C5-09C98483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968-E923-4140-AB0C-221919D7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9E4-8D7D-459F-AB24-5BBCB770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964-1820-48E4-8FF4-8D877370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23F-D129-45CE-922E-047DCF0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B30-2B17-46C7-90D0-7A5254D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99E-85A2-4566-8D54-DCD97C82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B65-33AE-4F59-A9E8-77C73551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2D2A-1BA5-4776-A95B-9252005F9A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2"/>
          <a:stretch/>
        </p:blipFill>
        <p:spPr>
          <a:xfrm>
            <a:off x="609480" y="4151160"/>
            <a:ext cx="7925040" cy="70668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684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1T03:38:17Z</dcterms:modified>
  <cp:revision>11</cp:revision>
  <dc:subject/>
  <dc:title>幻灯片 1</dc:title>
</cp:coreProperties>
</file>