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A73A-B6C5-4DD5-AF5B-22A7DAB5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8FD-5B2F-4E54-9DE3-068793A8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2266-7556-44CF-8B46-C41A0470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3DE6-0DAD-44BB-AAC6-22536591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AEF0-8AA7-451F-ADA3-1E033AB7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23BA-42A1-4A1C-A375-8896556B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0B04F-E058-4DC4-A226-94F70AA5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83E14-5B3A-40E7-86AB-86E6F491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5CF4-201D-4FA8-A378-7EF5DC2A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6A9D-4AB8-4393-B432-87B20141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6584-5963-4134-A456-634730B4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8865-C993-4F5C-8892-C77E775F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DF60-D33A-4F36-99F4-25939FCF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6019-F648-404E-80EE-3F2CFAB6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4A1A-950C-4866-978A-D391992F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14D6-C506-4847-934B-82FA0EF3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13EF-9DE3-428D-B5AD-5D8DABF3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902-31D6-49E3-83DB-C8884381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808C-2A20-4F47-80BD-D1C94D7EE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A455-19B2-4143-A1B7-2BA3836B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9F99-A484-4984-ABE5-CA2D4057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3FA8-6753-4658-A0B5-A04B0FE0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E332-3322-4FE5-A577-E3F82F25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2C4B-9694-4D5D-8F88-54776A8C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8345D0-A4B7-450F-8443-EBA033F1851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0CF8DD-6BD3-4D59-AA99-174B1497545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81000"/>
            <a:ext cx="7772040" cy="56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方正综艺简体"/>
                <a:ea typeface="方正综艺简体"/>
              </a:rPr>
              <a:t>篮球运动员写真通用</a:t>
            </a:r>
            <a:r>
              <a:rPr b="0" lang="en-US" sz="4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方正综艺简体"/>
                <a:ea typeface="方正综艺简体"/>
              </a:rPr>
              <a:t>PPT</a:t>
            </a:r>
            <a:r>
              <a:rPr b="0" lang="zh-CN" sz="4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方正综艺简体"/>
                <a:ea typeface="方正综艺简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662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4"/>
          <p:cNvSpPr/>
          <p:nvPr/>
        </p:nvSpPr>
        <p:spPr>
          <a:xfrm>
            <a:off x="4320" y="6525360"/>
            <a:ext cx="79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3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3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3</Template>
  <TotalTime>14</TotalTime>
  <Application>LibreOffice/7.4.7.2$Linux_X86_64 LibreOffice_project/40$Build-2</Application>
  <AppVersion>15.0000</AppVersion>
  <Words>99</Words>
  <Paragraphs>1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sports</cp:category>
  <dcterms:created xsi:type="dcterms:W3CDTF">2012-11-01T15:26:53Z</dcterms:created>
  <dc:creator>admin</dc:creator>
  <dc:description>Made by Leawo Software. To find more free PowerPoint templates, please visit http://www.leawo.com/free-powerpoint-templates/</dc:description>
  <cp:keywords>Basketball PowerPoint templates</cp:keywords>
  <dc:language>en-US</dc:language>
  <cp:lastModifiedBy>王玉清</cp:lastModifiedBy>
  <dcterms:modified xsi:type="dcterms:W3CDTF">2016-02-21T03:32:45Z</dcterms:modified>
  <cp:revision>7</cp:revision>
  <dc:subject>basketball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