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643B-37DF-4ADD-9C41-C3D7F971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8920" y="23698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25DC-C34A-4745-B87F-CD5E056D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1928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955-977C-4D44-BE4F-16BF1B3D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1512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096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2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1512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096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3A5-6355-4A8B-8950-88CDFA67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832E-E5BF-4DEC-8ABC-F2ECD514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8920" y="20354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E258-C54B-466C-A910-DE4AEF63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1797-BA2F-478E-B3A9-6A2B457D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381E-E073-4F19-B6B7-D02108FA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B7D8-5222-4A41-9DE2-95DED107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8920" y="1443960"/>
            <a:ext cx="82292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0764-1725-46F9-9DD3-2E3F2C60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78C0-43B0-4E5E-A797-1E6A4204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8920" y="20354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9F96-C8C0-44F3-9F8A-4E98267E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1928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DA5E-60FF-4A20-9133-4E1B27BC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CF15-FB26-4243-9CD6-1159BF6B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20" y="23698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11F8-3EDD-4F8D-AC0F-2E195A97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1928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5FF3-5E99-42FD-A254-D605C468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1512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18096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892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81512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18096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8817-3FEC-4B48-9EE4-C585DAC7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EDECC-83E4-463F-9D8E-ED90A96A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8920" y="20354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AD6E4-15E1-4E11-82B7-34F43C89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849FC-97A8-4E77-AEFB-49F6C8A6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36528-7789-4B32-82A5-EE272540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8147B-3FFB-4191-B759-A499342D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EFD-47DC-4A23-9E32-3F20E4CC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8920" y="1443960"/>
            <a:ext cx="82292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709AC-A967-414D-A018-70A29060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C1423-A061-434B-BA13-E5AED0AE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51928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0C1EF-B666-4C76-8A5F-CEB3C72C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766F4-1142-4C28-93ED-94862848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8920" y="23698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A5F1F-AF8B-4F6B-A735-F1132775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51928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322C9-451A-4BC8-BF65-D3E2191B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81512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18096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892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81512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18096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7E469-C792-43F7-8BCB-B6ECAED0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C1BA9-681C-4E36-AC72-F2AD1C9F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48920" y="20354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30A8B-92EC-4C23-89B0-FBACFDE9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32080-DCEA-4286-9657-6873043C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EE19-9548-49DE-9570-57A972B1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F1445-8273-4DC6-9AEA-5B0BEBFD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38D9F-6096-4810-9D63-5367F879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8920" y="1443960"/>
            <a:ext cx="82292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76941-BE91-4726-9CD4-4ABB4A1C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22923-5E3C-452E-AD8D-0713B458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1928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8F86E-2702-4548-B293-9CA0B6C5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68507-7132-418C-BAA9-32D2E00D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8920" y="23698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481DF-B7C8-447D-90AC-5688B044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51928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2A614-6315-413A-9534-32398EC1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81512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180960" y="20354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4892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181512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3180960" y="2369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F4DDE-EEB2-464B-8A83-FE0C9EBE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B2E-19B1-4A32-A296-078A7190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8920" y="1443960"/>
            <a:ext cx="82292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F4B-97F7-42D7-9EAB-C44E7620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949-54AF-426D-919A-83DBE5C5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19280" y="2369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6D0-4D75-4353-B99D-FA51193D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19280" y="20354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8920" y="23698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A024-C66F-4858-9F72-78D456FC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8920" y="4650480"/>
            <a:ext cx="8245800" cy="763200"/>
          </a:xfrm>
          <a:prstGeom prst="rect">
            <a:avLst/>
          </a:prstGeom>
          <a:noFill/>
          <a:ln w="0">
            <a:noFill/>
          </a:ln>
          <a:effectLst>
            <a:outerShdw dist="37674" dir="2700000" blurRad="63360" rotWithShape="0">
              <a:srgbClr val="002060">
                <a:alpha val="68000"/>
              </a:srgbClr>
            </a:outerShdw>
          </a:effectLst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3654DC-F92D-4965-B0F4-14E6F8C2F49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8920" y="2207520"/>
            <a:ext cx="822924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f2f2f2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f2f2f2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6DF051-71E0-43C3-8B5C-EDE6195F418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28680" y="527760"/>
            <a:ext cx="6566040" cy="76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128680" y="1443960"/>
            <a:ext cx="656604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f2f2f2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f2f2f2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8213E2-14E7-4A51-9CC4-7ADAE015CC0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48920" y="20354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48920" y="2665440"/>
            <a:ext cx="4039920" cy="30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f2f2f2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2f2f2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2f2f2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f2f2f2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2f2f2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f2f2f2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4636800" y="20354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636800" y="2665440"/>
            <a:ext cx="4041360" cy="30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f2f2f2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2f2f2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2f2f2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f2f2f2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2f2f2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f2f2f2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8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147D30-9688-4399-8D09-4BDEE7DABA5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640" y="4650480"/>
            <a:ext cx="9000000" cy="763200"/>
          </a:xfrm>
          <a:prstGeom prst="rect">
            <a:avLst/>
          </a:prstGeom>
          <a:noFill/>
          <a:ln w="0">
            <a:noFill/>
          </a:ln>
          <a:effectLst>
            <a:outerShdw dist="37674" dir="2700000" blurRad="63360" rotWithShape="0">
              <a:srgbClr val="002060">
                <a:alpha val="68000"/>
              </a:srgbClr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蓝色玻璃球网状立体背景通用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48920" y="5414040"/>
            <a:ext cx="8245800" cy="61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Click to edit Master sub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8920" y="2207520"/>
            <a:ext cx="822924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28680" y="527760"/>
            <a:ext cx="6566040" cy="76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128680" y="1443960"/>
            <a:ext cx="656604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7160" y="64792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8920" y="1443960"/>
            <a:ext cx="822924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8920" y="20354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Calibri"/>
              </a:rPr>
              <a:t>Product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48920" y="2665440"/>
            <a:ext cx="4039920" cy="30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36800" y="20354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Calibri"/>
              </a:rPr>
              <a:t>Product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36800" y="2665440"/>
            <a:ext cx="4041360" cy="30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  <Words>81</Words>
  <Paragraphs>2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7Z</dcterms:created>
  <dc:creator>Julian</dc:creator>
  <dc:description/>
  <dc:language>en-US</dc:language>
  <cp:lastModifiedBy>王玉清</cp:lastModifiedBy>
  <dcterms:modified xsi:type="dcterms:W3CDTF">2016-02-24T02:59:3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