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05D-6A01-40C6-9414-3CA42CD2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6EA-BE99-4F98-8CE0-3D9EFCFF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5BC23-1E91-40B7-86F7-7DE97B8A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EF339-77D8-4BA5-A202-44818CFE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778D9-142A-4BF0-81B8-B9616B68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EB008-1927-4E6E-A9FD-237393D2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1AEB7-FBFA-44E3-9237-B46E64C6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042B7-C15C-42FA-92EE-D2B5FDF9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31768-F5F8-4208-B000-03CADC7D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C247F-7864-4D2D-9CA2-82CCF7D3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64419-FF96-42B2-8DD3-0DF86099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CA355-DAD2-46D9-B6AA-8064BF6A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E18-CEFC-4E5F-9FBB-892F4CBB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387F4-2D6D-4D46-9445-4AB1B849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51831-385F-4AD2-8DB2-4D44AD53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53E14-1248-406F-BF07-68346B08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AD380-5E43-4063-A35D-70D81D3F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E224C-B18C-43F4-8E32-C7EF89C1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8F425-3B2B-4D67-A21A-511FC5DC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E9B86-885A-4C0F-BB2D-7C5C097D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468AC-80E9-4415-ACA1-3BCD9952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632BA-C7FB-435A-B100-24567277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C6B8D-7D12-444E-A50D-AAFB6087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F33-11D7-46D8-8D71-658286DE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3A02A-9322-4569-9796-4A7FE120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5DEF7-CB1C-4B22-AC2E-97A59EB5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EA72E-AC64-45DA-9B4D-52F3E046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5AB90-4377-47A1-86B9-4DB05634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D50B3-3798-405C-9FC4-3EB8C676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1D651-3325-4E31-9B51-F4E82EE1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2E7C6-35DB-4CC5-B65D-F2FFA9E2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57F64-280B-4C47-AA65-F6B78A63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44531-ACAC-4D82-8446-CFE9BCCA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E20A5-C34D-4AC9-82AD-BAF0AFB0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E523-752E-479C-94FD-02922CFB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AAA5B-5B9D-4597-A211-7E37AFE4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65E66-DA1A-4DBD-9EA5-8C8DAD10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E7B57-A50C-46B3-868C-5864C160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5C380-6CD8-45F9-B35A-BB593958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E3BF6-E842-4872-A896-B0122CC0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469F5-CEE4-4B6D-AA1A-89F2BA4B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62BFA-1D5E-4562-86F3-9B0CDC11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3744E-8720-4A61-8328-37B5C2E9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D53A2-F01A-436D-A5AD-E4598E58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5A747-2007-4501-B080-8BA5A5BB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A0FE-07D5-4F82-BCD4-9252C7CB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2BCC1-6543-4EA1-B2B3-22B6CCA1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D8C63-8201-4E3A-BD46-9ABF1D02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0F04F-A410-44D1-901C-E1738A85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FF53E-2C42-46D8-BB94-0DC22797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E554C-0147-4896-9612-E6289FE0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9D06-8BCE-44D3-A865-F10BCA1E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3EA6-A167-4220-BAD4-CB36C5C0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11C4-BCC7-44D1-8811-A756AD1A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5EEF-4311-479C-89E7-DC8FE4E0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8375-F94A-482F-BD8F-740B4543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160-8112-49D6-9EF4-BAE0B2E6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2773-7019-43AA-8865-A76DAF5B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F561-EB31-4FCC-8B90-6F9E43B7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EE51-1622-46CC-A396-7407A30D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FBBF-3835-4099-BFF5-524CA109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72E9-344F-4234-9505-3CE4CD98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9DBD-EFA6-4984-BEF5-E2D63984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8686-0BC5-4FA9-A3AF-A5C077B9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EE7E-56B5-4DEE-B3EB-C7B70C96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1451B-35B5-4F9A-A425-70F3ABA7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51C79-FE24-42AC-ABF0-1C4EBC52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318-A7FF-4E85-8D54-0D0EEF1F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DD38-8189-4C8C-A6E2-D5F13262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0BE93-CD38-4C81-8304-FFCE3E53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F1E4D-0BC5-487C-99B7-D2AB34C1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C983-17FE-4AE0-8ED7-7ACC18CD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C349-1E1C-4F33-ADEC-6937742B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B01B6-548B-49CD-8982-EE806832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8E04-9AD6-45A0-867C-CF6044F5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D5529-11DF-4678-A510-F22FA165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7D287-ED0B-4704-9C4F-0E987581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A8DB9-D1B4-482A-9F82-C981FC80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565-4287-4DAB-AFF1-0CAD5DE5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201EF-90CA-4F71-B291-2058A679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36000-4740-4D6D-89AC-66455253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86476-A197-4E43-9881-39B437FF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4CF25-87C4-4DD1-B39C-3ACE071E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9DE23-74A9-4332-A646-3FBA8070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0F5D2-3E35-4D9F-8470-73F0B245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5760F-EC87-4F12-9751-41900A20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AA1B3-ED25-4989-872B-F9032C39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DF429-7FF0-4BDC-B1EA-02BA531A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92BAF-2D9D-4ADC-86CA-02DDF668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137-0969-420D-819E-AFED42FE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00D23-D218-4007-B300-77066A14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7CDEF-F1D5-403E-91D6-4F8D7D51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61F22-8687-46AF-AE07-69AE435A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07242-3E57-4706-AB36-DCEAE305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BA243-5F1B-4734-B037-96466A41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58B61-4275-4C91-ACCE-5AF2D05D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4EDC8-2933-426D-853D-CAB96AA8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099AD-7FF4-438E-968D-17E4A246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BA477-CACD-487A-B3AF-C7375CFB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BB0FF-19FE-4CC0-90DA-20334110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E7E-BF1B-4F14-BA49-2A36493A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4196E-5E95-4ABC-9993-5654E36D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826DB-106F-4FC8-A96E-FA974898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0BD89-F1A0-48BF-97CF-5758261E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3D62B-3AC0-42D4-9FA0-438B5879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04145-DB2F-475D-8AB4-7A9C5455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32A67-DF22-4E04-B0B5-5BE28DF1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DA02C-5BB7-4E89-B637-C51B7CEB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3F2D9-31CC-4C1D-9BCF-1EE27344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DC806-BF72-40C2-89EE-873E3440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A3259-24DC-415E-9E80-922B1B43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7CE-F10B-4DEB-A29E-AD4EDB5D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8C229-6021-4D04-8A55-1A475769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5BA19-B08F-4DC3-93D7-31AF4131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745C7-709A-4658-8CEF-058A8B99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078D1-F1E2-4070-9B67-3E664A5E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5FAB8-9EBC-41DD-972F-E3672FDB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96DFE-9011-4753-9099-ABAFCA21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8297B-3E98-45AC-9E29-21D4747F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1AC06-29C8-4CF9-AB2B-2686703B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4D566-99B5-45B9-8D29-5A40B018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9D78B-7B62-4F13-88B1-1D48A7A6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076-8703-4A85-9E46-F8A9BA9B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4200D-F5C8-4404-80E8-EBBDFA56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39B6B-62FD-4893-9F87-63B49A1B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C11ED-F6AA-439A-8D26-3ADB06B7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1B7A7-29D6-4ABF-A19D-01D3CD4E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A57E1-1A27-48CA-9A03-29A6BF08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8EC8F-BA62-405B-9470-BC21C219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D7FF7-85D3-4075-9A85-94AAB523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12908-A970-4643-8214-5D116FCB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A532F-CD5B-4751-80CA-02794645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B1F7A-4CC4-46A0-BF24-A87605A7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83C-70AA-4114-9CC3-B54116AE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B799B-FC01-4796-9382-F9554DE8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9CBAE-E71C-4F9B-A437-0E47CA6A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C6F9D-B81E-4609-BF0C-72C7AE93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5BFC0-2073-4865-89DC-8CF6C36F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F1318-D27C-4223-8525-A82C17F0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AAB17-7CAC-4BB4-9662-E3D92FE2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CF58F-D122-4B8E-ABAD-51E6CBE9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181D5-7BA7-45C1-B674-7E36D47C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F260A-2B68-4377-B188-8023E8E7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38E41-7279-41E9-B762-B12B9B86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4CC4-5079-4E58-92BA-1E7819DA72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图片 7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F975-2A4E-41A6-847C-140A30186B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E2BC-5BD2-4354-A182-04D4FAD177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125D-3CD7-409B-9FCC-929FE6733B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六边形 7"/>
          <p:cNvSpPr/>
          <p:nvPr/>
        </p:nvSpPr>
        <p:spPr>
          <a:xfrm rot="5400000">
            <a:off x="8246880" y="554040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8"/>
          <p:cNvSpPr/>
          <p:nvPr/>
        </p:nvSpPr>
        <p:spPr>
          <a:xfrm rot="5400000">
            <a:off x="2199960" y="480060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六边形 9"/>
          <p:cNvSpPr/>
          <p:nvPr/>
        </p:nvSpPr>
        <p:spPr>
          <a:xfrm rot="5400000">
            <a:off x="2700000" y="44244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六边形 10"/>
          <p:cNvSpPr/>
          <p:nvPr/>
        </p:nvSpPr>
        <p:spPr>
          <a:xfrm rot="5400000">
            <a:off x="7531920" y="118260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0" y="1857240"/>
            <a:ext cx="9144000" cy="321480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0" y="5072040"/>
            <a:ext cx="9144000" cy="14292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3"/>
          <p:cNvSpPr/>
          <p:nvPr/>
        </p:nvSpPr>
        <p:spPr>
          <a:xfrm>
            <a:off x="0" y="1714680"/>
            <a:ext cx="9144000" cy="14256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六边形 14"/>
          <p:cNvSpPr/>
          <p:nvPr/>
        </p:nvSpPr>
        <p:spPr>
          <a:xfrm rot="5400000">
            <a:off x="1746000" y="96840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六边形 15"/>
          <p:cNvSpPr/>
          <p:nvPr/>
        </p:nvSpPr>
        <p:spPr>
          <a:xfrm rot="5400000">
            <a:off x="108360" y="183240"/>
            <a:ext cx="581040" cy="500040"/>
          </a:xfrm>
          <a:prstGeom prst="hexagon">
            <a:avLst>
              <a:gd name="adj" fmla="val 25004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六边形 16"/>
          <p:cNvSpPr/>
          <p:nvPr/>
        </p:nvSpPr>
        <p:spPr>
          <a:xfrm rot="5400000">
            <a:off x="2602800" y="25380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六边形 17"/>
          <p:cNvSpPr/>
          <p:nvPr/>
        </p:nvSpPr>
        <p:spPr>
          <a:xfrm rot="5400000">
            <a:off x="8603640" y="3960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六边形 18"/>
          <p:cNvSpPr/>
          <p:nvPr/>
        </p:nvSpPr>
        <p:spPr>
          <a:xfrm rot="5400000">
            <a:off x="8246880" y="61128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六边形 19"/>
          <p:cNvSpPr/>
          <p:nvPr/>
        </p:nvSpPr>
        <p:spPr>
          <a:xfrm rot="5400000">
            <a:off x="6960960" y="32508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六边形 20"/>
          <p:cNvSpPr/>
          <p:nvPr/>
        </p:nvSpPr>
        <p:spPr>
          <a:xfrm rot="5400000">
            <a:off x="7272000" y="8532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BK-037"/>
          <p:cNvPicPr/>
          <p:nvPr/>
        </p:nvPicPr>
        <p:blipFill>
          <a:blip r:embed="rId2"/>
          <a:stretch/>
        </p:blipFill>
        <p:spPr>
          <a:xfrm>
            <a:off x="5857920" y="1857240"/>
            <a:ext cx="3538440" cy="5000760"/>
          </a:xfrm>
          <a:prstGeom prst="rect">
            <a:avLst/>
          </a:prstGeom>
          <a:ln w="0">
            <a:noFill/>
          </a:ln>
        </p:spPr>
      </p:pic>
      <p:sp>
        <p:nvSpPr>
          <p:cNvPr id="57" name="六边形 22"/>
          <p:cNvSpPr/>
          <p:nvPr/>
        </p:nvSpPr>
        <p:spPr>
          <a:xfrm rot="5400000">
            <a:off x="1103040" y="554040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六边形 23"/>
          <p:cNvSpPr/>
          <p:nvPr/>
        </p:nvSpPr>
        <p:spPr>
          <a:xfrm rot="5400000">
            <a:off x="1387800" y="6112440"/>
            <a:ext cx="581040" cy="500040"/>
          </a:xfrm>
          <a:prstGeom prst="hexagon">
            <a:avLst>
              <a:gd name="adj" fmla="val 25004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六边形 24"/>
          <p:cNvSpPr/>
          <p:nvPr/>
        </p:nvSpPr>
        <p:spPr>
          <a:xfrm rot="5400000">
            <a:off x="745560" y="611172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六边形 25"/>
          <p:cNvSpPr/>
          <p:nvPr/>
        </p:nvSpPr>
        <p:spPr>
          <a:xfrm rot="5400000">
            <a:off x="5317560" y="546876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六边形 26"/>
          <p:cNvSpPr/>
          <p:nvPr/>
        </p:nvSpPr>
        <p:spPr>
          <a:xfrm rot="5400000">
            <a:off x="4245840" y="596880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六边形 27"/>
          <p:cNvSpPr/>
          <p:nvPr/>
        </p:nvSpPr>
        <p:spPr>
          <a:xfrm rot="5400000">
            <a:off x="3414240" y="544356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5E8F-5218-466C-A4A9-CB9FF5D5E57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85840" y="428760"/>
            <a:ext cx="576000" cy="663480"/>
          </a:xfrm>
          <a:prstGeom prst="rect">
            <a:avLst/>
          </a:prstGeom>
          <a:ln w="0">
            <a:noFill/>
          </a:ln>
        </p:spPr>
      </p:pic>
      <p:sp>
        <p:nvSpPr>
          <p:cNvPr id="107" name="六边形 9"/>
          <p:cNvSpPr/>
          <p:nvPr/>
        </p:nvSpPr>
        <p:spPr>
          <a:xfrm rot="5400000">
            <a:off x="127800" y="537192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六边形 10"/>
          <p:cNvSpPr/>
          <p:nvPr/>
        </p:nvSpPr>
        <p:spPr>
          <a:xfrm rot="5400000">
            <a:off x="770760" y="430056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六边形 11"/>
          <p:cNvSpPr/>
          <p:nvPr/>
        </p:nvSpPr>
        <p:spPr>
          <a:xfrm rot="5400000">
            <a:off x="1413720" y="537192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B0E3-5813-4D46-9C1B-3F597D7491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037C-2F93-4E31-9E2C-06F636B394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7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3BDE-DAAA-44CE-AAB0-5D754C76FC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2C10-2E52-454B-AF17-2556C3651E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4B91-A267-42AB-912E-54EB24CBA4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240F-7C15-4FAC-AECB-460351B3A6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2e00"/>
              </a:gs>
              <a:gs pos="50000">
                <a:srgbClr val="006300"/>
              </a:gs>
              <a:gs pos="100000">
                <a:srgbClr val="002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图片 7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AAEC-09C1-4F32-A5B1-B39F3B50A8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6760" y="2143080"/>
            <a:ext cx="6986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绿色简约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214200" y="392904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71360" y="357120"/>
            <a:ext cx="7157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23"/>
          <p:cNvGrpSpPr/>
          <p:nvPr/>
        </p:nvGrpSpPr>
        <p:grpSpPr>
          <a:xfrm>
            <a:off x="242280" y="1676160"/>
            <a:ext cx="8382960" cy="4825440"/>
            <a:chOff x="242280" y="1676160"/>
            <a:chExt cx="8382960" cy="4825440"/>
          </a:xfrm>
        </p:grpSpPr>
        <p:sp>
          <p:nvSpPr>
            <p:cNvPr id="697" name="Text Box 4"/>
            <p:cNvSpPr/>
            <p:nvPr/>
          </p:nvSpPr>
          <p:spPr>
            <a:xfrm>
              <a:off x="6719400" y="317988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Group 19"/>
            <p:cNvGrpSpPr/>
            <p:nvPr/>
          </p:nvGrpSpPr>
          <p:grpSpPr>
            <a:xfrm>
              <a:off x="1038600" y="2384280"/>
              <a:ext cx="1344600" cy="1321200"/>
              <a:chOff x="1038600" y="2384280"/>
              <a:chExt cx="1344600" cy="1321200"/>
            </a:xfrm>
          </p:grpSpPr>
          <p:sp>
            <p:nvSpPr>
              <p:cNvPr id="699" name="Rectangle 5"/>
              <p:cNvSpPr/>
              <p:nvPr/>
            </p:nvSpPr>
            <p:spPr>
              <a:xfrm rot="3418800">
                <a:off x="1248840" y="254304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50742f"/>
                  </a:gs>
                  <a:gs pos="100000">
                    <a:srgbClr val="253616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Text Box 6"/>
              <p:cNvSpPr/>
              <p:nvPr/>
            </p:nvSpPr>
            <p:spPr>
              <a:xfrm>
                <a:off x="1365480" y="290196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2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20"/>
            <p:cNvGrpSpPr/>
            <p:nvPr/>
          </p:nvGrpSpPr>
          <p:grpSpPr>
            <a:xfrm>
              <a:off x="2473560" y="4289040"/>
              <a:ext cx="1344960" cy="1321560"/>
              <a:chOff x="2473560" y="4289040"/>
              <a:chExt cx="1344960" cy="1321560"/>
            </a:xfrm>
          </p:grpSpPr>
          <p:sp>
            <p:nvSpPr>
              <p:cNvPr id="702" name="Rectangle 7"/>
              <p:cNvSpPr/>
              <p:nvPr/>
            </p:nvSpPr>
            <p:spPr>
              <a:xfrm rot="3418800">
                <a:off x="2683800" y="4448160"/>
                <a:ext cx="924120" cy="1003320"/>
              </a:xfrm>
              <a:prstGeom prst="rect">
                <a:avLst/>
              </a:prstGeom>
              <a:gradFill rotWithShape="0">
                <a:gsLst>
                  <a:gs pos="0">
                    <a:srgbClr val="268868"/>
                  </a:gs>
                  <a:gs pos="100000">
                    <a:srgbClr val="123f30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Text Box 8"/>
              <p:cNvSpPr/>
              <p:nvPr/>
            </p:nvSpPr>
            <p:spPr>
              <a:xfrm>
                <a:off x="2800440" y="480708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Group 21"/>
            <p:cNvGrpSpPr/>
            <p:nvPr/>
          </p:nvGrpSpPr>
          <p:grpSpPr>
            <a:xfrm>
              <a:off x="4543920" y="3136680"/>
              <a:ext cx="1344600" cy="1321200"/>
              <a:chOff x="4543920" y="3136680"/>
              <a:chExt cx="1344600" cy="1321200"/>
            </a:xfrm>
          </p:grpSpPr>
          <p:sp>
            <p:nvSpPr>
              <p:cNvPr id="705" name="Rectangle 9"/>
              <p:cNvSpPr/>
              <p:nvPr/>
            </p:nvSpPr>
            <p:spPr>
              <a:xfrm rot="3418800">
                <a:off x="4754160" y="329544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d9be02"/>
                  </a:gs>
                  <a:gs pos="100000">
                    <a:srgbClr val="645801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Text Box 10"/>
              <p:cNvSpPr/>
              <p:nvPr/>
            </p:nvSpPr>
            <p:spPr>
              <a:xfrm>
                <a:off x="4870800" y="365436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22"/>
            <p:cNvGrpSpPr/>
            <p:nvPr/>
          </p:nvGrpSpPr>
          <p:grpSpPr>
            <a:xfrm>
              <a:off x="6893280" y="1676160"/>
              <a:ext cx="1344600" cy="1321200"/>
              <a:chOff x="6893280" y="1676160"/>
              <a:chExt cx="1344600" cy="1321200"/>
            </a:xfrm>
          </p:grpSpPr>
          <p:sp>
            <p:nvSpPr>
              <p:cNvPr id="708" name="Rectangle 3"/>
              <p:cNvSpPr/>
              <p:nvPr/>
            </p:nvSpPr>
            <p:spPr>
              <a:xfrm rot="3418800">
                <a:off x="7103520" y="183492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f900f9"/>
                  </a:gs>
                  <a:gs pos="100000">
                    <a:srgbClr val="730073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Text Box 11"/>
              <p:cNvSpPr/>
              <p:nvPr/>
            </p:nvSpPr>
            <p:spPr>
              <a:xfrm>
                <a:off x="7220160" y="219384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Line 12"/>
            <p:cNvSpPr/>
            <p:nvPr/>
          </p:nvSpPr>
          <p:spPr>
            <a:xfrm>
              <a:off x="2047680" y="3497400"/>
              <a:ext cx="762120" cy="10666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3"/>
            <p:cNvSpPr/>
            <p:nvPr/>
          </p:nvSpPr>
          <p:spPr>
            <a:xfrm flipV="1">
              <a:off x="3647880" y="4030560"/>
              <a:ext cx="1067040" cy="6098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4"/>
            <p:cNvSpPr/>
            <p:nvPr/>
          </p:nvSpPr>
          <p:spPr>
            <a:xfrm flipV="1">
              <a:off x="5781600" y="2646360"/>
              <a:ext cx="1295280" cy="7747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15"/>
            <p:cNvSpPr/>
            <p:nvPr/>
          </p:nvSpPr>
          <p:spPr>
            <a:xfrm>
              <a:off x="2352600" y="2081160"/>
              <a:ext cx="411480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6"/>
            <p:cNvSpPr/>
            <p:nvPr/>
          </p:nvSpPr>
          <p:spPr>
            <a:xfrm>
              <a:off x="2376000" y="577044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7"/>
            <p:cNvSpPr/>
            <p:nvPr/>
          </p:nvSpPr>
          <p:spPr>
            <a:xfrm>
              <a:off x="4662000" y="470376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18"/>
            <p:cNvSpPr/>
            <p:nvPr/>
          </p:nvSpPr>
          <p:spPr>
            <a:xfrm>
              <a:off x="242280" y="386568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300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357120" y="1643040"/>
            <a:ext cx="81439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圆角矩形 48"/>
          <p:cNvSpPr/>
          <p:nvPr/>
        </p:nvSpPr>
        <p:spPr>
          <a:xfrm>
            <a:off x="642960" y="2071800"/>
            <a:ext cx="7643880" cy="3571920"/>
          </a:xfrm>
          <a:prstGeom prst="roundRect">
            <a:avLst>
              <a:gd name="adj" fmla="val 8065"/>
            </a:avLst>
          </a:prstGeom>
          <a:solidFill>
            <a:srgbClr val="e9ece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300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000080" y="2643120"/>
          <a:ext cx="7072200" cy="2786040"/>
        </p:xfrm>
        <a:graphic>
          <a:graphicData uri="http://schemas.openxmlformats.org/drawingml/2006/table">
            <a:tbl>
              <a:tblPr/>
              <a:tblGrid>
                <a:gridCol w="1009800"/>
                <a:gridCol w="1011240"/>
                <a:gridCol w="1009440"/>
                <a:gridCol w="1011240"/>
                <a:gridCol w="1009800"/>
                <a:gridCol w="1011240"/>
                <a:gridCol w="1009440"/>
              </a:tblGrid>
              <a:tr h="5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</a:tr>
              <a:tr h="5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</a:tr>
              <a:tr h="5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</a:tr>
              <a:tr h="55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</a:tr>
              <a:tr h="5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</a:tr>
            </a:tbl>
          </a:graphicData>
        </a:graphic>
      </p:graphicFrame>
      <p:sp>
        <p:nvSpPr>
          <p:cNvPr id="546" name="TextBox 49"/>
          <p:cNvSpPr/>
          <p:nvPr/>
        </p:nvSpPr>
        <p:spPr>
          <a:xfrm>
            <a:off x="1643040" y="21430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300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组合 46"/>
          <p:cNvGrpSpPr/>
          <p:nvPr/>
        </p:nvGrpSpPr>
        <p:grpSpPr>
          <a:xfrm>
            <a:off x="785880" y="3005280"/>
            <a:ext cx="7143840" cy="761760"/>
            <a:chOff x="785880" y="3005280"/>
            <a:chExt cx="7143840" cy="761760"/>
          </a:xfrm>
        </p:grpSpPr>
        <p:sp>
          <p:nvSpPr>
            <p:cNvPr id="549" name="矩形 4"/>
            <p:cNvSpPr/>
            <p:nvPr/>
          </p:nvSpPr>
          <p:spPr>
            <a:xfrm>
              <a:off x="785880" y="3005280"/>
              <a:ext cx="7143840" cy="7617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81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5"/>
            <p:cNvSpPr/>
            <p:nvPr/>
          </p:nvSpPr>
          <p:spPr>
            <a:xfrm>
              <a:off x="785880" y="3005280"/>
              <a:ext cx="844560" cy="761760"/>
            </a:xfrm>
            <a:prstGeom prst="rect">
              <a:avLst/>
            </a:prstGeom>
            <a:gradFill rotWithShape="0">
              <a:gsLst>
                <a:gs pos="0">
                  <a:srgbClr val="1d664e"/>
                </a:gs>
                <a:gs pos="100000">
                  <a:srgbClr val="61d3ae"/>
                </a:gs>
              </a:gsLst>
              <a:lin ang="81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45"/>
          <p:cNvGrpSpPr/>
          <p:nvPr/>
        </p:nvGrpSpPr>
        <p:grpSpPr>
          <a:xfrm>
            <a:off x="785880" y="2022480"/>
            <a:ext cx="7143840" cy="763560"/>
            <a:chOff x="785880" y="2022480"/>
            <a:chExt cx="7143840" cy="763560"/>
          </a:xfrm>
        </p:grpSpPr>
        <p:sp>
          <p:nvSpPr>
            <p:cNvPr id="552" name="矩形 7"/>
            <p:cNvSpPr/>
            <p:nvPr/>
          </p:nvSpPr>
          <p:spPr>
            <a:xfrm>
              <a:off x="785880" y="2022480"/>
              <a:ext cx="7143840" cy="763560"/>
            </a:xfrm>
            <a:prstGeom prst="rect">
              <a:avLst/>
            </a:prstGeom>
            <a:gradFill rotWithShape="0">
              <a:gsLst>
                <a:gs pos="0">
                  <a:srgbClr val="1d664e"/>
                </a:gs>
                <a:gs pos="100000">
                  <a:srgbClr val="61d3ae"/>
                </a:gs>
              </a:gsLst>
              <a:lin ang="81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8"/>
            <p:cNvSpPr/>
            <p:nvPr/>
          </p:nvSpPr>
          <p:spPr>
            <a:xfrm>
              <a:off x="785880" y="2022480"/>
              <a:ext cx="844560" cy="7635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47"/>
          <p:cNvGrpSpPr/>
          <p:nvPr/>
        </p:nvGrpSpPr>
        <p:grpSpPr>
          <a:xfrm>
            <a:off x="785880" y="4000680"/>
            <a:ext cx="7143840" cy="763560"/>
            <a:chOff x="785880" y="4000680"/>
            <a:chExt cx="7143840" cy="763560"/>
          </a:xfrm>
        </p:grpSpPr>
        <p:sp>
          <p:nvSpPr>
            <p:cNvPr id="555" name="矩形 10"/>
            <p:cNvSpPr/>
            <p:nvPr/>
          </p:nvSpPr>
          <p:spPr>
            <a:xfrm>
              <a:off x="785880" y="4000680"/>
              <a:ext cx="7143840" cy="763560"/>
            </a:xfrm>
            <a:prstGeom prst="rect">
              <a:avLst/>
            </a:prstGeom>
            <a:gradFill rotWithShape="0">
              <a:gsLst>
                <a:gs pos="0">
                  <a:srgbClr val="1d664e"/>
                </a:gs>
                <a:gs pos="100000">
                  <a:srgbClr val="61d3ae"/>
                </a:gs>
              </a:gsLst>
              <a:lin ang="81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11"/>
            <p:cNvSpPr/>
            <p:nvPr/>
          </p:nvSpPr>
          <p:spPr>
            <a:xfrm>
              <a:off x="785880" y="4000680"/>
              <a:ext cx="844560" cy="7635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组合 48"/>
          <p:cNvGrpSpPr/>
          <p:nvPr/>
        </p:nvGrpSpPr>
        <p:grpSpPr>
          <a:xfrm>
            <a:off x="785880" y="5072040"/>
            <a:ext cx="7143840" cy="763560"/>
            <a:chOff x="785880" y="5072040"/>
            <a:chExt cx="7143840" cy="763560"/>
          </a:xfrm>
        </p:grpSpPr>
        <p:sp>
          <p:nvSpPr>
            <p:cNvPr id="558" name="矩形 13"/>
            <p:cNvSpPr/>
            <p:nvPr/>
          </p:nvSpPr>
          <p:spPr>
            <a:xfrm>
              <a:off x="785880" y="5072040"/>
              <a:ext cx="7143840" cy="7635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81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14"/>
            <p:cNvSpPr/>
            <p:nvPr/>
          </p:nvSpPr>
          <p:spPr>
            <a:xfrm>
              <a:off x="785880" y="5072040"/>
              <a:ext cx="844560" cy="763560"/>
            </a:xfrm>
            <a:prstGeom prst="rect">
              <a:avLst/>
            </a:prstGeom>
            <a:gradFill rotWithShape="0">
              <a:gsLst>
                <a:gs pos="0">
                  <a:srgbClr val="1d664e"/>
                </a:gs>
                <a:gs pos="100000">
                  <a:srgbClr val="61d3ae"/>
                </a:gs>
              </a:gsLst>
              <a:lin ang="81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TextBox 50"/>
          <p:cNvSpPr/>
          <p:nvPr/>
        </p:nvSpPr>
        <p:spPr>
          <a:xfrm>
            <a:off x="2419200" y="2168640"/>
            <a:ext cx="448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76"/>
          <p:cNvSpPr/>
          <p:nvPr/>
        </p:nvSpPr>
        <p:spPr>
          <a:xfrm>
            <a:off x="2438280" y="4179960"/>
            <a:ext cx="449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77"/>
          <p:cNvSpPr/>
          <p:nvPr/>
        </p:nvSpPr>
        <p:spPr>
          <a:xfrm>
            <a:off x="2438280" y="5214960"/>
            <a:ext cx="449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78"/>
          <p:cNvSpPr/>
          <p:nvPr/>
        </p:nvSpPr>
        <p:spPr>
          <a:xfrm>
            <a:off x="2419200" y="3132000"/>
            <a:ext cx="448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345960"/>
            <a:ext cx="7157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组合 10"/>
          <p:cNvGrpSpPr/>
          <p:nvPr/>
        </p:nvGrpSpPr>
        <p:grpSpPr>
          <a:xfrm>
            <a:off x="357120" y="2500200"/>
            <a:ext cx="8030880" cy="2281320"/>
            <a:chOff x="357120" y="2500200"/>
            <a:chExt cx="8030880" cy="2281320"/>
          </a:xfrm>
        </p:grpSpPr>
        <p:sp>
          <p:nvSpPr>
            <p:cNvPr id="566" name="AutoShape 15"/>
            <p:cNvSpPr/>
            <p:nvPr/>
          </p:nvSpPr>
          <p:spPr>
            <a:xfrm rot="10800000">
              <a:off x="5293800" y="3003840"/>
              <a:ext cx="3031560" cy="1777680"/>
            </a:xfrm>
            <a:prstGeom prst="leftArrow">
              <a:avLst>
                <a:gd name="adj1" fmla="val 53667"/>
                <a:gd name="adj2" fmla="val 4871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525252">
                    <a:alpha val="14117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13"/>
            <p:cNvSpPr/>
            <p:nvPr/>
          </p:nvSpPr>
          <p:spPr>
            <a:xfrm>
              <a:off x="357120" y="3002400"/>
              <a:ext cx="3031560" cy="1777680"/>
            </a:xfrm>
            <a:prstGeom prst="leftArrow">
              <a:avLst>
                <a:gd name="adj1" fmla="val 53667"/>
                <a:gd name="adj2" fmla="val 4871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525252">
                    <a:alpha val="14117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2"/>
            <p:cNvSpPr/>
            <p:nvPr/>
          </p:nvSpPr>
          <p:spPr>
            <a:xfrm>
              <a:off x="2732760" y="3488400"/>
              <a:ext cx="3225960" cy="1291680"/>
            </a:xfrm>
            <a:prstGeom prst="ellipse">
              <a:avLst/>
            </a:prstGeom>
            <a:gradFill rotWithShape="0">
              <a:gsLst>
                <a:gs pos="0">
                  <a:srgbClr val="6c6c6c">
                    <a:alpha val="70196"/>
                  </a:srgbClr>
                </a:gs>
                <a:gs pos="100000">
                  <a:srgbClr val="eaeae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4"/>
            <p:cNvSpPr/>
            <p:nvPr/>
          </p:nvSpPr>
          <p:spPr>
            <a:xfrm>
              <a:off x="3589200" y="2500200"/>
              <a:ext cx="1580400" cy="15804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5"/>
            <p:cNvSpPr/>
            <p:nvPr/>
          </p:nvSpPr>
          <p:spPr>
            <a:xfrm>
              <a:off x="3713760" y="2500200"/>
              <a:ext cx="1317600" cy="116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7"/>
            <p:cNvSpPr/>
            <p:nvPr/>
          </p:nvSpPr>
          <p:spPr>
            <a:xfrm>
              <a:off x="357120" y="2541960"/>
              <a:ext cx="3031560" cy="1777680"/>
            </a:xfrm>
            <a:prstGeom prst="leftArrow">
              <a:avLst>
                <a:gd name="adj1" fmla="val 53667"/>
                <a:gd name="adj2" fmla="val 4871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525252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 rot="10800000">
              <a:off x="5356440" y="2541600"/>
              <a:ext cx="3031560" cy="1777680"/>
            </a:xfrm>
            <a:prstGeom prst="leftArrow">
              <a:avLst>
                <a:gd name="adj1" fmla="val 53667"/>
                <a:gd name="adj2" fmla="val 48713"/>
              </a:avLst>
            </a:prstGeom>
            <a:solidFill>
              <a:srgbClr val="006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TextBox 9"/>
          <p:cNvSpPr/>
          <p:nvPr/>
        </p:nvSpPr>
        <p:spPr>
          <a:xfrm>
            <a:off x="571680" y="4429080"/>
            <a:ext cx="3143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5500800" y="4422600"/>
            <a:ext cx="3143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3071880" y="1714680"/>
            <a:ext cx="31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182520" y="6440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9be02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71360" y="357120"/>
            <a:ext cx="7157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직사각형 45"/>
          <p:cNvSpPr/>
          <p:nvPr/>
        </p:nvSpPr>
        <p:spPr>
          <a:xfrm>
            <a:off x="2205000" y="4468680"/>
            <a:ext cx="1503360" cy="1193760"/>
          </a:xfrm>
          <a:prstGeom prst="rect">
            <a:avLst/>
          </a:prstGeom>
          <a:solidFill>
            <a:srgbClr val="a6a6a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오른쪽 화살표 47"/>
          <p:cNvGrpSpPr/>
          <p:nvPr/>
        </p:nvGrpSpPr>
        <p:grpSpPr>
          <a:xfrm>
            <a:off x="2511360" y="4651200"/>
            <a:ext cx="1165320" cy="938520"/>
            <a:chOff x="2511360" y="4651200"/>
            <a:chExt cx="1165320" cy="938520"/>
          </a:xfrm>
        </p:grpSpPr>
        <p:pic>
          <p:nvPicPr>
            <p:cNvPr id="580" name="오른쪽 화살표 47" descr=""/>
            <p:cNvPicPr/>
            <p:nvPr/>
          </p:nvPicPr>
          <p:blipFill>
            <a:blip r:embed="rId1"/>
            <a:stretch/>
          </p:blipFill>
          <p:spPr>
            <a:xfrm>
              <a:off x="2511360" y="4651200"/>
              <a:ext cx="116532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2516040" y="4897440"/>
              <a:ext cx="920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직사각형 44"/>
          <p:cNvSpPr/>
          <p:nvPr/>
        </p:nvSpPr>
        <p:spPr>
          <a:xfrm>
            <a:off x="2205000" y="2292480"/>
            <a:ext cx="1503360" cy="1191960"/>
          </a:xfrm>
          <a:prstGeom prst="rect">
            <a:avLst/>
          </a:prstGeom>
          <a:solidFill>
            <a:srgbClr val="a6a6a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오른쪽 화살표 46"/>
          <p:cNvGrpSpPr/>
          <p:nvPr/>
        </p:nvGrpSpPr>
        <p:grpSpPr>
          <a:xfrm>
            <a:off x="2511360" y="2419200"/>
            <a:ext cx="1165320" cy="939960"/>
            <a:chOff x="2511360" y="2419200"/>
            <a:chExt cx="1165320" cy="939960"/>
          </a:xfrm>
        </p:grpSpPr>
        <p:pic>
          <p:nvPicPr>
            <p:cNvPr id="584" name="오른쪽 화살표 46" descr=""/>
            <p:cNvPicPr/>
            <p:nvPr/>
          </p:nvPicPr>
          <p:blipFill>
            <a:blip r:embed="rId2"/>
            <a:stretch/>
          </p:blipFill>
          <p:spPr>
            <a:xfrm>
              <a:off x="2511360" y="2419200"/>
              <a:ext cx="116532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2516040" y="2666880"/>
              <a:ext cx="9208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타원 3"/>
          <p:cNvSpPr/>
          <p:nvPr/>
        </p:nvSpPr>
        <p:spPr>
          <a:xfrm>
            <a:off x="909720" y="3587760"/>
            <a:ext cx="1762200" cy="36360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9abec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4"/>
          <p:cNvSpPr/>
          <p:nvPr/>
        </p:nvSpPr>
        <p:spPr>
          <a:xfrm>
            <a:off x="857160" y="1928880"/>
            <a:ext cx="1866960" cy="1866960"/>
          </a:xfrm>
          <a:prstGeom prst="ellipse">
            <a:avLst/>
          </a:prstGeom>
          <a:solidFill>
            <a:srgbClr val="61d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그룹 25"/>
          <p:cNvGrpSpPr/>
          <p:nvPr/>
        </p:nvGrpSpPr>
        <p:grpSpPr>
          <a:xfrm>
            <a:off x="960480" y="2031840"/>
            <a:ext cx="1658880" cy="1659240"/>
            <a:chOff x="960480" y="2031840"/>
            <a:chExt cx="1658880" cy="1659240"/>
          </a:xfrm>
        </p:grpSpPr>
        <p:sp>
          <p:nvSpPr>
            <p:cNvPr id="589" name="Oval 4"/>
            <p:cNvSpPr/>
            <p:nvPr/>
          </p:nvSpPr>
          <p:spPr>
            <a:xfrm>
              <a:off x="960480" y="2031840"/>
              <a:ext cx="1658880" cy="1659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4"/>
            <p:cNvSpPr/>
            <p:nvPr/>
          </p:nvSpPr>
          <p:spPr>
            <a:xfrm>
              <a:off x="1012320" y="2083680"/>
              <a:ext cx="1555200" cy="1555560"/>
            </a:xfrm>
            <a:prstGeom prst="ellipse">
              <a:avLst/>
            </a:prstGeom>
            <a:gradFill rotWithShape="0">
              <a:gsLst>
                <a:gs pos="0">
                  <a:srgbClr val="e1e1e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1" name="Picture 3" descr="C:\Documents and Settings\HANA\바탕 화면\김성태\업무\파워포인트\자료\그림3.png"/>
          <p:cNvPicPr/>
          <p:nvPr/>
        </p:nvPicPr>
        <p:blipFill>
          <a:blip r:embed="rId3"/>
          <a:stretch/>
        </p:blipFill>
        <p:spPr>
          <a:xfrm>
            <a:off x="1000080" y="3224160"/>
            <a:ext cx="1560600" cy="420840"/>
          </a:xfrm>
          <a:prstGeom prst="rect">
            <a:avLst/>
          </a:prstGeom>
          <a:ln w="0">
            <a:noFill/>
          </a:ln>
        </p:spPr>
      </p:pic>
      <p:sp>
        <p:nvSpPr>
          <p:cNvPr id="592" name="타원 29"/>
          <p:cNvSpPr/>
          <p:nvPr/>
        </p:nvSpPr>
        <p:spPr>
          <a:xfrm>
            <a:off x="909720" y="5765760"/>
            <a:ext cx="1762200" cy="36360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9abec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4"/>
          <p:cNvSpPr/>
          <p:nvPr/>
        </p:nvSpPr>
        <p:spPr>
          <a:xfrm>
            <a:off x="857160" y="4106880"/>
            <a:ext cx="1866960" cy="1866960"/>
          </a:xfrm>
          <a:prstGeom prst="ellipse">
            <a:avLst/>
          </a:prstGeom>
          <a:solidFill>
            <a:srgbClr val="61d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그룹 31"/>
          <p:cNvGrpSpPr/>
          <p:nvPr/>
        </p:nvGrpSpPr>
        <p:grpSpPr>
          <a:xfrm>
            <a:off x="960480" y="4210200"/>
            <a:ext cx="1658880" cy="1658880"/>
            <a:chOff x="960480" y="4210200"/>
            <a:chExt cx="1658880" cy="1658880"/>
          </a:xfrm>
        </p:grpSpPr>
        <p:sp>
          <p:nvSpPr>
            <p:cNvPr id="595" name="Oval 4"/>
            <p:cNvSpPr/>
            <p:nvPr/>
          </p:nvSpPr>
          <p:spPr>
            <a:xfrm>
              <a:off x="960480" y="4210200"/>
              <a:ext cx="1658880" cy="1658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4"/>
            <p:cNvSpPr/>
            <p:nvPr/>
          </p:nvSpPr>
          <p:spPr>
            <a:xfrm>
              <a:off x="1012320" y="4262040"/>
              <a:ext cx="1555200" cy="1555200"/>
            </a:xfrm>
            <a:prstGeom prst="ellipse">
              <a:avLst/>
            </a:prstGeom>
            <a:gradFill rotWithShape="0">
              <a:gsLst>
                <a:gs pos="0">
                  <a:srgbClr val="e1e1e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Oval 118"/>
          <p:cNvSpPr/>
          <p:nvPr/>
        </p:nvSpPr>
        <p:spPr>
          <a:xfrm>
            <a:off x="1220760" y="4262400"/>
            <a:ext cx="1139760" cy="82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타원 36"/>
          <p:cNvGrpSpPr/>
          <p:nvPr/>
        </p:nvGrpSpPr>
        <p:grpSpPr>
          <a:xfrm>
            <a:off x="1103400" y="3121200"/>
            <a:ext cx="1377720" cy="188640"/>
            <a:chOff x="1103400" y="3121200"/>
            <a:chExt cx="1377720" cy="188640"/>
          </a:xfrm>
        </p:grpSpPr>
        <p:pic>
          <p:nvPicPr>
            <p:cNvPr id="599" name="타원 36" descr=""/>
            <p:cNvPicPr/>
            <p:nvPr/>
          </p:nvPicPr>
          <p:blipFill>
            <a:blip r:embed="rId4"/>
            <a:stretch/>
          </p:blipFill>
          <p:spPr>
            <a:xfrm>
              <a:off x="1103400" y="3121200"/>
              <a:ext cx="13777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303200" y="3149640"/>
              <a:ext cx="97488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1" name="Picture 4" descr="C:\Documents and Settings\HANA\바탕 화면\김성태\업무\파워포인트\자료\그림3.png"/>
          <p:cNvPicPr/>
          <p:nvPr/>
        </p:nvPicPr>
        <p:blipFill>
          <a:blip r:embed="rId5"/>
          <a:stretch/>
        </p:blipFill>
        <p:spPr>
          <a:xfrm>
            <a:off x="1006560" y="5041800"/>
            <a:ext cx="1560600" cy="779400"/>
          </a:xfrm>
          <a:prstGeom prst="rect">
            <a:avLst/>
          </a:prstGeom>
          <a:ln w="0">
            <a:noFill/>
          </a:ln>
        </p:spPr>
      </p:pic>
      <p:sp>
        <p:nvSpPr>
          <p:cNvPr id="602" name="Oval 118"/>
          <p:cNvSpPr/>
          <p:nvPr/>
        </p:nvSpPr>
        <p:spPr>
          <a:xfrm>
            <a:off x="1220760" y="2084400"/>
            <a:ext cx="1139760" cy="83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타원 39"/>
          <p:cNvGrpSpPr/>
          <p:nvPr/>
        </p:nvGrpSpPr>
        <p:grpSpPr>
          <a:xfrm>
            <a:off x="1011240" y="4937040"/>
            <a:ext cx="1555920" cy="189000"/>
            <a:chOff x="1011240" y="4937040"/>
            <a:chExt cx="1555920" cy="189000"/>
          </a:xfrm>
        </p:grpSpPr>
        <p:pic>
          <p:nvPicPr>
            <p:cNvPr id="604" name="타원 39" descr=""/>
            <p:cNvPicPr/>
            <p:nvPr/>
          </p:nvPicPr>
          <p:blipFill>
            <a:blip r:embed="rId6"/>
            <a:stretch/>
          </p:blipFill>
          <p:spPr>
            <a:xfrm>
              <a:off x="1011240" y="4937040"/>
              <a:ext cx="155592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239840" y="4964040"/>
              <a:ext cx="11001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34"/>
          <p:cNvGrpSpPr/>
          <p:nvPr/>
        </p:nvGrpSpPr>
        <p:grpSpPr>
          <a:xfrm>
            <a:off x="3760920" y="2290680"/>
            <a:ext cx="4668840" cy="1193760"/>
            <a:chOff x="3760920" y="2290680"/>
            <a:chExt cx="4668840" cy="1193760"/>
          </a:xfrm>
        </p:grpSpPr>
        <p:sp>
          <p:nvSpPr>
            <p:cNvPr id="607" name="Rectangle 52"/>
            <p:cNvSpPr/>
            <p:nvPr/>
          </p:nvSpPr>
          <p:spPr>
            <a:xfrm>
              <a:off x="3760920" y="2290680"/>
              <a:ext cx="4668840" cy="261720"/>
            </a:xfrm>
            <a:prstGeom prst="rect">
              <a:avLst/>
            </a:prstGeom>
            <a:gradFill rotWithShape="0">
              <a:gsLst>
                <a:gs pos="0">
                  <a:srgbClr val="61d3ae"/>
                </a:gs>
                <a:gs pos="100000">
                  <a:srgbClr val="3c5723"/>
                </a:gs>
              </a:gsLst>
              <a:lin ang="27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53"/>
            <p:cNvSpPr/>
            <p:nvPr/>
          </p:nvSpPr>
          <p:spPr>
            <a:xfrm>
              <a:off x="3760920" y="2550960"/>
              <a:ext cx="4668840" cy="933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35"/>
          <p:cNvGrpSpPr/>
          <p:nvPr/>
        </p:nvGrpSpPr>
        <p:grpSpPr>
          <a:xfrm>
            <a:off x="3760920" y="4468680"/>
            <a:ext cx="4668840" cy="1193760"/>
            <a:chOff x="3760920" y="4468680"/>
            <a:chExt cx="4668840" cy="1193760"/>
          </a:xfrm>
        </p:grpSpPr>
        <p:sp>
          <p:nvSpPr>
            <p:cNvPr id="610" name="Rectangle 52"/>
            <p:cNvSpPr/>
            <p:nvPr/>
          </p:nvSpPr>
          <p:spPr>
            <a:xfrm>
              <a:off x="3760920" y="4468680"/>
              <a:ext cx="4668840" cy="261720"/>
            </a:xfrm>
            <a:prstGeom prst="rect">
              <a:avLst/>
            </a:prstGeom>
            <a:gradFill rotWithShape="0">
              <a:gsLst>
                <a:gs pos="0">
                  <a:srgbClr val="61d3ae"/>
                </a:gs>
                <a:gs pos="100000">
                  <a:srgbClr val="3c5723"/>
                </a:gs>
              </a:gsLst>
              <a:lin ang="27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53"/>
            <p:cNvSpPr/>
            <p:nvPr/>
          </p:nvSpPr>
          <p:spPr>
            <a:xfrm>
              <a:off x="3760920" y="4728960"/>
              <a:ext cx="4668840" cy="933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TextBox 36"/>
          <p:cNvSpPr/>
          <p:nvPr/>
        </p:nvSpPr>
        <p:spPr>
          <a:xfrm>
            <a:off x="4071960" y="2786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37"/>
          <p:cNvSpPr/>
          <p:nvPr/>
        </p:nvSpPr>
        <p:spPr>
          <a:xfrm>
            <a:off x="4000680" y="492912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2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2133720" y="2495520"/>
            <a:ext cx="5257080" cy="2895120"/>
            <a:chOff x="2133720" y="2495520"/>
            <a:chExt cx="5257080" cy="2895120"/>
          </a:xfrm>
        </p:grpSpPr>
        <p:sp>
          <p:nvSpPr>
            <p:cNvPr id="616" name="Freeform 4"/>
            <p:cNvSpPr/>
            <p:nvPr/>
          </p:nvSpPr>
          <p:spPr>
            <a:xfrm>
              <a:off x="2926080" y="3985200"/>
              <a:ext cx="4464720" cy="1405440"/>
            </a:xfrm>
            <a:custGeom>
              <a:avLst/>
              <a:gdLst>
                <a:gd name="textAreaLeft" fmla="*/ 0 w 4464720"/>
                <a:gd name="textAreaRight" fmla="*/ 4465080 w 4464720"/>
                <a:gd name="textAreaTop" fmla="*/ 0 h 1405440"/>
                <a:gd name="textAreaBottom" fmla="*/ 1405440 h 14054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"/>
            <p:cNvSpPr/>
            <p:nvPr/>
          </p:nvSpPr>
          <p:spPr>
            <a:xfrm>
              <a:off x="3762000" y="2495520"/>
              <a:ext cx="3619440" cy="1786320"/>
            </a:xfrm>
            <a:custGeom>
              <a:avLst/>
              <a:gdLst>
                <a:gd name="textAreaLeft" fmla="*/ 0 w 3619440"/>
                <a:gd name="textAreaRight" fmla="*/ 3619800 w 3619440"/>
                <a:gd name="textAreaTop" fmla="*/ 0 h 1786320"/>
                <a:gd name="textAreaBottom" fmla="*/ 1786680 h 17863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"/>
            <p:cNvSpPr/>
            <p:nvPr/>
          </p:nvSpPr>
          <p:spPr>
            <a:xfrm>
              <a:off x="2133720" y="2891880"/>
              <a:ext cx="1977840" cy="201312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2013120"/>
                <a:gd name="textAreaBottom" fmla="*/ 2013480 h 201312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7"/>
          <p:cNvGrpSpPr/>
          <p:nvPr/>
        </p:nvGrpSpPr>
        <p:grpSpPr>
          <a:xfrm>
            <a:off x="2057400" y="2419200"/>
            <a:ext cx="5333760" cy="2819520"/>
            <a:chOff x="2057400" y="2419200"/>
            <a:chExt cx="5333760" cy="2819520"/>
          </a:xfrm>
        </p:grpSpPr>
        <p:sp>
          <p:nvSpPr>
            <p:cNvPr id="620" name="Freeform 8"/>
            <p:cNvSpPr/>
            <p:nvPr/>
          </p:nvSpPr>
          <p:spPr>
            <a:xfrm>
              <a:off x="2861280" y="38700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253616"/>
                </a:gs>
                <a:gs pos="100000">
                  <a:srgbClr val="5074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"/>
            <p:cNvSpPr/>
            <p:nvPr/>
          </p:nvSpPr>
          <p:spPr>
            <a:xfrm>
              <a:off x="3709440" y="241920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268868"/>
                </a:gs>
                <a:gs pos="100000">
                  <a:srgbClr val="123f3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"/>
            <p:cNvSpPr/>
            <p:nvPr/>
          </p:nvSpPr>
          <p:spPr>
            <a:xfrm>
              <a:off x="2057400" y="280512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d9be02"/>
                </a:gs>
                <a:gs pos="100000">
                  <a:srgbClr val="e3d0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AutoShape 11"/>
          <p:cNvSpPr/>
          <p:nvPr/>
        </p:nvSpPr>
        <p:spPr>
          <a:xfrm>
            <a:off x="5829480" y="1676520"/>
            <a:ext cx="2743200" cy="914400"/>
          </a:xfrm>
          <a:noFill/>
          <a:ln w="9360">
            <a:solidFill>
              <a:srgbClr val="006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2"/>
          <p:cNvSpPr/>
          <p:nvPr/>
        </p:nvSpPr>
        <p:spPr>
          <a:xfrm>
            <a:off x="4876920" y="5391000"/>
            <a:ext cx="3047760" cy="854280"/>
          </a:xfrm>
          <a:noFill/>
          <a:ln w="9360">
            <a:solidFill>
              <a:srgbClr val="50742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3"/>
          <p:cNvSpPr/>
          <p:nvPr/>
        </p:nvSpPr>
        <p:spPr>
          <a:xfrm>
            <a:off x="285840" y="1733400"/>
            <a:ext cx="2592360" cy="965520"/>
          </a:xfrm>
          <a:noFill/>
          <a:ln w="9360">
            <a:solidFill>
              <a:srgbClr val="00464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2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7" name="Group 41"/>
          <p:cNvGrpSpPr/>
          <p:nvPr/>
        </p:nvGrpSpPr>
        <p:grpSpPr>
          <a:xfrm>
            <a:off x="1000080" y="1828800"/>
            <a:ext cx="6781680" cy="4114800"/>
            <a:chOff x="1000080" y="1828800"/>
            <a:chExt cx="6781680" cy="4114800"/>
          </a:xfrm>
        </p:grpSpPr>
        <p:sp>
          <p:nvSpPr>
            <p:cNvPr id="628" name="AutoShape 2"/>
            <p:cNvSpPr/>
            <p:nvPr/>
          </p:nvSpPr>
          <p:spPr>
            <a:xfrm>
              <a:off x="350352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3"/>
            <p:cNvSpPr/>
            <p:nvPr/>
          </p:nvSpPr>
          <p:spPr>
            <a:xfrm>
              <a:off x="100008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4"/>
            <p:cNvSpPr/>
            <p:nvPr/>
          </p:nvSpPr>
          <p:spPr>
            <a:xfrm>
              <a:off x="602928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6"/>
            <p:cNvSpPr/>
            <p:nvPr/>
          </p:nvSpPr>
          <p:spPr>
            <a:xfrm>
              <a:off x="293184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074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7"/>
            <p:cNvSpPr/>
            <p:nvPr/>
          </p:nvSpPr>
          <p:spPr>
            <a:xfrm>
              <a:off x="539424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d9b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60022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9be0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60022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d9be0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61131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756701"/>
                </a:gs>
                <a:gs pos="50000">
                  <a:srgbClr val="d9be02"/>
                </a:gs>
                <a:gs pos="100000">
                  <a:srgbClr val="7567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1"/>
            <p:cNvSpPr/>
            <p:nvPr/>
          </p:nvSpPr>
          <p:spPr>
            <a:xfrm>
              <a:off x="613872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a7901"/>
                </a:gs>
                <a:gs pos="100000">
                  <a:srgbClr val="d9be0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12"/>
            <p:cNvSpPr/>
            <p:nvPr/>
          </p:nvSpPr>
          <p:spPr>
            <a:xfrm>
              <a:off x="619272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13"/>
            <p:cNvSpPr/>
            <p:nvPr/>
          </p:nvSpPr>
          <p:spPr>
            <a:xfrm>
              <a:off x="107604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900f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4"/>
            <p:cNvSpPr/>
            <p:nvPr/>
          </p:nvSpPr>
          <p:spPr>
            <a:xfrm>
              <a:off x="107604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900f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15"/>
            <p:cNvSpPr/>
            <p:nvPr/>
          </p:nvSpPr>
          <p:spPr>
            <a:xfrm>
              <a:off x="118728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70087"/>
                </a:gs>
                <a:gs pos="50000">
                  <a:srgbClr val="f900f9"/>
                </a:gs>
                <a:gs pos="100000">
                  <a:srgbClr val="87008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16"/>
            <p:cNvSpPr/>
            <p:nvPr/>
          </p:nvSpPr>
          <p:spPr>
            <a:xfrm>
              <a:off x="118872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e009e"/>
                </a:gs>
                <a:gs pos="100000">
                  <a:srgbClr val="f900f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17"/>
            <p:cNvSpPr/>
            <p:nvPr/>
          </p:nvSpPr>
          <p:spPr>
            <a:xfrm>
              <a:off x="12618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Group 18"/>
            <p:cNvGrpSpPr/>
            <p:nvPr/>
          </p:nvGrpSpPr>
          <p:grpSpPr>
            <a:xfrm>
              <a:off x="1282680" y="2031840"/>
              <a:ext cx="1290600" cy="1278000"/>
              <a:chOff x="1282680" y="2031840"/>
              <a:chExt cx="1290600" cy="1278000"/>
            </a:xfrm>
          </p:grpSpPr>
          <p:sp>
            <p:nvSpPr>
              <p:cNvPr id="644" name="Oval 19"/>
              <p:cNvSpPr/>
              <p:nvPr/>
            </p:nvSpPr>
            <p:spPr>
              <a:xfrm>
                <a:off x="128268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Oval 20"/>
              <p:cNvSpPr/>
              <p:nvPr/>
            </p:nvSpPr>
            <p:spPr>
              <a:xfrm>
                <a:off x="129888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Oval 21"/>
              <p:cNvSpPr/>
              <p:nvPr/>
            </p:nvSpPr>
            <p:spPr>
              <a:xfrm>
                <a:off x="131256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22"/>
              <p:cNvSpPr/>
              <p:nvPr/>
            </p:nvSpPr>
            <p:spPr>
              <a:xfrm>
                <a:off x="138240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Oval 23"/>
            <p:cNvSpPr/>
            <p:nvPr/>
          </p:nvSpPr>
          <p:spPr>
            <a:xfrm>
              <a:off x="353988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0742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24"/>
            <p:cNvSpPr/>
            <p:nvPr/>
          </p:nvSpPr>
          <p:spPr>
            <a:xfrm>
              <a:off x="353988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50742f">
                    <a:alpha val="32156"/>
                  </a:srgbClr>
                </a:gs>
                <a:gs pos="100000">
                  <a:srgbClr val="2536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25"/>
            <p:cNvSpPr/>
            <p:nvPr/>
          </p:nvSpPr>
          <p:spPr>
            <a:xfrm>
              <a:off x="365112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b3f19"/>
                </a:gs>
                <a:gs pos="50000">
                  <a:srgbClr val="50742f"/>
                </a:gs>
                <a:gs pos="100000">
                  <a:srgbClr val="2b3f1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26"/>
            <p:cNvSpPr/>
            <p:nvPr/>
          </p:nvSpPr>
          <p:spPr>
            <a:xfrm>
              <a:off x="365256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34a1e"/>
                </a:gs>
                <a:gs pos="100000">
                  <a:srgbClr val="50742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27"/>
            <p:cNvSpPr/>
            <p:nvPr/>
          </p:nvSpPr>
          <p:spPr>
            <a:xfrm>
              <a:off x="372420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28"/>
            <p:cNvGrpSpPr/>
            <p:nvPr/>
          </p:nvGrpSpPr>
          <p:grpSpPr>
            <a:xfrm>
              <a:off x="3746160" y="2031840"/>
              <a:ext cx="1290960" cy="1278000"/>
              <a:chOff x="3746160" y="2031840"/>
              <a:chExt cx="1290960" cy="1278000"/>
            </a:xfrm>
          </p:grpSpPr>
          <p:sp>
            <p:nvSpPr>
              <p:cNvPr id="654" name="Oval 29"/>
              <p:cNvSpPr/>
              <p:nvPr/>
            </p:nvSpPr>
            <p:spPr>
              <a:xfrm>
                <a:off x="374616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Oval 30"/>
              <p:cNvSpPr/>
              <p:nvPr/>
            </p:nvSpPr>
            <p:spPr>
              <a:xfrm>
                <a:off x="376236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Oval 31"/>
              <p:cNvSpPr/>
              <p:nvPr/>
            </p:nvSpPr>
            <p:spPr>
              <a:xfrm>
                <a:off x="377604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Oval 32"/>
              <p:cNvSpPr/>
              <p:nvPr/>
            </p:nvSpPr>
            <p:spPr>
              <a:xfrm>
                <a:off x="38462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Group 33"/>
            <p:cNvGrpSpPr/>
            <p:nvPr/>
          </p:nvGrpSpPr>
          <p:grpSpPr>
            <a:xfrm>
              <a:off x="6216480" y="2031840"/>
              <a:ext cx="1292400" cy="1278000"/>
              <a:chOff x="6216480" y="2031840"/>
              <a:chExt cx="1292400" cy="1278000"/>
            </a:xfrm>
          </p:grpSpPr>
          <p:sp>
            <p:nvSpPr>
              <p:cNvPr id="659" name="Oval 34"/>
              <p:cNvSpPr/>
              <p:nvPr/>
            </p:nvSpPr>
            <p:spPr>
              <a:xfrm>
                <a:off x="621648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Oval 35"/>
              <p:cNvSpPr/>
              <p:nvPr/>
            </p:nvSpPr>
            <p:spPr>
              <a:xfrm>
                <a:off x="623268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Oval 36"/>
              <p:cNvSpPr/>
              <p:nvPr/>
            </p:nvSpPr>
            <p:spPr>
              <a:xfrm>
                <a:off x="624636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Oval 37"/>
              <p:cNvSpPr/>
              <p:nvPr/>
            </p:nvSpPr>
            <p:spPr>
              <a:xfrm>
                <a:off x="631656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" name="Text Box 38"/>
            <p:cNvSpPr/>
            <p:nvPr/>
          </p:nvSpPr>
          <p:spPr>
            <a:xfrm>
              <a:off x="157464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39"/>
            <p:cNvSpPr/>
            <p:nvPr/>
          </p:nvSpPr>
          <p:spPr>
            <a:xfrm>
              <a:off x="404316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40"/>
            <p:cNvSpPr/>
            <p:nvPr/>
          </p:nvSpPr>
          <p:spPr>
            <a:xfrm>
              <a:off x="651024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71360" y="357120"/>
            <a:ext cx="7157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Group 35"/>
          <p:cNvGrpSpPr/>
          <p:nvPr/>
        </p:nvGrpSpPr>
        <p:grpSpPr>
          <a:xfrm>
            <a:off x="1219320" y="1219320"/>
            <a:ext cx="5786280" cy="5078160"/>
            <a:chOff x="1219320" y="1219320"/>
            <a:chExt cx="5786280" cy="5078160"/>
          </a:xfrm>
        </p:grpSpPr>
        <p:sp>
          <p:nvSpPr>
            <p:cNvPr id="668" name="Oval 34"/>
            <p:cNvSpPr/>
            <p:nvPr/>
          </p:nvSpPr>
          <p:spPr>
            <a:xfrm>
              <a:off x="5133960" y="2079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33"/>
            <p:cNvSpPr/>
            <p:nvPr/>
          </p:nvSpPr>
          <p:spPr>
            <a:xfrm>
              <a:off x="3848040" y="3765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32"/>
            <p:cNvSpPr/>
            <p:nvPr/>
          </p:nvSpPr>
          <p:spPr>
            <a:xfrm>
              <a:off x="5181480" y="5791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31"/>
            <p:cNvSpPr/>
            <p:nvPr/>
          </p:nvSpPr>
          <p:spPr>
            <a:xfrm>
              <a:off x="1447920" y="4427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7"/>
            <p:cNvSpPr/>
            <p:nvPr/>
          </p:nvSpPr>
          <p:spPr>
            <a:xfrm rot="13770000">
              <a:off x="4684320" y="3660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8"/>
            <p:cNvSpPr/>
            <p:nvPr/>
          </p:nvSpPr>
          <p:spPr>
            <a:xfrm rot="20856000">
              <a:off x="2695320" y="3208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Group 9"/>
            <p:cNvGrpSpPr/>
            <p:nvPr/>
          </p:nvGrpSpPr>
          <p:grpSpPr>
            <a:xfrm>
              <a:off x="3633840" y="1902240"/>
              <a:ext cx="1706400" cy="1836360"/>
              <a:chOff x="3633840" y="1902240"/>
              <a:chExt cx="1706400" cy="1836360"/>
            </a:xfrm>
          </p:grpSpPr>
          <p:sp>
            <p:nvSpPr>
              <p:cNvPr id="675" name="Rectangle 10"/>
              <p:cNvSpPr/>
              <p:nvPr/>
            </p:nvSpPr>
            <p:spPr>
              <a:xfrm rot="18394200">
                <a:off x="4810680" y="2115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6" name="Group 11"/>
              <p:cNvGrpSpPr/>
              <p:nvPr/>
            </p:nvGrpSpPr>
            <p:grpSpPr>
              <a:xfrm>
                <a:off x="3633840" y="2147760"/>
                <a:ext cx="1609560" cy="1590840"/>
                <a:chOff x="3633840" y="2147760"/>
                <a:chExt cx="1609560" cy="1590840"/>
              </a:xfrm>
            </p:grpSpPr>
            <p:sp>
              <p:nvSpPr>
                <p:cNvPr id="677" name="Oval 12"/>
                <p:cNvSpPr/>
                <p:nvPr/>
              </p:nvSpPr>
              <p:spPr>
                <a:xfrm>
                  <a:off x="3633840" y="2147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900f9"/>
                    </a:gs>
                    <a:gs pos="100000">
                      <a:srgbClr val="3d00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3"/>
                <p:cNvSpPr/>
                <p:nvPr/>
              </p:nvSpPr>
              <p:spPr>
                <a:xfrm>
                  <a:off x="3817800" y="2174040"/>
                  <a:ext cx="1241640" cy="600480"/>
                </a:xfrm>
                <a:custGeom>
                  <a:avLst/>
                  <a:gdLst>
                    <a:gd name="textAreaLeft" fmla="*/ 0 w 1241640"/>
                    <a:gd name="textAreaRight" fmla="*/ 1242000 w 1241640"/>
                    <a:gd name="textAreaTop" fmla="*/ 0 h 600480"/>
                    <a:gd name="textAreaBottom" fmla="*/ 600840 h 600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900f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9" name="Text Box 14"/>
              <p:cNvSpPr/>
              <p:nvPr/>
            </p:nvSpPr>
            <p:spPr>
              <a:xfrm>
                <a:off x="3720600" y="2840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5"/>
            <p:cNvGrpSpPr/>
            <p:nvPr/>
          </p:nvGrpSpPr>
          <p:grpSpPr>
            <a:xfrm>
              <a:off x="5043600" y="1219320"/>
              <a:ext cx="891720" cy="861840"/>
              <a:chOff x="5043600" y="1219320"/>
              <a:chExt cx="891720" cy="861840"/>
            </a:xfrm>
          </p:grpSpPr>
          <p:grpSp>
            <p:nvGrpSpPr>
              <p:cNvPr id="681" name="Group 16"/>
              <p:cNvGrpSpPr/>
              <p:nvPr/>
            </p:nvGrpSpPr>
            <p:grpSpPr>
              <a:xfrm>
                <a:off x="5043600" y="1219320"/>
                <a:ext cx="871560" cy="861840"/>
                <a:chOff x="5043600" y="1219320"/>
                <a:chExt cx="871560" cy="861840"/>
              </a:xfrm>
            </p:grpSpPr>
            <p:sp>
              <p:nvSpPr>
                <p:cNvPr id="682" name="Oval 17"/>
                <p:cNvSpPr/>
                <p:nvPr/>
              </p:nvSpPr>
              <p:spPr>
                <a:xfrm>
                  <a:off x="5043600" y="1219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0742f"/>
                    </a:gs>
                    <a:gs pos="100000">
                      <a:srgbClr val="2435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8"/>
                <p:cNvSpPr/>
                <p:nvPr/>
              </p:nvSpPr>
              <p:spPr>
                <a:xfrm>
                  <a:off x="5142960" y="1233360"/>
                  <a:ext cx="672480" cy="325080"/>
                </a:xfrm>
                <a:custGeom>
                  <a:avLst/>
                  <a:gdLst>
                    <a:gd name="textAreaLeft" fmla="*/ 0 w 672480"/>
                    <a:gd name="textAreaRight" fmla="*/ 672480 w 672480"/>
                    <a:gd name="textAreaTop" fmla="*/ 0 h 325080"/>
                    <a:gd name="textAreaBottom" fmla="*/ 325440 h 3250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074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4" name="Text Box 19"/>
              <p:cNvSpPr/>
              <p:nvPr/>
            </p:nvSpPr>
            <p:spPr>
              <a:xfrm>
                <a:off x="5064120" y="1550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Group 20"/>
            <p:cNvGrpSpPr/>
            <p:nvPr/>
          </p:nvGrpSpPr>
          <p:grpSpPr>
            <a:xfrm>
              <a:off x="1219320" y="2544840"/>
              <a:ext cx="1744560" cy="1790640"/>
              <a:chOff x="1219320" y="2544840"/>
              <a:chExt cx="1744560" cy="1790640"/>
            </a:xfrm>
          </p:grpSpPr>
          <p:grpSp>
            <p:nvGrpSpPr>
              <p:cNvPr id="686" name="Group 21"/>
              <p:cNvGrpSpPr/>
              <p:nvPr/>
            </p:nvGrpSpPr>
            <p:grpSpPr>
              <a:xfrm>
                <a:off x="1219320" y="2544840"/>
                <a:ext cx="1744560" cy="1790640"/>
                <a:chOff x="1219320" y="2544840"/>
                <a:chExt cx="1744560" cy="1790640"/>
              </a:xfrm>
            </p:grpSpPr>
            <p:sp>
              <p:nvSpPr>
                <p:cNvPr id="687" name="Oval 22"/>
                <p:cNvSpPr/>
                <p:nvPr/>
              </p:nvSpPr>
              <p:spPr>
                <a:xfrm>
                  <a:off x="1219320" y="2544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68868"/>
                    </a:gs>
                    <a:gs pos="100000">
                      <a:srgbClr val="1c634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23"/>
                <p:cNvSpPr/>
                <p:nvPr/>
              </p:nvSpPr>
              <p:spPr>
                <a:xfrm>
                  <a:off x="1418760" y="2574360"/>
                  <a:ext cx="1345680" cy="675720"/>
                </a:xfrm>
                <a:custGeom>
                  <a:avLst/>
                  <a:gdLst>
                    <a:gd name="textAreaLeft" fmla="*/ 0 w 1345680"/>
                    <a:gd name="textAreaRight" fmla="*/ 1346040 w 1345680"/>
                    <a:gd name="textAreaTop" fmla="*/ 0 h 675720"/>
                    <a:gd name="textAreaBottom" fmla="*/ 676080 h 6757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688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Text Box 24"/>
              <p:cNvSpPr/>
              <p:nvPr/>
            </p:nvSpPr>
            <p:spPr>
              <a:xfrm>
                <a:off x="1313280" y="3340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25"/>
            <p:cNvGrpSpPr/>
            <p:nvPr/>
          </p:nvGrpSpPr>
          <p:grpSpPr>
            <a:xfrm>
              <a:off x="4975200" y="3805200"/>
              <a:ext cx="2013120" cy="1989000"/>
              <a:chOff x="4975200" y="3805200"/>
              <a:chExt cx="2013120" cy="1989000"/>
            </a:xfrm>
          </p:grpSpPr>
          <p:grpSp>
            <p:nvGrpSpPr>
              <p:cNvPr id="691" name="Group 26"/>
              <p:cNvGrpSpPr/>
              <p:nvPr/>
            </p:nvGrpSpPr>
            <p:grpSpPr>
              <a:xfrm>
                <a:off x="4975200" y="3805200"/>
                <a:ext cx="2013120" cy="1989000"/>
                <a:chOff x="4975200" y="3805200"/>
                <a:chExt cx="2013120" cy="1989000"/>
              </a:xfrm>
            </p:grpSpPr>
            <p:sp>
              <p:nvSpPr>
                <p:cNvPr id="692" name="Oval 27"/>
                <p:cNvSpPr/>
                <p:nvPr/>
              </p:nvSpPr>
              <p:spPr>
                <a:xfrm>
                  <a:off x="4975200" y="3805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be02"/>
                    </a:gs>
                    <a:gs pos="100000">
                      <a:srgbClr val="7668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28"/>
                <p:cNvSpPr/>
                <p:nvPr/>
              </p:nvSpPr>
              <p:spPr>
                <a:xfrm>
                  <a:off x="5205240" y="3837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be0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Text Box 29"/>
              <p:cNvSpPr/>
              <p:nvPr/>
            </p:nvSpPr>
            <p:spPr>
              <a:xfrm>
                <a:off x="5263560" y="4667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00:20:49Z</dcterms:created>
  <dc:creator>USER</dc:creator>
  <dc:description/>
  <dc:language>en-US</dc:language>
  <cp:lastModifiedBy>a</cp:lastModifiedBy>
  <dcterms:modified xsi:type="dcterms:W3CDTF">2015-07-25T01:45:44Z</dcterms:modified>
  <cp:revision>31</cp:revision>
  <dc:subject/>
  <dc:title>幻灯片 1</dc:title>
</cp:coreProperties>
</file>