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3F78-A94D-439B-87D5-20A32CF4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EB2-1337-4B01-9CEF-37283BE3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81D-4D00-4150-8603-C637A83E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A2D-A2C2-41FB-A475-1BA93A67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6439-704F-4D7C-937A-1CAE60E2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D761-894F-4DAC-B486-07010D97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D43A-FC35-4048-A44B-D0D3116A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2B79-74C6-4BEB-942A-19AEABE4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198E-D7C8-4E47-B074-30DEF305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4947-0116-49E4-9809-D486D926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9469-74B0-41B1-9EB3-4A29F8EF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B05-90A6-4EAA-A442-2C49E525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B204-3153-4E54-A81D-97886533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6412-6D2B-4A9A-BA1A-5325C19E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405B-3B11-4963-B7A4-F1B1C845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D6E0-DC51-41AE-8944-7926B9F9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7612-8F06-4F42-B7E8-E2F54C7A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0B6-5371-4110-A64B-E2FD366D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544-6333-4D3B-B851-5B474E5C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904-3776-4A11-A710-A1F02C23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D53-3C58-4A7E-8D53-AA3B8334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3E4C-4436-4AA6-991A-19B1C322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1FC-A597-4BA5-A9B2-2D00E3FD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B40-36B1-40DC-8AC6-2AD29CAD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9AFA-E60D-4454-94AC-31F73E9E3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5562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F3EE-FA6A-4173-8FDF-C72624BE7437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9"/>
          <p:cNvSpPr/>
          <p:nvPr/>
        </p:nvSpPr>
        <p:spPr>
          <a:xfrm>
            <a:off x="838080" y="3276720"/>
            <a:ext cx="705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绿色家园通用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57200" y="45720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57200" y="1447920"/>
            <a:ext cx="83059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配色方案修改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配色方案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格式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幻灯片设计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配色方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编辑配色方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下调整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添加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添加修改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下调整。直接选择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图片删除或修改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字体格式的设置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括标题和文本格式的设置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下调整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默认设置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首页主标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（中文黑体英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加粗；副标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（中文黑体英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加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页标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（中文黑体英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加粗；内页内容文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（宋体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441520" y="38088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38480" y="3200040"/>
            <a:ext cx="43862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2T03:38:1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