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745-7F8B-45AC-AFB6-F75361A0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553-4A34-43C2-98F6-1830A3E9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C59-5875-4896-8D47-20AA742B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148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204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148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204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ABC-8A32-4E69-B583-4DF37286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0CA-C536-4995-AC2D-424592D3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8CED-0B53-4A46-8546-A6BB7533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B252-29FB-4E13-9CA1-F094021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93E-206A-41BC-B3FB-6B35528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CC9-AE14-4B6E-A729-4DB5B0E9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681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B7A7-01D0-492F-84F9-BA8692B9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9DDD-ADD5-462A-96FD-2C179BC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E6D-FA0F-43D5-9485-1FD71CF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E87-E818-4309-80DE-3A43641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1CD-60B0-4B69-A4FF-E7C3AB6C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56E-686E-4E56-8041-8B1A7BC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5DA-0AF8-4F10-8F5F-E008767C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148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72040" y="105264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6148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72040" y="3647880"/>
            <a:ext cx="22953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2F29-E353-4535-B94A-B787EFA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ECC-4A09-4EC1-B846-9DF3CC1A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6B9-EFF2-4B70-8360-858BC25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3BC-DD49-4999-985B-1E57AC6D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681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BB6-EB9D-48E7-BF8A-92BCC673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C75-AC34-4D7A-86F6-34368B0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04200" y="364788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A22-E785-4171-9FD7-554F504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04200" y="1052640"/>
            <a:ext cx="34790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647880"/>
            <a:ext cx="71294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6E4-9639-4684-96A3-AB58F87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8360" y="188640"/>
            <a:ext cx="223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616536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9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828-BABC-46ED-9197-705397C27B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79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8200" y="6165360"/>
            <a:ext cx="395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03640" y="115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B0B6-4B52-4463-B05F-D06C69FF73DF}" type="slidenum">
              <a:rPr b="1" lang="ru-RU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792144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双鱼爱情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560" y="2303280"/>
            <a:ext cx="5113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name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4681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12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8360" y="6342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4:38:18Z</dcterms:modified>
  <cp:revision>8</cp:revision>
  <dc:subject/>
  <dc:title>Слайд 1</dc:title>
</cp:coreProperties>
</file>