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D43-F1D9-4090-8D2F-43980885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ECC-8E7A-4A0E-8FC7-8B966B6A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1ED-7474-4B5D-8DDD-E181F90F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2A5-1278-4151-975A-D1ACF70B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D2D-2E9E-4520-9C82-8BF04993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E94-9325-49DA-9B0A-2057236F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A99-AE8C-4D5B-8C88-38A06642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372-2774-49E8-9C42-6664410A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19D-6E85-4DD4-AD53-CC673E5D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209-7BD8-4BDB-990D-C3953098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761-13FC-42CF-913C-7D4DDB35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666-0660-4A9B-8A1F-FE278C69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CCFEC8-BC29-45EB-81A3-902853E6C17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7640" y="4418280"/>
            <a:ext cx="8316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两条围巾两个人的世界通用</a:t>
            </a:r>
            <a:r>
              <a:rPr b="0" lang="en-US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699640" y="5157360"/>
            <a:ext cx="410400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7956360" y="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  <Words>100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20T03:24:2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