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B78D-8080-4CDA-911D-EA4212E58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724D-73A3-46FD-A9A6-0498BA6C0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1CE2-92E8-46FB-8AD8-7B4D39E9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7148-ADC7-44C2-9C9C-824448BDA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2D754-0EE1-42AB-AA4C-CFE54932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6162A-0318-4E0A-9537-742884A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F119E-0D4F-4551-A4D0-35C84161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4BB9-7148-43E7-96EA-46EB25F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B7FE-EC61-4476-8FBE-FEF3AF20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5973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A48CD-EAFA-4D2D-B1AB-0E75BE2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0BE3-98EB-438D-A3FE-FFDBC5D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3742-DE2A-409C-9742-EBE41331A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D46C-68B2-4481-951F-28884AA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7FDE2-C0FC-4791-A7AC-0AB3ECF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25008-CD74-4DB1-9097-0B50960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3126F-AB61-4B92-81A9-2AE3C7F8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BFE8-8B56-4B12-A6DF-6F97122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42B-4AC2-4AAA-8B86-3720DB276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1FDB-CC30-4D8E-8BCD-5994B43A6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CC54-7128-4029-BF24-502E19321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5973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3E0-7102-4F24-A7C9-F16FB96E1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42A3-891C-4719-A257-55669C6AA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9059-949C-4217-A9A4-8DB9ECAA8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5973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F6A9-F05F-4DB4-8D9E-01E8D37F7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3"/>
          <p:cNvSpPr/>
          <p:nvPr/>
        </p:nvSpPr>
        <p:spPr>
          <a:xfrm>
            <a:off x="228600" y="590400"/>
            <a:ext cx="8686800" cy="5791320"/>
          </a:xfrm>
          <a:prstGeom prst="rect">
            <a:avLst/>
          </a:prstGeom>
          <a:noFill/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54"/>
          <p:cNvSpPr/>
          <p:nvPr/>
        </p:nvSpPr>
        <p:spPr>
          <a:xfrm>
            <a:off x="609480" y="190440"/>
            <a:ext cx="556272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47CD-55EA-4987-8BAB-97F67DBACD7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59" descr="03_icon"/>
          <p:cNvPicPr/>
          <p:nvPr/>
        </p:nvPicPr>
        <p:blipFill>
          <a:blip r:embed="rId3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4"/>
          <p:cNvSpPr/>
          <p:nvPr/>
        </p:nvSpPr>
        <p:spPr>
          <a:xfrm>
            <a:off x="357120" y="1171440"/>
            <a:ext cx="8406000" cy="47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" name="Picture 30" descr="03_back"/>
          <p:cNvPicPr/>
          <p:nvPr/>
        </p:nvPicPr>
        <p:blipFill>
          <a:blip r:embed="rId3"/>
          <a:stretch/>
        </p:blipFill>
        <p:spPr>
          <a:xfrm>
            <a:off x="374760" y="1197000"/>
            <a:ext cx="8346960" cy="470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03_icon"/>
          <p:cNvPicPr/>
          <p:nvPr/>
        </p:nvPicPr>
        <p:blipFill>
          <a:blip r:embed="rId4"/>
          <a:stretch/>
        </p:blipFill>
        <p:spPr>
          <a:xfrm>
            <a:off x="2895480" y="4648320"/>
            <a:ext cx="749520" cy="927000"/>
          </a:xfrm>
          <a:prstGeom prst="rect">
            <a:avLst/>
          </a:prstGeom>
          <a:ln w="0">
            <a:noFill/>
          </a:ln>
        </p:spPr>
      </p:pic>
      <p:sp>
        <p:nvSpPr>
          <p:cNvPr id="45" name="Line 32"/>
          <p:cNvSpPr/>
          <p:nvPr/>
        </p:nvSpPr>
        <p:spPr>
          <a:xfrm>
            <a:off x="3635280" y="5029200"/>
            <a:ext cx="51055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380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ED2A-5AAD-4BCF-82C9-6FF6866903C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128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绿叶通用</a:t>
            </a:r>
            <a:r>
              <a:rPr b="0" lang="en-US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方正粗倩简体"/>
                <a:ea typeface="方正粗倩简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09480" y="190440"/>
            <a:ext cx="5562720" cy="717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5973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84360" y="1052640"/>
            <a:ext cx="6911640" cy="1368000"/>
            <a:chOff x="684360" y="1052640"/>
            <a:chExt cx="6911640" cy="1368000"/>
          </a:xfrm>
        </p:grpSpPr>
        <p:sp>
          <p:nvSpPr>
            <p:cNvPr id="93" name="AutoShape 5"/>
            <p:cNvSpPr/>
            <p:nvPr/>
          </p:nvSpPr>
          <p:spPr>
            <a:xfrm>
              <a:off x="813240" y="1104480"/>
              <a:ext cx="6782760" cy="1263960"/>
            </a:xfrm>
            <a:custGeom>
              <a:avLst/>
              <a:gdLst>
                <a:gd name="textAreaLeft" fmla="*/ 155880 w 6782760"/>
                <a:gd name="textAreaRight" fmla="*/ 6626880 w 6782760"/>
                <a:gd name="textAreaTop" fmla="*/ 155880 h 1263960"/>
                <a:gd name="textAreaBottom" fmla="*/ 1108080 h 1263960"/>
              </a:gdLst>
              <a:ahLst/>
              <a:rect l="textAreaLeft" t="textAreaTop" r="textAreaRight" b="textAreaBottom"/>
              <a:pathLst>
                <a:path w="115885" h="21600">
                  <a:moveTo>
                    <a:pt x="3769" y="0"/>
                  </a:moveTo>
                  <a:arcTo wR="3769" hR="3769" stAng="0" swAng="5400000"/>
                  <a:lnTo>
                    <a:pt x="0" y="17831"/>
                  </a:lnTo>
                  <a:arcTo wR="3769" hR="3769" stAng="16200000" swAng="5400000"/>
                  <a:lnTo>
                    <a:pt x="112116" y="21600"/>
                  </a:lnTo>
                  <a:arcTo wR="3769" hR="3769" stAng="10800000" swAng="5400000"/>
                  <a:lnTo>
                    <a:pt x="115885" y="3769"/>
                  </a:lnTo>
                  <a:arcTo wR="3769" hR="3769" stAng="5400000" swAng="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944280" y="1368000"/>
              <a:ext cx="0" cy="84132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684360" y="1052640"/>
              <a:ext cx="390960" cy="315360"/>
            </a:xfrm>
            <a:prstGeom prst="ellipse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47005e"/>
                </a:gs>
              </a:gsLst>
              <a:lin ang="189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813240" y="1368000"/>
              <a:ext cx="0" cy="84132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684360" y="2104920"/>
              <a:ext cx="390960" cy="31572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189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" name="AutoShape 10"/>
          <p:cNvSpPr/>
          <p:nvPr/>
        </p:nvSpPr>
        <p:spPr>
          <a:xfrm>
            <a:off x="826920" y="2833560"/>
            <a:ext cx="6782040" cy="1263600"/>
          </a:xfrm>
          <a:custGeom>
            <a:avLst/>
            <a:gdLst>
              <a:gd name="textAreaLeft" fmla="*/ 155880 w 6782040"/>
              <a:gd name="textAreaRight" fmla="*/ 6626160 w 6782040"/>
              <a:gd name="textAreaTop" fmla="*/ 155880 h 1263600"/>
              <a:gd name="textAreaBottom" fmla="*/ 1107720 h 1263600"/>
            </a:gdLst>
            <a:ahLst/>
            <a:rect l="textAreaLeft" t="textAreaTop" r="textAreaRight" b="textAreaBottom"/>
            <a:pathLst>
              <a:path w="115905" h="21600">
                <a:moveTo>
                  <a:pt x="3769" y="0"/>
                </a:moveTo>
                <a:arcTo wR="3769" hR="3769" stAng="0" swAng="5400000"/>
                <a:lnTo>
                  <a:pt x="0" y="17831"/>
                </a:lnTo>
                <a:arcTo wR="3769" hR="3769" stAng="16200000" swAng="5400000"/>
                <a:lnTo>
                  <a:pt x="112136" y="21600"/>
                </a:lnTo>
                <a:arcTo wR="3769" hR="3769" stAng="10800000" swAng="5400000"/>
                <a:lnTo>
                  <a:pt x="115905" y="3769"/>
                </a:lnTo>
                <a:arcTo wR="3769" hR="3769" stAng="5400000" swAng="5400000"/>
                <a:close/>
              </a:path>
            </a:pathLst>
          </a:cu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7610400" y="3097080"/>
            <a:ext cx="0" cy="83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7350120" y="2781360"/>
            <a:ext cx="390600" cy="31572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7480440" y="3097080"/>
            <a:ext cx="0" cy="84168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350120" y="3833640"/>
            <a:ext cx="39060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826920" y="4633920"/>
            <a:ext cx="6782040" cy="1263600"/>
          </a:xfrm>
          <a:custGeom>
            <a:avLst/>
            <a:gdLst>
              <a:gd name="textAreaLeft" fmla="*/ 155880 w 6782040"/>
              <a:gd name="textAreaRight" fmla="*/ 6626160 w 6782040"/>
              <a:gd name="textAreaTop" fmla="*/ 155880 h 1263600"/>
              <a:gd name="textAreaBottom" fmla="*/ 1107720 h 1263600"/>
            </a:gdLst>
            <a:ahLst/>
            <a:rect l="textAreaLeft" t="textAreaTop" r="textAreaRight" b="textAreaBottom"/>
            <a:pathLst>
              <a:path w="115905" h="21600">
                <a:moveTo>
                  <a:pt x="3769" y="0"/>
                </a:moveTo>
                <a:arcTo wR="3769" hR="3769" stAng="0" swAng="5400000"/>
                <a:lnTo>
                  <a:pt x="0" y="17831"/>
                </a:lnTo>
                <a:arcTo wR="3769" hR="3769" stAng="16200000" swAng="5400000"/>
                <a:lnTo>
                  <a:pt x="112136" y="21600"/>
                </a:lnTo>
                <a:arcTo wR="3769" hR="3769" stAng="10800000" swAng="5400000"/>
                <a:lnTo>
                  <a:pt x="115905" y="3769"/>
                </a:lnTo>
                <a:arcTo wR="3769" hR="3769" stAng="5400000" swAng="5400000"/>
                <a:close/>
              </a:path>
            </a:pathLst>
          </a:custGeom>
          <a:solidFill>
            <a:srgbClr val="eaeaea"/>
          </a:solidFill>
          <a:ln w="0">
            <a:noFill/>
          </a:ln>
          <a:effectLst>
            <a:outerShdw dist="153753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10400" y="4897440"/>
            <a:ext cx="0" cy="83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7350120" y="4581360"/>
            <a:ext cx="390600" cy="3160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7480440" y="4897440"/>
            <a:ext cx="0" cy="8413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7350120" y="5634000"/>
            <a:ext cx="39060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944640" y="4897440"/>
            <a:ext cx="0" cy="83520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84360" y="4581360"/>
            <a:ext cx="390240" cy="316080"/>
          </a:xfrm>
          <a:prstGeom prst="ellipse">
            <a:avLst/>
          </a:prstGeom>
          <a:gradFill rotWithShape="0">
            <a:gsLst>
              <a:gs pos="0">
                <a:srgbClr val="9900cc"/>
              </a:gs>
              <a:gs pos="100000">
                <a:srgbClr val="4700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814320" y="4897440"/>
            <a:ext cx="0" cy="841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684360" y="5634000"/>
            <a:ext cx="390240" cy="3160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1116000" y="1413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116000" y="3141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1116000" y="501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lcome to use these powerpoint templates, New Content design, 10 years experience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5" name="Picture 27" descr="03_icon"/>
          <p:cNvPicPr/>
          <p:nvPr/>
        </p:nvPicPr>
        <p:blipFill>
          <a:blip r:embed="rId1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4360" y="3068640"/>
            <a:ext cx="4648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6:21:15Z</dcterms:created>
  <dc:creator>user</dc:creator>
  <dc:description/>
  <dc:language>en-US</dc:language>
  <cp:lastModifiedBy>王玉清</cp:lastModifiedBy>
  <dcterms:modified xsi:type="dcterms:W3CDTF">2016-02-21T04:52:36Z</dcterms:modified>
  <cp:revision>109</cp:revision>
  <dc:subject/>
  <dc:title>PowerPoint Template</dc:title>
</cp:coreProperties>
</file>