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3F7-42AF-49FB-9E5C-C8105B90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062-C461-4318-91D2-6FFA1902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B64-02E7-4925-8FD7-2A1FE9E9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918-3E92-4769-AAF7-CD849C4F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388-96CC-4FA0-BFFF-7FBFBEE5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EBDB-C566-4BE8-AB6A-22F6EA30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29A-DA12-41B5-9D4E-7F8A7157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89F-98DD-444A-A359-1A0BD2A4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9D35-A964-4696-8633-71E69E4F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32B-F8F3-4BC3-A56C-88546820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CF6-014C-4BF1-AF50-D18B45D3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3B2-ADA5-4E77-8E84-99BD4E6F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8DDC-EF3A-4870-9ECD-C01AF11CF2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00080" y="3500280"/>
            <a:ext cx="48578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071720" y="400068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802800" y="476280"/>
            <a:ext cx="730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木板风格商务通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组合 9" descr=""/>
          <p:cNvPicPr/>
          <p:nvPr/>
        </p:nvPicPr>
        <p:blipFill>
          <a:blip r:embed="rId2"/>
          <a:stretch/>
        </p:blipFill>
        <p:spPr>
          <a:xfrm>
            <a:off x="2809800" y="1427040"/>
            <a:ext cx="3908520" cy="858960"/>
          </a:xfrm>
          <a:prstGeom prst="rect">
            <a:avLst/>
          </a:prstGeom>
          <a:ln w="0">
            <a:noFill/>
          </a:ln>
        </p:spPr>
      </p:pic>
      <p:pic>
        <p:nvPicPr>
          <p:cNvPr id="52" name="组合 13" descr=""/>
          <p:cNvPicPr/>
          <p:nvPr/>
        </p:nvPicPr>
        <p:blipFill>
          <a:blip r:embed="rId3"/>
          <a:stretch/>
        </p:blipFill>
        <p:spPr>
          <a:xfrm>
            <a:off x="2798640" y="2359080"/>
            <a:ext cx="3900600" cy="860400"/>
          </a:xfrm>
          <a:prstGeom prst="rect">
            <a:avLst/>
          </a:prstGeom>
          <a:ln w="0">
            <a:noFill/>
          </a:ln>
        </p:spPr>
      </p:pic>
      <p:pic>
        <p:nvPicPr>
          <p:cNvPr id="53" name="组合 16" descr=""/>
          <p:cNvPicPr/>
          <p:nvPr/>
        </p:nvPicPr>
        <p:blipFill>
          <a:blip r:embed="rId4"/>
          <a:stretch/>
        </p:blipFill>
        <p:spPr>
          <a:xfrm>
            <a:off x="2809800" y="3286080"/>
            <a:ext cx="3908520" cy="858960"/>
          </a:xfrm>
          <a:prstGeom prst="rect">
            <a:avLst/>
          </a:prstGeom>
          <a:ln w="0">
            <a:noFill/>
          </a:ln>
        </p:spPr>
      </p:pic>
      <p:pic>
        <p:nvPicPr>
          <p:cNvPr id="54" name="组合 19" descr=""/>
          <p:cNvPicPr/>
          <p:nvPr/>
        </p:nvPicPr>
        <p:blipFill>
          <a:blip r:embed="rId5"/>
          <a:stretch/>
        </p:blipFill>
        <p:spPr>
          <a:xfrm>
            <a:off x="2809800" y="4211640"/>
            <a:ext cx="3908520" cy="860400"/>
          </a:xfrm>
          <a:prstGeom prst="rect">
            <a:avLst/>
          </a:prstGeom>
          <a:ln w="0">
            <a:noFill/>
          </a:ln>
        </p:spPr>
      </p:pic>
      <p:sp>
        <p:nvSpPr>
          <p:cNvPr id="55" name="矩形 20"/>
          <p:cNvSpPr/>
          <p:nvPr/>
        </p:nvSpPr>
        <p:spPr>
          <a:xfrm>
            <a:off x="4497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44978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4497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4497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5"/>
          <p:cNvSpPr/>
          <p:nvPr/>
        </p:nvSpPr>
        <p:spPr>
          <a:xfrm>
            <a:off x="1806480" y="1285920"/>
            <a:ext cx="1803600" cy="4479840"/>
          </a:xfrm>
          <a:custGeom>
            <a:avLst/>
            <a:gdLst/>
            <a:ahLst/>
            <a:rect l="l" t="t" r="r" b="b"/>
            <a:pathLst>
              <a:path w="2088232" h="4968552">
                <a:moveTo>
                  <a:pt x="348046" y="0"/>
                </a:moveTo>
                <a:lnTo>
                  <a:pt x="1740186" y="0"/>
                </a:lnTo>
                <a:cubicBezTo>
                  <a:pt x="1932406" y="0"/>
                  <a:pt x="2088232" y="155826"/>
                  <a:pt x="2088232" y="348046"/>
                </a:cubicBezTo>
                <a:lnTo>
                  <a:pt x="2088232" y="4965280"/>
                </a:lnTo>
                <a:lnTo>
                  <a:pt x="2014428" y="4838031"/>
                </a:lnTo>
                <a:lnTo>
                  <a:pt x="1938726" y="4968552"/>
                </a:lnTo>
                <a:lnTo>
                  <a:pt x="1872033" y="4968552"/>
                </a:lnTo>
                <a:lnTo>
                  <a:pt x="1796331" y="4838031"/>
                </a:lnTo>
                <a:lnTo>
                  <a:pt x="1720629" y="4968552"/>
                </a:lnTo>
                <a:lnTo>
                  <a:pt x="1653936" y="4968552"/>
                </a:lnTo>
                <a:lnTo>
                  <a:pt x="1578234" y="4838031"/>
                </a:lnTo>
                <a:lnTo>
                  <a:pt x="1502532" y="4968552"/>
                </a:lnTo>
                <a:lnTo>
                  <a:pt x="1435839" y="4968552"/>
                </a:lnTo>
                <a:lnTo>
                  <a:pt x="1360137" y="4838031"/>
                </a:lnTo>
                <a:lnTo>
                  <a:pt x="1284435" y="4968552"/>
                </a:lnTo>
                <a:lnTo>
                  <a:pt x="1217742" y="4968552"/>
                </a:lnTo>
                <a:lnTo>
                  <a:pt x="1142040" y="4838031"/>
                </a:lnTo>
                <a:lnTo>
                  <a:pt x="1066338" y="4968552"/>
                </a:lnTo>
                <a:lnTo>
                  <a:pt x="999645" y="4968552"/>
                </a:lnTo>
                <a:lnTo>
                  <a:pt x="923943" y="4838031"/>
                </a:lnTo>
                <a:lnTo>
                  <a:pt x="848241" y="4968552"/>
                </a:lnTo>
                <a:lnTo>
                  <a:pt x="781548" y="4968552"/>
                </a:lnTo>
                <a:lnTo>
                  <a:pt x="705846" y="4838031"/>
                </a:lnTo>
                <a:lnTo>
                  <a:pt x="630144" y="4968552"/>
                </a:lnTo>
                <a:lnTo>
                  <a:pt x="563451" y="4968552"/>
                </a:lnTo>
                <a:lnTo>
                  <a:pt x="487749" y="4838031"/>
                </a:lnTo>
                <a:lnTo>
                  <a:pt x="412047" y="4968552"/>
                </a:lnTo>
                <a:lnTo>
                  <a:pt x="345354" y="4968552"/>
                </a:lnTo>
                <a:lnTo>
                  <a:pt x="269652" y="4838031"/>
                </a:lnTo>
                <a:lnTo>
                  <a:pt x="193950" y="4968552"/>
                </a:lnTo>
                <a:lnTo>
                  <a:pt x="127257" y="4968552"/>
                </a:lnTo>
                <a:lnTo>
                  <a:pt x="51555" y="4838031"/>
                </a:lnTo>
                <a:lnTo>
                  <a:pt x="0" y="4926919"/>
                </a:lnTo>
                <a:lnTo>
                  <a:pt x="0" y="348046"/>
                </a:lnTo>
                <a:cubicBezTo>
                  <a:pt x="0" y="155826"/>
                  <a:pt x="155826" y="0"/>
                  <a:pt x="348046" y="0"/>
                </a:cubicBezTo>
                <a:close/>
              </a:path>
            </a:pathLst>
          </a:custGeom>
          <a:solidFill>
            <a:srgbClr val="528138"/>
          </a:solidFill>
          <a:ln w="0">
            <a:noFill/>
          </a:ln>
          <a:effectLst>
            <a:outerShdw dist="76184" dir="11993435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extBox 11" descr=""/>
          <p:cNvPicPr/>
          <p:nvPr/>
        </p:nvPicPr>
        <p:blipFill>
          <a:blip r:embed="rId1"/>
          <a:stretch/>
        </p:blipFill>
        <p:spPr>
          <a:xfrm>
            <a:off x="2109960" y="1450800"/>
            <a:ext cx="1206360" cy="1785960"/>
          </a:xfrm>
          <a:prstGeom prst="rect">
            <a:avLst/>
          </a:prstGeom>
          <a:ln w="0">
            <a:noFill/>
          </a:ln>
        </p:spPr>
      </p:pic>
      <p:grpSp>
        <p:nvGrpSpPr>
          <p:cNvPr id="66" name="椭圆 12"/>
          <p:cNvGrpSpPr/>
          <p:nvPr/>
        </p:nvGrpSpPr>
        <p:grpSpPr>
          <a:xfrm>
            <a:off x="2614680" y="1573200"/>
            <a:ext cx="177840" cy="176400"/>
            <a:chOff x="2614680" y="1573200"/>
            <a:chExt cx="177840" cy="176400"/>
          </a:xfrm>
        </p:grpSpPr>
        <p:pic>
          <p:nvPicPr>
            <p:cNvPr id="67" name="椭圆 12" descr=""/>
            <p:cNvPicPr/>
            <p:nvPr/>
          </p:nvPicPr>
          <p:blipFill>
            <a:blip r:embed="rId2"/>
            <a:stretch/>
          </p:blipFill>
          <p:spPr>
            <a:xfrm>
              <a:off x="2614680" y="1573200"/>
              <a:ext cx="17784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649600" y="1606680"/>
              <a:ext cx="1112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矩形 13"/>
          <p:cNvSpPr/>
          <p:nvPr/>
        </p:nvSpPr>
        <p:spPr>
          <a:xfrm>
            <a:off x="2678040" y="1285920"/>
            <a:ext cx="77760" cy="376200"/>
          </a:xfrm>
          <a:prstGeom prst="rect">
            <a:avLst/>
          </a:prstGeom>
          <a:gradFill rotWithShape="0">
            <a:gsLst>
              <a:gs pos="0">
                <a:srgbClr val="623f11"/>
              </a:gs>
              <a:gs pos="100000">
                <a:srgbClr val="ab71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5"/>
          <p:cNvSpPr/>
          <p:nvPr/>
        </p:nvSpPr>
        <p:spPr>
          <a:xfrm>
            <a:off x="3894120" y="1285920"/>
            <a:ext cx="1805040" cy="4479840"/>
          </a:xfrm>
          <a:custGeom>
            <a:avLst/>
            <a:gdLst/>
            <a:ahLst/>
            <a:rect l="l" t="t" r="r" b="b"/>
            <a:pathLst>
              <a:path w="2088232" h="4968552">
                <a:moveTo>
                  <a:pt x="348046" y="0"/>
                </a:moveTo>
                <a:lnTo>
                  <a:pt x="1740186" y="0"/>
                </a:lnTo>
                <a:cubicBezTo>
                  <a:pt x="1932406" y="0"/>
                  <a:pt x="2088232" y="155826"/>
                  <a:pt x="2088232" y="348046"/>
                </a:cubicBezTo>
                <a:lnTo>
                  <a:pt x="2088232" y="4965280"/>
                </a:lnTo>
                <a:lnTo>
                  <a:pt x="2014428" y="4838031"/>
                </a:lnTo>
                <a:lnTo>
                  <a:pt x="1938726" y="4968552"/>
                </a:lnTo>
                <a:lnTo>
                  <a:pt x="1872033" y="4968552"/>
                </a:lnTo>
                <a:lnTo>
                  <a:pt x="1796331" y="4838031"/>
                </a:lnTo>
                <a:lnTo>
                  <a:pt x="1720629" y="4968552"/>
                </a:lnTo>
                <a:lnTo>
                  <a:pt x="1653936" y="4968552"/>
                </a:lnTo>
                <a:lnTo>
                  <a:pt x="1578234" y="4838031"/>
                </a:lnTo>
                <a:lnTo>
                  <a:pt x="1502532" y="4968552"/>
                </a:lnTo>
                <a:lnTo>
                  <a:pt x="1435839" y="4968552"/>
                </a:lnTo>
                <a:lnTo>
                  <a:pt x="1360137" y="4838031"/>
                </a:lnTo>
                <a:lnTo>
                  <a:pt x="1284435" y="4968552"/>
                </a:lnTo>
                <a:lnTo>
                  <a:pt x="1217742" y="4968552"/>
                </a:lnTo>
                <a:lnTo>
                  <a:pt x="1142040" y="4838031"/>
                </a:lnTo>
                <a:lnTo>
                  <a:pt x="1066338" y="4968552"/>
                </a:lnTo>
                <a:lnTo>
                  <a:pt x="999645" y="4968552"/>
                </a:lnTo>
                <a:lnTo>
                  <a:pt x="923943" y="4838031"/>
                </a:lnTo>
                <a:lnTo>
                  <a:pt x="848241" y="4968552"/>
                </a:lnTo>
                <a:lnTo>
                  <a:pt x="781548" y="4968552"/>
                </a:lnTo>
                <a:lnTo>
                  <a:pt x="705846" y="4838031"/>
                </a:lnTo>
                <a:lnTo>
                  <a:pt x="630144" y="4968552"/>
                </a:lnTo>
                <a:lnTo>
                  <a:pt x="563451" y="4968552"/>
                </a:lnTo>
                <a:lnTo>
                  <a:pt x="487749" y="4838031"/>
                </a:lnTo>
                <a:lnTo>
                  <a:pt x="412047" y="4968552"/>
                </a:lnTo>
                <a:lnTo>
                  <a:pt x="345354" y="4968552"/>
                </a:lnTo>
                <a:lnTo>
                  <a:pt x="269652" y="4838031"/>
                </a:lnTo>
                <a:lnTo>
                  <a:pt x="193950" y="4968552"/>
                </a:lnTo>
                <a:lnTo>
                  <a:pt x="127257" y="4968552"/>
                </a:lnTo>
                <a:lnTo>
                  <a:pt x="51555" y="4838031"/>
                </a:lnTo>
                <a:lnTo>
                  <a:pt x="0" y="4926919"/>
                </a:lnTo>
                <a:lnTo>
                  <a:pt x="0" y="348046"/>
                </a:lnTo>
                <a:cubicBezTo>
                  <a:pt x="0" y="155826"/>
                  <a:pt x="155826" y="0"/>
                  <a:pt x="348046" y="0"/>
                </a:cubicBezTo>
                <a:close/>
              </a:path>
            </a:pathLst>
          </a:custGeom>
          <a:solidFill>
            <a:srgbClr val="d17355"/>
          </a:solidFill>
          <a:ln w="0">
            <a:noFill/>
          </a:ln>
          <a:effectLst>
            <a:outerShdw dist="76184" dir="11993435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extBox 15" descr=""/>
          <p:cNvPicPr/>
          <p:nvPr/>
        </p:nvPicPr>
        <p:blipFill>
          <a:blip r:embed="rId3"/>
          <a:stretch/>
        </p:blipFill>
        <p:spPr>
          <a:xfrm>
            <a:off x="4286160" y="1450800"/>
            <a:ext cx="1084320" cy="1785960"/>
          </a:xfrm>
          <a:prstGeom prst="rect">
            <a:avLst/>
          </a:prstGeom>
          <a:ln w="0">
            <a:noFill/>
          </a:ln>
        </p:spPr>
      </p:pic>
      <p:grpSp>
        <p:nvGrpSpPr>
          <p:cNvPr id="72" name="椭圆 16"/>
          <p:cNvGrpSpPr/>
          <p:nvPr/>
        </p:nvGrpSpPr>
        <p:grpSpPr>
          <a:xfrm>
            <a:off x="4376880" y="1573200"/>
            <a:ext cx="182520" cy="176400"/>
            <a:chOff x="4376880" y="1573200"/>
            <a:chExt cx="182520" cy="176400"/>
          </a:xfrm>
        </p:grpSpPr>
        <p:pic>
          <p:nvPicPr>
            <p:cNvPr id="73" name="椭圆 16" descr=""/>
            <p:cNvPicPr/>
            <p:nvPr/>
          </p:nvPicPr>
          <p:blipFill>
            <a:blip r:embed="rId4"/>
            <a:stretch/>
          </p:blipFill>
          <p:spPr>
            <a:xfrm>
              <a:off x="4376880" y="1573200"/>
              <a:ext cx="18252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413240" y="1606680"/>
              <a:ext cx="1094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7"/>
          <p:cNvSpPr/>
          <p:nvPr/>
        </p:nvSpPr>
        <p:spPr>
          <a:xfrm>
            <a:off x="4440240" y="1285920"/>
            <a:ext cx="77760" cy="376200"/>
          </a:xfrm>
          <a:prstGeom prst="rect">
            <a:avLst/>
          </a:prstGeom>
          <a:gradFill rotWithShape="0">
            <a:gsLst>
              <a:gs pos="0">
                <a:srgbClr val="623f11"/>
              </a:gs>
              <a:gs pos="100000">
                <a:srgbClr val="ab71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 5"/>
          <p:cNvSpPr/>
          <p:nvPr/>
        </p:nvSpPr>
        <p:spPr>
          <a:xfrm>
            <a:off x="5981760" y="1285920"/>
            <a:ext cx="1805040" cy="4479840"/>
          </a:xfrm>
          <a:custGeom>
            <a:avLst/>
            <a:gdLst/>
            <a:ahLst/>
            <a:rect l="l" t="t" r="r" b="b"/>
            <a:pathLst>
              <a:path w="2088232" h="4968552">
                <a:moveTo>
                  <a:pt x="348046" y="0"/>
                </a:moveTo>
                <a:lnTo>
                  <a:pt x="1740186" y="0"/>
                </a:lnTo>
                <a:cubicBezTo>
                  <a:pt x="1932406" y="0"/>
                  <a:pt x="2088232" y="155826"/>
                  <a:pt x="2088232" y="348046"/>
                </a:cubicBezTo>
                <a:lnTo>
                  <a:pt x="2088232" y="4965280"/>
                </a:lnTo>
                <a:lnTo>
                  <a:pt x="2014428" y="4838031"/>
                </a:lnTo>
                <a:lnTo>
                  <a:pt x="1938726" y="4968552"/>
                </a:lnTo>
                <a:lnTo>
                  <a:pt x="1872033" y="4968552"/>
                </a:lnTo>
                <a:lnTo>
                  <a:pt x="1796331" y="4838031"/>
                </a:lnTo>
                <a:lnTo>
                  <a:pt x="1720629" y="4968552"/>
                </a:lnTo>
                <a:lnTo>
                  <a:pt x="1653936" y="4968552"/>
                </a:lnTo>
                <a:lnTo>
                  <a:pt x="1578234" y="4838031"/>
                </a:lnTo>
                <a:lnTo>
                  <a:pt x="1502532" y="4968552"/>
                </a:lnTo>
                <a:lnTo>
                  <a:pt x="1435839" y="4968552"/>
                </a:lnTo>
                <a:lnTo>
                  <a:pt x="1360137" y="4838031"/>
                </a:lnTo>
                <a:lnTo>
                  <a:pt x="1284435" y="4968552"/>
                </a:lnTo>
                <a:lnTo>
                  <a:pt x="1217742" y="4968552"/>
                </a:lnTo>
                <a:lnTo>
                  <a:pt x="1142040" y="4838031"/>
                </a:lnTo>
                <a:lnTo>
                  <a:pt x="1066338" y="4968552"/>
                </a:lnTo>
                <a:lnTo>
                  <a:pt x="999645" y="4968552"/>
                </a:lnTo>
                <a:lnTo>
                  <a:pt x="923943" y="4838031"/>
                </a:lnTo>
                <a:lnTo>
                  <a:pt x="848241" y="4968552"/>
                </a:lnTo>
                <a:lnTo>
                  <a:pt x="781548" y="4968552"/>
                </a:lnTo>
                <a:lnTo>
                  <a:pt x="705846" y="4838031"/>
                </a:lnTo>
                <a:lnTo>
                  <a:pt x="630144" y="4968552"/>
                </a:lnTo>
                <a:lnTo>
                  <a:pt x="563451" y="4968552"/>
                </a:lnTo>
                <a:lnTo>
                  <a:pt x="487749" y="4838031"/>
                </a:lnTo>
                <a:lnTo>
                  <a:pt x="412047" y="4968552"/>
                </a:lnTo>
                <a:lnTo>
                  <a:pt x="345354" y="4968552"/>
                </a:lnTo>
                <a:lnTo>
                  <a:pt x="269652" y="4838031"/>
                </a:lnTo>
                <a:lnTo>
                  <a:pt x="193950" y="4968552"/>
                </a:lnTo>
                <a:lnTo>
                  <a:pt x="127257" y="4968552"/>
                </a:lnTo>
                <a:lnTo>
                  <a:pt x="51555" y="4838031"/>
                </a:lnTo>
                <a:lnTo>
                  <a:pt x="0" y="4926919"/>
                </a:lnTo>
                <a:lnTo>
                  <a:pt x="0" y="348046"/>
                </a:lnTo>
                <a:cubicBezTo>
                  <a:pt x="0" y="155826"/>
                  <a:pt x="155826" y="0"/>
                  <a:pt x="348046" y="0"/>
                </a:cubicBezTo>
                <a:close/>
              </a:path>
            </a:pathLst>
          </a:custGeom>
          <a:solidFill>
            <a:srgbClr val="528138"/>
          </a:solidFill>
          <a:ln w="0">
            <a:noFill/>
          </a:ln>
          <a:effectLst>
            <a:outerShdw dist="76184" dir="11993435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19" descr=""/>
          <p:cNvPicPr/>
          <p:nvPr/>
        </p:nvPicPr>
        <p:blipFill>
          <a:blip r:embed="rId5"/>
          <a:stretch/>
        </p:blipFill>
        <p:spPr>
          <a:xfrm>
            <a:off x="6308640" y="1450800"/>
            <a:ext cx="11588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78" name="椭圆 20"/>
          <p:cNvGrpSpPr/>
          <p:nvPr/>
        </p:nvGrpSpPr>
        <p:grpSpPr>
          <a:xfrm>
            <a:off x="6692760" y="1573200"/>
            <a:ext cx="184320" cy="176400"/>
            <a:chOff x="6692760" y="1573200"/>
            <a:chExt cx="184320" cy="176400"/>
          </a:xfrm>
        </p:grpSpPr>
        <p:pic>
          <p:nvPicPr>
            <p:cNvPr id="79" name="椭圆 20" descr=""/>
            <p:cNvPicPr/>
            <p:nvPr/>
          </p:nvPicPr>
          <p:blipFill>
            <a:blip r:embed="rId6"/>
            <a:stretch/>
          </p:blipFill>
          <p:spPr>
            <a:xfrm>
              <a:off x="6692760" y="1573200"/>
              <a:ext cx="18432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729480" y="1606680"/>
              <a:ext cx="1094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矩形 21"/>
          <p:cNvSpPr/>
          <p:nvPr/>
        </p:nvSpPr>
        <p:spPr>
          <a:xfrm>
            <a:off x="6756480" y="1285920"/>
            <a:ext cx="77760" cy="376200"/>
          </a:xfrm>
          <a:prstGeom prst="rect">
            <a:avLst/>
          </a:prstGeom>
          <a:gradFill rotWithShape="0">
            <a:gsLst>
              <a:gs pos="0">
                <a:srgbClr val="623f11"/>
              </a:gs>
              <a:gs pos="100000">
                <a:srgbClr val="ab71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2"/>
          <p:cNvSpPr/>
          <p:nvPr/>
        </p:nvSpPr>
        <p:spPr>
          <a:xfrm>
            <a:off x="22132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2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2"/>
          <p:cNvSpPr/>
          <p:nvPr/>
        </p:nvSpPr>
        <p:spPr>
          <a:xfrm>
            <a:off x="6356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平行四边形 6"/>
          <p:cNvSpPr/>
          <p:nvPr/>
        </p:nvSpPr>
        <p:spPr>
          <a:xfrm>
            <a:off x="1200240" y="1959120"/>
            <a:ext cx="1420560" cy="1187280"/>
          </a:xfrm>
          <a:prstGeom prst="parallelogram">
            <a:avLst>
              <a:gd name="adj" fmla="val 52252"/>
            </a:avLst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平行四边形 7"/>
          <p:cNvSpPr/>
          <p:nvPr/>
        </p:nvSpPr>
        <p:spPr>
          <a:xfrm>
            <a:off x="1687680" y="2552760"/>
            <a:ext cx="1419120" cy="1187280"/>
          </a:xfrm>
          <a:prstGeom prst="parallelogram">
            <a:avLst>
              <a:gd name="adj" fmla="val 52254"/>
            </a:avLst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平行四边形 8"/>
          <p:cNvSpPr/>
          <p:nvPr/>
        </p:nvSpPr>
        <p:spPr>
          <a:xfrm>
            <a:off x="2165400" y="3146400"/>
            <a:ext cx="1420920" cy="1189080"/>
          </a:xfrm>
          <a:prstGeom prst="parallelogram">
            <a:avLst>
              <a:gd name="adj" fmla="val 52252"/>
            </a:avLst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平行四边形 9"/>
          <p:cNvSpPr/>
          <p:nvPr/>
        </p:nvSpPr>
        <p:spPr>
          <a:xfrm>
            <a:off x="2655720" y="3740040"/>
            <a:ext cx="1419480" cy="1189080"/>
          </a:xfrm>
          <a:prstGeom prst="parallelogram">
            <a:avLst>
              <a:gd name="adj" fmla="val 52260"/>
            </a:avLst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7212" t="0" r="2768" b="57688"/>
          <a:stretch/>
        </p:blipFill>
        <p:spPr>
          <a:xfrm>
            <a:off x="571680" y="2457360"/>
            <a:ext cx="7792920" cy="95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rcRect l="7212" t="0" r="2768" b="57688"/>
          <a:stretch/>
        </p:blipFill>
        <p:spPr>
          <a:xfrm>
            <a:off x="644400" y="3052800"/>
            <a:ext cx="7791480" cy="93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3"/>
          <a:srcRect l="7212" t="0" r="2768" b="57688"/>
          <a:stretch/>
        </p:blipFill>
        <p:spPr>
          <a:xfrm>
            <a:off x="1111320" y="2502000"/>
            <a:ext cx="2914560" cy="50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4"/>
          <a:srcRect l="7212" t="0" r="2768" b="57688"/>
          <a:stretch/>
        </p:blipFill>
        <p:spPr>
          <a:xfrm>
            <a:off x="716040" y="3646440"/>
            <a:ext cx="7792920" cy="93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5"/>
          <a:srcRect l="7212" t="0" r="2768" b="57688"/>
          <a:stretch/>
        </p:blipFill>
        <p:spPr>
          <a:xfrm>
            <a:off x="500040" y="1863720"/>
            <a:ext cx="7792920" cy="95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6"/>
          <a:srcRect l="7212" t="0" r="2768" b="57688"/>
          <a:stretch/>
        </p:blipFill>
        <p:spPr>
          <a:xfrm>
            <a:off x="681120" y="1911240"/>
            <a:ext cx="2916000" cy="50760"/>
          </a:xfrm>
          <a:prstGeom prst="rect">
            <a:avLst/>
          </a:prstGeom>
          <a:ln w="0">
            <a:noFill/>
          </a:ln>
        </p:spPr>
      </p:pic>
      <p:sp>
        <p:nvSpPr>
          <p:cNvPr id="100" name="矩形 12"/>
          <p:cNvSpPr/>
          <p:nvPr/>
        </p:nvSpPr>
        <p:spPr>
          <a:xfrm>
            <a:off x="3140640" y="2006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4926600" y="393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4426560" y="322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3711960" y="26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>
            <a:off x="928800" y="1744560"/>
            <a:ext cx="2657520" cy="1967040"/>
          </a:xfrm>
          <a:prstGeom prst="downArrowCallout">
            <a:avLst>
              <a:gd name="adj1" fmla="val 49880"/>
              <a:gd name="adj2" fmla="val 24938"/>
              <a:gd name="adj3" fmla="val 15255"/>
              <a:gd name="adj4" fmla="val 84745"/>
            </a:avLst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1692360" y="4048200"/>
            <a:ext cx="1128600" cy="1133280"/>
          </a:xfrm>
          <a:prstGeom prst="ellipse">
            <a:avLst/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602320" y="1714680"/>
            <a:ext cx="2657520" cy="1966680"/>
          </a:xfrm>
          <a:prstGeom prst="downArrowCallout">
            <a:avLst>
              <a:gd name="adj1" fmla="val 49889"/>
              <a:gd name="adj2" fmla="val 24942"/>
              <a:gd name="adj3" fmla="val 15255"/>
              <a:gd name="adj4" fmla="val 84745"/>
            </a:avLst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6365880" y="4017960"/>
            <a:ext cx="1128600" cy="1131840"/>
          </a:xfrm>
          <a:prstGeom prst="ellipse">
            <a:avLst/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65696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1783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7" descr=""/>
          <p:cNvPicPr/>
          <p:nvPr/>
        </p:nvPicPr>
        <p:blipFill>
          <a:blip r:embed="rId1"/>
          <a:stretch/>
        </p:blipFill>
        <p:spPr>
          <a:xfrm>
            <a:off x="1000080" y="2114640"/>
            <a:ext cx="2862360" cy="1490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48"/>
          <p:cNvSpPr/>
          <p:nvPr/>
        </p:nvSpPr>
        <p:spPr>
          <a:xfrm>
            <a:off x="1020600" y="1482840"/>
            <a:ext cx="2791080" cy="717480"/>
          </a:xfrm>
          <a:prstGeom prst="roundRect">
            <a:avLst>
              <a:gd name="adj" fmla="val 5630"/>
            </a:avLst>
          </a:prstGeom>
          <a:solidFill>
            <a:srgbClr val="528138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7" descr=""/>
          <p:cNvPicPr/>
          <p:nvPr/>
        </p:nvPicPr>
        <p:blipFill>
          <a:blip r:embed="rId2"/>
          <a:stretch/>
        </p:blipFill>
        <p:spPr>
          <a:xfrm>
            <a:off x="1000080" y="3767040"/>
            <a:ext cx="2862360" cy="1508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8"/>
          <p:cNvSpPr/>
          <p:nvPr/>
        </p:nvSpPr>
        <p:spPr>
          <a:xfrm>
            <a:off x="1020600" y="3135240"/>
            <a:ext cx="2791080" cy="717480"/>
          </a:xfrm>
          <a:prstGeom prst="roundRect">
            <a:avLst>
              <a:gd name="adj" fmla="val 5630"/>
            </a:avLst>
          </a:prstGeom>
          <a:solidFill>
            <a:srgbClr val="528138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7" descr=""/>
          <p:cNvPicPr/>
          <p:nvPr/>
        </p:nvPicPr>
        <p:blipFill>
          <a:blip r:embed="rId3"/>
          <a:stretch/>
        </p:blipFill>
        <p:spPr>
          <a:xfrm>
            <a:off x="1000080" y="5421240"/>
            <a:ext cx="2862360" cy="1508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8"/>
          <p:cNvSpPr/>
          <p:nvPr/>
        </p:nvSpPr>
        <p:spPr>
          <a:xfrm>
            <a:off x="1020600" y="4789440"/>
            <a:ext cx="2791080" cy="717480"/>
          </a:xfrm>
          <a:prstGeom prst="roundRect">
            <a:avLst>
              <a:gd name="adj" fmla="val 5630"/>
            </a:avLst>
          </a:prstGeom>
          <a:solidFill>
            <a:srgbClr val="528138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7" descr=""/>
          <p:cNvPicPr/>
          <p:nvPr/>
        </p:nvPicPr>
        <p:blipFill>
          <a:blip r:embed="rId4"/>
          <a:stretch/>
        </p:blipFill>
        <p:spPr>
          <a:xfrm>
            <a:off x="5402160" y="2114640"/>
            <a:ext cx="2862360" cy="14904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8"/>
          <p:cNvSpPr/>
          <p:nvPr/>
        </p:nvSpPr>
        <p:spPr>
          <a:xfrm>
            <a:off x="5421240" y="1482840"/>
            <a:ext cx="2792520" cy="717480"/>
          </a:xfrm>
          <a:prstGeom prst="roundRect">
            <a:avLst>
              <a:gd name="adj" fmla="val 5630"/>
            </a:avLst>
          </a:prstGeom>
          <a:solidFill>
            <a:srgbClr val="d17355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7" descr=""/>
          <p:cNvPicPr/>
          <p:nvPr/>
        </p:nvPicPr>
        <p:blipFill>
          <a:blip r:embed="rId5"/>
          <a:stretch/>
        </p:blipFill>
        <p:spPr>
          <a:xfrm>
            <a:off x="5411880" y="3767040"/>
            <a:ext cx="2862000" cy="1508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48"/>
          <p:cNvSpPr/>
          <p:nvPr/>
        </p:nvSpPr>
        <p:spPr>
          <a:xfrm>
            <a:off x="5432400" y="3135240"/>
            <a:ext cx="2790720" cy="717480"/>
          </a:xfrm>
          <a:prstGeom prst="roundRect">
            <a:avLst>
              <a:gd name="adj" fmla="val 5630"/>
            </a:avLst>
          </a:prstGeom>
          <a:solidFill>
            <a:srgbClr val="d17355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7" descr=""/>
          <p:cNvPicPr/>
          <p:nvPr/>
        </p:nvPicPr>
        <p:blipFill>
          <a:blip r:embed="rId6"/>
          <a:stretch/>
        </p:blipFill>
        <p:spPr>
          <a:xfrm>
            <a:off x="5411880" y="5421240"/>
            <a:ext cx="2862000" cy="1508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48"/>
          <p:cNvSpPr/>
          <p:nvPr/>
        </p:nvSpPr>
        <p:spPr>
          <a:xfrm>
            <a:off x="5432400" y="4789440"/>
            <a:ext cx="2790720" cy="717480"/>
          </a:xfrm>
          <a:prstGeom prst="roundRect">
            <a:avLst>
              <a:gd name="adj" fmla="val 5630"/>
            </a:avLst>
          </a:prstGeom>
          <a:solidFill>
            <a:srgbClr val="d17355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直接箭头连接符 194"/>
          <p:cNvCxnSpPr>
            <a:stCxn id="121" idx="2"/>
            <a:endCxn id="123" idx="0"/>
          </p:cNvCxnSpPr>
          <p:nvPr/>
        </p:nvCxnSpPr>
        <p:spPr>
          <a:xfrm>
            <a:off x="2416320" y="2199960"/>
            <a:ext cx="2160" cy="935640"/>
          </a:xfrm>
          <a:prstGeom prst="straightConnector1">
            <a:avLst/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133" name="直接箭头连接符 198"/>
          <p:cNvCxnSpPr>
            <a:stCxn id="123" idx="2"/>
            <a:endCxn id="125" idx="0"/>
          </p:cNvCxnSpPr>
          <p:nvPr/>
        </p:nvCxnSpPr>
        <p:spPr>
          <a:xfrm>
            <a:off x="2416320" y="3854160"/>
            <a:ext cx="2160" cy="935640"/>
          </a:xfrm>
          <a:prstGeom prst="straightConnector1">
            <a:avLst/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134" name="肘形连接符 200"/>
          <p:cNvCxnSpPr>
            <a:stCxn id="125" idx="3"/>
            <a:endCxn id="127" idx="1"/>
          </p:cNvCxnSpPr>
          <p:nvPr/>
        </p:nvCxnSpPr>
        <p:spPr>
          <a:xfrm flipV="1">
            <a:off x="3811320" y="1841040"/>
            <a:ext cx="1610280" cy="3307680"/>
          </a:xfrm>
          <a:prstGeom prst="bentConnector3">
            <a:avLst>
              <a:gd name="adj1" fmla="val 50000"/>
            </a:avLst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135" name="直接箭头连接符 202"/>
          <p:cNvCxnSpPr>
            <a:stCxn id="127" idx="2"/>
            <a:endCxn id="129" idx="0"/>
          </p:cNvCxnSpPr>
          <p:nvPr/>
        </p:nvCxnSpPr>
        <p:spPr>
          <a:xfrm>
            <a:off x="6816240" y="2199960"/>
            <a:ext cx="11880" cy="935640"/>
          </a:xfrm>
          <a:prstGeom prst="straightConnector1">
            <a:avLst/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136" name="直接箭头连接符 204"/>
          <p:cNvCxnSpPr>
            <a:stCxn id="129" idx="2"/>
            <a:endCxn id="131" idx="0"/>
          </p:cNvCxnSpPr>
          <p:nvPr/>
        </p:nvCxnSpPr>
        <p:spPr>
          <a:xfrm>
            <a:off x="6827400" y="3854160"/>
            <a:ext cx="1080" cy="935640"/>
          </a:xfrm>
          <a:prstGeom prst="straightConnector1">
            <a:avLst/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sp>
        <p:nvSpPr>
          <p:cNvPr id="137" name="矩形 12"/>
          <p:cNvSpPr/>
          <p:nvPr/>
        </p:nvSpPr>
        <p:spPr>
          <a:xfrm>
            <a:off x="1984680" y="3324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3"/>
          <p:cNvSpPr/>
          <p:nvPr/>
        </p:nvSpPr>
        <p:spPr>
          <a:xfrm>
            <a:off x="6342480" y="496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6342480" y="3311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1984680" y="502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1913400" y="1681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6342480" y="1609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梯形 6"/>
          <p:cNvSpPr/>
          <p:nvPr/>
        </p:nvSpPr>
        <p:spPr>
          <a:xfrm>
            <a:off x="1643040" y="1357200"/>
            <a:ext cx="3429000" cy="3929040"/>
          </a:xfrm>
          <a:custGeom>
            <a:avLst/>
            <a:gdLst/>
            <a:ahLst/>
            <a:rect l="l" t="t" r="r" b="b"/>
            <a:pathLst>
              <a:path w="3429000" h="3929062">
                <a:moveTo>
                  <a:pt x="0" y="3929062"/>
                </a:moveTo>
                <a:lnTo>
                  <a:pt x="857250" y="0"/>
                </a:lnTo>
                <a:lnTo>
                  <a:pt x="2571750" y="0"/>
                </a:lnTo>
                <a:lnTo>
                  <a:pt x="3429000" y="3929062"/>
                </a:lnTo>
                <a:lnTo>
                  <a:pt x="0" y="3929062"/>
                </a:lnTo>
                <a:close/>
              </a:path>
            </a:pathLst>
          </a:cu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梯形 7"/>
          <p:cNvSpPr/>
          <p:nvPr/>
        </p:nvSpPr>
        <p:spPr>
          <a:xfrm flipV="1">
            <a:off x="4357800" y="1356840"/>
            <a:ext cx="3429000" cy="3929040"/>
          </a:xfrm>
          <a:custGeom>
            <a:avLst/>
            <a:gdLst/>
            <a:ahLst/>
            <a:rect l="l" t="t" r="r" b="b"/>
            <a:pathLst>
              <a:path w="3429000" h="3929062">
                <a:moveTo>
                  <a:pt x="0" y="3929062"/>
                </a:moveTo>
                <a:lnTo>
                  <a:pt x="857250" y="0"/>
                </a:lnTo>
                <a:lnTo>
                  <a:pt x="2571750" y="0"/>
                </a:lnTo>
                <a:lnTo>
                  <a:pt x="3429000" y="3929062"/>
                </a:lnTo>
                <a:lnTo>
                  <a:pt x="0" y="3929062"/>
                </a:lnTo>
                <a:close/>
              </a:path>
            </a:pathLst>
          </a:cu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56408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2997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-108000" y="651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4:43:33Z</dcterms:modified>
  <cp:revision>288</cp:revision>
  <dc:subject/>
  <dc:title>www.pptbz.com</dc:title>
</cp:coreProperties>
</file>