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C26A-1986-494F-BF22-03D204E2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5D9-8048-4CCD-A05F-D7B49E30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C3C-CFD4-4DFD-892A-8BBDF93F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927-60CC-41AA-B05E-99387D2A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BD4A-FCCA-4F71-A8AD-8FEC6BB8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3F03-7E80-4057-9003-172D4CA0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63B6-EB5A-49F2-89DD-1CB9FB98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6F97-15EF-4719-8EF0-4CF7177D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EA9A-A75B-46B8-BC5A-5369582B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6B22-BD92-41A3-BF5A-3647F0D1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A5A4-BAAA-4C78-9CD4-70FE3040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F50-D0A5-468D-B9A8-DFE3090B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7B73-AA08-415A-A9FA-38E6CD50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D323-4FAE-45F3-9617-EAB76D2F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4AB8-CFED-495A-B8E9-D713B158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E90E-A1C9-46AF-B65C-E7A7875F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4E97-F95A-470F-A38C-91834307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F29-2653-4F92-B476-E30C8400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DA4-7DC3-48A6-9A68-4DB67ED2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A824-D1FF-4DD4-A5FA-62349414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E77-909A-4D54-9FB4-ADC4039C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2BC-C014-46BE-81CA-A3C5D354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6C1-29F7-44CE-96E4-9F606C50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834E-C1E3-46A8-BE04-F9B308A8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x201i\Desktop\ppt背景底纹\蓝调.jpg"/>
          <p:cNvPicPr/>
          <p:nvPr/>
        </p:nvPicPr>
        <p:blipFill>
          <a:blip r:embed="rId2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" name="Picture 2"/>
          <p:cNvSpPr/>
          <p:nvPr/>
        </p:nvSpPr>
        <p:spPr>
          <a:xfrm>
            <a:off x="7812360" y="-20520"/>
            <a:ext cx="1329840" cy="40032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3BE10E-DB93-42BB-8C2A-D97871ED7A5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x201i\Desktop\ppt背景底纹\蓝调.jpg"/>
          <p:cNvPicPr/>
          <p:nvPr/>
        </p:nvPicPr>
        <p:blipFill>
          <a:blip r:embed="rId2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44" name="Picture 2"/>
          <p:cNvSpPr/>
          <p:nvPr/>
        </p:nvSpPr>
        <p:spPr>
          <a:xfrm>
            <a:off x="7812360" y="-20520"/>
            <a:ext cx="1329840" cy="400320"/>
          </a:xfrm>
          <a:prstGeom prst="roundRect">
            <a:avLst>
              <a:gd name="adj" fmla="val 8594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1B36A1-60B4-494D-B839-D1F581FDD58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805200" y="2273400"/>
            <a:ext cx="5338440" cy="8168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87" name="TextBox 1"/>
          <p:cNvSpPr/>
          <p:nvPr/>
        </p:nvSpPr>
        <p:spPr>
          <a:xfrm>
            <a:off x="-3600" y="1090440"/>
            <a:ext cx="3563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个搞笑经典的关于广告设计的帖子。无奈、焦灼、纠结的设计师与客户。个中滋味请您自己体会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hannon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丢了一只猫，很着急，于是拜托设计师朋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avid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给他做个寻猫启示，于是，这个纠结焦灼的故事在邮件的往来中开始了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2247840" y="26748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猫丢了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85120" y="4587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2000" p14:dur="1400">
        <p14:ripple/>
      </p:transition>
    </mc:Choice>
    <mc:Fallback>
      <p:transition spd="slow" advTm="22000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x201i\Desktop\图片1.png"/>
          <p:cNvPicPr/>
          <p:nvPr/>
        </p:nvPicPr>
        <p:blipFill>
          <a:blip r:embed="rId1"/>
          <a:stretch/>
        </p:blipFill>
        <p:spPr>
          <a:xfrm>
            <a:off x="1637280" y="399600"/>
            <a:ext cx="5958720" cy="47642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91" name="TextBox 4"/>
          <p:cNvSpPr/>
          <p:nvPr/>
        </p:nvSpPr>
        <p:spPr>
          <a:xfrm>
            <a:off x="2483640" y="1090080"/>
            <a:ext cx="417600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9240" bIns="3924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David</a:t>
            </a:r>
            <a:r>
              <a:rPr b="1" lang="en-US" sz="16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家咪细昨天跑出去就不见了，你看着给我做个寻猫启示吧！我就你一设计师朋友，只能靠你啦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我家咪细，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那么一张照片，你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一下吧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谢万谢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</a:t>
            </a:r>
            <a:r>
              <a:rPr b="1" lang="en-US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Shan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 rot="20505600">
            <a:off x="4182120" y="562680"/>
            <a:ext cx="937800" cy="88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x201i\Desktop\G)FWB]P[`QTG{MR{0_)}VIF.jpg"/>
          <p:cNvPicPr/>
          <p:nvPr/>
        </p:nvPicPr>
        <p:blipFill>
          <a:blip r:embed="rId3"/>
          <a:srcRect l="10000" t="0" r="13255" b="0"/>
          <a:stretch/>
        </p:blipFill>
        <p:spPr>
          <a:xfrm>
            <a:off x="5087880" y="2242080"/>
            <a:ext cx="1299600" cy="13100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94" name="任意多边形 12"/>
          <p:cNvSpPr/>
          <p:nvPr/>
        </p:nvSpPr>
        <p:spPr>
          <a:xfrm flipH="1" rot="1313400">
            <a:off x="4912200" y="4105800"/>
            <a:ext cx="3106800" cy="496080"/>
          </a:xfrm>
          <a:custGeom>
            <a:avLst/>
            <a:gdLst>
              <a:gd name="textAreaLeft" fmla="*/ 360 w 3106800"/>
              <a:gd name="textAreaRight" fmla="*/ 3107520 w 3106800"/>
              <a:gd name="textAreaTop" fmla="*/ 0 h 496080"/>
              <a:gd name="textAreaBottom" fmla="*/ 496440 h 496080"/>
            </a:gdLst>
            <a:ahLst/>
            <a:rect l="textAreaLeft" t="textAreaTop" r="textAreaRight" b="textAreaBottom"/>
            <a:pathLst>
              <a:path w="3141798" h="686663">
                <a:moveTo>
                  <a:pt x="3141798" y="234135"/>
                </a:moveTo>
                <a:cubicBezTo>
                  <a:pt x="2806175" y="453317"/>
                  <a:pt x="2470553" y="672499"/>
                  <a:pt x="2165753" y="686198"/>
                </a:cubicBezTo>
                <a:cubicBezTo>
                  <a:pt x="1860953" y="699897"/>
                  <a:pt x="1429438" y="407084"/>
                  <a:pt x="1312998" y="316329"/>
                </a:cubicBezTo>
                <a:cubicBezTo>
                  <a:pt x="1196558" y="225574"/>
                  <a:pt x="1415739" y="139956"/>
                  <a:pt x="1467110" y="141668"/>
                </a:cubicBezTo>
                <a:cubicBezTo>
                  <a:pt x="1518481" y="143380"/>
                  <a:pt x="1693141" y="264958"/>
                  <a:pt x="1621222" y="326603"/>
                </a:cubicBezTo>
                <a:cubicBezTo>
                  <a:pt x="1549303" y="388248"/>
                  <a:pt x="1289024" y="556059"/>
                  <a:pt x="1035595" y="511538"/>
                </a:cubicBezTo>
                <a:cubicBezTo>
                  <a:pt x="782166" y="467017"/>
                  <a:pt x="261609" y="141668"/>
                  <a:pt x="100647" y="59475"/>
                </a:cubicBezTo>
                <a:cubicBezTo>
                  <a:pt x="-60315" y="-22718"/>
                  <a:pt x="4755" y="-2170"/>
                  <a:pt x="69825" y="18378"/>
                </a:cubicBezTo>
              </a:path>
            </a:pathLst>
          </a:custGeom>
          <a:noFill/>
          <a:ln>
            <a:solidFill>
              <a:srgbClr val="ffffff"/>
            </a:solidFill>
            <a:round/>
            <a:head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5" name="Picture 18" descr=""/>
          <p:cNvPicPr/>
          <p:nvPr/>
        </p:nvPicPr>
        <p:blipFill>
          <a:blip r:embed="rId4"/>
          <a:stretch/>
        </p:blipFill>
        <p:spPr>
          <a:xfrm>
            <a:off x="8071920" y="4127400"/>
            <a:ext cx="1036080" cy="1036080"/>
          </a:xfrm>
          <a:prstGeom prst="rect">
            <a:avLst/>
          </a:prstGeom>
          <a:ln w="9525">
            <a:noFill/>
          </a:ln>
        </p:spPr>
      </p:pic>
      <p:pic>
        <p:nvPicPr>
          <p:cNvPr id="96" name="Picture 18" descr=""/>
          <p:cNvPicPr/>
          <p:nvPr/>
        </p:nvPicPr>
        <p:blipFill>
          <a:blip r:embed="rId5"/>
          <a:stretch/>
        </p:blipFill>
        <p:spPr>
          <a:xfrm>
            <a:off x="8071920" y="4127400"/>
            <a:ext cx="1036080" cy="1036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advTm="17000" p14:dur="1400"/>
    </mc:Choice>
    <mc:Fallback>
      <p:transition spd="slow" advTm="17000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35269E-006 C 0.00503 -0.03675 0.01059 -0.0735 0.02378 -0.09852 C 0.03681 -0.12353 0.04479 -0.1399 0.07882 -0.15102 C 0.11267 -0.16244 0.18056 -0.16739 0.22708 -0.16739 C 0.27361 -0.168 0.30955 -0.15843 0.35747 -0.15472 C 0.40556 -0.15071 0.46667 -0.15967 0.51615 -0.14484 C 0.5651 -0.13002 0.60937 -0.09821 0.65382 -0.06578 E">
                                      <p:cBhvr>
                                        <p:cTn id="4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x201i\Desktop\图片1.png"/>
          <p:cNvPicPr/>
          <p:nvPr/>
        </p:nvPicPr>
        <p:blipFill>
          <a:blip r:embed="rId1"/>
          <a:stretch/>
        </p:blipFill>
        <p:spPr>
          <a:xfrm>
            <a:off x="1637280" y="399600"/>
            <a:ext cx="5958720" cy="47642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98" name="TextBox 4"/>
          <p:cNvSpPr/>
          <p:nvPr/>
        </p:nvSpPr>
        <p:spPr>
          <a:xfrm>
            <a:off x="2483640" y="1090080"/>
            <a:ext cx="4176000" cy="25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9240" bIns="3924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Shannon</a:t>
            </a:r>
            <a:r>
              <a:rPr b="1" lang="en-US" sz="16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个寻猫启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出来了。不要谢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哦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</a:t>
            </a:r>
            <a:r>
              <a:rPr b="1" lang="en-US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Dav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 rot="1245600">
            <a:off x="4182480" y="562680"/>
            <a:ext cx="937800" cy="88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4616640" y="1090080"/>
            <a:ext cx="1953000" cy="27626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101" name="任意多边形 12"/>
          <p:cNvSpPr/>
          <p:nvPr/>
        </p:nvSpPr>
        <p:spPr>
          <a:xfrm rot="20173800">
            <a:off x="1213200" y="3996720"/>
            <a:ext cx="3100320" cy="569880"/>
          </a:xfrm>
          <a:custGeom>
            <a:avLst/>
            <a:gdLst>
              <a:gd name="textAreaLeft" fmla="*/ 0 w 3100320"/>
              <a:gd name="textAreaRight" fmla="*/ 3100680 w 310032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3141798" h="686663">
                <a:moveTo>
                  <a:pt x="3141798" y="234135"/>
                </a:moveTo>
                <a:cubicBezTo>
                  <a:pt x="2806175" y="453317"/>
                  <a:pt x="2470553" y="672499"/>
                  <a:pt x="2165753" y="686198"/>
                </a:cubicBezTo>
                <a:cubicBezTo>
                  <a:pt x="1860953" y="699897"/>
                  <a:pt x="1429438" y="407084"/>
                  <a:pt x="1312998" y="316329"/>
                </a:cubicBezTo>
                <a:cubicBezTo>
                  <a:pt x="1196558" y="225574"/>
                  <a:pt x="1415739" y="139956"/>
                  <a:pt x="1467110" y="141668"/>
                </a:cubicBezTo>
                <a:cubicBezTo>
                  <a:pt x="1518481" y="143380"/>
                  <a:pt x="1693141" y="264958"/>
                  <a:pt x="1621222" y="326603"/>
                </a:cubicBezTo>
                <a:cubicBezTo>
                  <a:pt x="1549303" y="388248"/>
                  <a:pt x="1289024" y="556059"/>
                  <a:pt x="1035595" y="511538"/>
                </a:cubicBezTo>
                <a:cubicBezTo>
                  <a:pt x="782166" y="467017"/>
                  <a:pt x="261609" y="141668"/>
                  <a:pt x="100647" y="59475"/>
                </a:cubicBezTo>
                <a:cubicBezTo>
                  <a:pt x="-60315" y="-22718"/>
                  <a:pt x="4755" y="-2170"/>
                  <a:pt x="69825" y="18378"/>
                </a:cubicBezTo>
              </a:path>
            </a:pathLst>
          </a:custGeom>
          <a:noFill/>
          <a:ln>
            <a:solidFill>
              <a:srgbClr val="ffffff"/>
            </a:solidFill>
            <a:round/>
            <a:head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2" name="Picture 18" descr=""/>
          <p:cNvPicPr/>
          <p:nvPr/>
        </p:nvPicPr>
        <p:blipFill>
          <a:blip r:embed="rId4"/>
          <a:stretch/>
        </p:blipFill>
        <p:spPr>
          <a:xfrm>
            <a:off x="122400" y="4127400"/>
            <a:ext cx="1036080" cy="1036080"/>
          </a:xfrm>
          <a:prstGeom prst="rect">
            <a:avLst/>
          </a:prstGeom>
          <a:ln w="9525">
            <a:noFill/>
          </a:ln>
        </p:spPr>
      </p:pic>
      <p:pic>
        <p:nvPicPr>
          <p:cNvPr id="103" name="Picture 18" descr=""/>
          <p:cNvPicPr/>
          <p:nvPr/>
        </p:nvPicPr>
        <p:blipFill>
          <a:blip r:embed="rId5"/>
          <a:stretch/>
        </p:blipFill>
        <p:spPr>
          <a:xfrm>
            <a:off x="122400" y="4127400"/>
            <a:ext cx="1036080" cy="1036080"/>
          </a:xfrm>
          <a:prstGeom prst="rect">
            <a:avLst/>
          </a:prstGeom>
          <a:ln w="9525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89080" y="47833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8000" p14:dur="1600">
        <p14:prism isInverted="true"/>
      </p:transition>
    </mc:Choice>
    <mc:Fallback>
      <p:transition spd="slow" advTm="8000">
        <p:fade/>
      </p:transition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"/>
                            </p:stCondLst>
                            <p:childTnLst>
                              <p:par>
                                <p:cTn id="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2 0.00988 C 0.00191 -0.03333 -0.0033 -0.07654 -0.01649 -0.10494 C -0.02986 -0.13395 -0.0375 -0.15278 -0.0717 -0.16574 C -0.10573 -0.17901 -0.17361 -0.18457 -0.21979 -0.18457 C -0.26615 -0.18518 -0.30243 -0.17438 -0.35035 -0.17006 C -0.39809 -0.16543 -0.4592 -0.17623 -0.50851 -0.15864 C -0.55729 -0.14136 -0.60156 -0.10494 -0.64601 -0.06666 E">
                                      <p:cBhvr>
                                        <p:cTn id="7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  <Words>181</Words>
  <Paragraphs>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02:43:59Z</dcterms:created>
  <dc:creator>洪宝江</dc:creator>
  <dc:description/>
  <dc:language>en-US</dc:language>
  <cp:lastModifiedBy>王玉清</cp:lastModifiedBy>
  <dcterms:modified xsi:type="dcterms:W3CDTF">2016-02-24T02:47:46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3</vt:r8>
  </property>
</Properties>
</file>