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E0A-0AA0-4769-96FC-75281E78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B4A-0872-4F00-BE0F-197009E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F07-F710-4E21-B870-40C010AE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020-22F7-4648-AA1B-C4879296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C1F-D0F6-467E-B31F-E1EE1472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2526-E2DF-46F3-93A6-3DAAC2C1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AE83-6F2F-41B7-BAB5-43B82C56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57F7-D849-4046-A4DD-008E0528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7C20-D566-49B9-ACB1-E2B7D854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9AB-6DAA-49C7-87E6-7B99D33A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4DA0-A42C-49B0-84FC-355B804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E68-FF8B-44F2-BC25-39D095C1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661D-EC17-4A2D-9B52-F31379E0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67B1-8ED2-42A2-BCA5-FA855A7C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FC6C-1002-4194-9F2C-6ACE378A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BD38-1D1D-40DF-839E-2E119141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E44C-D4DE-41F8-9220-FC2B1F04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CA7-9330-425A-9712-C2744839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2B3-EF99-4858-B184-5A111106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55E-68B8-40CF-B0B3-2AA89E8B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5C1-F462-4BAC-A8E1-E462095C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79E-C2D2-407E-81E7-D316148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193-12F1-403A-ABD2-57474CC8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8EE-6FE8-4E62-B641-857764B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E41C-2480-449A-BF7F-A31D23F7E8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5635-C3D9-4076-9EA9-388CB4E535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9242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梅花宽频通用</a:t>
            </a:r>
            <a:r>
              <a:rPr b="0" lang="en-US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5940360" y="17640"/>
            <a:ext cx="10796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31428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23634"/>
                </a:solidFill>
                <a:latin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23634"/>
                </a:solidFill>
                <a:latin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23634"/>
                </a:solidFill>
                <a:latin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a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b2b2b2"/>
                </a:solidFill>
                <a:latin typeface="Arial"/>
                <a:ea typeface="微软雅黑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a0c5"/>
                </a:solidFill>
                <a:latin typeface="Mistral"/>
                <a:ea typeface="宋体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2:44:23Z</dcterms:created>
  <dc:creator>Admin</dc:creator>
  <dc:description/>
  <dc:language>en-US</dc:language>
  <cp:lastModifiedBy>王玉清</cp:lastModifiedBy>
  <cp:lastPrinted>1899-12-30T00:00:00Z</cp:lastPrinted>
  <dcterms:modified xsi:type="dcterms:W3CDTF">2016-02-21T03:49:36Z</dcterms:modified>
  <cp:revision>7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