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EDE3-DB66-4DF0-A3C4-2C0EE190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A6B5-084C-4BFA-A129-3CAAA948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42E4-863D-420F-BD16-B73D547B1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6CE3-863D-43CD-8555-36D83DE79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D05B7-649C-4A0F-A773-7E72B033E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CA27A-E1E0-444E-A72E-B49651C6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4C1A4-B64E-4D72-9F0F-047FCD17F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8A0BC-3601-4C65-AB48-E5D82DAF3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CCCC1-85C3-488F-A189-786B3A5A8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7F7AF-7CE6-4D0C-B170-29C75D89E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206D-1D99-47E4-BC3A-B85E07D55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D94B-5F11-48AC-91A0-BB517C750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13B2A-B1B0-4AA1-90FF-4FB773EB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97DB3-603F-4ED9-A3CF-549AB0026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0CC67-FC00-46E0-8E3F-C69A68925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91AEE-3E29-4862-8CD8-059095F76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0264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49200" y="144756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75572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20264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49200" y="4114440"/>
            <a:ext cx="2329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71CA6-D48A-4446-B0D6-9A3203BD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1962-353F-4DAB-8217-8689D6C9D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B922-2791-43BC-991A-BD9493ECA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C2E6-0714-44E6-996C-8748AAA6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120" y="228600"/>
            <a:ext cx="7239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2E00-887B-4DD7-B665-8DFE80DAC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22E1-9051-44CF-B272-E44C3BDB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3360" y="411444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AB6E-8952-4700-9529-528AB9B8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3360" y="1447560"/>
            <a:ext cx="353088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5720" y="4114440"/>
            <a:ext cx="72360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361-1F0D-491E-8083-CC109F4C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B57EE-3D5F-4F22-8EEF-D0A1FAB717F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1846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ABC4D-73DE-4EA3-A3D1-EEAF26E9CB6B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摩天大厦商务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52120" y="228600"/>
            <a:ext cx="7239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55720" y="1447560"/>
            <a:ext cx="7236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23:58:01Z</dcterms:created>
  <dc:creator>ppt宝藏</dc:creator>
  <dc:description/>
  <dc:language>en-US</dc:language>
  <cp:lastModifiedBy>a</cp:lastModifiedBy>
  <cp:lastPrinted>1899-12-30T00:00:00Z</cp:lastPrinted>
  <dcterms:modified xsi:type="dcterms:W3CDTF">2015-07-25T06:08:40Z</dcterms:modified>
  <cp:revision>23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  <property fmtid="{D5CDD505-2E9C-101B-9397-08002B2CF9AE}" pid="3" name="_TemplateID">
    <vt:lpwstr>TC011408322052</vt:lpwstr>
  </property>
</Properties>
</file>