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471-0B8C-4018-B433-FE4EA641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92A-63E5-4936-BB27-48AC50BA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5E6-D594-406A-AFF5-A831E986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35C-202B-49FD-9DBC-C415B44D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FFC8-436F-4AB1-99C6-3C20DA13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8A93-43B5-4396-B3AB-39DBD4C5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DD39-0E04-4CE3-BA06-80026E9D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588E-AB0F-4AB0-893F-888FCDD3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9093-D480-4215-B7D6-CE9D09B7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3A70-080B-42BA-B2E6-D0B05D9E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CBD9-3E52-4B63-8F60-CDD06C60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1E3-8C98-45B1-B68B-3DF52003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B368-D704-4820-B54F-218D7AD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5FED-5402-4AC1-B246-C12D62D2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C035-5050-40D0-BE8C-BC2CC7A0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6986-59FF-4344-93B0-96060D4E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DB30-CB5F-4180-B1A7-142F6164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1D0-02EB-4020-BEE1-4A493713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B82-B1D3-4BB5-9199-7DCE037D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FFC-14DC-4BD0-9647-880AC10F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039-12B5-4519-9D17-8113292A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7CA-1060-44C1-B60F-5A942E55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2DD-3571-4597-AF08-983EBF05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766-5BC4-4C28-8D52-4FF59B01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7DF9-D381-41BE-80FF-DB6F8A0DD95D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2888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DA37-8566-4FA0-A38E-8D6689CFB727}" type="slidenum">
              <a:rPr b="0" i="1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113920" y="47242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攀登巅峰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324000" y="6237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03:15:00Z</dcterms:created>
  <dc:creator>www.pptbz.com</dc:creator>
  <dc:description/>
  <cp:keywords>lxym148</cp:keywords>
  <dc:language>en-US</dc:language>
  <cp:lastModifiedBy>王玉清</cp:lastModifiedBy>
  <dcterms:modified xsi:type="dcterms:W3CDTF">2016-03-06T03:35:49Z</dcterms:modified>
  <cp:revision>11</cp:revision>
  <dc:subject>lxym148</dc:subject>
  <dc:title>RESU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