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75B3-2854-4F7D-84EC-1C197E8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4AC7-D948-439B-A292-A4853A7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BAFA1-F319-4A24-954B-B105714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F591E-2C1A-4A2B-B94D-4701095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82FB-B688-4266-BF29-7BF427F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4C52-AD81-41A9-A305-C67D446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8ABC9-FB9E-4EAB-BBB0-1ED1FA2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6657-6B32-455B-BAD0-5DE472F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36E7-FD87-42D1-90E2-47664D9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3B4DA-8F23-4B3A-9E21-B547D302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FAD0F-8127-41B7-935B-3DB3294C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C4436-9804-43FF-98F7-DF5C2D1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96F1C-3A2A-4277-A901-7FF8770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C6310-AE09-4568-BF98-B7478092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39DF5-D727-45C4-A754-DC36A44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E485-88A6-4908-A188-C9C367B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17EB-AFE0-4116-9CF1-3626E24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8223-7C67-40C1-B01D-26A67D0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1F6BD-F2D2-4BED-8027-45A39EB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62F1-C81A-489A-95BC-82FE92FC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9F998-23F8-481E-8066-D9B6CFC8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BCEF5-EDF0-45E1-A786-F3CF7B0B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07484-C4E4-4AD9-B309-51A92AC2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E1C33-EEA3-450C-8AFC-60F0727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2B265-0DE0-4F6A-9542-8395E701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A3C69-E805-4FA8-AA50-21DF781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F4FAD-0A0E-44BE-8A30-BFAB5A22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0679B-1A2A-4136-A14D-A1041913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DB3CB-085A-4415-BC2E-3331860F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AB8B4-B831-4191-BF3C-DBEDD62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3A5-F167-42D1-8F59-7B48CBD2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329BE-0646-4494-B05E-1203DE6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50D7B-10D9-497A-9F66-4097BF10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1618-5052-4D07-A357-1546A2B6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C067-AB66-4FA7-9F07-984455F3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B7139-6B0D-4766-A642-A0BD135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C1014-6CFA-44FD-9E05-851D72F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4E3A5-E97D-499E-B9A1-BDDE51E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DB34-85EE-4F6E-B9AA-B4749AF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E4C9C-43D3-4C62-B227-5969BD90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716A5-34F0-4071-B491-F302235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B0C-2BFB-45F2-BAC5-F5E8C35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A04F-7D56-4A0D-9FC3-8C28E7D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CD97-992E-4519-B2B0-93926BF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9CC86-54C0-4789-B65C-5889D27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47D14-2BB1-43ED-BBA1-3613ECC2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CC317-6DB9-45AF-9772-3093E26F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9E6-96E0-4B46-A64B-23419FB0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6EB-8F38-438B-8D36-FC54E664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F37-E9E9-4E4E-A7AD-7DE6FD67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0DF-2A3D-4768-98DE-30B7AB94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BAA-F113-4CAB-B843-10E24EF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9D6-1633-4F53-BA37-045C51A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E78-0CCA-4740-9A97-58AD767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6D8-7E0E-4850-A582-8957412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371-CE3A-4B65-82EC-0E0A06AA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979-A324-4E1A-B20D-C7EC40BA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86A2-5590-49F6-A982-828D2712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F449-F975-4737-AF99-98B30E9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418-E062-4136-B328-A6F4BBE3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18A-B277-4F57-937E-1A23833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D48-1A3E-4226-B97A-35E05D94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5790-B275-41CA-A738-4566FF5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362C-9656-4C50-AF5C-B44EB3B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B75-AF28-465F-B593-41F8015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D40-377B-447E-B90F-E0753381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4AF-3DCB-43F5-A3E6-B8C5B9F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129-7F3F-40EE-8E3A-D3372EC3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0FC3-51EA-4186-A116-2A60AD62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ACF4-305B-4281-BB04-6E0BC57F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A904-BE74-4CCC-8C87-ED690061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DBB9-3090-4FAF-A425-C65CF3A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1007-45E5-43C9-9D12-A1A44CDE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1A72-F2AD-4313-9B5F-4D346721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2DCF-4CEB-4407-B0A7-986C2B5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7B19-308E-4D04-ACF0-C0D870D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2E58-CDA7-4628-B78A-F71D7FA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1932-2564-47DB-94F2-04FA626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C2A9-6A52-4C9D-996B-015F9F2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EB85-992A-447C-97B5-B42CE06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1CF4-C51B-4E40-92EE-6251D76D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2CBF-8B11-46B5-A5C4-E49D4FAB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2FE1-0F89-4BC8-8D91-2BD44C61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5C95-B2F1-4391-AA70-9D6AD8E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E027-3032-4C23-AAC1-37DA55E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1836-452B-40E1-A9AA-E5480A2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811A-A6D8-4F7A-A363-2AC0495A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003D-1554-4A68-82B9-0F17850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A931-BC8D-4ECD-9337-F5B8838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5F06-288E-4078-A0B3-EAFCD53B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F88B-B1EE-42C1-850F-710C8FC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1520-5B3D-40F3-9820-567BDE2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28DD-B523-459F-B68B-54D6229D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67C5-6AC1-42D9-AD61-10D9428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39C7-DEBA-4A26-AC0F-711551CF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CD75-C9DE-4C9A-914C-B0B34E56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DCA5-0109-40B0-8EA9-83FB39D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4669-FFE3-4B27-A494-A5D41AA4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C564-CA0D-4FA9-9522-D1009F5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CF7CF-7E1A-4BDF-9101-44D2488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E8959-8F98-4287-A1BC-BA428155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494F-B6AB-4AB6-8975-932F039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043F-AE6E-4E7C-9791-3D9FEA3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3B05-0AF4-4E71-9EF8-2884886D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A3928-4D52-4C78-821D-0E3104F4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E97D-3534-4598-8192-EEEC137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4BA7-05A8-44CF-A272-2890E413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74B2-A674-445D-9B6B-F310F083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2CE5-5617-4537-8F5F-FFC87616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512C-7849-4C44-B55B-2F374BB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3B92-29D5-444B-8F00-9F5AFC3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07BA-99EC-4DF6-8255-4FB5E65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B200-578F-457E-A6DD-9F186BC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562E-683B-4947-A660-CEF6B07D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9CFF-D666-40DA-8BAD-6623DD2F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96EE-A06C-4ED9-B081-71654BE4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0D05-D90A-4155-BC59-0608A104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3629-5AE0-4D37-BA30-EDD5DC74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DAB2-7F2F-4D68-A8A7-3E23A4C8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0059-F5DB-4D52-97C1-64395764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F7CF-D19D-4D26-A529-D477E18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846C-5F11-4751-8131-30F6019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6D4C-6C74-45D1-8607-D2FDD07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78C1-20AA-4D4D-953F-D97234E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97EBA-9C92-41BA-82FA-31F02DD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228D-9D80-437F-A04E-7839784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4E65-5D76-4AE4-AD4F-3B933DE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9DB3-71B1-47F1-B948-F46B157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507D-7E5C-4604-98EC-D4E09FB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CDDA-03E9-4470-ACC0-4CABCB36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C0068-0356-426F-8183-A0A7FFD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9D6E-0A74-47ED-8C49-54CFE624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0EF-6CB7-4798-966C-59646E8B6A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8ED8-6978-4130-B283-054297A59D2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EF3-3BBD-472F-A2F7-347279B2467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865B-8D43-42DF-9C7C-3405349057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8412-9227-4913-A7B1-CFBE681D0E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CD9-F549-48B6-A02A-3C30DDB77C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1EE-9248-4FB8-945E-12BAE005339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3813-FFA9-463A-AF67-A5BA47B50A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1C9-41DE-4778-9951-EC705489CA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A0E8-5D07-44E2-B08A-A0395A3164E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6FA-7F3A-41DE-9419-27A42F1A24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1613880" y="25351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新春绿简洁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2794320" y="18046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 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王玉清</cp:lastModifiedBy>
  <dcterms:modified xsi:type="dcterms:W3CDTF">2016-03-01T07:19:03Z</dcterms:modified>
  <cp:revision>11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