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EAC-D61D-4101-9BB0-6A29B792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35F-F407-42F3-94F7-3AA444F8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0AC-1BE3-479F-9C2D-F86B71FC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60C-86CB-451C-AFCE-6AA5D796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981-F025-4417-9954-B4BFD41E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F0D3-C176-4F41-B41B-349DEC3C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C18-4460-476D-927E-02049ADE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562-D986-45F0-92A3-0E7A3FC8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C15-A34E-4CCA-A102-8B430AE2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1181-F8F2-495D-95AD-2AC783C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E18B-0912-48C0-97AB-DDF04CD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723-1D23-4C6B-BAF6-5CAD0A7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B4D9-02AC-4DD3-8C70-92D017C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CDF-2539-445E-A2A0-28028C64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8C0-C083-4451-9C05-F4DAFA6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E054-CB98-4BC8-B26D-032C21C2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2F5-CD70-49B7-A445-924C057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CE0-6CC5-41FA-A8FE-EC888F6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B4D-720B-46DE-9124-FB7363B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4A9-CD17-4E6A-809E-9A4190C2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9CC-8BF7-4D2B-83E3-781BA67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1D1-86B4-44AD-B794-581BEA8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817-AB33-4909-9585-409C00E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BAA-2947-4E7B-ABB9-BC06C58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A3F-F846-4719-AD11-2A4B309D6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F0C4-4C5E-4AA7-A76E-593F970C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清新植物通用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54160" y="386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5:43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53:10Z</dcterms:modified>
  <cp:revision>2</cp:revision>
  <dc:subject/>
  <dc:title>清新绿色植物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5</vt:lpwstr>
  </property>
</Properties>
</file>