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0400" y="149040"/>
            <a:ext cx="83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56a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0400" y="1572840"/>
            <a:ext cx="836604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20400" y="3971880"/>
            <a:ext cx="836604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0400" y="149040"/>
            <a:ext cx="83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56a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400" y="1572840"/>
            <a:ext cx="40824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7280" y="1572840"/>
            <a:ext cx="40824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0400" y="3971880"/>
            <a:ext cx="40824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07280" y="3971880"/>
            <a:ext cx="40824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0400" y="149040"/>
            <a:ext cx="83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56a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0400" y="1572840"/>
            <a:ext cx="26935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48920" y="1572840"/>
            <a:ext cx="26935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77440" y="1572840"/>
            <a:ext cx="26935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20400" y="3971880"/>
            <a:ext cx="26935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48920" y="3971880"/>
            <a:ext cx="26935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77440" y="3971880"/>
            <a:ext cx="26935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0400" y="149040"/>
            <a:ext cx="83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56a"/>
              </a:solidFill>
              <a:latin typeface="Franklin Gothic Mediu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20400" y="1572840"/>
            <a:ext cx="83660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0400" y="149040"/>
            <a:ext cx="83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56a"/>
              </a:solidFill>
              <a:latin typeface="Franklin Gothic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20400" y="1572840"/>
            <a:ext cx="8366040" cy="45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0400" y="149040"/>
            <a:ext cx="83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56a"/>
              </a:solidFill>
              <a:latin typeface="Franklin Gothic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0400" y="1572840"/>
            <a:ext cx="4082400" cy="45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07280" y="1572840"/>
            <a:ext cx="4082400" cy="45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0400" y="149040"/>
            <a:ext cx="83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56a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20400" y="149040"/>
            <a:ext cx="83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0400" y="149040"/>
            <a:ext cx="83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56a"/>
              </a:solidFill>
              <a:latin typeface="Franklin Gothic Mediu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400" y="1572840"/>
            <a:ext cx="40824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07280" y="1572840"/>
            <a:ext cx="4082400" cy="45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20400" y="3971880"/>
            <a:ext cx="40824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20400" y="149040"/>
            <a:ext cx="83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56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20400" y="1572840"/>
            <a:ext cx="83660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0400" y="149040"/>
            <a:ext cx="83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56a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0400" y="1572840"/>
            <a:ext cx="4082400" cy="45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07280" y="1572840"/>
            <a:ext cx="40824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07280" y="3971880"/>
            <a:ext cx="40824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0400" y="149040"/>
            <a:ext cx="83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56a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0400" y="1572840"/>
            <a:ext cx="40824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07280" y="1572840"/>
            <a:ext cx="40824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20400" y="3971880"/>
            <a:ext cx="836604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0400" y="149040"/>
            <a:ext cx="83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56a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0400" y="1572840"/>
            <a:ext cx="836604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0400" y="3971880"/>
            <a:ext cx="836604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0400" y="149040"/>
            <a:ext cx="83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56a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0400" y="1572840"/>
            <a:ext cx="40824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07280" y="1572840"/>
            <a:ext cx="40824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0400" y="3971880"/>
            <a:ext cx="40824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07280" y="3971880"/>
            <a:ext cx="40824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0400" y="149040"/>
            <a:ext cx="83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56a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400" y="1572840"/>
            <a:ext cx="26935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148920" y="1572840"/>
            <a:ext cx="26935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77440" y="1572840"/>
            <a:ext cx="26935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20400" y="3971880"/>
            <a:ext cx="26935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148920" y="3971880"/>
            <a:ext cx="26935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77440" y="3971880"/>
            <a:ext cx="26935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20400" y="149040"/>
            <a:ext cx="83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56a"/>
              </a:solidFill>
              <a:latin typeface="Franklin Gothic Mediu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20400" y="1572840"/>
            <a:ext cx="8366040" cy="45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0400" y="149040"/>
            <a:ext cx="83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56a"/>
              </a:solidFill>
              <a:latin typeface="Franklin Gothic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20400" y="1572840"/>
            <a:ext cx="4082400" cy="45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07280" y="1572840"/>
            <a:ext cx="4082400" cy="45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0400" y="149040"/>
            <a:ext cx="83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56a"/>
              </a:solidFill>
              <a:latin typeface="Franklin Gothic Mediu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20400" y="149040"/>
            <a:ext cx="83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0400" y="149040"/>
            <a:ext cx="83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56a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0400" y="1572840"/>
            <a:ext cx="40824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7280" y="1572840"/>
            <a:ext cx="4082400" cy="45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20400" y="3971880"/>
            <a:ext cx="40824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0400" y="149040"/>
            <a:ext cx="83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56a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0400" y="1572840"/>
            <a:ext cx="4082400" cy="45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07280" y="1572840"/>
            <a:ext cx="40824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07280" y="3971880"/>
            <a:ext cx="40824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0400" y="149040"/>
            <a:ext cx="83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56a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0400" y="1572840"/>
            <a:ext cx="40824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7280" y="1572840"/>
            <a:ext cx="40824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20400" y="3971880"/>
            <a:ext cx="836604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0400" y="149040"/>
            <a:ext cx="83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56a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a056a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0400" y="1572840"/>
            <a:ext cx="8366040" cy="45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a05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a7ba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a05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a7ba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a05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a7ba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a05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a7ba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a05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a7ba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f5f5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a7ba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f5f5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a7ba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0400" y="149040"/>
            <a:ext cx="83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56a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a056a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20400" y="1572840"/>
            <a:ext cx="8366040" cy="45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a05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a7ba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a05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a7ba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a05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a7ba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a05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a7ba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a05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a7ba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f5f5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a7ba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f5f5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a7ba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0760" y="65023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Franklin Gothic Medium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Franklin Gothic Medium"/>
              </a:rPr>
              <a:t>http://www.eeppt.com</a:t>
            </a:r>
            <a:endParaRPr b="0" lang="en-US" sz="1600" spc="-1" strike="noStrike">
              <a:solidFill>
                <a:srgbClr val="f5f5f5"/>
              </a:solidFill>
              <a:latin typeface="Franklin Gothic Medium"/>
            </a:endParaRPr>
          </a:p>
        </p:txBody>
      </p:sp>
      <p:sp>
        <p:nvSpPr>
          <p:cNvPr id="77" name=""/>
          <p:cNvSpPr/>
          <p:nvPr/>
        </p:nvSpPr>
        <p:spPr>
          <a:xfrm>
            <a:off x="2116080" y="16200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5f5f5"/>
                </a:solidFill>
                <a:latin typeface="Arial"/>
              </a:rPr>
              <a:t>市场定位分析</a:t>
            </a:r>
            <a:r>
              <a:rPr b="0" lang="en-US" sz="4000" spc="-1" strike="noStrike">
                <a:solidFill>
                  <a:srgbClr val="f5f5f5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5f5f5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f5f5f5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0400" y="149040"/>
            <a:ext cx="83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56a"/>
                </a:solidFill>
                <a:latin typeface="Franklin Gothic Medium"/>
                <a:ea typeface="宋体"/>
              </a:rPr>
              <a:t>Slide title</a:t>
            </a:r>
            <a:endParaRPr b="0" lang="en-US" sz="2800" spc="-1" strike="noStrike">
              <a:solidFill>
                <a:srgbClr val="0a056a"/>
              </a:solidFill>
              <a:latin typeface="Franklin Gothic Medium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0400" y="1572840"/>
            <a:ext cx="8366040" cy="45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a05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ca7ba"/>
                </a:solidFill>
                <a:latin typeface="Franklin Gothic Medium"/>
                <a:ea typeface="宋体"/>
              </a:rPr>
              <a:t>Bullet one</a:t>
            </a: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a05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ca7ba"/>
                </a:solidFill>
                <a:latin typeface="Franklin Gothic Medium"/>
                <a:ea typeface="宋体"/>
              </a:rPr>
              <a:t>Bullet two</a:t>
            </a: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a05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ca7ba"/>
                </a:solidFill>
                <a:latin typeface="Franklin Gothic Medium"/>
                <a:ea typeface="宋体"/>
              </a:rPr>
              <a:t>Bullet three</a:t>
            </a: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a05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ca7ba"/>
                </a:solidFill>
                <a:latin typeface="Franklin Gothic Medium"/>
                <a:ea typeface="宋体"/>
              </a:rPr>
              <a:t>Bullet four</a:t>
            </a: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a05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ca7ba"/>
                </a:solidFill>
                <a:latin typeface="Franklin Gothic Medium"/>
                <a:ea typeface="宋体"/>
              </a:rPr>
              <a:t>Bullet five</a:t>
            </a: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a05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ca7ba"/>
                </a:solidFill>
                <a:latin typeface="Franklin Gothic Medium"/>
                <a:ea typeface="宋体"/>
              </a:rPr>
              <a:t>Bullet six</a:t>
            </a:r>
            <a:endParaRPr b="0" lang="en-US" sz="2000" spc="-1" strike="noStrike">
              <a:solidFill>
                <a:srgbClr val="6ca7ba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0400" y="149040"/>
            <a:ext cx="83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56a"/>
                </a:solidFill>
                <a:latin typeface="Franklin Gothic Medium"/>
                <a:ea typeface="宋体"/>
              </a:rPr>
              <a:t>Chart slide title</a:t>
            </a:r>
            <a:endParaRPr b="0" lang="en-US" sz="2800" spc="-1" strike="noStrike">
              <a:solidFill>
                <a:srgbClr val="0a056a"/>
              </a:solidFill>
              <a:latin typeface="Franklin Gothic Medium"/>
            </a:endParaRPr>
          </a:p>
        </p:txBody>
      </p:sp>
      <p:pic>
        <p:nvPicPr>
          <p:cNvPr id="81" name="Content Placeholder 3" descr=""/>
          <p:cNvPicPr/>
          <p:nvPr/>
        </p:nvPicPr>
        <p:blipFill>
          <a:blip r:embed="rId2"/>
          <a:stretch/>
        </p:blipFill>
        <p:spPr>
          <a:xfrm>
            <a:off x="270000" y="1522440"/>
            <a:ext cx="7520040" cy="4694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0478c"/>
                </a:solidFill>
                <a:uFillTx/>
                <a:latin typeface="Franklin Gothic Medium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f5f5f5"/>
                </a:solidFill>
                <a:latin typeface="Franklin Gothic Medium"/>
              </a:rPr>
              <a:t>http://www.eeppt.com/</a:t>
            </a:r>
            <a:endParaRPr b="0" lang="en-US" sz="1600" spc="-1" strike="noStrike">
              <a:solidFill>
                <a:srgbClr val="f5f5f5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400" y="149040"/>
            <a:ext cx="83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56a"/>
                </a:solidFill>
                <a:latin typeface="Franklin Gothic Medium"/>
                <a:ea typeface="宋体"/>
              </a:rPr>
              <a:t>Chart slide title</a:t>
            </a:r>
            <a:endParaRPr b="0" lang="en-US" sz="2800" spc="-1" strike="noStrike">
              <a:solidFill>
                <a:srgbClr val="0a056a"/>
              </a:solidFill>
              <a:latin typeface="Franklin Gothic Medium"/>
            </a:endParaRPr>
          </a:p>
        </p:txBody>
      </p:sp>
      <p:pic>
        <p:nvPicPr>
          <p:cNvPr id="84" name="Content Placeholder 3" descr=""/>
          <p:cNvPicPr/>
          <p:nvPr/>
        </p:nvPicPr>
        <p:blipFill>
          <a:blip r:embed="rId2"/>
          <a:stretch/>
        </p:blipFill>
        <p:spPr>
          <a:xfrm>
            <a:off x="270000" y="1522440"/>
            <a:ext cx="8467560" cy="46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a056a"/>
                </a:solidFill>
                <a:latin typeface="Franklin Gothic Medium"/>
              </a:rPr>
              <a:t>使用规范说明</a:t>
            </a:r>
            <a:endParaRPr b="0" lang="en-US" sz="2800" spc="-1" strike="noStrike">
              <a:solidFill>
                <a:srgbClr val="0a056a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：</a:t>
            </a:r>
            <a:endParaRPr b="0" lang="en-US" sz="1400" spc="-1" strike="noStrike">
              <a:solidFill>
                <a:srgbClr val="6ca7ba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ca7ba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Franklin Gothic Medium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Franklin Gothic Medium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Franklin Gothic Medium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Franklin Gothic Medium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Franklin Gothic Medium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Franklin Gothic Medium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Franklin Gothic Mediu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0478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0478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6ca7ba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ca7ba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ca7ba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特别说明：</a:t>
            </a:r>
            <a:endParaRPr b="0" lang="en-US" sz="1400" spc="-1" strike="noStrike">
              <a:solidFill>
                <a:srgbClr val="6ca7ba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ca7ba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6ca7ba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ca7ba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ca7ba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ca7ba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：</a:t>
            </a:r>
            <a:endParaRPr b="0" lang="en-US" sz="1400" spc="-1" strike="noStrike">
              <a:solidFill>
                <a:srgbClr val="6ca7ba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0478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30478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6ca7ba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0478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30478c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30478c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6ca7ba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0478c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30478c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6ca7ba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0478c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30478c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6ca7ba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0478c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30478c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6ca7ba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0478c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30478c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6ca7ba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0478c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30478c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6ca7ba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0478c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0478c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6ca7ba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0478c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30478c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6ca7ba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0478c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30478c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6ca7ba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0478c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30478c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6ca7ba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ca7ba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ca7ba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ca7ba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ca7ba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ca7ba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ca7ba"/>
              </a:solidFill>
              <a:latin typeface="Franklin Gothic Medium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5f5f5"/>
                </a:solidFill>
                <a:latin typeface="Franklin Gothic Medium"/>
              </a:rPr>
              <a:t>www.eeppt.com</a:t>
            </a:r>
            <a:endParaRPr b="0" lang="en-US" sz="1400" spc="-1" strike="noStrike">
              <a:solidFill>
                <a:srgbClr val="f5f5f5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14:16:1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9:51:13Z</dcterms:modified>
  <cp:revision>5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4005000000000001024140</vt:lpwstr>
  </property>
</Properties>
</file>