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32F-F903-4BD7-A674-C85144F9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4BA-94E9-4F73-A093-2CB0FDCB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92F-4436-4C90-958F-70F6D9E3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F0D-F273-439B-90A0-8758698F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1771-4924-428D-9898-B20825D5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5049-A131-41CB-917E-A2BCFBC5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37BF-0A3C-4C90-B17F-54CA30BC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71D-E893-40E3-A420-D8B88F10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EB69-6751-4CE9-935C-1D19078B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5ECE-3606-40A9-9B7F-1C4F7DEE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4E1C-5D4D-4F97-8ADE-58043D1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108-62D8-40D2-B18C-5A62D40E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D7E9-7928-4D04-94B6-098F119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255-71B7-4731-BF1E-B2ABED83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8B5F-5C1D-43BC-9E9E-ABA0B8E2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B247-A1F9-40C9-92E8-2624F907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0FC8-872F-459B-9450-A022F3B9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3E9-CB49-40A6-BA6F-94552159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5C3-A178-47F7-B5AE-2CD9B24A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1BE-21AE-4232-83B6-44DF99B1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47D-8C04-49D3-B7D1-A38BCB9A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2D7-98F2-4FAC-8348-541B9EC7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8F7-4D61-4744-AD9E-176082E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7F5-00C4-4DC6-952B-2EF21C0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4FC-1492-4500-AE85-6FC4D97E3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8001000" y="1295280"/>
            <a:ext cx="884160" cy="741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8001000" y="228600"/>
            <a:ext cx="94464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5"/>
          <a:stretch/>
        </p:blipFill>
        <p:spPr>
          <a:xfrm>
            <a:off x="8001000" y="2133720"/>
            <a:ext cx="9842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clip_software_02"/>
          <p:cNvPicPr/>
          <p:nvPr/>
        </p:nvPicPr>
        <p:blipFill>
          <a:blip r:embed="rId6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water"/>
          <p:cNvPicPr/>
          <p:nvPr/>
        </p:nvPicPr>
        <p:blipFill>
          <a:blip r:embed="rId7"/>
          <a:srcRect l="22412" t="16378" r="0" b="27484"/>
          <a:stretch/>
        </p:blipFill>
        <p:spPr>
          <a:xfrm rot="393000">
            <a:off x="762120" y="5638320"/>
            <a:ext cx="144756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water"/>
          <p:cNvPicPr/>
          <p:nvPr/>
        </p:nvPicPr>
        <p:blipFill>
          <a:blip r:embed="rId4"/>
          <a:srcRect l="22412" t="16378" r="0" b="27484"/>
          <a:stretch/>
        </p:blipFill>
        <p:spPr>
          <a:xfrm rot="393000">
            <a:off x="1143000" y="1447560"/>
            <a:ext cx="2209680" cy="2117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427-DB0F-4A42-9D54-44F1217F3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415080" y="645948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2f2f2"/>
                </a:solidFill>
                <a:latin typeface="Arial"/>
              </a:rPr>
              <a:t>模板下载：</a:t>
            </a:r>
            <a:r>
              <a:rPr b="0" lang="en-US" sz="1000" spc="-1" strike="noStrike">
                <a:solidFill>
                  <a:srgbClr val="f2f2f2"/>
                </a:solidFill>
                <a:latin typeface="Arial"/>
              </a:rPr>
              <a:t>www.1ppt.com/moba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1875600" y="9144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蔬菜植物韩国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00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