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C34-F2F0-47CA-84CD-45BB48A7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9AD-00A4-4EB3-8887-7563F987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06D-B679-413F-83E9-0754FEDC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C33-6C2C-486E-A2E5-A0E7699A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43A-8E31-4502-B468-C79F386A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4B2-97BF-4775-BFAF-8A2061B1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11A-EB5D-4071-ADD3-DCDB8C7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552-6352-4C1E-8361-0D9B39AE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EA5-BE8B-4A36-B0F7-F0AB7198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41C-76D9-4C27-BBB7-B7609742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3A4-61E1-4C4F-AC66-D6B25D5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CF8-1A34-40CF-B6A1-7C6FAC0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760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760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760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61E8-EEE7-4B08-8FFC-5008682C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179360" y="1836720"/>
            <a:ext cx="1521000" cy="1314360"/>
            <a:chOff x="1179360" y="1836720"/>
            <a:chExt cx="1521000" cy="1314360"/>
          </a:xfrm>
        </p:grpSpPr>
        <p:sp>
          <p:nvSpPr>
            <p:cNvPr id="42" name="Text Box 3"/>
            <p:cNvSpPr/>
            <p:nvPr/>
          </p:nvSpPr>
          <p:spPr>
            <a:xfrm>
              <a:off x="1179360" y="1836720"/>
              <a:ext cx="15210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cc3300"/>
                  </a:solidFill>
                  <a:latin typeface="Arial"/>
                  <a:ea typeface="华文行楷"/>
                </a:rPr>
                <a:t>伤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2268000" y="2630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AutoShape 5"/>
          <p:cNvSpPr/>
          <p:nvPr/>
        </p:nvSpPr>
        <p:spPr>
          <a:xfrm rot="20995200">
            <a:off x="654120" y="1725120"/>
            <a:ext cx="317520" cy="1825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20995200">
            <a:off x="767880" y="1757160"/>
            <a:ext cx="274680" cy="15876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rot="20995200">
            <a:off x="474480" y="1682640"/>
            <a:ext cx="315720" cy="1825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 rot="20995200">
            <a:off x="571320" y="1701720"/>
            <a:ext cx="315720" cy="1825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1353960" y="1908000"/>
            <a:ext cx="333360" cy="222480"/>
            <a:chOff x="1353960" y="1908000"/>
            <a:chExt cx="333360" cy="222480"/>
          </a:xfrm>
        </p:grpSpPr>
        <p:sp>
          <p:nvSpPr>
            <p:cNvPr id="49" name="Line 10"/>
            <p:cNvSpPr/>
            <p:nvPr/>
          </p:nvSpPr>
          <p:spPr>
            <a:xfrm flipV="1">
              <a:off x="1353960" y="1908000"/>
              <a:ext cx="9000" cy="222480"/>
            </a:xfrm>
            <a:prstGeom prst="line">
              <a:avLst/>
            </a:prstGeom>
            <a:ln w="127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 flipH="1">
              <a:off x="1353960" y="1908000"/>
              <a:ext cx="3333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2"/>
          <p:cNvGrpSpPr/>
          <p:nvPr/>
        </p:nvGrpSpPr>
        <p:grpSpPr>
          <a:xfrm>
            <a:off x="2401200" y="2989440"/>
            <a:ext cx="443880" cy="222120"/>
            <a:chOff x="2401200" y="2989440"/>
            <a:chExt cx="443880" cy="222120"/>
          </a:xfrm>
        </p:grpSpPr>
        <p:sp>
          <p:nvSpPr>
            <p:cNvPr id="52" name="Line 13"/>
            <p:cNvSpPr/>
            <p:nvPr/>
          </p:nvSpPr>
          <p:spPr>
            <a:xfrm flipH="1">
              <a:off x="2832840" y="2989440"/>
              <a:ext cx="11880" cy="222120"/>
            </a:xfrm>
            <a:prstGeom prst="line">
              <a:avLst/>
            </a:prstGeom>
            <a:ln w="127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>
              <a:off x="2401200" y="3211200"/>
              <a:ext cx="44388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15"/>
          <p:cNvSpPr/>
          <p:nvPr/>
        </p:nvSpPr>
        <p:spPr>
          <a:xfrm flipV="1">
            <a:off x="1332000" y="2028600"/>
            <a:ext cx="17280" cy="6778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2843280" y="2706840"/>
            <a:ext cx="7920" cy="3538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183480" y="26661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c0c0"/>
                </a:solidFill>
                <a:latin typeface="华文仿宋"/>
                <a:ea typeface="华文仿宋"/>
              </a:rPr>
              <a:t>有些事情是可以遗忘的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6940800" y="3001320"/>
            <a:ext cx="72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方正舒体"/>
                <a:ea typeface="方正舒体"/>
              </a:rPr>
              <a:t>--</a:t>
            </a:r>
            <a:r>
              <a:rPr b="0" lang="zh-CN" sz="1200" spc="-1" strike="noStrike">
                <a:solidFill>
                  <a:srgbClr val="808080"/>
                </a:solidFill>
                <a:latin typeface="方正舒体"/>
                <a:ea typeface="方正舒体"/>
              </a:rPr>
              <a:t>安妮宝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843280" y="28670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c0c0"/>
                </a:solidFill>
                <a:latin typeface="华文仿宋"/>
                <a:ea typeface="华文仿宋"/>
              </a:rPr>
              <a:t>有些事情是可以纪念的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362480" y="307332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c0c0"/>
                </a:solidFill>
                <a:latin typeface="华文仿宋"/>
                <a:ea typeface="华文仿宋"/>
              </a:rPr>
              <a:t>有些事情能够心甘情愿，有些事情一直无能为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325240" y="378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伤情动画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314280" y="4954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1"/>
                            </p:stCondLst>
                            <p:childTnLst>
                              <p:par>
                                <p:cTn id="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6574E-006 L 0.05799 0.09932 E">
                                      <p:cBhvr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1008 L 0.00104 0.01175 E"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101"/>
                            </p:stCondLst>
                            <p:childTnLst>
                              <p:par>
                                <p:cTn id="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601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1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01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5580000" y="3276720"/>
            <a:ext cx="3602160" cy="2181240"/>
          </a:xfrm>
          <a:custGeom>
            <a:avLst/>
            <a:gdLst>
              <a:gd name="textAreaLeft" fmla="*/ 0 w 3602160"/>
              <a:gd name="textAreaRight" fmla="*/ 3602520 w 360216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2042" h="1374">
                <a:moveTo>
                  <a:pt x="36" y="1366"/>
                </a:moveTo>
                <a:cubicBezTo>
                  <a:pt x="0" y="1292"/>
                  <a:pt x="20" y="1166"/>
                  <a:pt x="108" y="1138"/>
                </a:cubicBezTo>
                <a:cubicBezTo>
                  <a:pt x="162" y="1149"/>
                  <a:pt x="186" y="1183"/>
                  <a:pt x="228" y="1216"/>
                </a:cubicBezTo>
                <a:cubicBezTo>
                  <a:pt x="242" y="1227"/>
                  <a:pt x="271" y="1245"/>
                  <a:pt x="271" y="1245"/>
                </a:cubicBezTo>
                <a:cubicBezTo>
                  <a:pt x="273" y="1238"/>
                  <a:pt x="277" y="1231"/>
                  <a:pt x="278" y="1223"/>
                </a:cubicBezTo>
                <a:cubicBezTo>
                  <a:pt x="282" y="1164"/>
                  <a:pt x="274" y="1104"/>
                  <a:pt x="285" y="1046"/>
                </a:cubicBezTo>
                <a:cubicBezTo>
                  <a:pt x="289" y="1026"/>
                  <a:pt x="307" y="1011"/>
                  <a:pt x="321" y="996"/>
                </a:cubicBezTo>
                <a:cubicBezTo>
                  <a:pt x="337" y="979"/>
                  <a:pt x="350" y="958"/>
                  <a:pt x="371" y="946"/>
                </a:cubicBezTo>
                <a:cubicBezTo>
                  <a:pt x="411" y="923"/>
                  <a:pt x="463" y="919"/>
                  <a:pt x="506" y="903"/>
                </a:cubicBezTo>
                <a:cubicBezTo>
                  <a:pt x="553" y="911"/>
                  <a:pt x="605" y="925"/>
                  <a:pt x="648" y="946"/>
                </a:cubicBezTo>
                <a:cubicBezTo>
                  <a:pt x="689" y="966"/>
                  <a:pt x="704" y="999"/>
                  <a:pt x="748" y="1010"/>
                </a:cubicBezTo>
                <a:cubicBezTo>
                  <a:pt x="802" y="1091"/>
                  <a:pt x="784" y="977"/>
                  <a:pt x="790" y="911"/>
                </a:cubicBezTo>
                <a:cubicBezTo>
                  <a:pt x="793" y="873"/>
                  <a:pt x="798" y="835"/>
                  <a:pt x="804" y="797"/>
                </a:cubicBezTo>
                <a:cubicBezTo>
                  <a:pt x="817" y="715"/>
                  <a:pt x="931" y="688"/>
                  <a:pt x="989" y="647"/>
                </a:cubicBezTo>
                <a:cubicBezTo>
                  <a:pt x="1051" y="656"/>
                  <a:pt x="1096" y="649"/>
                  <a:pt x="1139" y="690"/>
                </a:cubicBezTo>
                <a:cubicBezTo>
                  <a:pt x="1159" y="731"/>
                  <a:pt x="1185" y="756"/>
                  <a:pt x="1210" y="790"/>
                </a:cubicBezTo>
                <a:cubicBezTo>
                  <a:pt x="1249" y="843"/>
                  <a:pt x="1284" y="900"/>
                  <a:pt x="1331" y="946"/>
                </a:cubicBezTo>
                <a:cubicBezTo>
                  <a:pt x="1359" y="862"/>
                  <a:pt x="1321" y="822"/>
                  <a:pt x="1281" y="761"/>
                </a:cubicBezTo>
                <a:cubicBezTo>
                  <a:pt x="1234" y="690"/>
                  <a:pt x="1293" y="752"/>
                  <a:pt x="1252" y="711"/>
                </a:cubicBezTo>
                <a:cubicBezTo>
                  <a:pt x="1230" y="645"/>
                  <a:pt x="1235" y="585"/>
                  <a:pt x="1274" y="527"/>
                </a:cubicBezTo>
                <a:cubicBezTo>
                  <a:pt x="1285" y="481"/>
                  <a:pt x="1327" y="399"/>
                  <a:pt x="1373" y="384"/>
                </a:cubicBezTo>
                <a:cubicBezTo>
                  <a:pt x="1393" y="365"/>
                  <a:pt x="1411" y="351"/>
                  <a:pt x="1437" y="342"/>
                </a:cubicBezTo>
                <a:cubicBezTo>
                  <a:pt x="1479" y="349"/>
                  <a:pt x="1534" y="351"/>
                  <a:pt x="1572" y="377"/>
                </a:cubicBezTo>
                <a:cubicBezTo>
                  <a:pt x="1589" y="389"/>
                  <a:pt x="1615" y="420"/>
                  <a:pt x="1615" y="420"/>
                </a:cubicBezTo>
                <a:cubicBezTo>
                  <a:pt x="1636" y="484"/>
                  <a:pt x="1609" y="412"/>
                  <a:pt x="1629" y="327"/>
                </a:cubicBezTo>
                <a:cubicBezTo>
                  <a:pt x="1642" y="271"/>
                  <a:pt x="1690" y="277"/>
                  <a:pt x="1729" y="256"/>
                </a:cubicBezTo>
                <a:cubicBezTo>
                  <a:pt x="1744" y="248"/>
                  <a:pt x="1772" y="228"/>
                  <a:pt x="1772" y="228"/>
                </a:cubicBezTo>
                <a:cubicBezTo>
                  <a:pt x="1790" y="233"/>
                  <a:pt x="1810" y="247"/>
                  <a:pt x="1807" y="214"/>
                </a:cubicBezTo>
                <a:cubicBezTo>
                  <a:pt x="1805" y="195"/>
                  <a:pt x="1793" y="157"/>
                  <a:pt x="1793" y="157"/>
                </a:cubicBezTo>
                <a:cubicBezTo>
                  <a:pt x="1795" y="143"/>
                  <a:pt x="1793" y="127"/>
                  <a:pt x="1800" y="114"/>
                </a:cubicBezTo>
                <a:cubicBezTo>
                  <a:pt x="1842" y="42"/>
                  <a:pt x="1951" y="0"/>
                  <a:pt x="2028" y="0"/>
                </a:cubicBezTo>
                <a:lnTo>
                  <a:pt x="2042" y="1374"/>
                </a:lnTo>
                <a:lnTo>
                  <a:pt x="36" y="1366"/>
                </a:lnTo>
                <a:close/>
              </a:path>
            </a:pathLst>
          </a:custGeom>
          <a:solidFill>
            <a:srgbClr val="bbe0e3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-34920" y="1878120"/>
            <a:ext cx="9032760" cy="2838240"/>
          </a:xfrm>
          <a:custGeom>
            <a:avLst/>
            <a:gdLst>
              <a:gd name="textAreaLeft" fmla="*/ 0 w 9032760"/>
              <a:gd name="textAreaRight" fmla="*/ 9033120 w 903276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5691" h="1788">
                <a:moveTo>
                  <a:pt x="23" y="472"/>
                </a:moveTo>
                <a:cubicBezTo>
                  <a:pt x="25" y="452"/>
                  <a:pt x="24" y="405"/>
                  <a:pt x="37" y="379"/>
                </a:cubicBezTo>
                <a:cubicBezTo>
                  <a:pt x="67" y="319"/>
                  <a:pt x="126" y="283"/>
                  <a:pt x="172" y="237"/>
                </a:cubicBezTo>
                <a:cubicBezTo>
                  <a:pt x="248" y="242"/>
                  <a:pt x="269" y="243"/>
                  <a:pt x="329" y="258"/>
                </a:cubicBezTo>
                <a:cubicBezTo>
                  <a:pt x="383" y="314"/>
                  <a:pt x="315" y="251"/>
                  <a:pt x="379" y="287"/>
                </a:cubicBezTo>
                <a:cubicBezTo>
                  <a:pt x="395" y="296"/>
                  <a:pt x="406" y="312"/>
                  <a:pt x="421" y="322"/>
                </a:cubicBezTo>
                <a:cubicBezTo>
                  <a:pt x="447" y="375"/>
                  <a:pt x="427" y="343"/>
                  <a:pt x="492" y="408"/>
                </a:cubicBezTo>
                <a:cubicBezTo>
                  <a:pt x="509" y="425"/>
                  <a:pt x="521" y="445"/>
                  <a:pt x="535" y="464"/>
                </a:cubicBezTo>
                <a:cubicBezTo>
                  <a:pt x="541" y="472"/>
                  <a:pt x="586" y="499"/>
                  <a:pt x="599" y="507"/>
                </a:cubicBezTo>
                <a:cubicBezTo>
                  <a:pt x="670" y="497"/>
                  <a:pt x="675" y="480"/>
                  <a:pt x="727" y="443"/>
                </a:cubicBezTo>
                <a:cubicBezTo>
                  <a:pt x="749" y="427"/>
                  <a:pt x="770" y="417"/>
                  <a:pt x="791" y="400"/>
                </a:cubicBezTo>
                <a:cubicBezTo>
                  <a:pt x="818" y="378"/>
                  <a:pt x="805" y="392"/>
                  <a:pt x="834" y="379"/>
                </a:cubicBezTo>
                <a:cubicBezTo>
                  <a:pt x="853" y="370"/>
                  <a:pt x="891" y="351"/>
                  <a:pt x="891" y="351"/>
                </a:cubicBezTo>
                <a:cubicBezTo>
                  <a:pt x="948" y="353"/>
                  <a:pt x="1004" y="354"/>
                  <a:pt x="1061" y="358"/>
                </a:cubicBezTo>
                <a:cubicBezTo>
                  <a:pt x="1113" y="362"/>
                  <a:pt x="1147" y="398"/>
                  <a:pt x="1189" y="422"/>
                </a:cubicBezTo>
                <a:cubicBezTo>
                  <a:pt x="1216" y="437"/>
                  <a:pt x="1246" y="448"/>
                  <a:pt x="1275" y="457"/>
                </a:cubicBezTo>
                <a:cubicBezTo>
                  <a:pt x="1318" y="440"/>
                  <a:pt x="1320" y="430"/>
                  <a:pt x="1331" y="386"/>
                </a:cubicBezTo>
                <a:cubicBezTo>
                  <a:pt x="1343" y="219"/>
                  <a:pt x="1328" y="256"/>
                  <a:pt x="1509" y="265"/>
                </a:cubicBezTo>
                <a:cubicBezTo>
                  <a:pt x="1558" y="281"/>
                  <a:pt x="1606" y="280"/>
                  <a:pt x="1651" y="308"/>
                </a:cubicBezTo>
                <a:cubicBezTo>
                  <a:pt x="1709" y="343"/>
                  <a:pt x="1752" y="399"/>
                  <a:pt x="1808" y="436"/>
                </a:cubicBezTo>
                <a:cubicBezTo>
                  <a:pt x="1818" y="407"/>
                  <a:pt x="1833" y="376"/>
                  <a:pt x="1851" y="351"/>
                </a:cubicBezTo>
                <a:cubicBezTo>
                  <a:pt x="1864" y="311"/>
                  <a:pt x="1873" y="270"/>
                  <a:pt x="1886" y="230"/>
                </a:cubicBezTo>
                <a:cubicBezTo>
                  <a:pt x="1900" y="144"/>
                  <a:pt x="1886" y="165"/>
                  <a:pt x="2000" y="173"/>
                </a:cubicBezTo>
                <a:cubicBezTo>
                  <a:pt x="2016" y="185"/>
                  <a:pt x="2036" y="194"/>
                  <a:pt x="2050" y="208"/>
                </a:cubicBezTo>
                <a:cubicBezTo>
                  <a:pt x="2069" y="227"/>
                  <a:pt x="2075" y="259"/>
                  <a:pt x="2092" y="280"/>
                </a:cubicBezTo>
                <a:cubicBezTo>
                  <a:pt x="2112" y="305"/>
                  <a:pt x="2104" y="282"/>
                  <a:pt x="2121" y="315"/>
                </a:cubicBezTo>
                <a:cubicBezTo>
                  <a:pt x="2134" y="342"/>
                  <a:pt x="2132" y="367"/>
                  <a:pt x="2149" y="393"/>
                </a:cubicBezTo>
                <a:cubicBezTo>
                  <a:pt x="2151" y="400"/>
                  <a:pt x="2151" y="410"/>
                  <a:pt x="2156" y="415"/>
                </a:cubicBezTo>
                <a:cubicBezTo>
                  <a:pt x="2161" y="420"/>
                  <a:pt x="2171" y="418"/>
                  <a:pt x="2178" y="422"/>
                </a:cubicBezTo>
                <a:cubicBezTo>
                  <a:pt x="2230" y="450"/>
                  <a:pt x="2246" y="485"/>
                  <a:pt x="2306" y="500"/>
                </a:cubicBezTo>
                <a:cubicBezTo>
                  <a:pt x="2323" y="489"/>
                  <a:pt x="2336" y="482"/>
                  <a:pt x="2348" y="464"/>
                </a:cubicBezTo>
                <a:cubicBezTo>
                  <a:pt x="2359" y="447"/>
                  <a:pt x="2349" y="435"/>
                  <a:pt x="2370" y="422"/>
                </a:cubicBezTo>
                <a:cubicBezTo>
                  <a:pt x="2383" y="414"/>
                  <a:pt x="2412" y="408"/>
                  <a:pt x="2412" y="408"/>
                </a:cubicBezTo>
                <a:cubicBezTo>
                  <a:pt x="2479" y="419"/>
                  <a:pt x="2479" y="443"/>
                  <a:pt x="2533" y="472"/>
                </a:cubicBezTo>
                <a:cubicBezTo>
                  <a:pt x="2560" y="512"/>
                  <a:pt x="2591" y="559"/>
                  <a:pt x="2626" y="592"/>
                </a:cubicBezTo>
                <a:cubicBezTo>
                  <a:pt x="2664" y="554"/>
                  <a:pt x="2695" y="527"/>
                  <a:pt x="2747" y="514"/>
                </a:cubicBezTo>
                <a:cubicBezTo>
                  <a:pt x="2768" y="516"/>
                  <a:pt x="2790" y="516"/>
                  <a:pt x="2811" y="521"/>
                </a:cubicBezTo>
                <a:cubicBezTo>
                  <a:pt x="2819" y="523"/>
                  <a:pt x="2824" y="532"/>
                  <a:pt x="2832" y="536"/>
                </a:cubicBezTo>
                <a:cubicBezTo>
                  <a:pt x="2842" y="541"/>
                  <a:pt x="2873" y="548"/>
                  <a:pt x="2882" y="550"/>
                </a:cubicBezTo>
                <a:cubicBezTo>
                  <a:pt x="2905" y="581"/>
                  <a:pt x="2910" y="590"/>
                  <a:pt x="2946" y="578"/>
                </a:cubicBezTo>
                <a:cubicBezTo>
                  <a:pt x="2958" y="566"/>
                  <a:pt x="2974" y="553"/>
                  <a:pt x="2981" y="536"/>
                </a:cubicBezTo>
                <a:cubicBezTo>
                  <a:pt x="3000" y="491"/>
                  <a:pt x="2974" y="521"/>
                  <a:pt x="3003" y="493"/>
                </a:cubicBezTo>
                <a:cubicBezTo>
                  <a:pt x="3014" y="461"/>
                  <a:pt x="3024" y="436"/>
                  <a:pt x="3045" y="408"/>
                </a:cubicBezTo>
                <a:cubicBezTo>
                  <a:pt x="3055" y="326"/>
                  <a:pt x="3054" y="164"/>
                  <a:pt x="3109" y="109"/>
                </a:cubicBezTo>
                <a:cubicBezTo>
                  <a:pt x="3269" y="116"/>
                  <a:pt x="3234" y="98"/>
                  <a:pt x="3323" y="159"/>
                </a:cubicBezTo>
                <a:cubicBezTo>
                  <a:pt x="3340" y="193"/>
                  <a:pt x="3367" y="213"/>
                  <a:pt x="3387" y="244"/>
                </a:cubicBezTo>
                <a:cubicBezTo>
                  <a:pt x="3404" y="270"/>
                  <a:pt x="3418" y="297"/>
                  <a:pt x="3436" y="322"/>
                </a:cubicBezTo>
                <a:cubicBezTo>
                  <a:pt x="3444" y="333"/>
                  <a:pt x="3457" y="340"/>
                  <a:pt x="3465" y="351"/>
                </a:cubicBezTo>
                <a:cubicBezTo>
                  <a:pt x="3475" y="365"/>
                  <a:pt x="3493" y="393"/>
                  <a:pt x="3493" y="393"/>
                </a:cubicBezTo>
                <a:cubicBezTo>
                  <a:pt x="3495" y="400"/>
                  <a:pt x="3500" y="429"/>
                  <a:pt x="3515" y="429"/>
                </a:cubicBezTo>
                <a:cubicBezTo>
                  <a:pt x="3523" y="429"/>
                  <a:pt x="3530" y="421"/>
                  <a:pt x="3536" y="415"/>
                </a:cubicBezTo>
                <a:cubicBezTo>
                  <a:pt x="3563" y="391"/>
                  <a:pt x="3578" y="370"/>
                  <a:pt x="3607" y="351"/>
                </a:cubicBezTo>
                <a:cubicBezTo>
                  <a:pt x="3618" y="316"/>
                  <a:pt x="3631" y="321"/>
                  <a:pt x="3664" y="329"/>
                </a:cubicBezTo>
                <a:cubicBezTo>
                  <a:pt x="3676" y="341"/>
                  <a:pt x="3687" y="353"/>
                  <a:pt x="3699" y="365"/>
                </a:cubicBezTo>
                <a:cubicBezTo>
                  <a:pt x="3704" y="370"/>
                  <a:pt x="3714" y="379"/>
                  <a:pt x="3714" y="379"/>
                </a:cubicBezTo>
                <a:cubicBezTo>
                  <a:pt x="3723" y="365"/>
                  <a:pt x="3733" y="350"/>
                  <a:pt x="3742" y="336"/>
                </a:cubicBezTo>
                <a:cubicBezTo>
                  <a:pt x="3747" y="329"/>
                  <a:pt x="3748" y="318"/>
                  <a:pt x="3756" y="315"/>
                </a:cubicBezTo>
                <a:cubicBezTo>
                  <a:pt x="3770" y="310"/>
                  <a:pt x="3799" y="301"/>
                  <a:pt x="3799" y="301"/>
                </a:cubicBezTo>
                <a:cubicBezTo>
                  <a:pt x="3843" y="308"/>
                  <a:pt x="3861" y="312"/>
                  <a:pt x="3891" y="344"/>
                </a:cubicBezTo>
                <a:cubicBezTo>
                  <a:pt x="3905" y="334"/>
                  <a:pt x="3920" y="325"/>
                  <a:pt x="3934" y="315"/>
                </a:cubicBezTo>
                <a:cubicBezTo>
                  <a:pt x="3975" y="288"/>
                  <a:pt x="3923" y="300"/>
                  <a:pt x="3963" y="280"/>
                </a:cubicBezTo>
                <a:cubicBezTo>
                  <a:pt x="3972" y="276"/>
                  <a:pt x="3982" y="275"/>
                  <a:pt x="3991" y="272"/>
                </a:cubicBezTo>
                <a:cubicBezTo>
                  <a:pt x="4005" y="268"/>
                  <a:pt x="4034" y="258"/>
                  <a:pt x="4034" y="258"/>
                </a:cubicBezTo>
                <a:cubicBezTo>
                  <a:pt x="4119" y="263"/>
                  <a:pt x="4155" y="265"/>
                  <a:pt x="4226" y="287"/>
                </a:cubicBezTo>
                <a:cubicBezTo>
                  <a:pt x="4247" y="285"/>
                  <a:pt x="4269" y="285"/>
                  <a:pt x="4290" y="280"/>
                </a:cubicBezTo>
                <a:cubicBezTo>
                  <a:pt x="4318" y="273"/>
                  <a:pt x="4348" y="234"/>
                  <a:pt x="4361" y="208"/>
                </a:cubicBezTo>
                <a:cubicBezTo>
                  <a:pt x="4364" y="201"/>
                  <a:pt x="4363" y="192"/>
                  <a:pt x="4368" y="187"/>
                </a:cubicBezTo>
                <a:cubicBezTo>
                  <a:pt x="4373" y="182"/>
                  <a:pt x="4382" y="182"/>
                  <a:pt x="4389" y="180"/>
                </a:cubicBezTo>
                <a:cubicBezTo>
                  <a:pt x="4421" y="200"/>
                  <a:pt x="4454" y="203"/>
                  <a:pt x="4489" y="216"/>
                </a:cubicBezTo>
                <a:cubicBezTo>
                  <a:pt x="4519" y="205"/>
                  <a:pt x="4535" y="193"/>
                  <a:pt x="4567" y="187"/>
                </a:cubicBezTo>
                <a:cubicBezTo>
                  <a:pt x="4707" y="96"/>
                  <a:pt x="4808" y="141"/>
                  <a:pt x="5015" y="137"/>
                </a:cubicBezTo>
                <a:cubicBezTo>
                  <a:pt x="5027" y="125"/>
                  <a:pt x="5051" y="102"/>
                  <a:pt x="5051" y="102"/>
                </a:cubicBezTo>
                <a:cubicBezTo>
                  <a:pt x="5091" y="74"/>
                  <a:pt x="5132" y="48"/>
                  <a:pt x="5171" y="19"/>
                </a:cubicBezTo>
                <a:cubicBezTo>
                  <a:pt x="5177" y="15"/>
                  <a:pt x="5179" y="0"/>
                  <a:pt x="5186" y="2"/>
                </a:cubicBezTo>
                <a:cubicBezTo>
                  <a:pt x="5202" y="6"/>
                  <a:pt x="5192" y="39"/>
                  <a:pt x="5207" y="45"/>
                </a:cubicBezTo>
                <a:cubicBezTo>
                  <a:pt x="5222" y="52"/>
                  <a:pt x="5240" y="50"/>
                  <a:pt x="5257" y="52"/>
                </a:cubicBezTo>
                <a:cubicBezTo>
                  <a:pt x="5310" y="70"/>
                  <a:pt x="5242" y="54"/>
                  <a:pt x="5299" y="38"/>
                </a:cubicBezTo>
                <a:cubicBezTo>
                  <a:pt x="5309" y="35"/>
                  <a:pt x="5318" y="43"/>
                  <a:pt x="5328" y="45"/>
                </a:cubicBezTo>
                <a:cubicBezTo>
                  <a:pt x="5334" y="54"/>
                  <a:pt x="5347" y="80"/>
                  <a:pt x="5363" y="80"/>
                </a:cubicBezTo>
                <a:cubicBezTo>
                  <a:pt x="5370" y="80"/>
                  <a:pt x="5372" y="69"/>
                  <a:pt x="5378" y="66"/>
                </a:cubicBezTo>
                <a:cubicBezTo>
                  <a:pt x="5404" y="51"/>
                  <a:pt x="5435" y="40"/>
                  <a:pt x="5463" y="31"/>
                </a:cubicBezTo>
                <a:cubicBezTo>
                  <a:pt x="5519" y="13"/>
                  <a:pt x="5582" y="26"/>
                  <a:pt x="5641" y="24"/>
                </a:cubicBezTo>
                <a:cubicBezTo>
                  <a:pt x="5648" y="21"/>
                  <a:pt x="5655" y="18"/>
                  <a:pt x="5662" y="16"/>
                </a:cubicBezTo>
                <a:cubicBezTo>
                  <a:pt x="5672" y="13"/>
                  <a:pt x="5691" y="9"/>
                  <a:pt x="5691" y="9"/>
                </a:cubicBezTo>
                <a:lnTo>
                  <a:pt x="91" y="1743"/>
                </a:lnTo>
                <a:lnTo>
                  <a:pt x="0" y="1788"/>
                </a:lnTo>
                <a:lnTo>
                  <a:pt x="23" y="472"/>
                </a:lnTo>
                <a:close/>
              </a:path>
            </a:pathLst>
          </a:cu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324000" y="2124000"/>
            <a:ext cx="8676720" cy="3168720"/>
            <a:chOff x="324000" y="2124000"/>
            <a:chExt cx="8676720" cy="3168720"/>
          </a:xfrm>
        </p:grpSpPr>
        <p:sp>
          <p:nvSpPr>
            <p:cNvPr id="65" name="Line 5"/>
            <p:cNvSpPr/>
            <p:nvPr/>
          </p:nvSpPr>
          <p:spPr>
            <a:xfrm flipV="1">
              <a:off x="324000" y="2124000"/>
              <a:ext cx="8424360" cy="2664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 flipV="1">
              <a:off x="5076720" y="3348000"/>
              <a:ext cx="3924000" cy="194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7"/>
          <p:cNvSpPr/>
          <p:nvPr/>
        </p:nvSpPr>
        <p:spPr>
          <a:xfrm rot="20031600">
            <a:off x="2203200" y="526104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 rot="20246400">
            <a:off x="4199040" y="4429080"/>
            <a:ext cx="877680" cy="7632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 rot="20260800">
            <a:off x="5762160" y="3817440"/>
            <a:ext cx="57636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 rot="20260800">
            <a:off x="6948000" y="3438000"/>
            <a:ext cx="432000" cy="71640"/>
          </a:xfrm>
          <a:prstGeom prst="rect">
            <a:avLst/>
          </a:prstGeom>
          <a:solidFill>
            <a:srgbClr val="80808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 flipV="1" rot="20261400">
            <a:off x="7956360" y="3059640"/>
            <a:ext cx="360360" cy="6984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221440" y="3421080"/>
            <a:ext cx="3814560" cy="20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436680" y="2268360"/>
            <a:ext cx="1124640" cy="2445840"/>
            <a:chOff x="436680" y="2268360"/>
            <a:chExt cx="1124640" cy="2445840"/>
          </a:xfrm>
        </p:grpSpPr>
        <p:grpSp>
          <p:nvGrpSpPr>
            <p:cNvPr id="74" name="Group 14"/>
            <p:cNvGrpSpPr/>
            <p:nvPr/>
          </p:nvGrpSpPr>
          <p:grpSpPr>
            <a:xfrm>
              <a:off x="436680" y="2268360"/>
              <a:ext cx="103320" cy="2445840"/>
              <a:chOff x="436680" y="2268360"/>
              <a:chExt cx="103320" cy="2445840"/>
            </a:xfrm>
          </p:grpSpPr>
          <p:sp>
            <p:nvSpPr>
              <p:cNvPr id="75" name="AutoShape 15"/>
              <p:cNvSpPr/>
              <p:nvPr/>
            </p:nvSpPr>
            <p:spPr>
              <a:xfrm>
                <a:off x="436680" y="4552920"/>
                <a:ext cx="103320" cy="16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6"/>
              <p:cNvSpPr/>
              <p:nvPr/>
            </p:nvSpPr>
            <p:spPr>
              <a:xfrm>
                <a:off x="459360" y="2268360"/>
                <a:ext cx="52560" cy="24426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Freeform 17"/>
            <p:cNvSpPr/>
            <p:nvPr/>
          </p:nvSpPr>
          <p:spPr>
            <a:xfrm>
              <a:off x="513000" y="2401560"/>
              <a:ext cx="647640" cy="1666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517680" y="242244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113120" y="2406600"/>
              <a:ext cx="293400" cy="129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1168560" y="2412720"/>
              <a:ext cx="209520" cy="38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>
              <a:off x="1403640" y="2700000"/>
              <a:ext cx="107640" cy="2890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2"/>
            <p:cNvSpPr/>
            <p:nvPr/>
          </p:nvSpPr>
          <p:spPr>
            <a:xfrm>
              <a:off x="1258920" y="2628720"/>
              <a:ext cx="0" cy="14292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3"/>
            <p:cNvSpPr/>
            <p:nvPr/>
          </p:nvSpPr>
          <p:spPr>
            <a:xfrm>
              <a:off x="1187640" y="2916000"/>
              <a:ext cx="0" cy="216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24"/>
            <p:cNvSpPr/>
            <p:nvPr/>
          </p:nvSpPr>
          <p:spPr>
            <a:xfrm flipV="1" rot="21296400">
              <a:off x="1074600" y="2484360"/>
              <a:ext cx="455400" cy="722160"/>
            </a:xfrm>
            <a:custGeom>
              <a:avLst/>
              <a:gdLst>
                <a:gd name="textAreaLeft" fmla="*/ 107640 w 455400"/>
                <a:gd name="textAreaRight" fmla="*/ 347760 w 455400"/>
                <a:gd name="textAreaTop" fmla="*/ 171360 h 722160"/>
                <a:gd name="textAreaBottom" fmla="*/ 550800 h 72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4835520" y="2268360"/>
            <a:ext cx="496080" cy="1079640"/>
            <a:chOff x="4835520" y="2268360"/>
            <a:chExt cx="496080" cy="1079640"/>
          </a:xfrm>
        </p:grpSpPr>
        <p:grpSp>
          <p:nvGrpSpPr>
            <p:cNvPr id="86" name="Group 26"/>
            <p:cNvGrpSpPr/>
            <p:nvPr/>
          </p:nvGrpSpPr>
          <p:grpSpPr>
            <a:xfrm>
              <a:off x="4835520" y="2268360"/>
              <a:ext cx="45360" cy="1079640"/>
              <a:chOff x="4835520" y="2268360"/>
              <a:chExt cx="45360" cy="1079640"/>
            </a:xfrm>
          </p:grpSpPr>
          <p:sp>
            <p:nvSpPr>
              <p:cNvPr id="87" name="AutoShape 27"/>
              <p:cNvSpPr/>
              <p:nvPr/>
            </p:nvSpPr>
            <p:spPr>
              <a:xfrm>
                <a:off x="4835520" y="3276720"/>
                <a:ext cx="45360" cy="7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28"/>
              <p:cNvSpPr/>
              <p:nvPr/>
            </p:nvSpPr>
            <p:spPr>
              <a:xfrm>
                <a:off x="4845600" y="2268360"/>
                <a:ext cx="23040" cy="10782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Freeform 29"/>
            <p:cNvSpPr/>
            <p:nvPr/>
          </p:nvSpPr>
          <p:spPr>
            <a:xfrm>
              <a:off x="4869000" y="2327040"/>
              <a:ext cx="285840" cy="73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871160" y="23360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5133960" y="2329200"/>
              <a:ext cx="129240" cy="57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5158440" y="2332080"/>
              <a:ext cx="92520" cy="165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5262480" y="2458800"/>
              <a:ext cx="47520" cy="1274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5198400" y="2427120"/>
              <a:ext cx="0" cy="63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5"/>
            <p:cNvSpPr/>
            <p:nvPr/>
          </p:nvSpPr>
          <p:spPr>
            <a:xfrm>
              <a:off x="5167080" y="2554200"/>
              <a:ext cx="0" cy="95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6"/>
            <p:cNvSpPr/>
            <p:nvPr/>
          </p:nvSpPr>
          <p:spPr>
            <a:xfrm flipV="1" rot="21296400">
              <a:off x="5117040" y="2362320"/>
              <a:ext cx="200880" cy="318600"/>
            </a:xfrm>
            <a:custGeom>
              <a:avLst/>
              <a:gdLst>
                <a:gd name="textAreaLeft" fmla="*/ 47520 w 200880"/>
                <a:gd name="textAreaRight" fmla="*/ 153360 w 200880"/>
                <a:gd name="textAreaTop" fmla="*/ 75600 h 318600"/>
                <a:gd name="textAreaBottom" fmla="*/ 243000 h 3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37"/>
          <p:cNvGrpSpPr/>
          <p:nvPr/>
        </p:nvGrpSpPr>
        <p:grpSpPr>
          <a:xfrm>
            <a:off x="8018640" y="1908000"/>
            <a:ext cx="231480" cy="505080"/>
            <a:chOff x="8018640" y="1908000"/>
            <a:chExt cx="231480" cy="505080"/>
          </a:xfrm>
        </p:grpSpPr>
        <p:grpSp>
          <p:nvGrpSpPr>
            <p:cNvPr id="98" name="Group 38"/>
            <p:cNvGrpSpPr/>
            <p:nvPr/>
          </p:nvGrpSpPr>
          <p:grpSpPr>
            <a:xfrm>
              <a:off x="8018640" y="1908000"/>
              <a:ext cx="21240" cy="505080"/>
              <a:chOff x="8018640" y="1908000"/>
              <a:chExt cx="21240" cy="505080"/>
            </a:xfrm>
          </p:grpSpPr>
          <p:sp>
            <p:nvSpPr>
              <p:cNvPr id="99" name="AutoShape 39"/>
              <p:cNvSpPr/>
              <p:nvPr/>
            </p:nvSpPr>
            <p:spPr>
              <a:xfrm>
                <a:off x="8018640" y="2379960"/>
                <a:ext cx="21240" cy="3312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40"/>
              <p:cNvSpPr/>
              <p:nvPr/>
            </p:nvSpPr>
            <p:spPr>
              <a:xfrm>
                <a:off x="8023320" y="1908000"/>
                <a:ext cx="10800" cy="50436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41"/>
            <p:cNvSpPr/>
            <p:nvPr/>
          </p:nvSpPr>
          <p:spPr>
            <a:xfrm>
              <a:off x="8034120" y="1935360"/>
              <a:ext cx="133560" cy="34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8035200" y="193968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8157960" y="1936440"/>
              <a:ext cx="60480" cy="26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>
              <a:off x="8169480" y="1937520"/>
              <a:ext cx="43200" cy="75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5"/>
            <p:cNvSpPr/>
            <p:nvPr/>
          </p:nvSpPr>
          <p:spPr>
            <a:xfrm>
              <a:off x="8218080" y="1996920"/>
              <a:ext cx="21960" cy="594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6"/>
            <p:cNvSpPr/>
            <p:nvPr/>
          </p:nvSpPr>
          <p:spPr>
            <a:xfrm>
              <a:off x="8188200" y="1982160"/>
              <a:ext cx="0" cy="2952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7"/>
            <p:cNvSpPr/>
            <p:nvPr/>
          </p:nvSpPr>
          <p:spPr>
            <a:xfrm>
              <a:off x="8173440" y="2041560"/>
              <a:ext cx="0" cy="442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48"/>
            <p:cNvSpPr/>
            <p:nvPr/>
          </p:nvSpPr>
          <p:spPr>
            <a:xfrm flipV="1" rot="21296400">
              <a:off x="8150040" y="1951200"/>
              <a:ext cx="93600" cy="149040"/>
            </a:xfrm>
            <a:custGeom>
              <a:avLst/>
              <a:gdLst>
                <a:gd name="textAreaLeft" fmla="*/ 21960 w 93600"/>
                <a:gd name="textAreaRight" fmla="*/ 71640 w 93600"/>
                <a:gd name="textAreaTop" fmla="*/ 35280 h 149040"/>
                <a:gd name="textAreaBottom" fmla="*/ 113760 h 1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49"/>
          <p:cNvSpPr/>
          <p:nvPr/>
        </p:nvSpPr>
        <p:spPr>
          <a:xfrm flipV="1">
            <a:off x="108000" y="1979640"/>
            <a:ext cx="8569440" cy="2736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0"/>
          <p:cNvSpPr/>
          <p:nvPr/>
        </p:nvSpPr>
        <p:spPr>
          <a:xfrm>
            <a:off x="2484360" y="828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1"/>
          <p:cNvGrpSpPr/>
          <p:nvPr/>
        </p:nvGrpSpPr>
        <p:grpSpPr>
          <a:xfrm>
            <a:off x="-1614240" y="5282640"/>
            <a:ext cx="1765080" cy="1113480"/>
            <a:chOff x="-1614240" y="5282640"/>
            <a:chExt cx="1765080" cy="1113480"/>
          </a:xfrm>
        </p:grpSpPr>
        <p:grpSp>
          <p:nvGrpSpPr>
            <p:cNvPr id="112" name="Group 52"/>
            <p:cNvGrpSpPr/>
            <p:nvPr/>
          </p:nvGrpSpPr>
          <p:grpSpPr>
            <a:xfrm>
              <a:off x="-1614240" y="5282640"/>
              <a:ext cx="1765080" cy="1113480"/>
              <a:chOff x="-1614240" y="5282640"/>
              <a:chExt cx="1765080" cy="1113480"/>
            </a:xfrm>
          </p:grpSpPr>
          <p:grpSp>
            <p:nvGrpSpPr>
              <p:cNvPr id="113" name="Group 53"/>
              <p:cNvGrpSpPr/>
              <p:nvPr/>
            </p:nvGrpSpPr>
            <p:grpSpPr>
              <a:xfrm>
                <a:off x="-339480" y="5537880"/>
                <a:ext cx="490320" cy="491040"/>
                <a:chOff x="-339480" y="5537880"/>
                <a:chExt cx="490320" cy="491040"/>
              </a:xfrm>
            </p:grpSpPr>
            <p:sp>
              <p:nvSpPr>
                <p:cNvPr id="114" name="Oval 54"/>
                <p:cNvSpPr/>
                <p:nvPr/>
              </p:nvSpPr>
              <p:spPr>
                <a:xfrm rot="20007600">
                  <a:off x="-120600" y="5758560"/>
                  <a:ext cx="46080" cy="4608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55"/>
                <p:cNvSpPr/>
                <p:nvPr/>
              </p:nvSpPr>
              <p:spPr>
                <a:xfrm rot="20007600">
                  <a:off x="-276840" y="5600160"/>
                  <a:ext cx="365400" cy="366120"/>
                </a:xfrm>
                <a:custGeom>
                  <a:avLst/>
                  <a:gdLst>
                    <a:gd name="textAreaLeft" fmla="*/ 53280 w 365400"/>
                    <a:gd name="textAreaRight" fmla="*/ 312120 w 365400"/>
                    <a:gd name="textAreaTop" fmla="*/ 53280 h 366120"/>
                    <a:gd name="textAreaBottom" fmla="*/ 312840 h 36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56"/>
                <p:cNvSpPr/>
                <p:nvPr/>
              </p:nvSpPr>
              <p:spPr>
                <a:xfrm flipH="1" rot="20007600">
                  <a:off x="-144000" y="564696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57"/>
                <p:cNvSpPr/>
                <p:nvPr/>
              </p:nvSpPr>
              <p:spPr>
                <a:xfrm flipH="1" rot="6757200">
                  <a:off x="-36360" y="574524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AutoShape 58"/>
                <p:cNvSpPr/>
                <p:nvPr/>
              </p:nvSpPr>
              <p:spPr>
                <a:xfrm flipH="1" rot="15186600">
                  <a:off x="-183960" y="573120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59"/>
                <p:cNvSpPr/>
                <p:nvPr/>
              </p:nvSpPr>
              <p:spPr>
                <a:xfrm flipH="1" rot="11742600">
                  <a:off x="-125640" y="578340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AutoShape 60"/>
                <p:cNvSpPr/>
                <p:nvPr/>
              </p:nvSpPr>
              <p:spPr>
                <a:xfrm flipH="1" rot="2780400">
                  <a:off x="-53280" y="566136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Oval 61"/>
                <p:cNvSpPr/>
                <p:nvPr/>
              </p:nvSpPr>
              <p:spPr>
                <a:xfrm rot="20007600">
                  <a:off x="-266760" y="5608440"/>
                  <a:ext cx="347040" cy="347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62"/>
              <p:cNvGrpSpPr/>
              <p:nvPr/>
            </p:nvGrpSpPr>
            <p:grpSpPr>
              <a:xfrm>
                <a:off x="-1381680" y="5904720"/>
                <a:ext cx="490680" cy="491400"/>
                <a:chOff x="-1381680" y="5904720"/>
                <a:chExt cx="490680" cy="491400"/>
              </a:xfrm>
            </p:grpSpPr>
            <p:sp>
              <p:nvSpPr>
                <p:cNvPr id="123" name="Oval 63"/>
                <p:cNvSpPr/>
                <p:nvPr/>
              </p:nvSpPr>
              <p:spPr>
                <a:xfrm rot="20007600">
                  <a:off x="-1162080" y="612576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AutoShape 64"/>
                <p:cNvSpPr/>
                <p:nvPr/>
              </p:nvSpPr>
              <p:spPr>
                <a:xfrm rot="20007600">
                  <a:off x="-1319040" y="5967000"/>
                  <a:ext cx="365400" cy="366480"/>
                </a:xfrm>
                <a:custGeom>
                  <a:avLst/>
                  <a:gdLst>
                    <a:gd name="textAreaLeft" fmla="*/ 53280 w 365400"/>
                    <a:gd name="textAreaRight" fmla="*/ 312120 w 36540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65"/>
                <p:cNvSpPr/>
                <p:nvPr/>
              </p:nvSpPr>
              <p:spPr>
                <a:xfrm flipH="1" rot="20007600">
                  <a:off x="-1185840" y="601416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66"/>
                <p:cNvSpPr/>
                <p:nvPr/>
              </p:nvSpPr>
              <p:spPr>
                <a:xfrm flipH="1" rot="6757200">
                  <a:off x="-1077840" y="61128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67"/>
                <p:cNvSpPr/>
                <p:nvPr/>
              </p:nvSpPr>
              <p:spPr>
                <a:xfrm flipH="1" rot="15186600">
                  <a:off x="-1225800" y="609840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68"/>
                <p:cNvSpPr/>
                <p:nvPr/>
              </p:nvSpPr>
              <p:spPr>
                <a:xfrm flipH="1" rot="11742600">
                  <a:off x="-1167840" y="615096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AutoShape 69"/>
                <p:cNvSpPr/>
                <p:nvPr/>
              </p:nvSpPr>
              <p:spPr>
                <a:xfrm flipH="1" rot="2780400">
                  <a:off x="-1095120" y="602856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70"/>
                <p:cNvSpPr/>
                <p:nvPr/>
              </p:nvSpPr>
              <p:spPr>
                <a:xfrm rot="20007600">
                  <a:off x="-1308600" y="5975640"/>
                  <a:ext cx="34704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AutoShape 71"/>
              <p:cNvSpPr/>
              <p:nvPr/>
            </p:nvSpPr>
            <p:spPr>
              <a:xfrm rot="1824600">
                <a:off x="-1106640" y="5951160"/>
                <a:ext cx="45000" cy="189360"/>
              </a:xfrm>
              <a:custGeom>
                <a:avLst/>
                <a:gdLst>
                  <a:gd name="textAreaLeft" fmla="*/ 9000 w 45000"/>
                  <a:gd name="textAreaRight" fmla="*/ 36000 w 45000"/>
                  <a:gd name="textAreaTop" fmla="*/ 39240 h 189360"/>
                  <a:gd name="textAreaBottom" fmla="*/ 150120 h 18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72"/>
              <p:cNvSpPr/>
              <p:nvPr/>
            </p:nvSpPr>
            <p:spPr>
              <a:xfrm rot="18868200">
                <a:off x="-199800" y="5577120"/>
                <a:ext cx="23040" cy="228960"/>
              </a:xfrm>
              <a:custGeom>
                <a:avLst/>
                <a:gdLst>
                  <a:gd name="textAreaLeft" fmla="*/ 1800 w 23040"/>
                  <a:gd name="textAreaRight" fmla="*/ 21240 w 23040"/>
                  <a:gd name="textAreaTop" fmla="*/ 19080 h 228960"/>
                  <a:gd name="textAreaBottom" fmla="*/ 209880 h 22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3"/>
              <p:cNvSpPr/>
              <p:nvPr/>
            </p:nvSpPr>
            <p:spPr>
              <a:xfrm rot="20398800">
                <a:off x="-1319400" y="5954760"/>
                <a:ext cx="182160" cy="228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74"/>
              <p:cNvGrpSpPr/>
              <p:nvPr/>
            </p:nvGrpSpPr>
            <p:grpSpPr>
              <a:xfrm>
                <a:off x="-1614240" y="5282640"/>
                <a:ext cx="1645200" cy="1034640"/>
                <a:chOff x="-1614240" y="5282640"/>
                <a:chExt cx="1645200" cy="1034640"/>
              </a:xfrm>
            </p:grpSpPr>
            <p:sp>
              <p:nvSpPr>
                <p:cNvPr id="135" name="Freeform 75"/>
                <p:cNvSpPr/>
                <p:nvPr/>
              </p:nvSpPr>
              <p:spPr>
                <a:xfrm rot="20535000">
                  <a:off x="-1559880" y="5502600"/>
                  <a:ext cx="1537200" cy="594360"/>
                </a:xfrm>
                <a:custGeom>
                  <a:avLst/>
                  <a:gdLst>
                    <a:gd name="textAreaLeft" fmla="*/ 0 w 1537200"/>
                    <a:gd name="textAreaRight" fmla="*/ 1537560 w 1537200"/>
                    <a:gd name="textAreaTop" fmla="*/ 0 h 594360"/>
                    <a:gd name="textAreaBottom" fmla="*/ 594720 h 594360"/>
                  </a:gdLst>
                  <a:ahLst/>
                  <a:rect l="textAreaLeft" t="textAreaTop" r="textAreaRight" b="textAreaBottom"/>
                  <a:pathLst>
                    <a:path w="1526" h="589">
                      <a:moveTo>
                        <a:pt x="528" y="453"/>
                      </a:moveTo>
                      <a:lnTo>
                        <a:pt x="392" y="317"/>
                      </a:lnTo>
                      <a:lnTo>
                        <a:pt x="120" y="317"/>
                      </a:lnTo>
                      <a:lnTo>
                        <a:pt x="0" y="284"/>
                      </a:lnTo>
                      <a:lnTo>
                        <a:pt x="392" y="272"/>
                      </a:lnTo>
                      <a:lnTo>
                        <a:pt x="392" y="226"/>
                      </a:lnTo>
                      <a:cubicBezTo>
                        <a:pt x="389" y="221"/>
                        <a:pt x="384" y="216"/>
                        <a:pt x="383" y="210"/>
                      </a:cubicBezTo>
                      <a:cubicBezTo>
                        <a:pt x="382" y="206"/>
                        <a:pt x="383" y="199"/>
                        <a:pt x="387" y="198"/>
                      </a:cubicBezTo>
                      <a:cubicBezTo>
                        <a:pt x="392" y="197"/>
                        <a:pt x="398" y="201"/>
                        <a:pt x="399" y="206"/>
                      </a:cubicBezTo>
                      <a:cubicBezTo>
                        <a:pt x="403" y="227"/>
                        <a:pt x="399" y="249"/>
                        <a:pt x="399" y="270"/>
                      </a:cubicBezTo>
                      <a:cubicBezTo>
                        <a:pt x="423" y="254"/>
                        <a:pt x="452" y="263"/>
                        <a:pt x="479" y="254"/>
                      </a:cubicBezTo>
                      <a:cubicBezTo>
                        <a:pt x="527" y="257"/>
                        <a:pt x="532" y="263"/>
                        <a:pt x="571" y="270"/>
                      </a:cubicBezTo>
                      <a:cubicBezTo>
                        <a:pt x="610" y="269"/>
                        <a:pt x="648" y="269"/>
                        <a:pt x="687" y="266"/>
                      </a:cubicBezTo>
                      <a:cubicBezTo>
                        <a:pt x="695" y="265"/>
                        <a:pt x="711" y="258"/>
                        <a:pt x="711" y="258"/>
                      </a:cubicBezTo>
                      <a:cubicBezTo>
                        <a:pt x="753" y="196"/>
                        <a:pt x="797" y="221"/>
                        <a:pt x="887" y="218"/>
                      </a:cubicBezTo>
                      <a:cubicBezTo>
                        <a:pt x="895" y="193"/>
                        <a:pt x="909" y="146"/>
                        <a:pt x="939" y="142"/>
                      </a:cubicBezTo>
                      <a:cubicBezTo>
                        <a:pt x="958" y="140"/>
                        <a:pt x="976" y="139"/>
                        <a:pt x="995" y="138"/>
                      </a:cubicBezTo>
                      <a:cubicBezTo>
                        <a:pt x="1031" y="129"/>
                        <a:pt x="1073" y="159"/>
                        <a:pt x="1095" y="126"/>
                      </a:cubicBezTo>
                      <a:cubicBezTo>
                        <a:pt x="1093" y="116"/>
                        <a:pt x="1150" y="77"/>
                        <a:pt x="1109" y="64"/>
                      </a:cubicBezTo>
                      <a:lnTo>
                        <a:pt x="845" y="35"/>
                      </a:lnTo>
                      <a:lnTo>
                        <a:pt x="936" y="0"/>
                      </a:lnTo>
                      <a:lnTo>
                        <a:pt x="1254" y="45"/>
                      </a:lnTo>
                      <a:lnTo>
                        <a:pt x="1526" y="226"/>
                      </a:lnTo>
                      <a:lnTo>
                        <a:pt x="1526" y="317"/>
                      </a:lnTo>
                      <a:lnTo>
                        <a:pt x="1299" y="317"/>
                      </a:lnTo>
                      <a:cubicBezTo>
                        <a:pt x="1269" y="347"/>
                        <a:pt x="1161" y="496"/>
                        <a:pt x="1123" y="496"/>
                      </a:cubicBezTo>
                      <a:lnTo>
                        <a:pt x="1037" y="270"/>
                      </a:lnTo>
                      <a:lnTo>
                        <a:pt x="891" y="408"/>
                      </a:lnTo>
                      <a:lnTo>
                        <a:pt x="864" y="491"/>
                      </a:lnTo>
                      <a:lnTo>
                        <a:pt x="755" y="589"/>
                      </a:lnTo>
                      <a:lnTo>
                        <a:pt x="573" y="499"/>
                      </a:lnTo>
                      <a:lnTo>
                        <a:pt x="528" y="453"/>
                      </a:lnTo>
                      <a:close/>
                    </a:path>
                  </a:pathLst>
                </a:custGeom>
                <a:solidFill>
                  <a:srgbClr val="66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AutoShape 76"/>
                <p:cNvSpPr/>
                <p:nvPr/>
              </p:nvSpPr>
              <p:spPr>
                <a:xfrm rot="15134400">
                  <a:off x="-782280" y="5839920"/>
                  <a:ext cx="45360" cy="183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77"/>
              <p:cNvGrpSpPr/>
              <p:nvPr/>
            </p:nvGrpSpPr>
            <p:grpSpPr>
              <a:xfrm>
                <a:off x="-1103400" y="5298480"/>
                <a:ext cx="943560" cy="749520"/>
                <a:chOff x="-1103400" y="5298480"/>
                <a:chExt cx="943560" cy="749520"/>
              </a:xfrm>
            </p:grpSpPr>
            <p:sp>
              <p:nvSpPr>
                <p:cNvPr id="138" name="AutoShape 78"/>
                <p:cNvSpPr/>
                <p:nvPr/>
              </p:nvSpPr>
              <p:spPr>
                <a:xfrm rot="7876800">
                  <a:off x="-248400" y="5593680"/>
                  <a:ext cx="45000" cy="137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79"/>
                <p:cNvSpPr/>
                <p:nvPr/>
              </p:nvSpPr>
              <p:spPr>
                <a:xfrm rot="20007600">
                  <a:off x="-752760" y="5409000"/>
                  <a:ext cx="548640" cy="228240"/>
                </a:xfrm>
                <a:custGeom>
                  <a:avLst/>
                  <a:gdLst>
                    <a:gd name="textAreaLeft" fmla="*/ 0 w 548640"/>
                    <a:gd name="textAreaRight" fmla="*/ 549000 w 5486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80"/>
                <p:cNvSpPr/>
                <p:nvPr/>
              </p:nvSpPr>
              <p:spPr>
                <a:xfrm rot="14607600">
                  <a:off x="-742320" y="5772960"/>
                  <a:ext cx="45360" cy="182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1"/>
                <p:cNvSpPr/>
                <p:nvPr/>
              </p:nvSpPr>
              <p:spPr>
                <a:xfrm rot="14607600">
                  <a:off x="-803880" y="5763240"/>
                  <a:ext cx="45360" cy="365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82"/>
                <p:cNvSpPr/>
                <p:nvPr/>
              </p:nvSpPr>
              <p:spPr>
                <a:xfrm rot="20007600">
                  <a:off x="-1114200" y="5786280"/>
                  <a:ext cx="537840" cy="78480"/>
                </a:xfrm>
                <a:custGeom>
                  <a:avLst/>
                  <a:gdLst>
                    <a:gd name="textAreaLeft" fmla="*/ 0 w 537840"/>
                    <a:gd name="textAreaRight" fmla="*/ 538200 w 537840"/>
                    <a:gd name="textAreaTop" fmla="*/ 0 h 78480"/>
                    <a:gd name="textAreaBottom" fmla="*/ 78480 h 7848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83"/>
                <p:cNvSpPr/>
                <p:nvPr/>
              </p:nvSpPr>
              <p:spPr>
                <a:xfrm rot="20007600">
                  <a:off x="-710640" y="5412240"/>
                  <a:ext cx="273960" cy="4536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Freeform 84"/>
              <p:cNvSpPr/>
              <p:nvPr/>
            </p:nvSpPr>
            <p:spPr>
              <a:xfrm rot="20419200">
                <a:off x="-1428120" y="5745960"/>
                <a:ext cx="1462680" cy="320040"/>
              </a:xfrm>
              <a:custGeom>
                <a:avLst/>
                <a:gdLst>
                  <a:gd name="textAreaLeft" fmla="*/ 0 w 1462680"/>
                  <a:gd name="textAreaRight" fmla="*/ 1463040 w 14626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85"/>
            <p:cNvGrpSpPr/>
            <p:nvPr/>
          </p:nvGrpSpPr>
          <p:grpSpPr>
            <a:xfrm>
              <a:off x="-1111680" y="5398920"/>
              <a:ext cx="756720" cy="710640"/>
              <a:chOff x="-1111680" y="5398920"/>
              <a:chExt cx="756720" cy="710640"/>
            </a:xfrm>
          </p:grpSpPr>
          <p:sp>
            <p:nvSpPr>
              <p:cNvPr id="146" name="Freeform 86"/>
              <p:cNvSpPr/>
              <p:nvPr/>
            </p:nvSpPr>
            <p:spPr>
              <a:xfrm rot="20327400">
                <a:off x="-1046520" y="5536080"/>
                <a:ext cx="626760" cy="476280"/>
              </a:xfrm>
              <a:custGeom>
                <a:avLst/>
                <a:gdLst>
                  <a:gd name="textAreaLeft" fmla="*/ 0 w 626760"/>
                  <a:gd name="textAreaRight" fmla="*/ 627120 w 62676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87"/>
              <p:cNvSpPr/>
              <p:nvPr/>
            </p:nvSpPr>
            <p:spPr>
              <a:xfrm rot="20327400">
                <a:off x="-869760" y="542304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8"/>
              <p:cNvSpPr/>
              <p:nvPr/>
            </p:nvSpPr>
            <p:spPr>
              <a:xfrm rot="20327400">
                <a:off x="-855000" y="601416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89"/>
          <p:cNvGrpSpPr/>
          <p:nvPr/>
        </p:nvGrpSpPr>
        <p:grpSpPr>
          <a:xfrm>
            <a:off x="-344160" y="5517360"/>
            <a:ext cx="495000" cy="495360"/>
            <a:chOff x="-344160" y="5517360"/>
            <a:chExt cx="495000" cy="495360"/>
          </a:xfrm>
        </p:grpSpPr>
        <p:sp>
          <p:nvSpPr>
            <p:cNvPr id="150" name="Oval 90"/>
            <p:cNvSpPr/>
            <p:nvPr/>
          </p:nvSpPr>
          <p:spPr>
            <a:xfrm rot="19908600">
              <a:off x="-123480" y="5740560"/>
              <a:ext cx="4608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91"/>
            <p:cNvSpPr/>
            <p:nvPr/>
          </p:nvSpPr>
          <p:spPr>
            <a:xfrm rot="19908600">
              <a:off x="-279000" y="5581800"/>
              <a:ext cx="365040" cy="366480"/>
            </a:xfrm>
            <a:custGeom>
              <a:avLst/>
              <a:gdLst>
                <a:gd name="textAreaLeft" fmla="*/ 53280 w 365040"/>
                <a:gd name="textAreaRight" fmla="*/ 311760 w 3650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2"/>
            <p:cNvSpPr/>
            <p:nvPr/>
          </p:nvSpPr>
          <p:spPr>
            <a:xfrm flipH="1" rot="19908600">
              <a:off x="-148680" y="5630040"/>
              <a:ext cx="22680" cy="137160"/>
            </a:xfrm>
            <a:custGeom>
              <a:avLst/>
              <a:gdLst>
                <a:gd name="textAreaLeft" fmla="*/ 4680 w 22680"/>
                <a:gd name="textAreaRight" fmla="*/ 18000 w 2268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93"/>
            <p:cNvSpPr/>
            <p:nvPr/>
          </p:nvSpPr>
          <p:spPr>
            <a:xfrm flipH="1" rot="6658200">
              <a:off x="-38520" y="57254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94"/>
            <p:cNvSpPr/>
            <p:nvPr/>
          </p:nvSpPr>
          <p:spPr>
            <a:xfrm flipH="1" rot="15087000">
              <a:off x="-185760" y="5714640"/>
              <a:ext cx="23040" cy="13680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6800"/>
                <a:gd name="textAreaBottom" fmla="*/ 10872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95"/>
            <p:cNvSpPr/>
            <p:nvPr/>
          </p:nvSpPr>
          <p:spPr>
            <a:xfrm flipH="1" rot="11644200">
              <a:off x="-125640" y="5766480"/>
              <a:ext cx="22680" cy="137160"/>
            </a:xfrm>
            <a:custGeom>
              <a:avLst/>
              <a:gdLst>
                <a:gd name="textAreaLeft" fmla="*/ 4680 w 22680"/>
                <a:gd name="textAreaRight" fmla="*/ 18000 w 2268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6"/>
            <p:cNvSpPr/>
            <p:nvPr/>
          </p:nvSpPr>
          <p:spPr>
            <a:xfrm flipH="1" rot="2681400">
              <a:off x="-57240" y="5641560"/>
              <a:ext cx="23040" cy="13680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6800"/>
                <a:gd name="textAreaBottom" fmla="*/ 10872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7"/>
            <p:cNvSpPr/>
            <p:nvPr/>
          </p:nvSpPr>
          <p:spPr>
            <a:xfrm rot="19908600">
              <a:off x="-269280" y="5590440"/>
              <a:ext cx="3466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98"/>
          <p:cNvGrpSpPr/>
          <p:nvPr/>
        </p:nvGrpSpPr>
        <p:grpSpPr>
          <a:xfrm>
            <a:off x="-1374480" y="5869440"/>
            <a:ext cx="496440" cy="496080"/>
            <a:chOff x="-1374480" y="5869440"/>
            <a:chExt cx="496440" cy="496080"/>
          </a:xfrm>
        </p:grpSpPr>
        <p:sp>
          <p:nvSpPr>
            <p:cNvPr id="159" name="Oval 99"/>
            <p:cNvSpPr/>
            <p:nvPr/>
          </p:nvSpPr>
          <p:spPr>
            <a:xfrm rot="19908600">
              <a:off x="-1152720" y="609264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0"/>
            <p:cNvSpPr/>
            <p:nvPr/>
          </p:nvSpPr>
          <p:spPr>
            <a:xfrm rot="19908600">
              <a:off x="-1309320" y="593388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01"/>
            <p:cNvSpPr/>
            <p:nvPr/>
          </p:nvSpPr>
          <p:spPr>
            <a:xfrm flipH="1" rot="19908600">
              <a:off x="-1177560" y="598212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02"/>
            <p:cNvSpPr/>
            <p:nvPr/>
          </p:nvSpPr>
          <p:spPr>
            <a:xfrm flipH="1" rot="6658200">
              <a:off x="-1067760" y="607788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03"/>
            <p:cNvSpPr/>
            <p:nvPr/>
          </p:nvSpPr>
          <p:spPr>
            <a:xfrm flipH="1" rot="15087000">
              <a:off x="-1215720" y="60667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04"/>
            <p:cNvSpPr/>
            <p:nvPr/>
          </p:nvSpPr>
          <p:spPr>
            <a:xfrm flipH="1" rot="11644200">
              <a:off x="-1155600" y="61185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05"/>
            <p:cNvSpPr/>
            <p:nvPr/>
          </p:nvSpPr>
          <p:spPr>
            <a:xfrm flipH="1" rot="2681400">
              <a:off x="-1086120" y="59932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6"/>
            <p:cNvSpPr/>
            <p:nvPr/>
          </p:nvSpPr>
          <p:spPr>
            <a:xfrm rot="19908600">
              <a:off x="-1299600" y="594288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07"/>
          <p:cNvSpPr/>
          <p:nvPr/>
        </p:nvSpPr>
        <p:spPr>
          <a:xfrm flipV="1" rot="15120000">
            <a:off x="-1580760" y="5860440"/>
            <a:ext cx="144360" cy="360360"/>
          </a:xfrm>
          <a:custGeom>
            <a:avLst/>
            <a:gdLst>
              <a:gd name="textAreaLeft" fmla="*/ 29880 w 144360"/>
              <a:gd name="textAreaRight" fmla="*/ 114480 w 144360"/>
              <a:gd name="textAreaTop" fmla="*/ 74880 h 360360"/>
              <a:gd name="textAreaBottom" fmla="*/ 2854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8"/>
          <p:cNvSpPr/>
          <p:nvPr/>
        </p:nvSpPr>
        <p:spPr>
          <a:xfrm>
            <a:off x="2894760" y="151848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总是不停的奔波或者停顿，似乎一直在寻找着什么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9"/>
          <p:cNvSpPr/>
          <p:nvPr/>
        </p:nvSpPr>
        <p:spPr>
          <a:xfrm rot="20995200">
            <a:off x="1269720" y="1283760"/>
            <a:ext cx="317520" cy="18288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0"/>
          <p:cNvSpPr/>
          <p:nvPr/>
        </p:nvSpPr>
        <p:spPr>
          <a:xfrm rot="20995200">
            <a:off x="1383840" y="1315800"/>
            <a:ext cx="274680" cy="15876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1"/>
          <p:cNvSpPr/>
          <p:nvPr/>
        </p:nvSpPr>
        <p:spPr>
          <a:xfrm rot="20995200">
            <a:off x="1090080" y="1241280"/>
            <a:ext cx="316080" cy="18288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2"/>
          <p:cNvSpPr/>
          <p:nvPr/>
        </p:nvSpPr>
        <p:spPr>
          <a:xfrm rot="20995200">
            <a:off x="1186920" y="1260360"/>
            <a:ext cx="316080" cy="1825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3"/>
          <p:cNvSpPr/>
          <p:nvPr/>
        </p:nvSpPr>
        <p:spPr>
          <a:xfrm flipV="1">
            <a:off x="1606680" y="1476360"/>
            <a:ext cx="12600" cy="2872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14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175" name="Text Box 115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6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7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1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68774E-006 L 0.82691 -0.45634 E">
                                      <p:cBhvr>
                                        <p:cTn id="12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99061E-006 L 0.81962 -0.44807 E">
                                      <p:cBhvr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32863E-006 L 0.83785 -0.45297 E">
                                      <p:cBhvr>
                                        <p:cTn id="13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5087E-008 L 0.83246 -0.45225 E">
                                      <p:cBhvr>
                                        <p:cTn id="14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2"/>
          <p:cNvSpPr/>
          <p:nvPr/>
        </p:nvSpPr>
        <p:spPr>
          <a:xfrm flipH="1" rot="20600400">
            <a:off x="2700000" y="2413080"/>
            <a:ext cx="6481800" cy="1655640"/>
          </a:xfrm>
          <a:custGeom>
            <a:avLst/>
            <a:gdLst>
              <a:gd name="textAreaLeft" fmla="*/ -360 w 6481800"/>
              <a:gd name="textAreaRight" fmla="*/ 6481800 w 64818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5691" h="1788">
                <a:moveTo>
                  <a:pt x="23" y="472"/>
                </a:moveTo>
                <a:cubicBezTo>
                  <a:pt x="25" y="452"/>
                  <a:pt x="24" y="405"/>
                  <a:pt x="37" y="379"/>
                </a:cubicBezTo>
                <a:cubicBezTo>
                  <a:pt x="67" y="319"/>
                  <a:pt x="126" y="283"/>
                  <a:pt x="172" y="237"/>
                </a:cubicBezTo>
                <a:cubicBezTo>
                  <a:pt x="248" y="242"/>
                  <a:pt x="269" y="243"/>
                  <a:pt x="329" y="258"/>
                </a:cubicBezTo>
                <a:cubicBezTo>
                  <a:pt x="383" y="314"/>
                  <a:pt x="315" y="251"/>
                  <a:pt x="379" y="287"/>
                </a:cubicBezTo>
                <a:cubicBezTo>
                  <a:pt x="395" y="296"/>
                  <a:pt x="406" y="312"/>
                  <a:pt x="421" y="322"/>
                </a:cubicBezTo>
                <a:cubicBezTo>
                  <a:pt x="447" y="375"/>
                  <a:pt x="427" y="343"/>
                  <a:pt x="492" y="408"/>
                </a:cubicBezTo>
                <a:cubicBezTo>
                  <a:pt x="509" y="425"/>
                  <a:pt x="521" y="445"/>
                  <a:pt x="535" y="464"/>
                </a:cubicBezTo>
                <a:cubicBezTo>
                  <a:pt x="541" y="472"/>
                  <a:pt x="586" y="499"/>
                  <a:pt x="599" y="507"/>
                </a:cubicBezTo>
                <a:cubicBezTo>
                  <a:pt x="670" y="497"/>
                  <a:pt x="675" y="480"/>
                  <a:pt x="727" y="443"/>
                </a:cubicBezTo>
                <a:cubicBezTo>
                  <a:pt x="749" y="427"/>
                  <a:pt x="770" y="417"/>
                  <a:pt x="791" y="400"/>
                </a:cubicBezTo>
                <a:cubicBezTo>
                  <a:pt x="818" y="378"/>
                  <a:pt x="805" y="392"/>
                  <a:pt x="834" y="379"/>
                </a:cubicBezTo>
                <a:cubicBezTo>
                  <a:pt x="853" y="370"/>
                  <a:pt x="891" y="351"/>
                  <a:pt x="891" y="351"/>
                </a:cubicBezTo>
                <a:cubicBezTo>
                  <a:pt x="948" y="353"/>
                  <a:pt x="1004" y="354"/>
                  <a:pt x="1061" y="358"/>
                </a:cubicBezTo>
                <a:cubicBezTo>
                  <a:pt x="1113" y="362"/>
                  <a:pt x="1147" y="398"/>
                  <a:pt x="1189" y="422"/>
                </a:cubicBezTo>
                <a:cubicBezTo>
                  <a:pt x="1216" y="437"/>
                  <a:pt x="1246" y="448"/>
                  <a:pt x="1275" y="457"/>
                </a:cubicBezTo>
                <a:cubicBezTo>
                  <a:pt x="1318" y="440"/>
                  <a:pt x="1320" y="430"/>
                  <a:pt x="1331" y="386"/>
                </a:cubicBezTo>
                <a:cubicBezTo>
                  <a:pt x="1343" y="219"/>
                  <a:pt x="1328" y="256"/>
                  <a:pt x="1509" y="265"/>
                </a:cubicBezTo>
                <a:cubicBezTo>
                  <a:pt x="1558" y="281"/>
                  <a:pt x="1606" y="280"/>
                  <a:pt x="1651" y="308"/>
                </a:cubicBezTo>
                <a:cubicBezTo>
                  <a:pt x="1709" y="343"/>
                  <a:pt x="1752" y="399"/>
                  <a:pt x="1808" y="436"/>
                </a:cubicBezTo>
                <a:cubicBezTo>
                  <a:pt x="1818" y="407"/>
                  <a:pt x="1833" y="376"/>
                  <a:pt x="1851" y="351"/>
                </a:cubicBezTo>
                <a:cubicBezTo>
                  <a:pt x="1864" y="311"/>
                  <a:pt x="1873" y="270"/>
                  <a:pt x="1886" y="230"/>
                </a:cubicBezTo>
                <a:cubicBezTo>
                  <a:pt x="1900" y="144"/>
                  <a:pt x="1886" y="165"/>
                  <a:pt x="2000" y="173"/>
                </a:cubicBezTo>
                <a:cubicBezTo>
                  <a:pt x="2016" y="185"/>
                  <a:pt x="2036" y="194"/>
                  <a:pt x="2050" y="208"/>
                </a:cubicBezTo>
                <a:cubicBezTo>
                  <a:pt x="2069" y="227"/>
                  <a:pt x="2075" y="259"/>
                  <a:pt x="2092" y="280"/>
                </a:cubicBezTo>
                <a:cubicBezTo>
                  <a:pt x="2112" y="305"/>
                  <a:pt x="2104" y="282"/>
                  <a:pt x="2121" y="315"/>
                </a:cubicBezTo>
                <a:cubicBezTo>
                  <a:pt x="2134" y="342"/>
                  <a:pt x="2132" y="367"/>
                  <a:pt x="2149" y="393"/>
                </a:cubicBezTo>
                <a:cubicBezTo>
                  <a:pt x="2151" y="400"/>
                  <a:pt x="2151" y="410"/>
                  <a:pt x="2156" y="415"/>
                </a:cubicBezTo>
                <a:cubicBezTo>
                  <a:pt x="2161" y="420"/>
                  <a:pt x="2171" y="418"/>
                  <a:pt x="2178" y="422"/>
                </a:cubicBezTo>
                <a:cubicBezTo>
                  <a:pt x="2230" y="450"/>
                  <a:pt x="2246" y="485"/>
                  <a:pt x="2306" y="500"/>
                </a:cubicBezTo>
                <a:cubicBezTo>
                  <a:pt x="2323" y="489"/>
                  <a:pt x="2336" y="482"/>
                  <a:pt x="2348" y="464"/>
                </a:cubicBezTo>
                <a:cubicBezTo>
                  <a:pt x="2359" y="447"/>
                  <a:pt x="2349" y="435"/>
                  <a:pt x="2370" y="422"/>
                </a:cubicBezTo>
                <a:cubicBezTo>
                  <a:pt x="2383" y="414"/>
                  <a:pt x="2412" y="408"/>
                  <a:pt x="2412" y="408"/>
                </a:cubicBezTo>
                <a:cubicBezTo>
                  <a:pt x="2479" y="419"/>
                  <a:pt x="2479" y="443"/>
                  <a:pt x="2533" y="472"/>
                </a:cubicBezTo>
                <a:cubicBezTo>
                  <a:pt x="2560" y="512"/>
                  <a:pt x="2591" y="559"/>
                  <a:pt x="2626" y="592"/>
                </a:cubicBezTo>
                <a:cubicBezTo>
                  <a:pt x="2664" y="554"/>
                  <a:pt x="2695" y="527"/>
                  <a:pt x="2747" y="514"/>
                </a:cubicBezTo>
                <a:cubicBezTo>
                  <a:pt x="2768" y="516"/>
                  <a:pt x="2790" y="516"/>
                  <a:pt x="2811" y="521"/>
                </a:cubicBezTo>
                <a:cubicBezTo>
                  <a:pt x="2819" y="523"/>
                  <a:pt x="2824" y="532"/>
                  <a:pt x="2832" y="536"/>
                </a:cubicBezTo>
                <a:cubicBezTo>
                  <a:pt x="2842" y="541"/>
                  <a:pt x="2873" y="548"/>
                  <a:pt x="2882" y="550"/>
                </a:cubicBezTo>
                <a:cubicBezTo>
                  <a:pt x="2905" y="581"/>
                  <a:pt x="2910" y="590"/>
                  <a:pt x="2946" y="578"/>
                </a:cubicBezTo>
                <a:cubicBezTo>
                  <a:pt x="2958" y="566"/>
                  <a:pt x="2974" y="553"/>
                  <a:pt x="2981" y="536"/>
                </a:cubicBezTo>
                <a:cubicBezTo>
                  <a:pt x="3000" y="491"/>
                  <a:pt x="2974" y="521"/>
                  <a:pt x="3003" y="493"/>
                </a:cubicBezTo>
                <a:cubicBezTo>
                  <a:pt x="3014" y="461"/>
                  <a:pt x="3024" y="436"/>
                  <a:pt x="3045" y="408"/>
                </a:cubicBezTo>
                <a:cubicBezTo>
                  <a:pt x="3055" y="326"/>
                  <a:pt x="3054" y="164"/>
                  <a:pt x="3109" y="109"/>
                </a:cubicBezTo>
                <a:cubicBezTo>
                  <a:pt x="3269" y="116"/>
                  <a:pt x="3234" y="98"/>
                  <a:pt x="3323" y="159"/>
                </a:cubicBezTo>
                <a:cubicBezTo>
                  <a:pt x="3340" y="193"/>
                  <a:pt x="3367" y="213"/>
                  <a:pt x="3387" y="244"/>
                </a:cubicBezTo>
                <a:cubicBezTo>
                  <a:pt x="3404" y="270"/>
                  <a:pt x="3418" y="297"/>
                  <a:pt x="3436" y="322"/>
                </a:cubicBezTo>
                <a:cubicBezTo>
                  <a:pt x="3444" y="333"/>
                  <a:pt x="3457" y="340"/>
                  <a:pt x="3465" y="351"/>
                </a:cubicBezTo>
                <a:cubicBezTo>
                  <a:pt x="3475" y="365"/>
                  <a:pt x="3493" y="393"/>
                  <a:pt x="3493" y="393"/>
                </a:cubicBezTo>
                <a:cubicBezTo>
                  <a:pt x="3495" y="400"/>
                  <a:pt x="3500" y="429"/>
                  <a:pt x="3515" y="429"/>
                </a:cubicBezTo>
                <a:cubicBezTo>
                  <a:pt x="3523" y="429"/>
                  <a:pt x="3530" y="421"/>
                  <a:pt x="3536" y="415"/>
                </a:cubicBezTo>
                <a:cubicBezTo>
                  <a:pt x="3563" y="391"/>
                  <a:pt x="3578" y="370"/>
                  <a:pt x="3607" y="351"/>
                </a:cubicBezTo>
                <a:cubicBezTo>
                  <a:pt x="3618" y="316"/>
                  <a:pt x="3631" y="321"/>
                  <a:pt x="3664" y="329"/>
                </a:cubicBezTo>
                <a:cubicBezTo>
                  <a:pt x="3676" y="341"/>
                  <a:pt x="3687" y="353"/>
                  <a:pt x="3699" y="365"/>
                </a:cubicBezTo>
                <a:cubicBezTo>
                  <a:pt x="3704" y="370"/>
                  <a:pt x="3714" y="379"/>
                  <a:pt x="3714" y="379"/>
                </a:cubicBezTo>
                <a:cubicBezTo>
                  <a:pt x="3723" y="365"/>
                  <a:pt x="3733" y="350"/>
                  <a:pt x="3742" y="336"/>
                </a:cubicBezTo>
                <a:cubicBezTo>
                  <a:pt x="3747" y="329"/>
                  <a:pt x="3748" y="318"/>
                  <a:pt x="3756" y="315"/>
                </a:cubicBezTo>
                <a:cubicBezTo>
                  <a:pt x="3770" y="310"/>
                  <a:pt x="3799" y="301"/>
                  <a:pt x="3799" y="301"/>
                </a:cubicBezTo>
                <a:cubicBezTo>
                  <a:pt x="3843" y="308"/>
                  <a:pt x="3861" y="312"/>
                  <a:pt x="3891" y="344"/>
                </a:cubicBezTo>
                <a:cubicBezTo>
                  <a:pt x="3905" y="334"/>
                  <a:pt x="3920" y="325"/>
                  <a:pt x="3934" y="315"/>
                </a:cubicBezTo>
                <a:cubicBezTo>
                  <a:pt x="3975" y="288"/>
                  <a:pt x="3923" y="300"/>
                  <a:pt x="3963" y="280"/>
                </a:cubicBezTo>
                <a:cubicBezTo>
                  <a:pt x="3972" y="276"/>
                  <a:pt x="3982" y="275"/>
                  <a:pt x="3991" y="272"/>
                </a:cubicBezTo>
                <a:cubicBezTo>
                  <a:pt x="4005" y="268"/>
                  <a:pt x="4034" y="258"/>
                  <a:pt x="4034" y="258"/>
                </a:cubicBezTo>
                <a:cubicBezTo>
                  <a:pt x="4119" y="263"/>
                  <a:pt x="4155" y="265"/>
                  <a:pt x="4226" y="287"/>
                </a:cubicBezTo>
                <a:cubicBezTo>
                  <a:pt x="4247" y="285"/>
                  <a:pt x="4269" y="285"/>
                  <a:pt x="4290" y="280"/>
                </a:cubicBezTo>
                <a:cubicBezTo>
                  <a:pt x="4318" y="273"/>
                  <a:pt x="4348" y="234"/>
                  <a:pt x="4361" y="208"/>
                </a:cubicBezTo>
                <a:cubicBezTo>
                  <a:pt x="4364" y="201"/>
                  <a:pt x="4363" y="192"/>
                  <a:pt x="4368" y="187"/>
                </a:cubicBezTo>
                <a:cubicBezTo>
                  <a:pt x="4373" y="182"/>
                  <a:pt x="4382" y="182"/>
                  <a:pt x="4389" y="180"/>
                </a:cubicBezTo>
                <a:cubicBezTo>
                  <a:pt x="4421" y="200"/>
                  <a:pt x="4454" y="203"/>
                  <a:pt x="4489" y="216"/>
                </a:cubicBezTo>
                <a:cubicBezTo>
                  <a:pt x="4519" y="205"/>
                  <a:pt x="4535" y="193"/>
                  <a:pt x="4567" y="187"/>
                </a:cubicBezTo>
                <a:cubicBezTo>
                  <a:pt x="4707" y="96"/>
                  <a:pt x="4808" y="141"/>
                  <a:pt x="5015" y="137"/>
                </a:cubicBezTo>
                <a:cubicBezTo>
                  <a:pt x="5027" y="125"/>
                  <a:pt x="5051" y="102"/>
                  <a:pt x="5051" y="102"/>
                </a:cubicBezTo>
                <a:cubicBezTo>
                  <a:pt x="5091" y="74"/>
                  <a:pt x="5132" y="48"/>
                  <a:pt x="5171" y="19"/>
                </a:cubicBezTo>
                <a:cubicBezTo>
                  <a:pt x="5177" y="15"/>
                  <a:pt x="5179" y="0"/>
                  <a:pt x="5186" y="2"/>
                </a:cubicBezTo>
                <a:cubicBezTo>
                  <a:pt x="5202" y="6"/>
                  <a:pt x="5192" y="39"/>
                  <a:pt x="5207" y="45"/>
                </a:cubicBezTo>
                <a:cubicBezTo>
                  <a:pt x="5222" y="52"/>
                  <a:pt x="5240" y="50"/>
                  <a:pt x="5257" y="52"/>
                </a:cubicBezTo>
                <a:cubicBezTo>
                  <a:pt x="5310" y="70"/>
                  <a:pt x="5242" y="54"/>
                  <a:pt x="5299" y="38"/>
                </a:cubicBezTo>
                <a:cubicBezTo>
                  <a:pt x="5309" y="35"/>
                  <a:pt x="5318" y="43"/>
                  <a:pt x="5328" y="45"/>
                </a:cubicBezTo>
                <a:cubicBezTo>
                  <a:pt x="5334" y="54"/>
                  <a:pt x="5347" y="80"/>
                  <a:pt x="5363" y="80"/>
                </a:cubicBezTo>
                <a:cubicBezTo>
                  <a:pt x="5370" y="80"/>
                  <a:pt x="5372" y="69"/>
                  <a:pt x="5378" y="66"/>
                </a:cubicBezTo>
                <a:cubicBezTo>
                  <a:pt x="5404" y="51"/>
                  <a:pt x="5435" y="40"/>
                  <a:pt x="5463" y="31"/>
                </a:cubicBezTo>
                <a:cubicBezTo>
                  <a:pt x="5519" y="13"/>
                  <a:pt x="5582" y="26"/>
                  <a:pt x="5641" y="24"/>
                </a:cubicBezTo>
                <a:cubicBezTo>
                  <a:pt x="5648" y="21"/>
                  <a:pt x="5655" y="18"/>
                  <a:pt x="5662" y="16"/>
                </a:cubicBezTo>
                <a:cubicBezTo>
                  <a:pt x="5672" y="13"/>
                  <a:pt x="5691" y="9"/>
                  <a:pt x="5691" y="9"/>
                </a:cubicBezTo>
                <a:lnTo>
                  <a:pt x="91" y="1743"/>
                </a:lnTo>
                <a:lnTo>
                  <a:pt x="0" y="1788"/>
                </a:lnTo>
                <a:lnTo>
                  <a:pt x="23" y="472"/>
                </a:lnTo>
                <a:close/>
              </a:path>
            </a:pathLst>
          </a:cu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92240" y="3241800"/>
            <a:ext cx="9182160" cy="2251440"/>
            <a:chOff x="192240" y="3241800"/>
            <a:chExt cx="9182160" cy="2251440"/>
          </a:xfrm>
        </p:grpSpPr>
        <p:sp>
          <p:nvSpPr>
            <p:cNvPr id="180" name="Line 4"/>
            <p:cNvSpPr/>
            <p:nvPr/>
          </p:nvSpPr>
          <p:spPr>
            <a:xfrm flipV="1">
              <a:off x="192240" y="3241800"/>
              <a:ext cx="8827920" cy="376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 flipV="1">
              <a:off x="4646520" y="4680720"/>
              <a:ext cx="4727880" cy="812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6"/>
          <p:cNvSpPr/>
          <p:nvPr/>
        </p:nvSpPr>
        <p:spPr>
          <a:xfrm rot="21139200">
            <a:off x="1816200" y="461916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 rot="21238800">
            <a:off x="3995640" y="4355640"/>
            <a:ext cx="878040" cy="7632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 rot="21145800">
            <a:off x="5762520" y="4212720"/>
            <a:ext cx="57636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 rot="21138000">
            <a:off x="7235640" y="4068360"/>
            <a:ext cx="431640" cy="71640"/>
          </a:xfrm>
          <a:prstGeom prst="rect">
            <a:avLst/>
          </a:prstGeom>
          <a:solidFill>
            <a:srgbClr val="80808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 flipV="1" rot="21133200">
            <a:off x="8317080" y="3998880"/>
            <a:ext cx="360360" cy="6984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5689080" y="4813920"/>
            <a:ext cx="3538080" cy="675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1547640" y="2484360"/>
            <a:ext cx="496080" cy="1079640"/>
            <a:chOff x="1547640" y="2484360"/>
            <a:chExt cx="496080" cy="1079640"/>
          </a:xfrm>
        </p:grpSpPr>
        <p:grpSp>
          <p:nvGrpSpPr>
            <p:cNvPr id="189" name="Group 13"/>
            <p:cNvGrpSpPr/>
            <p:nvPr/>
          </p:nvGrpSpPr>
          <p:grpSpPr>
            <a:xfrm>
              <a:off x="1547640" y="2484360"/>
              <a:ext cx="45360" cy="1079640"/>
              <a:chOff x="1547640" y="2484360"/>
              <a:chExt cx="45360" cy="1079640"/>
            </a:xfrm>
          </p:grpSpPr>
          <p:sp>
            <p:nvSpPr>
              <p:cNvPr id="190" name="AutoShape 14"/>
              <p:cNvSpPr/>
              <p:nvPr/>
            </p:nvSpPr>
            <p:spPr>
              <a:xfrm>
                <a:off x="1547640" y="3492720"/>
                <a:ext cx="45360" cy="7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5"/>
              <p:cNvSpPr/>
              <p:nvPr/>
            </p:nvSpPr>
            <p:spPr>
              <a:xfrm>
                <a:off x="1557720" y="2484360"/>
                <a:ext cx="23040" cy="10782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Freeform 16"/>
            <p:cNvSpPr/>
            <p:nvPr/>
          </p:nvSpPr>
          <p:spPr>
            <a:xfrm>
              <a:off x="1581120" y="2543040"/>
              <a:ext cx="285840" cy="73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583280" y="25520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1846080" y="2545200"/>
              <a:ext cx="129240" cy="57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870560" y="2548080"/>
              <a:ext cx="92520" cy="165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>
              <a:off x="1974600" y="2674800"/>
              <a:ext cx="47520" cy="1274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>
              <a:off x="1910520" y="2643120"/>
              <a:ext cx="0" cy="63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1879200" y="2770200"/>
              <a:ext cx="0" cy="95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3"/>
            <p:cNvSpPr/>
            <p:nvPr/>
          </p:nvSpPr>
          <p:spPr>
            <a:xfrm flipV="1" rot="21296400">
              <a:off x="1829160" y="2578320"/>
              <a:ext cx="200880" cy="318600"/>
            </a:xfrm>
            <a:custGeom>
              <a:avLst/>
              <a:gdLst>
                <a:gd name="textAreaLeft" fmla="*/ 47520 w 200880"/>
                <a:gd name="textAreaRight" fmla="*/ 153360 w 200880"/>
                <a:gd name="textAreaTop" fmla="*/ 75600 h 318600"/>
                <a:gd name="textAreaBottom" fmla="*/ 243000 h 3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24"/>
          <p:cNvSpPr/>
          <p:nvPr/>
        </p:nvSpPr>
        <p:spPr>
          <a:xfrm flipV="1">
            <a:off x="-100440" y="3144600"/>
            <a:ext cx="8986320" cy="406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5"/>
          <p:cNvSpPr/>
          <p:nvPr/>
        </p:nvSpPr>
        <p:spPr>
          <a:xfrm rot="2296800">
            <a:off x="-898560" y="2671560"/>
            <a:ext cx="2013120" cy="1655640"/>
          </a:xfrm>
          <a:custGeom>
            <a:avLst/>
            <a:gdLst>
              <a:gd name="textAreaLeft" fmla="*/ 0 w 2013120"/>
              <a:gd name="textAreaRight" fmla="*/ 2013480 w 20131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5691" h="1788">
                <a:moveTo>
                  <a:pt x="23" y="472"/>
                </a:moveTo>
                <a:cubicBezTo>
                  <a:pt x="25" y="452"/>
                  <a:pt x="24" y="405"/>
                  <a:pt x="37" y="379"/>
                </a:cubicBezTo>
                <a:cubicBezTo>
                  <a:pt x="67" y="319"/>
                  <a:pt x="126" y="283"/>
                  <a:pt x="172" y="237"/>
                </a:cubicBezTo>
                <a:cubicBezTo>
                  <a:pt x="248" y="242"/>
                  <a:pt x="269" y="243"/>
                  <a:pt x="329" y="258"/>
                </a:cubicBezTo>
                <a:cubicBezTo>
                  <a:pt x="383" y="314"/>
                  <a:pt x="315" y="251"/>
                  <a:pt x="379" y="287"/>
                </a:cubicBezTo>
                <a:cubicBezTo>
                  <a:pt x="395" y="296"/>
                  <a:pt x="406" y="312"/>
                  <a:pt x="421" y="322"/>
                </a:cubicBezTo>
                <a:cubicBezTo>
                  <a:pt x="447" y="375"/>
                  <a:pt x="427" y="343"/>
                  <a:pt x="492" y="408"/>
                </a:cubicBezTo>
                <a:cubicBezTo>
                  <a:pt x="509" y="425"/>
                  <a:pt x="521" y="445"/>
                  <a:pt x="535" y="464"/>
                </a:cubicBezTo>
                <a:cubicBezTo>
                  <a:pt x="541" y="472"/>
                  <a:pt x="586" y="499"/>
                  <a:pt x="599" y="507"/>
                </a:cubicBezTo>
                <a:cubicBezTo>
                  <a:pt x="670" y="497"/>
                  <a:pt x="675" y="480"/>
                  <a:pt x="727" y="443"/>
                </a:cubicBezTo>
                <a:cubicBezTo>
                  <a:pt x="749" y="427"/>
                  <a:pt x="770" y="417"/>
                  <a:pt x="791" y="400"/>
                </a:cubicBezTo>
                <a:cubicBezTo>
                  <a:pt x="818" y="378"/>
                  <a:pt x="805" y="392"/>
                  <a:pt x="834" y="379"/>
                </a:cubicBezTo>
                <a:cubicBezTo>
                  <a:pt x="853" y="370"/>
                  <a:pt x="891" y="351"/>
                  <a:pt x="891" y="351"/>
                </a:cubicBezTo>
                <a:cubicBezTo>
                  <a:pt x="948" y="353"/>
                  <a:pt x="1004" y="354"/>
                  <a:pt x="1061" y="358"/>
                </a:cubicBezTo>
                <a:cubicBezTo>
                  <a:pt x="1113" y="362"/>
                  <a:pt x="1147" y="398"/>
                  <a:pt x="1189" y="422"/>
                </a:cubicBezTo>
                <a:cubicBezTo>
                  <a:pt x="1216" y="437"/>
                  <a:pt x="1246" y="448"/>
                  <a:pt x="1275" y="457"/>
                </a:cubicBezTo>
                <a:cubicBezTo>
                  <a:pt x="1318" y="440"/>
                  <a:pt x="1320" y="430"/>
                  <a:pt x="1331" y="386"/>
                </a:cubicBezTo>
                <a:cubicBezTo>
                  <a:pt x="1343" y="219"/>
                  <a:pt x="1328" y="256"/>
                  <a:pt x="1509" y="265"/>
                </a:cubicBezTo>
                <a:cubicBezTo>
                  <a:pt x="1558" y="281"/>
                  <a:pt x="1606" y="280"/>
                  <a:pt x="1651" y="308"/>
                </a:cubicBezTo>
                <a:cubicBezTo>
                  <a:pt x="1709" y="343"/>
                  <a:pt x="1752" y="399"/>
                  <a:pt x="1808" y="436"/>
                </a:cubicBezTo>
                <a:cubicBezTo>
                  <a:pt x="1818" y="407"/>
                  <a:pt x="1833" y="376"/>
                  <a:pt x="1851" y="351"/>
                </a:cubicBezTo>
                <a:cubicBezTo>
                  <a:pt x="1864" y="311"/>
                  <a:pt x="1873" y="270"/>
                  <a:pt x="1886" y="230"/>
                </a:cubicBezTo>
                <a:cubicBezTo>
                  <a:pt x="1900" y="144"/>
                  <a:pt x="1886" y="165"/>
                  <a:pt x="2000" y="173"/>
                </a:cubicBezTo>
                <a:cubicBezTo>
                  <a:pt x="2016" y="185"/>
                  <a:pt x="2036" y="194"/>
                  <a:pt x="2050" y="208"/>
                </a:cubicBezTo>
                <a:cubicBezTo>
                  <a:pt x="2069" y="227"/>
                  <a:pt x="2075" y="259"/>
                  <a:pt x="2092" y="280"/>
                </a:cubicBezTo>
                <a:cubicBezTo>
                  <a:pt x="2112" y="305"/>
                  <a:pt x="2104" y="282"/>
                  <a:pt x="2121" y="315"/>
                </a:cubicBezTo>
                <a:cubicBezTo>
                  <a:pt x="2134" y="342"/>
                  <a:pt x="2132" y="367"/>
                  <a:pt x="2149" y="393"/>
                </a:cubicBezTo>
                <a:cubicBezTo>
                  <a:pt x="2151" y="400"/>
                  <a:pt x="2151" y="410"/>
                  <a:pt x="2156" y="415"/>
                </a:cubicBezTo>
                <a:cubicBezTo>
                  <a:pt x="2161" y="420"/>
                  <a:pt x="2171" y="418"/>
                  <a:pt x="2178" y="422"/>
                </a:cubicBezTo>
                <a:cubicBezTo>
                  <a:pt x="2230" y="450"/>
                  <a:pt x="2246" y="485"/>
                  <a:pt x="2306" y="500"/>
                </a:cubicBezTo>
                <a:cubicBezTo>
                  <a:pt x="2323" y="489"/>
                  <a:pt x="2336" y="482"/>
                  <a:pt x="2348" y="464"/>
                </a:cubicBezTo>
                <a:cubicBezTo>
                  <a:pt x="2359" y="447"/>
                  <a:pt x="2349" y="435"/>
                  <a:pt x="2370" y="422"/>
                </a:cubicBezTo>
                <a:cubicBezTo>
                  <a:pt x="2383" y="414"/>
                  <a:pt x="2412" y="408"/>
                  <a:pt x="2412" y="408"/>
                </a:cubicBezTo>
                <a:cubicBezTo>
                  <a:pt x="2479" y="419"/>
                  <a:pt x="2479" y="443"/>
                  <a:pt x="2533" y="472"/>
                </a:cubicBezTo>
                <a:cubicBezTo>
                  <a:pt x="2560" y="512"/>
                  <a:pt x="2591" y="559"/>
                  <a:pt x="2626" y="592"/>
                </a:cubicBezTo>
                <a:cubicBezTo>
                  <a:pt x="2664" y="554"/>
                  <a:pt x="2695" y="527"/>
                  <a:pt x="2747" y="514"/>
                </a:cubicBezTo>
                <a:cubicBezTo>
                  <a:pt x="2768" y="516"/>
                  <a:pt x="2790" y="516"/>
                  <a:pt x="2811" y="521"/>
                </a:cubicBezTo>
                <a:cubicBezTo>
                  <a:pt x="2819" y="523"/>
                  <a:pt x="2824" y="532"/>
                  <a:pt x="2832" y="536"/>
                </a:cubicBezTo>
                <a:cubicBezTo>
                  <a:pt x="2842" y="541"/>
                  <a:pt x="2873" y="548"/>
                  <a:pt x="2882" y="550"/>
                </a:cubicBezTo>
                <a:cubicBezTo>
                  <a:pt x="2905" y="581"/>
                  <a:pt x="2910" y="590"/>
                  <a:pt x="2946" y="578"/>
                </a:cubicBezTo>
                <a:cubicBezTo>
                  <a:pt x="2958" y="566"/>
                  <a:pt x="2974" y="553"/>
                  <a:pt x="2981" y="536"/>
                </a:cubicBezTo>
                <a:cubicBezTo>
                  <a:pt x="3000" y="491"/>
                  <a:pt x="2974" y="521"/>
                  <a:pt x="3003" y="493"/>
                </a:cubicBezTo>
                <a:cubicBezTo>
                  <a:pt x="3014" y="461"/>
                  <a:pt x="3024" y="436"/>
                  <a:pt x="3045" y="408"/>
                </a:cubicBezTo>
                <a:cubicBezTo>
                  <a:pt x="3055" y="326"/>
                  <a:pt x="3054" y="164"/>
                  <a:pt x="3109" y="109"/>
                </a:cubicBezTo>
                <a:cubicBezTo>
                  <a:pt x="3269" y="116"/>
                  <a:pt x="3234" y="98"/>
                  <a:pt x="3323" y="159"/>
                </a:cubicBezTo>
                <a:cubicBezTo>
                  <a:pt x="3340" y="193"/>
                  <a:pt x="3367" y="213"/>
                  <a:pt x="3387" y="244"/>
                </a:cubicBezTo>
                <a:cubicBezTo>
                  <a:pt x="3404" y="270"/>
                  <a:pt x="3418" y="297"/>
                  <a:pt x="3436" y="322"/>
                </a:cubicBezTo>
                <a:cubicBezTo>
                  <a:pt x="3444" y="333"/>
                  <a:pt x="3457" y="340"/>
                  <a:pt x="3465" y="351"/>
                </a:cubicBezTo>
                <a:cubicBezTo>
                  <a:pt x="3475" y="365"/>
                  <a:pt x="3493" y="393"/>
                  <a:pt x="3493" y="393"/>
                </a:cubicBezTo>
                <a:cubicBezTo>
                  <a:pt x="3495" y="400"/>
                  <a:pt x="3500" y="429"/>
                  <a:pt x="3515" y="429"/>
                </a:cubicBezTo>
                <a:cubicBezTo>
                  <a:pt x="3523" y="429"/>
                  <a:pt x="3530" y="421"/>
                  <a:pt x="3536" y="415"/>
                </a:cubicBezTo>
                <a:cubicBezTo>
                  <a:pt x="3563" y="391"/>
                  <a:pt x="3578" y="370"/>
                  <a:pt x="3607" y="351"/>
                </a:cubicBezTo>
                <a:cubicBezTo>
                  <a:pt x="3618" y="316"/>
                  <a:pt x="3631" y="321"/>
                  <a:pt x="3664" y="329"/>
                </a:cubicBezTo>
                <a:cubicBezTo>
                  <a:pt x="3676" y="341"/>
                  <a:pt x="3687" y="353"/>
                  <a:pt x="3699" y="365"/>
                </a:cubicBezTo>
                <a:cubicBezTo>
                  <a:pt x="3704" y="370"/>
                  <a:pt x="3714" y="379"/>
                  <a:pt x="3714" y="379"/>
                </a:cubicBezTo>
                <a:cubicBezTo>
                  <a:pt x="3723" y="365"/>
                  <a:pt x="3733" y="350"/>
                  <a:pt x="3742" y="336"/>
                </a:cubicBezTo>
                <a:cubicBezTo>
                  <a:pt x="3747" y="329"/>
                  <a:pt x="3748" y="318"/>
                  <a:pt x="3756" y="315"/>
                </a:cubicBezTo>
                <a:cubicBezTo>
                  <a:pt x="3770" y="310"/>
                  <a:pt x="3799" y="301"/>
                  <a:pt x="3799" y="301"/>
                </a:cubicBezTo>
                <a:cubicBezTo>
                  <a:pt x="3843" y="308"/>
                  <a:pt x="3861" y="312"/>
                  <a:pt x="3891" y="344"/>
                </a:cubicBezTo>
                <a:cubicBezTo>
                  <a:pt x="3905" y="334"/>
                  <a:pt x="3920" y="325"/>
                  <a:pt x="3934" y="315"/>
                </a:cubicBezTo>
                <a:cubicBezTo>
                  <a:pt x="3975" y="288"/>
                  <a:pt x="3923" y="300"/>
                  <a:pt x="3963" y="280"/>
                </a:cubicBezTo>
                <a:cubicBezTo>
                  <a:pt x="3972" y="276"/>
                  <a:pt x="3982" y="275"/>
                  <a:pt x="3991" y="272"/>
                </a:cubicBezTo>
                <a:cubicBezTo>
                  <a:pt x="4005" y="268"/>
                  <a:pt x="4034" y="258"/>
                  <a:pt x="4034" y="258"/>
                </a:cubicBezTo>
                <a:cubicBezTo>
                  <a:pt x="4119" y="263"/>
                  <a:pt x="4155" y="265"/>
                  <a:pt x="4226" y="287"/>
                </a:cubicBezTo>
                <a:cubicBezTo>
                  <a:pt x="4247" y="285"/>
                  <a:pt x="4269" y="285"/>
                  <a:pt x="4290" y="280"/>
                </a:cubicBezTo>
                <a:cubicBezTo>
                  <a:pt x="4318" y="273"/>
                  <a:pt x="4348" y="234"/>
                  <a:pt x="4361" y="208"/>
                </a:cubicBezTo>
                <a:cubicBezTo>
                  <a:pt x="4364" y="201"/>
                  <a:pt x="4363" y="192"/>
                  <a:pt x="4368" y="187"/>
                </a:cubicBezTo>
                <a:cubicBezTo>
                  <a:pt x="4373" y="182"/>
                  <a:pt x="4382" y="182"/>
                  <a:pt x="4389" y="180"/>
                </a:cubicBezTo>
                <a:cubicBezTo>
                  <a:pt x="4421" y="200"/>
                  <a:pt x="4454" y="203"/>
                  <a:pt x="4489" y="216"/>
                </a:cubicBezTo>
                <a:cubicBezTo>
                  <a:pt x="4519" y="205"/>
                  <a:pt x="4535" y="193"/>
                  <a:pt x="4567" y="187"/>
                </a:cubicBezTo>
                <a:cubicBezTo>
                  <a:pt x="4707" y="96"/>
                  <a:pt x="4808" y="141"/>
                  <a:pt x="5015" y="137"/>
                </a:cubicBezTo>
                <a:cubicBezTo>
                  <a:pt x="5027" y="125"/>
                  <a:pt x="5051" y="102"/>
                  <a:pt x="5051" y="102"/>
                </a:cubicBezTo>
                <a:cubicBezTo>
                  <a:pt x="5091" y="74"/>
                  <a:pt x="5132" y="48"/>
                  <a:pt x="5171" y="19"/>
                </a:cubicBezTo>
                <a:cubicBezTo>
                  <a:pt x="5177" y="15"/>
                  <a:pt x="5179" y="0"/>
                  <a:pt x="5186" y="2"/>
                </a:cubicBezTo>
                <a:cubicBezTo>
                  <a:pt x="5202" y="6"/>
                  <a:pt x="5192" y="39"/>
                  <a:pt x="5207" y="45"/>
                </a:cubicBezTo>
                <a:cubicBezTo>
                  <a:pt x="5222" y="52"/>
                  <a:pt x="5240" y="50"/>
                  <a:pt x="5257" y="52"/>
                </a:cubicBezTo>
                <a:cubicBezTo>
                  <a:pt x="5310" y="70"/>
                  <a:pt x="5242" y="54"/>
                  <a:pt x="5299" y="38"/>
                </a:cubicBezTo>
                <a:cubicBezTo>
                  <a:pt x="5309" y="35"/>
                  <a:pt x="5318" y="43"/>
                  <a:pt x="5328" y="45"/>
                </a:cubicBezTo>
                <a:cubicBezTo>
                  <a:pt x="5334" y="54"/>
                  <a:pt x="5347" y="80"/>
                  <a:pt x="5363" y="80"/>
                </a:cubicBezTo>
                <a:cubicBezTo>
                  <a:pt x="5370" y="80"/>
                  <a:pt x="5372" y="69"/>
                  <a:pt x="5378" y="66"/>
                </a:cubicBezTo>
                <a:cubicBezTo>
                  <a:pt x="5404" y="51"/>
                  <a:pt x="5435" y="40"/>
                  <a:pt x="5463" y="31"/>
                </a:cubicBezTo>
                <a:cubicBezTo>
                  <a:pt x="5519" y="13"/>
                  <a:pt x="5582" y="26"/>
                  <a:pt x="5641" y="24"/>
                </a:cubicBezTo>
                <a:cubicBezTo>
                  <a:pt x="5648" y="21"/>
                  <a:pt x="5655" y="18"/>
                  <a:pt x="5662" y="16"/>
                </a:cubicBezTo>
                <a:cubicBezTo>
                  <a:pt x="5672" y="13"/>
                  <a:pt x="5691" y="9"/>
                  <a:pt x="5691" y="9"/>
                </a:cubicBezTo>
                <a:lnTo>
                  <a:pt x="91" y="1743"/>
                </a:lnTo>
                <a:lnTo>
                  <a:pt x="0" y="1788"/>
                </a:lnTo>
                <a:lnTo>
                  <a:pt x="23" y="472"/>
                </a:lnTo>
                <a:close/>
              </a:path>
            </a:pathLst>
          </a:cu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2484360" y="828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204" name="Text Box 28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31"/>
          <p:cNvSpPr/>
          <p:nvPr/>
        </p:nvSpPr>
        <p:spPr>
          <a:xfrm rot="21038400">
            <a:off x="-691920" y="5051160"/>
            <a:ext cx="109872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2"/>
          <p:cNvGrpSpPr/>
          <p:nvPr/>
        </p:nvGrpSpPr>
        <p:grpSpPr>
          <a:xfrm>
            <a:off x="-213120" y="4196160"/>
            <a:ext cx="1685160" cy="852120"/>
            <a:chOff x="-213120" y="4196160"/>
            <a:chExt cx="1685160" cy="852120"/>
          </a:xfrm>
        </p:grpSpPr>
        <p:grpSp>
          <p:nvGrpSpPr>
            <p:cNvPr id="209" name="Group 33"/>
            <p:cNvGrpSpPr/>
            <p:nvPr/>
          </p:nvGrpSpPr>
          <p:grpSpPr>
            <a:xfrm>
              <a:off x="-213120" y="4209120"/>
              <a:ext cx="1685160" cy="839160"/>
              <a:chOff x="-213120" y="4209120"/>
              <a:chExt cx="1685160" cy="839160"/>
            </a:xfrm>
          </p:grpSpPr>
          <p:grpSp>
            <p:nvGrpSpPr>
              <p:cNvPr id="210" name="Group 34"/>
              <p:cNvGrpSpPr/>
              <p:nvPr/>
            </p:nvGrpSpPr>
            <p:grpSpPr>
              <a:xfrm>
                <a:off x="1035720" y="4507560"/>
                <a:ext cx="436320" cy="437040"/>
                <a:chOff x="1035720" y="4507560"/>
                <a:chExt cx="436320" cy="437040"/>
              </a:xfrm>
            </p:grpSpPr>
            <p:sp>
              <p:nvSpPr>
                <p:cNvPr id="211" name="Oval 35"/>
                <p:cNvSpPr/>
                <p:nvPr/>
              </p:nvSpPr>
              <p:spPr>
                <a:xfrm rot="20847600">
                  <a:off x="1227240" y="470088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36"/>
                <p:cNvSpPr/>
                <p:nvPr/>
              </p:nvSpPr>
              <p:spPr>
                <a:xfrm rot="20847600">
                  <a:off x="1071000" y="4542480"/>
                  <a:ext cx="365400" cy="366480"/>
                </a:xfrm>
                <a:custGeom>
                  <a:avLst/>
                  <a:gdLst>
                    <a:gd name="textAreaLeft" fmla="*/ 53280 w 365400"/>
                    <a:gd name="textAreaRight" fmla="*/ 312120 w 36540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37"/>
                <p:cNvSpPr/>
                <p:nvPr/>
              </p:nvSpPr>
              <p:spPr>
                <a:xfrm flipH="1" rot="20847600">
                  <a:off x="1220760" y="458244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38"/>
                <p:cNvSpPr/>
                <p:nvPr/>
              </p:nvSpPr>
              <p:spPr>
                <a:xfrm flipH="1" rot="7597200">
                  <a:off x="1301400" y="470412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39"/>
                <p:cNvSpPr/>
                <p:nvPr/>
              </p:nvSpPr>
              <p:spPr>
                <a:xfrm flipH="1" rot="16026600">
                  <a:off x="1162080" y="465444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40"/>
                <p:cNvSpPr/>
                <p:nvPr/>
              </p:nvSpPr>
              <p:spPr>
                <a:xfrm flipH="1" rot="12582600">
                  <a:off x="1205640" y="471960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41"/>
                <p:cNvSpPr/>
                <p:nvPr/>
              </p:nvSpPr>
              <p:spPr>
                <a:xfrm flipH="1" rot="3620400">
                  <a:off x="1305720" y="461880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42"/>
                <p:cNvSpPr/>
                <p:nvPr/>
              </p:nvSpPr>
              <p:spPr>
                <a:xfrm rot="20847600">
                  <a:off x="1080720" y="4551120"/>
                  <a:ext cx="34704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43"/>
              <p:cNvGrpSpPr/>
              <p:nvPr/>
            </p:nvGrpSpPr>
            <p:grpSpPr>
              <a:xfrm>
                <a:off x="-64080" y="4611240"/>
                <a:ext cx="436320" cy="437040"/>
                <a:chOff x="-64080" y="4611240"/>
                <a:chExt cx="436320" cy="437040"/>
              </a:xfrm>
            </p:grpSpPr>
            <p:sp>
              <p:nvSpPr>
                <p:cNvPr id="220" name="Oval 44"/>
                <p:cNvSpPr/>
                <p:nvPr/>
              </p:nvSpPr>
              <p:spPr>
                <a:xfrm rot="20847600">
                  <a:off x="127800" y="480420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45"/>
                <p:cNvSpPr/>
                <p:nvPr/>
              </p:nvSpPr>
              <p:spPr>
                <a:xfrm rot="20847600">
                  <a:off x="-28440" y="4646160"/>
                  <a:ext cx="365400" cy="366480"/>
                </a:xfrm>
                <a:custGeom>
                  <a:avLst/>
                  <a:gdLst>
                    <a:gd name="textAreaLeft" fmla="*/ 53280 w 365400"/>
                    <a:gd name="textAreaRight" fmla="*/ 312120 w 36540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46"/>
                <p:cNvSpPr/>
                <p:nvPr/>
              </p:nvSpPr>
              <p:spPr>
                <a:xfrm flipH="1" rot="20847600">
                  <a:off x="121320" y="468612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47"/>
                <p:cNvSpPr/>
                <p:nvPr/>
              </p:nvSpPr>
              <p:spPr>
                <a:xfrm flipH="1" rot="7597200">
                  <a:off x="201960" y="48078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48"/>
                <p:cNvSpPr/>
                <p:nvPr/>
              </p:nvSpPr>
              <p:spPr>
                <a:xfrm flipH="1" rot="16026600">
                  <a:off x="62640" y="475812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49"/>
                <p:cNvSpPr/>
                <p:nvPr/>
              </p:nvSpPr>
              <p:spPr>
                <a:xfrm flipH="1" rot="12582600">
                  <a:off x="105840" y="482328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50"/>
                <p:cNvSpPr/>
                <p:nvPr/>
              </p:nvSpPr>
              <p:spPr>
                <a:xfrm flipH="1" rot="3620400">
                  <a:off x="206280" y="472212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51"/>
                <p:cNvSpPr/>
                <p:nvPr/>
              </p:nvSpPr>
              <p:spPr>
                <a:xfrm rot="20847600">
                  <a:off x="-18000" y="4655160"/>
                  <a:ext cx="34704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AutoShape 52"/>
              <p:cNvSpPr/>
              <p:nvPr/>
            </p:nvSpPr>
            <p:spPr>
              <a:xfrm rot="2665200">
                <a:off x="207000" y="4646880"/>
                <a:ext cx="45000" cy="189360"/>
              </a:xfrm>
              <a:custGeom>
                <a:avLst/>
                <a:gdLst>
                  <a:gd name="textAreaLeft" fmla="*/ 9000 w 45000"/>
                  <a:gd name="textAreaRight" fmla="*/ 36000 w 45000"/>
                  <a:gd name="textAreaTop" fmla="*/ 39240 h 189360"/>
                  <a:gd name="textAreaBottom" fmla="*/ 150120 h 18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53"/>
              <p:cNvSpPr/>
              <p:nvPr/>
            </p:nvSpPr>
            <p:spPr>
              <a:xfrm rot="19708200">
                <a:off x="1172880" y="4499280"/>
                <a:ext cx="23040" cy="228960"/>
              </a:xfrm>
              <a:custGeom>
                <a:avLst/>
                <a:gdLst>
                  <a:gd name="textAreaLeft" fmla="*/ 1800 w 23040"/>
                  <a:gd name="textAreaRight" fmla="*/ 21240 w 23040"/>
                  <a:gd name="textAreaTop" fmla="*/ 19080 h 228960"/>
                  <a:gd name="textAreaBottom" fmla="*/ 209880 h 22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4"/>
              <p:cNvSpPr/>
              <p:nvPr/>
            </p:nvSpPr>
            <p:spPr>
              <a:xfrm rot="21238800">
                <a:off x="-6480" y="4613760"/>
                <a:ext cx="182160" cy="228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55"/>
              <p:cNvGrpSpPr/>
              <p:nvPr/>
            </p:nvGrpSpPr>
            <p:grpSpPr>
              <a:xfrm>
                <a:off x="-213120" y="4226040"/>
                <a:ext cx="1572840" cy="694080"/>
                <a:chOff x="-213120" y="4226040"/>
                <a:chExt cx="1572840" cy="694080"/>
              </a:xfrm>
            </p:grpSpPr>
            <p:sp>
              <p:nvSpPr>
                <p:cNvPr id="232" name="Freeform 56"/>
                <p:cNvSpPr/>
                <p:nvPr/>
              </p:nvSpPr>
              <p:spPr>
                <a:xfrm rot="21375000">
                  <a:off x="-195120" y="4275720"/>
                  <a:ext cx="1537200" cy="594720"/>
                </a:xfrm>
                <a:custGeom>
                  <a:avLst/>
                  <a:gdLst>
                    <a:gd name="textAreaLeft" fmla="*/ 0 w 1537200"/>
                    <a:gd name="textAreaRight" fmla="*/ 1537560 w 1537200"/>
                    <a:gd name="textAreaTop" fmla="*/ 0 h 594720"/>
                    <a:gd name="textAreaBottom" fmla="*/ 595080 h 594720"/>
                  </a:gdLst>
                  <a:ahLst/>
                  <a:rect l="textAreaLeft" t="textAreaTop" r="textAreaRight" b="textAreaBottom"/>
                  <a:pathLst>
                    <a:path w="1526" h="589">
                      <a:moveTo>
                        <a:pt x="528" y="453"/>
                      </a:moveTo>
                      <a:lnTo>
                        <a:pt x="392" y="317"/>
                      </a:lnTo>
                      <a:lnTo>
                        <a:pt x="120" y="317"/>
                      </a:lnTo>
                      <a:lnTo>
                        <a:pt x="0" y="284"/>
                      </a:lnTo>
                      <a:lnTo>
                        <a:pt x="392" y="272"/>
                      </a:lnTo>
                      <a:lnTo>
                        <a:pt x="392" y="226"/>
                      </a:lnTo>
                      <a:cubicBezTo>
                        <a:pt x="389" y="221"/>
                        <a:pt x="384" y="216"/>
                        <a:pt x="383" y="210"/>
                      </a:cubicBezTo>
                      <a:cubicBezTo>
                        <a:pt x="382" y="206"/>
                        <a:pt x="383" y="199"/>
                        <a:pt x="387" y="198"/>
                      </a:cubicBezTo>
                      <a:cubicBezTo>
                        <a:pt x="392" y="197"/>
                        <a:pt x="398" y="201"/>
                        <a:pt x="399" y="206"/>
                      </a:cubicBezTo>
                      <a:cubicBezTo>
                        <a:pt x="403" y="227"/>
                        <a:pt x="399" y="249"/>
                        <a:pt x="399" y="270"/>
                      </a:cubicBezTo>
                      <a:cubicBezTo>
                        <a:pt x="423" y="254"/>
                        <a:pt x="452" y="263"/>
                        <a:pt x="479" y="254"/>
                      </a:cubicBezTo>
                      <a:cubicBezTo>
                        <a:pt x="527" y="257"/>
                        <a:pt x="532" y="263"/>
                        <a:pt x="571" y="270"/>
                      </a:cubicBezTo>
                      <a:cubicBezTo>
                        <a:pt x="610" y="269"/>
                        <a:pt x="648" y="269"/>
                        <a:pt x="687" y="266"/>
                      </a:cubicBezTo>
                      <a:cubicBezTo>
                        <a:pt x="695" y="265"/>
                        <a:pt x="711" y="258"/>
                        <a:pt x="711" y="258"/>
                      </a:cubicBezTo>
                      <a:cubicBezTo>
                        <a:pt x="753" y="196"/>
                        <a:pt x="797" y="221"/>
                        <a:pt x="887" y="218"/>
                      </a:cubicBezTo>
                      <a:cubicBezTo>
                        <a:pt x="895" y="193"/>
                        <a:pt x="909" y="146"/>
                        <a:pt x="939" y="142"/>
                      </a:cubicBezTo>
                      <a:cubicBezTo>
                        <a:pt x="958" y="140"/>
                        <a:pt x="976" y="139"/>
                        <a:pt x="995" y="138"/>
                      </a:cubicBezTo>
                      <a:cubicBezTo>
                        <a:pt x="1031" y="129"/>
                        <a:pt x="1073" y="159"/>
                        <a:pt x="1095" y="126"/>
                      </a:cubicBezTo>
                      <a:cubicBezTo>
                        <a:pt x="1093" y="116"/>
                        <a:pt x="1150" y="77"/>
                        <a:pt x="1109" y="64"/>
                      </a:cubicBezTo>
                      <a:lnTo>
                        <a:pt x="845" y="35"/>
                      </a:lnTo>
                      <a:lnTo>
                        <a:pt x="936" y="0"/>
                      </a:lnTo>
                      <a:lnTo>
                        <a:pt x="1254" y="45"/>
                      </a:lnTo>
                      <a:lnTo>
                        <a:pt x="1526" y="226"/>
                      </a:lnTo>
                      <a:lnTo>
                        <a:pt x="1526" y="317"/>
                      </a:lnTo>
                      <a:lnTo>
                        <a:pt x="1299" y="317"/>
                      </a:lnTo>
                      <a:cubicBezTo>
                        <a:pt x="1269" y="347"/>
                        <a:pt x="1161" y="496"/>
                        <a:pt x="1123" y="496"/>
                      </a:cubicBezTo>
                      <a:lnTo>
                        <a:pt x="1037" y="270"/>
                      </a:lnTo>
                      <a:lnTo>
                        <a:pt x="891" y="408"/>
                      </a:lnTo>
                      <a:lnTo>
                        <a:pt x="864" y="491"/>
                      </a:lnTo>
                      <a:lnTo>
                        <a:pt x="755" y="589"/>
                      </a:lnTo>
                      <a:lnTo>
                        <a:pt x="573" y="499"/>
                      </a:lnTo>
                      <a:lnTo>
                        <a:pt x="528" y="453"/>
                      </a:lnTo>
                      <a:close/>
                    </a:path>
                  </a:pathLst>
                </a:custGeom>
                <a:solidFill>
                  <a:srgbClr val="66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57"/>
                <p:cNvSpPr/>
                <p:nvPr/>
              </p:nvSpPr>
              <p:spPr>
                <a:xfrm rot="15974400">
                  <a:off x="549000" y="4616640"/>
                  <a:ext cx="45360" cy="183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58"/>
              <p:cNvGrpSpPr/>
              <p:nvPr/>
            </p:nvGrpSpPr>
            <p:grpSpPr>
              <a:xfrm>
                <a:off x="243720" y="4209120"/>
                <a:ext cx="992160" cy="569880"/>
                <a:chOff x="243720" y="4209120"/>
                <a:chExt cx="992160" cy="569880"/>
              </a:xfrm>
            </p:grpSpPr>
            <p:sp>
              <p:nvSpPr>
                <p:cNvPr id="235" name="AutoShape 59"/>
                <p:cNvSpPr/>
                <p:nvPr/>
              </p:nvSpPr>
              <p:spPr>
                <a:xfrm rot="8716800">
                  <a:off x="1131120" y="4508640"/>
                  <a:ext cx="45000" cy="137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60"/>
                <p:cNvSpPr/>
                <p:nvPr/>
              </p:nvSpPr>
              <p:spPr>
                <a:xfrm rot="20847600">
                  <a:off x="668880" y="4265640"/>
                  <a:ext cx="548640" cy="228240"/>
                </a:xfrm>
                <a:custGeom>
                  <a:avLst/>
                  <a:gdLst>
                    <a:gd name="textAreaLeft" fmla="*/ 0 w 548640"/>
                    <a:gd name="textAreaRight" fmla="*/ 549000 w 5486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61"/>
                <p:cNvSpPr/>
                <p:nvPr/>
              </p:nvSpPr>
              <p:spPr>
                <a:xfrm rot="15447600">
                  <a:off x="603720" y="4561200"/>
                  <a:ext cx="45360" cy="182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62"/>
                <p:cNvSpPr/>
                <p:nvPr/>
              </p:nvSpPr>
              <p:spPr>
                <a:xfrm rot="15447600">
                  <a:off x="524520" y="4534200"/>
                  <a:ext cx="45360" cy="365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 rot="20847600">
                  <a:off x="245520" y="4545720"/>
                  <a:ext cx="537840" cy="78480"/>
                </a:xfrm>
                <a:custGeom>
                  <a:avLst/>
                  <a:gdLst>
                    <a:gd name="textAreaLeft" fmla="*/ 0 w 537840"/>
                    <a:gd name="textAreaRight" fmla="*/ 538200 w 537840"/>
                    <a:gd name="textAreaTop" fmla="*/ 0 h 78480"/>
                    <a:gd name="textAreaBottom" fmla="*/ 78480 h 7848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64"/>
                <p:cNvSpPr/>
                <p:nvPr/>
              </p:nvSpPr>
              <p:spPr>
                <a:xfrm rot="20847600">
                  <a:off x="734760" y="4248360"/>
                  <a:ext cx="273960" cy="4536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Freeform 65"/>
              <p:cNvSpPr/>
              <p:nvPr/>
            </p:nvSpPr>
            <p:spPr>
              <a:xfrm rot="21259200">
                <a:off x="-91440" y="4538520"/>
                <a:ext cx="1462680" cy="320040"/>
              </a:xfrm>
              <a:custGeom>
                <a:avLst/>
                <a:gdLst>
                  <a:gd name="textAreaLeft" fmla="*/ 0 w 1462680"/>
                  <a:gd name="textAreaRight" fmla="*/ 1463040 w 14626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66"/>
            <p:cNvGrpSpPr/>
            <p:nvPr/>
          </p:nvGrpSpPr>
          <p:grpSpPr>
            <a:xfrm>
              <a:off x="295200" y="4196160"/>
              <a:ext cx="681480" cy="652680"/>
              <a:chOff x="295200" y="4196160"/>
              <a:chExt cx="681480" cy="652680"/>
            </a:xfrm>
          </p:grpSpPr>
          <p:sp>
            <p:nvSpPr>
              <p:cNvPr id="243" name="Freeform 67"/>
              <p:cNvSpPr/>
              <p:nvPr/>
            </p:nvSpPr>
            <p:spPr>
              <a:xfrm rot="21167400">
                <a:off x="322560" y="4323960"/>
                <a:ext cx="626760" cy="476640"/>
              </a:xfrm>
              <a:custGeom>
                <a:avLst/>
                <a:gdLst>
                  <a:gd name="textAreaLeft" fmla="*/ 0 w 626760"/>
                  <a:gd name="textAreaRight" fmla="*/ 627120 w 62676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68"/>
              <p:cNvSpPr/>
              <p:nvPr/>
            </p:nvSpPr>
            <p:spPr>
              <a:xfrm rot="21167400">
                <a:off x="565560" y="420588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9"/>
              <p:cNvSpPr/>
              <p:nvPr/>
            </p:nvSpPr>
            <p:spPr>
              <a:xfrm rot="21167400">
                <a:off x="450000" y="478008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70"/>
          <p:cNvGrpSpPr/>
          <p:nvPr/>
        </p:nvGrpSpPr>
        <p:grpSpPr>
          <a:xfrm>
            <a:off x="993960" y="4475520"/>
            <a:ext cx="496440" cy="496080"/>
            <a:chOff x="993960" y="4475520"/>
            <a:chExt cx="496440" cy="496080"/>
          </a:xfrm>
        </p:grpSpPr>
        <p:sp>
          <p:nvSpPr>
            <p:cNvPr id="247" name="Oval 71"/>
            <p:cNvSpPr/>
            <p:nvPr/>
          </p:nvSpPr>
          <p:spPr>
            <a:xfrm rot="19908600">
              <a:off x="1215000" y="469872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72"/>
            <p:cNvSpPr/>
            <p:nvPr/>
          </p:nvSpPr>
          <p:spPr>
            <a:xfrm rot="19908600">
              <a:off x="1058760" y="453996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3"/>
            <p:cNvSpPr/>
            <p:nvPr/>
          </p:nvSpPr>
          <p:spPr>
            <a:xfrm flipH="1" rot="19908600">
              <a:off x="1190160" y="458820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4"/>
            <p:cNvSpPr/>
            <p:nvPr/>
          </p:nvSpPr>
          <p:spPr>
            <a:xfrm flipH="1" rot="6658200">
              <a:off x="1299960" y="468396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5"/>
            <p:cNvSpPr/>
            <p:nvPr/>
          </p:nvSpPr>
          <p:spPr>
            <a:xfrm flipH="1" rot="15087000">
              <a:off x="1152000" y="46728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6"/>
            <p:cNvSpPr/>
            <p:nvPr/>
          </p:nvSpPr>
          <p:spPr>
            <a:xfrm flipH="1" rot="11644200">
              <a:off x="1212120" y="47246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7"/>
            <p:cNvSpPr/>
            <p:nvPr/>
          </p:nvSpPr>
          <p:spPr>
            <a:xfrm flipH="1" rot="2681400">
              <a:off x="1281600" y="45993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8"/>
            <p:cNvSpPr/>
            <p:nvPr/>
          </p:nvSpPr>
          <p:spPr>
            <a:xfrm rot="19908600">
              <a:off x="1068120" y="454896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79"/>
          <p:cNvGrpSpPr/>
          <p:nvPr/>
        </p:nvGrpSpPr>
        <p:grpSpPr>
          <a:xfrm>
            <a:off x="-99720" y="4580640"/>
            <a:ext cx="495000" cy="495360"/>
            <a:chOff x="-99720" y="4580640"/>
            <a:chExt cx="495000" cy="495360"/>
          </a:xfrm>
        </p:grpSpPr>
        <p:sp>
          <p:nvSpPr>
            <p:cNvPr id="256" name="Oval 80"/>
            <p:cNvSpPr/>
            <p:nvPr/>
          </p:nvSpPr>
          <p:spPr>
            <a:xfrm rot="19908600">
              <a:off x="120600" y="4804200"/>
              <a:ext cx="4608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1"/>
            <p:cNvSpPr/>
            <p:nvPr/>
          </p:nvSpPr>
          <p:spPr>
            <a:xfrm rot="19908600">
              <a:off x="-34560" y="4645080"/>
              <a:ext cx="365040" cy="366480"/>
            </a:xfrm>
            <a:custGeom>
              <a:avLst/>
              <a:gdLst>
                <a:gd name="textAreaLeft" fmla="*/ 53280 w 365040"/>
                <a:gd name="textAreaRight" fmla="*/ 311760 w 3650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2"/>
            <p:cNvSpPr/>
            <p:nvPr/>
          </p:nvSpPr>
          <p:spPr>
            <a:xfrm flipH="1" rot="19908600">
              <a:off x="95400" y="4693320"/>
              <a:ext cx="22680" cy="137160"/>
            </a:xfrm>
            <a:custGeom>
              <a:avLst/>
              <a:gdLst>
                <a:gd name="textAreaLeft" fmla="*/ 4680 w 22680"/>
                <a:gd name="textAreaRight" fmla="*/ 18000 w 2268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3"/>
            <p:cNvSpPr/>
            <p:nvPr/>
          </p:nvSpPr>
          <p:spPr>
            <a:xfrm flipH="1" rot="6658200">
              <a:off x="205200" y="478872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4"/>
            <p:cNvSpPr/>
            <p:nvPr/>
          </p:nvSpPr>
          <p:spPr>
            <a:xfrm flipH="1" rot="15087000">
              <a:off x="57960" y="4777920"/>
              <a:ext cx="23040" cy="13680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6800"/>
                <a:gd name="textAreaBottom" fmla="*/ 10872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5"/>
            <p:cNvSpPr/>
            <p:nvPr/>
          </p:nvSpPr>
          <p:spPr>
            <a:xfrm flipH="1" rot="11644200">
              <a:off x="118080" y="4830120"/>
              <a:ext cx="22680" cy="137160"/>
            </a:xfrm>
            <a:custGeom>
              <a:avLst/>
              <a:gdLst>
                <a:gd name="textAreaLeft" fmla="*/ 4680 w 22680"/>
                <a:gd name="textAreaRight" fmla="*/ 18000 w 2268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6"/>
            <p:cNvSpPr/>
            <p:nvPr/>
          </p:nvSpPr>
          <p:spPr>
            <a:xfrm flipH="1" rot="2681400">
              <a:off x="186840" y="4704840"/>
              <a:ext cx="23040" cy="13680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6800"/>
                <a:gd name="textAreaBottom" fmla="*/ 10872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7"/>
            <p:cNvSpPr/>
            <p:nvPr/>
          </p:nvSpPr>
          <p:spPr>
            <a:xfrm rot="19908600">
              <a:off x="-24840" y="4653720"/>
              <a:ext cx="3466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88"/>
          <p:cNvSpPr/>
          <p:nvPr/>
        </p:nvSpPr>
        <p:spPr>
          <a:xfrm flipV="1" rot="15120000">
            <a:off x="-214920" y="4465080"/>
            <a:ext cx="144360" cy="356760"/>
          </a:xfrm>
          <a:custGeom>
            <a:avLst/>
            <a:gdLst>
              <a:gd name="textAreaLeft" fmla="*/ 29880 w 144360"/>
              <a:gd name="textAreaRight" fmla="*/ 114480 w 144360"/>
              <a:gd name="textAreaTop" fmla="*/ 74160 h 356760"/>
              <a:gd name="textAreaBottom" fmla="*/ 282600 h 35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045E-016 L 0.91546 -0.14912 E">
                                      <p:cBhvr>
                                        <p:cTn id="20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6471E-006 L 0.91719 -0.14412 E">
                                      <p:cBhvr>
                                        <p:cTn id="20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94118E-006 L 0.91354 -0.14647 E">
                                      <p:cBhvr>
                                        <p:cTn id="20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29621E-006 L 0.90174 -0.14635 E">
                                      <p:cBhvr>
                                        <p:cTn id="22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6560" y="396720"/>
            <a:ext cx="667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幼圆"/>
              </a:rPr>
              <a:t>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66120" y="923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3300"/>
                </a:solidFill>
                <a:latin typeface="Arial"/>
                <a:ea typeface="方正舒体"/>
              </a:rPr>
              <a:t>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 flipV="1">
            <a:off x="9144000" y="998640"/>
            <a:ext cx="0" cy="1815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 flipV="1">
            <a:off x="504720" y="0"/>
            <a:ext cx="34920" cy="1333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-239760" y="1368360"/>
            <a:ext cx="10201320" cy="4643640"/>
          </a:xfrm>
          <a:custGeom>
            <a:avLst/>
            <a:gdLst>
              <a:gd name="textAreaLeft" fmla="*/ 0 w 10201320"/>
              <a:gd name="textAreaRight" fmla="*/ 10201680 w 10201320"/>
              <a:gd name="textAreaTop" fmla="*/ 0 h 4643640"/>
              <a:gd name="textAreaBottom" fmla="*/ 4644000 h 4643640"/>
            </a:gdLst>
            <a:ahLst/>
            <a:rect l="textAreaLeft" t="textAreaTop" r="textAreaRight" b="textAreaBottom"/>
            <a:pathLst>
              <a:path w="6427" h="2925">
                <a:moveTo>
                  <a:pt x="1082" y="2517"/>
                </a:moveTo>
                <a:cubicBezTo>
                  <a:pt x="1611" y="1991"/>
                  <a:pt x="2141" y="1466"/>
                  <a:pt x="2851" y="1111"/>
                </a:cubicBezTo>
                <a:cubicBezTo>
                  <a:pt x="3561" y="756"/>
                  <a:pt x="4839" y="529"/>
                  <a:pt x="5345" y="385"/>
                </a:cubicBezTo>
                <a:cubicBezTo>
                  <a:pt x="5851" y="241"/>
                  <a:pt x="5799" y="294"/>
                  <a:pt x="5890" y="249"/>
                </a:cubicBezTo>
                <a:cubicBezTo>
                  <a:pt x="5981" y="204"/>
                  <a:pt x="6427" y="0"/>
                  <a:pt x="5890" y="113"/>
                </a:cubicBezTo>
                <a:cubicBezTo>
                  <a:pt x="5353" y="226"/>
                  <a:pt x="3606" y="507"/>
                  <a:pt x="2669" y="930"/>
                </a:cubicBezTo>
                <a:cubicBezTo>
                  <a:pt x="1732" y="1353"/>
                  <a:pt x="530" y="2381"/>
                  <a:pt x="265" y="2653"/>
                </a:cubicBezTo>
                <a:cubicBezTo>
                  <a:pt x="0" y="2925"/>
                  <a:pt x="541" y="2744"/>
                  <a:pt x="1082" y="2563"/>
                </a:cubicBezTo>
              </a:path>
            </a:pathLst>
          </a:cu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7"/>
          <p:cNvSpPr/>
          <p:nvPr/>
        </p:nvSpPr>
        <p:spPr>
          <a:xfrm rot="21299400">
            <a:off x="5148360" y="2978280"/>
            <a:ext cx="5708520" cy="3035160"/>
          </a:xfrm>
          <a:custGeom>
            <a:avLst/>
            <a:gdLst>
              <a:gd name="textAreaLeft" fmla="*/ 0 w 5708520"/>
              <a:gd name="textAreaRight" fmla="*/ 5708880 w 570852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6427" h="2925">
                <a:moveTo>
                  <a:pt x="1082" y="2517"/>
                </a:moveTo>
                <a:cubicBezTo>
                  <a:pt x="1611" y="1991"/>
                  <a:pt x="2141" y="1466"/>
                  <a:pt x="2851" y="1111"/>
                </a:cubicBezTo>
                <a:cubicBezTo>
                  <a:pt x="3561" y="756"/>
                  <a:pt x="4839" y="529"/>
                  <a:pt x="5345" y="385"/>
                </a:cubicBezTo>
                <a:cubicBezTo>
                  <a:pt x="5851" y="241"/>
                  <a:pt x="5799" y="294"/>
                  <a:pt x="5890" y="249"/>
                </a:cubicBezTo>
                <a:cubicBezTo>
                  <a:pt x="5981" y="204"/>
                  <a:pt x="6427" y="0"/>
                  <a:pt x="5890" y="113"/>
                </a:cubicBezTo>
                <a:cubicBezTo>
                  <a:pt x="5353" y="226"/>
                  <a:pt x="3606" y="507"/>
                  <a:pt x="2669" y="930"/>
                </a:cubicBezTo>
                <a:cubicBezTo>
                  <a:pt x="1732" y="1353"/>
                  <a:pt x="530" y="2381"/>
                  <a:pt x="265" y="2653"/>
                </a:cubicBezTo>
                <a:cubicBezTo>
                  <a:pt x="0" y="2925"/>
                  <a:pt x="541" y="2744"/>
                  <a:pt x="1082" y="2563"/>
                </a:cubicBezTo>
              </a:path>
            </a:pathLst>
          </a:cu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-34920" y="1332000"/>
            <a:ext cx="9234000" cy="4457160"/>
            <a:chOff x="-34920" y="1332000"/>
            <a:chExt cx="9234000" cy="4457160"/>
          </a:xfrm>
        </p:grpSpPr>
        <p:sp>
          <p:nvSpPr>
            <p:cNvPr id="272" name="Freeform 9"/>
            <p:cNvSpPr/>
            <p:nvPr/>
          </p:nvSpPr>
          <p:spPr>
            <a:xfrm>
              <a:off x="5796000" y="3349440"/>
              <a:ext cx="3312360" cy="20908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87" h="1316">
                  <a:moveTo>
                    <a:pt x="0" y="1316"/>
                  </a:moveTo>
                  <a:cubicBezTo>
                    <a:pt x="211" y="1017"/>
                    <a:pt x="423" y="718"/>
                    <a:pt x="771" y="499"/>
                  </a:cubicBezTo>
                  <a:cubicBezTo>
                    <a:pt x="1119" y="280"/>
                    <a:pt x="1603" y="140"/>
                    <a:pt x="2087" y="0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"/>
            <p:cNvSpPr/>
            <p:nvPr/>
          </p:nvSpPr>
          <p:spPr>
            <a:xfrm>
              <a:off x="109080" y="1332000"/>
              <a:ext cx="8999280" cy="3170880"/>
            </a:xfrm>
            <a:custGeom>
              <a:avLst/>
              <a:gdLst>
                <a:gd name="textAreaLeft" fmla="*/ 0 w 8999280"/>
                <a:gd name="textAreaRight" fmla="*/ 8999640 w 8999280"/>
                <a:gd name="textAreaTop" fmla="*/ 0 h 3170880"/>
                <a:gd name="textAreaBottom" fmla="*/ 3171240 h 3170880"/>
              </a:gdLst>
              <a:ahLst/>
              <a:rect l="textAreaLeft" t="textAreaTop" r="textAreaRight" b="textAreaBottom"/>
              <a:pathLst>
                <a:path w="5670" h="1996">
                  <a:moveTo>
                    <a:pt x="0" y="1996"/>
                  </a:moveTo>
                  <a:cubicBezTo>
                    <a:pt x="593" y="1482"/>
                    <a:pt x="1187" y="968"/>
                    <a:pt x="2132" y="635"/>
                  </a:cubicBezTo>
                  <a:cubicBezTo>
                    <a:pt x="3077" y="302"/>
                    <a:pt x="4373" y="151"/>
                    <a:pt x="5670" y="0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1"/>
            <p:cNvSpPr/>
            <p:nvPr/>
          </p:nvSpPr>
          <p:spPr>
            <a:xfrm>
              <a:off x="344160" y="1562040"/>
              <a:ext cx="8773920" cy="3863520"/>
            </a:xfrm>
            <a:custGeom>
              <a:avLst/>
              <a:gdLst>
                <a:gd name="textAreaLeft" fmla="*/ 0 w 8773920"/>
                <a:gd name="textAreaRight" fmla="*/ 8774280 w 8773920"/>
                <a:gd name="textAreaTop" fmla="*/ 0 h 3863520"/>
                <a:gd name="textAreaBottom" fmla="*/ 3863880 h 3863520"/>
              </a:gdLst>
              <a:ahLst/>
              <a:rect l="textAreaLeft" t="textAreaTop" r="textAreaRight" b="textAreaBottom"/>
              <a:pathLst>
                <a:path w="5528" h="2432">
                  <a:moveTo>
                    <a:pt x="0" y="2432"/>
                  </a:moveTo>
                  <a:cubicBezTo>
                    <a:pt x="301" y="2199"/>
                    <a:pt x="1227" y="1372"/>
                    <a:pt x="1808" y="1032"/>
                  </a:cubicBezTo>
                  <a:cubicBezTo>
                    <a:pt x="2389" y="692"/>
                    <a:pt x="2868" y="564"/>
                    <a:pt x="3488" y="392"/>
                  </a:cubicBezTo>
                  <a:cubicBezTo>
                    <a:pt x="4108" y="220"/>
                    <a:pt x="5103" y="82"/>
                    <a:pt x="5528" y="0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"/>
            <p:cNvSpPr/>
            <p:nvPr/>
          </p:nvSpPr>
          <p:spPr>
            <a:xfrm>
              <a:off x="6400800" y="3531960"/>
              <a:ext cx="2742480" cy="1982520"/>
            </a:xfrm>
            <a:custGeom>
              <a:avLst/>
              <a:gdLst>
                <a:gd name="textAreaLeft" fmla="*/ 0 w 2742480"/>
                <a:gd name="textAreaRight" fmla="*/ 2742480 w 2742480"/>
                <a:gd name="textAreaTop" fmla="*/ 0 h 1982520"/>
                <a:gd name="textAreaBottom" fmla="*/ 1982880 h 1982520"/>
              </a:gdLst>
              <a:ahLst/>
              <a:rect l="textAreaLeft" t="textAreaTop" r="textAreaRight" b="textAreaBottom"/>
              <a:pathLst>
                <a:path w="1728" h="1248">
                  <a:moveTo>
                    <a:pt x="0" y="1248"/>
                  </a:moveTo>
                  <a:cubicBezTo>
                    <a:pt x="108" y="1124"/>
                    <a:pt x="360" y="712"/>
                    <a:pt x="648" y="504"/>
                  </a:cubicBezTo>
                  <a:cubicBezTo>
                    <a:pt x="936" y="296"/>
                    <a:pt x="1503" y="105"/>
                    <a:pt x="1728" y="0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"/>
            <p:cNvGrpSpPr/>
            <p:nvPr/>
          </p:nvGrpSpPr>
          <p:grpSpPr>
            <a:xfrm>
              <a:off x="-34920" y="4070520"/>
              <a:ext cx="294840" cy="1369080"/>
              <a:chOff x="-34920" y="4070520"/>
              <a:chExt cx="294840" cy="1369080"/>
            </a:xfrm>
          </p:grpSpPr>
          <p:sp>
            <p:nvSpPr>
              <p:cNvPr id="277" name="AutoShape 14"/>
              <p:cNvSpPr/>
              <p:nvPr/>
            </p:nvSpPr>
            <p:spPr>
              <a:xfrm>
                <a:off x="-34920" y="4071960"/>
                <a:ext cx="286920" cy="136764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-34920" y="4070520"/>
                <a:ext cx="286920" cy="1191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-27000" y="4286520"/>
                <a:ext cx="286920" cy="11880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109080" y="4430880"/>
                <a:ext cx="0" cy="972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-34920" y="5320440"/>
                <a:ext cx="286920" cy="1191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147240" y="4419720"/>
                <a:ext cx="0" cy="972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0"/>
            <p:cNvGrpSpPr/>
            <p:nvPr/>
          </p:nvGrpSpPr>
          <p:grpSpPr>
            <a:xfrm>
              <a:off x="3851640" y="1980000"/>
              <a:ext cx="186840" cy="865080"/>
              <a:chOff x="3851640" y="1980000"/>
              <a:chExt cx="186840" cy="865080"/>
            </a:xfrm>
          </p:grpSpPr>
          <p:sp>
            <p:nvSpPr>
              <p:cNvPr id="284" name="AutoShape 21"/>
              <p:cNvSpPr/>
              <p:nvPr/>
            </p:nvSpPr>
            <p:spPr>
              <a:xfrm>
                <a:off x="3851640" y="1980720"/>
                <a:ext cx="182160" cy="86436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3851640" y="1980000"/>
                <a:ext cx="182160" cy="752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3856320" y="2116440"/>
                <a:ext cx="182160" cy="7488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4"/>
              <p:cNvSpPr/>
              <p:nvPr/>
            </p:nvSpPr>
            <p:spPr>
              <a:xfrm>
                <a:off x="3943080" y="2207880"/>
                <a:ext cx="0" cy="61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3851640" y="2769840"/>
                <a:ext cx="182160" cy="752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6"/>
              <p:cNvSpPr/>
              <p:nvPr/>
            </p:nvSpPr>
            <p:spPr>
              <a:xfrm>
                <a:off x="3967200" y="2200680"/>
                <a:ext cx="0" cy="61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7"/>
            <p:cNvGrpSpPr/>
            <p:nvPr/>
          </p:nvGrpSpPr>
          <p:grpSpPr>
            <a:xfrm>
              <a:off x="7386480" y="1332000"/>
              <a:ext cx="109080" cy="505080"/>
              <a:chOff x="7386480" y="1332000"/>
              <a:chExt cx="109080" cy="505080"/>
            </a:xfrm>
          </p:grpSpPr>
          <p:sp>
            <p:nvSpPr>
              <p:cNvPr id="291" name="AutoShape 28"/>
              <p:cNvSpPr/>
              <p:nvPr/>
            </p:nvSpPr>
            <p:spPr>
              <a:xfrm>
                <a:off x="7386480" y="1332360"/>
                <a:ext cx="106200" cy="50472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29"/>
              <p:cNvSpPr/>
              <p:nvPr/>
            </p:nvSpPr>
            <p:spPr>
              <a:xfrm>
                <a:off x="7386480" y="133200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0"/>
              <p:cNvSpPr/>
              <p:nvPr/>
            </p:nvSpPr>
            <p:spPr>
              <a:xfrm>
                <a:off x="7389360" y="1411560"/>
                <a:ext cx="106200" cy="435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1"/>
              <p:cNvSpPr/>
              <p:nvPr/>
            </p:nvSpPr>
            <p:spPr>
              <a:xfrm>
                <a:off x="7439760" y="1464840"/>
                <a:ext cx="0" cy="358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32"/>
              <p:cNvSpPr/>
              <p:nvPr/>
            </p:nvSpPr>
            <p:spPr>
              <a:xfrm>
                <a:off x="7386480" y="179316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3"/>
              <p:cNvSpPr/>
              <p:nvPr/>
            </p:nvSpPr>
            <p:spPr>
              <a:xfrm>
                <a:off x="7453800" y="1460880"/>
                <a:ext cx="0" cy="358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4"/>
            <p:cNvGrpSpPr/>
            <p:nvPr/>
          </p:nvGrpSpPr>
          <p:grpSpPr>
            <a:xfrm>
              <a:off x="7185240" y="3781440"/>
              <a:ext cx="167400" cy="649440"/>
              <a:chOff x="7185240" y="3781440"/>
              <a:chExt cx="167400" cy="649440"/>
            </a:xfrm>
          </p:grpSpPr>
          <p:sp>
            <p:nvSpPr>
              <p:cNvPr id="298" name="AutoShape 35"/>
              <p:cNvSpPr/>
              <p:nvPr/>
            </p:nvSpPr>
            <p:spPr>
              <a:xfrm>
                <a:off x="7185240" y="3781800"/>
                <a:ext cx="163080" cy="64872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36"/>
              <p:cNvSpPr/>
              <p:nvPr/>
            </p:nvSpPr>
            <p:spPr>
              <a:xfrm>
                <a:off x="7185240" y="3781440"/>
                <a:ext cx="163080" cy="565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37"/>
              <p:cNvSpPr/>
              <p:nvPr/>
            </p:nvSpPr>
            <p:spPr>
              <a:xfrm>
                <a:off x="7189560" y="3883680"/>
                <a:ext cx="163080" cy="561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38"/>
              <p:cNvSpPr/>
              <p:nvPr/>
            </p:nvSpPr>
            <p:spPr>
              <a:xfrm>
                <a:off x="7267320" y="3952440"/>
                <a:ext cx="0" cy="4611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39"/>
              <p:cNvSpPr/>
              <p:nvPr/>
            </p:nvSpPr>
            <p:spPr>
              <a:xfrm>
                <a:off x="7185240" y="4374360"/>
                <a:ext cx="163080" cy="565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0"/>
              <p:cNvSpPr/>
              <p:nvPr/>
            </p:nvSpPr>
            <p:spPr>
              <a:xfrm>
                <a:off x="7288920" y="3947040"/>
                <a:ext cx="0" cy="4611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Freeform 41"/>
            <p:cNvSpPr/>
            <p:nvPr/>
          </p:nvSpPr>
          <p:spPr>
            <a:xfrm>
              <a:off x="6156360" y="3494160"/>
              <a:ext cx="2986920" cy="1945800"/>
            </a:xfrm>
            <a:custGeom>
              <a:avLst/>
              <a:gdLst>
                <a:gd name="textAreaLeft" fmla="*/ 0 w 2986920"/>
                <a:gd name="textAreaRight" fmla="*/ 2987280 w 2986920"/>
                <a:gd name="textAreaTop" fmla="*/ 0 h 1945800"/>
                <a:gd name="textAreaBottom" fmla="*/ 1946160 h 1945800"/>
              </a:gdLst>
              <a:ahLst/>
              <a:rect l="textAreaLeft" t="textAreaTop" r="textAreaRight" b="textAreaBottom"/>
              <a:pathLst>
                <a:path w="1728" h="1248">
                  <a:moveTo>
                    <a:pt x="0" y="1248"/>
                  </a:moveTo>
                  <a:cubicBezTo>
                    <a:pt x="108" y="1124"/>
                    <a:pt x="360" y="712"/>
                    <a:pt x="648" y="504"/>
                  </a:cubicBezTo>
                  <a:cubicBezTo>
                    <a:pt x="936" y="296"/>
                    <a:pt x="1503" y="105"/>
                    <a:pt x="1728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42"/>
            <p:cNvGrpSpPr/>
            <p:nvPr/>
          </p:nvGrpSpPr>
          <p:grpSpPr>
            <a:xfrm>
              <a:off x="9036000" y="3133440"/>
              <a:ext cx="145080" cy="431640"/>
              <a:chOff x="9036000" y="3133440"/>
              <a:chExt cx="145080" cy="431640"/>
            </a:xfrm>
          </p:grpSpPr>
          <p:sp>
            <p:nvSpPr>
              <p:cNvPr id="306" name="AutoShape 43"/>
              <p:cNvSpPr/>
              <p:nvPr/>
            </p:nvSpPr>
            <p:spPr>
              <a:xfrm>
                <a:off x="9036000" y="3133800"/>
                <a:ext cx="141480" cy="43128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44"/>
              <p:cNvSpPr/>
              <p:nvPr/>
            </p:nvSpPr>
            <p:spPr>
              <a:xfrm>
                <a:off x="9036000" y="3133440"/>
                <a:ext cx="141480" cy="374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45"/>
              <p:cNvSpPr/>
              <p:nvPr/>
            </p:nvSpPr>
            <p:spPr>
              <a:xfrm>
                <a:off x="9039600" y="3201480"/>
                <a:ext cx="141480" cy="374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46"/>
              <p:cNvSpPr/>
              <p:nvPr/>
            </p:nvSpPr>
            <p:spPr>
              <a:xfrm>
                <a:off x="9106920" y="3246840"/>
                <a:ext cx="0" cy="30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036000" y="3527640"/>
                <a:ext cx="141480" cy="374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48"/>
              <p:cNvSpPr/>
              <p:nvPr/>
            </p:nvSpPr>
            <p:spPr>
              <a:xfrm>
                <a:off x="9126000" y="3243600"/>
                <a:ext cx="0" cy="30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Line 49"/>
            <p:cNvSpPr/>
            <p:nvPr/>
          </p:nvSpPr>
          <p:spPr>
            <a:xfrm flipV="1">
              <a:off x="325080" y="4286520"/>
              <a:ext cx="70920" cy="111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0"/>
            <p:cNvSpPr/>
            <p:nvPr/>
          </p:nvSpPr>
          <p:spPr>
            <a:xfrm flipV="1">
              <a:off x="469440" y="4430880"/>
              <a:ext cx="0" cy="935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1"/>
            <p:cNvSpPr/>
            <p:nvPr/>
          </p:nvSpPr>
          <p:spPr>
            <a:xfrm flipH="1" flipV="1">
              <a:off x="469080" y="4214880"/>
              <a:ext cx="431640" cy="792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2"/>
            <p:cNvSpPr/>
            <p:nvPr/>
          </p:nvSpPr>
          <p:spPr>
            <a:xfrm flipH="1" flipV="1">
              <a:off x="396360" y="4286160"/>
              <a:ext cx="360000" cy="7210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53"/>
            <p:cNvGrpSpPr/>
            <p:nvPr/>
          </p:nvGrpSpPr>
          <p:grpSpPr>
            <a:xfrm>
              <a:off x="756720" y="3854880"/>
              <a:ext cx="502200" cy="1152720"/>
              <a:chOff x="756720" y="3854880"/>
              <a:chExt cx="502200" cy="1152720"/>
            </a:xfrm>
          </p:grpSpPr>
          <p:sp>
            <p:nvSpPr>
              <p:cNvPr id="317" name="Line 54"/>
              <p:cNvSpPr/>
              <p:nvPr/>
            </p:nvSpPr>
            <p:spPr>
              <a:xfrm flipV="1">
                <a:off x="756720" y="3924000"/>
                <a:ext cx="61920" cy="1083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55"/>
              <p:cNvSpPr/>
              <p:nvPr/>
            </p:nvSpPr>
            <p:spPr>
              <a:xfrm flipV="1">
                <a:off x="882360" y="4064400"/>
                <a:ext cx="0" cy="907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56"/>
              <p:cNvSpPr/>
              <p:nvPr/>
            </p:nvSpPr>
            <p:spPr>
              <a:xfrm flipH="1" flipV="1">
                <a:off x="882000" y="3854880"/>
                <a:ext cx="376920" cy="7689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 flipH="1" flipV="1">
                <a:off x="818280" y="3924000"/>
                <a:ext cx="314280" cy="699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58"/>
            <p:cNvGrpSpPr/>
            <p:nvPr/>
          </p:nvGrpSpPr>
          <p:grpSpPr>
            <a:xfrm>
              <a:off x="1108800" y="3481920"/>
              <a:ext cx="552960" cy="1122120"/>
              <a:chOff x="1108800" y="3481920"/>
              <a:chExt cx="552960" cy="1122120"/>
            </a:xfrm>
          </p:grpSpPr>
          <p:sp>
            <p:nvSpPr>
              <p:cNvPr id="322" name="Line 59"/>
              <p:cNvSpPr/>
              <p:nvPr/>
            </p:nvSpPr>
            <p:spPr>
              <a:xfrm flipV="1">
                <a:off x="1108800" y="3540960"/>
                <a:ext cx="219240" cy="1063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60"/>
              <p:cNvSpPr/>
              <p:nvPr/>
            </p:nvSpPr>
            <p:spPr>
              <a:xfrm flipV="1">
                <a:off x="1238400" y="3689280"/>
                <a:ext cx="132120" cy="898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61"/>
              <p:cNvSpPr/>
              <p:nvPr/>
            </p:nvSpPr>
            <p:spPr>
              <a:xfrm flipH="1" flipV="1">
                <a:off x="1400760" y="3481920"/>
                <a:ext cx="261000" cy="815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62"/>
              <p:cNvSpPr/>
              <p:nvPr/>
            </p:nvSpPr>
            <p:spPr>
              <a:xfrm flipH="1" flipV="1">
                <a:off x="1327680" y="3540960"/>
                <a:ext cx="208800" cy="738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1541160" y="3192120"/>
              <a:ext cx="552600" cy="1122480"/>
              <a:chOff x="1541160" y="3192120"/>
              <a:chExt cx="552600" cy="1122480"/>
            </a:xfrm>
          </p:grpSpPr>
          <p:sp>
            <p:nvSpPr>
              <p:cNvPr id="327" name="Line 64"/>
              <p:cNvSpPr/>
              <p:nvPr/>
            </p:nvSpPr>
            <p:spPr>
              <a:xfrm flipV="1">
                <a:off x="1541160" y="3251160"/>
                <a:ext cx="218880" cy="1063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65"/>
              <p:cNvSpPr/>
              <p:nvPr/>
            </p:nvSpPr>
            <p:spPr>
              <a:xfrm flipV="1">
                <a:off x="1670400" y="3399480"/>
                <a:ext cx="132120" cy="8985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66"/>
              <p:cNvSpPr/>
              <p:nvPr/>
            </p:nvSpPr>
            <p:spPr>
              <a:xfrm flipH="1" flipV="1">
                <a:off x="1832760" y="3192120"/>
                <a:ext cx="261000" cy="816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67"/>
              <p:cNvSpPr/>
              <p:nvPr/>
            </p:nvSpPr>
            <p:spPr>
              <a:xfrm flipH="1" flipV="1">
                <a:off x="1759680" y="3251520"/>
                <a:ext cx="209160" cy="738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68"/>
            <p:cNvGrpSpPr/>
            <p:nvPr/>
          </p:nvGrpSpPr>
          <p:grpSpPr>
            <a:xfrm>
              <a:off x="1971720" y="2908080"/>
              <a:ext cx="482760" cy="1124640"/>
              <a:chOff x="1971720" y="2908080"/>
              <a:chExt cx="482760" cy="1124640"/>
            </a:xfrm>
          </p:grpSpPr>
          <p:sp>
            <p:nvSpPr>
              <p:cNvPr id="332" name="Line 69"/>
              <p:cNvSpPr/>
              <p:nvPr/>
            </p:nvSpPr>
            <p:spPr>
              <a:xfrm flipV="1">
                <a:off x="1971720" y="2968200"/>
                <a:ext cx="210600" cy="10645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0"/>
              <p:cNvSpPr/>
              <p:nvPr/>
            </p:nvSpPr>
            <p:spPr>
              <a:xfrm flipV="1">
                <a:off x="2083680" y="3115080"/>
                <a:ext cx="132480" cy="898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1"/>
              <p:cNvSpPr/>
              <p:nvPr/>
            </p:nvSpPr>
            <p:spPr>
              <a:xfrm flipH="1" flipV="1">
                <a:off x="2246400" y="2908080"/>
                <a:ext cx="208080" cy="8074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72"/>
              <p:cNvSpPr/>
              <p:nvPr/>
            </p:nvSpPr>
            <p:spPr>
              <a:xfrm flipH="1" flipV="1">
                <a:off x="2181960" y="2968200"/>
                <a:ext cx="164880" cy="731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73"/>
            <p:cNvGrpSpPr/>
            <p:nvPr/>
          </p:nvGrpSpPr>
          <p:grpSpPr>
            <a:xfrm>
              <a:off x="2385720" y="2768400"/>
              <a:ext cx="348480" cy="972360"/>
              <a:chOff x="2385720" y="2768400"/>
              <a:chExt cx="348480" cy="972360"/>
            </a:xfrm>
          </p:grpSpPr>
          <p:sp>
            <p:nvSpPr>
              <p:cNvPr id="337" name="Line 74"/>
              <p:cNvSpPr/>
              <p:nvPr/>
            </p:nvSpPr>
            <p:spPr>
              <a:xfrm flipV="1">
                <a:off x="2385720" y="2820240"/>
                <a:ext cx="227880" cy="9205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75"/>
              <p:cNvSpPr/>
              <p:nvPr/>
            </p:nvSpPr>
            <p:spPr>
              <a:xfrm flipV="1">
                <a:off x="2462040" y="2948040"/>
                <a:ext cx="162000" cy="777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76"/>
              <p:cNvSpPr/>
              <p:nvPr/>
            </p:nvSpPr>
            <p:spPr>
              <a:xfrm flipH="1" flipV="1">
                <a:off x="2661480" y="2768400"/>
                <a:ext cx="72720" cy="702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77"/>
              <p:cNvSpPr/>
              <p:nvPr/>
            </p:nvSpPr>
            <p:spPr>
              <a:xfrm flipH="1" flipV="1">
                <a:off x="2613600" y="2820240"/>
                <a:ext cx="50400" cy="636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78"/>
            <p:cNvGrpSpPr/>
            <p:nvPr/>
          </p:nvGrpSpPr>
          <p:grpSpPr>
            <a:xfrm>
              <a:off x="2682720" y="2562120"/>
              <a:ext cx="410760" cy="923760"/>
              <a:chOff x="2682720" y="2562120"/>
              <a:chExt cx="410760" cy="923760"/>
            </a:xfrm>
          </p:grpSpPr>
          <p:sp>
            <p:nvSpPr>
              <p:cNvPr id="342" name="Line 79"/>
              <p:cNvSpPr/>
              <p:nvPr/>
            </p:nvSpPr>
            <p:spPr>
              <a:xfrm flipV="1">
                <a:off x="2682720" y="2606760"/>
                <a:ext cx="356040" cy="879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80"/>
              <p:cNvSpPr/>
              <p:nvPr/>
            </p:nvSpPr>
            <p:spPr>
              <a:xfrm flipV="1">
                <a:off x="2760480" y="2734920"/>
                <a:ext cx="270720" cy="7466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81"/>
              <p:cNvSpPr/>
              <p:nvPr/>
            </p:nvSpPr>
            <p:spPr>
              <a:xfrm flipV="1">
                <a:off x="3066120" y="2562120"/>
                <a:ext cx="27360" cy="705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82"/>
              <p:cNvSpPr/>
              <p:nvPr/>
            </p:nvSpPr>
            <p:spPr>
              <a:xfrm flipV="1">
                <a:off x="2998800" y="2606760"/>
                <a:ext cx="39960" cy="636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83"/>
            <p:cNvGrpSpPr/>
            <p:nvPr/>
          </p:nvGrpSpPr>
          <p:grpSpPr>
            <a:xfrm>
              <a:off x="3008160" y="2346120"/>
              <a:ext cx="410760" cy="923760"/>
              <a:chOff x="3008160" y="2346120"/>
              <a:chExt cx="410760" cy="923760"/>
            </a:xfrm>
          </p:grpSpPr>
          <p:sp>
            <p:nvSpPr>
              <p:cNvPr id="347" name="Line 84"/>
              <p:cNvSpPr/>
              <p:nvPr/>
            </p:nvSpPr>
            <p:spPr>
              <a:xfrm flipV="1">
                <a:off x="3008160" y="2390760"/>
                <a:ext cx="356040" cy="879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85"/>
              <p:cNvSpPr/>
              <p:nvPr/>
            </p:nvSpPr>
            <p:spPr>
              <a:xfrm flipV="1">
                <a:off x="3085920" y="2518920"/>
                <a:ext cx="270720" cy="7466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86"/>
              <p:cNvSpPr/>
              <p:nvPr/>
            </p:nvSpPr>
            <p:spPr>
              <a:xfrm flipV="1">
                <a:off x="3391560" y="2346120"/>
                <a:ext cx="27360" cy="705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87"/>
              <p:cNvSpPr/>
              <p:nvPr/>
            </p:nvSpPr>
            <p:spPr>
              <a:xfrm flipV="1">
                <a:off x="3324240" y="2390760"/>
                <a:ext cx="39960" cy="636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88"/>
            <p:cNvGrpSpPr/>
            <p:nvPr/>
          </p:nvGrpSpPr>
          <p:grpSpPr>
            <a:xfrm>
              <a:off x="3341520" y="2339640"/>
              <a:ext cx="358920" cy="722520"/>
              <a:chOff x="3341520" y="2339640"/>
              <a:chExt cx="358920" cy="722520"/>
            </a:xfrm>
          </p:grpSpPr>
          <p:sp>
            <p:nvSpPr>
              <p:cNvPr id="352" name="Line 89"/>
              <p:cNvSpPr/>
              <p:nvPr/>
            </p:nvSpPr>
            <p:spPr>
              <a:xfrm flipV="1">
                <a:off x="3341520" y="2372400"/>
                <a:ext cx="286920" cy="6886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90"/>
              <p:cNvSpPr/>
              <p:nvPr/>
            </p:nvSpPr>
            <p:spPr>
              <a:xfrm flipV="1">
                <a:off x="3417120" y="2475360"/>
                <a:ext cx="212760" cy="586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91"/>
              <p:cNvSpPr/>
              <p:nvPr/>
            </p:nvSpPr>
            <p:spPr>
              <a:xfrm flipH="1" flipV="1">
                <a:off x="3678480" y="2339640"/>
                <a:ext cx="21960" cy="570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92"/>
              <p:cNvSpPr/>
              <p:nvPr/>
            </p:nvSpPr>
            <p:spPr>
              <a:xfrm flipH="1" flipV="1">
                <a:off x="3628440" y="2372400"/>
                <a:ext cx="4680" cy="513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Freeform 93"/>
            <p:cNvSpPr/>
            <p:nvPr/>
          </p:nvSpPr>
          <p:spPr>
            <a:xfrm>
              <a:off x="3996360" y="1693800"/>
              <a:ext cx="3383640" cy="719640"/>
            </a:xfrm>
            <a:custGeom>
              <a:avLst/>
              <a:gdLst>
                <a:gd name="textAreaLeft" fmla="*/ 0 w 3383640"/>
                <a:gd name="textAreaRight" fmla="*/ 3384000 w 33836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2132" h="453">
                  <a:moveTo>
                    <a:pt x="0" y="453"/>
                  </a:moveTo>
                  <a:cubicBezTo>
                    <a:pt x="152" y="412"/>
                    <a:pt x="560" y="283"/>
                    <a:pt x="915" y="208"/>
                  </a:cubicBezTo>
                  <a:cubicBezTo>
                    <a:pt x="1270" y="133"/>
                    <a:pt x="1879" y="43"/>
                    <a:pt x="2132" y="0"/>
                  </a:cubicBezTo>
                </a:path>
              </a:pathLst>
            </a:custGeom>
            <a:noFill/>
            <a:ln w="34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94"/>
            <p:cNvGrpSpPr/>
            <p:nvPr/>
          </p:nvGrpSpPr>
          <p:grpSpPr>
            <a:xfrm>
              <a:off x="6275880" y="4714920"/>
              <a:ext cx="302760" cy="785880"/>
              <a:chOff x="6275880" y="4714920"/>
              <a:chExt cx="302760" cy="785880"/>
            </a:xfrm>
          </p:grpSpPr>
          <p:sp>
            <p:nvSpPr>
              <p:cNvPr id="358" name="Line 95"/>
              <p:cNvSpPr/>
              <p:nvPr/>
            </p:nvSpPr>
            <p:spPr>
              <a:xfrm flipV="1">
                <a:off x="6275880" y="4759920"/>
                <a:ext cx="83160" cy="740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96"/>
              <p:cNvSpPr/>
              <p:nvPr/>
            </p:nvSpPr>
            <p:spPr>
              <a:xfrm flipV="1">
                <a:off x="6348960" y="4858560"/>
                <a:ext cx="39960" cy="622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97"/>
              <p:cNvSpPr/>
              <p:nvPr/>
            </p:nvSpPr>
            <p:spPr>
              <a:xfrm flipH="1" flipV="1">
                <a:off x="6397920" y="4714920"/>
                <a:ext cx="180720" cy="54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98"/>
              <p:cNvSpPr/>
              <p:nvPr/>
            </p:nvSpPr>
            <p:spPr>
              <a:xfrm flipH="1" flipV="1">
                <a:off x="6359040" y="4760280"/>
                <a:ext cx="147960" cy="491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99"/>
            <p:cNvGrpSpPr/>
            <p:nvPr/>
          </p:nvGrpSpPr>
          <p:grpSpPr>
            <a:xfrm>
              <a:off x="6567120" y="4498920"/>
              <a:ext cx="300960" cy="714600"/>
              <a:chOff x="6567120" y="4498920"/>
              <a:chExt cx="300960" cy="714600"/>
            </a:xfrm>
          </p:grpSpPr>
          <p:sp>
            <p:nvSpPr>
              <p:cNvPr id="363" name="Line 100"/>
              <p:cNvSpPr/>
              <p:nvPr/>
            </p:nvSpPr>
            <p:spPr>
              <a:xfrm flipV="1">
                <a:off x="6567120" y="4539600"/>
                <a:ext cx="78480" cy="67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01"/>
              <p:cNvSpPr/>
              <p:nvPr/>
            </p:nvSpPr>
            <p:spPr>
              <a:xfrm flipV="1">
                <a:off x="6639840" y="4629600"/>
                <a:ext cx="36360" cy="566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02"/>
              <p:cNvSpPr/>
              <p:nvPr/>
            </p:nvSpPr>
            <p:spPr>
              <a:xfrm flipH="1" flipV="1">
                <a:off x="6684120" y="4498920"/>
                <a:ext cx="183960" cy="49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03"/>
              <p:cNvSpPr/>
              <p:nvPr/>
            </p:nvSpPr>
            <p:spPr>
              <a:xfrm flipH="1" flipV="1">
                <a:off x="6645600" y="4539960"/>
                <a:ext cx="150840" cy="448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04"/>
            <p:cNvGrpSpPr/>
            <p:nvPr/>
          </p:nvGrpSpPr>
          <p:grpSpPr>
            <a:xfrm>
              <a:off x="6806520" y="4206240"/>
              <a:ext cx="329760" cy="691200"/>
              <a:chOff x="6806520" y="4206240"/>
              <a:chExt cx="329760" cy="691200"/>
            </a:xfrm>
          </p:grpSpPr>
          <p:sp>
            <p:nvSpPr>
              <p:cNvPr id="368" name="Line 105"/>
              <p:cNvSpPr/>
              <p:nvPr/>
            </p:nvSpPr>
            <p:spPr>
              <a:xfrm flipV="1">
                <a:off x="6806520" y="4240800"/>
                <a:ext cx="172800" cy="6566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06"/>
              <p:cNvSpPr/>
              <p:nvPr/>
            </p:nvSpPr>
            <p:spPr>
              <a:xfrm flipV="1">
                <a:off x="6881400" y="4334400"/>
                <a:ext cx="115560" cy="5554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7"/>
              <p:cNvSpPr/>
              <p:nvPr/>
            </p:nvSpPr>
            <p:spPr>
              <a:xfrm flipH="1" flipV="1">
                <a:off x="7023600" y="4206240"/>
                <a:ext cx="112680" cy="514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08"/>
              <p:cNvSpPr/>
              <p:nvPr/>
            </p:nvSpPr>
            <p:spPr>
              <a:xfrm flipH="1" flipV="1">
                <a:off x="6978960" y="4241160"/>
                <a:ext cx="86760" cy="465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Freeform 109"/>
            <p:cNvSpPr/>
            <p:nvPr/>
          </p:nvSpPr>
          <p:spPr>
            <a:xfrm>
              <a:off x="7380000" y="3494160"/>
              <a:ext cx="1655640" cy="64800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132" h="453">
                  <a:moveTo>
                    <a:pt x="0" y="453"/>
                  </a:moveTo>
                  <a:cubicBezTo>
                    <a:pt x="152" y="412"/>
                    <a:pt x="560" y="283"/>
                    <a:pt x="915" y="208"/>
                  </a:cubicBezTo>
                  <a:cubicBezTo>
                    <a:pt x="1270" y="133"/>
                    <a:pt x="1879" y="43"/>
                    <a:pt x="2132" y="0"/>
                  </a:cubicBezTo>
                </a:path>
              </a:pathLst>
            </a:custGeom>
            <a:noFill/>
            <a:ln w="34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1477440" y="1795680"/>
              <a:ext cx="7721640" cy="3571200"/>
            </a:xfrm>
            <a:custGeom>
              <a:avLst/>
              <a:gdLst>
                <a:gd name="textAreaLeft" fmla="*/ 0 w 7721640"/>
                <a:gd name="textAreaRight" fmla="*/ 7721640 w 7721640"/>
                <a:gd name="textAreaTop" fmla="*/ 0 h 3571200"/>
                <a:gd name="textAreaBottom" fmla="*/ 3571560 h 3571200"/>
              </a:gdLst>
              <a:ahLst/>
              <a:rect l="textAreaLeft" t="textAreaTop" r="textAreaRight" b="textAreaBottom"/>
              <a:pathLst>
                <a:path w="4865" h="2248">
                  <a:moveTo>
                    <a:pt x="0" y="2248"/>
                  </a:moveTo>
                  <a:cubicBezTo>
                    <a:pt x="252" y="2038"/>
                    <a:pt x="963" y="1307"/>
                    <a:pt x="1514" y="990"/>
                  </a:cubicBezTo>
                  <a:cubicBezTo>
                    <a:pt x="2065" y="673"/>
                    <a:pt x="2748" y="509"/>
                    <a:pt x="3306" y="344"/>
                  </a:cubicBezTo>
                  <a:cubicBezTo>
                    <a:pt x="3864" y="179"/>
                    <a:pt x="4540" y="72"/>
                    <a:pt x="4865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11"/>
            <p:cNvGrpSpPr/>
            <p:nvPr/>
          </p:nvGrpSpPr>
          <p:grpSpPr>
            <a:xfrm>
              <a:off x="7467480" y="1526760"/>
              <a:ext cx="293760" cy="263160"/>
              <a:chOff x="7467480" y="1526760"/>
              <a:chExt cx="293760" cy="263160"/>
            </a:xfrm>
          </p:grpSpPr>
          <p:sp>
            <p:nvSpPr>
              <p:cNvPr id="375" name="Line 112"/>
              <p:cNvSpPr/>
              <p:nvPr/>
            </p:nvSpPr>
            <p:spPr>
              <a:xfrm flipV="1">
                <a:off x="7467480" y="1530360"/>
                <a:ext cx="124920" cy="244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13"/>
              <p:cNvSpPr/>
              <p:nvPr/>
            </p:nvSpPr>
            <p:spPr>
              <a:xfrm flipV="1">
                <a:off x="7535880" y="157608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14"/>
              <p:cNvSpPr/>
              <p:nvPr/>
            </p:nvSpPr>
            <p:spPr>
              <a:xfrm flipH="1" flipV="1">
                <a:off x="7631280" y="1526760"/>
                <a:ext cx="129960" cy="252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15"/>
              <p:cNvSpPr/>
              <p:nvPr/>
            </p:nvSpPr>
            <p:spPr>
              <a:xfrm flipH="1" flipV="1">
                <a:off x="7592400" y="1530360"/>
                <a:ext cx="103320" cy="22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116"/>
            <p:cNvGrpSpPr/>
            <p:nvPr/>
          </p:nvGrpSpPr>
          <p:grpSpPr>
            <a:xfrm>
              <a:off x="7720200" y="1510560"/>
              <a:ext cx="292680" cy="263520"/>
              <a:chOff x="7720200" y="1510560"/>
              <a:chExt cx="292680" cy="263520"/>
            </a:xfrm>
          </p:grpSpPr>
          <p:sp>
            <p:nvSpPr>
              <p:cNvPr id="380" name="Line 117"/>
              <p:cNvSpPr/>
              <p:nvPr/>
            </p:nvSpPr>
            <p:spPr>
              <a:xfrm flipV="1">
                <a:off x="7720200" y="1514520"/>
                <a:ext cx="124920" cy="244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18"/>
              <p:cNvSpPr/>
              <p:nvPr/>
            </p:nvSpPr>
            <p:spPr>
              <a:xfrm flipV="1">
                <a:off x="7788240" y="156024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19"/>
              <p:cNvSpPr/>
              <p:nvPr/>
            </p:nvSpPr>
            <p:spPr>
              <a:xfrm flipH="1" flipV="1">
                <a:off x="7883280" y="1510560"/>
                <a:ext cx="129600" cy="252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20"/>
              <p:cNvSpPr/>
              <p:nvPr/>
            </p:nvSpPr>
            <p:spPr>
              <a:xfrm flipH="1" flipV="1">
                <a:off x="7844760" y="1514520"/>
                <a:ext cx="102960" cy="22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21"/>
            <p:cNvGrpSpPr/>
            <p:nvPr/>
          </p:nvGrpSpPr>
          <p:grpSpPr>
            <a:xfrm>
              <a:off x="7981920" y="1476000"/>
              <a:ext cx="235080" cy="263520"/>
              <a:chOff x="7981920" y="1476000"/>
              <a:chExt cx="235080" cy="263520"/>
            </a:xfrm>
          </p:grpSpPr>
          <p:sp>
            <p:nvSpPr>
              <p:cNvPr id="385" name="Line 122"/>
              <p:cNvSpPr/>
              <p:nvPr/>
            </p:nvSpPr>
            <p:spPr>
              <a:xfrm flipV="1">
                <a:off x="7981920" y="1483200"/>
                <a:ext cx="117720" cy="246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23"/>
              <p:cNvSpPr/>
              <p:nvPr/>
            </p:nvSpPr>
            <p:spPr>
              <a:xfrm flipV="1">
                <a:off x="8035560" y="152568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24"/>
              <p:cNvSpPr/>
              <p:nvPr/>
            </p:nvSpPr>
            <p:spPr>
              <a:xfrm flipH="1" flipV="1">
                <a:off x="8130960" y="1476000"/>
                <a:ext cx="86040" cy="236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25"/>
              <p:cNvSpPr/>
              <p:nvPr/>
            </p:nvSpPr>
            <p:spPr>
              <a:xfrm flipH="1" flipV="1">
                <a:off x="8099640" y="1483200"/>
                <a:ext cx="66960" cy="210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126"/>
            <p:cNvGrpSpPr/>
            <p:nvPr/>
          </p:nvGrpSpPr>
          <p:grpSpPr>
            <a:xfrm>
              <a:off x="8152200" y="1463040"/>
              <a:ext cx="293760" cy="261720"/>
              <a:chOff x="8152200" y="1463040"/>
              <a:chExt cx="293760" cy="261720"/>
            </a:xfrm>
          </p:grpSpPr>
          <p:sp>
            <p:nvSpPr>
              <p:cNvPr id="390" name="Line 127"/>
              <p:cNvSpPr/>
              <p:nvPr/>
            </p:nvSpPr>
            <p:spPr>
              <a:xfrm flipV="1">
                <a:off x="8152200" y="1467000"/>
                <a:ext cx="124200" cy="242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28"/>
              <p:cNvSpPr/>
              <p:nvPr/>
            </p:nvSpPr>
            <p:spPr>
              <a:xfrm flipV="1">
                <a:off x="8220600" y="1512360"/>
                <a:ext cx="77040" cy="212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129"/>
              <p:cNvSpPr/>
              <p:nvPr/>
            </p:nvSpPr>
            <p:spPr>
              <a:xfrm flipH="1" flipV="1">
                <a:off x="8315280" y="1463040"/>
                <a:ext cx="130680" cy="25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30"/>
              <p:cNvSpPr/>
              <p:nvPr/>
            </p:nvSpPr>
            <p:spPr>
              <a:xfrm flipH="1" flipV="1">
                <a:off x="8276400" y="1467000"/>
                <a:ext cx="10404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1"/>
            <p:cNvGrpSpPr/>
            <p:nvPr/>
          </p:nvGrpSpPr>
          <p:grpSpPr>
            <a:xfrm>
              <a:off x="8729280" y="1387800"/>
              <a:ext cx="285840" cy="207360"/>
              <a:chOff x="8729280" y="1387800"/>
              <a:chExt cx="285840" cy="207360"/>
            </a:xfrm>
          </p:grpSpPr>
          <p:sp>
            <p:nvSpPr>
              <p:cNvPr id="395" name="Line 132"/>
              <p:cNvSpPr/>
              <p:nvPr/>
            </p:nvSpPr>
            <p:spPr>
              <a:xfrm flipV="1">
                <a:off x="8729280" y="1388160"/>
                <a:ext cx="101880" cy="1807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33"/>
              <p:cNvSpPr/>
              <p:nvPr/>
            </p:nvSpPr>
            <p:spPr>
              <a:xfrm flipV="1">
                <a:off x="8796960" y="1425240"/>
                <a:ext cx="58320" cy="16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34"/>
              <p:cNvSpPr/>
              <p:nvPr/>
            </p:nvSpPr>
            <p:spPr>
              <a:xfrm flipH="1" flipV="1">
                <a:off x="8868960" y="1387800"/>
                <a:ext cx="146160" cy="207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35"/>
              <p:cNvSpPr/>
              <p:nvPr/>
            </p:nvSpPr>
            <p:spPr>
              <a:xfrm flipH="1" flipV="1">
                <a:off x="8831160" y="1387800"/>
                <a:ext cx="118080" cy="18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36"/>
            <p:cNvGrpSpPr/>
            <p:nvPr/>
          </p:nvGrpSpPr>
          <p:grpSpPr>
            <a:xfrm>
              <a:off x="8430120" y="1389960"/>
              <a:ext cx="292680" cy="261720"/>
              <a:chOff x="8430120" y="1389960"/>
              <a:chExt cx="292680" cy="261720"/>
            </a:xfrm>
          </p:grpSpPr>
          <p:sp>
            <p:nvSpPr>
              <p:cNvPr id="400" name="Line 137"/>
              <p:cNvSpPr/>
              <p:nvPr/>
            </p:nvSpPr>
            <p:spPr>
              <a:xfrm flipV="1">
                <a:off x="8430120" y="1393920"/>
                <a:ext cx="124200" cy="242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38"/>
              <p:cNvSpPr/>
              <p:nvPr/>
            </p:nvSpPr>
            <p:spPr>
              <a:xfrm flipV="1">
                <a:off x="8498160" y="1438920"/>
                <a:ext cx="77040" cy="21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39"/>
              <p:cNvSpPr/>
              <p:nvPr/>
            </p:nvSpPr>
            <p:spPr>
              <a:xfrm flipH="1" flipV="1">
                <a:off x="8592840" y="1389960"/>
                <a:ext cx="129960" cy="250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140"/>
              <p:cNvSpPr/>
              <p:nvPr/>
            </p:nvSpPr>
            <p:spPr>
              <a:xfrm flipH="1" flipV="1">
                <a:off x="8553960" y="1393920"/>
                <a:ext cx="103680" cy="222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141"/>
            <p:cNvSpPr/>
            <p:nvPr/>
          </p:nvSpPr>
          <p:spPr>
            <a:xfrm rot="18798000">
              <a:off x="3123000" y="5430240"/>
              <a:ext cx="792360" cy="8352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42"/>
            <p:cNvSpPr/>
            <p:nvPr/>
          </p:nvSpPr>
          <p:spPr>
            <a:xfrm rot="19422600">
              <a:off x="4276800" y="4408920"/>
              <a:ext cx="718920" cy="7128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43"/>
            <p:cNvSpPr/>
            <p:nvPr/>
          </p:nvSpPr>
          <p:spPr>
            <a:xfrm rot="19765800">
              <a:off x="5508720" y="3709440"/>
              <a:ext cx="433080" cy="7164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44"/>
            <p:cNvSpPr/>
            <p:nvPr/>
          </p:nvSpPr>
          <p:spPr>
            <a:xfrm rot="20064600">
              <a:off x="6797520" y="3133440"/>
              <a:ext cx="366480" cy="7128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5"/>
            <p:cNvSpPr/>
            <p:nvPr/>
          </p:nvSpPr>
          <p:spPr>
            <a:xfrm rot="20512200">
              <a:off x="7949520" y="2773800"/>
              <a:ext cx="366480" cy="7128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146"/>
          <p:cNvSpPr/>
          <p:nvPr/>
        </p:nvSpPr>
        <p:spPr>
          <a:xfrm>
            <a:off x="108000" y="1689120"/>
            <a:ext cx="4524480" cy="2739960"/>
          </a:xfrm>
          <a:custGeom>
            <a:avLst/>
            <a:gdLst>
              <a:gd name="textAreaLeft" fmla="*/ 0 w 4524480"/>
              <a:gd name="textAreaRight" fmla="*/ 4524840 w 452448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2850" h="1726">
                <a:moveTo>
                  <a:pt x="116" y="336"/>
                </a:moveTo>
                <a:cubicBezTo>
                  <a:pt x="154" y="221"/>
                  <a:pt x="234" y="204"/>
                  <a:pt x="324" y="144"/>
                </a:cubicBezTo>
                <a:cubicBezTo>
                  <a:pt x="368" y="148"/>
                  <a:pt x="413" y="144"/>
                  <a:pt x="452" y="168"/>
                </a:cubicBezTo>
                <a:cubicBezTo>
                  <a:pt x="469" y="179"/>
                  <a:pt x="497" y="221"/>
                  <a:pt x="508" y="232"/>
                </a:cubicBezTo>
                <a:cubicBezTo>
                  <a:pt x="552" y="276"/>
                  <a:pt x="584" y="301"/>
                  <a:pt x="636" y="336"/>
                </a:cubicBezTo>
                <a:cubicBezTo>
                  <a:pt x="711" y="286"/>
                  <a:pt x="618" y="355"/>
                  <a:pt x="668" y="296"/>
                </a:cubicBezTo>
                <a:cubicBezTo>
                  <a:pt x="668" y="296"/>
                  <a:pt x="768" y="196"/>
                  <a:pt x="788" y="176"/>
                </a:cubicBezTo>
                <a:cubicBezTo>
                  <a:pt x="832" y="132"/>
                  <a:pt x="806" y="149"/>
                  <a:pt x="868" y="128"/>
                </a:cubicBezTo>
                <a:cubicBezTo>
                  <a:pt x="876" y="125"/>
                  <a:pt x="892" y="120"/>
                  <a:pt x="892" y="120"/>
                </a:cubicBezTo>
                <a:cubicBezTo>
                  <a:pt x="914" y="138"/>
                  <a:pt x="933" y="159"/>
                  <a:pt x="956" y="176"/>
                </a:cubicBezTo>
                <a:cubicBezTo>
                  <a:pt x="979" y="193"/>
                  <a:pt x="1028" y="224"/>
                  <a:pt x="1028" y="224"/>
                </a:cubicBezTo>
                <a:cubicBezTo>
                  <a:pt x="1039" y="240"/>
                  <a:pt x="1049" y="256"/>
                  <a:pt x="1060" y="272"/>
                </a:cubicBezTo>
                <a:cubicBezTo>
                  <a:pt x="1065" y="280"/>
                  <a:pt x="1076" y="296"/>
                  <a:pt x="1076" y="296"/>
                </a:cubicBezTo>
                <a:cubicBezTo>
                  <a:pt x="1089" y="288"/>
                  <a:pt x="1106" y="284"/>
                  <a:pt x="1116" y="272"/>
                </a:cubicBezTo>
                <a:cubicBezTo>
                  <a:pt x="1167" y="213"/>
                  <a:pt x="1100" y="243"/>
                  <a:pt x="1156" y="224"/>
                </a:cubicBezTo>
                <a:cubicBezTo>
                  <a:pt x="1208" y="185"/>
                  <a:pt x="1231" y="182"/>
                  <a:pt x="1292" y="160"/>
                </a:cubicBezTo>
                <a:cubicBezTo>
                  <a:pt x="1308" y="154"/>
                  <a:pt x="1340" y="144"/>
                  <a:pt x="1340" y="144"/>
                </a:cubicBezTo>
                <a:cubicBezTo>
                  <a:pt x="1435" y="155"/>
                  <a:pt x="1397" y="150"/>
                  <a:pt x="1460" y="192"/>
                </a:cubicBezTo>
                <a:cubicBezTo>
                  <a:pt x="1466" y="211"/>
                  <a:pt x="1466" y="228"/>
                  <a:pt x="1492" y="232"/>
                </a:cubicBezTo>
                <a:cubicBezTo>
                  <a:pt x="1507" y="235"/>
                  <a:pt x="1530" y="213"/>
                  <a:pt x="1540" y="208"/>
                </a:cubicBezTo>
                <a:cubicBezTo>
                  <a:pt x="1569" y="194"/>
                  <a:pt x="1599" y="181"/>
                  <a:pt x="1628" y="168"/>
                </a:cubicBezTo>
                <a:cubicBezTo>
                  <a:pt x="1655" y="156"/>
                  <a:pt x="1708" y="128"/>
                  <a:pt x="1708" y="128"/>
                </a:cubicBezTo>
                <a:cubicBezTo>
                  <a:pt x="1738" y="88"/>
                  <a:pt x="1754" y="93"/>
                  <a:pt x="1788" y="64"/>
                </a:cubicBezTo>
                <a:cubicBezTo>
                  <a:pt x="1815" y="42"/>
                  <a:pt x="1806" y="39"/>
                  <a:pt x="1836" y="24"/>
                </a:cubicBezTo>
                <a:cubicBezTo>
                  <a:pt x="1860" y="12"/>
                  <a:pt x="1890" y="9"/>
                  <a:pt x="1916" y="0"/>
                </a:cubicBezTo>
                <a:cubicBezTo>
                  <a:pt x="2005" y="22"/>
                  <a:pt x="2033" y="40"/>
                  <a:pt x="2100" y="96"/>
                </a:cubicBezTo>
                <a:cubicBezTo>
                  <a:pt x="2109" y="103"/>
                  <a:pt x="2115" y="113"/>
                  <a:pt x="2124" y="120"/>
                </a:cubicBezTo>
                <a:cubicBezTo>
                  <a:pt x="2139" y="132"/>
                  <a:pt x="2172" y="152"/>
                  <a:pt x="2172" y="152"/>
                </a:cubicBezTo>
                <a:cubicBezTo>
                  <a:pt x="2215" y="143"/>
                  <a:pt x="2228" y="140"/>
                  <a:pt x="2252" y="104"/>
                </a:cubicBezTo>
                <a:cubicBezTo>
                  <a:pt x="2304" y="113"/>
                  <a:pt x="2372" y="120"/>
                  <a:pt x="2420" y="144"/>
                </a:cubicBezTo>
                <a:cubicBezTo>
                  <a:pt x="2433" y="151"/>
                  <a:pt x="2502" y="191"/>
                  <a:pt x="2516" y="192"/>
                </a:cubicBezTo>
                <a:cubicBezTo>
                  <a:pt x="2596" y="197"/>
                  <a:pt x="2850" y="156"/>
                  <a:pt x="2756" y="192"/>
                </a:cubicBezTo>
                <a:lnTo>
                  <a:pt x="1497" y="637"/>
                </a:lnTo>
                <a:lnTo>
                  <a:pt x="1361" y="728"/>
                </a:lnTo>
                <a:lnTo>
                  <a:pt x="1088" y="864"/>
                </a:lnTo>
                <a:lnTo>
                  <a:pt x="0" y="1726"/>
                </a:lnTo>
                <a:lnTo>
                  <a:pt x="0" y="365"/>
                </a:lnTo>
                <a:lnTo>
                  <a:pt x="116" y="336"/>
                </a:lnTo>
                <a:close/>
              </a:path>
            </a:pathLst>
          </a:custGeom>
          <a:solidFill>
            <a:srgbClr val="bbe0e3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47"/>
          <p:cNvSpPr/>
          <p:nvPr/>
        </p:nvSpPr>
        <p:spPr>
          <a:xfrm>
            <a:off x="2484360" y="828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48"/>
          <p:cNvGrpSpPr/>
          <p:nvPr/>
        </p:nvGrpSpPr>
        <p:grpSpPr>
          <a:xfrm>
            <a:off x="2687040" y="4304880"/>
            <a:ext cx="1647360" cy="1046880"/>
            <a:chOff x="2687040" y="4304880"/>
            <a:chExt cx="1647360" cy="1046880"/>
          </a:xfrm>
        </p:grpSpPr>
        <p:grpSp>
          <p:nvGrpSpPr>
            <p:cNvPr id="412" name="Group 149"/>
            <p:cNvGrpSpPr/>
            <p:nvPr/>
          </p:nvGrpSpPr>
          <p:grpSpPr>
            <a:xfrm>
              <a:off x="2687040" y="4304880"/>
              <a:ext cx="1647360" cy="1046880"/>
              <a:chOff x="2687040" y="4304880"/>
              <a:chExt cx="1647360" cy="1046880"/>
            </a:xfrm>
          </p:grpSpPr>
          <p:sp>
            <p:nvSpPr>
              <p:cNvPr id="413" name="Freeform 150"/>
              <p:cNvSpPr/>
              <p:nvPr/>
            </p:nvSpPr>
            <p:spPr>
              <a:xfrm rot="20506200">
                <a:off x="2741400" y="4530600"/>
                <a:ext cx="1538280" cy="59544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1526" h="589">
                    <a:moveTo>
                      <a:pt x="528" y="453"/>
                    </a:moveTo>
                    <a:lnTo>
                      <a:pt x="392" y="317"/>
                    </a:lnTo>
                    <a:lnTo>
                      <a:pt x="120" y="317"/>
                    </a:lnTo>
                    <a:lnTo>
                      <a:pt x="0" y="284"/>
                    </a:lnTo>
                    <a:lnTo>
                      <a:pt x="392" y="272"/>
                    </a:lnTo>
                    <a:lnTo>
                      <a:pt x="392" y="226"/>
                    </a:lnTo>
                    <a:cubicBezTo>
                      <a:pt x="389" y="221"/>
                      <a:pt x="384" y="216"/>
                      <a:pt x="383" y="210"/>
                    </a:cubicBezTo>
                    <a:cubicBezTo>
                      <a:pt x="382" y="206"/>
                      <a:pt x="383" y="199"/>
                      <a:pt x="387" y="198"/>
                    </a:cubicBezTo>
                    <a:cubicBezTo>
                      <a:pt x="392" y="197"/>
                      <a:pt x="398" y="201"/>
                      <a:pt x="399" y="206"/>
                    </a:cubicBezTo>
                    <a:cubicBezTo>
                      <a:pt x="403" y="227"/>
                      <a:pt x="399" y="249"/>
                      <a:pt x="399" y="270"/>
                    </a:cubicBezTo>
                    <a:cubicBezTo>
                      <a:pt x="423" y="254"/>
                      <a:pt x="452" y="263"/>
                      <a:pt x="479" y="254"/>
                    </a:cubicBezTo>
                    <a:cubicBezTo>
                      <a:pt x="527" y="257"/>
                      <a:pt x="532" y="263"/>
                      <a:pt x="571" y="270"/>
                    </a:cubicBezTo>
                    <a:cubicBezTo>
                      <a:pt x="610" y="269"/>
                      <a:pt x="648" y="269"/>
                      <a:pt x="687" y="266"/>
                    </a:cubicBezTo>
                    <a:cubicBezTo>
                      <a:pt x="695" y="265"/>
                      <a:pt x="711" y="258"/>
                      <a:pt x="711" y="258"/>
                    </a:cubicBezTo>
                    <a:cubicBezTo>
                      <a:pt x="753" y="196"/>
                      <a:pt x="797" y="221"/>
                      <a:pt x="887" y="218"/>
                    </a:cubicBezTo>
                    <a:cubicBezTo>
                      <a:pt x="895" y="193"/>
                      <a:pt x="909" y="146"/>
                      <a:pt x="939" y="142"/>
                    </a:cubicBezTo>
                    <a:cubicBezTo>
                      <a:pt x="958" y="140"/>
                      <a:pt x="976" y="139"/>
                      <a:pt x="995" y="138"/>
                    </a:cubicBezTo>
                    <a:cubicBezTo>
                      <a:pt x="1031" y="129"/>
                      <a:pt x="1073" y="159"/>
                      <a:pt x="1095" y="126"/>
                    </a:cubicBezTo>
                    <a:cubicBezTo>
                      <a:pt x="1093" y="116"/>
                      <a:pt x="1150" y="77"/>
                      <a:pt x="1109" y="64"/>
                    </a:cubicBezTo>
                    <a:lnTo>
                      <a:pt x="845" y="35"/>
                    </a:lnTo>
                    <a:lnTo>
                      <a:pt x="936" y="0"/>
                    </a:lnTo>
                    <a:lnTo>
                      <a:pt x="1254" y="45"/>
                    </a:lnTo>
                    <a:lnTo>
                      <a:pt x="1526" y="226"/>
                    </a:lnTo>
                    <a:lnTo>
                      <a:pt x="1526" y="317"/>
                    </a:lnTo>
                    <a:lnTo>
                      <a:pt x="1299" y="317"/>
                    </a:lnTo>
                    <a:cubicBezTo>
                      <a:pt x="1269" y="347"/>
                      <a:pt x="1161" y="496"/>
                      <a:pt x="1123" y="496"/>
                    </a:cubicBezTo>
                    <a:lnTo>
                      <a:pt x="1037" y="270"/>
                    </a:lnTo>
                    <a:lnTo>
                      <a:pt x="891" y="408"/>
                    </a:lnTo>
                    <a:lnTo>
                      <a:pt x="864" y="491"/>
                    </a:lnTo>
                    <a:lnTo>
                      <a:pt x="755" y="589"/>
                    </a:lnTo>
                    <a:lnTo>
                      <a:pt x="573" y="499"/>
                    </a:lnTo>
                    <a:lnTo>
                      <a:pt x="528" y="453"/>
                    </a:lnTo>
                    <a:close/>
                  </a:path>
                </a:pathLst>
              </a:cu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151"/>
              <p:cNvSpPr/>
              <p:nvPr/>
            </p:nvSpPr>
            <p:spPr>
              <a:xfrm rot="15106200">
                <a:off x="3520800" y="486828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52"/>
            <p:cNvGrpSpPr/>
            <p:nvPr/>
          </p:nvGrpSpPr>
          <p:grpSpPr>
            <a:xfrm>
              <a:off x="2832840" y="4329360"/>
              <a:ext cx="1484640" cy="1013400"/>
              <a:chOff x="2832840" y="4329360"/>
              <a:chExt cx="1484640" cy="1013400"/>
            </a:xfrm>
          </p:grpSpPr>
          <p:sp>
            <p:nvSpPr>
              <p:cNvPr id="416" name="AutoShape 153"/>
              <p:cNvSpPr/>
              <p:nvPr/>
            </p:nvSpPr>
            <p:spPr>
              <a:xfrm rot="1795800">
                <a:off x="3166920" y="4991040"/>
                <a:ext cx="45720" cy="190440"/>
              </a:xfrm>
              <a:custGeom>
                <a:avLst/>
                <a:gdLst>
                  <a:gd name="textAreaLeft" fmla="*/ 9360 w 45720"/>
                  <a:gd name="textAreaRight" fmla="*/ 36360 w 45720"/>
                  <a:gd name="textAreaTop" fmla="*/ 39600 h 190440"/>
                  <a:gd name="textAreaBottom" fmla="*/ 150840 h 19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154"/>
              <p:cNvSpPr/>
              <p:nvPr/>
            </p:nvSpPr>
            <p:spPr>
              <a:xfrm rot="18839400">
                <a:off x="4068000" y="4602960"/>
                <a:ext cx="23760" cy="228600"/>
              </a:xfrm>
              <a:custGeom>
                <a:avLst/>
                <a:gdLst>
                  <a:gd name="textAreaLeft" fmla="*/ 1440 w 23760"/>
                  <a:gd name="textAreaRight" fmla="*/ 22320 w 23760"/>
                  <a:gd name="textAreaTop" fmla="*/ 19080 h 228600"/>
                  <a:gd name="textAreaBottom" fmla="*/ 2098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5"/>
              <p:cNvSpPr/>
              <p:nvPr/>
            </p:nvSpPr>
            <p:spPr>
              <a:xfrm rot="20369400">
                <a:off x="2952720" y="4992480"/>
                <a:ext cx="182520" cy="2286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156"/>
              <p:cNvGrpSpPr/>
              <p:nvPr/>
            </p:nvGrpSpPr>
            <p:grpSpPr>
              <a:xfrm>
                <a:off x="3168000" y="4329360"/>
                <a:ext cx="941040" cy="754200"/>
                <a:chOff x="3168000" y="4329360"/>
                <a:chExt cx="941040" cy="754200"/>
              </a:xfrm>
            </p:grpSpPr>
            <p:sp>
              <p:nvSpPr>
                <p:cNvPr id="420" name="AutoShape 157"/>
                <p:cNvSpPr/>
                <p:nvPr/>
              </p:nvSpPr>
              <p:spPr>
                <a:xfrm rot="7848000">
                  <a:off x="4019760" y="4625280"/>
                  <a:ext cx="45000" cy="137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58"/>
                <p:cNvSpPr/>
                <p:nvPr/>
              </p:nvSpPr>
              <p:spPr>
                <a:xfrm rot="19978800">
                  <a:off x="3514320" y="4441680"/>
                  <a:ext cx="549000" cy="227880"/>
                </a:xfrm>
                <a:custGeom>
                  <a:avLst/>
                  <a:gdLst>
                    <a:gd name="textAreaLeft" fmla="*/ 0 w 549000"/>
                    <a:gd name="textAreaRight" fmla="*/ 549360 w 54900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159"/>
                <p:cNvSpPr/>
                <p:nvPr/>
              </p:nvSpPr>
              <p:spPr>
                <a:xfrm rot="14578800">
                  <a:off x="3528360" y="4807080"/>
                  <a:ext cx="45360" cy="183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160"/>
                <p:cNvSpPr/>
                <p:nvPr/>
              </p:nvSpPr>
              <p:spPr>
                <a:xfrm rot="14578800">
                  <a:off x="3467160" y="4797360"/>
                  <a:ext cx="45000" cy="365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61"/>
                <p:cNvSpPr/>
                <p:nvPr/>
              </p:nvSpPr>
              <p:spPr>
                <a:xfrm rot="19978800">
                  <a:off x="3156120" y="4821840"/>
                  <a:ext cx="537840" cy="78480"/>
                </a:xfrm>
                <a:custGeom>
                  <a:avLst/>
                  <a:gdLst>
                    <a:gd name="textAreaLeft" fmla="*/ 0 w 537840"/>
                    <a:gd name="textAreaRight" fmla="*/ 538200 w 537840"/>
                    <a:gd name="textAreaTop" fmla="*/ 0 h 78480"/>
                    <a:gd name="textAreaBottom" fmla="*/ 78480 h 7848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162"/>
                <p:cNvSpPr/>
                <p:nvPr/>
              </p:nvSpPr>
              <p:spPr>
                <a:xfrm rot="19978800">
                  <a:off x="3556080" y="4446000"/>
                  <a:ext cx="273960" cy="4500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45000"/>
                    <a:gd name="textAreaBottom" fmla="*/ 45000 h 4500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Freeform 163"/>
              <p:cNvSpPr/>
              <p:nvPr/>
            </p:nvSpPr>
            <p:spPr>
              <a:xfrm rot="20390400">
                <a:off x="2842920" y="4779720"/>
                <a:ext cx="1463760" cy="320760"/>
              </a:xfrm>
              <a:custGeom>
                <a:avLst/>
                <a:gdLst>
                  <a:gd name="textAreaLeft" fmla="*/ 0 w 1463760"/>
                  <a:gd name="textAreaRight" fmla="*/ 1463760 w 146376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164"/>
              <p:cNvGrpSpPr/>
              <p:nvPr/>
            </p:nvGrpSpPr>
            <p:grpSpPr>
              <a:xfrm>
                <a:off x="3159360" y="4434480"/>
                <a:ext cx="758880" cy="713160"/>
                <a:chOff x="3159360" y="4434480"/>
                <a:chExt cx="758880" cy="713160"/>
              </a:xfrm>
            </p:grpSpPr>
            <p:sp>
              <p:nvSpPr>
                <p:cNvPr id="428" name="Freeform 165"/>
                <p:cNvSpPr/>
                <p:nvPr/>
              </p:nvSpPr>
              <p:spPr>
                <a:xfrm rot="20298600">
                  <a:off x="3224880" y="4572000"/>
                  <a:ext cx="627120" cy="476640"/>
                </a:xfrm>
                <a:custGeom>
                  <a:avLst/>
                  <a:gdLst>
                    <a:gd name="textAreaLeft" fmla="*/ 0 w 627120"/>
                    <a:gd name="textAreaRight" fmla="*/ 627480 w 627120"/>
                    <a:gd name="textAreaTop" fmla="*/ 0 h 476640"/>
                    <a:gd name="textAreaBottom" fmla="*/ 477000 h 476640"/>
                  </a:gdLst>
                  <a:ahLst/>
                  <a:rect l="textAreaLeft" t="textAreaTop" r="textAreaRight" b="textAreaBottom"/>
                  <a:pathLst>
                    <a:path w="515" h="391">
                      <a:moveTo>
                        <a:pt x="162" y="127"/>
                      </a:moveTo>
                      <a:cubicBezTo>
                        <a:pt x="156" y="149"/>
                        <a:pt x="150" y="171"/>
                        <a:pt x="144" y="193"/>
                      </a:cubicBezTo>
                      <a:cubicBezTo>
                        <a:pt x="148" y="199"/>
                        <a:pt x="150" y="207"/>
                        <a:pt x="156" y="211"/>
                      </a:cubicBezTo>
                      <a:cubicBezTo>
                        <a:pt x="160" y="213"/>
                        <a:pt x="220" y="238"/>
                        <a:pt x="228" y="241"/>
                      </a:cubicBezTo>
                      <a:cubicBezTo>
                        <a:pt x="240" y="277"/>
                        <a:pt x="240" y="270"/>
                        <a:pt x="228" y="331"/>
                      </a:cubicBezTo>
                      <a:cubicBezTo>
                        <a:pt x="224" y="350"/>
                        <a:pt x="180" y="361"/>
                        <a:pt x="180" y="361"/>
                      </a:cubicBezTo>
                      <a:cubicBezTo>
                        <a:pt x="162" y="387"/>
                        <a:pt x="142" y="382"/>
                        <a:pt x="114" y="391"/>
                      </a:cubicBezTo>
                      <a:cubicBezTo>
                        <a:pt x="79" y="379"/>
                        <a:pt x="69" y="389"/>
                        <a:pt x="84" y="355"/>
                      </a:cubicBezTo>
                      <a:cubicBezTo>
                        <a:pt x="90" y="341"/>
                        <a:pt x="100" y="331"/>
                        <a:pt x="114" y="325"/>
                      </a:cubicBezTo>
                      <a:cubicBezTo>
                        <a:pt x="126" y="320"/>
                        <a:pt x="150" y="313"/>
                        <a:pt x="150" y="313"/>
                      </a:cubicBezTo>
                      <a:cubicBezTo>
                        <a:pt x="134" y="264"/>
                        <a:pt x="128" y="277"/>
                        <a:pt x="66" y="271"/>
                      </a:cubicBezTo>
                      <a:cubicBezTo>
                        <a:pt x="43" y="263"/>
                        <a:pt x="41" y="249"/>
                        <a:pt x="18" y="241"/>
                      </a:cubicBezTo>
                      <a:cubicBezTo>
                        <a:pt x="0" y="188"/>
                        <a:pt x="12" y="150"/>
                        <a:pt x="30" y="97"/>
                      </a:cubicBezTo>
                      <a:cubicBezTo>
                        <a:pt x="34" y="85"/>
                        <a:pt x="54" y="89"/>
                        <a:pt x="66" y="85"/>
                      </a:cubicBezTo>
                      <a:cubicBezTo>
                        <a:pt x="82" y="80"/>
                        <a:pt x="106" y="76"/>
                        <a:pt x="120" y="67"/>
                      </a:cubicBezTo>
                      <a:cubicBezTo>
                        <a:pt x="132" y="59"/>
                        <a:pt x="156" y="43"/>
                        <a:pt x="156" y="43"/>
                      </a:cubicBezTo>
                      <a:cubicBezTo>
                        <a:pt x="160" y="37"/>
                        <a:pt x="163" y="30"/>
                        <a:pt x="168" y="25"/>
                      </a:cubicBezTo>
                      <a:cubicBezTo>
                        <a:pt x="179" y="16"/>
                        <a:pt x="204" y="1"/>
                        <a:pt x="204" y="1"/>
                      </a:cubicBezTo>
                      <a:cubicBezTo>
                        <a:pt x="222" y="3"/>
                        <a:pt x="241" y="0"/>
                        <a:pt x="258" y="7"/>
                      </a:cubicBezTo>
                      <a:cubicBezTo>
                        <a:pt x="264" y="9"/>
                        <a:pt x="260" y="21"/>
                        <a:pt x="264" y="25"/>
                      </a:cubicBezTo>
                      <a:cubicBezTo>
                        <a:pt x="268" y="29"/>
                        <a:pt x="276" y="29"/>
                        <a:pt x="282" y="31"/>
                      </a:cubicBezTo>
                      <a:cubicBezTo>
                        <a:pt x="284" y="37"/>
                        <a:pt x="288" y="43"/>
                        <a:pt x="288" y="49"/>
                      </a:cubicBezTo>
                      <a:cubicBezTo>
                        <a:pt x="288" y="57"/>
                        <a:pt x="274" y="72"/>
                        <a:pt x="282" y="73"/>
                      </a:cubicBezTo>
                      <a:cubicBezTo>
                        <a:pt x="346" y="79"/>
                        <a:pt x="410" y="69"/>
                        <a:pt x="474" y="67"/>
                      </a:cubicBezTo>
                      <a:cubicBezTo>
                        <a:pt x="515" y="81"/>
                        <a:pt x="492" y="105"/>
                        <a:pt x="468" y="121"/>
                      </a:cubicBezTo>
                      <a:cubicBezTo>
                        <a:pt x="397" y="118"/>
                        <a:pt x="327" y="106"/>
                        <a:pt x="258" y="115"/>
                      </a:cubicBezTo>
                      <a:cubicBezTo>
                        <a:pt x="210" y="131"/>
                        <a:pt x="234" y="125"/>
                        <a:pt x="186" y="133"/>
                      </a:cubicBezTo>
                      <a:cubicBezTo>
                        <a:pt x="163" y="149"/>
                        <a:pt x="170" y="152"/>
                        <a:pt x="162" y="127"/>
                      </a:cubicBezTo>
                      <a:close/>
                    </a:path>
                  </a:pathLst>
                </a:custGeom>
                <a:solidFill>
                  <a:srgbClr val="808080">
                    <a:alpha val="5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166"/>
                <p:cNvSpPr/>
                <p:nvPr/>
              </p:nvSpPr>
              <p:spPr>
                <a:xfrm rot="20298600">
                  <a:off x="3399480" y="4458960"/>
                  <a:ext cx="165600" cy="165600"/>
                </a:xfrm>
                <a:prstGeom prst="ellipse">
                  <a:avLst/>
                </a:prstGeom>
                <a:solidFill>
                  <a:srgbClr val="bbe0e3">
                    <a:alpha val="2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67"/>
                <p:cNvSpPr/>
                <p:nvPr/>
              </p:nvSpPr>
              <p:spPr>
                <a:xfrm rot="20298600">
                  <a:off x="3418200" y="5051160"/>
                  <a:ext cx="125280" cy="6084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81" h="49">
                      <a:moveTo>
                        <a:pt x="54" y="0"/>
                      </a:moveTo>
                      <a:cubicBezTo>
                        <a:pt x="77" y="15"/>
                        <a:pt x="81" y="22"/>
                        <a:pt x="72" y="48"/>
                      </a:cubicBezTo>
                      <a:cubicBezTo>
                        <a:pt x="33" y="43"/>
                        <a:pt x="12" y="49"/>
                        <a:pt x="0" y="12"/>
                      </a:cubicBezTo>
                      <a:cubicBezTo>
                        <a:pt x="30" y="2"/>
                        <a:pt x="12" y="7"/>
                        <a:pt x="54" y="0"/>
                      </a:cubicBezTo>
                      <a:close/>
                    </a:path>
                  </a:pathLst>
                </a:custGeom>
                <a:solidFill>
                  <a:srgbClr val="808080">
                    <a:alpha val="39000"/>
                  </a:srgbClr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1" name="Group 168"/>
          <p:cNvGrpSpPr/>
          <p:nvPr/>
        </p:nvGrpSpPr>
        <p:grpSpPr>
          <a:xfrm>
            <a:off x="3964320" y="4580280"/>
            <a:ext cx="496440" cy="496080"/>
            <a:chOff x="3964320" y="4580280"/>
            <a:chExt cx="496440" cy="496080"/>
          </a:xfrm>
        </p:grpSpPr>
        <p:sp>
          <p:nvSpPr>
            <p:cNvPr id="432" name="Oval 169"/>
            <p:cNvSpPr/>
            <p:nvPr/>
          </p:nvSpPr>
          <p:spPr>
            <a:xfrm rot="19908600">
              <a:off x="4185360" y="480348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70"/>
            <p:cNvSpPr/>
            <p:nvPr/>
          </p:nvSpPr>
          <p:spPr>
            <a:xfrm rot="19908600">
              <a:off x="4029120" y="464472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171"/>
            <p:cNvSpPr/>
            <p:nvPr/>
          </p:nvSpPr>
          <p:spPr>
            <a:xfrm flipH="1" rot="19908600">
              <a:off x="4160520" y="469296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72"/>
            <p:cNvSpPr/>
            <p:nvPr/>
          </p:nvSpPr>
          <p:spPr>
            <a:xfrm flipH="1" rot="6658200">
              <a:off x="4270320" y="478872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73"/>
            <p:cNvSpPr/>
            <p:nvPr/>
          </p:nvSpPr>
          <p:spPr>
            <a:xfrm flipH="1" rot="15087000">
              <a:off x="4122360" y="47775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174"/>
            <p:cNvSpPr/>
            <p:nvPr/>
          </p:nvSpPr>
          <p:spPr>
            <a:xfrm flipH="1" rot="11644200">
              <a:off x="4182480" y="48294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75"/>
            <p:cNvSpPr/>
            <p:nvPr/>
          </p:nvSpPr>
          <p:spPr>
            <a:xfrm flipH="1" rot="2681400">
              <a:off x="4251960" y="47041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76"/>
            <p:cNvSpPr/>
            <p:nvPr/>
          </p:nvSpPr>
          <p:spPr>
            <a:xfrm rot="19908600">
              <a:off x="4038480" y="465372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177"/>
          <p:cNvGrpSpPr/>
          <p:nvPr/>
        </p:nvGrpSpPr>
        <p:grpSpPr>
          <a:xfrm>
            <a:off x="2922840" y="5011920"/>
            <a:ext cx="496800" cy="496440"/>
            <a:chOff x="2922840" y="5011920"/>
            <a:chExt cx="496800" cy="496440"/>
          </a:xfrm>
        </p:grpSpPr>
        <p:sp>
          <p:nvSpPr>
            <p:cNvPr id="441" name="Oval 178"/>
            <p:cNvSpPr/>
            <p:nvPr/>
          </p:nvSpPr>
          <p:spPr>
            <a:xfrm rot="19908600">
              <a:off x="3144240" y="523548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79"/>
            <p:cNvSpPr/>
            <p:nvPr/>
          </p:nvSpPr>
          <p:spPr>
            <a:xfrm rot="19908600">
              <a:off x="2987640" y="507636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80"/>
            <p:cNvSpPr/>
            <p:nvPr/>
          </p:nvSpPr>
          <p:spPr>
            <a:xfrm flipH="1" rot="19908600">
              <a:off x="3118680" y="51246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81"/>
            <p:cNvSpPr/>
            <p:nvPr/>
          </p:nvSpPr>
          <p:spPr>
            <a:xfrm flipH="1" rot="6658200">
              <a:off x="3229200" y="522036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82"/>
            <p:cNvSpPr/>
            <p:nvPr/>
          </p:nvSpPr>
          <p:spPr>
            <a:xfrm flipH="1" rot="15087000">
              <a:off x="3080880" y="52092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83"/>
            <p:cNvSpPr/>
            <p:nvPr/>
          </p:nvSpPr>
          <p:spPr>
            <a:xfrm flipH="1" rot="11644200">
              <a:off x="3141360" y="52614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84"/>
            <p:cNvSpPr/>
            <p:nvPr/>
          </p:nvSpPr>
          <p:spPr>
            <a:xfrm flipH="1" rot="2681400">
              <a:off x="3210480" y="51361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5"/>
            <p:cNvSpPr/>
            <p:nvPr/>
          </p:nvSpPr>
          <p:spPr>
            <a:xfrm rot="19908600">
              <a:off x="2997360" y="508500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6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76471E-006 C 0.05729 -0.05735 0.23386 -0.2697 0.34358 -0.34382 C 0.4533 -0.41794 0.59323 -0.42382 0.65886 -0.445 E">
                                      <p:cBhvr>
                                        <p:cTn id="262" dur="15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47059E-006 C 0.10955 -0.11911 0.21909 -0.23793 0.33073 -0.30676 C 0.44236 -0.37558 0.5559 -0.3947 0.66944 -0.41352 E">
                                      <p:cBhvr>
                                        <p:cTn id="264" dur="15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76471E-006 C 0.05122 -0.045 0.19896 -0.21 0.30747 -0.27088 C 0.41597 -0.33176 0.57899 -0.34529 0.65052 -0.365 E">
                                      <p:cBhvr>
                                        <p:cTn id="266" dur="1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Line 2"/>
          <p:cNvSpPr/>
          <p:nvPr/>
        </p:nvSpPr>
        <p:spPr>
          <a:xfrm flipV="1">
            <a:off x="9144000" y="998640"/>
            <a:ext cx="0" cy="1815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451" name="Text Box 4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Freeform 7"/>
          <p:cNvSpPr/>
          <p:nvPr/>
        </p:nvSpPr>
        <p:spPr>
          <a:xfrm>
            <a:off x="-7307280" y="1258920"/>
            <a:ext cx="8999640" cy="3168720"/>
          </a:xfrm>
          <a:custGeom>
            <a:avLst/>
            <a:gdLst>
              <a:gd name="textAreaLeft" fmla="*/ 0 w 8999640"/>
              <a:gd name="textAreaRight" fmla="*/ 9000000 w 89996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5670" h="1996">
                <a:moveTo>
                  <a:pt x="0" y="1996"/>
                </a:moveTo>
                <a:cubicBezTo>
                  <a:pt x="593" y="1482"/>
                  <a:pt x="1187" y="968"/>
                  <a:pt x="2132" y="635"/>
                </a:cubicBezTo>
                <a:cubicBezTo>
                  <a:pt x="3077" y="302"/>
                  <a:pt x="4373" y="151"/>
                  <a:pt x="5670" y="0"/>
                </a:cubicBezTo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8"/>
          <p:cNvSpPr/>
          <p:nvPr/>
        </p:nvSpPr>
        <p:spPr>
          <a:xfrm>
            <a:off x="-7072200" y="1488960"/>
            <a:ext cx="8773920" cy="3861000"/>
          </a:xfrm>
          <a:custGeom>
            <a:avLst/>
            <a:gdLst>
              <a:gd name="textAreaLeft" fmla="*/ 0 w 8773920"/>
              <a:gd name="textAreaRight" fmla="*/ 8774280 w 877392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5528" h="2432">
                <a:moveTo>
                  <a:pt x="0" y="2432"/>
                </a:moveTo>
                <a:cubicBezTo>
                  <a:pt x="301" y="2199"/>
                  <a:pt x="1227" y="1372"/>
                  <a:pt x="1808" y="1032"/>
                </a:cubicBezTo>
                <a:cubicBezTo>
                  <a:pt x="2389" y="692"/>
                  <a:pt x="2868" y="564"/>
                  <a:pt x="3488" y="392"/>
                </a:cubicBezTo>
                <a:cubicBezTo>
                  <a:pt x="4108" y="220"/>
                  <a:pt x="5103" y="82"/>
                  <a:pt x="5528" y="0"/>
                </a:cubicBezTo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9"/>
          <p:cNvGrpSpPr/>
          <p:nvPr/>
        </p:nvGrpSpPr>
        <p:grpSpPr>
          <a:xfrm>
            <a:off x="-28440" y="1258920"/>
            <a:ext cx="1626840" cy="504720"/>
            <a:chOff x="-28440" y="1258920"/>
            <a:chExt cx="1626840" cy="504720"/>
          </a:xfrm>
        </p:grpSpPr>
        <p:grpSp>
          <p:nvGrpSpPr>
            <p:cNvPr id="457" name="Group 10"/>
            <p:cNvGrpSpPr/>
            <p:nvPr/>
          </p:nvGrpSpPr>
          <p:grpSpPr>
            <a:xfrm>
              <a:off x="-28440" y="1258920"/>
              <a:ext cx="109440" cy="504720"/>
              <a:chOff x="-28440" y="1258920"/>
              <a:chExt cx="109440" cy="504720"/>
            </a:xfrm>
          </p:grpSpPr>
          <p:sp>
            <p:nvSpPr>
              <p:cNvPr id="458" name="AutoShape 11"/>
              <p:cNvSpPr/>
              <p:nvPr/>
            </p:nvSpPr>
            <p:spPr>
              <a:xfrm>
                <a:off x="-28440" y="1259280"/>
                <a:ext cx="106200" cy="50436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12"/>
              <p:cNvSpPr/>
              <p:nvPr/>
            </p:nvSpPr>
            <p:spPr>
              <a:xfrm>
                <a:off x="-28440" y="125892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3"/>
              <p:cNvSpPr/>
              <p:nvPr/>
            </p:nvSpPr>
            <p:spPr>
              <a:xfrm>
                <a:off x="-25200" y="1338480"/>
                <a:ext cx="106200" cy="435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4"/>
              <p:cNvSpPr/>
              <p:nvPr/>
            </p:nvSpPr>
            <p:spPr>
              <a:xfrm>
                <a:off x="24840" y="1391760"/>
                <a:ext cx="0" cy="358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5"/>
              <p:cNvSpPr/>
              <p:nvPr/>
            </p:nvSpPr>
            <p:spPr>
              <a:xfrm>
                <a:off x="-28440" y="171972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6"/>
              <p:cNvSpPr/>
              <p:nvPr/>
            </p:nvSpPr>
            <p:spPr>
              <a:xfrm>
                <a:off x="38880" y="1387440"/>
                <a:ext cx="0" cy="358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17"/>
            <p:cNvGrpSpPr/>
            <p:nvPr/>
          </p:nvGrpSpPr>
          <p:grpSpPr>
            <a:xfrm>
              <a:off x="52560" y="1453320"/>
              <a:ext cx="292680" cy="263520"/>
              <a:chOff x="52560" y="1453320"/>
              <a:chExt cx="292680" cy="263520"/>
            </a:xfrm>
          </p:grpSpPr>
          <p:sp>
            <p:nvSpPr>
              <p:cNvPr id="465" name="Line 18"/>
              <p:cNvSpPr/>
              <p:nvPr/>
            </p:nvSpPr>
            <p:spPr>
              <a:xfrm flipV="1">
                <a:off x="52560" y="1457280"/>
                <a:ext cx="124920" cy="244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9"/>
              <p:cNvSpPr/>
              <p:nvPr/>
            </p:nvSpPr>
            <p:spPr>
              <a:xfrm flipV="1">
                <a:off x="120600" y="150300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"/>
              <p:cNvSpPr/>
              <p:nvPr/>
            </p:nvSpPr>
            <p:spPr>
              <a:xfrm flipH="1" flipV="1">
                <a:off x="215640" y="1453320"/>
                <a:ext cx="129600" cy="252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1"/>
              <p:cNvSpPr/>
              <p:nvPr/>
            </p:nvSpPr>
            <p:spPr>
              <a:xfrm flipH="1" flipV="1">
                <a:off x="177120" y="1457280"/>
                <a:ext cx="102960" cy="22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22"/>
            <p:cNvGrpSpPr/>
            <p:nvPr/>
          </p:nvGrpSpPr>
          <p:grpSpPr>
            <a:xfrm>
              <a:off x="304560" y="1437480"/>
              <a:ext cx="292680" cy="263520"/>
              <a:chOff x="304560" y="1437480"/>
              <a:chExt cx="292680" cy="263520"/>
            </a:xfrm>
          </p:grpSpPr>
          <p:sp>
            <p:nvSpPr>
              <p:cNvPr id="470" name="Line 23"/>
              <p:cNvSpPr/>
              <p:nvPr/>
            </p:nvSpPr>
            <p:spPr>
              <a:xfrm flipV="1">
                <a:off x="304560" y="1441440"/>
                <a:ext cx="124920" cy="244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4"/>
              <p:cNvSpPr/>
              <p:nvPr/>
            </p:nvSpPr>
            <p:spPr>
              <a:xfrm flipV="1">
                <a:off x="372600" y="148716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25"/>
              <p:cNvSpPr/>
              <p:nvPr/>
            </p:nvSpPr>
            <p:spPr>
              <a:xfrm flipH="1" flipV="1">
                <a:off x="467640" y="1437480"/>
                <a:ext cx="129600" cy="252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26"/>
              <p:cNvSpPr/>
              <p:nvPr/>
            </p:nvSpPr>
            <p:spPr>
              <a:xfrm flipH="1" flipV="1">
                <a:off x="429120" y="1441440"/>
                <a:ext cx="102960" cy="22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27"/>
            <p:cNvGrpSpPr/>
            <p:nvPr/>
          </p:nvGrpSpPr>
          <p:grpSpPr>
            <a:xfrm>
              <a:off x="566280" y="1402920"/>
              <a:ext cx="235080" cy="263520"/>
              <a:chOff x="566280" y="1402920"/>
              <a:chExt cx="235080" cy="263520"/>
            </a:xfrm>
          </p:grpSpPr>
          <p:sp>
            <p:nvSpPr>
              <p:cNvPr id="475" name="Line 28"/>
              <p:cNvSpPr/>
              <p:nvPr/>
            </p:nvSpPr>
            <p:spPr>
              <a:xfrm flipV="1">
                <a:off x="566280" y="1410120"/>
                <a:ext cx="117720" cy="246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29"/>
              <p:cNvSpPr/>
              <p:nvPr/>
            </p:nvSpPr>
            <p:spPr>
              <a:xfrm flipV="1">
                <a:off x="619920" y="145260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30"/>
              <p:cNvSpPr/>
              <p:nvPr/>
            </p:nvSpPr>
            <p:spPr>
              <a:xfrm flipH="1" flipV="1">
                <a:off x="715320" y="1402920"/>
                <a:ext cx="86040" cy="236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31"/>
              <p:cNvSpPr/>
              <p:nvPr/>
            </p:nvSpPr>
            <p:spPr>
              <a:xfrm flipH="1" flipV="1">
                <a:off x="684000" y="1410120"/>
                <a:ext cx="66960" cy="210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2"/>
            <p:cNvGrpSpPr/>
            <p:nvPr/>
          </p:nvGrpSpPr>
          <p:grpSpPr>
            <a:xfrm>
              <a:off x="736200" y="1389960"/>
              <a:ext cx="293760" cy="261720"/>
              <a:chOff x="736200" y="1389960"/>
              <a:chExt cx="293760" cy="261720"/>
            </a:xfrm>
          </p:grpSpPr>
          <p:sp>
            <p:nvSpPr>
              <p:cNvPr id="480" name="Line 33"/>
              <p:cNvSpPr/>
              <p:nvPr/>
            </p:nvSpPr>
            <p:spPr>
              <a:xfrm flipV="1">
                <a:off x="736200" y="1393920"/>
                <a:ext cx="124200" cy="242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34"/>
              <p:cNvSpPr/>
              <p:nvPr/>
            </p:nvSpPr>
            <p:spPr>
              <a:xfrm flipV="1">
                <a:off x="804600" y="1439280"/>
                <a:ext cx="77040" cy="212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35"/>
              <p:cNvSpPr/>
              <p:nvPr/>
            </p:nvSpPr>
            <p:spPr>
              <a:xfrm flipH="1" flipV="1">
                <a:off x="899280" y="1389960"/>
                <a:ext cx="130680" cy="25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36"/>
              <p:cNvSpPr/>
              <p:nvPr/>
            </p:nvSpPr>
            <p:spPr>
              <a:xfrm flipH="1" flipV="1">
                <a:off x="860400" y="1393920"/>
                <a:ext cx="10404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37"/>
            <p:cNvGrpSpPr/>
            <p:nvPr/>
          </p:nvGrpSpPr>
          <p:grpSpPr>
            <a:xfrm>
              <a:off x="1312560" y="1314720"/>
              <a:ext cx="285840" cy="207360"/>
              <a:chOff x="1312560" y="1314720"/>
              <a:chExt cx="285840" cy="207360"/>
            </a:xfrm>
          </p:grpSpPr>
          <p:sp>
            <p:nvSpPr>
              <p:cNvPr id="485" name="Line 38"/>
              <p:cNvSpPr/>
              <p:nvPr/>
            </p:nvSpPr>
            <p:spPr>
              <a:xfrm flipV="1">
                <a:off x="1312560" y="1315080"/>
                <a:ext cx="101880" cy="1807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39"/>
              <p:cNvSpPr/>
              <p:nvPr/>
            </p:nvSpPr>
            <p:spPr>
              <a:xfrm flipV="1">
                <a:off x="1380240" y="1352160"/>
                <a:ext cx="58320" cy="16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40"/>
              <p:cNvSpPr/>
              <p:nvPr/>
            </p:nvSpPr>
            <p:spPr>
              <a:xfrm flipH="1" flipV="1">
                <a:off x="1452240" y="1314720"/>
                <a:ext cx="146160" cy="207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41"/>
              <p:cNvSpPr/>
              <p:nvPr/>
            </p:nvSpPr>
            <p:spPr>
              <a:xfrm flipH="1" flipV="1">
                <a:off x="1414440" y="1314720"/>
                <a:ext cx="118080" cy="18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42"/>
            <p:cNvGrpSpPr/>
            <p:nvPr/>
          </p:nvGrpSpPr>
          <p:grpSpPr>
            <a:xfrm>
              <a:off x="1013760" y="1316880"/>
              <a:ext cx="293760" cy="261720"/>
              <a:chOff x="1013760" y="1316880"/>
              <a:chExt cx="293760" cy="261720"/>
            </a:xfrm>
          </p:grpSpPr>
          <p:sp>
            <p:nvSpPr>
              <p:cNvPr id="490" name="Line 43"/>
              <p:cNvSpPr/>
              <p:nvPr/>
            </p:nvSpPr>
            <p:spPr>
              <a:xfrm flipV="1">
                <a:off x="1013760" y="1320840"/>
                <a:ext cx="124200" cy="242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44"/>
              <p:cNvSpPr/>
              <p:nvPr/>
            </p:nvSpPr>
            <p:spPr>
              <a:xfrm flipV="1">
                <a:off x="1082160" y="1366200"/>
                <a:ext cx="77040" cy="212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45"/>
              <p:cNvSpPr/>
              <p:nvPr/>
            </p:nvSpPr>
            <p:spPr>
              <a:xfrm flipH="1" flipV="1">
                <a:off x="1176840" y="1316880"/>
                <a:ext cx="130680" cy="25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46"/>
              <p:cNvSpPr/>
              <p:nvPr/>
            </p:nvSpPr>
            <p:spPr>
              <a:xfrm flipH="1" flipV="1">
                <a:off x="1137960" y="1320840"/>
                <a:ext cx="10404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47"/>
          <p:cNvGrpSpPr/>
          <p:nvPr/>
        </p:nvGrpSpPr>
        <p:grpSpPr>
          <a:xfrm>
            <a:off x="-63720" y="2585520"/>
            <a:ext cx="1648080" cy="668520"/>
            <a:chOff x="-63720" y="2585520"/>
            <a:chExt cx="1648080" cy="668520"/>
          </a:xfrm>
        </p:grpSpPr>
        <p:grpSp>
          <p:nvGrpSpPr>
            <p:cNvPr id="495" name="Group 48"/>
            <p:cNvGrpSpPr/>
            <p:nvPr/>
          </p:nvGrpSpPr>
          <p:grpSpPr>
            <a:xfrm>
              <a:off x="-63720" y="2738880"/>
              <a:ext cx="181440" cy="515160"/>
              <a:chOff x="-63720" y="2738880"/>
              <a:chExt cx="181440" cy="515160"/>
            </a:xfrm>
          </p:grpSpPr>
          <p:sp>
            <p:nvSpPr>
              <p:cNvPr id="496" name="AutoShape 49"/>
              <p:cNvSpPr/>
              <p:nvPr/>
            </p:nvSpPr>
            <p:spPr>
              <a:xfrm rot="21076800">
                <a:off x="-25920" y="2744280"/>
                <a:ext cx="106200" cy="50436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50"/>
              <p:cNvSpPr/>
              <p:nvPr/>
            </p:nvSpPr>
            <p:spPr>
              <a:xfrm rot="21076800">
                <a:off x="-60840" y="274644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51"/>
              <p:cNvSpPr/>
              <p:nvPr/>
            </p:nvSpPr>
            <p:spPr>
              <a:xfrm rot="21076800">
                <a:off x="-45360" y="2824560"/>
                <a:ext cx="106200" cy="435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52"/>
              <p:cNvSpPr/>
              <p:nvPr/>
            </p:nvSpPr>
            <p:spPr>
              <a:xfrm>
                <a:off x="9000" y="2878200"/>
                <a:ext cx="54360" cy="3542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53"/>
              <p:cNvSpPr/>
              <p:nvPr/>
            </p:nvSpPr>
            <p:spPr>
              <a:xfrm rot="21076800">
                <a:off x="8640" y="320184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54"/>
              <p:cNvSpPr/>
              <p:nvPr/>
            </p:nvSpPr>
            <p:spPr>
              <a:xfrm>
                <a:off x="22320" y="2872080"/>
                <a:ext cx="54360" cy="353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55"/>
            <p:cNvGrpSpPr/>
            <p:nvPr/>
          </p:nvGrpSpPr>
          <p:grpSpPr>
            <a:xfrm>
              <a:off x="83520" y="2910240"/>
              <a:ext cx="289800" cy="274680"/>
              <a:chOff x="83520" y="2910240"/>
              <a:chExt cx="289800" cy="274680"/>
            </a:xfrm>
          </p:grpSpPr>
          <p:sp>
            <p:nvSpPr>
              <p:cNvPr id="503" name="Line 56"/>
              <p:cNvSpPr/>
              <p:nvPr/>
            </p:nvSpPr>
            <p:spPr>
              <a:xfrm flipV="1">
                <a:off x="83520" y="2919960"/>
                <a:ext cx="86400" cy="259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57"/>
              <p:cNvSpPr/>
              <p:nvPr/>
            </p:nvSpPr>
            <p:spPr>
              <a:xfrm flipV="1">
                <a:off x="153000" y="2961720"/>
                <a:ext cx="4428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58"/>
              <p:cNvSpPr/>
              <p:nvPr/>
            </p:nvSpPr>
            <p:spPr>
              <a:xfrm flipH="1" flipV="1">
                <a:off x="207000" y="2910240"/>
                <a:ext cx="166320" cy="2296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59"/>
              <p:cNvSpPr/>
              <p:nvPr/>
            </p:nvSpPr>
            <p:spPr>
              <a:xfrm flipH="1" flipV="1">
                <a:off x="169560" y="2919960"/>
                <a:ext cx="135720" cy="2055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60"/>
            <p:cNvGrpSpPr/>
            <p:nvPr/>
          </p:nvGrpSpPr>
          <p:grpSpPr>
            <a:xfrm>
              <a:off x="330480" y="2856240"/>
              <a:ext cx="289800" cy="275040"/>
              <a:chOff x="330480" y="2856240"/>
              <a:chExt cx="289800" cy="275040"/>
            </a:xfrm>
          </p:grpSpPr>
          <p:sp>
            <p:nvSpPr>
              <p:cNvPr id="508" name="Line 61"/>
              <p:cNvSpPr/>
              <p:nvPr/>
            </p:nvSpPr>
            <p:spPr>
              <a:xfrm flipV="1">
                <a:off x="330480" y="2866320"/>
                <a:ext cx="86040" cy="259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62"/>
              <p:cNvSpPr/>
              <p:nvPr/>
            </p:nvSpPr>
            <p:spPr>
              <a:xfrm flipV="1">
                <a:off x="399960" y="2908080"/>
                <a:ext cx="4392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63"/>
              <p:cNvSpPr/>
              <p:nvPr/>
            </p:nvSpPr>
            <p:spPr>
              <a:xfrm flipH="1" flipV="1">
                <a:off x="453960" y="2856240"/>
                <a:ext cx="166320" cy="2296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64"/>
              <p:cNvSpPr/>
              <p:nvPr/>
            </p:nvSpPr>
            <p:spPr>
              <a:xfrm flipH="1" flipV="1">
                <a:off x="416160" y="2865960"/>
                <a:ext cx="136080" cy="205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65"/>
            <p:cNvGrpSpPr/>
            <p:nvPr/>
          </p:nvGrpSpPr>
          <p:grpSpPr>
            <a:xfrm>
              <a:off x="584640" y="2784600"/>
              <a:ext cx="229320" cy="275040"/>
              <a:chOff x="584640" y="2784600"/>
              <a:chExt cx="229320" cy="275040"/>
            </a:xfrm>
          </p:grpSpPr>
          <p:sp>
            <p:nvSpPr>
              <p:cNvPr id="513" name="Line 66"/>
              <p:cNvSpPr/>
              <p:nvPr/>
            </p:nvSpPr>
            <p:spPr>
              <a:xfrm flipV="1">
                <a:off x="584640" y="2796840"/>
                <a:ext cx="78840" cy="261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67"/>
              <p:cNvSpPr/>
              <p:nvPr/>
            </p:nvSpPr>
            <p:spPr>
              <a:xfrm flipV="1">
                <a:off x="639000" y="2836440"/>
                <a:ext cx="4392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68"/>
              <p:cNvSpPr/>
              <p:nvPr/>
            </p:nvSpPr>
            <p:spPr>
              <a:xfrm flipH="1" flipV="1">
                <a:off x="693360" y="2784600"/>
                <a:ext cx="120600" cy="2203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69"/>
              <p:cNvSpPr/>
              <p:nvPr/>
            </p:nvSpPr>
            <p:spPr>
              <a:xfrm flipH="1" flipV="1">
                <a:off x="663480" y="2796480"/>
                <a:ext cx="97920" cy="198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70"/>
            <p:cNvGrpSpPr/>
            <p:nvPr/>
          </p:nvGrpSpPr>
          <p:grpSpPr>
            <a:xfrm>
              <a:off x="749520" y="2743920"/>
              <a:ext cx="290880" cy="273240"/>
              <a:chOff x="749520" y="2743920"/>
              <a:chExt cx="290880" cy="273240"/>
            </a:xfrm>
          </p:grpSpPr>
          <p:sp>
            <p:nvSpPr>
              <p:cNvPr id="518" name="Line 71"/>
              <p:cNvSpPr/>
              <p:nvPr/>
            </p:nvSpPr>
            <p:spPr>
              <a:xfrm flipV="1">
                <a:off x="749520" y="2754000"/>
                <a:ext cx="86040" cy="258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72"/>
              <p:cNvSpPr/>
              <p:nvPr/>
            </p:nvSpPr>
            <p:spPr>
              <a:xfrm flipV="1">
                <a:off x="819360" y="2795400"/>
                <a:ext cx="43920" cy="221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73"/>
              <p:cNvSpPr/>
              <p:nvPr/>
            </p:nvSpPr>
            <p:spPr>
              <a:xfrm flipH="1" flipV="1">
                <a:off x="873360" y="2743920"/>
                <a:ext cx="167040" cy="228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74"/>
              <p:cNvSpPr/>
              <p:nvPr/>
            </p:nvSpPr>
            <p:spPr>
              <a:xfrm flipH="1" flipV="1">
                <a:off x="835560" y="2754000"/>
                <a:ext cx="136440" cy="2044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75"/>
            <p:cNvGrpSpPr/>
            <p:nvPr/>
          </p:nvGrpSpPr>
          <p:grpSpPr>
            <a:xfrm>
              <a:off x="1297800" y="2585520"/>
              <a:ext cx="286560" cy="207360"/>
              <a:chOff x="1297800" y="2585520"/>
              <a:chExt cx="286560" cy="207360"/>
            </a:xfrm>
          </p:grpSpPr>
          <p:sp>
            <p:nvSpPr>
              <p:cNvPr id="523" name="Line 76"/>
              <p:cNvSpPr/>
              <p:nvPr/>
            </p:nvSpPr>
            <p:spPr>
              <a:xfrm flipV="1">
                <a:off x="1297800" y="2592000"/>
                <a:ext cx="73080" cy="1936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77"/>
              <p:cNvSpPr/>
              <p:nvPr/>
            </p:nvSpPr>
            <p:spPr>
              <a:xfrm flipV="1">
                <a:off x="1367280" y="2624760"/>
                <a:ext cx="33120" cy="168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78"/>
              <p:cNvSpPr/>
              <p:nvPr/>
            </p:nvSpPr>
            <p:spPr>
              <a:xfrm flipH="1" flipV="1">
                <a:off x="1408320" y="2585520"/>
                <a:ext cx="176040" cy="18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79"/>
              <p:cNvSpPr/>
              <p:nvPr/>
            </p:nvSpPr>
            <p:spPr>
              <a:xfrm flipH="1" flipV="1">
                <a:off x="1371240" y="2591640"/>
                <a:ext cx="144360" cy="163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80"/>
            <p:cNvGrpSpPr/>
            <p:nvPr/>
          </p:nvGrpSpPr>
          <p:grpSpPr>
            <a:xfrm>
              <a:off x="1012680" y="2629800"/>
              <a:ext cx="290880" cy="272880"/>
              <a:chOff x="1012680" y="2629800"/>
              <a:chExt cx="290880" cy="272880"/>
            </a:xfrm>
          </p:grpSpPr>
          <p:sp>
            <p:nvSpPr>
              <p:cNvPr id="528" name="Line 81"/>
              <p:cNvSpPr/>
              <p:nvPr/>
            </p:nvSpPr>
            <p:spPr>
              <a:xfrm flipV="1">
                <a:off x="1012680" y="2639520"/>
                <a:ext cx="86040" cy="258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82"/>
              <p:cNvSpPr/>
              <p:nvPr/>
            </p:nvSpPr>
            <p:spPr>
              <a:xfrm flipV="1">
                <a:off x="1082520" y="2680920"/>
                <a:ext cx="43920" cy="221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83"/>
              <p:cNvSpPr/>
              <p:nvPr/>
            </p:nvSpPr>
            <p:spPr>
              <a:xfrm flipH="1" flipV="1">
                <a:off x="1136520" y="2629800"/>
                <a:ext cx="167040" cy="228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84"/>
              <p:cNvSpPr/>
              <p:nvPr/>
            </p:nvSpPr>
            <p:spPr>
              <a:xfrm flipH="1" flipV="1">
                <a:off x="1098720" y="2639520"/>
                <a:ext cx="136440" cy="2044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Freeform 85"/>
          <p:cNvSpPr/>
          <p:nvPr/>
        </p:nvSpPr>
        <p:spPr>
          <a:xfrm rot="21434400">
            <a:off x="-7164000" y="2771640"/>
            <a:ext cx="8999640" cy="3168720"/>
          </a:xfrm>
          <a:custGeom>
            <a:avLst/>
            <a:gdLst>
              <a:gd name="textAreaLeft" fmla="*/ 0 w 8999640"/>
              <a:gd name="textAreaRight" fmla="*/ 9000000 w 89996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5670" h="1996">
                <a:moveTo>
                  <a:pt x="0" y="1996"/>
                </a:moveTo>
                <a:cubicBezTo>
                  <a:pt x="593" y="1482"/>
                  <a:pt x="1187" y="968"/>
                  <a:pt x="2132" y="635"/>
                </a:cubicBezTo>
                <a:cubicBezTo>
                  <a:pt x="3077" y="302"/>
                  <a:pt x="4373" y="151"/>
                  <a:pt x="5670" y="0"/>
                </a:cubicBezTo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86"/>
          <p:cNvSpPr/>
          <p:nvPr/>
        </p:nvSpPr>
        <p:spPr>
          <a:xfrm rot="21257400">
            <a:off x="-6856200" y="3203280"/>
            <a:ext cx="8774280" cy="3860640"/>
          </a:xfrm>
          <a:custGeom>
            <a:avLst/>
            <a:gdLst>
              <a:gd name="textAreaLeft" fmla="*/ 0 w 8774280"/>
              <a:gd name="textAreaRight" fmla="*/ 8774640 w 877428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5528" h="2432">
                <a:moveTo>
                  <a:pt x="0" y="2432"/>
                </a:moveTo>
                <a:cubicBezTo>
                  <a:pt x="301" y="2199"/>
                  <a:pt x="1227" y="1372"/>
                  <a:pt x="1808" y="1032"/>
                </a:cubicBezTo>
                <a:cubicBezTo>
                  <a:pt x="2389" y="692"/>
                  <a:pt x="2868" y="564"/>
                  <a:pt x="3488" y="392"/>
                </a:cubicBezTo>
                <a:cubicBezTo>
                  <a:pt x="4108" y="220"/>
                  <a:pt x="5103" y="82"/>
                  <a:pt x="5528" y="0"/>
                </a:cubicBezTo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87"/>
          <p:cNvSpPr/>
          <p:nvPr/>
        </p:nvSpPr>
        <p:spPr>
          <a:xfrm>
            <a:off x="1692360" y="1355760"/>
            <a:ext cx="7567560" cy="2141640"/>
          </a:xfrm>
          <a:custGeom>
            <a:avLst/>
            <a:gdLst>
              <a:gd name="textAreaLeft" fmla="*/ 0 w 7567560"/>
              <a:gd name="textAreaRight" fmla="*/ 7567920 w 7567560"/>
              <a:gd name="textAreaTop" fmla="*/ 0 h 2141640"/>
              <a:gd name="textAreaBottom" fmla="*/ 2142000 h 2141640"/>
            </a:gdLst>
            <a:ahLst/>
            <a:rect l="textAreaLeft" t="textAreaTop" r="textAreaRight" b="textAreaBottom"/>
            <a:pathLst>
              <a:path w="4767" h="1349">
                <a:moveTo>
                  <a:pt x="0" y="76"/>
                </a:moveTo>
                <a:cubicBezTo>
                  <a:pt x="967" y="42"/>
                  <a:pt x="1926" y="0"/>
                  <a:pt x="2721" y="212"/>
                </a:cubicBezTo>
                <a:cubicBezTo>
                  <a:pt x="3516" y="424"/>
                  <a:pt x="4341" y="1112"/>
                  <a:pt x="4767" y="1349"/>
                </a:cubicBez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8"/>
          <p:cNvSpPr/>
          <p:nvPr/>
        </p:nvSpPr>
        <p:spPr>
          <a:xfrm>
            <a:off x="1763640" y="2682720"/>
            <a:ext cx="4564080" cy="278928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2789280"/>
              <a:gd name="textAreaBottom" fmla="*/ 2789280 h 2789280"/>
            </a:gdLst>
            <a:ahLst/>
            <a:rect l="textAreaLeft" t="textAreaTop" r="textAreaRight" b="textAreaBottom"/>
            <a:pathLst>
              <a:path w="2875" h="1757">
                <a:moveTo>
                  <a:pt x="0" y="56"/>
                </a:moveTo>
                <a:cubicBezTo>
                  <a:pt x="786" y="26"/>
                  <a:pt x="1608" y="0"/>
                  <a:pt x="2087" y="283"/>
                </a:cubicBezTo>
                <a:cubicBezTo>
                  <a:pt x="2566" y="566"/>
                  <a:pt x="2711" y="1450"/>
                  <a:pt x="2875" y="1757"/>
                </a:cubicBez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9"/>
          <p:cNvSpPr/>
          <p:nvPr/>
        </p:nvSpPr>
        <p:spPr>
          <a:xfrm rot="3300600">
            <a:off x="8030880" y="534168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0"/>
          <p:cNvSpPr/>
          <p:nvPr/>
        </p:nvSpPr>
        <p:spPr>
          <a:xfrm>
            <a:off x="2773440" y="2052720"/>
            <a:ext cx="358560" cy="7128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1"/>
          <p:cNvSpPr/>
          <p:nvPr/>
        </p:nvSpPr>
        <p:spPr>
          <a:xfrm rot="2703000">
            <a:off x="6950160" y="3850200"/>
            <a:ext cx="81288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92"/>
          <p:cNvSpPr/>
          <p:nvPr/>
        </p:nvSpPr>
        <p:spPr>
          <a:xfrm rot="2448000">
            <a:off x="6011640" y="2966760"/>
            <a:ext cx="568080" cy="69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3"/>
          <p:cNvSpPr/>
          <p:nvPr/>
        </p:nvSpPr>
        <p:spPr>
          <a:xfrm rot="1260000">
            <a:off x="4979880" y="2343240"/>
            <a:ext cx="455760" cy="69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4"/>
          <p:cNvSpPr/>
          <p:nvPr/>
        </p:nvSpPr>
        <p:spPr>
          <a:xfrm rot="492600">
            <a:off x="3828600" y="2124000"/>
            <a:ext cx="455760" cy="69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5"/>
          <p:cNvSpPr/>
          <p:nvPr/>
        </p:nvSpPr>
        <p:spPr>
          <a:xfrm>
            <a:off x="1835280" y="2052720"/>
            <a:ext cx="358560" cy="7128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6"/>
          <p:cNvSpPr/>
          <p:nvPr/>
        </p:nvSpPr>
        <p:spPr>
          <a:xfrm>
            <a:off x="1619280" y="1547640"/>
            <a:ext cx="144360" cy="115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97"/>
          <p:cNvSpPr/>
          <p:nvPr/>
        </p:nvSpPr>
        <p:spPr>
          <a:xfrm rot="4869000">
            <a:off x="1042920" y="1980360"/>
            <a:ext cx="863640" cy="14436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8"/>
          <p:cNvSpPr/>
          <p:nvPr/>
        </p:nvSpPr>
        <p:spPr>
          <a:xfrm rot="4869000">
            <a:off x="1258560" y="1979640"/>
            <a:ext cx="576360" cy="14436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99"/>
          <p:cNvSpPr/>
          <p:nvPr/>
        </p:nvSpPr>
        <p:spPr>
          <a:xfrm rot="4869000">
            <a:off x="827640" y="1980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00"/>
          <p:cNvSpPr/>
          <p:nvPr/>
        </p:nvSpPr>
        <p:spPr>
          <a:xfrm rot="4869000">
            <a:off x="1042560" y="1979640"/>
            <a:ext cx="576360" cy="14436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1"/>
          <p:cNvSpPr/>
          <p:nvPr/>
        </p:nvSpPr>
        <p:spPr>
          <a:xfrm rot="21301800">
            <a:off x="-250920" y="2268000"/>
            <a:ext cx="35712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02"/>
          <p:cNvSpPr/>
          <p:nvPr/>
        </p:nvSpPr>
        <p:spPr>
          <a:xfrm rot="21301800">
            <a:off x="612360" y="2195640"/>
            <a:ext cx="358920" cy="7128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03"/>
          <p:cNvSpPr/>
          <p:nvPr/>
        </p:nvSpPr>
        <p:spPr>
          <a:xfrm>
            <a:off x="-179280" y="2392200"/>
            <a:ext cx="6278400" cy="3187800"/>
          </a:xfrm>
          <a:custGeom>
            <a:avLst/>
            <a:gdLst>
              <a:gd name="textAreaLeft" fmla="*/ 0 w 6278400"/>
              <a:gd name="textAreaRight" fmla="*/ 6278760 w 6278400"/>
              <a:gd name="textAreaTop" fmla="*/ 0 h 3187800"/>
              <a:gd name="textAreaBottom" fmla="*/ 3188160 h 3187800"/>
            </a:gdLst>
            <a:ahLst/>
            <a:rect l="textAreaLeft" t="textAreaTop" r="textAreaRight" b="textAreaBottom"/>
            <a:pathLst>
              <a:path w="3956" h="2008">
                <a:moveTo>
                  <a:pt x="98" y="784"/>
                </a:moveTo>
                <a:cubicBezTo>
                  <a:pt x="60" y="708"/>
                  <a:pt x="62" y="610"/>
                  <a:pt x="106" y="536"/>
                </a:cubicBezTo>
                <a:cubicBezTo>
                  <a:pt x="124" y="507"/>
                  <a:pt x="132" y="485"/>
                  <a:pt x="162" y="472"/>
                </a:cubicBezTo>
                <a:cubicBezTo>
                  <a:pt x="177" y="465"/>
                  <a:pt x="210" y="456"/>
                  <a:pt x="210" y="456"/>
                </a:cubicBezTo>
                <a:cubicBezTo>
                  <a:pt x="224" y="458"/>
                  <a:pt x="283" y="455"/>
                  <a:pt x="298" y="480"/>
                </a:cubicBezTo>
                <a:cubicBezTo>
                  <a:pt x="307" y="494"/>
                  <a:pt x="309" y="512"/>
                  <a:pt x="314" y="528"/>
                </a:cubicBezTo>
                <a:cubicBezTo>
                  <a:pt x="317" y="536"/>
                  <a:pt x="322" y="552"/>
                  <a:pt x="322" y="552"/>
                </a:cubicBezTo>
                <a:cubicBezTo>
                  <a:pt x="330" y="512"/>
                  <a:pt x="340" y="482"/>
                  <a:pt x="362" y="448"/>
                </a:cubicBezTo>
                <a:cubicBezTo>
                  <a:pt x="392" y="327"/>
                  <a:pt x="505" y="232"/>
                  <a:pt x="626" y="208"/>
                </a:cubicBezTo>
                <a:cubicBezTo>
                  <a:pt x="658" y="229"/>
                  <a:pt x="672" y="253"/>
                  <a:pt x="698" y="280"/>
                </a:cubicBezTo>
                <a:cubicBezTo>
                  <a:pt x="724" y="308"/>
                  <a:pt x="778" y="360"/>
                  <a:pt x="778" y="360"/>
                </a:cubicBezTo>
                <a:cubicBezTo>
                  <a:pt x="785" y="400"/>
                  <a:pt x="797" y="426"/>
                  <a:pt x="810" y="464"/>
                </a:cubicBezTo>
                <a:cubicBezTo>
                  <a:pt x="844" y="413"/>
                  <a:pt x="862" y="347"/>
                  <a:pt x="914" y="312"/>
                </a:cubicBezTo>
                <a:cubicBezTo>
                  <a:pt x="937" y="266"/>
                  <a:pt x="970" y="232"/>
                  <a:pt x="1010" y="200"/>
                </a:cubicBezTo>
                <a:cubicBezTo>
                  <a:pt x="1067" y="85"/>
                  <a:pt x="1163" y="40"/>
                  <a:pt x="1282" y="0"/>
                </a:cubicBezTo>
                <a:cubicBezTo>
                  <a:pt x="1367" y="12"/>
                  <a:pt x="1401" y="50"/>
                  <a:pt x="1450" y="112"/>
                </a:cubicBezTo>
                <a:cubicBezTo>
                  <a:pt x="1455" y="128"/>
                  <a:pt x="1457" y="146"/>
                  <a:pt x="1466" y="160"/>
                </a:cubicBezTo>
                <a:cubicBezTo>
                  <a:pt x="1471" y="168"/>
                  <a:pt x="1478" y="175"/>
                  <a:pt x="1482" y="184"/>
                </a:cubicBezTo>
                <a:cubicBezTo>
                  <a:pt x="1535" y="310"/>
                  <a:pt x="1478" y="210"/>
                  <a:pt x="1530" y="296"/>
                </a:cubicBezTo>
                <a:cubicBezTo>
                  <a:pt x="1527" y="344"/>
                  <a:pt x="1518" y="392"/>
                  <a:pt x="1522" y="440"/>
                </a:cubicBezTo>
                <a:cubicBezTo>
                  <a:pt x="1523" y="457"/>
                  <a:pt x="1534" y="408"/>
                  <a:pt x="1538" y="392"/>
                </a:cubicBezTo>
                <a:cubicBezTo>
                  <a:pt x="1547" y="361"/>
                  <a:pt x="1539" y="351"/>
                  <a:pt x="1562" y="328"/>
                </a:cubicBezTo>
                <a:cubicBezTo>
                  <a:pt x="1604" y="286"/>
                  <a:pt x="1665" y="250"/>
                  <a:pt x="1722" y="232"/>
                </a:cubicBezTo>
                <a:cubicBezTo>
                  <a:pt x="1743" y="226"/>
                  <a:pt x="1786" y="216"/>
                  <a:pt x="1786" y="216"/>
                </a:cubicBezTo>
                <a:cubicBezTo>
                  <a:pt x="1788" y="216"/>
                  <a:pt x="1842" y="225"/>
                  <a:pt x="1850" y="232"/>
                </a:cubicBezTo>
                <a:cubicBezTo>
                  <a:pt x="1892" y="265"/>
                  <a:pt x="1911" y="351"/>
                  <a:pt x="1962" y="368"/>
                </a:cubicBezTo>
                <a:cubicBezTo>
                  <a:pt x="1971" y="412"/>
                  <a:pt x="1985" y="459"/>
                  <a:pt x="2010" y="496"/>
                </a:cubicBezTo>
                <a:cubicBezTo>
                  <a:pt x="2046" y="437"/>
                  <a:pt x="2089" y="393"/>
                  <a:pt x="2138" y="344"/>
                </a:cubicBezTo>
                <a:cubicBezTo>
                  <a:pt x="2156" y="326"/>
                  <a:pt x="2182" y="319"/>
                  <a:pt x="2202" y="304"/>
                </a:cubicBezTo>
                <a:cubicBezTo>
                  <a:pt x="2226" y="286"/>
                  <a:pt x="2244" y="252"/>
                  <a:pt x="2274" y="248"/>
                </a:cubicBezTo>
                <a:cubicBezTo>
                  <a:pt x="2341" y="238"/>
                  <a:pt x="2312" y="245"/>
                  <a:pt x="2362" y="232"/>
                </a:cubicBezTo>
                <a:cubicBezTo>
                  <a:pt x="2432" y="238"/>
                  <a:pt x="2520" y="214"/>
                  <a:pt x="2570" y="264"/>
                </a:cubicBezTo>
                <a:cubicBezTo>
                  <a:pt x="2589" y="283"/>
                  <a:pt x="2602" y="307"/>
                  <a:pt x="2618" y="328"/>
                </a:cubicBezTo>
                <a:cubicBezTo>
                  <a:pt x="2626" y="339"/>
                  <a:pt x="2642" y="360"/>
                  <a:pt x="2642" y="360"/>
                </a:cubicBezTo>
                <a:cubicBezTo>
                  <a:pt x="2656" y="458"/>
                  <a:pt x="2656" y="479"/>
                  <a:pt x="2650" y="600"/>
                </a:cubicBezTo>
                <a:cubicBezTo>
                  <a:pt x="2640" y="548"/>
                  <a:pt x="2655" y="519"/>
                  <a:pt x="2682" y="472"/>
                </a:cubicBezTo>
                <a:cubicBezTo>
                  <a:pt x="2718" y="410"/>
                  <a:pt x="2746" y="402"/>
                  <a:pt x="2818" y="392"/>
                </a:cubicBezTo>
                <a:cubicBezTo>
                  <a:pt x="2847" y="382"/>
                  <a:pt x="2877" y="378"/>
                  <a:pt x="2906" y="368"/>
                </a:cubicBezTo>
                <a:cubicBezTo>
                  <a:pt x="2917" y="371"/>
                  <a:pt x="2929" y="370"/>
                  <a:pt x="2938" y="376"/>
                </a:cubicBezTo>
                <a:cubicBezTo>
                  <a:pt x="2953" y="386"/>
                  <a:pt x="2956" y="409"/>
                  <a:pt x="2962" y="424"/>
                </a:cubicBezTo>
                <a:cubicBezTo>
                  <a:pt x="2986" y="480"/>
                  <a:pt x="3001" y="550"/>
                  <a:pt x="3034" y="600"/>
                </a:cubicBezTo>
                <a:cubicBezTo>
                  <a:pt x="3042" y="633"/>
                  <a:pt x="3058" y="655"/>
                  <a:pt x="3066" y="688"/>
                </a:cubicBezTo>
                <a:cubicBezTo>
                  <a:pt x="3063" y="749"/>
                  <a:pt x="3055" y="811"/>
                  <a:pt x="3058" y="872"/>
                </a:cubicBezTo>
                <a:cubicBezTo>
                  <a:pt x="3059" y="884"/>
                  <a:pt x="3065" y="848"/>
                  <a:pt x="3074" y="840"/>
                </a:cubicBezTo>
                <a:cubicBezTo>
                  <a:pt x="3085" y="831"/>
                  <a:pt x="3174" y="806"/>
                  <a:pt x="3194" y="800"/>
                </a:cubicBezTo>
                <a:cubicBezTo>
                  <a:pt x="3210" y="795"/>
                  <a:pt x="3242" y="784"/>
                  <a:pt x="3242" y="784"/>
                </a:cubicBezTo>
                <a:cubicBezTo>
                  <a:pt x="3295" y="797"/>
                  <a:pt x="3323" y="821"/>
                  <a:pt x="3354" y="864"/>
                </a:cubicBezTo>
                <a:cubicBezTo>
                  <a:pt x="3365" y="880"/>
                  <a:pt x="3380" y="894"/>
                  <a:pt x="3386" y="912"/>
                </a:cubicBezTo>
                <a:cubicBezTo>
                  <a:pt x="3391" y="928"/>
                  <a:pt x="3402" y="960"/>
                  <a:pt x="3402" y="960"/>
                </a:cubicBezTo>
                <a:cubicBezTo>
                  <a:pt x="3399" y="1024"/>
                  <a:pt x="3398" y="1088"/>
                  <a:pt x="3394" y="1152"/>
                </a:cubicBezTo>
                <a:cubicBezTo>
                  <a:pt x="3393" y="1168"/>
                  <a:pt x="3389" y="1184"/>
                  <a:pt x="3386" y="1200"/>
                </a:cubicBezTo>
                <a:cubicBezTo>
                  <a:pt x="3384" y="1211"/>
                  <a:pt x="3367" y="1232"/>
                  <a:pt x="3378" y="1232"/>
                </a:cubicBezTo>
                <a:cubicBezTo>
                  <a:pt x="3393" y="1232"/>
                  <a:pt x="3397" y="1208"/>
                  <a:pt x="3410" y="1200"/>
                </a:cubicBezTo>
                <a:cubicBezTo>
                  <a:pt x="3420" y="1194"/>
                  <a:pt x="3459" y="1181"/>
                  <a:pt x="3474" y="1176"/>
                </a:cubicBezTo>
                <a:cubicBezTo>
                  <a:pt x="3523" y="1225"/>
                  <a:pt x="3512" y="1253"/>
                  <a:pt x="3546" y="1304"/>
                </a:cubicBezTo>
                <a:cubicBezTo>
                  <a:pt x="3549" y="1363"/>
                  <a:pt x="3533" y="1425"/>
                  <a:pt x="3554" y="1480"/>
                </a:cubicBezTo>
                <a:cubicBezTo>
                  <a:pt x="3561" y="1498"/>
                  <a:pt x="3583" y="1453"/>
                  <a:pt x="3602" y="1448"/>
                </a:cubicBezTo>
                <a:cubicBezTo>
                  <a:pt x="3642" y="1438"/>
                  <a:pt x="3624" y="1443"/>
                  <a:pt x="3658" y="1432"/>
                </a:cubicBezTo>
                <a:cubicBezTo>
                  <a:pt x="3693" y="1441"/>
                  <a:pt x="3728" y="1445"/>
                  <a:pt x="3762" y="1456"/>
                </a:cubicBezTo>
                <a:cubicBezTo>
                  <a:pt x="3803" y="1497"/>
                  <a:pt x="3812" y="1515"/>
                  <a:pt x="3842" y="1560"/>
                </a:cubicBezTo>
                <a:cubicBezTo>
                  <a:pt x="3849" y="1600"/>
                  <a:pt x="3853" y="1636"/>
                  <a:pt x="3874" y="1672"/>
                </a:cubicBezTo>
                <a:cubicBezTo>
                  <a:pt x="3884" y="1688"/>
                  <a:pt x="3906" y="1720"/>
                  <a:pt x="3906" y="1720"/>
                </a:cubicBezTo>
                <a:cubicBezTo>
                  <a:pt x="3917" y="1765"/>
                  <a:pt x="3952" y="1808"/>
                  <a:pt x="3954" y="1856"/>
                </a:cubicBezTo>
                <a:cubicBezTo>
                  <a:pt x="3956" y="1907"/>
                  <a:pt x="3954" y="1957"/>
                  <a:pt x="3954" y="2008"/>
                </a:cubicBezTo>
                <a:lnTo>
                  <a:pt x="0" y="1929"/>
                </a:lnTo>
                <a:lnTo>
                  <a:pt x="46" y="704"/>
                </a:lnTo>
              </a:path>
            </a:pathLst>
          </a:custGeom>
          <a:solidFill>
            <a:srgbClr val="bbe0e3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04"/>
          <p:cNvSpPr/>
          <p:nvPr/>
        </p:nvSpPr>
        <p:spPr>
          <a:xfrm>
            <a:off x="108000" y="4788000"/>
            <a:ext cx="2141640" cy="62532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2121" h="1024">
                <a:moveTo>
                  <a:pt x="2097" y="872"/>
                </a:moveTo>
                <a:cubicBezTo>
                  <a:pt x="2072" y="773"/>
                  <a:pt x="2064" y="668"/>
                  <a:pt x="2001" y="584"/>
                </a:cubicBezTo>
                <a:cubicBezTo>
                  <a:pt x="1988" y="545"/>
                  <a:pt x="1975" y="526"/>
                  <a:pt x="1945" y="496"/>
                </a:cubicBezTo>
                <a:cubicBezTo>
                  <a:pt x="1932" y="458"/>
                  <a:pt x="1884" y="442"/>
                  <a:pt x="1849" y="424"/>
                </a:cubicBezTo>
                <a:cubicBezTo>
                  <a:pt x="1818" y="378"/>
                  <a:pt x="1762" y="372"/>
                  <a:pt x="1713" y="352"/>
                </a:cubicBezTo>
                <a:cubicBezTo>
                  <a:pt x="1691" y="343"/>
                  <a:pt x="1649" y="320"/>
                  <a:pt x="1649" y="320"/>
                </a:cubicBezTo>
                <a:cubicBezTo>
                  <a:pt x="1547" y="331"/>
                  <a:pt x="1601" y="308"/>
                  <a:pt x="1553" y="360"/>
                </a:cubicBezTo>
                <a:cubicBezTo>
                  <a:pt x="1533" y="382"/>
                  <a:pt x="1489" y="424"/>
                  <a:pt x="1489" y="424"/>
                </a:cubicBezTo>
                <a:cubicBezTo>
                  <a:pt x="1459" y="364"/>
                  <a:pt x="1460" y="301"/>
                  <a:pt x="1441" y="240"/>
                </a:cubicBezTo>
                <a:cubicBezTo>
                  <a:pt x="1408" y="136"/>
                  <a:pt x="1412" y="160"/>
                  <a:pt x="1353" y="88"/>
                </a:cubicBezTo>
                <a:cubicBezTo>
                  <a:pt x="1345" y="78"/>
                  <a:pt x="1340" y="64"/>
                  <a:pt x="1329" y="56"/>
                </a:cubicBezTo>
                <a:cubicBezTo>
                  <a:pt x="1290" y="26"/>
                  <a:pt x="1237" y="22"/>
                  <a:pt x="1193" y="0"/>
                </a:cubicBezTo>
                <a:cubicBezTo>
                  <a:pt x="1082" y="13"/>
                  <a:pt x="1079" y="14"/>
                  <a:pt x="1001" y="40"/>
                </a:cubicBezTo>
                <a:cubicBezTo>
                  <a:pt x="935" y="106"/>
                  <a:pt x="950" y="70"/>
                  <a:pt x="937" y="136"/>
                </a:cubicBezTo>
                <a:cubicBezTo>
                  <a:pt x="940" y="165"/>
                  <a:pt x="938" y="195"/>
                  <a:pt x="945" y="224"/>
                </a:cubicBezTo>
                <a:cubicBezTo>
                  <a:pt x="947" y="232"/>
                  <a:pt x="954" y="208"/>
                  <a:pt x="953" y="200"/>
                </a:cubicBezTo>
                <a:cubicBezTo>
                  <a:pt x="951" y="170"/>
                  <a:pt x="951" y="138"/>
                  <a:pt x="937" y="112"/>
                </a:cubicBezTo>
                <a:cubicBezTo>
                  <a:pt x="926" y="92"/>
                  <a:pt x="870" y="72"/>
                  <a:pt x="849" y="64"/>
                </a:cubicBezTo>
                <a:cubicBezTo>
                  <a:pt x="709" y="74"/>
                  <a:pt x="752" y="69"/>
                  <a:pt x="649" y="120"/>
                </a:cubicBezTo>
                <a:cubicBezTo>
                  <a:pt x="517" y="186"/>
                  <a:pt x="691" y="76"/>
                  <a:pt x="553" y="168"/>
                </a:cubicBezTo>
                <a:cubicBezTo>
                  <a:pt x="545" y="173"/>
                  <a:pt x="529" y="184"/>
                  <a:pt x="529" y="184"/>
                </a:cubicBezTo>
                <a:cubicBezTo>
                  <a:pt x="508" y="216"/>
                  <a:pt x="495" y="247"/>
                  <a:pt x="473" y="280"/>
                </a:cubicBezTo>
                <a:cubicBezTo>
                  <a:pt x="472" y="286"/>
                  <a:pt x="466" y="353"/>
                  <a:pt x="449" y="360"/>
                </a:cubicBezTo>
                <a:cubicBezTo>
                  <a:pt x="440" y="364"/>
                  <a:pt x="433" y="349"/>
                  <a:pt x="425" y="344"/>
                </a:cubicBezTo>
                <a:cubicBezTo>
                  <a:pt x="376" y="349"/>
                  <a:pt x="335" y="344"/>
                  <a:pt x="297" y="376"/>
                </a:cubicBezTo>
                <a:cubicBezTo>
                  <a:pt x="282" y="389"/>
                  <a:pt x="266" y="406"/>
                  <a:pt x="257" y="424"/>
                </a:cubicBezTo>
                <a:cubicBezTo>
                  <a:pt x="249" y="440"/>
                  <a:pt x="247" y="468"/>
                  <a:pt x="233" y="480"/>
                </a:cubicBezTo>
                <a:cubicBezTo>
                  <a:pt x="225" y="487"/>
                  <a:pt x="212" y="485"/>
                  <a:pt x="201" y="488"/>
                </a:cubicBezTo>
                <a:cubicBezTo>
                  <a:pt x="186" y="486"/>
                  <a:pt x="113" y="471"/>
                  <a:pt x="89" y="488"/>
                </a:cubicBezTo>
                <a:cubicBezTo>
                  <a:pt x="74" y="499"/>
                  <a:pt x="46" y="572"/>
                  <a:pt x="33" y="592"/>
                </a:cubicBezTo>
                <a:cubicBezTo>
                  <a:pt x="0" y="724"/>
                  <a:pt x="33" y="885"/>
                  <a:pt x="33" y="1024"/>
                </a:cubicBezTo>
                <a:lnTo>
                  <a:pt x="2121" y="993"/>
                </a:lnTo>
                <a:lnTo>
                  <a:pt x="2097" y="872"/>
                </a:lnTo>
                <a:close/>
              </a:path>
            </a:pathLst>
          </a:custGeom>
          <a:solidFill>
            <a:srgbClr val="bbe0e3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05"/>
          <p:cNvSpPr/>
          <p:nvPr/>
        </p:nvSpPr>
        <p:spPr>
          <a:xfrm>
            <a:off x="-250920" y="3348000"/>
            <a:ext cx="1077840" cy="223200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21" h="1024">
                <a:moveTo>
                  <a:pt x="2097" y="872"/>
                </a:moveTo>
                <a:cubicBezTo>
                  <a:pt x="2072" y="773"/>
                  <a:pt x="2064" y="668"/>
                  <a:pt x="2001" y="584"/>
                </a:cubicBezTo>
                <a:cubicBezTo>
                  <a:pt x="1988" y="545"/>
                  <a:pt x="1975" y="526"/>
                  <a:pt x="1945" y="496"/>
                </a:cubicBezTo>
                <a:cubicBezTo>
                  <a:pt x="1932" y="458"/>
                  <a:pt x="1884" y="442"/>
                  <a:pt x="1849" y="424"/>
                </a:cubicBezTo>
                <a:cubicBezTo>
                  <a:pt x="1818" y="378"/>
                  <a:pt x="1762" y="372"/>
                  <a:pt x="1713" y="352"/>
                </a:cubicBezTo>
                <a:cubicBezTo>
                  <a:pt x="1691" y="343"/>
                  <a:pt x="1649" y="320"/>
                  <a:pt x="1649" y="320"/>
                </a:cubicBezTo>
                <a:cubicBezTo>
                  <a:pt x="1547" y="331"/>
                  <a:pt x="1601" y="308"/>
                  <a:pt x="1553" y="360"/>
                </a:cubicBezTo>
                <a:cubicBezTo>
                  <a:pt x="1533" y="382"/>
                  <a:pt x="1489" y="424"/>
                  <a:pt x="1489" y="424"/>
                </a:cubicBezTo>
                <a:cubicBezTo>
                  <a:pt x="1459" y="364"/>
                  <a:pt x="1460" y="301"/>
                  <a:pt x="1441" y="240"/>
                </a:cubicBezTo>
                <a:cubicBezTo>
                  <a:pt x="1408" y="136"/>
                  <a:pt x="1412" y="160"/>
                  <a:pt x="1353" y="88"/>
                </a:cubicBezTo>
                <a:cubicBezTo>
                  <a:pt x="1345" y="78"/>
                  <a:pt x="1340" y="64"/>
                  <a:pt x="1329" y="56"/>
                </a:cubicBezTo>
                <a:cubicBezTo>
                  <a:pt x="1290" y="26"/>
                  <a:pt x="1237" y="22"/>
                  <a:pt x="1193" y="0"/>
                </a:cubicBezTo>
                <a:cubicBezTo>
                  <a:pt x="1082" y="13"/>
                  <a:pt x="1079" y="14"/>
                  <a:pt x="1001" y="40"/>
                </a:cubicBezTo>
                <a:cubicBezTo>
                  <a:pt x="935" y="106"/>
                  <a:pt x="950" y="70"/>
                  <a:pt x="937" y="136"/>
                </a:cubicBezTo>
                <a:cubicBezTo>
                  <a:pt x="940" y="165"/>
                  <a:pt x="938" y="195"/>
                  <a:pt x="945" y="224"/>
                </a:cubicBezTo>
                <a:cubicBezTo>
                  <a:pt x="947" y="232"/>
                  <a:pt x="954" y="208"/>
                  <a:pt x="953" y="200"/>
                </a:cubicBezTo>
                <a:cubicBezTo>
                  <a:pt x="951" y="170"/>
                  <a:pt x="951" y="138"/>
                  <a:pt x="937" y="112"/>
                </a:cubicBezTo>
                <a:cubicBezTo>
                  <a:pt x="926" y="92"/>
                  <a:pt x="870" y="72"/>
                  <a:pt x="849" y="64"/>
                </a:cubicBezTo>
                <a:cubicBezTo>
                  <a:pt x="709" y="74"/>
                  <a:pt x="752" y="69"/>
                  <a:pt x="649" y="120"/>
                </a:cubicBezTo>
                <a:cubicBezTo>
                  <a:pt x="517" y="186"/>
                  <a:pt x="691" y="76"/>
                  <a:pt x="553" y="168"/>
                </a:cubicBezTo>
                <a:cubicBezTo>
                  <a:pt x="545" y="173"/>
                  <a:pt x="529" y="184"/>
                  <a:pt x="529" y="184"/>
                </a:cubicBezTo>
                <a:cubicBezTo>
                  <a:pt x="508" y="216"/>
                  <a:pt x="495" y="247"/>
                  <a:pt x="473" y="280"/>
                </a:cubicBezTo>
                <a:cubicBezTo>
                  <a:pt x="472" y="286"/>
                  <a:pt x="466" y="353"/>
                  <a:pt x="449" y="360"/>
                </a:cubicBezTo>
                <a:cubicBezTo>
                  <a:pt x="440" y="364"/>
                  <a:pt x="433" y="349"/>
                  <a:pt x="425" y="344"/>
                </a:cubicBezTo>
                <a:cubicBezTo>
                  <a:pt x="376" y="349"/>
                  <a:pt x="335" y="344"/>
                  <a:pt x="297" y="376"/>
                </a:cubicBezTo>
                <a:cubicBezTo>
                  <a:pt x="282" y="389"/>
                  <a:pt x="266" y="406"/>
                  <a:pt x="257" y="424"/>
                </a:cubicBezTo>
                <a:cubicBezTo>
                  <a:pt x="249" y="440"/>
                  <a:pt x="247" y="468"/>
                  <a:pt x="233" y="480"/>
                </a:cubicBezTo>
                <a:cubicBezTo>
                  <a:pt x="225" y="487"/>
                  <a:pt x="212" y="485"/>
                  <a:pt x="201" y="488"/>
                </a:cubicBezTo>
                <a:cubicBezTo>
                  <a:pt x="186" y="486"/>
                  <a:pt x="113" y="471"/>
                  <a:pt x="89" y="488"/>
                </a:cubicBezTo>
                <a:cubicBezTo>
                  <a:pt x="74" y="499"/>
                  <a:pt x="46" y="572"/>
                  <a:pt x="33" y="592"/>
                </a:cubicBezTo>
                <a:cubicBezTo>
                  <a:pt x="0" y="724"/>
                  <a:pt x="33" y="885"/>
                  <a:pt x="33" y="1024"/>
                </a:cubicBezTo>
                <a:lnTo>
                  <a:pt x="2121" y="993"/>
                </a:lnTo>
                <a:lnTo>
                  <a:pt x="2097" y="872"/>
                </a:lnTo>
                <a:close/>
              </a:path>
            </a:pathLst>
          </a:custGeom>
          <a:solidFill>
            <a:srgbClr val="bbe0e3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6"/>
          <p:cNvSpPr/>
          <p:nvPr/>
        </p:nvSpPr>
        <p:spPr>
          <a:xfrm>
            <a:off x="1619280" y="2771640"/>
            <a:ext cx="4564080" cy="278928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2789280"/>
              <a:gd name="textAreaBottom" fmla="*/ 2789280 h 2789280"/>
            </a:gdLst>
            <a:ahLst/>
            <a:rect l="textAreaLeft" t="textAreaTop" r="textAreaRight" b="textAreaBottom"/>
            <a:pathLst>
              <a:path w="2875" h="1757">
                <a:moveTo>
                  <a:pt x="0" y="56"/>
                </a:moveTo>
                <a:cubicBezTo>
                  <a:pt x="786" y="26"/>
                  <a:pt x="1608" y="0"/>
                  <a:pt x="2087" y="283"/>
                </a:cubicBezTo>
                <a:cubicBezTo>
                  <a:pt x="2566" y="566"/>
                  <a:pt x="2711" y="1450"/>
                  <a:pt x="2875" y="1757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07"/>
          <p:cNvSpPr/>
          <p:nvPr/>
        </p:nvSpPr>
        <p:spPr>
          <a:xfrm>
            <a:off x="-146160" y="228600"/>
            <a:ext cx="9367920" cy="3192480"/>
          </a:xfrm>
          <a:custGeom>
            <a:avLst/>
            <a:gdLst>
              <a:gd name="textAreaLeft" fmla="*/ 0 w 9367920"/>
              <a:gd name="textAreaRight" fmla="*/ 9367920 w 93679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5902" h="2011">
                <a:moveTo>
                  <a:pt x="2093" y="328"/>
                </a:moveTo>
                <a:cubicBezTo>
                  <a:pt x="2179" y="303"/>
                  <a:pt x="2259" y="266"/>
                  <a:pt x="2349" y="248"/>
                </a:cubicBezTo>
                <a:cubicBezTo>
                  <a:pt x="2551" y="266"/>
                  <a:pt x="2511" y="245"/>
                  <a:pt x="2629" y="336"/>
                </a:cubicBezTo>
                <a:cubicBezTo>
                  <a:pt x="2641" y="346"/>
                  <a:pt x="2656" y="351"/>
                  <a:pt x="2669" y="360"/>
                </a:cubicBezTo>
                <a:cubicBezTo>
                  <a:pt x="2697" y="380"/>
                  <a:pt x="2749" y="424"/>
                  <a:pt x="2749" y="424"/>
                </a:cubicBezTo>
                <a:cubicBezTo>
                  <a:pt x="2833" y="403"/>
                  <a:pt x="2902" y="352"/>
                  <a:pt x="2981" y="320"/>
                </a:cubicBezTo>
                <a:cubicBezTo>
                  <a:pt x="3009" y="309"/>
                  <a:pt x="3041" y="307"/>
                  <a:pt x="3069" y="296"/>
                </a:cubicBezTo>
                <a:cubicBezTo>
                  <a:pt x="3113" y="278"/>
                  <a:pt x="3149" y="264"/>
                  <a:pt x="3197" y="256"/>
                </a:cubicBezTo>
                <a:cubicBezTo>
                  <a:pt x="3242" y="261"/>
                  <a:pt x="3288" y="265"/>
                  <a:pt x="3333" y="272"/>
                </a:cubicBezTo>
                <a:cubicBezTo>
                  <a:pt x="3365" y="277"/>
                  <a:pt x="3390" y="302"/>
                  <a:pt x="3421" y="312"/>
                </a:cubicBezTo>
                <a:cubicBezTo>
                  <a:pt x="3432" y="320"/>
                  <a:pt x="3446" y="325"/>
                  <a:pt x="3453" y="336"/>
                </a:cubicBezTo>
                <a:cubicBezTo>
                  <a:pt x="3462" y="350"/>
                  <a:pt x="3469" y="384"/>
                  <a:pt x="3469" y="384"/>
                </a:cubicBezTo>
                <a:cubicBezTo>
                  <a:pt x="3512" y="373"/>
                  <a:pt x="3531" y="353"/>
                  <a:pt x="3565" y="328"/>
                </a:cubicBezTo>
                <a:cubicBezTo>
                  <a:pt x="3585" y="313"/>
                  <a:pt x="3609" y="303"/>
                  <a:pt x="3629" y="288"/>
                </a:cubicBezTo>
                <a:cubicBezTo>
                  <a:pt x="3675" y="254"/>
                  <a:pt x="3718" y="215"/>
                  <a:pt x="3765" y="184"/>
                </a:cubicBezTo>
                <a:cubicBezTo>
                  <a:pt x="3846" y="216"/>
                  <a:pt x="3866" y="221"/>
                  <a:pt x="3933" y="288"/>
                </a:cubicBezTo>
                <a:cubicBezTo>
                  <a:pt x="3962" y="317"/>
                  <a:pt x="4013" y="384"/>
                  <a:pt x="4013" y="384"/>
                </a:cubicBezTo>
                <a:cubicBezTo>
                  <a:pt x="4061" y="313"/>
                  <a:pt x="4147" y="268"/>
                  <a:pt x="4229" y="256"/>
                </a:cubicBezTo>
                <a:cubicBezTo>
                  <a:pt x="4266" y="261"/>
                  <a:pt x="4305" y="261"/>
                  <a:pt x="4341" y="272"/>
                </a:cubicBezTo>
                <a:cubicBezTo>
                  <a:pt x="4400" y="291"/>
                  <a:pt x="4431" y="349"/>
                  <a:pt x="4485" y="376"/>
                </a:cubicBezTo>
                <a:cubicBezTo>
                  <a:pt x="4519" y="393"/>
                  <a:pt x="4569" y="407"/>
                  <a:pt x="4605" y="416"/>
                </a:cubicBezTo>
                <a:cubicBezTo>
                  <a:pt x="4632" y="434"/>
                  <a:pt x="4653" y="440"/>
                  <a:pt x="4685" y="448"/>
                </a:cubicBezTo>
                <a:cubicBezTo>
                  <a:pt x="4724" y="440"/>
                  <a:pt x="4737" y="441"/>
                  <a:pt x="4773" y="416"/>
                </a:cubicBezTo>
                <a:cubicBezTo>
                  <a:pt x="4785" y="407"/>
                  <a:pt x="4792" y="392"/>
                  <a:pt x="4805" y="384"/>
                </a:cubicBezTo>
                <a:cubicBezTo>
                  <a:pt x="4819" y="375"/>
                  <a:pt x="4853" y="368"/>
                  <a:pt x="4853" y="368"/>
                </a:cubicBezTo>
                <a:cubicBezTo>
                  <a:pt x="4880" y="373"/>
                  <a:pt x="4908" y="372"/>
                  <a:pt x="4933" y="384"/>
                </a:cubicBezTo>
                <a:cubicBezTo>
                  <a:pt x="4969" y="401"/>
                  <a:pt x="4996" y="434"/>
                  <a:pt x="5029" y="456"/>
                </a:cubicBezTo>
                <a:cubicBezTo>
                  <a:pt x="5059" y="501"/>
                  <a:pt x="5087" y="471"/>
                  <a:pt x="5125" y="440"/>
                </a:cubicBezTo>
                <a:cubicBezTo>
                  <a:pt x="5162" y="410"/>
                  <a:pt x="5200" y="381"/>
                  <a:pt x="5237" y="352"/>
                </a:cubicBezTo>
                <a:cubicBezTo>
                  <a:pt x="5294" y="308"/>
                  <a:pt x="5244" y="328"/>
                  <a:pt x="5293" y="312"/>
                </a:cubicBezTo>
                <a:cubicBezTo>
                  <a:pt x="5355" y="250"/>
                  <a:pt x="5275" y="325"/>
                  <a:pt x="5349" y="272"/>
                </a:cubicBezTo>
                <a:cubicBezTo>
                  <a:pt x="5412" y="227"/>
                  <a:pt x="5464" y="179"/>
                  <a:pt x="5533" y="144"/>
                </a:cubicBezTo>
                <a:cubicBezTo>
                  <a:pt x="5546" y="137"/>
                  <a:pt x="5580" y="110"/>
                  <a:pt x="5589" y="104"/>
                </a:cubicBezTo>
                <a:cubicBezTo>
                  <a:pt x="5605" y="93"/>
                  <a:pt x="5637" y="72"/>
                  <a:pt x="5637" y="72"/>
                </a:cubicBezTo>
                <a:cubicBezTo>
                  <a:pt x="5685" y="0"/>
                  <a:pt x="5777" y="44"/>
                  <a:pt x="5861" y="48"/>
                </a:cubicBezTo>
                <a:cubicBezTo>
                  <a:pt x="5875" y="90"/>
                  <a:pt x="5879" y="134"/>
                  <a:pt x="5893" y="176"/>
                </a:cubicBezTo>
                <a:cubicBezTo>
                  <a:pt x="5902" y="264"/>
                  <a:pt x="5901" y="229"/>
                  <a:pt x="5901" y="280"/>
                </a:cubicBezTo>
                <a:lnTo>
                  <a:pt x="5876" y="2011"/>
                </a:lnTo>
                <a:lnTo>
                  <a:pt x="5150" y="1557"/>
                </a:lnTo>
                <a:lnTo>
                  <a:pt x="4334" y="1058"/>
                </a:lnTo>
                <a:lnTo>
                  <a:pt x="3789" y="877"/>
                </a:lnTo>
                <a:lnTo>
                  <a:pt x="3154" y="786"/>
                </a:lnTo>
                <a:lnTo>
                  <a:pt x="2610" y="786"/>
                </a:lnTo>
                <a:lnTo>
                  <a:pt x="1839" y="741"/>
                </a:lnTo>
                <a:lnTo>
                  <a:pt x="1159" y="786"/>
                </a:lnTo>
                <a:lnTo>
                  <a:pt x="750" y="831"/>
                </a:lnTo>
                <a:lnTo>
                  <a:pt x="115" y="967"/>
                </a:lnTo>
                <a:cubicBezTo>
                  <a:pt x="107" y="925"/>
                  <a:pt x="0" y="599"/>
                  <a:pt x="117" y="560"/>
                </a:cubicBezTo>
                <a:cubicBezTo>
                  <a:pt x="187" y="607"/>
                  <a:pt x="237" y="578"/>
                  <a:pt x="333" y="568"/>
                </a:cubicBezTo>
                <a:cubicBezTo>
                  <a:pt x="349" y="557"/>
                  <a:pt x="367" y="550"/>
                  <a:pt x="381" y="536"/>
                </a:cubicBezTo>
                <a:cubicBezTo>
                  <a:pt x="389" y="528"/>
                  <a:pt x="396" y="519"/>
                  <a:pt x="405" y="512"/>
                </a:cubicBezTo>
                <a:cubicBezTo>
                  <a:pt x="420" y="500"/>
                  <a:pt x="441" y="495"/>
                  <a:pt x="453" y="480"/>
                </a:cubicBezTo>
                <a:cubicBezTo>
                  <a:pt x="480" y="444"/>
                  <a:pt x="513" y="415"/>
                  <a:pt x="557" y="400"/>
                </a:cubicBezTo>
                <a:cubicBezTo>
                  <a:pt x="631" y="425"/>
                  <a:pt x="699" y="537"/>
                  <a:pt x="741" y="600"/>
                </a:cubicBezTo>
                <a:cubicBezTo>
                  <a:pt x="838" y="576"/>
                  <a:pt x="921" y="519"/>
                  <a:pt x="1013" y="488"/>
                </a:cubicBezTo>
                <a:cubicBezTo>
                  <a:pt x="1068" y="504"/>
                  <a:pt x="1093" y="520"/>
                  <a:pt x="1133" y="560"/>
                </a:cubicBezTo>
                <a:cubicBezTo>
                  <a:pt x="1178" y="515"/>
                  <a:pt x="1205" y="457"/>
                  <a:pt x="1245" y="408"/>
                </a:cubicBezTo>
                <a:cubicBezTo>
                  <a:pt x="1256" y="374"/>
                  <a:pt x="1271" y="348"/>
                  <a:pt x="1277" y="312"/>
                </a:cubicBezTo>
                <a:cubicBezTo>
                  <a:pt x="1285" y="257"/>
                  <a:pt x="1279" y="230"/>
                  <a:pt x="1317" y="192"/>
                </a:cubicBezTo>
                <a:cubicBezTo>
                  <a:pt x="1336" y="134"/>
                  <a:pt x="1369" y="76"/>
                  <a:pt x="1429" y="56"/>
                </a:cubicBezTo>
                <a:cubicBezTo>
                  <a:pt x="1475" y="87"/>
                  <a:pt x="1487" y="138"/>
                  <a:pt x="1525" y="176"/>
                </a:cubicBezTo>
                <a:cubicBezTo>
                  <a:pt x="1538" y="227"/>
                  <a:pt x="1558" y="287"/>
                  <a:pt x="1589" y="328"/>
                </a:cubicBezTo>
                <a:cubicBezTo>
                  <a:pt x="1592" y="339"/>
                  <a:pt x="1592" y="350"/>
                  <a:pt x="1597" y="360"/>
                </a:cubicBezTo>
                <a:cubicBezTo>
                  <a:pt x="1606" y="377"/>
                  <a:pt x="1629" y="408"/>
                  <a:pt x="1629" y="408"/>
                </a:cubicBezTo>
                <a:cubicBezTo>
                  <a:pt x="1675" y="362"/>
                  <a:pt x="1677" y="347"/>
                  <a:pt x="1733" y="384"/>
                </a:cubicBezTo>
                <a:cubicBezTo>
                  <a:pt x="1750" y="372"/>
                  <a:pt x="1764" y="356"/>
                  <a:pt x="1781" y="344"/>
                </a:cubicBezTo>
                <a:cubicBezTo>
                  <a:pt x="1805" y="328"/>
                  <a:pt x="1842" y="321"/>
                  <a:pt x="1869" y="312"/>
                </a:cubicBezTo>
                <a:cubicBezTo>
                  <a:pt x="1901" y="333"/>
                  <a:pt x="1908" y="347"/>
                  <a:pt x="1917" y="384"/>
                </a:cubicBezTo>
                <a:cubicBezTo>
                  <a:pt x="1944" y="357"/>
                  <a:pt x="1984" y="340"/>
                  <a:pt x="2021" y="328"/>
                </a:cubicBezTo>
                <a:cubicBezTo>
                  <a:pt x="2110" y="350"/>
                  <a:pt x="2073" y="341"/>
                  <a:pt x="2157" y="320"/>
                </a:cubicBezTo>
                <a:cubicBezTo>
                  <a:pt x="2186" y="301"/>
                  <a:pt x="2172" y="300"/>
                  <a:pt x="2197" y="312"/>
                </a:cubicBezTo>
              </a:path>
            </a:pathLst>
          </a:cu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08"/>
          <p:cNvGrpSpPr/>
          <p:nvPr/>
        </p:nvGrpSpPr>
        <p:grpSpPr>
          <a:xfrm>
            <a:off x="937440" y="1517760"/>
            <a:ext cx="1631520" cy="846720"/>
            <a:chOff x="937440" y="1517760"/>
            <a:chExt cx="1631520" cy="846720"/>
          </a:xfrm>
        </p:grpSpPr>
        <p:grpSp>
          <p:nvGrpSpPr>
            <p:cNvPr id="556" name="Group 109"/>
            <p:cNvGrpSpPr/>
            <p:nvPr/>
          </p:nvGrpSpPr>
          <p:grpSpPr>
            <a:xfrm>
              <a:off x="937440" y="1517760"/>
              <a:ext cx="1631520" cy="846720"/>
              <a:chOff x="937440" y="1517760"/>
              <a:chExt cx="1631520" cy="846720"/>
            </a:xfrm>
          </p:grpSpPr>
          <p:grpSp>
            <p:nvGrpSpPr>
              <p:cNvPr id="557" name="Group 110"/>
              <p:cNvGrpSpPr/>
              <p:nvPr/>
            </p:nvGrpSpPr>
            <p:grpSpPr>
              <a:xfrm>
                <a:off x="2189160" y="1984320"/>
                <a:ext cx="379800" cy="380160"/>
                <a:chOff x="2189160" y="1984320"/>
                <a:chExt cx="379800" cy="380160"/>
              </a:xfrm>
            </p:grpSpPr>
            <p:sp>
              <p:nvSpPr>
                <p:cNvPr id="558" name="Oval 111"/>
                <p:cNvSpPr/>
                <p:nvPr/>
              </p:nvSpPr>
              <p:spPr>
                <a:xfrm rot="21469200">
                  <a:off x="2352600" y="214812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112"/>
                <p:cNvSpPr/>
                <p:nvPr/>
              </p:nvSpPr>
              <p:spPr>
                <a:xfrm rot="21469200">
                  <a:off x="2196000" y="1991160"/>
                  <a:ext cx="366120" cy="366480"/>
                </a:xfrm>
                <a:custGeom>
                  <a:avLst/>
                  <a:gdLst>
                    <a:gd name="textAreaLeft" fmla="*/ 53280 w 366120"/>
                    <a:gd name="textAreaRight" fmla="*/ 312840 w 36612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AutoShape 113"/>
                <p:cNvSpPr/>
                <p:nvPr/>
              </p:nvSpPr>
              <p:spPr>
                <a:xfrm flipH="1" rot="21468600">
                  <a:off x="2359800" y="20286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114"/>
                <p:cNvSpPr/>
                <p:nvPr/>
              </p:nvSpPr>
              <p:spPr>
                <a:xfrm flipH="1" rot="8218200">
                  <a:off x="2416680" y="216252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115"/>
                <p:cNvSpPr/>
                <p:nvPr/>
              </p:nvSpPr>
              <p:spPr>
                <a:xfrm flipH="1" rot="16647000">
                  <a:off x="2288160" y="208836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116"/>
                <p:cNvSpPr/>
                <p:nvPr/>
              </p:nvSpPr>
              <p:spPr>
                <a:xfrm flipH="1" rot="13203600">
                  <a:off x="2319840" y="216036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117"/>
                <p:cNvSpPr/>
                <p:nvPr/>
              </p:nvSpPr>
              <p:spPr>
                <a:xfrm flipH="1" rot="4241400">
                  <a:off x="2436120" y="207864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Oval 118"/>
                <p:cNvSpPr/>
                <p:nvPr/>
              </p:nvSpPr>
              <p:spPr>
                <a:xfrm rot="21469200">
                  <a:off x="2205360" y="1999800"/>
                  <a:ext cx="34776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119"/>
              <p:cNvGrpSpPr/>
              <p:nvPr/>
            </p:nvGrpSpPr>
            <p:grpSpPr>
              <a:xfrm>
                <a:off x="1087200" y="1888920"/>
                <a:ext cx="379800" cy="380160"/>
                <a:chOff x="1087200" y="1888920"/>
                <a:chExt cx="379800" cy="380160"/>
              </a:xfrm>
            </p:grpSpPr>
            <p:sp>
              <p:nvSpPr>
                <p:cNvPr id="567" name="Oval 120"/>
                <p:cNvSpPr/>
                <p:nvPr/>
              </p:nvSpPr>
              <p:spPr>
                <a:xfrm rot="21469200">
                  <a:off x="1251000" y="205272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121"/>
                <p:cNvSpPr/>
                <p:nvPr/>
              </p:nvSpPr>
              <p:spPr>
                <a:xfrm rot="21469200">
                  <a:off x="1094040" y="1895760"/>
                  <a:ext cx="366120" cy="366480"/>
                </a:xfrm>
                <a:custGeom>
                  <a:avLst/>
                  <a:gdLst>
                    <a:gd name="textAreaLeft" fmla="*/ 53280 w 366120"/>
                    <a:gd name="textAreaRight" fmla="*/ 312840 w 36612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122"/>
                <p:cNvSpPr/>
                <p:nvPr/>
              </p:nvSpPr>
              <p:spPr>
                <a:xfrm flipH="1" rot="21468600">
                  <a:off x="1258200" y="19332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123"/>
                <p:cNvSpPr/>
                <p:nvPr/>
              </p:nvSpPr>
              <p:spPr>
                <a:xfrm flipH="1" rot="8218200">
                  <a:off x="1315080" y="206712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124"/>
                <p:cNvSpPr/>
                <p:nvPr/>
              </p:nvSpPr>
              <p:spPr>
                <a:xfrm flipH="1" rot="16647000">
                  <a:off x="1186560" y="19926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125"/>
                <p:cNvSpPr/>
                <p:nvPr/>
              </p:nvSpPr>
              <p:spPr>
                <a:xfrm flipH="1" rot="13203600">
                  <a:off x="1217880" y="206496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126"/>
                <p:cNvSpPr/>
                <p:nvPr/>
              </p:nvSpPr>
              <p:spPr>
                <a:xfrm flipH="1" rot="4241400">
                  <a:off x="1334520" y="198324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27"/>
                <p:cNvSpPr/>
                <p:nvPr/>
              </p:nvSpPr>
              <p:spPr>
                <a:xfrm rot="21469200">
                  <a:off x="1103760" y="1904400"/>
                  <a:ext cx="34776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AutoShape 128"/>
              <p:cNvSpPr/>
              <p:nvPr/>
            </p:nvSpPr>
            <p:spPr>
              <a:xfrm rot="3285600">
                <a:off x="1343520" y="1910880"/>
                <a:ext cx="45000" cy="189360"/>
              </a:xfrm>
              <a:custGeom>
                <a:avLst/>
                <a:gdLst>
                  <a:gd name="textAreaLeft" fmla="*/ 9000 w 45000"/>
                  <a:gd name="textAreaRight" fmla="*/ 36000 w 45000"/>
                  <a:gd name="textAreaTop" fmla="*/ 39240 h 189360"/>
                  <a:gd name="textAreaBottom" fmla="*/ 150120 h 18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129"/>
              <p:cNvSpPr/>
              <p:nvPr/>
            </p:nvSpPr>
            <p:spPr>
              <a:xfrm rot="20329200">
                <a:off x="2318760" y="1936800"/>
                <a:ext cx="23040" cy="228960"/>
              </a:xfrm>
              <a:custGeom>
                <a:avLst/>
                <a:gdLst>
                  <a:gd name="textAreaLeft" fmla="*/ 1800 w 23040"/>
                  <a:gd name="textAreaRight" fmla="*/ 21240 w 23040"/>
                  <a:gd name="textAreaTop" fmla="*/ 19080 h 228960"/>
                  <a:gd name="textAreaBottom" fmla="*/ 209880 h 22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30"/>
              <p:cNvSpPr/>
              <p:nvPr/>
            </p:nvSpPr>
            <p:spPr>
              <a:xfrm rot="259200">
                <a:off x="1135080" y="1851840"/>
                <a:ext cx="182160" cy="228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Group 131"/>
              <p:cNvGrpSpPr/>
              <p:nvPr/>
            </p:nvGrpSpPr>
            <p:grpSpPr>
              <a:xfrm>
                <a:off x="937440" y="1517760"/>
                <a:ext cx="1596960" cy="767520"/>
                <a:chOff x="937440" y="1517760"/>
                <a:chExt cx="1596960" cy="767520"/>
              </a:xfrm>
            </p:grpSpPr>
            <p:sp>
              <p:nvSpPr>
                <p:cNvPr id="579" name="Freeform 132"/>
                <p:cNvSpPr/>
                <p:nvPr/>
              </p:nvSpPr>
              <p:spPr>
                <a:xfrm rot="395400">
                  <a:off x="966600" y="1603800"/>
                  <a:ext cx="1538640" cy="594720"/>
                </a:xfrm>
                <a:custGeom>
                  <a:avLst/>
                  <a:gdLst>
                    <a:gd name="textAreaLeft" fmla="*/ 0 w 1538640"/>
                    <a:gd name="textAreaRight" fmla="*/ 1539000 w 1538640"/>
                    <a:gd name="textAreaTop" fmla="*/ 0 h 594720"/>
                    <a:gd name="textAreaBottom" fmla="*/ 595080 h 594720"/>
                  </a:gdLst>
                  <a:ahLst/>
                  <a:rect l="textAreaLeft" t="textAreaTop" r="textAreaRight" b="textAreaBottom"/>
                  <a:pathLst>
                    <a:path w="1526" h="589">
                      <a:moveTo>
                        <a:pt x="528" y="453"/>
                      </a:moveTo>
                      <a:lnTo>
                        <a:pt x="392" y="317"/>
                      </a:lnTo>
                      <a:lnTo>
                        <a:pt x="120" y="317"/>
                      </a:lnTo>
                      <a:lnTo>
                        <a:pt x="0" y="284"/>
                      </a:lnTo>
                      <a:lnTo>
                        <a:pt x="392" y="272"/>
                      </a:lnTo>
                      <a:lnTo>
                        <a:pt x="392" y="226"/>
                      </a:lnTo>
                      <a:cubicBezTo>
                        <a:pt x="389" y="221"/>
                        <a:pt x="384" y="216"/>
                        <a:pt x="383" y="210"/>
                      </a:cubicBezTo>
                      <a:cubicBezTo>
                        <a:pt x="382" y="206"/>
                        <a:pt x="383" y="199"/>
                        <a:pt x="387" y="198"/>
                      </a:cubicBezTo>
                      <a:cubicBezTo>
                        <a:pt x="392" y="197"/>
                        <a:pt x="398" y="201"/>
                        <a:pt x="399" y="206"/>
                      </a:cubicBezTo>
                      <a:cubicBezTo>
                        <a:pt x="403" y="227"/>
                        <a:pt x="399" y="249"/>
                        <a:pt x="399" y="270"/>
                      </a:cubicBezTo>
                      <a:cubicBezTo>
                        <a:pt x="423" y="254"/>
                        <a:pt x="452" y="263"/>
                        <a:pt x="479" y="254"/>
                      </a:cubicBezTo>
                      <a:cubicBezTo>
                        <a:pt x="527" y="257"/>
                        <a:pt x="532" y="263"/>
                        <a:pt x="571" y="270"/>
                      </a:cubicBezTo>
                      <a:cubicBezTo>
                        <a:pt x="610" y="269"/>
                        <a:pt x="648" y="269"/>
                        <a:pt x="687" y="266"/>
                      </a:cubicBezTo>
                      <a:cubicBezTo>
                        <a:pt x="695" y="265"/>
                        <a:pt x="711" y="258"/>
                        <a:pt x="711" y="258"/>
                      </a:cubicBezTo>
                      <a:cubicBezTo>
                        <a:pt x="753" y="196"/>
                        <a:pt x="797" y="221"/>
                        <a:pt x="887" y="218"/>
                      </a:cubicBezTo>
                      <a:cubicBezTo>
                        <a:pt x="895" y="193"/>
                        <a:pt x="909" y="146"/>
                        <a:pt x="939" y="142"/>
                      </a:cubicBezTo>
                      <a:cubicBezTo>
                        <a:pt x="958" y="140"/>
                        <a:pt x="976" y="139"/>
                        <a:pt x="995" y="138"/>
                      </a:cubicBezTo>
                      <a:cubicBezTo>
                        <a:pt x="1031" y="129"/>
                        <a:pt x="1073" y="159"/>
                        <a:pt x="1095" y="126"/>
                      </a:cubicBezTo>
                      <a:cubicBezTo>
                        <a:pt x="1093" y="116"/>
                        <a:pt x="1150" y="77"/>
                        <a:pt x="1109" y="64"/>
                      </a:cubicBezTo>
                      <a:lnTo>
                        <a:pt x="845" y="35"/>
                      </a:lnTo>
                      <a:lnTo>
                        <a:pt x="936" y="0"/>
                      </a:lnTo>
                      <a:lnTo>
                        <a:pt x="1254" y="45"/>
                      </a:lnTo>
                      <a:lnTo>
                        <a:pt x="1526" y="226"/>
                      </a:lnTo>
                      <a:lnTo>
                        <a:pt x="1526" y="317"/>
                      </a:lnTo>
                      <a:lnTo>
                        <a:pt x="1299" y="317"/>
                      </a:lnTo>
                      <a:cubicBezTo>
                        <a:pt x="1269" y="347"/>
                        <a:pt x="1161" y="496"/>
                        <a:pt x="1123" y="496"/>
                      </a:cubicBezTo>
                      <a:lnTo>
                        <a:pt x="1037" y="270"/>
                      </a:lnTo>
                      <a:lnTo>
                        <a:pt x="891" y="408"/>
                      </a:lnTo>
                      <a:lnTo>
                        <a:pt x="864" y="491"/>
                      </a:lnTo>
                      <a:lnTo>
                        <a:pt x="755" y="589"/>
                      </a:lnTo>
                      <a:lnTo>
                        <a:pt x="573" y="499"/>
                      </a:lnTo>
                      <a:lnTo>
                        <a:pt x="528" y="453"/>
                      </a:lnTo>
                      <a:close/>
                    </a:path>
                  </a:pathLst>
                </a:custGeom>
                <a:solidFill>
                  <a:srgbClr val="66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133"/>
                <p:cNvSpPr/>
                <p:nvPr/>
              </p:nvSpPr>
              <p:spPr>
                <a:xfrm rot="16595400">
                  <a:off x="1687320" y="1942560"/>
                  <a:ext cx="45360" cy="183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34"/>
              <p:cNvGrpSpPr/>
              <p:nvPr/>
            </p:nvGrpSpPr>
            <p:grpSpPr>
              <a:xfrm>
                <a:off x="1405800" y="1630800"/>
                <a:ext cx="1008000" cy="451080"/>
                <a:chOff x="1405800" y="1630800"/>
                <a:chExt cx="1008000" cy="451080"/>
              </a:xfrm>
            </p:grpSpPr>
            <p:sp>
              <p:nvSpPr>
                <p:cNvPr id="582" name="AutoShape 135"/>
                <p:cNvSpPr/>
                <p:nvPr/>
              </p:nvSpPr>
              <p:spPr>
                <a:xfrm rot="9337800">
                  <a:off x="2284200" y="1941120"/>
                  <a:ext cx="45000" cy="137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136"/>
                <p:cNvSpPr/>
                <p:nvPr/>
              </p:nvSpPr>
              <p:spPr>
                <a:xfrm rot="21469200">
                  <a:off x="1860120" y="1663920"/>
                  <a:ext cx="549360" cy="228240"/>
                </a:xfrm>
                <a:custGeom>
                  <a:avLst/>
                  <a:gdLst>
                    <a:gd name="textAreaLeft" fmla="*/ 0 w 549360"/>
                    <a:gd name="textAreaRight" fmla="*/ 549720 w 54936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137"/>
                <p:cNvSpPr/>
                <p:nvPr/>
              </p:nvSpPr>
              <p:spPr>
                <a:xfrm rot="16068600">
                  <a:off x="1751400" y="1897560"/>
                  <a:ext cx="45360" cy="183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AutoShape 138"/>
                <p:cNvSpPr/>
                <p:nvPr/>
              </p:nvSpPr>
              <p:spPr>
                <a:xfrm rot="16068600">
                  <a:off x="1662120" y="1855800"/>
                  <a:ext cx="45360" cy="366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39"/>
                <p:cNvSpPr/>
                <p:nvPr/>
              </p:nvSpPr>
              <p:spPr>
                <a:xfrm rot="21469200">
                  <a:off x="1406880" y="1863360"/>
                  <a:ext cx="538560" cy="78480"/>
                </a:xfrm>
                <a:custGeom>
                  <a:avLst/>
                  <a:gdLst>
                    <a:gd name="textAreaLeft" fmla="*/ 0 w 538560"/>
                    <a:gd name="textAreaRight" fmla="*/ 538920 w 538560"/>
                    <a:gd name="textAreaTop" fmla="*/ 0 h 78480"/>
                    <a:gd name="textAreaBottom" fmla="*/ 78480 h 7848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140"/>
                <p:cNvSpPr/>
                <p:nvPr/>
              </p:nvSpPr>
              <p:spPr>
                <a:xfrm rot="21469200">
                  <a:off x="1947600" y="1635840"/>
                  <a:ext cx="274320" cy="4536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Freeform 141"/>
              <p:cNvSpPr/>
              <p:nvPr/>
            </p:nvSpPr>
            <p:spPr>
              <a:xfrm rot="280200">
                <a:off x="1046160" y="1877400"/>
                <a:ext cx="1464120" cy="320040"/>
              </a:xfrm>
              <a:custGeom>
                <a:avLst/>
                <a:gdLst>
                  <a:gd name="textAreaLeft" fmla="*/ 0 w 1464120"/>
                  <a:gd name="textAreaRight" fmla="*/ 1464480 w 146412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142"/>
            <p:cNvGrpSpPr/>
            <p:nvPr/>
          </p:nvGrpSpPr>
          <p:grpSpPr>
            <a:xfrm>
              <a:off x="1472760" y="1548000"/>
              <a:ext cx="652680" cy="610200"/>
              <a:chOff x="1472760" y="1548000"/>
              <a:chExt cx="652680" cy="610200"/>
            </a:xfrm>
          </p:grpSpPr>
          <p:sp>
            <p:nvSpPr>
              <p:cNvPr id="590" name="Freeform 143"/>
              <p:cNvSpPr/>
              <p:nvPr/>
            </p:nvSpPr>
            <p:spPr>
              <a:xfrm rot="188400">
                <a:off x="1485360" y="1663560"/>
                <a:ext cx="627480" cy="476640"/>
              </a:xfrm>
              <a:custGeom>
                <a:avLst/>
                <a:gdLst>
                  <a:gd name="textAreaLeft" fmla="*/ 0 w 627480"/>
                  <a:gd name="textAreaRight" fmla="*/ 627840 w 62748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144"/>
              <p:cNvSpPr/>
              <p:nvPr/>
            </p:nvSpPr>
            <p:spPr>
              <a:xfrm rot="188400">
                <a:off x="1777680" y="155232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45"/>
              <p:cNvSpPr/>
              <p:nvPr/>
            </p:nvSpPr>
            <p:spPr>
              <a:xfrm rot="188400">
                <a:off x="1570320" y="209376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146"/>
          <p:cNvGrpSpPr/>
          <p:nvPr/>
        </p:nvGrpSpPr>
        <p:grpSpPr>
          <a:xfrm>
            <a:off x="5983200" y="2975040"/>
            <a:ext cx="218880" cy="450360"/>
            <a:chOff x="5983200" y="2975040"/>
            <a:chExt cx="218880" cy="450360"/>
          </a:xfrm>
        </p:grpSpPr>
        <p:grpSp>
          <p:nvGrpSpPr>
            <p:cNvPr id="594" name="Group 147"/>
            <p:cNvGrpSpPr/>
            <p:nvPr/>
          </p:nvGrpSpPr>
          <p:grpSpPr>
            <a:xfrm>
              <a:off x="5983200" y="3003840"/>
              <a:ext cx="185040" cy="382320"/>
              <a:chOff x="5983200" y="3003840"/>
              <a:chExt cx="185040" cy="382320"/>
            </a:xfrm>
          </p:grpSpPr>
          <p:sp>
            <p:nvSpPr>
              <p:cNvPr id="595" name="AutoShape 148"/>
              <p:cNvSpPr/>
              <p:nvPr/>
            </p:nvSpPr>
            <p:spPr>
              <a:xfrm>
                <a:off x="5983200" y="3003840"/>
                <a:ext cx="185040" cy="382320"/>
              </a:xfrm>
              <a:custGeom>
                <a:avLst/>
                <a:gdLst>
                  <a:gd name="textAreaLeft" fmla="*/ 25920 w 185040"/>
                  <a:gd name="textAreaRight" fmla="*/ 159120 w 185040"/>
                  <a:gd name="textAreaTop" fmla="*/ 56160 h 382320"/>
                  <a:gd name="textAreaBottom" fmla="*/ 326160 h 38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3323" y="10800"/>
                    </a:moveTo>
                    <a:cubicBezTo>
                      <a:pt x="3323" y="14929"/>
                      <a:pt x="6671" y="18277"/>
                      <a:pt x="10800" y="18277"/>
                    </a:cubicBezTo>
                    <a:cubicBezTo>
                      <a:pt x="14929" y="18277"/>
                      <a:pt x="18277" y="14929"/>
                      <a:pt x="18277" y="10800"/>
                    </a:cubicBezTo>
                    <a:cubicBezTo>
                      <a:pt x="18277" y="6671"/>
                      <a:pt x="14929" y="3323"/>
                      <a:pt x="10800" y="3323"/>
                    </a:cubicBezTo>
                    <a:cubicBezTo>
                      <a:pt x="6671" y="3323"/>
                      <a:pt x="3323" y="6671"/>
                      <a:pt x="3323" y="10800"/>
                    </a:cubicBezTo>
                    <a:close/>
                  </a:path>
                </a:pathLst>
              </a:custGeom>
              <a:solidFill>
                <a:srgbClr val="bbe0e3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AutoShape 149"/>
              <p:cNvSpPr/>
              <p:nvPr/>
            </p:nvSpPr>
            <p:spPr>
              <a:xfrm>
                <a:off x="6052320" y="3060000"/>
                <a:ext cx="43200" cy="89280"/>
              </a:xfrm>
              <a:custGeom>
                <a:avLst/>
                <a:gdLst>
                  <a:gd name="textAreaLeft" fmla="*/ 9360 w 43200"/>
                  <a:gd name="textAreaRight" fmla="*/ 33840 w 43200"/>
                  <a:gd name="textAreaTop" fmla="*/ 19440 h 89280"/>
                  <a:gd name="textAreaBottom" fmla="*/ 69840 h 8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150"/>
              <p:cNvSpPr/>
              <p:nvPr/>
            </p:nvSpPr>
            <p:spPr>
              <a:xfrm rot="15600000">
                <a:off x="6019560" y="3127320"/>
                <a:ext cx="44640" cy="83880"/>
              </a:xfrm>
              <a:custGeom>
                <a:avLst/>
                <a:gdLst>
                  <a:gd name="textAreaLeft" fmla="*/ 9720 w 44640"/>
                  <a:gd name="textAreaRight" fmla="*/ 34920 w 44640"/>
                  <a:gd name="textAreaTop" fmla="*/ 16560 h 83880"/>
                  <a:gd name="textAreaBottom" fmla="*/ 67320 h 8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151"/>
              <p:cNvSpPr/>
              <p:nvPr/>
            </p:nvSpPr>
            <p:spPr>
              <a:xfrm rot="7320000">
                <a:off x="6084720" y="3134880"/>
                <a:ext cx="44280" cy="83880"/>
              </a:xfrm>
              <a:custGeom>
                <a:avLst/>
                <a:gdLst>
                  <a:gd name="textAreaLeft" fmla="*/ 9360 w 44280"/>
                  <a:gd name="textAreaRight" fmla="*/ 34920 w 44280"/>
                  <a:gd name="textAreaTop" fmla="*/ 16560 h 83880"/>
                  <a:gd name="textAreaBottom" fmla="*/ 67320 h 8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152"/>
              <p:cNvSpPr/>
              <p:nvPr/>
            </p:nvSpPr>
            <p:spPr>
              <a:xfrm rot="12600000">
                <a:off x="6029280" y="3178440"/>
                <a:ext cx="43200" cy="110160"/>
              </a:xfrm>
              <a:custGeom>
                <a:avLst/>
                <a:gdLst>
                  <a:gd name="textAreaLeft" fmla="*/ 9360 w 43200"/>
                  <a:gd name="textAreaRight" fmla="*/ 33840 w 43200"/>
                  <a:gd name="textAreaTop" fmla="*/ 23040 h 110160"/>
                  <a:gd name="textAreaBottom" fmla="*/ 87120 h 11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153"/>
              <p:cNvSpPr/>
              <p:nvPr/>
            </p:nvSpPr>
            <p:spPr>
              <a:xfrm rot="10080000">
                <a:off x="6070680" y="3193560"/>
                <a:ext cx="43200" cy="110880"/>
              </a:xfrm>
              <a:custGeom>
                <a:avLst/>
                <a:gdLst>
                  <a:gd name="textAreaLeft" fmla="*/ 9360 w 43200"/>
                  <a:gd name="textAreaRight" fmla="*/ 33840 w 43200"/>
                  <a:gd name="textAreaTop" fmla="*/ 23400 h 110880"/>
                  <a:gd name="textAreaBottom" fmla="*/ 87480 h 11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Freeform 154"/>
            <p:cNvSpPr/>
            <p:nvPr/>
          </p:nvSpPr>
          <p:spPr>
            <a:xfrm>
              <a:off x="6084000" y="2975040"/>
              <a:ext cx="118080" cy="4503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63" h="232">
                  <a:moveTo>
                    <a:pt x="5" y="16"/>
                  </a:moveTo>
                  <a:cubicBezTo>
                    <a:pt x="8" y="17"/>
                    <a:pt x="11" y="18"/>
                    <a:pt x="13" y="20"/>
                  </a:cubicBezTo>
                  <a:cubicBezTo>
                    <a:pt x="15" y="22"/>
                    <a:pt x="15" y="25"/>
                    <a:pt x="17" y="26"/>
                  </a:cubicBezTo>
                  <a:cubicBezTo>
                    <a:pt x="21" y="28"/>
                    <a:pt x="29" y="30"/>
                    <a:pt x="29" y="30"/>
                  </a:cubicBezTo>
                  <a:cubicBezTo>
                    <a:pt x="32" y="38"/>
                    <a:pt x="34" y="41"/>
                    <a:pt x="41" y="46"/>
                  </a:cubicBezTo>
                  <a:cubicBezTo>
                    <a:pt x="45" y="53"/>
                    <a:pt x="45" y="59"/>
                    <a:pt x="49" y="66"/>
                  </a:cubicBezTo>
                  <a:cubicBezTo>
                    <a:pt x="51" y="70"/>
                    <a:pt x="57" y="78"/>
                    <a:pt x="57" y="78"/>
                  </a:cubicBezTo>
                  <a:cubicBezTo>
                    <a:pt x="59" y="87"/>
                    <a:pt x="61" y="95"/>
                    <a:pt x="63" y="104"/>
                  </a:cubicBezTo>
                  <a:cubicBezTo>
                    <a:pt x="62" y="139"/>
                    <a:pt x="62" y="119"/>
                    <a:pt x="61" y="154"/>
                  </a:cubicBezTo>
                  <a:cubicBezTo>
                    <a:pt x="59" y="160"/>
                    <a:pt x="51" y="204"/>
                    <a:pt x="41" y="206"/>
                  </a:cubicBezTo>
                  <a:cubicBezTo>
                    <a:pt x="25" y="205"/>
                    <a:pt x="16" y="217"/>
                    <a:pt x="3" y="204"/>
                  </a:cubicBezTo>
                  <a:cubicBezTo>
                    <a:pt x="21" y="232"/>
                    <a:pt x="0" y="213"/>
                    <a:pt x="19" y="200"/>
                  </a:cubicBezTo>
                  <a:cubicBezTo>
                    <a:pt x="23" y="187"/>
                    <a:pt x="33" y="175"/>
                    <a:pt x="37" y="162"/>
                  </a:cubicBezTo>
                  <a:cubicBezTo>
                    <a:pt x="51" y="116"/>
                    <a:pt x="38" y="89"/>
                    <a:pt x="37" y="52"/>
                  </a:cubicBezTo>
                  <a:cubicBezTo>
                    <a:pt x="37" y="47"/>
                    <a:pt x="27" y="34"/>
                    <a:pt x="23" y="34"/>
                  </a:cubicBez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5"/>
            <p:cNvSpPr/>
            <p:nvPr/>
          </p:nvSpPr>
          <p:spPr>
            <a:xfrm>
              <a:off x="5990760" y="3025440"/>
              <a:ext cx="170280" cy="351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156"/>
          <p:cNvGrpSpPr/>
          <p:nvPr/>
        </p:nvGrpSpPr>
        <p:grpSpPr>
          <a:xfrm>
            <a:off x="5384160" y="1979640"/>
            <a:ext cx="1297080" cy="1483920"/>
            <a:chOff x="5384160" y="1979640"/>
            <a:chExt cx="1297080" cy="1483920"/>
          </a:xfrm>
        </p:grpSpPr>
        <p:sp>
          <p:nvSpPr>
            <p:cNvPr id="604" name="Freeform 157"/>
            <p:cNvSpPr/>
            <p:nvPr/>
          </p:nvSpPr>
          <p:spPr>
            <a:xfrm>
              <a:off x="5435640" y="1979640"/>
              <a:ext cx="1146960" cy="145188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1451880"/>
                <a:gd name="textAreaBottom" fmla="*/ 1451880 h 1451880"/>
              </a:gdLst>
              <a:ahLst/>
              <a:rect l="textAreaLeft" t="textAreaTop" r="textAreaRight" b="textAreaBottom"/>
              <a:pathLst>
                <a:path w="616" h="748">
                  <a:moveTo>
                    <a:pt x="141" y="315"/>
                  </a:moveTo>
                  <a:lnTo>
                    <a:pt x="140" y="206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57" y="193"/>
                  </a:lnTo>
                  <a:lnTo>
                    <a:pt x="175" y="179"/>
                  </a:lnTo>
                  <a:cubicBezTo>
                    <a:pt x="175" y="176"/>
                    <a:pt x="175" y="173"/>
                    <a:pt x="177" y="170"/>
                  </a:cubicBezTo>
                  <a:cubicBezTo>
                    <a:pt x="178" y="169"/>
                    <a:pt x="181" y="166"/>
                    <a:pt x="183" y="169"/>
                  </a:cubicBezTo>
                  <a:cubicBezTo>
                    <a:pt x="186" y="171"/>
                    <a:pt x="187" y="175"/>
                    <a:pt x="184" y="177"/>
                  </a:cubicBezTo>
                  <a:cubicBezTo>
                    <a:pt x="178" y="185"/>
                    <a:pt x="168" y="189"/>
                    <a:pt x="160" y="196"/>
                  </a:cubicBezTo>
                  <a:cubicBezTo>
                    <a:pt x="176" y="204"/>
                    <a:pt x="184" y="220"/>
                    <a:pt x="197" y="231"/>
                  </a:cubicBezTo>
                  <a:cubicBezTo>
                    <a:pt x="216" y="256"/>
                    <a:pt x="215" y="261"/>
                    <a:pt x="227" y="283"/>
                  </a:cubicBezTo>
                  <a:cubicBezTo>
                    <a:pt x="243" y="301"/>
                    <a:pt x="257" y="320"/>
                    <a:pt x="274" y="339"/>
                  </a:cubicBezTo>
                  <a:cubicBezTo>
                    <a:pt x="277" y="343"/>
                    <a:pt x="286" y="349"/>
                    <a:pt x="286" y="349"/>
                  </a:cubicBezTo>
                  <a:cubicBezTo>
                    <a:pt x="326" y="352"/>
                    <a:pt x="334" y="381"/>
                    <a:pt x="370" y="425"/>
                  </a:cubicBezTo>
                  <a:cubicBezTo>
                    <a:pt x="383" y="421"/>
                    <a:pt x="406" y="415"/>
                    <a:pt x="419" y="429"/>
                  </a:cubicBezTo>
                  <a:cubicBezTo>
                    <a:pt x="427" y="438"/>
                    <a:pt x="435" y="447"/>
                    <a:pt x="443" y="456"/>
                  </a:cubicBezTo>
                  <a:cubicBezTo>
                    <a:pt x="461" y="471"/>
                    <a:pt x="465" y="501"/>
                    <a:pt x="486" y="502"/>
                  </a:cubicBezTo>
                  <a:cubicBezTo>
                    <a:pt x="489" y="498"/>
                    <a:pt x="526" y="515"/>
                    <a:pt x="515" y="491"/>
                  </a:cubicBezTo>
                  <a:lnTo>
                    <a:pt x="424" y="350"/>
                  </a:lnTo>
                  <a:lnTo>
                    <a:pt x="472" y="385"/>
                  </a:lnTo>
                  <a:lnTo>
                    <a:pt x="579" y="558"/>
                  </a:lnTo>
                  <a:lnTo>
                    <a:pt x="616" y="748"/>
                  </a:lnTo>
                  <a:lnTo>
                    <a:pt x="595" y="733"/>
                  </a:lnTo>
                  <a:lnTo>
                    <a:pt x="505" y="625"/>
                  </a:lnTo>
                  <a:cubicBezTo>
                    <a:pt x="481" y="619"/>
                    <a:pt x="411" y="604"/>
                    <a:pt x="397" y="580"/>
                  </a:cubicBezTo>
                  <a:lnTo>
                    <a:pt x="408" y="516"/>
                  </a:lnTo>
                  <a:lnTo>
                    <a:pt x="299" y="484"/>
                  </a:lnTo>
                  <a:lnTo>
                    <a:pt x="244" y="475"/>
                  </a:lnTo>
                  <a:lnTo>
                    <a:pt x="205" y="445"/>
                  </a:lnTo>
                  <a:lnTo>
                    <a:pt x="172" y="331"/>
                  </a:lnTo>
                  <a:lnTo>
                    <a:pt x="141" y="315"/>
                  </a:lnTo>
                  <a:close/>
                </a:path>
              </a:pathLst>
            </a:custGeom>
            <a:solidFill>
              <a:srgbClr val="66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158"/>
            <p:cNvGrpSpPr/>
            <p:nvPr/>
          </p:nvGrpSpPr>
          <p:grpSpPr>
            <a:xfrm>
              <a:off x="5682960" y="2351160"/>
              <a:ext cx="741240" cy="793800"/>
              <a:chOff x="5682960" y="2351160"/>
              <a:chExt cx="741240" cy="793800"/>
            </a:xfrm>
          </p:grpSpPr>
          <p:sp>
            <p:nvSpPr>
              <p:cNvPr id="606" name="Freeform 159"/>
              <p:cNvSpPr/>
              <p:nvPr/>
            </p:nvSpPr>
            <p:spPr>
              <a:xfrm rot="5229000">
                <a:off x="5619240" y="2468520"/>
                <a:ext cx="766800" cy="558720"/>
              </a:xfrm>
              <a:custGeom>
                <a:avLst/>
                <a:gdLst>
                  <a:gd name="textAreaLeft" fmla="*/ 0 w 766800"/>
                  <a:gd name="textAreaRight" fmla="*/ 767160 w 76680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160"/>
              <p:cNvSpPr/>
              <p:nvPr/>
            </p:nvSpPr>
            <p:spPr>
              <a:xfrm rot="5229000">
                <a:off x="6220800" y="2691720"/>
                <a:ext cx="202320" cy="1944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61"/>
              <p:cNvSpPr/>
              <p:nvPr/>
            </p:nvSpPr>
            <p:spPr>
              <a:xfrm rot="5229000">
                <a:off x="5645880" y="2538000"/>
                <a:ext cx="153000" cy="716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162"/>
            <p:cNvGrpSpPr/>
            <p:nvPr/>
          </p:nvGrpSpPr>
          <p:grpSpPr>
            <a:xfrm>
              <a:off x="5384160" y="2068560"/>
              <a:ext cx="1297080" cy="1395000"/>
              <a:chOff x="5384160" y="2068560"/>
              <a:chExt cx="1297080" cy="1395000"/>
            </a:xfrm>
          </p:grpSpPr>
          <p:sp>
            <p:nvSpPr>
              <p:cNvPr id="610" name="AutoShape 163"/>
              <p:cNvSpPr/>
              <p:nvPr/>
            </p:nvSpPr>
            <p:spPr>
              <a:xfrm rot="19331400">
                <a:off x="5783400" y="2640960"/>
                <a:ext cx="40680" cy="22320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64"/>
              <p:cNvSpPr/>
              <p:nvPr/>
            </p:nvSpPr>
            <p:spPr>
              <a:xfrm rot="2604000">
                <a:off x="6248520" y="2920680"/>
                <a:ext cx="430200" cy="17820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545" h="226">
                    <a:moveTo>
                      <a:pt x="0" y="0"/>
                    </a:moveTo>
                    <a:lnTo>
                      <a:pt x="318" y="45"/>
                    </a:lnTo>
                    <a:lnTo>
                      <a:pt x="545" y="226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165"/>
              <p:cNvSpPr/>
              <p:nvPr/>
            </p:nvSpPr>
            <p:spPr>
              <a:xfrm rot="18804000">
                <a:off x="5941080" y="2637720"/>
                <a:ext cx="40680" cy="2138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utoShape 166"/>
              <p:cNvSpPr/>
              <p:nvPr/>
            </p:nvSpPr>
            <p:spPr>
              <a:xfrm rot="18804000">
                <a:off x="5838480" y="2487600"/>
                <a:ext cx="42480" cy="4280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7"/>
              <p:cNvSpPr/>
              <p:nvPr/>
            </p:nvSpPr>
            <p:spPr>
              <a:xfrm rot="2604000">
                <a:off x="5623200" y="2567520"/>
                <a:ext cx="631080" cy="73800"/>
              </a:xfrm>
              <a:custGeom>
                <a:avLst/>
                <a:gdLst>
                  <a:gd name="textAreaLeft" fmla="*/ 0 w 631080"/>
                  <a:gd name="textAreaRight" fmla="*/ 631440 w 6310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534" h="78">
                    <a:moveTo>
                      <a:pt x="0" y="40"/>
                    </a:moveTo>
                    <a:cubicBezTo>
                      <a:pt x="13" y="0"/>
                      <a:pt x="96" y="27"/>
                      <a:pt x="116" y="28"/>
                    </a:cubicBezTo>
                    <a:cubicBezTo>
                      <a:pt x="136" y="32"/>
                      <a:pt x="157" y="34"/>
                      <a:pt x="176" y="40"/>
                    </a:cubicBezTo>
                    <a:cubicBezTo>
                      <a:pt x="204" y="37"/>
                      <a:pt x="215" y="38"/>
                      <a:pt x="236" y="24"/>
                    </a:cubicBezTo>
                    <a:cubicBezTo>
                      <a:pt x="249" y="5"/>
                      <a:pt x="239" y="14"/>
                      <a:pt x="268" y="4"/>
                    </a:cubicBezTo>
                    <a:cubicBezTo>
                      <a:pt x="272" y="3"/>
                      <a:pt x="280" y="0"/>
                      <a:pt x="280" y="0"/>
                    </a:cubicBezTo>
                    <a:cubicBezTo>
                      <a:pt x="534" y="7"/>
                      <a:pt x="412" y="20"/>
                      <a:pt x="284" y="24"/>
                    </a:cubicBezTo>
                    <a:cubicBezTo>
                      <a:pt x="278" y="43"/>
                      <a:pt x="276" y="47"/>
                      <a:pt x="256" y="52"/>
                    </a:cubicBezTo>
                    <a:cubicBezTo>
                      <a:pt x="208" y="51"/>
                      <a:pt x="75" y="78"/>
                      <a:pt x="0" y="40"/>
                    </a:cubicBezTo>
                    <a:close/>
                  </a:path>
                </a:pathLst>
              </a:custGeom>
              <a:solidFill>
                <a:srgbClr val="bbe0e3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68"/>
              <p:cNvSpPr/>
              <p:nvPr/>
            </p:nvSpPr>
            <p:spPr>
              <a:xfrm>
                <a:off x="6122520" y="2717280"/>
                <a:ext cx="320040" cy="2192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69"/>
              <p:cNvSpPr/>
              <p:nvPr/>
            </p:nvSpPr>
            <p:spPr>
              <a:xfrm rot="3015600">
                <a:off x="5199480" y="2661120"/>
                <a:ext cx="1554840" cy="249480"/>
              </a:xfrm>
              <a:custGeom>
                <a:avLst/>
                <a:gdLst>
                  <a:gd name="textAreaLeft" fmla="*/ 0 w 1554840"/>
                  <a:gd name="textAreaRight" fmla="*/ 1555200 w 155484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70"/>
              <p:cNvSpPr/>
              <p:nvPr/>
            </p:nvSpPr>
            <p:spPr>
              <a:xfrm>
                <a:off x="5731560" y="2279880"/>
                <a:ext cx="474480" cy="50472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55" h="260">
                    <a:moveTo>
                      <a:pt x="247" y="254"/>
                    </a:moveTo>
                    <a:cubicBezTo>
                      <a:pt x="255" y="242"/>
                      <a:pt x="253" y="249"/>
                      <a:pt x="253" y="233"/>
                    </a:cubicBezTo>
                    <a:lnTo>
                      <a:pt x="219" y="177"/>
                    </a:lnTo>
                    <a:lnTo>
                      <a:pt x="173" y="131"/>
                    </a:lnTo>
                    <a:cubicBezTo>
                      <a:pt x="162" y="124"/>
                      <a:pt x="157" y="118"/>
                      <a:pt x="148" y="110"/>
                    </a:cubicBezTo>
                    <a:cubicBezTo>
                      <a:pt x="143" y="105"/>
                      <a:pt x="130" y="98"/>
                      <a:pt x="130" y="98"/>
                    </a:cubicBezTo>
                    <a:cubicBezTo>
                      <a:pt x="129" y="95"/>
                      <a:pt x="117" y="76"/>
                      <a:pt x="115" y="74"/>
                    </a:cubicBezTo>
                    <a:cubicBezTo>
                      <a:pt x="110" y="69"/>
                      <a:pt x="97" y="62"/>
                      <a:pt x="97" y="62"/>
                    </a:cubicBezTo>
                    <a:cubicBezTo>
                      <a:pt x="89" y="39"/>
                      <a:pt x="101" y="66"/>
                      <a:pt x="85" y="47"/>
                    </a:cubicBezTo>
                    <a:cubicBezTo>
                      <a:pt x="69" y="26"/>
                      <a:pt x="81" y="17"/>
                      <a:pt x="46" y="5"/>
                    </a:cubicBezTo>
                    <a:cubicBezTo>
                      <a:pt x="32" y="6"/>
                      <a:pt x="7" y="0"/>
                      <a:pt x="4" y="14"/>
                    </a:cubicBezTo>
                    <a:cubicBezTo>
                      <a:pt x="0" y="29"/>
                      <a:pt x="10" y="48"/>
                      <a:pt x="22" y="56"/>
                    </a:cubicBezTo>
                    <a:cubicBezTo>
                      <a:pt x="26" y="69"/>
                      <a:pt x="34" y="64"/>
                      <a:pt x="40" y="77"/>
                    </a:cubicBezTo>
                    <a:cubicBezTo>
                      <a:pt x="48" y="93"/>
                      <a:pt x="55" y="109"/>
                      <a:pt x="70" y="119"/>
                    </a:cubicBezTo>
                    <a:cubicBezTo>
                      <a:pt x="81" y="152"/>
                      <a:pt x="71" y="145"/>
                      <a:pt x="112" y="149"/>
                    </a:cubicBezTo>
                    <a:cubicBezTo>
                      <a:pt x="118" y="151"/>
                      <a:pt x="124" y="153"/>
                      <a:pt x="130" y="155"/>
                    </a:cubicBezTo>
                    <a:cubicBezTo>
                      <a:pt x="141" y="159"/>
                      <a:pt x="136" y="187"/>
                      <a:pt x="157" y="194"/>
                    </a:cubicBezTo>
                    <a:cubicBezTo>
                      <a:pt x="166" y="208"/>
                      <a:pt x="177" y="209"/>
                      <a:pt x="190" y="218"/>
                    </a:cubicBezTo>
                    <a:cubicBezTo>
                      <a:pt x="212" y="251"/>
                      <a:pt x="188" y="248"/>
                      <a:pt x="238" y="254"/>
                    </a:cubicBezTo>
                    <a:cubicBezTo>
                      <a:pt x="248" y="257"/>
                      <a:pt x="247" y="260"/>
                      <a:pt x="247" y="254"/>
                    </a:cubicBezTo>
                    <a:close/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71"/>
              <p:cNvSpPr/>
              <p:nvPr/>
            </p:nvSpPr>
            <p:spPr>
              <a:xfrm>
                <a:off x="6129720" y="2781000"/>
                <a:ext cx="426240" cy="42300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229" h="218">
                    <a:moveTo>
                      <a:pt x="0" y="0"/>
                    </a:moveTo>
                    <a:lnTo>
                      <a:pt x="126" y="150"/>
                    </a:lnTo>
                    <a:lnTo>
                      <a:pt x="229" y="218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72"/>
              <p:cNvSpPr/>
              <p:nvPr/>
            </p:nvSpPr>
            <p:spPr>
              <a:xfrm flipV="1" rot="3351000">
                <a:off x="6137280" y="2765880"/>
                <a:ext cx="333720" cy="13212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-360 h 132120"/>
                  <a:gd name="textAreaBottom" fmla="*/ 132120 h 13212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73"/>
              <p:cNvSpPr/>
              <p:nvPr/>
            </p:nvSpPr>
            <p:spPr>
              <a:xfrm flipV="1" rot="3351000">
                <a:off x="6163560" y="2696400"/>
                <a:ext cx="176400" cy="13248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132480"/>
                  <a:gd name="textAreaBottom" fmla="*/ 132480 h 13248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74"/>
              <p:cNvSpPr/>
              <p:nvPr/>
            </p:nvSpPr>
            <p:spPr>
              <a:xfrm>
                <a:off x="5547240" y="2068560"/>
                <a:ext cx="305280" cy="26352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00" h="200">
                    <a:moveTo>
                      <a:pt x="4" y="35"/>
                    </a:moveTo>
                    <a:cubicBezTo>
                      <a:pt x="9" y="25"/>
                      <a:pt x="16" y="17"/>
                      <a:pt x="18" y="6"/>
                    </a:cubicBezTo>
                    <a:cubicBezTo>
                      <a:pt x="19" y="0"/>
                      <a:pt x="12" y="17"/>
                      <a:pt x="7" y="20"/>
                    </a:cubicBezTo>
                    <a:cubicBezTo>
                      <a:pt x="2" y="23"/>
                      <a:pt x="14" y="9"/>
                      <a:pt x="19" y="5"/>
                    </a:cubicBezTo>
                    <a:cubicBezTo>
                      <a:pt x="32" y="9"/>
                      <a:pt x="31" y="5"/>
                      <a:pt x="46" y="20"/>
                    </a:cubicBezTo>
                    <a:lnTo>
                      <a:pt x="154" y="142"/>
                    </a:lnTo>
                    <a:lnTo>
                      <a:pt x="200" y="188"/>
                    </a:lnTo>
                    <a:cubicBezTo>
                      <a:pt x="170" y="169"/>
                      <a:pt x="173" y="166"/>
                      <a:pt x="142" y="170"/>
                    </a:cubicBezTo>
                    <a:cubicBezTo>
                      <a:pt x="126" y="175"/>
                      <a:pt x="127" y="183"/>
                      <a:pt x="124" y="200"/>
                    </a:cubicBezTo>
                    <a:cubicBezTo>
                      <a:pt x="112" y="182"/>
                      <a:pt x="109" y="161"/>
                      <a:pt x="91" y="149"/>
                    </a:cubicBezTo>
                    <a:cubicBezTo>
                      <a:pt x="85" y="140"/>
                      <a:pt x="67" y="128"/>
                      <a:pt x="67" y="128"/>
                    </a:cubicBezTo>
                    <a:cubicBezTo>
                      <a:pt x="60" y="117"/>
                      <a:pt x="48" y="105"/>
                      <a:pt x="37" y="98"/>
                    </a:cubicBezTo>
                    <a:cubicBezTo>
                      <a:pt x="35" y="95"/>
                      <a:pt x="34" y="92"/>
                      <a:pt x="31" y="89"/>
                    </a:cubicBezTo>
                    <a:cubicBezTo>
                      <a:pt x="28" y="86"/>
                      <a:pt x="24" y="86"/>
                      <a:pt x="22" y="83"/>
                    </a:cubicBezTo>
                    <a:cubicBezTo>
                      <a:pt x="15" y="74"/>
                      <a:pt x="13" y="65"/>
                      <a:pt x="4" y="56"/>
                    </a:cubicBezTo>
                    <a:cubicBezTo>
                      <a:pt x="0" y="43"/>
                      <a:pt x="0" y="50"/>
                      <a:pt x="4" y="35"/>
                    </a:cubicBezTo>
                    <a:close/>
                  </a:path>
                </a:pathLst>
              </a:custGeom>
              <a:solidFill>
                <a:srgbClr val="660033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175"/>
              <p:cNvSpPr/>
              <p:nvPr/>
            </p:nvSpPr>
            <p:spPr>
              <a:xfrm rot="780000">
                <a:off x="6133680" y="2880000"/>
                <a:ext cx="42480" cy="368640"/>
              </a:xfrm>
              <a:custGeom>
                <a:avLst/>
                <a:gdLst>
                  <a:gd name="textAreaLeft" fmla="*/ 9000 w 42480"/>
                  <a:gd name="textAreaRight" fmla="*/ 33480 w 42480"/>
                  <a:gd name="textAreaTop" fmla="*/ 77400 h 368640"/>
                  <a:gd name="textAreaBottom" fmla="*/ 291240 h 36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e0e3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176"/>
              <p:cNvSpPr/>
              <p:nvPr/>
            </p:nvSpPr>
            <p:spPr>
              <a:xfrm rot="240000">
                <a:off x="5601240" y="2231640"/>
                <a:ext cx="42480" cy="263880"/>
              </a:xfrm>
              <a:custGeom>
                <a:avLst/>
                <a:gdLst>
                  <a:gd name="textAreaLeft" fmla="*/ 9000 w 42480"/>
                  <a:gd name="textAreaRight" fmla="*/ 33480 w 42480"/>
                  <a:gd name="textAreaTop" fmla="*/ 54360 h 263880"/>
                  <a:gd name="textAreaBottom" fmla="*/ 20952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Group 177"/>
          <p:cNvGrpSpPr/>
          <p:nvPr/>
        </p:nvGrpSpPr>
        <p:grpSpPr>
          <a:xfrm>
            <a:off x="5502240" y="2449440"/>
            <a:ext cx="204840" cy="380520"/>
            <a:chOff x="5502240" y="2449440"/>
            <a:chExt cx="204840" cy="380520"/>
          </a:xfrm>
        </p:grpSpPr>
        <p:grpSp>
          <p:nvGrpSpPr>
            <p:cNvPr id="625" name="Group 178"/>
            <p:cNvGrpSpPr/>
            <p:nvPr/>
          </p:nvGrpSpPr>
          <p:grpSpPr>
            <a:xfrm>
              <a:off x="5502240" y="2449440"/>
              <a:ext cx="187560" cy="380520"/>
              <a:chOff x="5502240" y="2449440"/>
              <a:chExt cx="187560" cy="380520"/>
            </a:xfrm>
          </p:grpSpPr>
          <p:sp>
            <p:nvSpPr>
              <p:cNvPr id="626" name="AutoShape 179"/>
              <p:cNvSpPr/>
              <p:nvPr/>
            </p:nvSpPr>
            <p:spPr>
              <a:xfrm>
                <a:off x="5502240" y="2449440"/>
                <a:ext cx="187560" cy="380520"/>
              </a:xfrm>
              <a:custGeom>
                <a:avLst/>
                <a:gdLst>
                  <a:gd name="textAreaLeft" fmla="*/ 26280 w 187560"/>
                  <a:gd name="textAreaRight" fmla="*/ 161280 w 187560"/>
                  <a:gd name="textAreaTop" fmla="*/ 55800 h 380520"/>
                  <a:gd name="textAreaBottom" fmla="*/ 3247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3323" y="10800"/>
                    </a:moveTo>
                    <a:cubicBezTo>
                      <a:pt x="3323" y="14929"/>
                      <a:pt x="6671" y="18277"/>
                      <a:pt x="10800" y="18277"/>
                    </a:cubicBezTo>
                    <a:cubicBezTo>
                      <a:pt x="14929" y="18277"/>
                      <a:pt x="18277" y="14929"/>
                      <a:pt x="18277" y="10800"/>
                    </a:cubicBezTo>
                    <a:cubicBezTo>
                      <a:pt x="18277" y="6671"/>
                      <a:pt x="14929" y="3323"/>
                      <a:pt x="10800" y="3323"/>
                    </a:cubicBezTo>
                    <a:cubicBezTo>
                      <a:pt x="6671" y="3323"/>
                      <a:pt x="3323" y="6671"/>
                      <a:pt x="3323" y="10800"/>
                    </a:cubicBezTo>
                    <a:close/>
                  </a:path>
                </a:pathLst>
              </a:custGeom>
              <a:solidFill>
                <a:srgbClr val="bbe0e3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180"/>
              <p:cNvSpPr/>
              <p:nvPr/>
            </p:nvSpPr>
            <p:spPr>
              <a:xfrm>
                <a:off x="5572080" y="2505240"/>
                <a:ext cx="43560" cy="88920"/>
              </a:xfrm>
              <a:custGeom>
                <a:avLst/>
                <a:gdLst>
                  <a:gd name="textAreaLeft" fmla="*/ 9360 w 43560"/>
                  <a:gd name="textAreaRight" fmla="*/ 34200 w 43560"/>
                  <a:gd name="textAreaTop" fmla="*/ 19080 h 88920"/>
                  <a:gd name="textAreaBottom" fmla="*/ 6984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181"/>
              <p:cNvSpPr/>
              <p:nvPr/>
            </p:nvSpPr>
            <p:spPr>
              <a:xfrm rot="15600000">
                <a:off x="5539320" y="2571840"/>
                <a:ext cx="44640" cy="84960"/>
              </a:xfrm>
              <a:custGeom>
                <a:avLst/>
                <a:gdLst>
                  <a:gd name="textAreaLeft" fmla="*/ 9720 w 44640"/>
                  <a:gd name="textAreaRight" fmla="*/ 34920 w 44640"/>
                  <a:gd name="textAreaTop" fmla="*/ 16920 h 84960"/>
                  <a:gd name="textAreaBottom" fmla="*/ 68040 h 8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182"/>
              <p:cNvSpPr/>
              <p:nvPr/>
            </p:nvSpPr>
            <p:spPr>
              <a:xfrm rot="7320000">
                <a:off x="5605560" y="2579400"/>
                <a:ext cx="43920" cy="84960"/>
              </a:xfrm>
              <a:custGeom>
                <a:avLst/>
                <a:gdLst>
                  <a:gd name="textAreaLeft" fmla="*/ 9360 w 43920"/>
                  <a:gd name="textAreaRight" fmla="*/ 34560 w 43920"/>
                  <a:gd name="textAreaTop" fmla="*/ 16920 h 84960"/>
                  <a:gd name="textAreaBottom" fmla="*/ 68040 h 8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183"/>
              <p:cNvSpPr/>
              <p:nvPr/>
            </p:nvSpPr>
            <p:spPr>
              <a:xfrm rot="12600000">
                <a:off x="5549040" y="2622960"/>
                <a:ext cx="43560" cy="109800"/>
              </a:xfrm>
              <a:custGeom>
                <a:avLst/>
                <a:gdLst>
                  <a:gd name="textAreaLeft" fmla="*/ 9360 w 43560"/>
                  <a:gd name="textAreaRight" fmla="*/ 34200 w 43560"/>
                  <a:gd name="textAreaTop" fmla="*/ 23040 h 109800"/>
                  <a:gd name="textAreaBottom" fmla="*/ 867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84"/>
              <p:cNvSpPr/>
              <p:nvPr/>
            </p:nvSpPr>
            <p:spPr>
              <a:xfrm rot="10080000">
                <a:off x="5590440" y="2638080"/>
                <a:ext cx="43560" cy="110160"/>
              </a:xfrm>
              <a:custGeom>
                <a:avLst/>
                <a:gdLst>
                  <a:gd name="textAreaLeft" fmla="*/ 9360 w 43560"/>
                  <a:gd name="textAreaRight" fmla="*/ 34200 w 43560"/>
                  <a:gd name="textAreaTop" fmla="*/ 23040 h 110160"/>
                  <a:gd name="textAreaBottom" fmla="*/ 87120 h 11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AutoShape 185"/>
            <p:cNvSpPr/>
            <p:nvPr/>
          </p:nvSpPr>
          <p:spPr>
            <a:xfrm rot="5040000">
              <a:off x="5628240" y="2540880"/>
              <a:ext cx="44640" cy="108360"/>
            </a:xfrm>
            <a:custGeom>
              <a:avLst/>
              <a:gdLst>
                <a:gd name="textAreaLeft" fmla="*/ 9720 w 44640"/>
                <a:gd name="textAreaRight" fmla="*/ 34920 w 44640"/>
                <a:gd name="textAreaTop" fmla="*/ 22680 h 108360"/>
                <a:gd name="textAreaBottom" fmla="*/ 85680 h 1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186"/>
          <p:cNvGrpSpPr/>
          <p:nvPr/>
        </p:nvGrpSpPr>
        <p:grpSpPr>
          <a:xfrm>
            <a:off x="2102040" y="1953000"/>
            <a:ext cx="496440" cy="496080"/>
            <a:chOff x="2102040" y="1953000"/>
            <a:chExt cx="496440" cy="496080"/>
          </a:xfrm>
        </p:grpSpPr>
        <p:sp>
          <p:nvSpPr>
            <p:cNvPr id="634" name="Oval 187"/>
            <p:cNvSpPr/>
            <p:nvPr/>
          </p:nvSpPr>
          <p:spPr>
            <a:xfrm rot="19908600">
              <a:off x="2323080" y="217620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188"/>
            <p:cNvSpPr/>
            <p:nvPr/>
          </p:nvSpPr>
          <p:spPr>
            <a:xfrm rot="19908600">
              <a:off x="2166840" y="201744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89"/>
            <p:cNvSpPr/>
            <p:nvPr/>
          </p:nvSpPr>
          <p:spPr>
            <a:xfrm flipH="1" rot="19908600">
              <a:off x="2298240" y="206568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190"/>
            <p:cNvSpPr/>
            <p:nvPr/>
          </p:nvSpPr>
          <p:spPr>
            <a:xfrm flipH="1" rot="6658200">
              <a:off x="2408040" y="21614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191"/>
            <p:cNvSpPr/>
            <p:nvPr/>
          </p:nvSpPr>
          <p:spPr>
            <a:xfrm flipH="1" rot="15087000">
              <a:off x="2260080" y="21502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192"/>
            <p:cNvSpPr/>
            <p:nvPr/>
          </p:nvSpPr>
          <p:spPr>
            <a:xfrm flipH="1" rot="11644200">
              <a:off x="2320200" y="22021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193"/>
            <p:cNvSpPr/>
            <p:nvPr/>
          </p:nvSpPr>
          <p:spPr>
            <a:xfrm flipH="1" rot="2681400">
              <a:off x="2389680" y="20768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94"/>
            <p:cNvSpPr/>
            <p:nvPr/>
          </p:nvSpPr>
          <p:spPr>
            <a:xfrm rot="19908600">
              <a:off x="2176200" y="202644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95"/>
          <p:cNvGrpSpPr/>
          <p:nvPr/>
        </p:nvGrpSpPr>
        <p:grpSpPr>
          <a:xfrm>
            <a:off x="1051200" y="1830600"/>
            <a:ext cx="496800" cy="496440"/>
            <a:chOff x="1051200" y="1830600"/>
            <a:chExt cx="496800" cy="496440"/>
          </a:xfrm>
        </p:grpSpPr>
        <p:sp>
          <p:nvSpPr>
            <p:cNvPr id="643" name="Oval 196"/>
            <p:cNvSpPr/>
            <p:nvPr/>
          </p:nvSpPr>
          <p:spPr>
            <a:xfrm rot="19908600">
              <a:off x="1272600" y="205416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197"/>
            <p:cNvSpPr/>
            <p:nvPr/>
          </p:nvSpPr>
          <p:spPr>
            <a:xfrm rot="19908600">
              <a:off x="1116000" y="189504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198"/>
            <p:cNvSpPr/>
            <p:nvPr/>
          </p:nvSpPr>
          <p:spPr>
            <a:xfrm flipH="1" rot="19908600">
              <a:off x="1247040" y="19432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199"/>
            <p:cNvSpPr/>
            <p:nvPr/>
          </p:nvSpPr>
          <p:spPr>
            <a:xfrm flipH="1" rot="6658200">
              <a:off x="1357560" y="20390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00"/>
            <p:cNvSpPr/>
            <p:nvPr/>
          </p:nvSpPr>
          <p:spPr>
            <a:xfrm flipH="1" rot="15087000">
              <a:off x="1209240" y="20278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01"/>
            <p:cNvSpPr/>
            <p:nvPr/>
          </p:nvSpPr>
          <p:spPr>
            <a:xfrm flipH="1" rot="11644200">
              <a:off x="1269720" y="20800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02"/>
            <p:cNvSpPr/>
            <p:nvPr/>
          </p:nvSpPr>
          <p:spPr>
            <a:xfrm flipH="1" rot="2681400">
              <a:off x="1338840" y="19548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03"/>
            <p:cNvSpPr/>
            <p:nvPr/>
          </p:nvSpPr>
          <p:spPr>
            <a:xfrm rot="19908600">
              <a:off x="1125720" y="190368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矩形 12"/>
          <p:cNvSpPr/>
          <p:nvPr/>
        </p:nvSpPr>
        <p:spPr>
          <a:xfrm>
            <a:off x="498240" y="5038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00000">
                                      <p:cBhvr>
                                        <p:cTn id="394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7647E-006 C 0.05121 -0.00235 0.10243 -0.00441 0.15746 -1.17647E-006 C 0.2125 0.00442 0.28472 0.01118 0.33073 0.02677 C 0.37674 0.04236 0.39896 0.05795 0.43299 0.09353 C 0.46701 0.12912 0.50121 0.18471 0.53542 0.2403 E">
                                      <p:cBhvr>
                                        <p:cTn id="396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-0.00235 C 0.04827 0.00088 0.23785 0.00176 0.31493 0.01763 C 0.39202 0.0335 0.42049 0.06083 0.45782 0.09315 C 0.49514 0.12518 0.52171 0.18631 0.53855 0.21099 E">
                                      <p:cBhvr>
                                        <p:cTn id="398" dur="1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4118E-006 C 0.03559 0.00206 0.15226 -0.00029 0.21354 0.01177 C 0.27483 0.02383 0.3191 0.02706 0.36771 0.07294 C 0.41632 0.11883 0.47656 0.24236 0.50521 0.28706 E">
                                      <p:cBhvr>
                                        <p:cTn id="400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-2.96884E-006 C 0.025 0.0388 0.05 0.0776 0.09461 0.15991 C 0.13923 0.24221 0.20347 0.36773 0.2677 0.49324 E">
                                      <p:cBhvr>
                                        <p:cTn id="418" dur="8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3.54687E-006 C 0.08541 0.16103 0.17135 0.32265 0.21684 0.40905 C 0.2625 0.49544 0.26771 0.50631 0.27309 0.51777 E">
                                      <p:cBhvr>
                                        <p:cTn id="420" dur="8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3.82897E-006 C 0.08385 0.1578 0.16822 0.31589 0.21302 0.40023 C 0.25763 0.48457 0.26284 0.49544 0.26822 0.50661 E">
                                      <p:cBhvr>
                                        <p:cTn id="422" dur="8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6" repeatCount="4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10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6" repeatCount="4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100" autoRev="1" fill="hold"/>
                                        <p:tgtEl>
                                          <p:spTgt spid="5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2"/>
          <p:cNvSpPr/>
          <p:nvPr/>
        </p:nvSpPr>
        <p:spPr>
          <a:xfrm rot="232800">
            <a:off x="6294600" y="4215960"/>
            <a:ext cx="2957400" cy="1292400"/>
          </a:xfrm>
          <a:prstGeom prst="triangle">
            <a:avLst>
              <a:gd name="adj" fmla="val 95546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396720"/>
            <a:ext cx="3997440" cy="2773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"/>
          <p:cNvSpPr/>
          <p:nvPr/>
        </p:nvSpPr>
        <p:spPr>
          <a:xfrm flipV="1">
            <a:off x="34920" y="3205080"/>
            <a:ext cx="4032360" cy="865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5"/>
          <p:cNvSpPr/>
          <p:nvPr/>
        </p:nvSpPr>
        <p:spPr>
          <a:xfrm flipV="1">
            <a:off x="5256360" y="4087440"/>
            <a:ext cx="3887640" cy="131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3924360" y="0"/>
            <a:ext cx="3421080" cy="244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 flipV="1">
            <a:off x="7308720" y="2077560"/>
            <a:ext cx="1835280" cy="36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8"/>
          <p:cNvGrpSpPr/>
          <p:nvPr/>
        </p:nvGrpSpPr>
        <p:grpSpPr>
          <a:xfrm>
            <a:off x="8018640" y="1835280"/>
            <a:ext cx="231480" cy="504720"/>
            <a:chOff x="8018640" y="1835280"/>
            <a:chExt cx="231480" cy="504720"/>
          </a:xfrm>
        </p:grpSpPr>
        <p:grpSp>
          <p:nvGrpSpPr>
            <p:cNvPr id="659" name="Group 9"/>
            <p:cNvGrpSpPr/>
            <p:nvPr/>
          </p:nvGrpSpPr>
          <p:grpSpPr>
            <a:xfrm>
              <a:off x="8018640" y="1835280"/>
              <a:ext cx="21240" cy="504720"/>
              <a:chOff x="8018640" y="1835280"/>
              <a:chExt cx="21240" cy="504720"/>
            </a:xfrm>
          </p:grpSpPr>
          <p:sp>
            <p:nvSpPr>
              <p:cNvPr id="660" name="AutoShape 10"/>
              <p:cNvSpPr/>
              <p:nvPr/>
            </p:nvSpPr>
            <p:spPr>
              <a:xfrm>
                <a:off x="8018640" y="2306880"/>
                <a:ext cx="21240" cy="3312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1"/>
              <p:cNvSpPr/>
              <p:nvPr/>
            </p:nvSpPr>
            <p:spPr>
              <a:xfrm>
                <a:off x="8023320" y="1835280"/>
                <a:ext cx="10800" cy="5040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Freeform 12"/>
            <p:cNvSpPr/>
            <p:nvPr/>
          </p:nvSpPr>
          <p:spPr>
            <a:xfrm>
              <a:off x="8034120" y="1862640"/>
              <a:ext cx="133560" cy="34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3"/>
            <p:cNvSpPr/>
            <p:nvPr/>
          </p:nvSpPr>
          <p:spPr>
            <a:xfrm>
              <a:off x="8035200" y="186696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4"/>
            <p:cNvSpPr/>
            <p:nvPr/>
          </p:nvSpPr>
          <p:spPr>
            <a:xfrm>
              <a:off x="8157960" y="1863720"/>
              <a:ext cx="60480" cy="26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5"/>
            <p:cNvSpPr/>
            <p:nvPr/>
          </p:nvSpPr>
          <p:spPr>
            <a:xfrm>
              <a:off x="8169480" y="1864800"/>
              <a:ext cx="43200" cy="75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6"/>
            <p:cNvSpPr/>
            <p:nvPr/>
          </p:nvSpPr>
          <p:spPr>
            <a:xfrm>
              <a:off x="8218080" y="1924200"/>
              <a:ext cx="21960" cy="594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7"/>
            <p:cNvSpPr/>
            <p:nvPr/>
          </p:nvSpPr>
          <p:spPr>
            <a:xfrm>
              <a:off x="8188200" y="1909440"/>
              <a:ext cx="0" cy="2916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8"/>
            <p:cNvSpPr/>
            <p:nvPr/>
          </p:nvSpPr>
          <p:spPr>
            <a:xfrm>
              <a:off x="8173440" y="1968840"/>
              <a:ext cx="0" cy="442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19"/>
            <p:cNvSpPr/>
            <p:nvPr/>
          </p:nvSpPr>
          <p:spPr>
            <a:xfrm flipV="1" rot="21296400">
              <a:off x="8150040" y="1878480"/>
              <a:ext cx="93600" cy="149040"/>
            </a:xfrm>
            <a:custGeom>
              <a:avLst/>
              <a:gdLst>
                <a:gd name="textAreaLeft" fmla="*/ 21960 w 93600"/>
                <a:gd name="textAreaRight" fmla="*/ 71640 w 93600"/>
                <a:gd name="textAreaTop" fmla="*/ 35280 h 149040"/>
                <a:gd name="textAreaBottom" fmla="*/ 113760 h 1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0"/>
          <p:cNvGrpSpPr/>
          <p:nvPr/>
        </p:nvGrpSpPr>
        <p:grpSpPr>
          <a:xfrm>
            <a:off x="2916360" y="1836720"/>
            <a:ext cx="264240" cy="576360"/>
            <a:chOff x="2916360" y="1836720"/>
            <a:chExt cx="264240" cy="576360"/>
          </a:xfrm>
        </p:grpSpPr>
        <p:grpSp>
          <p:nvGrpSpPr>
            <p:cNvPr id="671" name="Group 21"/>
            <p:cNvGrpSpPr/>
            <p:nvPr/>
          </p:nvGrpSpPr>
          <p:grpSpPr>
            <a:xfrm>
              <a:off x="2916360" y="1836720"/>
              <a:ext cx="24120" cy="576360"/>
              <a:chOff x="2916360" y="1836720"/>
              <a:chExt cx="24120" cy="576360"/>
            </a:xfrm>
          </p:grpSpPr>
          <p:sp>
            <p:nvSpPr>
              <p:cNvPr id="672" name="AutoShape 22"/>
              <p:cNvSpPr/>
              <p:nvPr/>
            </p:nvSpPr>
            <p:spPr>
              <a:xfrm>
                <a:off x="2916360" y="2375280"/>
                <a:ext cx="24120" cy="3780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3"/>
              <p:cNvSpPr/>
              <p:nvPr/>
            </p:nvSpPr>
            <p:spPr>
              <a:xfrm>
                <a:off x="2921760" y="1836720"/>
                <a:ext cx="12240" cy="57564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Freeform 24"/>
            <p:cNvSpPr/>
            <p:nvPr/>
          </p:nvSpPr>
          <p:spPr>
            <a:xfrm>
              <a:off x="2934000" y="1868040"/>
              <a:ext cx="152280" cy="39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5"/>
            <p:cNvSpPr/>
            <p:nvPr/>
          </p:nvSpPr>
          <p:spPr>
            <a:xfrm>
              <a:off x="2935080" y="18727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6"/>
            <p:cNvSpPr/>
            <p:nvPr/>
          </p:nvSpPr>
          <p:spPr>
            <a:xfrm>
              <a:off x="3075480" y="1869120"/>
              <a:ext cx="68760" cy="306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7"/>
            <p:cNvSpPr/>
            <p:nvPr/>
          </p:nvSpPr>
          <p:spPr>
            <a:xfrm>
              <a:off x="3088440" y="1870560"/>
              <a:ext cx="48960" cy="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8"/>
            <p:cNvSpPr/>
            <p:nvPr/>
          </p:nvSpPr>
          <p:spPr>
            <a:xfrm>
              <a:off x="3143520" y="1938240"/>
              <a:ext cx="25200" cy="68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9"/>
            <p:cNvSpPr/>
            <p:nvPr/>
          </p:nvSpPr>
          <p:spPr>
            <a:xfrm>
              <a:off x="3109680" y="1921320"/>
              <a:ext cx="0" cy="334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30"/>
            <p:cNvSpPr/>
            <p:nvPr/>
          </p:nvSpPr>
          <p:spPr>
            <a:xfrm>
              <a:off x="3092760" y="1989360"/>
              <a:ext cx="0" cy="5076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31"/>
            <p:cNvSpPr/>
            <p:nvPr/>
          </p:nvSpPr>
          <p:spPr>
            <a:xfrm flipV="1" rot="21296400">
              <a:off x="3066120" y="1887480"/>
              <a:ext cx="106920" cy="169920"/>
            </a:xfrm>
            <a:custGeom>
              <a:avLst/>
              <a:gdLst>
                <a:gd name="textAreaLeft" fmla="*/ 25200 w 106920"/>
                <a:gd name="textAreaRight" fmla="*/ 81720 w 106920"/>
                <a:gd name="textAreaTop" fmla="*/ 40320 h 169920"/>
                <a:gd name="textAreaBottom" fmla="*/ 129600 h 16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32"/>
          <p:cNvGrpSpPr/>
          <p:nvPr/>
        </p:nvGrpSpPr>
        <p:grpSpPr>
          <a:xfrm>
            <a:off x="468360" y="3205080"/>
            <a:ext cx="363600" cy="792360"/>
            <a:chOff x="468360" y="3205080"/>
            <a:chExt cx="363600" cy="792360"/>
          </a:xfrm>
        </p:grpSpPr>
        <p:grpSp>
          <p:nvGrpSpPr>
            <p:cNvPr id="683" name="Group 33"/>
            <p:cNvGrpSpPr/>
            <p:nvPr/>
          </p:nvGrpSpPr>
          <p:grpSpPr>
            <a:xfrm>
              <a:off x="468360" y="3205080"/>
              <a:ext cx="33120" cy="792360"/>
              <a:chOff x="468360" y="3205080"/>
              <a:chExt cx="33120" cy="792360"/>
            </a:xfrm>
          </p:grpSpPr>
          <p:sp>
            <p:nvSpPr>
              <p:cNvPr id="684" name="AutoShape 34"/>
              <p:cNvSpPr/>
              <p:nvPr/>
            </p:nvSpPr>
            <p:spPr>
              <a:xfrm>
                <a:off x="468360" y="3945240"/>
                <a:ext cx="33120" cy="5220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35"/>
              <p:cNvSpPr/>
              <p:nvPr/>
            </p:nvSpPr>
            <p:spPr>
              <a:xfrm>
                <a:off x="475560" y="3205080"/>
                <a:ext cx="16920" cy="79128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36"/>
            <p:cNvSpPr/>
            <p:nvPr/>
          </p:nvSpPr>
          <p:spPr>
            <a:xfrm>
              <a:off x="492840" y="3247920"/>
              <a:ext cx="209520" cy="54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7"/>
            <p:cNvSpPr/>
            <p:nvPr/>
          </p:nvSpPr>
          <p:spPr>
            <a:xfrm>
              <a:off x="494280" y="325476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8"/>
            <p:cNvSpPr/>
            <p:nvPr/>
          </p:nvSpPr>
          <p:spPr>
            <a:xfrm>
              <a:off x="687240" y="3249720"/>
              <a:ext cx="94680" cy="417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9"/>
            <p:cNvSpPr/>
            <p:nvPr/>
          </p:nvSpPr>
          <p:spPr>
            <a:xfrm>
              <a:off x="705240" y="3251520"/>
              <a:ext cx="67680" cy="12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0"/>
            <p:cNvSpPr/>
            <p:nvPr/>
          </p:nvSpPr>
          <p:spPr>
            <a:xfrm>
              <a:off x="781200" y="3344760"/>
              <a:ext cx="34560" cy="936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1"/>
            <p:cNvSpPr/>
            <p:nvPr/>
          </p:nvSpPr>
          <p:spPr>
            <a:xfrm>
              <a:off x="734400" y="3321720"/>
              <a:ext cx="0" cy="460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42"/>
            <p:cNvSpPr/>
            <p:nvPr/>
          </p:nvSpPr>
          <p:spPr>
            <a:xfrm>
              <a:off x="711360" y="3414600"/>
              <a:ext cx="0" cy="698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43"/>
            <p:cNvSpPr/>
            <p:nvPr/>
          </p:nvSpPr>
          <p:spPr>
            <a:xfrm flipV="1" rot="21296400">
              <a:off x="674640" y="3273840"/>
              <a:ext cx="147240" cy="234000"/>
            </a:xfrm>
            <a:custGeom>
              <a:avLst/>
              <a:gdLst>
                <a:gd name="textAreaLeft" fmla="*/ 34920 w 147240"/>
                <a:gd name="textAreaRight" fmla="*/ 112320 w 147240"/>
                <a:gd name="textAreaTop" fmla="*/ 55440 h 234000"/>
                <a:gd name="textAreaBottom" fmla="*/ 17856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44"/>
          <p:cNvGrpSpPr/>
          <p:nvPr/>
        </p:nvGrpSpPr>
        <p:grpSpPr>
          <a:xfrm>
            <a:off x="5214240" y="611280"/>
            <a:ext cx="294480" cy="576000"/>
            <a:chOff x="5214240" y="611280"/>
            <a:chExt cx="294480" cy="576000"/>
          </a:xfrm>
        </p:grpSpPr>
        <p:grpSp>
          <p:nvGrpSpPr>
            <p:cNvPr id="695" name="Group 45"/>
            <p:cNvGrpSpPr/>
            <p:nvPr/>
          </p:nvGrpSpPr>
          <p:grpSpPr>
            <a:xfrm>
              <a:off x="5481720" y="611280"/>
              <a:ext cx="27000" cy="576000"/>
              <a:chOff x="5481720" y="611280"/>
              <a:chExt cx="27000" cy="576000"/>
            </a:xfrm>
          </p:grpSpPr>
          <p:sp>
            <p:nvSpPr>
              <p:cNvPr id="696" name="AutoShape 46"/>
              <p:cNvSpPr/>
              <p:nvPr/>
            </p:nvSpPr>
            <p:spPr>
              <a:xfrm flipH="1">
                <a:off x="5481360" y="1149480"/>
                <a:ext cx="27000" cy="3780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47"/>
              <p:cNvSpPr/>
              <p:nvPr/>
            </p:nvSpPr>
            <p:spPr>
              <a:xfrm flipH="1">
                <a:off x="5489280" y="611280"/>
                <a:ext cx="13680" cy="57528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Freeform 48"/>
            <p:cNvSpPr/>
            <p:nvPr/>
          </p:nvSpPr>
          <p:spPr>
            <a:xfrm flipH="1">
              <a:off x="5319000" y="642600"/>
              <a:ext cx="169920" cy="39240"/>
            </a:xfrm>
            <a:custGeom>
              <a:avLst/>
              <a:gdLst>
                <a:gd name="textAreaLeft" fmla="*/ 360 w 169920"/>
                <a:gd name="textAreaRight" fmla="*/ 170640 w 1699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9"/>
            <p:cNvSpPr/>
            <p:nvPr/>
          </p:nvSpPr>
          <p:spPr>
            <a:xfrm flipH="1">
              <a:off x="5430600" y="647280"/>
              <a:ext cx="56520" cy="5076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0"/>
            <p:cNvSpPr/>
            <p:nvPr/>
          </p:nvSpPr>
          <p:spPr>
            <a:xfrm flipH="1">
              <a:off x="5253840" y="643680"/>
              <a:ext cx="77040" cy="30600"/>
            </a:xfrm>
            <a:custGeom>
              <a:avLst/>
              <a:gdLst>
                <a:gd name="textAreaLeft" fmla="*/ 0 w 77040"/>
                <a:gd name="textAreaRight" fmla="*/ 77040 w 770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1"/>
            <p:cNvSpPr/>
            <p:nvPr/>
          </p:nvSpPr>
          <p:spPr>
            <a:xfrm flipH="1">
              <a:off x="5261040" y="645120"/>
              <a:ext cx="55080" cy="864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52"/>
            <p:cNvSpPr/>
            <p:nvPr/>
          </p:nvSpPr>
          <p:spPr>
            <a:xfrm flipH="1">
              <a:off x="5226480" y="712800"/>
              <a:ext cx="28080" cy="68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53"/>
            <p:cNvSpPr/>
            <p:nvPr/>
          </p:nvSpPr>
          <p:spPr>
            <a:xfrm>
              <a:off x="5292720" y="695880"/>
              <a:ext cx="0" cy="334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54"/>
            <p:cNvSpPr/>
            <p:nvPr/>
          </p:nvSpPr>
          <p:spPr>
            <a:xfrm>
              <a:off x="5311440" y="763560"/>
              <a:ext cx="0" cy="5076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55"/>
            <p:cNvSpPr/>
            <p:nvPr/>
          </p:nvSpPr>
          <p:spPr>
            <a:xfrm flipH="1" flipV="1" rot="303600">
              <a:off x="5221080" y="660960"/>
              <a:ext cx="119520" cy="169920"/>
            </a:xfrm>
            <a:custGeom>
              <a:avLst/>
              <a:gdLst>
                <a:gd name="textAreaLeft" fmla="*/ 28080 w 119520"/>
                <a:gd name="textAreaRight" fmla="*/ 91440 w 119520"/>
                <a:gd name="textAreaTop" fmla="*/ 40320 h 169920"/>
                <a:gd name="textAreaBottom" fmla="*/ 129600 h 16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56"/>
          <p:cNvGrpSpPr/>
          <p:nvPr/>
        </p:nvGrpSpPr>
        <p:grpSpPr>
          <a:xfrm>
            <a:off x="450720" y="396720"/>
            <a:ext cx="164880" cy="360360"/>
            <a:chOff x="450720" y="396720"/>
            <a:chExt cx="164880" cy="360360"/>
          </a:xfrm>
        </p:grpSpPr>
        <p:grpSp>
          <p:nvGrpSpPr>
            <p:cNvPr id="707" name="Group 57"/>
            <p:cNvGrpSpPr/>
            <p:nvPr/>
          </p:nvGrpSpPr>
          <p:grpSpPr>
            <a:xfrm>
              <a:off x="450720" y="396720"/>
              <a:ext cx="15120" cy="360360"/>
              <a:chOff x="450720" y="396720"/>
              <a:chExt cx="15120" cy="360360"/>
            </a:xfrm>
          </p:grpSpPr>
          <p:sp>
            <p:nvSpPr>
              <p:cNvPr id="708" name="AutoShape 58"/>
              <p:cNvSpPr/>
              <p:nvPr/>
            </p:nvSpPr>
            <p:spPr>
              <a:xfrm>
                <a:off x="450720" y="733320"/>
                <a:ext cx="15120" cy="2376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59"/>
              <p:cNvSpPr/>
              <p:nvPr/>
            </p:nvSpPr>
            <p:spPr>
              <a:xfrm>
                <a:off x="453960" y="396720"/>
                <a:ext cx="7560" cy="3600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Freeform 60"/>
            <p:cNvSpPr/>
            <p:nvPr/>
          </p:nvSpPr>
          <p:spPr>
            <a:xfrm>
              <a:off x="461880" y="416160"/>
              <a:ext cx="95040" cy="24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1"/>
            <p:cNvSpPr/>
            <p:nvPr/>
          </p:nvSpPr>
          <p:spPr>
            <a:xfrm>
              <a:off x="462600" y="419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2"/>
            <p:cNvSpPr/>
            <p:nvPr/>
          </p:nvSpPr>
          <p:spPr>
            <a:xfrm>
              <a:off x="550080" y="416880"/>
              <a:ext cx="42840" cy="19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3"/>
            <p:cNvSpPr/>
            <p:nvPr/>
          </p:nvSpPr>
          <p:spPr>
            <a:xfrm>
              <a:off x="558360" y="417960"/>
              <a:ext cx="30600" cy="54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4"/>
            <p:cNvSpPr/>
            <p:nvPr/>
          </p:nvSpPr>
          <p:spPr>
            <a:xfrm>
              <a:off x="592920" y="460080"/>
              <a:ext cx="15480" cy="424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65"/>
            <p:cNvSpPr/>
            <p:nvPr/>
          </p:nvSpPr>
          <p:spPr>
            <a:xfrm>
              <a:off x="571320" y="449640"/>
              <a:ext cx="0" cy="208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66"/>
            <p:cNvSpPr/>
            <p:nvPr/>
          </p:nvSpPr>
          <p:spPr>
            <a:xfrm>
              <a:off x="560880" y="492120"/>
              <a:ext cx="0" cy="316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67"/>
            <p:cNvSpPr/>
            <p:nvPr/>
          </p:nvSpPr>
          <p:spPr>
            <a:xfrm flipV="1" rot="21296400">
              <a:off x="543960" y="428040"/>
              <a:ext cx="66960" cy="106200"/>
            </a:xfrm>
            <a:custGeom>
              <a:avLst/>
              <a:gdLst>
                <a:gd name="textAreaLeft" fmla="*/ 15840 w 66960"/>
                <a:gd name="textAreaRight" fmla="*/ 51120 w 66960"/>
                <a:gd name="textAreaTop" fmla="*/ 25200 h 106200"/>
                <a:gd name="textAreaBottom" fmla="*/ 81000 h 10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68"/>
          <p:cNvGrpSpPr/>
          <p:nvPr/>
        </p:nvGrpSpPr>
        <p:grpSpPr>
          <a:xfrm>
            <a:off x="6012000" y="2413080"/>
            <a:ext cx="215280" cy="2879640"/>
            <a:chOff x="6012000" y="2413080"/>
            <a:chExt cx="215280" cy="2879640"/>
          </a:xfrm>
        </p:grpSpPr>
        <p:sp>
          <p:nvSpPr>
            <p:cNvPr id="719" name="AutoShape 69"/>
            <p:cNvSpPr/>
            <p:nvPr/>
          </p:nvSpPr>
          <p:spPr>
            <a:xfrm>
              <a:off x="6012000" y="5102640"/>
              <a:ext cx="215280" cy="190080"/>
            </a:xfrm>
            <a:prstGeom prst="can">
              <a:avLst>
                <a:gd name="adj" fmla="val 22222"/>
              </a:avLst>
            </a:prstGeom>
            <a:solidFill>
              <a:srgbClr val="bbe0e3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70"/>
            <p:cNvSpPr/>
            <p:nvPr/>
          </p:nvSpPr>
          <p:spPr>
            <a:xfrm>
              <a:off x="6059520" y="2413080"/>
              <a:ext cx="110160" cy="28753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AutoShape 71"/>
          <p:cNvSpPr/>
          <p:nvPr/>
        </p:nvSpPr>
        <p:spPr>
          <a:xfrm flipV="1" rot="2309400">
            <a:off x="4572000" y="2052360"/>
            <a:ext cx="1874520" cy="576360"/>
          </a:xfrm>
          <a:prstGeom prst="parallelogram">
            <a:avLst>
              <a:gd name="adj" fmla="val 81278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2"/>
          <p:cNvSpPr/>
          <p:nvPr/>
        </p:nvSpPr>
        <p:spPr>
          <a:xfrm rot="20472000">
            <a:off x="2176200" y="490860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3"/>
          <p:cNvSpPr/>
          <p:nvPr/>
        </p:nvSpPr>
        <p:spPr>
          <a:xfrm flipV="1" rot="20908800">
            <a:off x="7956360" y="3205080"/>
            <a:ext cx="360360" cy="6984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4"/>
          <p:cNvSpPr/>
          <p:nvPr/>
        </p:nvSpPr>
        <p:spPr>
          <a:xfrm rot="12935400">
            <a:off x="2987280" y="1260360"/>
            <a:ext cx="878040" cy="76320"/>
          </a:xfrm>
          <a:prstGeom prst="rect">
            <a:avLst/>
          </a:prstGeom>
          <a:solidFill>
            <a:srgbClr val="80808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5"/>
          <p:cNvSpPr/>
          <p:nvPr/>
        </p:nvSpPr>
        <p:spPr>
          <a:xfrm flipH="1" rot="13195200">
            <a:off x="1883520" y="258480"/>
            <a:ext cx="612720" cy="69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76"/>
          <p:cNvGrpSpPr/>
          <p:nvPr/>
        </p:nvGrpSpPr>
        <p:grpSpPr>
          <a:xfrm>
            <a:off x="3780000" y="2754360"/>
            <a:ext cx="588960" cy="377280"/>
            <a:chOff x="3780000" y="2754360"/>
            <a:chExt cx="588960" cy="377280"/>
          </a:xfrm>
        </p:grpSpPr>
        <p:sp>
          <p:nvSpPr>
            <p:cNvPr id="727" name="Line 77"/>
            <p:cNvSpPr/>
            <p:nvPr/>
          </p:nvSpPr>
          <p:spPr>
            <a:xfrm>
              <a:off x="3780000" y="284292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78"/>
            <p:cNvSpPr/>
            <p:nvPr/>
          </p:nvSpPr>
          <p:spPr>
            <a:xfrm>
              <a:off x="3905280" y="279828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79"/>
            <p:cNvSpPr/>
            <p:nvPr/>
          </p:nvSpPr>
          <p:spPr>
            <a:xfrm>
              <a:off x="4008600" y="275436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80"/>
          <p:cNvGrpSpPr/>
          <p:nvPr/>
        </p:nvGrpSpPr>
        <p:grpSpPr>
          <a:xfrm>
            <a:off x="4141800" y="2624040"/>
            <a:ext cx="588960" cy="378000"/>
            <a:chOff x="4141800" y="2624040"/>
            <a:chExt cx="588960" cy="378000"/>
          </a:xfrm>
        </p:grpSpPr>
        <p:sp>
          <p:nvSpPr>
            <p:cNvPr id="731" name="Line 81"/>
            <p:cNvSpPr/>
            <p:nvPr/>
          </p:nvSpPr>
          <p:spPr>
            <a:xfrm>
              <a:off x="4141800" y="271296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82"/>
            <p:cNvSpPr/>
            <p:nvPr/>
          </p:nvSpPr>
          <p:spPr>
            <a:xfrm>
              <a:off x="4267080" y="266832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83"/>
            <p:cNvSpPr/>
            <p:nvPr/>
          </p:nvSpPr>
          <p:spPr>
            <a:xfrm>
              <a:off x="4370400" y="262404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84"/>
          <p:cNvGrpSpPr/>
          <p:nvPr/>
        </p:nvGrpSpPr>
        <p:grpSpPr>
          <a:xfrm>
            <a:off x="4486320" y="2484360"/>
            <a:ext cx="588960" cy="378000"/>
            <a:chOff x="4486320" y="2484360"/>
            <a:chExt cx="588960" cy="378000"/>
          </a:xfrm>
        </p:grpSpPr>
        <p:sp>
          <p:nvSpPr>
            <p:cNvPr id="735" name="Line 85"/>
            <p:cNvSpPr/>
            <p:nvPr/>
          </p:nvSpPr>
          <p:spPr>
            <a:xfrm>
              <a:off x="4486320" y="257328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86"/>
            <p:cNvSpPr/>
            <p:nvPr/>
          </p:nvSpPr>
          <p:spPr>
            <a:xfrm>
              <a:off x="4611600" y="252864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87"/>
            <p:cNvSpPr/>
            <p:nvPr/>
          </p:nvSpPr>
          <p:spPr>
            <a:xfrm>
              <a:off x="4714920" y="248436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88"/>
          <p:cNvGrpSpPr/>
          <p:nvPr/>
        </p:nvGrpSpPr>
        <p:grpSpPr>
          <a:xfrm>
            <a:off x="4816440" y="2351160"/>
            <a:ext cx="588960" cy="377280"/>
            <a:chOff x="4816440" y="2351160"/>
            <a:chExt cx="588960" cy="377280"/>
          </a:xfrm>
        </p:grpSpPr>
        <p:sp>
          <p:nvSpPr>
            <p:cNvPr id="739" name="Line 89"/>
            <p:cNvSpPr/>
            <p:nvPr/>
          </p:nvSpPr>
          <p:spPr>
            <a:xfrm>
              <a:off x="4816440" y="243972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90"/>
            <p:cNvSpPr/>
            <p:nvPr/>
          </p:nvSpPr>
          <p:spPr>
            <a:xfrm>
              <a:off x="4941720" y="239508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91"/>
            <p:cNvSpPr/>
            <p:nvPr/>
          </p:nvSpPr>
          <p:spPr>
            <a:xfrm>
              <a:off x="5045040" y="235116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92"/>
          <p:cNvGrpSpPr/>
          <p:nvPr/>
        </p:nvGrpSpPr>
        <p:grpSpPr>
          <a:xfrm>
            <a:off x="5711760" y="1962000"/>
            <a:ext cx="588960" cy="378000"/>
            <a:chOff x="5711760" y="1962000"/>
            <a:chExt cx="588960" cy="378000"/>
          </a:xfrm>
        </p:grpSpPr>
        <p:sp>
          <p:nvSpPr>
            <p:cNvPr id="743" name="Line 93"/>
            <p:cNvSpPr/>
            <p:nvPr/>
          </p:nvSpPr>
          <p:spPr>
            <a:xfrm>
              <a:off x="5711760" y="205092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94"/>
            <p:cNvSpPr/>
            <p:nvPr/>
          </p:nvSpPr>
          <p:spPr>
            <a:xfrm>
              <a:off x="5837040" y="200628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95"/>
            <p:cNvSpPr/>
            <p:nvPr/>
          </p:nvSpPr>
          <p:spPr>
            <a:xfrm>
              <a:off x="5940360" y="196200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96"/>
          <p:cNvGrpSpPr/>
          <p:nvPr/>
        </p:nvGrpSpPr>
        <p:grpSpPr>
          <a:xfrm>
            <a:off x="6084720" y="1832040"/>
            <a:ext cx="588960" cy="377280"/>
            <a:chOff x="6084720" y="1832040"/>
            <a:chExt cx="588960" cy="377280"/>
          </a:xfrm>
        </p:grpSpPr>
        <p:sp>
          <p:nvSpPr>
            <p:cNvPr id="747" name="Line 97"/>
            <p:cNvSpPr/>
            <p:nvPr/>
          </p:nvSpPr>
          <p:spPr>
            <a:xfrm>
              <a:off x="6084720" y="192060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8"/>
            <p:cNvSpPr/>
            <p:nvPr/>
          </p:nvSpPr>
          <p:spPr>
            <a:xfrm>
              <a:off x="6210000" y="187596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99"/>
            <p:cNvSpPr/>
            <p:nvPr/>
          </p:nvSpPr>
          <p:spPr>
            <a:xfrm>
              <a:off x="6313320" y="183204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00"/>
          <p:cNvGrpSpPr/>
          <p:nvPr/>
        </p:nvGrpSpPr>
        <p:grpSpPr>
          <a:xfrm>
            <a:off x="3629880" y="3425040"/>
            <a:ext cx="523800" cy="312480"/>
            <a:chOff x="3629880" y="3425040"/>
            <a:chExt cx="523800" cy="312480"/>
          </a:xfrm>
        </p:grpSpPr>
        <p:sp>
          <p:nvSpPr>
            <p:cNvPr id="751" name="Line 101"/>
            <p:cNvSpPr/>
            <p:nvPr/>
          </p:nvSpPr>
          <p:spPr>
            <a:xfrm flipV="1">
              <a:off x="3629880" y="34250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02"/>
            <p:cNvSpPr/>
            <p:nvPr/>
          </p:nvSpPr>
          <p:spPr>
            <a:xfrm flipV="1">
              <a:off x="3709800" y="350424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03"/>
            <p:cNvSpPr/>
            <p:nvPr/>
          </p:nvSpPr>
          <p:spPr>
            <a:xfrm flipV="1">
              <a:off x="3772800" y="357588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4"/>
          <p:cNvGrpSpPr/>
          <p:nvPr/>
        </p:nvGrpSpPr>
        <p:grpSpPr>
          <a:xfrm>
            <a:off x="3859920" y="3655080"/>
            <a:ext cx="523800" cy="313200"/>
            <a:chOff x="3859920" y="3655080"/>
            <a:chExt cx="523800" cy="313200"/>
          </a:xfrm>
        </p:grpSpPr>
        <p:sp>
          <p:nvSpPr>
            <p:cNvPr id="755" name="Line 105"/>
            <p:cNvSpPr/>
            <p:nvPr/>
          </p:nvSpPr>
          <p:spPr>
            <a:xfrm flipV="1">
              <a:off x="3859920" y="3655080"/>
              <a:ext cx="380880" cy="16236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06"/>
            <p:cNvSpPr/>
            <p:nvPr/>
          </p:nvSpPr>
          <p:spPr>
            <a:xfrm flipV="1">
              <a:off x="3939840" y="373428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7"/>
            <p:cNvSpPr/>
            <p:nvPr/>
          </p:nvSpPr>
          <p:spPr>
            <a:xfrm flipV="1">
              <a:off x="4002840" y="380628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108"/>
          <p:cNvGrpSpPr/>
          <p:nvPr/>
        </p:nvGrpSpPr>
        <p:grpSpPr>
          <a:xfrm>
            <a:off x="4072680" y="3886920"/>
            <a:ext cx="523800" cy="312480"/>
            <a:chOff x="4072680" y="3886920"/>
            <a:chExt cx="523800" cy="312480"/>
          </a:xfrm>
        </p:grpSpPr>
        <p:sp>
          <p:nvSpPr>
            <p:cNvPr id="759" name="Line 109"/>
            <p:cNvSpPr/>
            <p:nvPr/>
          </p:nvSpPr>
          <p:spPr>
            <a:xfrm flipV="1">
              <a:off x="4072680" y="388692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10"/>
            <p:cNvSpPr/>
            <p:nvPr/>
          </p:nvSpPr>
          <p:spPr>
            <a:xfrm flipV="1">
              <a:off x="4152600" y="396612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11"/>
            <p:cNvSpPr/>
            <p:nvPr/>
          </p:nvSpPr>
          <p:spPr>
            <a:xfrm flipV="1">
              <a:off x="4215600" y="403776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12"/>
          <p:cNvGrpSpPr/>
          <p:nvPr/>
        </p:nvGrpSpPr>
        <p:grpSpPr>
          <a:xfrm>
            <a:off x="4277520" y="4109040"/>
            <a:ext cx="523800" cy="313200"/>
            <a:chOff x="4277520" y="4109040"/>
            <a:chExt cx="523800" cy="313200"/>
          </a:xfrm>
        </p:grpSpPr>
        <p:sp>
          <p:nvSpPr>
            <p:cNvPr id="763" name="Line 113"/>
            <p:cNvSpPr/>
            <p:nvPr/>
          </p:nvSpPr>
          <p:spPr>
            <a:xfrm flipV="1">
              <a:off x="4277520" y="4109040"/>
              <a:ext cx="380880" cy="16236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14"/>
            <p:cNvSpPr/>
            <p:nvPr/>
          </p:nvSpPr>
          <p:spPr>
            <a:xfrm flipV="1">
              <a:off x="4357440" y="41882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15"/>
            <p:cNvSpPr/>
            <p:nvPr/>
          </p:nvSpPr>
          <p:spPr>
            <a:xfrm flipV="1">
              <a:off x="4420440" y="42602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16"/>
          <p:cNvGrpSpPr/>
          <p:nvPr/>
        </p:nvGrpSpPr>
        <p:grpSpPr>
          <a:xfrm>
            <a:off x="4860000" y="4737600"/>
            <a:ext cx="523800" cy="313200"/>
            <a:chOff x="4860000" y="4737600"/>
            <a:chExt cx="523800" cy="313200"/>
          </a:xfrm>
        </p:grpSpPr>
        <p:sp>
          <p:nvSpPr>
            <p:cNvPr id="767" name="Line 117"/>
            <p:cNvSpPr/>
            <p:nvPr/>
          </p:nvSpPr>
          <p:spPr>
            <a:xfrm flipV="1">
              <a:off x="4860000" y="4737600"/>
              <a:ext cx="380880" cy="16236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18"/>
            <p:cNvSpPr/>
            <p:nvPr/>
          </p:nvSpPr>
          <p:spPr>
            <a:xfrm flipV="1">
              <a:off x="4939920" y="481680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19"/>
            <p:cNvSpPr/>
            <p:nvPr/>
          </p:nvSpPr>
          <p:spPr>
            <a:xfrm flipV="1">
              <a:off x="5002920" y="488880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20"/>
          <p:cNvGrpSpPr/>
          <p:nvPr/>
        </p:nvGrpSpPr>
        <p:grpSpPr>
          <a:xfrm>
            <a:off x="5076000" y="4971240"/>
            <a:ext cx="523800" cy="312480"/>
            <a:chOff x="5076000" y="4971240"/>
            <a:chExt cx="523800" cy="312480"/>
          </a:xfrm>
        </p:grpSpPr>
        <p:sp>
          <p:nvSpPr>
            <p:cNvPr id="771" name="Line 121"/>
            <p:cNvSpPr/>
            <p:nvPr/>
          </p:nvSpPr>
          <p:spPr>
            <a:xfrm flipV="1">
              <a:off x="5076000" y="49712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22"/>
            <p:cNvSpPr/>
            <p:nvPr/>
          </p:nvSpPr>
          <p:spPr>
            <a:xfrm flipV="1">
              <a:off x="5155920" y="505044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23"/>
            <p:cNvSpPr/>
            <p:nvPr/>
          </p:nvSpPr>
          <p:spPr>
            <a:xfrm flipV="1">
              <a:off x="5218920" y="512208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124"/>
          <p:cNvGrpSpPr/>
          <p:nvPr/>
        </p:nvGrpSpPr>
        <p:grpSpPr>
          <a:xfrm>
            <a:off x="4494960" y="4331520"/>
            <a:ext cx="523800" cy="312480"/>
            <a:chOff x="4494960" y="4331520"/>
            <a:chExt cx="523800" cy="312480"/>
          </a:xfrm>
        </p:grpSpPr>
        <p:sp>
          <p:nvSpPr>
            <p:cNvPr id="775" name="Line 125"/>
            <p:cNvSpPr/>
            <p:nvPr/>
          </p:nvSpPr>
          <p:spPr>
            <a:xfrm flipV="1">
              <a:off x="4494960" y="433152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26"/>
            <p:cNvSpPr/>
            <p:nvPr/>
          </p:nvSpPr>
          <p:spPr>
            <a:xfrm flipV="1">
              <a:off x="4574880" y="441072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27"/>
            <p:cNvSpPr/>
            <p:nvPr/>
          </p:nvSpPr>
          <p:spPr>
            <a:xfrm flipV="1">
              <a:off x="4637880" y="448236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28"/>
          <p:cNvGrpSpPr/>
          <p:nvPr/>
        </p:nvGrpSpPr>
        <p:grpSpPr>
          <a:xfrm>
            <a:off x="4652280" y="4487040"/>
            <a:ext cx="523800" cy="312480"/>
            <a:chOff x="4652280" y="4487040"/>
            <a:chExt cx="523800" cy="312480"/>
          </a:xfrm>
        </p:grpSpPr>
        <p:sp>
          <p:nvSpPr>
            <p:cNvPr id="779" name="Line 129"/>
            <p:cNvSpPr/>
            <p:nvPr/>
          </p:nvSpPr>
          <p:spPr>
            <a:xfrm flipV="1">
              <a:off x="4652280" y="44870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30"/>
            <p:cNvSpPr/>
            <p:nvPr/>
          </p:nvSpPr>
          <p:spPr>
            <a:xfrm flipV="1">
              <a:off x="4732200" y="456624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31"/>
            <p:cNvSpPr/>
            <p:nvPr/>
          </p:nvSpPr>
          <p:spPr>
            <a:xfrm flipV="1">
              <a:off x="4795200" y="463788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AutoShape 132"/>
          <p:cNvSpPr/>
          <p:nvPr/>
        </p:nvSpPr>
        <p:spPr>
          <a:xfrm rot="19988400">
            <a:off x="4859280" y="3635280"/>
            <a:ext cx="576360" cy="289080"/>
          </a:xfrm>
          <a:custGeom>
            <a:avLst/>
            <a:gdLst>
              <a:gd name="textAreaLeft" fmla="*/ 0 w 576360"/>
              <a:gd name="textAreaRight" fmla="*/ 447840 w 576360"/>
              <a:gd name="textAreaTop" fmla="*/ 26244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16007" y="0"/>
                </a:moveTo>
                <a:lnTo>
                  <a:pt x="10413" y="8426"/>
                </a:lnTo>
                <a:lnTo>
                  <a:pt x="15233" y="8426"/>
                </a:lnTo>
                <a:lnTo>
                  <a:pt x="15233" y="19609"/>
                </a:lnTo>
                <a:lnTo>
                  <a:pt x="0" y="19609"/>
                </a:lnTo>
                <a:lnTo>
                  <a:pt x="0" y="21600"/>
                </a:lnTo>
                <a:lnTo>
                  <a:pt x="16780" y="21600"/>
                </a:lnTo>
                <a:lnTo>
                  <a:pt x="16780" y="8426"/>
                </a:lnTo>
                <a:lnTo>
                  <a:pt x="21600" y="8426"/>
                </a:lnTo>
                <a:lnTo>
                  <a:pt x="16007" y="0"/>
                </a:lnTo>
                <a:close/>
              </a:path>
            </a:pathLst>
          </a:cu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33"/>
          <p:cNvSpPr/>
          <p:nvPr/>
        </p:nvSpPr>
        <p:spPr>
          <a:xfrm rot="20156400">
            <a:off x="4859280" y="3781080"/>
            <a:ext cx="1079640" cy="214200"/>
          </a:xfrm>
          <a:prstGeom prst="rightArrow">
            <a:avLst>
              <a:gd name="adj1" fmla="val 30111"/>
              <a:gd name="adj2" fmla="val 42819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4"/>
          <p:cNvSpPr/>
          <p:nvPr/>
        </p:nvSpPr>
        <p:spPr>
          <a:xfrm rot="1641600">
            <a:off x="5218920" y="2124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华文行楷"/>
              </a:rPr>
              <a:t>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5"/>
          <p:cNvSpPr/>
          <p:nvPr/>
        </p:nvSpPr>
        <p:spPr>
          <a:xfrm rot="1983000">
            <a:off x="4932000" y="1907640"/>
            <a:ext cx="95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下一站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36"/>
          <p:cNvSpPr/>
          <p:nvPr/>
        </p:nvSpPr>
        <p:spPr>
          <a:xfrm>
            <a:off x="5491080" y="234000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心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37"/>
          <p:cNvSpPr/>
          <p:nvPr/>
        </p:nvSpPr>
        <p:spPr>
          <a:xfrm flipH="1" flipV="1">
            <a:off x="5005440" y="2195280"/>
            <a:ext cx="1079280" cy="863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38"/>
          <p:cNvSpPr/>
          <p:nvPr/>
        </p:nvSpPr>
        <p:spPr>
          <a:xfrm>
            <a:off x="5003640" y="1692360"/>
            <a:ext cx="0" cy="503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9"/>
          <p:cNvSpPr/>
          <p:nvPr/>
        </p:nvSpPr>
        <p:spPr>
          <a:xfrm flipV="1">
            <a:off x="6084720" y="2555640"/>
            <a:ext cx="0" cy="2592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0"/>
          <p:cNvSpPr/>
          <p:nvPr/>
        </p:nvSpPr>
        <p:spPr>
          <a:xfrm flipV="1">
            <a:off x="5724360" y="4213080"/>
            <a:ext cx="3419640" cy="122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1"/>
          <p:cNvSpPr/>
          <p:nvPr/>
        </p:nvSpPr>
        <p:spPr>
          <a:xfrm flipV="1">
            <a:off x="0" y="3117600"/>
            <a:ext cx="3780000" cy="733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42"/>
          <p:cNvSpPr/>
          <p:nvPr/>
        </p:nvSpPr>
        <p:spPr>
          <a:xfrm flipV="1">
            <a:off x="7380360" y="1979280"/>
            <a:ext cx="1763640" cy="360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3"/>
          <p:cNvSpPr/>
          <p:nvPr/>
        </p:nvSpPr>
        <p:spPr>
          <a:xfrm>
            <a:off x="-34920" y="627120"/>
            <a:ext cx="3706920" cy="2504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4"/>
          <p:cNvSpPr/>
          <p:nvPr/>
        </p:nvSpPr>
        <p:spPr>
          <a:xfrm>
            <a:off x="4140360" y="0"/>
            <a:ext cx="3240000" cy="2340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45"/>
          <p:cNvSpPr/>
          <p:nvPr/>
        </p:nvSpPr>
        <p:spPr>
          <a:xfrm rot="20995200">
            <a:off x="-1403280" y="1403280"/>
            <a:ext cx="4014720" cy="18637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46"/>
          <p:cNvSpPr/>
          <p:nvPr/>
        </p:nvSpPr>
        <p:spPr>
          <a:xfrm rot="20995200">
            <a:off x="-898560" y="1692000"/>
            <a:ext cx="3094200" cy="143964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47"/>
          <p:cNvSpPr/>
          <p:nvPr/>
        </p:nvSpPr>
        <p:spPr>
          <a:xfrm rot="20995200">
            <a:off x="-1438200" y="1461600"/>
            <a:ext cx="3057480" cy="15811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48"/>
          <p:cNvSpPr/>
          <p:nvPr/>
        </p:nvSpPr>
        <p:spPr>
          <a:xfrm rot="20995200">
            <a:off x="-394920" y="1910880"/>
            <a:ext cx="1617480" cy="93348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149"/>
          <p:cNvSpPr/>
          <p:nvPr/>
        </p:nvSpPr>
        <p:spPr>
          <a:xfrm rot="20995200">
            <a:off x="-682200" y="1836360"/>
            <a:ext cx="1617480" cy="93348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50"/>
          <p:cNvSpPr/>
          <p:nvPr/>
        </p:nvSpPr>
        <p:spPr>
          <a:xfrm rot="711000">
            <a:off x="4067280" y="-610920"/>
            <a:ext cx="7057800" cy="2649600"/>
          </a:xfrm>
          <a:prstGeom prst="diamond">
            <a:avLst/>
          </a:prstGeom>
          <a:solidFill>
            <a:srgbClr val="bbe0e3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51"/>
          <p:cNvSpPr/>
          <p:nvPr/>
        </p:nvSpPr>
        <p:spPr>
          <a:xfrm rot="711000">
            <a:off x="4140360" y="-885600"/>
            <a:ext cx="7057800" cy="2649600"/>
          </a:xfrm>
          <a:prstGeom prst="diamond">
            <a:avLst/>
          </a:prstGeom>
          <a:solidFill>
            <a:srgbClr val="bbe0e3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52"/>
          <p:cNvSpPr/>
          <p:nvPr/>
        </p:nvSpPr>
        <p:spPr>
          <a:xfrm rot="711000">
            <a:off x="4427640" y="-2122200"/>
            <a:ext cx="7057800" cy="2649600"/>
          </a:xfrm>
          <a:prstGeom prst="diamond">
            <a:avLst/>
          </a:prstGeom>
          <a:solidFill>
            <a:srgbClr val="bbe0e3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53"/>
          <p:cNvSpPr/>
          <p:nvPr/>
        </p:nvSpPr>
        <p:spPr>
          <a:xfrm rot="20659800">
            <a:off x="8959320" y="2987280"/>
            <a:ext cx="36684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154"/>
          <p:cNvGrpSpPr/>
          <p:nvPr/>
        </p:nvGrpSpPr>
        <p:grpSpPr>
          <a:xfrm>
            <a:off x="1242360" y="4647240"/>
            <a:ext cx="466560" cy="466920"/>
            <a:chOff x="1242360" y="4647240"/>
            <a:chExt cx="466560" cy="466920"/>
          </a:xfrm>
        </p:grpSpPr>
        <p:sp>
          <p:nvSpPr>
            <p:cNvPr id="805" name="Oval 155"/>
            <p:cNvSpPr/>
            <p:nvPr/>
          </p:nvSpPr>
          <p:spPr>
            <a:xfrm rot="20450400">
              <a:off x="1449000" y="485604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56"/>
            <p:cNvSpPr/>
            <p:nvPr/>
          </p:nvSpPr>
          <p:spPr>
            <a:xfrm rot="20450400">
              <a:off x="1292400" y="4696920"/>
              <a:ext cx="366480" cy="366840"/>
            </a:xfrm>
            <a:custGeom>
              <a:avLst/>
              <a:gdLst>
                <a:gd name="textAreaLeft" fmla="*/ 53280 w 366480"/>
                <a:gd name="textAreaRight" fmla="*/ 313200 w 36648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157"/>
            <p:cNvSpPr/>
            <p:nvPr/>
          </p:nvSpPr>
          <p:spPr>
            <a:xfrm flipH="1" rot="20450400">
              <a:off x="1434600" y="47397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158"/>
            <p:cNvSpPr/>
            <p:nvPr/>
          </p:nvSpPr>
          <p:spPr>
            <a:xfrm flipH="1" rot="7200600">
              <a:off x="1528920" y="485136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159"/>
            <p:cNvSpPr/>
            <p:nvPr/>
          </p:nvSpPr>
          <p:spPr>
            <a:xfrm flipH="1" rot="15628800">
              <a:off x="1382760" y="48182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60"/>
            <p:cNvSpPr/>
            <p:nvPr/>
          </p:nvSpPr>
          <p:spPr>
            <a:xfrm flipH="1" rot="12186000">
              <a:off x="1435320" y="48783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161"/>
            <p:cNvSpPr/>
            <p:nvPr/>
          </p:nvSpPr>
          <p:spPr>
            <a:xfrm flipH="1" rot="3223200">
              <a:off x="1522080" y="476640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62"/>
            <p:cNvSpPr/>
            <p:nvPr/>
          </p:nvSpPr>
          <p:spPr>
            <a:xfrm rot="20450400">
              <a:off x="1302120" y="4705920"/>
              <a:ext cx="34812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163"/>
          <p:cNvGrpSpPr/>
          <p:nvPr/>
        </p:nvGrpSpPr>
        <p:grpSpPr>
          <a:xfrm>
            <a:off x="160920" y="4869720"/>
            <a:ext cx="466920" cy="466560"/>
            <a:chOff x="160920" y="4869720"/>
            <a:chExt cx="466920" cy="466560"/>
          </a:xfrm>
        </p:grpSpPr>
        <p:sp>
          <p:nvSpPr>
            <p:cNvPr id="814" name="Oval 164"/>
            <p:cNvSpPr/>
            <p:nvPr/>
          </p:nvSpPr>
          <p:spPr>
            <a:xfrm rot="20450400">
              <a:off x="367560" y="507780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165"/>
            <p:cNvSpPr/>
            <p:nvPr/>
          </p:nvSpPr>
          <p:spPr>
            <a:xfrm rot="20450400">
              <a:off x="210600" y="491940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166"/>
            <p:cNvSpPr/>
            <p:nvPr/>
          </p:nvSpPr>
          <p:spPr>
            <a:xfrm flipH="1" rot="20450400">
              <a:off x="353520" y="49622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167"/>
            <p:cNvSpPr/>
            <p:nvPr/>
          </p:nvSpPr>
          <p:spPr>
            <a:xfrm flipH="1" rot="7200600">
              <a:off x="446760" y="50738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168"/>
            <p:cNvSpPr/>
            <p:nvPr/>
          </p:nvSpPr>
          <p:spPr>
            <a:xfrm flipH="1" rot="15628800">
              <a:off x="302760" y="50396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169"/>
            <p:cNvSpPr/>
            <p:nvPr/>
          </p:nvSpPr>
          <p:spPr>
            <a:xfrm flipH="1" rot="12186000">
              <a:off x="353160" y="51004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170"/>
            <p:cNvSpPr/>
            <p:nvPr/>
          </p:nvSpPr>
          <p:spPr>
            <a:xfrm flipH="1" rot="3223200">
              <a:off x="441720" y="49878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71"/>
            <p:cNvSpPr/>
            <p:nvPr/>
          </p:nvSpPr>
          <p:spPr>
            <a:xfrm rot="20450400">
              <a:off x="220680" y="492840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72"/>
          <p:cNvGrpSpPr/>
          <p:nvPr/>
        </p:nvGrpSpPr>
        <p:grpSpPr>
          <a:xfrm>
            <a:off x="-28440" y="4359960"/>
            <a:ext cx="1639440" cy="862920"/>
            <a:chOff x="-28440" y="4359960"/>
            <a:chExt cx="1639440" cy="862920"/>
          </a:xfrm>
        </p:grpSpPr>
        <p:sp>
          <p:nvSpPr>
            <p:cNvPr id="823" name="AutoShape 173"/>
            <p:cNvSpPr/>
            <p:nvPr/>
          </p:nvSpPr>
          <p:spPr>
            <a:xfrm rot="19311000">
              <a:off x="1380960" y="4647600"/>
              <a:ext cx="23760" cy="228600"/>
            </a:xfrm>
            <a:custGeom>
              <a:avLst/>
              <a:gdLst>
                <a:gd name="textAreaLeft" fmla="*/ 1440 w 23760"/>
                <a:gd name="textAreaRight" fmla="*/ 22320 w 23760"/>
                <a:gd name="textAreaTop" fmla="*/ 19080 h 228600"/>
                <a:gd name="textAreaBottom" fmla="*/ 2098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174"/>
            <p:cNvSpPr/>
            <p:nvPr/>
          </p:nvSpPr>
          <p:spPr>
            <a:xfrm rot="2268000">
              <a:off x="437760" y="4879440"/>
              <a:ext cx="46080" cy="19044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39600 h 190440"/>
                <a:gd name="textAreaBottom" fmla="*/ 15084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5"/>
            <p:cNvSpPr/>
            <p:nvPr/>
          </p:nvSpPr>
          <p:spPr>
            <a:xfrm rot="20841000">
              <a:off x="222120" y="4860360"/>
              <a:ext cx="182520" cy="228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1" h="227">
                  <a:moveTo>
                    <a:pt x="0" y="0"/>
                  </a:moveTo>
                  <a:lnTo>
                    <a:pt x="136" y="227"/>
                  </a:lnTo>
                  <a:lnTo>
                    <a:pt x="181" y="182"/>
                  </a:lnTo>
                  <a:lnTo>
                    <a:pt x="136" y="227"/>
                  </a:lnTo>
                  <a:cubicBezTo>
                    <a:pt x="134" y="216"/>
                    <a:pt x="134" y="204"/>
                    <a:pt x="126" y="196"/>
                  </a:cubicBezTo>
                  <a:lnTo>
                    <a:pt x="45" y="0"/>
                  </a:lnTo>
                  <a:lnTo>
                    <a:pt x="181" y="0"/>
                  </a:lnTo>
                </a:path>
              </a:pathLst>
            </a:custGeom>
            <a:solidFill>
              <a:srgbClr val="ffffff">
                <a:alpha val="76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176"/>
            <p:cNvGrpSpPr/>
            <p:nvPr/>
          </p:nvGrpSpPr>
          <p:grpSpPr>
            <a:xfrm>
              <a:off x="-28440" y="4360320"/>
              <a:ext cx="1620360" cy="862560"/>
              <a:chOff x="-28440" y="4360320"/>
              <a:chExt cx="1620360" cy="862560"/>
            </a:xfrm>
          </p:grpSpPr>
          <p:sp>
            <p:nvSpPr>
              <p:cNvPr id="827" name="Freeform 177"/>
              <p:cNvSpPr/>
              <p:nvPr/>
            </p:nvSpPr>
            <p:spPr>
              <a:xfrm rot="20977800">
                <a:off x="12240" y="4493520"/>
                <a:ext cx="1538280" cy="59544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1526" h="589">
                    <a:moveTo>
                      <a:pt x="528" y="453"/>
                    </a:moveTo>
                    <a:lnTo>
                      <a:pt x="392" y="317"/>
                    </a:lnTo>
                    <a:lnTo>
                      <a:pt x="120" y="317"/>
                    </a:lnTo>
                    <a:lnTo>
                      <a:pt x="0" y="284"/>
                    </a:lnTo>
                    <a:lnTo>
                      <a:pt x="392" y="272"/>
                    </a:lnTo>
                    <a:lnTo>
                      <a:pt x="392" y="226"/>
                    </a:lnTo>
                    <a:cubicBezTo>
                      <a:pt x="389" y="221"/>
                      <a:pt x="384" y="216"/>
                      <a:pt x="383" y="210"/>
                    </a:cubicBezTo>
                    <a:cubicBezTo>
                      <a:pt x="382" y="206"/>
                      <a:pt x="383" y="199"/>
                      <a:pt x="387" y="198"/>
                    </a:cubicBezTo>
                    <a:cubicBezTo>
                      <a:pt x="392" y="197"/>
                      <a:pt x="398" y="201"/>
                      <a:pt x="399" y="206"/>
                    </a:cubicBezTo>
                    <a:cubicBezTo>
                      <a:pt x="403" y="227"/>
                      <a:pt x="399" y="249"/>
                      <a:pt x="399" y="270"/>
                    </a:cubicBezTo>
                    <a:cubicBezTo>
                      <a:pt x="423" y="254"/>
                      <a:pt x="452" y="263"/>
                      <a:pt x="479" y="254"/>
                    </a:cubicBezTo>
                    <a:cubicBezTo>
                      <a:pt x="527" y="257"/>
                      <a:pt x="532" y="263"/>
                      <a:pt x="571" y="270"/>
                    </a:cubicBezTo>
                    <a:cubicBezTo>
                      <a:pt x="610" y="269"/>
                      <a:pt x="648" y="269"/>
                      <a:pt x="687" y="266"/>
                    </a:cubicBezTo>
                    <a:cubicBezTo>
                      <a:pt x="695" y="265"/>
                      <a:pt x="711" y="258"/>
                      <a:pt x="711" y="258"/>
                    </a:cubicBezTo>
                    <a:cubicBezTo>
                      <a:pt x="753" y="196"/>
                      <a:pt x="797" y="221"/>
                      <a:pt x="887" y="218"/>
                    </a:cubicBezTo>
                    <a:cubicBezTo>
                      <a:pt x="895" y="193"/>
                      <a:pt x="909" y="146"/>
                      <a:pt x="939" y="142"/>
                    </a:cubicBezTo>
                    <a:cubicBezTo>
                      <a:pt x="958" y="140"/>
                      <a:pt x="976" y="139"/>
                      <a:pt x="995" y="138"/>
                    </a:cubicBezTo>
                    <a:cubicBezTo>
                      <a:pt x="1031" y="129"/>
                      <a:pt x="1073" y="159"/>
                      <a:pt x="1095" y="126"/>
                    </a:cubicBezTo>
                    <a:cubicBezTo>
                      <a:pt x="1093" y="116"/>
                      <a:pt x="1150" y="77"/>
                      <a:pt x="1109" y="64"/>
                    </a:cubicBezTo>
                    <a:lnTo>
                      <a:pt x="845" y="35"/>
                    </a:lnTo>
                    <a:lnTo>
                      <a:pt x="936" y="0"/>
                    </a:lnTo>
                    <a:lnTo>
                      <a:pt x="1254" y="45"/>
                    </a:lnTo>
                    <a:lnTo>
                      <a:pt x="1526" y="226"/>
                    </a:lnTo>
                    <a:lnTo>
                      <a:pt x="1526" y="317"/>
                    </a:lnTo>
                    <a:lnTo>
                      <a:pt x="1299" y="317"/>
                    </a:lnTo>
                    <a:cubicBezTo>
                      <a:pt x="1269" y="347"/>
                      <a:pt x="1161" y="496"/>
                      <a:pt x="1123" y="496"/>
                    </a:cubicBezTo>
                    <a:lnTo>
                      <a:pt x="1037" y="270"/>
                    </a:lnTo>
                    <a:lnTo>
                      <a:pt x="891" y="408"/>
                    </a:lnTo>
                    <a:lnTo>
                      <a:pt x="864" y="491"/>
                    </a:lnTo>
                    <a:lnTo>
                      <a:pt x="755" y="589"/>
                    </a:lnTo>
                    <a:lnTo>
                      <a:pt x="573" y="499"/>
                    </a:lnTo>
                    <a:lnTo>
                      <a:pt x="528" y="453"/>
                    </a:lnTo>
                    <a:close/>
                  </a:path>
                </a:pathLst>
              </a:cu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178"/>
              <p:cNvSpPr/>
              <p:nvPr/>
            </p:nvSpPr>
            <p:spPr>
              <a:xfrm rot="15577800">
                <a:off x="773280" y="483480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179"/>
            <p:cNvGrpSpPr/>
            <p:nvPr/>
          </p:nvGrpSpPr>
          <p:grpSpPr>
            <a:xfrm>
              <a:off x="458280" y="4359960"/>
              <a:ext cx="965520" cy="658800"/>
              <a:chOff x="458280" y="4359960"/>
              <a:chExt cx="965520" cy="658800"/>
            </a:xfrm>
          </p:grpSpPr>
          <p:sp>
            <p:nvSpPr>
              <p:cNvPr id="830" name="AutoShape 180"/>
              <p:cNvSpPr/>
              <p:nvPr/>
            </p:nvSpPr>
            <p:spPr>
              <a:xfrm rot="8319600">
                <a:off x="1336680" y="4660560"/>
                <a:ext cx="45000" cy="137160"/>
              </a:xfrm>
              <a:prstGeom prst="triangle">
                <a:avLst>
                  <a:gd name="adj" fmla="val 50000"/>
                </a:avLst>
              </a:prstGeom>
              <a:solidFill>
                <a:srgbClr val="c0c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81"/>
              <p:cNvSpPr/>
              <p:nvPr/>
            </p:nvSpPr>
            <p:spPr>
              <a:xfrm rot="20450400">
                <a:off x="852480" y="4443840"/>
                <a:ext cx="549000" cy="22788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545" h="226">
                    <a:moveTo>
                      <a:pt x="0" y="0"/>
                    </a:moveTo>
                    <a:lnTo>
                      <a:pt x="318" y="45"/>
                    </a:lnTo>
                    <a:lnTo>
                      <a:pt x="545" y="226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utoShape 182"/>
              <p:cNvSpPr/>
              <p:nvPr/>
            </p:nvSpPr>
            <p:spPr>
              <a:xfrm rot="15050400">
                <a:off x="821520" y="477324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AutoShape 183"/>
              <p:cNvSpPr/>
              <p:nvPr/>
            </p:nvSpPr>
            <p:spPr>
              <a:xfrm rot="15050400">
                <a:off x="749880" y="4754520"/>
                <a:ext cx="45000" cy="36576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84"/>
              <p:cNvSpPr/>
              <p:nvPr/>
            </p:nvSpPr>
            <p:spPr>
              <a:xfrm rot="20450400">
                <a:off x="456120" y="4771440"/>
                <a:ext cx="537840" cy="7848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78480"/>
                  <a:gd name="textAreaBottom" fmla="*/ 78480 h 78480"/>
                </a:gdLst>
                <a:ahLst/>
                <a:rect l="textAreaLeft" t="textAreaTop" r="textAreaRight" b="textAreaBottom"/>
                <a:pathLst>
                  <a:path w="534" h="78">
                    <a:moveTo>
                      <a:pt x="0" y="40"/>
                    </a:moveTo>
                    <a:cubicBezTo>
                      <a:pt x="13" y="0"/>
                      <a:pt x="96" y="27"/>
                      <a:pt x="116" y="28"/>
                    </a:cubicBezTo>
                    <a:cubicBezTo>
                      <a:pt x="136" y="32"/>
                      <a:pt x="157" y="34"/>
                      <a:pt x="176" y="40"/>
                    </a:cubicBezTo>
                    <a:cubicBezTo>
                      <a:pt x="204" y="37"/>
                      <a:pt x="215" y="38"/>
                      <a:pt x="236" y="24"/>
                    </a:cubicBezTo>
                    <a:cubicBezTo>
                      <a:pt x="249" y="5"/>
                      <a:pt x="239" y="14"/>
                      <a:pt x="268" y="4"/>
                    </a:cubicBezTo>
                    <a:cubicBezTo>
                      <a:pt x="272" y="3"/>
                      <a:pt x="280" y="0"/>
                      <a:pt x="280" y="0"/>
                    </a:cubicBezTo>
                    <a:cubicBezTo>
                      <a:pt x="534" y="7"/>
                      <a:pt x="412" y="20"/>
                      <a:pt x="284" y="24"/>
                    </a:cubicBezTo>
                    <a:cubicBezTo>
                      <a:pt x="278" y="43"/>
                      <a:pt x="276" y="47"/>
                      <a:pt x="256" y="52"/>
                    </a:cubicBezTo>
                    <a:cubicBezTo>
                      <a:pt x="208" y="51"/>
                      <a:pt x="75" y="78"/>
                      <a:pt x="0" y="40"/>
                    </a:cubicBezTo>
                    <a:close/>
                  </a:path>
                </a:pathLst>
              </a:custGeom>
              <a:solidFill>
                <a:srgbClr val="bbe0e3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85"/>
              <p:cNvSpPr/>
              <p:nvPr/>
            </p:nvSpPr>
            <p:spPr>
              <a:xfrm rot="20450400">
                <a:off x="907200" y="4435560"/>
                <a:ext cx="273960" cy="4500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Freeform 186"/>
            <p:cNvSpPr/>
            <p:nvPr/>
          </p:nvSpPr>
          <p:spPr>
            <a:xfrm rot="20862000">
              <a:off x="129960" y="4749120"/>
              <a:ext cx="1463760" cy="320760"/>
            </a:xfrm>
            <a:custGeom>
              <a:avLst/>
              <a:gdLst>
                <a:gd name="textAreaLeft" fmla="*/ 0 w 1463760"/>
                <a:gd name="textAreaRight" fmla="*/ 1463760 w 1463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52" h="317">
                  <a:moveTo>
                    <a:pt x="1452" y="0"/>
                  </a:moveTo>
                  <a:lnTo>
                    <a:pt x="1225" y="0"/>
                  </a:lnTo>
                  <a:lnTo>
                    <a:pt x="1044" y="181"/>
                  </a:lnTo>
                  <a:lnTo>
                    <a:pt x="953" y="0"/>
                  </a:lnTo>
                  <a:lnTo>
                    <a:pt x="817" y="136"/>
                  </a:lnTo>
                  <a:lnTo>
                    <a:pt x="772" y="227"/>
                  </a:lnTo>
                  <a:lnTo>
                    <a:pt x="681" y="317"/>
                  </a:lnTo>
                  <a:lnTo>
                    <a:pt x="454" y="181"/>
                  </a:lnTo>
                  <a:lnTo>
                    <a:pt x="318" y="45"/>
                  </a:ln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187"/>
            <p:cNvGrpSpPr/>
            <p:nvPr/>
          </p:nvGrpSpPr>
          <p:grpSpPr>
            <a:xfrm>
              <a:off x="480240" y="4400640"/>
              <a:ext cx="722880" cy="680040"/>
              <a:chOff x="480240" y="4400640"/>
              <a:chExt cx="722880" cy="680040"/>
            </a:xfrm>
          </p:grpSpPr>
          <p:sp>
            <p:nvSpPr>
              <p:cNvPr id="838" name="Freeform 188"/>
              <p:cNvSpPr/>
              <p:nvPr/>
            </p:nvSpPr>
            <p:spPr>
              <a:xfrm rot="20770200">
                <a:off x="527760" y="4535640"/>
                <a:ext cx="627120" cy="476640"/>
              </a:xfrm>
              <a:custGeom>
                <a:avLst/>
                <a:gdLst>
                  <a:gd name="textAreaLeft" fmla="*/ 0 w 627120"/>
                  <a:gd name="textAreaRight" fmla="*/ 627480 w 62712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189"/>
              <p:cNvSpPr/>
              <p:nvPr/>
            </p:nvSpPr>
            <p:spPr>
              <a:xfrm rot="20770200">
                <a:off x="739800" y="441792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90"/>
              <p:cNvSpPr/>
              <p:nvPr/>
            </p:nvSpPr>
            <p:spPr>
              <a:xfrm rot="20770200">
                <a:off x="685080" y="500436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Group 191"/>
          <p:cNvGrpSpPr/>
          <p:nvPr/>
        </p:nvGrpSpPr>
        <p:grpSpPr>
          <a:xfrm>
            <a:off x="4083840" y="3933000"/>
            <a:ext cx="466920" cy="466920"/>
            <a:chOff x="4083840" y="3933000"/>
            <a:chExt cx="466920" cy="466920"/>
          </a:xfrm>
        </p:grpSpPr>
        <p:sp>
          <p:nvSpPr>
            <p:cNvPr id="842" name="Oval 192"/>
            <p:cNvSpPr/>
            <p:nvPr/>
          </p:nvSpPr>
          <p:spPr>
            <a:xfrm rot="20450400">
              <a:off x="4290840" y="414144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193"/>
            <p:cNvSpPr/>
            <p:nvPr/>
          </p:nvSpPr>
          <p:spPr>
            <a:xfrm rot="20450400">
              <a:off x="4133520" y="398268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194"/>
            <p:cNvSpPr/>
            <p:nvPr/>
          </p:nvSpPr>
          <p:spPr>
            <a:xfrm flipH="1" rot="20450400">
              <a:off x="4276440" y="40255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195"/>
            <p:cNvSpPr/>
            <p:nvPr/>
          </p:nvSpPr>
          <p:spPr>
            <a:xfrm flipH="1" rot="7200600">
              <a:off x="4370400" y="413712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196"/>
            <p:cNvSpPr/>
            <p:nvPr/>
          </p:nvSpPr>
          <p:spPr>
            <a:xfrm flipH="1" rot="15628800">
              <a:off x="4225680" y="41029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197"/>
            <p:cNvSpPr/>
            <p:nvPr/>
          </p:nvSpPr>
          <p:spPr>
            <a:xfrm flipH="1" rot="12186000">
              <a:off x="4276800" y="41641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198"/>
            <p:cNvSpPr/>
            <p:nvPr/>
          </p:nvSpPr>
          <p:spPr>
            <a:xfrm flipH="1" rot="3223200">
              <a:off x="4364640" y="40514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99"/>
            <p:cNvSpPr/>
            <p:nvPr/>
          </p:nvSpPr>
          <p:spPr>
            <a:xfrm rot="20450400">
              <a:off x="4143960" y="399168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00"/>
          <p:cNvGrpSpPr/>
          <p:nvPr/>
        </p:nvGrpSpPr>
        <p:grpSpPr>
          <a:xfrm>
            <a:off x="3002760" y="4155120"/>
            <a:ext cx="466920" cy="466920"/>
            <a:chOff x="3002760" y="4155120"/>
            <a:chExt cx="466920" cy="466920"/>
          </a:xfrm>
        </p:grpSpPr>
        <p:sp>
          <p:nvSpPr>
            <p:cNvPr id="851" name="Oval 201"/>
            <p:cNvSpPr/>
            <p:nvPr/>
          </p:nvSpPr>
          <p:spPr>
            <a:xfrm rot="20450400">
              <a:off x="3209760" y="436356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202"/>
            <p:cNvSpPr/>
            <p:nvPr/>
          </p:nvSpPr>
          <p:spPr>
            <a:xfrm rot="20450400">
              <a:off x="3052440" y="420480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203"/>
            <p:cNvSpPr/>
            <p:nvPr/>
          </p:nvSpPr>
          <p:spPr>
            <a:xfrm flipH="1" rot="20450400">
              <a:off x="3195360" y="42476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204"/>
            <p:cNvSpPr/>
            <p:nvPr/>
          </p:nvSpPr>
          <p:spPr>
            <a:xfrm flipH="1" rot="7200600">
              <a:off x="3289320" y="43592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205"/>
            <p:cNvSpPr/>
            <p:nvPr/>
          </p:nvSpPr>
          <p:spPr>
            <a:xfrm flipH="1" rot="15628800">
              <a:off x="3144600" y="43250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206"/>
            <p:cNvSpPr/>
            <p:nvPr/>
          </p:nvSpPr>
          <p:spPr>
            <a:xfrm flipH="1" rot="12186000">
              <a:off x="3195720" y="43862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207"/>
            <p:cNvSpPr/>
            <p:nvPr/>
          </p:nvSpPr>
          <p:spPr>
            <a:xfrm flipH="1" rot="3223200">
              <a:off x="3283560" y="42735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8"/>
            <p:cNvSpPr/>
            <p:nvPr/>
          </p:nvSpPr>
          <p:spPr>
            <a:xfrm rot="20450400">
              <a:off x="3062880" y="421380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209"/>
          <p:cNvGrpSpPr/>
          <p:nvPr/>
        </p:nvGrpSpPr>
        <p:grpSpPr>
          <a:xfrm>
            <a:off x="2813400" y="3645720"/>
            <a:ext cx="1639440" cy="862920"/>
            <a:chOff x="2813400" y="3645720"/>
            <a:chExt cx="1639440" cy="862920"/>
          </a:xfrm>
        </p:grpSpPr>
        <p:sp>
          <p:nvSpPr>
            <p:cNvPr id="860" name="AutoShape 210"/>
            <p:cNvSpPr/>
            <p:nvPr/>
          </p:nvSpPr>
          <p:spPr>
            <a:xfrm rot="19311000">
              <a:off x="4222800" y="3933360"/>
              <a:ext cx="23760" cy="228600"/>
            </a:xfrm>
            <a:custGeom>
              <a:avLst/>
              <a:gdLst>
                <a:gd name="textAreaLeft" fmla="*/ 1440 w 23760"/>
                <a:gd name="textAreaRight" fmla="*/ 22320 w 23760"/>
                <a:gd name="textAreaTop" fmla="*/ 19080 h 228600"/>
                <a:gd name="textAreaBottom" fmla="*/ 2098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211"/>
            <p:cNvSpPr/>
            <p:nvPr/>
          </p:nvSpPr>
          <p:spPr>
            <a:xfrm rot="2268000">
              <a:off x="3279600" y="4165200"/>
              <a:ext cx="46080" cy="19044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39600 h 190440"/>
                <a:gd name="textAreaBottom" fmla="*/ 15084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12"/>
            <p:cNvSpPr/>
            <p:nvPr/>
          </p:nvSpPr>
          <p:spPr>
            <a:xfrm rot="20841000">
              <a:off x="3063960" y="4146120"/>
              <a:ext cx="182520" cy="228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1" h="227">
                  <a:moveTo>
                    <a:pt x="0" y="0"/>
                  </a:moveTo>
                  <a:lnTo>
                    <a:pt x="136" y="227"/>
                  </a:lnTo>
                  <a:lnTo>
                    <a:pt x="181" y="182"/>
                  </a:lnTo>
                  <a:lnTo>
                    <a:pt x="136" y="227"/>
                  </a:lnTo>
                  <a:cubicBezTo>
                    <a:pt x="134" y="216"/>
                    <a:pt x="134" y="204"/>
                    <a:pt x="126" y="196"/>
                  </a:cubicBezTo>
                  <a:lnTo>
                    <a:pt x="45" y="0"/>
                  </a:lnTo>
                  <a:lnTo>
                    <a:pt x="181" y="0"/>
                  </a:lnTo>
                </a:path>
              </a:pathLst>
            </a:custGeom>
            <a:solidFill>
              <a:srgbClr val="ffffff">
                <a:alpha val="76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213"/>
            <p:cNvGrpSpPr/>
            <p:nvPr/>
          </p:nvGrpSpPr>
          <p:grpSpPr>
            <a:xfrm>
              <a:off x="2813400" y="3646080"/>
              <a:ext cx="1620360" cy="862560"/>
              <a:chOff x="2813400" y="3646080"/>
              <a:chExt cx="1620360" cy="862560"/>
            </a:xfrm>
          </p:grpSpPr>
          <p:sp>
            <p:nvSpPr>
              <p:cNvPr id="864" name="Freeform 214"/>
              <p:cNvSpPr/>
              <p:nvPr/>
            </p:nvSpPr>
            <p:spPr>
              <a:xfrm rot="20977800">
                <a:off x="2854080" y="3779280"/>
                <a:ext cx="1538280" cy="59544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1526" h="589">
                    <a:moveTo>
                      <a:pt x="528" y="453"/>
                    </a:moveTo>
                    <a:lnTo>
                      <a:pt x="392" y="317"/>
                    </a:lnTo>
                    <a:lnTo>
                      <a:pt x="120" y="317"/>
                    </a:lnTo>
                    <a:lnTo>
                      <a:pt x="0" y="284"/>
                    </a:lnTo>
                    <a:lnTo>
                      <a:pt x="392" y="272"/>
                    </a:lnTo>
                    <a:lnTo>
                      <a:pt x="392" y="226"/>
                    </a:lnTo>
                    <a:cubicBezTo>
                      <a:pt x="389" y="221"/>
                      <a:pt x="384" y="216"/>
                      <a:pt x="383" y="210"/>
                    </a:cubicBezTo>
                    <a:cubicBezTo>
                      <a:pt x="382" y="206"/>
                      <a:pt x="383" y="199"/>
                      <a:pt x="387" y="198"/>
                    </a:cubicBezTo>
                    <a:cubicBezTo>
                      <a:pt x="392" y="197"/>
                      <a:pt x="398" y="201"/>
                      <a:pt x="399" y="206"/>
                    </a:cubicBezTo>
                    <a:cubicBezTo>
                      <a:pt x="403" y="227"/>
                      <a:pt x="399" y="249"/>
                      <a:pt x="399" y="270"/>
                    </a:cubicBezTo>
                    <a:cubicBezTo>
                      <a:pt x="423" y="254"/>
                      <a:pt x="452" y="263"/>
                      <a:pt x="479" y="254"/>
                    </a:cubicBezTo>
                    <a:cubicBezTo>
                      <a:pt x="527" y="257"/>
                      <a:pt x="532" y="263"/>
                      <a:pt x="571" y="270"/>
                    </a:cubicBezTo>
                    <a:cubicBezTo>
                      <a:pt x="610" y="269"/>
                      <a:pt x="648" y="269"/>
                      <a:pt x="687" y="266"/>
                    </a:cubicBezTo>
                    <a:cubicBezTo>
                      <a:pt x="695" y="265"/>
                      <a:pt x="711" y="258"/>
                      <a:pt x="711" y="258"/>
                    </a:cubicBezTo>
                    <a:cubicBezTo>
                      <a:pt x="753" y="196"/>
                      <a:pt x="797" y="221"/>
                      <a:pt x="887" y="218"/>
                    </a:cubicBezTo>
                    <a:cubicBezTo>
                      <a:pt x="895" y="193"/>
                      <a:pt x="909" y="146"/>
                      <a:pt x="939" y="142"/>
                    </a:cubicBezTo>
                    <a:cubicBezTo>
                      <a:pt x="958" y="140"/>
                      <a:pt x="976" y="139"/>
                      <a:pt x="995" y="138"/>
                    </a:cubicBezTo>
                    <a:cubicBezTo>
                      <a:pt x="1031" y="129"/>
                      <a:pt x="1073" y="159"/>
                      <a:pt x="1095" y="126"/>
                    </a:cubicBezTo>
                    <a:cubicBezTo>
                      <a:pt x="1093" y="116"/>
                      <a:pt x="1150" y="77"/>
                      <a:pt x="1109" y="64"/>
                    </a:cubicBezTo>
                    <a:lnTo>
                      <a:pt x="845" y="35"/>
                    </a:lnTo>
                    <a:lnTo>
                      <a:pt x="936" y="0"/>
                    </a:lnTo>
                    <a:lnTo>
                      <a:pt x="1254" y="45"/>
                    </a:lnTo>
                    <a:lnTo>
                      <a:pt x="1526" y="226"/>
                    </a:lnTo>
                    <a:lnTo>
                      <a:pt x="1526" y="317"/>
                    </a:lnTo>
                    <a:lnTo>
                      <a:pt x="1299" y="317"/>
                    </a:lnTo>
                    <a:cubicBezTo>
                      <a:pt x="1269" y="347"/>
                      <a:pt x="1161" y="496"/>
                      <a:pt x="1123" y="496"/>
                    </a:cubicBezTo>
                    <a:lnTo>
                      <a:pt x="1037" y="270"/>
                    </a:lnTo>
                    <a:lnTo>
                      <a:pt x="891" y="408"/>
                    </a:lnTo>
                    <a:lnTo>
                      <a:pt x="864" y="491"/>
                    </a:lnTo>
                    <a:lnTo>
                      <a:pt x="755" y="589"/>
                    </a:lnTo>
                    <a:lnTo>
                      <a:pt x="573" y="499"/>
                    </a:lnTo>
                    <a:lnTo>
                      <a:pt x="528" y="453"/>
                    </a:lnTo>
                    <a:close/>
                  </a:path>
                </a:pathLst>
              </a:cu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215"/>
              <p:cNvSpPr/>
              <p:nvPr/>
            </p:nvSpPr>
            <p:spPr>
              <a:xfrm rot="15577800">
                <a:off x="3615120" y="412056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216"/>
            <p:cNvGrpSpPr/>
            <p:nvPr/>
          </p:nvGrpSpPr>
          <p:grpSpPr>
            <a:xfrm>
              <a:off x="3300120" y="3645720"/>
              <a:ext cx="965520" cy="658800"/>
              <a:chOff x="3300120" y="3645720"/>
              <a:chExt cx="965520" cy="658800"/>
            </a:xfrm>
          </p:grpSpPr>
          <p:sp>
            <p:nvSpPr>
              <p:cNvPr id="867" name="AutoShape 217"/>
              <p:cNvSpPr/>
              <p:nvPr/>
            </p:nvSpPr>
            <p:spPr>
              <a:xfrm rot="8319600">
                <a:off x="4178520" y="3946320"/>
                <a:ext cx="45000" cy="137160"/>
              </a:xfrm>
              <a:prstGeom prst="triangle">
                <a:avLst>
                  <a:gd name="adj" fmla="val 50000"/>
                </a:avLst>
              </a:prstGeom>
              <a:solidFill>
                <a:srgbClr val="c0c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18"/>
              <p:cNvSpPr/>
              <p:nvPr/>
            </p:nvSpPr>
            <p:spPr>
              <a:xfrm rot="20450400">
                <a:off x="3694320" y="3729600"/>
                <a:ext cx="549000" cy="22788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545" h="226">
                    <a:moveTo>
                      <a:pt x="0" y="0"/>
                    </a:moveTo>
                    <a:lnTo>
                      <a:pt x="318" y="45"/>
                    </a:lnTo>
                    <a:lnTo>
                      <a:pt x="545" y="226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219"/>
              <p:cNvSpPr/>
              <p:nvPr/>
            </p:nvSpPr>
            <p:spPr>
              <a:xfrm rot="15050400">
                <a:off x="3663360" y="405900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AutoShape 220"/>
              <p:cNvSpPr/>
              <p:nvPr/>
            </p:nvSpPr>
            <p:spPr>
              <a:xfrm rot="15050400">
                <a:off x="3591720" y="4040280"/>
                <a:ext cx="45000" cy="36576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21"/>
              <p:cNvSpPr/>
              <p:nvPr/>
            </p:nvSpPr>
            <p:spPr>
              <a:xfrm rot="20450400">
                <a:off x="3297960" y="4057200"/>
                <a:ext cx="537840" cy="7848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78480"/>
                  <a:gd name="textAreaBottom" fmla="*/ 78480 h 78480"/>
                </a:gdLst>
                <a:ahLst/>
                <a:rect l="textAreaLeft" t="textAreaTop" r="textAreaRight" b="textAreaBottom"/>
                <a:pathLst>
                  <a:path w="534" h="78">
                    <a:moveTo>
                      <a:pt x="0" y="40"/>
                    </a:moveTo>
                    <a:cubicBezTo>
                      <a:pt x="13" y="0"/>
                      <a:pt x="96" y="27"/>
                      <a:pt x="116" y="28"/>
                    </a:cubicBezTo>
                    <a:cubicBezTo>
                      <a:pt x="136" y="32"/>
                      <a:pt x="157" y="34"/>
                      <a:pt x="176" y="40"/>
                    </a:cubicBezTo>
                    <a:cubicBezTo>
                      <a:pt x="204" y="37"/>
                      <a:pt x="215" y="38"/>
                      <a:pt x="236" y="24"/>
                    </a:cubicBezTo>
                    <a:cubicBezTo>
                      <a:pt x="249" y="5"/>
                      <a:pt x="239" y="14"/>
                      <a:pt x="268" y="4"/>
                    </a:cubicBezTo>
                    <a:cubicBezTo>
                      <a:pt x="272" y="3"/>
                      <a:pt x="280" y="0"/>
                      <a:pt x="280" y="0"/>
                    </a:cubicBezTo>
                    <a:cubicBezTo>
                      <a:pt x="534" y="7"/>
                      <a:pt x="412" y="20"/>
                      <a:pt x="284" y="24"/>
                    </a:cubicBezTo>
                    <a:cubicBezTo>
                      <a:pt x="278" y="43"/>
                      <a:pt x="276" y="47"/>
                      <a:pt x="256" y="52"/>
                    </a:cubicBezTo>
                    <a:cubicBezTo>
                      <a:pt x="208" y="51"/>
                      <a:pt x="75" y="78"/>
                      <a:pt x="0" y="40"/>
                    </a:cubicBezTo>
                    <a:close/>
                  </a:path>
                </a:pathLst>
              </a:custGeom>
              <a:solidFill>
                <a:srgbClr val="bbe0e3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22"/>
              <p:cNvSpPr/>
              <p:nvPr/>
            </p:nvSpPr>
            <p:spPr>
              <a:xfrm rot="20450400">
                <a:off x="3749040" y="3721320"/>
                <a:ext cx="273960" cy="4500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Freeform 223"/>
            <p:cNvSpPr/>
            <p:nvPr/>
          </p:nvSpPr>
          <p:spPr>
            <a:xfrm rot="20862000">
              <a:off x="2971800" y="4034880"/>
              <a:ext cx="1463760" cy="320760"/>
            </a:xfrm>
            <a:custGeom>
              <a:avLst/>
              <a:gdLst>
                <a:gd name="textAreaLeft" fmla="*/ 0 w 1463760"/>
                <a:gd name="textAreaRight" fmla="*/ 1463760 w 1463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52" h="317">
                  <a:moveTo>
                    <a:pt x="1452" y="0"/>
                  </a:moveTo>
                  <a:lnTo>
                    <a:pt x="1225" y="0"/>
                  </a:lnTo>
                  <a:lnTo>
                    <a:pt x="1044" y="181"/>
                  </a:lnTo>
                  <a:lnTo>
                    <a:pt x="953" y="0"/>
                  </a:lnTo>
                  <a:lnTo>
                    <a:pt x="817" y="136"/>
                  </a:lnTo>
                  <a:lnTo>
                    <a:pt x="772" y="227"/>
                  </a:lnTo>
                  <a:lnTo>
                    <a:pt x="681" y="317"/>
                  </a:lnTo>
                  <a:lnTo>
                    <a:pt x="454" y="181"/>
                  </a:lnTo>
                  <a:lnTo>
                    <a:pt x="318" y="45"/>
                  </a:ln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224"/>
            <p:cNvGrpSpPr/>
            <p:nvPr/>
          </p:nvGrpSpPr>
          <p:grpSpPr>
            <a:xfrm>
              <a:off x="3322080" y="3686400"/>
              <a:ext cx="722880" cy="680040"/>
              <a:chOff x="3322080" y="3686400"/>
              <a:chExt cx="722880" cy="680040"/>
            </a:xfrm>
          </p:grpSpPr>
          <p:sp>
            <p:nvSpPr>
              <p:cNvPr id="875" name="Freeform 225"/>
              <p:cNvSpPr/>
              <p:nvPr/>
            </p:nvSpPr>
            <p:spPr>
              <a:xfrm rot="20770200">
                <a:off x="3369600" y="3821400"/>
                <a:ext cx="627120" cy="476640"/>
              </a:xfrm>
              <a:custGeom>
                <a:avLst/>
                <a:gdLst>
                  <a:gd name="textAreaLeft" fmla="*/ 0 w 627120"/>
                  <a:gd name="textAreaRight" fmla="*/ 627480 w 62712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Oval 226"/>
              <p:cNvSpPr/>
              <p:nvPr/>
            </p:nvSpPr>
            <p:spPr>
              <a:xfrm rot="20770200">
                <a:off x="3581640" y="370368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27"/>
              <p:cNvSpPr/>
              <p:nvPr/>
            </p:nvSpPr>
            <p:spPr>
              <a:xfrm rot="20770200">
                <a:off x="3526920" y="429012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8" name="AutoShape 228"/>
          <p:cNvSpPr/>
          <p:nvPr/>
        </p:nvSpPr>
        <p:spPr>
          <a:xfrm flipV="1" rot="15480000">
            <a:off x="1780920" y="3365280"/>
            <a:ext cx="73080" cy="2195640"/>
          </a:xfrm>
          <a:custGeom>
            <a:avLst/>
            <a:gdLst>
              <a:gd name="textAreaLeft" fmla="*/ 15120 w 73080"/>
              <a:gd name="textAreaRight" fmla="*/ 57960 w 73080"/>
              <a:gd name="textAreaTop" fmla="*/ 457200 h 2195640"/>
              <a:gd name="textAreaBottom" fmla="*/ 1738440 h 21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229"/>
          <p:cNvSpPr/>
          <p:nvPr/>
        </p:nvSpPr>
        <p:spPr>
          <a:xfrm>
            <a:off x="7308720" y="1116000"/>
            <a:ext cx="71640" cy="1297080"/>
          </a:xfrm>
          <a:prstGeom prst="can">
            <a:avLst>
              <a:gd name="adj" fmla="val 3060"/>
            </a:avLst>
          </a:prstGeom>
          <a:solidFill>
            <a:srgbClr val="bbe0e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30"/>
          <p:cNvSpPr/>
          <p:nvPr/>
        </p:nvSpPr>
        <p:spPr>
          <a:xfrm>
            <a:off x="7380360" y="140508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45" h="45">
                <a:moveTo>
                  <a:pt x="0" y="45"/>
                </a:moveTo>
                <a:cubicBezTo>
                  <a:pt x="0" y="45"/>
                  <a:pt x="22" y="22"/>
                  <a:pt x="45" y="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31"/>
          <p:cNvSpPr/>
          <p:nvPr/>
        </p:nvSpPr>
        <p:spPr>
          <a:xfrm>
            <a:off x="7380360" y="1405080"/>
            <a:ext cx="216000" cy="1440"/>
          </a:xfrm>
          <a:custGeom>
            <a:avLst/>
            <a:gdLst>
              <a:gd name="textAreaLeft" fmla="*/ 0 w 216000"/>
              <a:gd name="textAreaRight" fmla="*/ 216360 w 216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6" h="1">
                <a:moveTo>
                  <a:pt x="0" y="0"/>
                </a:moveTo>
                <a:cubicBezTo>
                  <a:pt x="0" y="0"/>
                  <a:pt x="68" y="0"/>
                  <a:pt x="136" y="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232"/>
          <p:cNvSpPr/>
          <p:nvPr/>
        </p:nvSpPr>
        <p:spPr>
          <a:xfrm>
            <a:off x="7596360" y="1189080"/>
            <a:ext cx="144360" cy="64764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647640"/>
              <a:gd name="textAreaBottom" fmla="*/ 626760 h 647640"/>
            </a:gdLst>
            <a:ahLst/>
            <a:rect l="textAreaLeft" t="textAreaTop" r="textAreaRight" b="textAreaBottom"/>
            <a:pathLst>
              <a:path w="21600" h="96716">
                <a:moveTo>
                  <a:pt x="10800" y="0"/>
                </a:moveTo>
                <a:arcTo wR="10800" hR="10800" stAng="16200000" swAng="-5400000"/>
                <a:lnTo>
                  <a:pt x="0" y="85916"/>
                </a:lnTo>
                <a:arcTo wR="10800" hR="10800" stAng="10800000" swAng="-5400000"/>
                <a:lnTo>
                  <a:pt x="10800" y="9671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be0e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33"/>
          <p:cNvSpPr/>
          <p:nvPr/>
        </p:nvSpPr>
        <p:spPr>
          <a:xfrm>
            <a:off x="7615080" y="1268280"/>
            <a:ext cx="109800" cy="109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34"/>
          <p:cNvSpPr/>
          <p:nvPr/>
        </p:nvSpPr>
        <p:spPr>
          <a:xfrm>
            <a:off x="7612200" y="1452600"/>
            <a:ext cx="109440" cy="109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235"/>
          <p:cNvSpPr/>
          <p:nvPr/>
        </p:nvSpPr>
        <p:spPr>
          <a:xfrm>
            <a:off x="7612200" y="1644480"/>
            <a:ext cx="109440" cy="109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36"/>
          <p:cNvSpPr/>
          <p:nvPr/>
        </p:nvSpPr>
        <p:spPr>
          <a:xfrm>
            <a:off x="2189520" y="81324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Arial"/>
                <a:ea typeface="华文行楷"/>
              </a:rPr>
              <a:t>我固执的坚持着自己看不到的结局和残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37"/>
          <p:cNvSpPr/>
          <p:nvPr/>
        </p:nvSpPr>
        <p:spPr>
          <a:xfrm>
            <a:off x="4500360" y="1131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Arial"/>
                <a:ea typeface="华文行楷"/>
              </a:rPr>
              <a:t>可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38"/>
          <p:cNvSpPr/>
          <p:nvPr/>
        </p:nvSpPr>
        <p:spPr>
          <a:xfrm>
            <a:off x="2948400" y="140652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Arial"/>
                <a:ea typeface="华文行楷"/>
              </a:rPr>
              <a:t>我努力奔跑努力靠近，才发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239"/>
          <p:cNvSpPr/>
          <p:nvPr/>
        </p:nvSpPr>
        <p:spPr>
          <a:xfrm>
            <a:off x="3611880" y="1693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Arial"/>
                <a:ea typeface="华文行楷"/>
              </a:rPr>
              <a:t>越靠近，就越遥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240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891" name="Text Box 241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242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243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4" name="无标题1.mp3" descr=""/>
          <p:cNvPicPr/>
          <p:nvPr/>
        </p:nvPicPr>
        <p:blipFill>
          <a:blip r:embed="rId2"/>
          <a:stretch/>
        </p:blipFill>
        <p:spPr>
          <a:xfrm>
            <a:off x="8459640" y="6372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5" name="无标题13.mp3" descr=""/>
          <p:cNvPicPr/>
          <p:nvPr/>
        </p:nvPicPr>
        <p:blipFill>
          <a:blip r:embed="rId3"/>
          <a:stretch/>
        </p:blipFill>
        <p:spPr>
          <a:xfrm>
            <a:off x="8991720" y="6300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3055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52734E-007 C -1.66667E-006 -3.52734E-007 0.15746 -0.06673 0.31493 -0.13345 E">
                                      <p:cBhvr>
                                        <p:cTn id="455" dur="8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61082E-006 C 4.44444E-006 0.00029 0.15763 -0.06232 0.31527 -0.12463 E">
                                      <p:cBhvr>
                                        <p:cTn id="457" dur="8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7419E-006 C -4.72222E-006 0.00029 0.15747 -0.06173 0.31511 -0.12346 E">
                                      <p:cBhvr>
                                        <p:cTn id="459" dur="8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55"/>
                            </p:stCondLst>
                            <p:childTnLst>
                              <p:par>
                                <p:cTn id="461" nodeType="afterEffect" fill="hold" presetClass="emph" presetID="27" repeatCount="6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150" autoRev="1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3" dur="150" autoRev="1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150" autoRev="1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1055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1056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50" autoRev="1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250" autoRev="1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147 C 0.00417 -0.00088 0.36042 -0.15264 0.71684 -0.30353 E">
                                      <p:cBhvr>
                                        <p:cTn id="510" dur="8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1765E-006 C -3.33333E-006 0.00118 0.35799 -0.14676 0.7165 -0.29323 E">
                                      <p:cBhvr>
                                        <p:cTn id="512" dur="8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1" fill="hold"/>
                                        <p:tgtEl>
                                          <p:spTgt spid="8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0882 C 0.00434 0.01029 0.36059 -0.1403 0.71719 -0.28912 E">
                                      <p:cBhvr>
                                        <p:cTn id="516" dur="8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1323 L 0.95487 -0.36695 E">
                                      <p:cBhvr>
                                        <p:cTn id="520" dur="8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AutoShape 2"/>
          <p:cNvSpPr/>
          <p:nvPr/>
        </p:nvSpPr>
        <p:spPr>
          <a:xfrm rot="9851400">
            <a:off x="-1289520" y="-1474920"/>
            <a:ext cx="11663640" cy="4476960"/>
          </a:xfrm>
          <a:custGeom>
            <a:avLst/>
            <a:gdLst>
              <a:gd name="textAreaLeft" fmla="*/ 972000 w 11663640"/>
              <a:gd name="textAreaRight" fmla="*/ 10692000 w 11663640"/>
              <a:gd name="textAreaTop" fmla="*/ 372960 h 4476960"/>
              <a:gd name="textAreaBottom" fmla="*/ 4104000 h 447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3"/>
          <p:cNvGrpSpPr/>
          <p:nvPr/>
        </p:nvGrpSpPr>
        <p:grpSpPr>
          <a:xfrm>
            <a:off x="324000" y="2124000"/>
            <a:ext cx="8676720" cy="3168720"/>
            <a:chOff x="324000" y="2124000"/>
            <a:chExt cx="8676720" cy="3168720"/>
          </a:xfrm>
        </p:grpSpPr>
        <p:sp>
          <p:nvSpPr>
            <p:cNvPr id="898" name="Line 4"/>
            <p:cNvSpPr/>
            <p:nvPr/>
          </p:nvSpPr>
          <p:spPr>
            <a:xfrm flipV="1">
              <a:off x="324000" y="2124000"/>
              <a:ext cx="8424360" cy="2664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5"/>
            <p:cNvSpPr/>
            <p:nvPr/>
          </p:nvSpPr>
          <p:spPr>
            <a:xfrm flipV="1">
              <a:off x="5076720" y="3348000"/>
              <a:ext cx="3924000" cy="194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Rectangle 6"/>
          <p:cNvSpPr/>
          <p:nvPr/>
        </p:nvSpPr>
        <p:spPr>
          <a:xfrm rot="20031600">
            <a:off x="2203200" y="526104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 rot="20246400">
            <a:off x="4199040" y="4429080"/>
            <a:ext cx="877680" cy="7632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8"/>
          <p:cNvSpPr/>
          <p:nvPr/>
        </p:nvSpPr>
        <p:spPr>
          <a:xfrm rot="20260800">
            <a:off x="5762160" y="3817440"/>
            <a:ext cx="57636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"/>
          <p:cNvSpPr/>
          <p:nvPr/>
        </p:nvSpPr>
        <p:spPr>
          <a:xfrm rot="20260800">
            <a:off x="6948000" y="3438000"/>
            <a:ext cx="432000" cy="71640"/>
          </a:xfrm>
          <a:prstGeom prst="rect">
            <a:avLst/>
          </a:prstGeom>
          <a:solidFill>
            <a:srgbClr val="80808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0"/>
          <p:cNvSpPr/>
          <p:nvPr/>
        </p:nvSpPr>
        <p:spPr>
          <a:xfrm flipV="1" rot="20261400">
            <a:off x="7956360" y="3059640"/>
            <a:ext cx="360360" cy="6984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11"/>
          <p:cNvSpPr/>
          <p:nvPr/>
        </p:nvSpPr>
        <p:spPr>
          <a:xfrm flipV="1">
            <a:off x="5221440" y="3421080"/>
            <a:ext cx="3814560" cy="20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12"/>
          <p:cNvGrpSpPr/>
          <p:nvPr/>
        </p:nvGrpSpPr>
        <p:grpSpPr>
          <a:xfrm>
            <a:off x="436680" y="2268360"/>
            <a:ext cx="1124640" cy="2445840"/>
            <a:chOff x="436680" y="2268360"/>
            <a:chExt cx="1124640" cy="2445840"/>
          </a:xfrm>
        </p:grpSpPr>
        <p:grpSp>
          <p:nvGrpSpPr>
            <p:cNvPr id="907" name="Group 13"/>
            <p:cNvGrpSpPr/>
            <p:nvPr/>
          </p:nvGrpSpPr>
          <p:grpSpPr>
            <a:xfrm>
              <a:off x="436680" y="2268360"/>
              <a:ext cx="103320" cy="2445840"/>
              <a:chOff x="436680" y="2268360"/>
              <a:chExt cx="103320" cy="2445840"/>
            </a:xfrm>
          </p:grpSpPr>
          <p:sp>
            <p:nvSpPr>
              <p:cNvPr id="908" name="AutoShape 14"/>
              <p:cNvSpPr/>
              <p:nvPr/>
            </p:nvSpPr>
            <p:spPr>
              <a:xfrm>
                <a:off x="436680" y="4552920"/>
                <a:ext cx="103320" cy="16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15"/>
              <p:cNvSpPr/>
              <p:nvPr/>
            </p:nvSpPr>
            <p:spPr>
              <a:xfrm>
                <a:off x="459360" y="2268360"/>
                <a:ext cx="52560" cy="24426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Freeform 16"/>
            <p:cNvSpPr/>
            <p:nvPr/>
          </p:nvSpPr>
          <p:spPr>
            <a:xfrm>
              <a:off x="513000" y="2401560"/>
              <a:ext cx="647640" cy="1666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517680" y="242244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1113120" y="2406600"/>
              <a:ext cx="293400" cy="129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1168560" y="2412720"/>
              <a:ext cx="209520" cy="38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20"/>
            <p:cNvSpPr/>
            <p:nvPr/>
          </p:nvSpPr>
          <p:spPr>
            <a:xfrm>
              <a:off x="1403640" y="2700000"/>
              <a:ext cx="107640" cy="2890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21"/>
            <p:cNvSpPr/>
            <p:nvPr/>
          </p:nvSpPr>
          <p:spPr>
            <a:xfrm>
              <a:off x="1258920" y="2628720"/>
              <a:ext cx="0" cy="14292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22"/>
            <p:cNvSpPr/>
            <p:nvPr/>
          </p:nvSpPr>
          <p:spPr>
            <a:xfrm>
              <a:off x="1187640" y="2916000"/>
              <a:ext cx="0" cy="216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23"/>
            <p:cNvSpPr/>
            <p:nvPr/>
          </p:nvSpPr>
          <p:spPr>
            <a:xfrm flipV="1" rot="21296400">
              <a:off x="1074600" y="2484360"/>
              <a:ext cx="455400" cy="722160"/>
            </a:xfrm>
            <a:custGeom>
              <a:avLst/>
              <a:gdLst>
                <a:gd name="textAreaLeft" fmla="*/ 107640 w 455400"/>
                <a:gd name="textAreaRight" fmla="*/ 347760 w 455400"/>
                <a:gd name="textAreaTop" fmla="*/ 171360 h 722160"/>
                <a:gd name="textAreaBottom" fmla="*/ 550800 h 72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24"/>
          <p:cNvGrpSpPr/>
          <p:nvPr/>
        </p:nvGrpSpPr>
        <p:grpSpPr>
          <a:xfrm>
            <a:off x="4835520" y="2268360"/>
            <a:ext cx="496080" cy="1079640"/>
            <a:chOff x="4835520" y="2268360"/>
            <a:chExt cx="496080" cy="1079640"/>
          </a:xfrm>
        </p:grpSpPr>
        <p:grpSp>
          <p:nvGrpSpPr>
            <p:cNvPr id="919" name="Group 25"/>
            <p:cNvGrpSpPr/>
            <p:nvPr/>
          </p:nvGrpSpPr>
          <p:grpSpPr>
            <a:xfrm>
              <a:off x="4835520" y="2268360"/>
              <a:ext cx="45360" cy="1079640"/>
              <a:chOff x="4835520" y="2268360"/>
              <a:chExt cx="45360" cy="1079640"/>
            </a:xfrm>
          </p:grpSpPr>
          <p:sp>
            <p:nvSpPr>
              <p:cNvPr id="920" name="AutoShape 26"/>
              <p:cNvSpPr/>
              <p:nvPr/>
            </p:nvSpPr>
            <p:spPr>
              <a:xfrm>
                <a:off x="4835520" y="3276720"/>
                <a:ext cx="45360" cy="7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27"/>
              <p:cNvSpPr/>
              <p:nvPr/>
            </p:nvSpPr>
            <p:spPr>
              <a:xfrm>
                <a:off x="4845600" y="2268360"/>
                <a:ext cx="23040" cy="10782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Freeform 28"/>
            <p:cNvSpPr/>
            <p:nvPr/>
          </p:nvSpPr>
          <p:spPr>
            <a:xfrm>
              <a:off x="4869000" y="2327040"/>
              <a:ext cx="285840" cy="73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4871160" y="23360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5133960" y="2329200"/>
              <a:ext cx="129240" cy="57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5158440" y="2332080"/>
              <a:ext cx="92520" cy="165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32"/>
            <p:cNvSpPr/>
            <p:nvPr/>
          </p:nvSpPr>
          <p:spPr>
            <a:xfrm>
              <a:off x="5262480" y="2458800"/>
              <a:ext cx="47520" cy="1274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33"/>
            <p:cNvSpPr/>
            <p:nvPr/>
          </p:nvSpPr>
          <p:spPr>
            <a:xfrm>
              <a:off x="5198400" y="2427120"/>
              <a:ext cx="0" cy="63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34"/>
            <p:cNvSpPr/>
            <p:nvPr/>
          </p:nvSpPr>
          <p:spPr>
            <a:xfrm>
              <a:off x="5167080" y="2554200"/>
              <a:ext cx="0" cy="95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35"/>
            <p:cNvSpPr/>
            <p:nvPr/>
          </p:nvSpPr>
          <p:spPr>
            <a:xfrm flipV="1" rot="21296400">
              <a:off x="5117040" y="2362320"/>
              <a:ext cx="200880" cy="318600"/>
            </a:xfrm>
            <a:custGeom>
              <a:avLst/>
              <a:gdLst>
                <a:gd name="textAreaLeft" fmla="*/ 47520 w 200880"/>
                <a:gd name="textAreaRight" fmla="*/ 153360 w 200880"/>
                <a:gd name="textAreaTop" fmla="*/ 75600 h 318600"/>
                <a:gd name="textAreaBottom" fmla="*/ 243000 h 3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36"/>
          <p:cNvGrpSpPr/>
          <p:nvPr/>
        </p:nvGrpSpPr>
        <p:grpSpPr>
          <a:xfrm>
            <a:off x="8018640" y="1908000"/>
            <a:ext cx="231480" cy="505080"/>
            <a:chOff x="8018640" y="1908000"/>
            <a:chExt cx="231480" cy="505080"/>
          </a:xfrm>
        </p:grpSpPr>
        <p:grpSp>
          <p:nvGrpSpPr>
            <p:cNvPr id="931" name="Group 37"/>
            <p:cNvGrpSpPr/>
            <p:nvPr/>
          </p:nvGrpSpPr>
          <p:grpSpPr>
            <a:xfrm>
              <a:off x="8018640" y="1908000"/>
              <a:ext cx="21240" cy="505080"/>
              <a:chOff x="8018640" y="1908000"/>
              <a:chExt cx="21240" cy="505080"/>
            </a:xfrm>
          </p:grpSpPr>
          <p:sp>
            <p:nvSpPr>
              <p:cNvPr id="932" name="AutoShape 38"/>
              <p:cNvSpPr/>
              <p:nvPr/>
            </p:nvSpPr>
            <p:spPr>
              <a:xfrm>
                <a:off x="8018640" y="2379960"/>
                <a:ext cx="21240" cy="3312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Rectangle 39"/>
              <p:cNvSpPr/>
              <p:nvPr/>
            </p:nvSpPr>
            <p:spPr>
              <a:xfrm>
                <a:off x="8023320" y="1908000"/>
                <a:ext cx="10800" cy="50436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4" name="Freeform 40"/>
            <p:cNvSpPr/>
            <p:nvPr/>
          </p:nvSpPr>
          <p:spPr>
            <a:xfrm>
              <a:off x="8034120" y="1935360"/>
              <a:ext cx="133560" cy="34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1"/>
            <p:cNvSpPr/>
            <p:nvPr/>
          </p:nvSpPr>
          <p:spPr>
            <a:xfrm>
              <a:off x="8035200" y="193968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2"/>
            <p:cNvSpPr/>
            <p:nvPr/>
          </p:nvSpPr>
          <p:spPr>
            <a:xfrm>
              <a:off x="8157960" y="1936440"/>
              <a:ext cx="60480" cy="26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"/>
            <p:cNvSpPr/>
            <p:nvPr/>
          </p:nvSpPr>
          <p:spPr>
            <a:xfrm>
              <a:off x="8169480" y="1937520"/>
              <a:ext cx="43200" cy="75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44"/>
            <p:cNvSpPr/>
            <p:nvPr/>
          </p:nvSpPr>
          <p:spPr>
            <a:xfrm>
              <a:off x="8218080" y="1996920"/>
              <a:ext cx="21960" cy="594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45"/>
            <p:cNvSpPr/>
            <p:nvPr/>
          </p:nvSpPr>
          <p:spPr>
            <a:xfrm>
              <a:off x="8188200" y="1982160"/>
              <a:ext cx="0" cy="2952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46"/>
            <p:cNvSpPr/>
            <p:nvPr/>
          </p:nvSpPr>
          <p:spPr>
            <a:xfrm>
              <a:off x="8173440" y="2041560"/>
              <a:ext cx="0" cy="442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47"/>
            <p:cNvSpPr/>
            <p:nvPr/>
          </p:nvSpPr>
          <p:spPr>
            <a:xfrm flipV="1" rot="21296400">
              <a:off x="8150040" y="1951200"/>
              <a:ext cx="93600" cy="149040"/>
            </a:xfrm>
            <a:custGeom>
              <a:avLst/>
              <a:gdLst>
                <a:gd name="textAreaLeft" fmla="*/ 21960 w 93600"/>
                <a:gd name="textAreaRight" fmla="*/ 71640 w 93600"/>
                <a:gd name="textAreaTop" fmla="*/ 35280 h 149040"/>
                <a:gd name="textAreaBottom" fmla="*/ 113760 h 1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48"/>
          <p:cNvSpPr/>
          <p:nvPr/>
        </p:nvSpPr>
        <p:spPr>
          <a:xfrm flipV="1">
            <a:off x="108000" y="1979640"/>
            <a:ext cx="8569440" cy="2736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9"/>
          <p:cNvSpPr/>
          <p:nvPr/>
        </p:nvSpPr>
        <p:spPr>
          <a:xfrm>
            <a:off x="2484360" y="828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50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945" name="Text Box 51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52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3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AutoShape 54"/>
          <p:cNvSpPr/>
          <p:nvPr/>
        </p:nvSpPr>
        <p:spPr>
          <a:xfrm rot="21409800">
            <a:off x="4932360" y="3527280"/>
            <a:ext cx="4753080" cy="2125800"/>
          </a:xfrm>
          <a:prstGeom prst="triangle">
            <a:avLst>
              <a:gd name="adj" fmla="val 95546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55"/>
          <p:cNvSpPr/>
          <p:nvPr/>
        </p:nvSpPr>
        <p:spPr>
          <a:xfrm rot="21409800">
            <a:off x="5148360" y="3852720"/>
            <a:ext cx="4752720" cy="2125800"/>
          </a:xfrm>
          <a:prstGeom prst="triangle">
            <a:avLst>
              <a:gd name="adj" fmla="val 95546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6"/>
          <p:cNvGrpSpPr/>
          <p:nvPr/>
        </p:nvGrpSpPr>
        <p:grpSpPr>
          <a:xfrm>
            <a:off x="2786760" y="4798080"/>
            <a:ext cx="466920" cy="466920"/>
            <a:chOff x="2786760" y="4798080"/>
            <a:chExt cx="466920" cy="466920"/>
          </a:xfrm>
        </p:grpSpPr>
        <p:sp>
          <p:nvSpPr>
            <p:cNvPr id="951" name="Oval 57"/>
            <p:cNvSpPr/>
            <p:nvPr/>
          </p:nvSpPr>
          <p:spPr>
            <a:xfrm rot="20450400">
              <a:off x="2993760" y="500652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58"/>
            <p:cNvSpPr/>
            <p:nvPr/>
          </p:nvSpPr>
          <p:spPr>
            <a:xfrm rot="20450400">
              <a:off x="2836440" y="484776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AutoShape 59"/>
            <p:cNvSpPr/>
            <p:nvPr/>
          </p:nvSpPr>
          <p:spPr>
            <a:xfrm flipH="1" rot="20450400">
              <a:off x="2979360" y="48906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60"/>
            <p:cNvSpPr/>
            <p:nvPr/>
          </p:nvSpPr>
          <p:spPr>
            <a:xfrm flipH="1" rot="7200600">
              <a:off x="3073320" y="500220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61"/>
            <p:cNvSpPr/>
            <p:nvPr/>
          </p:nvSpPr>
          <p:spPr>
            <a:xfrm flipH="1" rot="15628800">
              <a:off x="2928600" y="49680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AutoShape 62"/>
            <p:cNvSpPr/>
            <p:nvPr/>
          </p:nvSpPr>
          <p:spPr>
            <a:xfrm flipH="1" rot="12186000">
              <a:off x="2979720" y="50292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63"/>
            <p:cNvSpPr/>
            <p:nvPr/>
          </p:nvSpPr>
          <p:spPr>
            <a:xfrm flipH="1" rot="3223200">
              <a:off x="3067560" y="49165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64"/>
            <p:cNvSpPr/>
            <p:nvPr/>
          </p:nvSpPr>
          <p:spPr>
            <a:xfrm rot="20450400">
              <a:off x="2846880" y="485676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65"/>
          <p:cNvGrpSpPr/>
          <p:nvPr/>
        </p:nvGrpSpPr>
        <p:grpSpPr>
          <a:xfrm>
            <a:off x="1705680" y="5020560"/>
            <a:ext cx="466920" cy="466560"/>
            <a:chOff x="1705680" y="5020560"/>
            <a:chExt cx="466920" cy="466560"/>
          </a:xfrm>
        </p:grpSpPr>
        <p:sp>
          <p:nvSpPr>
            <p:cNvPr id="960" name="Oval 66"/>
            <p:cNvSpPr/>
            <p:nvPr/>
          </p:nvSpPr>
          <p:spPr>
            <a:xfrm rot="20450400">
              <a:off x="1912320" y="522864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67"/>
            <p:cNvSpPr/>
            <p:nvPr/>
          </p:nvSpPr>
          <p:spPr>
            <a:xfrm rot="20450400">
              <a:off x="1755360" y="507024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68"/>
            <p:cNvSpPr/>
            <p:nvPr/>
          </p:nvSpPr>
          <p:spPr>
            <a:xfrm flipH="1" rot="20450400">
              <a:off x="1898280" y="511308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AutoShape 69"/>
            <p:cNvSpPr/>
            <p:nvPr/>
          </p:nvSpPr>
          <p:spPr>
            <a:xfrm flipH="1" rot="7200600">
              <a:off x="1991520" y="522468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AutoShape 70"/>
            <p:cNvSpPr/>
            <p:nvPr/>
          </p:nvSpPr>
          <p:spPr>
            <a:xfrm flipH="1" rot="15628800">
              <a:off x="1847520" y="51904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AutoShape 71"/>
            <p:cNvSpPr/>
            <p:nvPr/>
          </p:nvSpPr>
          <p:spPr>
            <a:xfrm flipH="1" rot="12186000">
              <a:off x="1897920" y="52513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AutoShape 72"/>
            <p:cNvSpPr/>
            <p:nvPr/>
          </p:nvSpPr>
          <p:spPr>
            <a:xfrm flipH="1" rot="3223200">
              <a:off x="1986480" y="51386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73"/>
            <p:cNvSpPr/>
            <p:nvPr/>
          </p:nvSpPr>
          <p:spPr>
            <a:xfrm rot="20450400">
              <a:off x="1765440" y="507924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Group 74"/>
          <p:cNvGrpSpPr/>
          <p:nvPr/>
        </p:nvGrpSpPr>
        <p:grpSpPr>
          <a:xfrm>
            <a:off x="1516320" y="4510800"/>
            <a:ext cx="1639440" cy="862920"/>
            <a:chOff x="1516320" y="4510800"/>
            <a:chExt cx="1639440" cy="862920"/>
          </a:xfrm>
        </p:grpSpPr>
        <p:sp>
          <p:nvSpPr>
            <p:cNvPr id="969" name="AutoShape 75"/>
            <p:cNvSpPr/>
            <p:nvPr/>
          </p:nvSpPr>
          <p:spPr>
            <a:xfrm rot="19311000">
              <a:off x="2925720" y="4798440"/>
              <a:ext cx="23760" cy="228600"/>
            </a:xfrm>
            <a:custGeom>
              <a:avLst/>
              <a:gdLst>
                <a:gd name="textAreaLeft" fmla="*/ 1440 w 23760"/>
                <a:gd name="textAreaRight" fmla="*/ 22320 w 23760"/>
                <a:gd name="textAreaTop" fmla="*/ 19080 h 228600"/>
                <a:gd name="textAreaBottom" fmla="*/ 2098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76"/>
            <p:cNvSpPr/>
            <p:nvPr/>
          </p:nvSpPr>
          <p:spPr>
            <a:xfrm rot="2268000">
              <a:off x="1982520" y="5030280"/>
              <a:ext cx="46080" cy="19044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39600 h 190440"/>
                <a:gd name="textAreaBottom" fmla="*/ 15084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7"/>
            <p:cNvSpPr/>
            <p:nvPr/>
          </p:nvSpPr>
          <p:spPr>
            <a:xfrm rot="20841000">
              <a:off x="1766880" y="5011200"/>
              <a:ext cx="182520" cy="228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1" h="227">
                  <a:moveTo>
                    <a:pt x="0" y="0"/>
                  </a:moveTo>
                  <a:lnTo>
                    <a:pt x="136" y="227"/>
                  </a:lnTo>
                  <a:lnTo>
                    <a:pt x="181" y="182"/>
                  </a:lnTo>
                  <a:lnTo>
                    <a:pt x="136" y="227"/>
                  </a:lnTo>
                  <a:cubicBezTo>
                    <a:pt x="134" y="216"/>
                    <a:pt x="134" y="204"/>
                    <a:pt x="126" y="196"/>
                  </a:cubicBezTo>
                  <a:lnTo>
                    <a:pt x="45" y="0"/>
                  </a:lnTo>
                  <a:lnTo>
                    <a:pt x="181" y="0"/>
                  </a:lnTo>
                </a:path>
              </a:pathLst>
            </a:custGeom>
            <a:solidFill>
              <a:srgbClr val="ffffff">
                <a:alpha val="76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78"/>
            <p:cNvGrpSpPr/>
            <p:nvPr/>
          </p:nvGrpSpPr>
          <p:grpSpPr>
            <a:xfrm>
              <a:off x="1516320" y="4511160"/>
              <a:ext cx="1620360" cy="862560"/>
              <a:chOff x="1516320" y="4511160"/>
              <a:chExt cx="1620360" cy="862560"/>
            </a:xfrm>
          </p:grpSpPr>
          <p:sp>
            <p:nvSpPr>
              <p:cNvPr id="973" name="Freeform 79"/>
              <p:cNvSpPr/>
              <p:nvPr/>
            </p:nvSpPr>
            <p:spPr>
              <a:xfrm rot="20977800">
                <a:off x="1557000" y="4644360"/>
                <a:ext cx="1538280" cy="59544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1526" h="589">
                    <a:moveTo>
                      <a:pt x="528" y="453"/>
                    </a:moveTo>
                    <a:lnTo>
                      <a:pt x="392" y="317"/>
                    </a:lnTo>
                    <a:lnTo>
                      <a:pt x="120" y="317"/>
                    </a:lnTo>
                    <a:lnTo>
                      <a:pt x="0" y="284"/>
                    </a:lnTo>
                    <a:lnTo>
                      <a:pt x="392" y="272"/>
                    </a:lnTo>
                    <a:lnTo>
                      <a:pt x="392" y="226"/>
                    </a:lnTo>
                    <a:cubicBezTo>
                      <a:pt x="389" y="221"/>
                      <a:pt x="384" y="216"/>
                      <a:pt x="383" y="210"/>
                    </a:cubicBezTo>
                    <a:cubicBezTo>
                      <a:pt x="382" y="206"/>
                      <a:pt x="383" y="199"/>
                      <a:pt x="387" y="198"/>
                    </a:cubicBezTo>
                    <a:cubicBezTo>
                      <a:pt x="392" y="197"/>
                      <a:pt x="398" y="201"/>
                      <a:pt x="399" y="206"/>
                    </a:cubicBezTo>
                    <a:cubicBezTo>
                      <a:pt x="403" y="227"/>
                      <a:pt x="399" y="249"/>
                      <a:pt x="399" y="270"/>
                    </a:cubicBezTo>
                    <a:cubicBezTo>
                      <a:pt x="423" y="254"/>
                      <a:pt x="452" y="263"/>
                      <a:pt x="479" y="254"/>
                    </a:cubicBezTo>
                    <a:cubicBezTo>
                      <a:pt x="527" y="257"/>
                      <a:pt x="532" y="263"/>
                      <a:pt x="571" y="270"/>
                    </a:cubicBezTo>
                    <a:cubicBezTo>
                      <a:pt x="610" y="269"/>
                      <a:pt x="648" y="269"/>
                      <a:pt x="687" y="266"/>
                    </a:cubicBezTo>
                    <a:cubicBezTo>
                      <a:pt x="695" y="265"/>
                      <a:pt x="711" y="258"/>
                      <a:pt x="711" y="258"/>
                    </a:cubicBezTo>
                    <a:cubicBezTo>
                      <a:pt x="753" y="196"/>
                      <a:pt x="797" y="221"/>
                      <a:pt x="887" y="218"/>
                    </a:cubicBezTo>
                    <a:cubicBezTo>
                      <a:pt x="895" y="193"/>
                      <a:pt x="909" y="146"/>
                      <a:pt x="939" y="142"/>
                    </a:cubicBezTo>
                    <a:cubicBezTo>
                      <a:pt x="958" y="140"/>
                      <a:pt x="976" y="139"/>
                      <a:pt x="995" y="138"/>
                    </a:cubicBezTo>
                    <a:cubicBezTo>
                      <a:pt x="1031" y="129"/>
                      <a:pt x="1073" y="159"/>
                      <a:pt x="1095" y="126"/>
                    </a:cubicBezTo>
                    <a:cubicBezTo>
                      <a:pt x="1093" y="116"/>
                      <a:pt x="1150" y="77"/>
                      <a:pt x="1109" y="64"/>
                    </a:cubicBezTo>
                    <a:lnTo>
                      <a:pt x="845" y="35"/>
                    </a:lnTo>
                    <a:lnTo>
                      <a:pt x="936" y="0"/>
                    </a:lnTo>
                    <a:lnTo>
                      <a:pt x="1254" y="45"/>
                    </a:lnTo>
                    <a:lnTo>
                      <a:pt x="1526" y="226"/>
                    </a:lnTo>
                    <a:lnTo>
                      <a:pt x="1526" y="317"/>
                    </a:lnTo>
                    <a:lnTo>
                      <a:pt x="1299" y="317"/>
                    </a:lnTo>
                    <a:cubicBezTo>
                      <a:pt x="1269" y="347"/>
                      <a:pt x="1161" y="496"/>
                      <a:pt x="1123" y="496"/>
                    </a:cubicBezTo>
                    <a:lnTo>
                      <a:pt x="1037" y="270"/>
                    </a:lnTo>
                    <a:lnTo>
                      <a:pt x="891" y="408"/>
                    </a:lnTo>
                    <a:lnTo>
                      <a:pt x="864" y="491"/>
                    </a:lnTo>
                    <a:lnTo>
                      <a:pt x="755" y="589"/>
                    </a:lnTo>
                    <a:lnTo>
                      <a:pt x="573" y="499"/>
                    </a:lnTo>
                    <a:lnTo>
                      <a:pt x="528" y="453"/>
                    </a:lnTo>
                    <a:close/>
                  </a:path>
                </a:pathLst>
              </a:cu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80"/>
              <p:cNvSpPr/>
              <p:nvPr/>
            </p:nvSpPr>
            <p:spPr>
              <a:xfrm rot="15577800">
                <a:off x="2318040" y="498564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Group 81"/>
            <p:cNvGrpSpPr/>
            <p:nvPr/>
          </p:nvGrpSpPr>
          <p:grpSpPr>
            <a:xfrm>
              <a:off x="2003040" y="4510800"/>
              <a:ext cx="965520" cy="658800"/>
              <a:chOff x="2003040" y="4510800"/>
              <a:chExt cx="965520" cy="658800"/>
            </a:xfrm>
          </p:grpSpPr>
          <p:sp>
            <p:nvSpPr>
              <p:cNvPr id="976" name="AutoShape 82"/>
              <p:cNvSpPr/>
              <p:nvPr/>
            </p:nvSpPr>
            <p:spPr>
              <a:xfrm rot="8319600">
                <a:off x="2881440" y="4811400"/>
                <a:ext cx="45000" cy="137160"/>
              </a:xfrm>
              <a:prstGeom prst="triangle">
                <a:avLst>
                  <a:gd name="adj" fmla="val 50000"/>
                </a:avLst>
              </a:prstGeom>
              <a:solidFill>
                <a:srgbClr val="c0c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83"/>
              <p:cNvSpPr/>
              <p:nvPr/>
            </p:nvSpPr>
            <p:spPr>
              <a:xfrm rot="20450400">
                <a:off x="2397240" y="4594680"/>
                <a:ext cx="549000" cy="22788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545" h="226">
                    <a:moveTo>
                      <a:pt x="0" y="0"/>
                    </a:moveTo>
                    <a:lnTo>
                      <a:pt x="318" y="45"/>
                    </a:lnTo>
                    <a:lnTo>
                      <a:pt x="545" y="226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AutoShape 84"/>
              <p:cNvSpPr/>
              <p:nvPr/>
            </p:nvSpPr>
            <p:spPr>
              <a:xfrm rot="15050400">
                <a:off x="2366280" y="492408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85"/>
              <p:cNvSpPr/>
              <p:nvPr/>
            </p:nvSpPr>
            <p:spPr>
              <a:xfrm rot="15050400">
                <a:off x="2294640" y="4905360"/>
                <a:ext cx="45000" cy="36576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86"/>
              <p:cNvSpPr/>
              <p:nvPr/>
            </p:nvSpPr>
            <p:spPr>
              <a:xfrm rot="20450400">
                <a:off x="2000880" y="4922280"/>
                <a:ext cx="537840" cy="7848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78480"/>
                  <a:gd name="textAreaBottom" fmla="*/ 78480 h 78480"/>
                </a:gdLst>
                <a:ahLst/>
                <a:rect l="textAreaLeft" t="textAreaTop" r="textAreaRight" b="textAreaBottom"/>
                <a:pathLst>
                  <a:path w="534" h="78">
                    <a:moveTo>
                      <a:pt x="0" y="40"/>
                    </a:moveTo>
                    <a:cubicBezTo>
                      <a:pt x="13" y="0"/>
                      <a:pt x="96" y="27"/>
                      <a:pt x="116" y="28"/>
                    </a:cubicBezTo>
                    <a:cubicBezTo>
                      <a:pt x="136" y="32"/>
                      <a:pt x="157" y="34"/>
                      <a:pt x="176" y="40"/>
                    </a:cubicBezTo>
                    <a:cubicBezTo>
                      <a:pt x="204" y="37"/>
                      <a:pt x="215" y="38"/>
                      <a:pt x="236" y="24"/>
                    </a:cubicBezTo>
                    <a:cubicBezTo>
                      <a:pt x="249" y="5"/>
                      <a:pt x="239" y="14"/>
                      <a:pt x="268" y="4"/>
                    </a:cubicBezTo>
                    <a:cubicBezTo>
                      <a:pt x="272" y="3"/>
                      <a:pt x="280" y="0"/>
                      <a:pt x="280" y="0"/>
                    </a:cubicBezTo>
                    <a:cubicBezTo>
                      <a:pt x="534" y="7"/>
                      <a:pt x="412" y="20"/>
                      <a:pt x="284" y="24"/>
                    </a:cubicBezTo>
                    <a:cubicBezTo>
                      <a:pt x="278" y="43"/>
                      <a:pt x="276" y="47"/>
                      <a:pt x="256" y="52"/>
                    </a:cubicBezTo>
                    <a:cubicBezTo>
                      <a:pt x="208" y="51"/>
                      <a:pt x="75" y="78"/>
                      <a:pt x="0" y="40"/>
                    </a:cubicBezTo>
                    <a:close/>
                  </a:path>
                </a:pathLst>
              </a:custGeom>
              <a:solidFill>
                <a:srgbClr val="bbe0e3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87"/>
              <p:cNvSpPr/>
              <p:nvPr/>
            </p:nvSpPr>
            <p:spPr>
              <a:xfrm rot="20450400">
                <a:off x="2451960" y="4586400"/>
                <a:ext cx="273960" cy="4500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2" name="Freeform 88"/>
            <p:cNvSpPr/>
            <p:nvPr/>
          </p:nvSpPr>
          <p:spPr>
            <a:xfrm rot="20862000">
              <a:off x="1674720" y="4899960"/>
              <a:ext cx="1463760" cy="320760"/>
            </a:xfrm>
            <a:custGeom>
              <a:avLst/>
              <a:gdLst>
                <a:gd name="textAreaLeft" fmla="*/ 0 w 1463760"/>
                <a:gd name="textAreaRight" fmla="*/ 1463760 w 1463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52" h="317">
                  <a:moveTo>
                    <a:pt x="1452" y="0"/>
                  </a:moveTo>
                  <a:lnTo>
                    <a:pt x="1225" y="0"/>
                  </a:lnTo>
                  <a:lnTo>
                    <a:pt x="1044" y="181"/>
                  </a:lnTo>
                  <a:lnTo>
                    <a:pt x="953" y="0"/>
                  </a:lnTo>
                  <a:lnTo>
                    <a:pt x="817" y="136"/>
                  </a:lnTo>
                  <a:lnTo>
                    <a:pt x="772" y="227"/>
                  </a:lnTo>
                  <a:lnTo>
                    <a:pt x="681" y="317"/>
                  </a:lnTo>
                  <a:lnTo>
                    <a:pt x="454" y="181"/>
                  </a:lnTo>
                  <a:lnTo>
                    <a:pt x="318" y="45"/>
                  </a:ln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Group 89"/>
            <p:cNvGrpSpPr/>
            <p:nvPr/>
          </p:nvGrpSpPr>
          <p:grpSpPr>
            <a:xfrm>
              <a:off x="2025000" y="4551480"/>
              <a:ext cx="722880" cy="680040"/>
              <a:chOff x="2025000" y="4551480"/>
              <a:chExt cx="722880" cy="680040"/>
            </a:xfrm>
          </p:grpSpPr>
          <p:sp>
            <p:nvSpPr>
              <p:cNvPr id="984" name="Freeform 90"/>
              <p:cNvSpPr/>
              <p:nvPr/>
            </p:nvSpPr>
            <p:spPr>
              <a:xfrm rot="20770200">
                <a:off x="2072520" y="4686480"/>
                <a:ext cx="627120" cy="476640"/>
              </a:xfrm>
              <a:custGeom>
                <a:avLst/>
                <a:gdLst>
                  <a:gd name="textAreaLeft" fmla="*/ 0 w 627120"/>
                  <a:gd name="textAreaRight" fmla="*/ 627480 w 62712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91"/>
              <p:cNvSpPr/>
              <p:nvPr/>
            </p:nvSpPr>
            <p:spPr>
              <a:xfrm rot="20770200">
                <a:off x="2284560" y="456876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92"/>
              <p:cNvSpPr/>
              <p:nvPr/>
            </p:nvSpPr>
            <p:spPr>
              <a:xfrm rot="20770200">
                <a:off x="2229840" y="515520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7" name="AutoShape 93"/>
          <p:cNvSpPr/>
          <p:nvPr/>
        </p:nvSpPr>
        <p:spPr>
          <a:xfrm flipV="1" rot="15120000">
            <a:off x="593280" y="4228200"/>
            <a:ext cx="72720" cy="2193840"/>
          </a:xfrm>
          <a:custGeom>
            <a:avLst/>
            <a:gdLst>
              <a:gd name="textAreaLeft" fmla="*/ 15120 w 72720"/>
              <a:gd name="textAreaRight" fmla="*/ 57600 w 72720"/>
              <a:gd name="textAreaTop" fmla="*/ 456840 h 2193840"/>
              <a:gd name="textAreaBottom" fmla="*/ 1737000 h 21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35294E-006 C -8.33333E-007 0.00088 0.39965 -0.25471 0.79931 -0.50912 E">
                                      <p:cBhvr>
                                        <p:cTn id="538" dur="800" fill="hold"/>
                                        <p:tgtEl>
                                          <p:spTgt spid="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003 C 8.33333E-007 0.00147 0.39583 -0.24353 0.79201 -0.48618 E">
                                      <p:cBhvr>
                                        <p:cTn id="540" dur="8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0.0135 L 1.07691 -0.64524 E">
                                      <p:cBhvr>
                                        <p:cTn id="542" dur="8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6471E-006 C 1.66667E-006 0.00176 0.39965 -0.24883 0.79982 -0.49706 E">
                                      <p:cBhvr>
                                        <p:cTn id="544" dur="8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2"/>
          <p:cNvSpPr/>
          <p:nvPr/>
        </p:nvSpPr>
        <p:spPr>
          <a:xfrm rot="18952800">
            <a:off x="0" y="576000"/>
            <a:ext cx="10909440" cy="4824360"/>
          </a:xfrm>
          <a:prstGeom prst="rect">
            <a:avLst/>
          </a:prstGeom>
          <a:solidFill>
            <a:srgbClr val="bbe0e3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"/>
          <p:cNvSpPr/>
          <p:nvPr/>
        </p:nvSpPr>
        <p:spPr>
          <a:xfrm rot="18952800">
            <a:off x="-1329840" y="0"/>
            <a:ext cx="10907640" cy="4932360"/>
          </a:xfrm>
          <a:prstGeom prst="rect">
            <a:avLst/>
          </a:prstGeom>
          <a:solidFill>
            <a:srgbClr val="bbe0e3">
              <a:alpha val="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4"/>
          <p:cNvSpPr/>
          <p:nvPr/>
        </p:nvSpPr>
        <p:spPr>
          <a:xfrm>
            <a:off x="3203640" y="2195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2010.10.16  </a:t>
            </a:r>
            <a:r>
              <a:rPr b="0" lang="zh-CN" sz="1800" spc="-1" strike="noStrike">
                <a:solidFill>
                  <a:srgbClr val="969696"/>
                </a:solidFill>
                <a:latin typeface="Arial"/>
                <a:ea typeface="华文行楷"/>
              </a:rPr>
              <a:t>大学之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5"/>
          <p:cNvSpPr/>
          <p:nvPr/>
        </p:nvSpPr>
        <p:spPr>
          <a:xfrm>
            <a:off x="3922560" y="2629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Arial"/>
                <a:ea typeface="方正舒体"/>
              </a:rPr>
              <a:t>王茹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Group 6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993" name="Text Box 7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8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9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10"/>
          <p:cNvGrpSpPr/>
          <p:nvPr/>
        </p:nvGrpSpPr>
        <p:grpSpPr>
          <a:xfrm>
            <a:off x="7875720" y="4565520"/>
            <a:ext cx="1051560" cy="515160"/>
            <a:chOff x="7875720" y="4565520"/>
            <a:chExt cx="1051560" cy="515160"/>
          </a:xfrm>
        </p:grpSpPr>
        <p:grpSp>
          <p:nvGrpSpPr>
            <p:cNvPr id="997" name="Group 11"/>
            <p:cNvGrpSpPr/>
            <p:nvPr/>
          </p:nvGrpSpPr>
          <p:grpSpPr>
            <a:xfrm>
              <a:off x="7875720" y="4591440"/>
              <a:ext cx="1051560" cy="489240"/>
              <a:chOff x="7875720" y="4591440"/>
              <a:chExt cx="1051560" cy="489240"/>
            </a:xfrm>
          </p:grpSpPr>
          <p:grpSp>
            <p:nvGrpSpPr>
              <p:cNvPr id="998" name="Group 12"/>
              <p:cNvGrpSpPr/>
              <p:nvPr/>
            </p:nvGrpSpPr>
            <p:grpSpPr>
              <a:xfrm>
                <a:off x="8660160" y="4788720"/>
                <a:ext cx="267120" cy="267120"/>
                <a:chOff x="8660160" y="4788720"/>
                <a:chExt cx="267120" cy="267120"/>
              </a:xfrm>
            </p:grpSpPr>
            <p:sp>
              <p:nvSpPr>
                <p:cNvPr id="999" name="Oval 13"/>
                <p:cNvSpPr/>
                <p:nvPr/>
              </p:nvSpPr>
              <p:spPr>
                <a:xfrm rot="21050400">
                  <a:off x="8777160" y="4905720"/>
                  <a:ext cx="29520" cy="2952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AutoShape 14"/>
                <p:cNvSpPr/>
                <p:nvPr/>
              </p:nvSpPr>
              <p:spPr>
                <a:xfrm rot="21050400">
                  <a:off x="8677080" y="4805640"/>
                  <a:ext cx="232920" cy="232920"/>
                </a:xfrm>
                <a:custGeom>
                  <a:avLst/>
                  <a:gdLst>
                    <a:gd name="textAreaLeft" fmla="*/ 33840 w 232920"/>
                    <a:gd name="textAreaRight" fmla="*/ 199080 w 232920"/>
                    <a:gd name="textAreaTop" fmla="*/ 33840 h 232920"/>
                    <a:gd name="textAreaBottom" fmla="*/ 199080 h 232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AutoShape 15"/>
                <p:cNvSpPr/>
                <p:nvPr/>
              </p:nvSpPr>
              <p:spPr>
                <a:xfrm flipH="1" rot="21050400">
                  <a:off x="8775720" y="4829760"/>
                  <a:ext cx="14400" cy="8712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AutoShape 16"/>
                <p:cNvSpPr/>
                <p:nvPr/>
              </p:nvSpPr>
              <p:spPr>
                <a:xfrm flipH="1" rot="7800000">
                  <a:off x="8821440" y="4910040"/>
                  <a:ext cx="14760" cy="87120"/>
                </a:xfrm>
                <a:custGeom>
                  <a:avLst/>
                  <a:gdLst>
                    <a:gd name="textAreaLeft" fmla="*/ 3240 w 14760"/>
                    <a:gd name="textAreaRight" fmla="*/ 11520 w 1476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AutoShape 17"/>
                <p:cNvSpPr/>
                <p:nvPr/>
              </p:nvSpPr>
              <p:spPr>
                <a:xfrm flipH="1" rot="16229400">
                  <a:off x="8735040" y="4873320"/>
                  <a:ext cx="14760" cy="87120"/>
                </a:xfrm>
                <a:custGeom>
                  <a:avLst/>
                  <a:gdLst>
                    <a:gd name="textAreaLeft" fmla="*/ 3240 w 14760"/>
                    <a:gd name="textAreaRight" fmla="*/ 11520 w 1476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AutoShape 18"/>
                <p:cNvSpPr/>
                <p:nvPr/>
              </p:nvSpPr>
              <p:spPr>
                <a:xfrm flipH="1" rot="12785400">
                  <a:off x="8761320" y="4917240"/>
                  <a:ext cx="14400" cy="8676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7640 h 86760"/>
                    <a:gd name="textAreaBottom" fmla="*/ 69120 h 8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AutoShape 19"/>
                <p:cNvSpPr/>
                <p:nvPr/>
              </p:nvSpPr>
              <p:spPr>
                <a:xfrm flipH="1" rot="3823200">
                  <a:off x="8827560" y="4855680"/>
                  <a:ext cx="14400" cy="8712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Oval 20"/>
                <p:cNvSpPr/>
                <p:nvPr/>
              </p:nvSpPr>
              <p:spPr>
                <a:xfrm rot="21050400">
                  <a:off x="8683200" y="4811040"/>
                  <a:ext cx="221400" cy="221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Group 21"/>
              <p:cNvGrpSpPr/>
              <p:nvPr/>
            </p:nvGrpSpPr>
            <p:grpSpPr>
              <a:xfrm>
                <a:off x="7956720" y="4813200"/>
                <a:ext cx="267120" cy="267480"/>
                <a:chOff x="7956720" y="4813200"/>
                <a:chExt cx="267120" cy="267480"/>
              </a:xfrm>
            </p:grpSpPr>
            <p:sp>
              <p:nvSpPr>
                <p:cNvPr id="1008" name="Oval 22"/>
                <p:cNvSpPr/>
                <p:nvPr/>
              </p:nvSpPr>
              <p:spPr>
                <a:xfrm rot="21050400">
                  <a:off x="8073720" y="4930560"/>
                  <a:ext cx="29520" cy="2952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AutoShape 23"/>
                <p:cNvSpPr/>
                <p:nvPr/>
              </p:nvSpPr>
              <p:spPr>
                <a:xfrm rot="21050400">
                  <a:off x="7973640" y="4830120"/>
                  <a:ext cx="232920" cy="233280"/>
                </a:xfrm>
                <a:custGeom>
                  <a:avLst/>
                  <a:gdLst>
                    <a:gd name="textAreaLeft" fmla="*/ 33840 w 232920"/>
                    <a:gd name="textAreaRight" fmla="*/ 199080 w 232920"/>
                    <a:gd name="textAreaTop" fmla="*/ 33840 h 233280"/>
                    <a:gd name="textAreaBottom" fmla="*/ 199440 h 233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AutoShape 24"/>
                <p:cNvSpPr/>
                <p:nvPr/>
              </p:nvSpPr>
              <p:spPr>
                <a:xfrm flipH="1" rot="21050400">
                  <a:off x="8072640" y="4854960"/>
                  <a:ext cx="14400" cy="8748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480"/>
                    <a:gd name="textAreaBottom" fmla="*/ 69480 h 87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AutoShape 25"/>
                <p:cNvSpPr/>
                <p:nvPr/>
              </p:nvSpPr>
              <p:spPr>
                <a:xfrm flipH="1" rot="7800000">
                  <a:off x="8118000" y="4934880"/>
                  <a:ext cx="14760" cy="87480"/>
                </a:xfrm>
                <a:custGeom>
                  <a:avLst/>
                  <a:gdLst>
                    <a:gd name="textAreaLeft" fmla="*/ 3240 w 14760"/>
                    <a:gd name="textAreaRight" fmla="*/ 11520 w 14760"/>
                    <a:gd name="textAreaTop" fmla="*/ 18000 h 87480"/>
                    <a:gd name="textAreaBottom" fmla="*/ 69480 h 87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AutoShape 26"/>
                <p:cNvSpPr/>
                <p:nvPr/>
              </p:nvSpPr>
              <p:spPr>
                <a:xfrm flipH="1" rot="16229400">
                  <a:off x="8031600" y="4898160"/>
                  <a:ext cx="14760" cy="87120"/>
                </a:xfrm>
                <a:custGeom>
                  <a:avLst/>
                  <a:gdLst>
                    <a:gd name="textAreaLeft" fmla="*/ 3240 w 14760"/>
                    <a:gd name="textAreaRight" fmla="*/ 11520 w 1476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AutoShape 27"/>
                <p:cNvSpPr/>
                <p:nvPr/>
              </p:nvSpPr>
              <p:spPr>
                <a:xfrm flipH="1" rot="12785400">
                  <a:off x="8056800" y="4941720"/>
                  <a:ext cx="14400" cy="8748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480"/>
                    <a:gd name="textAreaBottom" fmla="*/ 69480 h 87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AutoShape 28"/>
                <p:cNvSpPr/>
                <p:nvPr/>
              </p:nvSpPr>
              <p:spPr>
                <a:xfrm flipH="1" rot="3823200">
                  <a:off x="8124120" y="4880160"/>
                  <a:ext cx="14400" cy="8712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29"/>
                <p:cNvSpPr/>
                <p:nvPr/>
              </p:nvSpPr>
              <p:spPr>
                <a:xfrm rot="21050400">
                  <a:off x="7980120" y="4835880"/>
                  <a:ext cx="221400" cy="22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6" name="AutoShape 30"/>
              <p:cNvSpPr/>
              <p:nvPr/>
            </p:nvSpPr>
            <p:spPr>
              <a:xfrm rot="2868000">
                <a:off x="8126640" y="4833720"/>
                <a:ext cx="28800" cy="120600"/>
              </a:xfrm>
              <a:custGeom>
                <a:avLst/>
                <a:gdLst>
                  <a:gd name="textAreaLeft" fmla="*/ 5760 w 28800"/>
                  <a:gd name="textAreaRight" fmla="*/ 23040 w 28800"/>
                  <a:gd name="textAreaTop" fmla="*/ 24840 h 120600"/>
                  <a:gd name="textAreaBottom" fmla="*/ 95760 h 12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AutoShape 31"/>
              <p:cNvSpPr/>
              <p:nvPr/>
            </p:nvSpPr>
            <p:spPr>
              <a:xfrm rot="19911000">
                <a:off x="8746200" y="4775760"/>
                <a:ext cx="14400" cy="145800"/>
              </a:xfrm>
              <a:custGeom>
                <a:avLst/>
                <a:gdLst>
                  <a:gd name="textAreaLeft" fmla="*/ 1080 w 14400"/>
                  <a:gd name="textAreaRight" fmla="*/ 13320 w 14400"/>
                  <a:gd name="textAreaTop" fmla="*/ 11880 h 145800"/>
                  <a:gd name="textAreaBottom" fmla="*/ 133920 h 14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32"/>
              <p:cNvSpPr/>
              <p:nvPr/>
            </p:nvSpPr>
            <p:spPr>
              <a:xfrm rot="21441600">
                <a:off x="7992000" y="4807080"/>
                <a:ext cx="115920" cy="1458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9" name="Group 33"/>
              <p:cNvGrpSpPr/>
              <p:nvPr/>
            </p:nvGrpSpPr>
            <p:grpSpPr>
              <a:xfrm>
                <a:off x="7875720" y="4607640"/>
                <a:ext cx="981720" cy="384840"/>
                <a:chOff x="7875720" y="4607640"/>
                <a:chExt cx="981720" cy="384840"/>
              </a:xfrm>
            </p:grpSpPr>
            <p:sp>
              <p:nvSpPr>
                <p:cNvPr id="1020" name="Freeform 34"/>
                <p:cNvSpPr/>
                <p:nvPr/>
              </p:nvSpPr>
              <p:spPr>
                <a:xfrm rot="21577800">
                  <a:off x="7876800" y="4610520"/>
                  <a:ext cx="979200" cy="378360"/>
                </a:xfrm>
                <a:custGeom>
                  <a:avLst/>
                  <a:gdLst>
                    <a:gd name="textAreaLeft" fmla="*/ 0 w 979200"/>
                    <a:gd name="textAreaRight" fmla="*/ 979560 w 979200"/>
                    <a:gd name="textAreaTop" fmla="*/ 0 h 378360"/>
                    <a:gd name="textAreaBottom" fmla="*/ 378720 h 378360"/>
                  </a:gdLst>
                  <a:ahLst/>
                  <a:rect l="textAreaLeft" t="textAreaTop" r="textAreaRight" b="textAreaBottom"/>
                  <a:pathLst>
                    <a:path w="1526" h="589">
                      <a:moveTo>
                        <a:pt x="528" y="453"/>
                      </a:moveTo>
                      <a:lnTo>
                        <a:pt x="392" y="317"/>
                      </a:lnTo>
                      <a:lnTo>
                        <a:pt x="120" y="317"/>
                      </a:lnTo>
                      <a:lnTo>
                        <a:pt x="0" y="284"/>
                      </a:lnTo>
                      <a:lnTo>
                        <a:pt x="392" y="272"/>
                      </a:lnTo>
                      <a:lnTo>
                        <a:pt x="392" y="226"/>
                      </a:lnTo>
                      <a:cubicBezTo>
                        <a:pt x="389" y="221"/>
                        <a:pt x="384" y="216"/>
                        <a:pt x="383" y="210"/>
                      </a:cubicBezTo>
                      <a:cubicBezTo>
                        <a:pt x="382" y="206"/>
                        <a:pt x="383" y="199"/>
                        <a:pt x="387" y="198"/>
                      </a:cubicBezTo>
                      <a:cubicBezTo>
                        <a:pt x="392" y="197"/>
                        <a:pt x="398" y="201"/>
                        <a:pt x="399" y="206"/>
                      </a:cubicBezTo>
                      <a:cubicBezTo>
                        <a:pt x="403" y="227"/>
                        <a:pt x="399" y="249"/>
                        <a:pt x="399" y="270"/>
                      </a:cubicBezTo>
                      <a:cubicBezTo>
                        <a:pt x="423" y="254"/>
                        <a:pt x="452" y="263"/>
                        <a:pt x="479" y="254"/>
                      </a:cubicBezTo>
                      <a:cubicBezTo>
                        <a:pt x="527" y="257"/>
                        <a:pt x="532" y="263"/>
                        <a:pt x="571" y="270"/>
                      </a:cubicBezTo>
                      <a:cubicBezTo>
                        <a:pt x="610" y="269"/>
                        <a:pt x="648" y="269"/>
                        <a:pt x="687" y="266"/>
                      </a:cubicBezTo>
                      <a:cubicBezTo>
                        <a:pt x="695" y="265"/>
                        <a:pt x="711" y="258"/>
                        <a:pt x="711" y="258"/>
                      </a:cubicBezTo>
                      <a:cubicBezTo>
                        <a:pt x="753" y="196"/>
                        <a:pt x="797" y="221"/>
                        <a:pt x="887" y="218"/>
                      </a:cubicBezTo>
                      <a:cubicBezTo>
                        <a:pt x="895" y="193"/>
                        <a:pt x="909" y="146"/>
                        <a:pt x="939" y="142"/>
                      </a:cubicBezTo>
                      <a:cubicBezTo>
                        <a:pt x="958" y="140"/>
                        <a:pt x="976" y="139"/>
                        <a:pt x="995" y="138"/>
                      </a:cubicBezTo>
                      <a:cubicBezTo>
                        <a:pt x="1031" y="129"/>
                        <a:pt x="1073" y="159"/>
                        <a:pt x="1095" y="126"/>
                      </a:cubicBezTo>
                      <a:cubicBezTo>
                        <a:pt x="1093" y="116"/>
                        <a:pt x="1150" y="77"/>
                        <a:pt x="1109" y="64"/>
                      </a:cubicBezTo>
                      <a:lnTo>
                        <a:pt x="845" y="35"/>
                      </a:lnTo>
                      <a:lnTo>
                        <a:pt x="936" y="0"/>
                      </a:lnTo>
                      <a:lnTo>
                        <a:pt x="1254" y="45"/>
                      </a:lnTo>
                      <a:lnTo>
                        <a:pt x="1526" y="226"/>
                      </a:lnTo>
                      <a:lnTo>
                        <a:pt x="1526" y="317"/>
                      </a:lnTo>
                      <a:lnTo>
                        <a:pt x="1299" y="317"/>
                      </a:lnTo>
                      <a:cubicBezTo>
                        <a:pt x="1269" y="347"/>
                        <a:pt x="1161" y="496"/>
                        <a:pt x="1123" y="496"/>
                      </a:cubicBezTo>
                      <a:lnTo>
                        <a:pt x="1037" y="270"/>
                      </a:lnTo>
                      <a:lnTo>
                        <a:pt x="891" y="408"/>
                      </a:lnTo>
                      <a:lnTo>
                        <a:pt x="864" y="491"/>
                      </a:lnTo>
                      <a:lnTo>
                        <a:pt x="755" y="589"/>
                      </a:lnTo>
                      <a:lnTo>
                        <a:pt x="573" y="499"/>
                      </a:lnTo>
                      <a:lnTo>
                        <a:pt x="528" y="453"/>
                      </a:lnTo>
                      <a:close/>
                    </a:path>
                  </a:pathLst>
                </a:custGeom>
                <a:solidFill>
                  <a:srgbClr val="66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AutoShape 35"/>
                <p:cNvSpPr/>
                <p:nvPr/>
              </p:nvSpPr>
              <p:spPr>
                <a:xfrm rot="16177200">
                  <a:off x="8346240" y="4826880"/>
                  <a:ext cx="28800" cy="116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2" name="Group 36"/>
              <p:cNvGrpSpPr/>
              <p:nvPr/>
            </p:nvGrpSpPr>
            <p:grpSpPr>
              <a:xfrm>
                <a:off x="8155800" y="4591440"/>
                <a:ext cx="637560" cy="332280"/>
                <a:chOff x="8155800" y="4591440"/>
                <a:chExt cx="637560" cy="332280"/>
              </a:xfrm>
            </p:grpSpPr>
            <p:sp>
              <p:nvSpPr>
                <p:cNvPr id="1023" name="AutoShape 37"/>
                <p:cNvSpPr/>
                <p:nvPr/>
              </p:nvSpPr>
              <p:spPr>
                <a:xfrm rot="8919600">
                  <a:off x="8721360" y="4780080"/>
                  <a:ext cx="28800" cy="87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8"/>
                <p:cNvSpPr/>
                <p:nvPr/>
              </p:nvSpPr>
              <p:spPr>
                <a:xfrm rot="21050400">
                  <a:off x="8434080" y="4618440"/>
                  <a:ext cx="349560" cy="145080"/>
                </a:xfrm>
                <a:custGeom>
                  <a:avLst/>
                  <a:gdLst>
                    <a:gd name="textAreaLeft" fmla="*/ 0 w 349560"/>
                    <a:gd name="textAreaRight" fmla="*/ 349920 w 34956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AutoShape 39"/>
                <p:cNvSpPr/>
                <p:nvPr/>
              </p:nvSpPr>
              <p:spPr>
                <a:xfrm rot="15650400">
                  <a:off x="8382960" y="4794120"/>
                  <a:ext cx="28800" cy="116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AutoShape 40"/>
                <p:cNvSpPr/>
                <p:nvPr/>
              </p:nvSpPr>
              <p:spPr>
                <a:xfrm rot="15650400">
                  <a:off x="8330400" y="4774320"/>
                  <a:ext cx="28800" cy="232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41"/>
                <p:cNvSpPr/>
                <p:nvPr/>
              </p:nvSpPr>
              <p:spPr>
                <a:xfrm rot="21050400">
                  <a:off x="8157600" y="4780440"/>
                  <a:ext cx="342360" cy="500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2"/>
                <p:cNvSpPr/>
                <p:nvPr/>
              </p:nvSpPr>
              <p:spPr>
                <a:xfrm rot="21050400">
                  <a:off x="8480520" y="4604760"/>
                  <a:ext cx="174600" cy="288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Freeform 43"/>
              <p:cNvSpPr/>
              <p:nvPr/>
            </p:nvSpPr>
            <p:spPr>
              <a:xfrm rot="21462000">
                <a:off x="7937640" y="4780080"/>
                <a:ext cx="931680" cy="203760"/>
              </a:xfrm>
              <a:custGeom>
                <a:avLst/>
                <a:gdLst>
                  <a:gd name="textAreaLeft" fmla="*/ 0 w 931680"/>
                  <a:gd name="textAreaRight" fmla="*/ 932040 w 93168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44"/>
            <p:cNvGrpSpPr/>
            <p:nvPr/>
          </p:nvGrpSpPr>
          <p:grpSpPr>
            <a:xfrm>
              <a:off x="8197200" y="4565520"/>
              <a:ext cx="418680" cy="405000"/>
              <a:chOff x="8197200" y="4565520"/>
              <a:chExt cx="418680" cy="405000"/>
            </a:xfrm>
          </p:grpSpPr>
          <p:sp>
            <p:nvSpPr>
              <p:cNvPr id="1031" name="Freeform 45"/>
              <p:cNvSpPr/>
              <p:nvPr/>
            </p:nvSpPr>
            <p:spPr>
              <a:xfrm rot="21370200">
                <a:off x="8206560" y="4643280"/>
                <a:ext cx="399240" cy="303120"/>
              </a:xfrm>
              <a:custGeom>
                <a:avLst/>
                <a:gdLst>
                  <a:gd name="textAreaLeft" fmla="*/ 0 w 399240"/>
                  <a:gd name="textAreaRight" fmla="*/ 399600 w 3992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46"/>
              <p:cNvSpPr/>
              <p:nvPr/>
            </p:nvSpPr>
            <p:spPr>
              <a:xfrm rot="21370200">
                <a:off x="8371800" y="4568760"/>
                <a:ext cx="105480" cy="10548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7"/>
              <p:cNvSpPr/>
              <p:nvPr/>
            </p:nvSpPr>
            <p:spPr>
              <a:xfrm rot="21370200">
                <a:off x="8278920" y="4928760"/>
                <a:ext cx="79560" cy="38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Text Box 48">
            <a:hlinkClick r:id="rId1" action="ppaction://hlinksldjump"/>
          </p:cNvPr>
          <p:cNvSpPr/>
          <p:nvPr/>
        </p:nvSpPr>
        <p:spPr>
          <a:xfrm>
            <a:off x="7956720" y="4068720"/>
            <a:ext cx="1223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0:04:20Z</dcterms:created>
  <dc:creator/>
  <dc:description/>
  <cp:keywords/>
  <dc:language>en-US</dc:language>
  <cp:lastModifiedBy>王玉清</cp:lastModifiedBy>
  <dcterms:modified xsi:type="dcterms:W3CDTF">2016-02-16T08:28:2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9409000000000001024140</vt:lpwstr>
  </property>
</Properties>
</file>