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4EE-E30F-4079-B58A-3D4701E5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03F-B1B2-461B-924E-131385E3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699-0BCF-485D-9ACE-4942EF24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6E3-7581-4AB3-88FD-229E532A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EDD-8D0F-491C-AFA3-257FDA4E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8BB-F598-4DCC-A246-E8A5A0CA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5F5-0543-43AA-8D60-5272D193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CEC-9214-4F21-827D-2A25F654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CDF-E65A-4AC7-82EA-C9D6A26D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FBC-3A0B-4E11-A261-C8454CF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68D-6801-47A5-B1AC-798A87DC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CE7-70B1-4870-A5BD-5C7A2F1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E9D6-D52A-4EEC-AAD1-461F8E4CFD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8360" y="4149720"/>
            <a:ext cx="738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时尚色彩商务运动品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85880" y="57880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7-25T02:33:05Z</dcterms:modified>
  <cp:revision>79</cp:revision>
  <dc:subject/>
  <dc:title>幻灯片 1</dc:title>
</cp:coreProperties>
</file>