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6B86-A217-4F10-B9EA-E696C52F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4F2-B326-4448-B7CA-51485A99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29C-80A0-4B17-9D72-E9512D7D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16C-5E2F-4DFB-9E19-84E2F3E0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052-6444-4537-9C65-2E4CA1B7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2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C29-C21B-4356-80CC-52C19416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C80-10CF-4925-813D-71519A9F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601-03EB-42EB-BDD2-BB36F6B1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3240" y="318960"/>
            <a:ext cx="7896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56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E9C-C4C1-4E10-BFA0-E5D4906D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025-C9D1-4560-A867-0A633E34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752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521-0A57-431C-A62D-19BAC0F4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3240" y="310320"/>
            <a:ext cx="78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752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F63-9240-46C7-BED4-7022DC18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468360" y="1197000"/>
            <a:ext cx="8207280" cy="5256360"/>
          </a:xfrm>
          <a:prstGeom prst="rect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94920" y="836280"/>
            <a:ext cx="2243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c1c1c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Verdana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5752800" y="64576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3471480" y="64432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26E1-FC23-4598-BC99-732A1873F0D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395280" y="33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Line 23"/>
          <p:cNvSpPr/>
          <p:nvPr/>
        </p:nvSpPr>
        <p:spPr>
          <a:xfrm>
            <a:off x="2268360" y="981000"/>
            <a:ext cx="6264360" cy="0"/>
          </a:xfrm>
          <a:prstGeom prst="line">
            <a:avLst/>
          </a:prstGeom>
          <a:ln w="0">
            <a:solidFill>
              <a:srgbClr val="4d4d4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1" marL="343080" indent="126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2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3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4" marL="343080" indent="12600">
              <a:lnSpc>
                <a:spcPct val="150000"/>
              </a:lnSpc>
              <a:spcBef>
                <a:spcPts val="499"/>
              </a:spcBef>
              <a:buClr>
                <a:srgbClr val="1c1c1c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5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  <a:p>
            <a:pPr lvl="6" marL="343080" indent="12600">
              <a:lnSpc>
                <a:spcPct val="150000"/>
              </a:lnSpc>
              <a:spcBef>
                <a:spcPts val="499"/>
              </a:spcBef>
              <a:buClr>
                <a:srgbClr val="666699"/>
              </a:buClr>
              <a:buFont typeface="黑体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http://www.nordridesign.com/about.html" TargetMode="External"/><Relationship Id="rId3" Type="http://schemas.openxmlformats.org/officeDocument/2006/relationships/hyperlink" Target="http://www.nordridesign.com/service_ppt_service.html" TargetMode="External"/><Relationship Id="rId4" Type="http://schemas.openxmlformats.org/officeDocument/2006/relationships/hyperlink" Target="http://www.nordridesign.com/service_ppt_service.html" TargetMode="External"/><Relationship Id="rId5" Type="http://schemas.openxmlformats.org/officeDocument/2006/relationships/hyperlink" Target="http://www.nordridesign.com/service_ppt.html" TargetMode="External"/><Relationship Id="rId6" Type="http://schemas.openxmlformats.org/officeDocument/2006/relationships/hyperlink" Target="http://www.nordridesign.com/service_ppt.html" TargetMode="External"/><Relationship Id="rId7" Type="http://schemas.openxmlformats.org/officeDocument/2006/relationships/hyperlink" Target="http://www.nordridesign.com/service_ppt_pro.html" TargetMode="External"/><Relationship Id="rId8" Type="http://schemas.openxmlformats.org/officeDocument/2006/relationships/hyperlink" Target="http://www.nordridesign.com/service_ppt_pro.html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商务人士蓝色通用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免费下载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280" y="2670120"/>
            <a:ext cx="7419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556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395280" y="83664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目录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  <p:sp>
        <p:nvSpPr>
          <p:cNvPr id="88" name="Text Box 77">
            <a:hlinkClick r:id="rId1" action="ppaction://hlinksldjump"/>
          </p:cNvPr>
          <p:cNvSpPr/>
          <p:nvPr/>
        </p:nvSpPr>
        <p:spPr>
          <a:xfrm>
            <a:off x="1253520" y="1844640"/>
            <a:ext cx="2462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2"/>
              </a:rPr>
              <a:t>The Team / Nordui团队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Text Box 78"/>
          <p:cNvSpPr/>
          <p:nvPr/>
        </p:nvSpPr>
        <p:spPr>
          <a:xfrm>
            <a:off x="1395720" y="2406600"/>
            <a:ext cx="198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3"/>
              </a:rPr>
              <a:t>Objectives / </a:t>
            </a:r>
            <a:r>
              <a:rPr b="0" lang="zh-CN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4"/>
              </a:rPr>
              <a:t>服务项目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Text Box 79"/>
          <p:cNvSpPr/>
          <p:nvPr/>
        </p:nvSpPr>
        <p:spPr>
          <a:xfrm>
            <a:off x="1397520" y="2982960"/>
            <a:ext cx="310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5"/>
              </a:rPr>
              <a:t>Our advantage / Nordui</a:t>
            </a:r>
            <a:r>
              <a:rPr b="0" lang="zh-CN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6"/>
              </a:rPr>
              <a:t>设计优势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Text Box 80"/>
          <p:cNvSpPr/>
          <p:nvPr/>
        </p:nvSpPr>
        <p:spPr>
          <a:xfrm>
            <a:off x="1396800" y="3559320"/>
            <a:ext cx="25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7"/>
              </a:rPr>
              <a:t>Service delivery / </a:t>
            </a:r>
            <a:r>
              <a:rPr b="0" lang="zh-CN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  <a:hlinkClick r:id="rId8"/>
              </a:rPr>
              <a:t>设计流程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Text Box 81"/>
          <p:cNvSpPr/>
          <p:nvPr/>
        </p:nvSpPr>
        <p:spPr>
          <a:xfrm>
            <a:off x="1368360" y="4135320"/>
            <a:ext cx="20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Contact us /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联系我们</a:t>
            </a: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725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3240" y="318960"/>
            <a:ext cx="7896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c1c1c"/>
                </a:solidFill>
                <a:latin typeface="黑体"/>
              </a:rPr>
              <a:t>此处添加标题</a:t>
            </a:r>
            <a:endParaRPr b="0" lang="en-US" sz="2800" spc="-1" strike="noStrike">
              <a:solidFill>
                <a:srgbClr val="1c1c1c"/>
              </a:solidFill>
              <a:latin typeface="黑体"/>
            </a:endParaRPr>
          </a:p>
        </p:txBody>
      </p:sp>
      <p:pic>
        <p:nvPicPr>
          <p:cNvPr id="94" name="Picture 5" descr="nordritemplate"/>
          <p:cNvPicPr/>
          <p:nvPr/>
        </p:nvPicPr>
        <p:blipFill>
          <a:blip r:embed="rId1"/>
          <a:stretch/>
        </p:blipFill>
        <p:spPr>
          <a:xfrm>
            <a:off x="7567560" y="4916520"/>
            <a:ext cx="1576440" cy="1941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826920" y="632304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模板下载 </a:t>
            </a:r>
            <a:r>
              <a:rPr b="0" lang="zh-CN" sz="1600" spc="-1" strike="noStrike">
                <a:solidFill>
                  <a:srgbClr val="6666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0760" y="3103560"/>
            <a:ext cx="74199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556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914400" y="2276280"/>
            <a:ext cx="72388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</a:rPr>
              <a:t>感谢您的关注</a:t>
            </a:r>
            <a:endParaRPr b="0" lang="en-US" sz="4000" spc="-1" strike="noStrike">
              <a:solidFill>
                <a:srgbClr val="1c1c1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04:50Z</dcterms:created>
  <dc:creator>NordriDesignStudio</dc:creator>
  <dc:description/>
  <dc:language>en-US</dc:language>
  <cp:lastModifiedBy>王玉清</cp:lastModifiedBy>
  <dcterms:modified xsi:type="dcterms:W3CDTF">2016-02-21T07:31:02Z</dcterms:modified>
  <cp:revision>12</cp:revision>
  <dc:subject/>
  <dc:title>PowerPoint Template</dc:title>
</cp:coreProperties>
</file>