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2EFA38-842D-4289-8659-6027153BC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B251C-B167-475E-9DA3-282A0C246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31945-CB2A-405E-AC97-440632FD4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E4963-EA2B-4AAD-884F-A1AA19F16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B4C2F-1AE8-4588-8C11-525A8978D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D7908-EBB0-4931-BC43-2BB03A4C3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CEC3C-B70B-4F11-BBFD-3E188AA89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41756-C48F-464A-8BEB-E1E8C4953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B2F25-9246-40B5-B947-65BCCE108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976A0-FF49-437D-ACCF-0BBC3D3C5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9EC8D-762A-4750-94BF-871C3888F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41984-319B-487C-A976-9679C2B64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5D5D5-EB4E-4BD2-9D4E-99E28AA06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EE76C-5CEE-4295-8ABA-38915B1AB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2D0A0-54D7-4D7B-94D1-77B3C60F0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89A7B2-31F0-41A5-A7DC-6B1CA18D7B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F442C3-8C5D-4BAD-8E5E-3419408AE6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81B5B-8BA5-4E4F-9B6E-246FD6118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7BDEB-C700-480D-8DBA-A1D648024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4BF09-9838-491E-A52E-CF30FB8F4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9BE8D-CC60-4778-AB23-8B9377F11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E2CB-F464-4712-B6C7-C5EAC319D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055F-F48F-4826-84D1-431298555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7DB89-4D89-4530-AE73-CA87020348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DAD9-FA6E-4082-8E24-AD134E33D4BF}"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9FC8-9746-4DEE-BC7D-1ADBEA08381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2019960" y="268200"/>
            <a:ext cx="5317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397"/>
                </a:solidFill>
                <a:latin typeface="微软雅黑"/>
                <a:ea typeface="微软雅黑"/>
              </a:rPr>
              <a:t>商务团队通用</a:t>
            </a:r>
            <a:r>
              <a:rPr b="1" lang="en-US" sz="4000" spc="-1" strike="noStrike">
                <a:solidFill>
                  <a:srgbClr val="005397"/>
                </a:solidFill>
                <a:latin typeface="微软雅黑"/>
                <a:ea typeface="微软雅黑"/>
              </a:rPr>
              <a:t>PPT</a:t>
            </a:r>
            <a:r>
              <a:rPr b="1" lang="zh-CN" sz="4000" spc="-1" strike="noStrike">
                <a:solidFill>
                  <a:srgbClr val="005397"/>
                </a:solidFill>
                <a:latin typeface="微软雅黑"/>
                <a:ea typeface="微软雅黑"/>
              </a:rPr>
              <a:t>模板完整版下载</a:t>
            </a:r>
            <a:endParaRPr b="0" lang="en-US" sz="4000" spc="-1" strike="noStrike">
              <a:solidFill>
                <a:srgbClr val="000000"/>
              </a:solidFill>
              <a:latin typeface="Arial"/>
            </a:endParaRPr>
          </a:p>
        </p:txBody>
      </p:sp>
      <p:sp>
        <p:nvSpPr>
          <p:cNvPr id="83" name="矩形 12"/>
          <p:cNvSpPr/>
          <p:nvPr/>
        </p:nvSpPr>
        <p:spPr>
          <a:xfrm>
            <a:off x="457200" y="48052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单击此处添加段落文字内容</a:t>
            </a:r>
            <a:endParaRPr b="0" lang="en-US" sz="2800" spc="-1" strike="noStrike">
              <a:solidFill>
                <a:srgbClr val="000000"/>
              </a:solidFill>
              <a:latin typeface="Calibri"/>
            </a:endParaRPr>
          </a:p>
        </p:txBody>
      </p:sp>
      <p:sp>
        <p:nvSpPr>
          <p:cNvPr id="85" name=""/>
          <p:cNvSpPr txBox="1"/>
          <p:nvPr/>
        </p:nvSpPr>
        <p:spPr>
          <a:xfrm>
            <a:off x="457200" y="1200240"/>
            <a:ext cx="8229600" cy="339408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击添加段落文字单击添加段落文字单击添加段落文字单击添加段落文字。单击添加段落文字单击添加段落文字。</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8:01:37Z</dcterms:created>
  <dc:creator>yingzi</dc:creator>
  <dc:description>www.quick-learning.com.cn</dc:description>
  <cp:keywords>ppt幻灯设计/ppt模板设计</cp:keywords>
  <dc:language>en-US</dc:language>
  <cp:lastModifiedBy>王玉清</cp:lastModifiedBy>
  <dcterms:modified xsi:type="dcterms:W3CDTF">2016-02-21T04:11:34Z</dcterms:modified>
  <cp:revision>30</cp:revision>
  <dc:subject/>
  <dc:title>PowerPoint Template</dc:title>
</cp:coreProperties>
</file>