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FC47-85F4-4DD5-84AC-0DE0B559548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DB12-3F6E-4AFC-9073-D66703778660}" type="slidenum">
              <a:rPr b="0" lang="zh-CN" sz="1200" spc="-1" strike="noStrike">
                <a:solidFill>
                  <a:srgbClr val="30311d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C562-2385-4579-BA6F-2E0F94E3E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3C66-7BB7-4854-8AF3-494874AF1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10E1-2E9A-4325-BABB-CCEFD70C7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CEB6-0B29-414E-8377-0D7EC66FD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426F6-38BF-4128-AC8A-8C46F12F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FDB80-5FC0-4B66-8014-0DACFA1D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975A6-5869-4596-B8D1-76026538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9C908-83AE-42E6-AB8A-C25C44E0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C109D-B7C4-4F3E-BF59-2922CCAD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EE322-74EC-474F-9841-F65BF298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43804-1F05-4EEF-A954-E8E29C87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5C2C-1F60-4A43-BEA0-781B767C6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5AED9-9A8F-4EE0-B2DE-9310673F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44C82-1341-40A8-B7A4-76D94394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66F29-EBD3-4251-B06D-5D6BD776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680B7-A4F8-4A67-B20D-6F14834C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AE133-DA5E-4CD0-B63B-2C18A9E4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DCE5-0183-4C6B-9BD7-67C6F9753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E34A-6C19-4A7F-BE98-B49128736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BFD8-F9AB-435F-8880-42500BF45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8116-4E02-4B1E-8A72-5B72FEA45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55FA-439D-4953-B03A-D7265B77D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A27D-7899-4DC2-A474-BE843CAE6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B78C-67A5-4BAD-B3EF-D405707B6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3"/>
          <p:cNvSpPr/>
          <p:nvPr/>
        </p:nvSpPr>
        <p:spPr>
          <a:xfrm>
            <a:off x="0" y="981000"/>
            <a:ext cx="9144000" cy="5329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E4D6-3F0D-4D2E-BD74-229F1E79274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5"/>
          <p:cNvSpPr/>
          <p:nvPr/>
        </p:nvSpPr>
        <p:spPr>
          <a:xfrm>
            <a:off x="685800" y="1447920"/>
            <a:ext cx="7924680" cy="0"/>
          </a:xfrm>
          <a:prstGeom prst="line">
            <a:avLst/>
          </a:prstGeom>
          <a:ln w="28440">
            <a:solidFill>
              <a:srgbClr val="1a48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3"/>
          <p:cNvSpPr/>
          <p:nvPr/>
        </p:nvSpPr>
        <p:spPr>
          <a:xfrm>
            <a:off x="179280" y="2637000"/>
            <a:ext cx="8785440" cy="1584000"/>
          </a:xfrm>
          <a:prstGeom prst="rect">
            <a:avLst/>
          </a:prstGeom>
          <a:solidFill>
            <a:srgbClr val="ffff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2" name="AutoShape 42"/>
          <p:cNvSpPr/>
          <p:nvPr/>
        </p:nvSpPr>
        <p:spPr>
          <a:xfrm>
            <a:off x="152280" y="190440"/>
            <a:ext cx="8839440" cy="6400800"/>
          </a:xfrm>
          <a:prstGeom prst="roundRect">
            <a:avLst>
              <a:gd name="adj" fmla="val 5458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3" name="Line 56"/>
          <p:cNvSpPr/>
          <p:nvPr/>
        </p:nvSpPr>
        <p:spPr>
          <a:xfrm>
            <a:off x="9144000" y="2565360"/>
            <a:ext cx="0" cy="1871640"/>
          </a:xfrm>
          <a:prstGeom prst="line">
            <a:avLst/>
          </a:prstGeom>
          <a:ln w="936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4" name="Freeform 68"/>
          <p:cNvSpPr/>
          <p:nvPr/>
        </p:nvSpPr>
        <p:spPr>
          <a:xfrm>
            <a:off x="179280" y="2637000"/>
            <a:ext cx="8785440" cy="215640"/>
          </a:xfrm>
          <a:custGeom>
            <a:avLst/>
            <a:gdLst/>
            <a:ahLst/>
            <a:rect l="l" t="t" r="r" b="b"/>
            <a:pathLst>
              <a:path w="5534" h="136">
                <a:moveTo>
                  <a:pt x="0" y="0"/>
                </a:moveTo>
                <a:cubicBezTo>
                  <a:pt x="185" y="15"/>
                  <a:pt x="370" y="30"/>
                  <a:pt x="635" y="45"/>
                </a:cubicBezTo>
                <a:cubicBezTo>
                  <a:pt x="900" y="60"/>
                  <a:pt x="1225" y="76"/>
                  <a:pt x="1588" y="91"/>
                </a:cubicBezTo>
                <a:cubicBezTo>
                  <a:pt x="1951" y="106"/>
                  <a:pt x="2427" y="136"/>
                  <a:pt x="2812" y="136"/>
                </a:cubicBezTo>
                <a:cubicBezTo>
                  <a:pt x="3197" y="136"/>
                  <a:pt x="3576" y="106"/>
                  <a:pt x="3901" y="91"/>
                </a:cubicBezTo>
                <a:cubicBezTo>
                  <a:pt x="4226" y="76"/>
                  <a:pt x="4491" y="60"/>
                  <a:pt x="4763" y="45"/>
                </a:cubicBezTo>
                <a:cubicBezTo>
                  <a:pt x="5035" y="30"/>
                  <a:pt x="5406" y="7"/>
                  <a:pt x="5534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" name="Freeform 69"/>
          <p:cNvSpPr/>
          <p:nvPr/>
        </p:nvSpPr>
        <p:spPr>
          <a:xfrm flipV="1">
            <a:off x="179280" y="4075560"/>
            <a:ext cx="8785440" cy="144360"/>
          </a:xfrm>
          <a:custGeom>
            <a:avLst/>
            <a:gdLst/>
            <a:ahLst/>
            <a:rect l="l" t="t" r="r" b="b"/>
            <a:pathLst>
              <a:path w="5534" h="136">
                <a:moveTo>
                  <a:pt x="0" y="0"/>
                </a:moveTo>
                <a:cubicBezTo>
                  <a:pt x="185" y="15"/>
                  <a:pt x="370" y="30"/>
                  <a:pt x="635" y="45"/>
                </a:cubicBezTo>
                <a:cubicBezTo>
                  <a:pt x="900" y="60"/>
                  <a:pt x="1225" y="76"/>
                  <a:pt x="1588" y="91"/>
                </a:cubicBezTo>
                <a:cubicBezTo>
                  <a:pt x="1951" y="106"/>
                  <a:pt x="2427" y="136"/>
                  <a:pt x="2812" y="136"/>
                </a:cubicBezTo>
                <a:cubicBezTo>
                  <a:pt x="3197" y="136"/>
                  <a:pt x="3576" y="106"/>
                  <a:pt x="3901" y="91"/>
                </a:cubicBezTo>
                <a:cubicBezTo>
                  <a:pt x="4226" y="76"/>
                  <a:pt x="4491" y="60"/>
                  <a:pt x="4763" y="45"/>
                </a:cubicBezTo>
                <a:cubicBezTo>
                  <a:pt x="5035" y="30"/>
                  <a:pt x="5406" y="7"/>
                  <a:pt x="5534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228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2000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7813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FD50-C428-40DB-964C-D02224B233D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3068640"/>
            <a:ext cx="833904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900"/>
                </a:solidFill>
                <a:latin typeface="Verdana"/>
                <a:ea typeface="宋体"/>
              </a:rPr>
              <a:t>树叶通用</a:t>
            </a:r>
            <a:r>
              <a:rPr b="1" i="1" lang="en-US" sz="4000" spc="-1" strike="noStrike">
                <a:solidFill>
                  <a:srgbClr val="009900"/>
                </a:solidFill>
                <a:latin typeface="Verdana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9900"/>
                </a:solidFill>
                <a:latin typeface="Verdana"/>
                <a:ea typeface="宋体"/>
              </a:rPr>
              <a:t>模板免费下载</a:t>
            </a:r>
            <a:endParaRPr b="1" lang="en-US" sz="40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424404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a48a4"/>
              </a:solidFill>
              <a:latin typeface="Verdana"/>
              <a:ea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30311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5"/>
          <p:cNvSpPr txBox="1"/>
          <p:nvPr/>
        </p:nvSpPr>
        <p:spPr>
          <a:xfrm>
            <a:off x="2133720" y="3200400"/>
            <a:ext cx="4876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48a4"/>
                    </a:gs>
                    <a:gs pos="100000">
                      <a:srgbClr val="488fd6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30311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48a4"/>
                  </a:gs>
                  <a:gs pos="100000">
                    <a:srgbClr val="488fd6"/>
                  </a:gs>
                </a:gsLst>
                <a:lin ang="0"/>
              </a:gradFill>
              <a:effectLst>
                <a:outerShdw dist="53966" dir="2700000" blurRad="0" rotWithShape="0">
                  <a:srgbClr val="30311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5:55:31Z</dcterms:created>
  <dc:creator>haier</dc:creator>
  <dc:description/>
  <dc:language>en-US</dc:language>
  <cp:lastModifiedBy>王玉清</cp:lastModifiedBy>
  <dcterms:modified xsi:type="dcterms:W3CDTF">2016-02-22T03:37:06Z</dcterms:modified>
  <cp:revision>29</cp:revision>
  <dc:subject/>
  <dc:title>PowerPoint Template</dc:title>
</cp:coreProperties>
</file>