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92B-65B3-4152-87CC-DD4B41ED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DBC-C712-4567-A868-04F2671F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5343-8520-4994-ADA4-81BD022C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6B76-DA54-4730-B62A-88F98EF6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54ED-ECB7-4632-8C03-25FBDD59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0F0A-E01E-4109-A5B9-640E587E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ED98-CEDE-4249-A4BA-0E49B7E2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BB5-FD94-4F08-AA7F-13D1903F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F74-A3C6-4581-BDE0-DD4792E0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5D00-33BE-49C4-AA79-038BCD9C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78C9-EBD9-4AB5-9170-3A2A8E8D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0544-9236-428F-A7DD-02212547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85E9-4F7C-4CE4-8BBF-9951F946B1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-208080"/>
            <a:ext cx="712944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商者商务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5473800" y="403200"/>
            <a:ext cx="3851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005 Compan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25800" y="-171360"/>
            <a:ext cx="3382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en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2"/>
          <p:cNvSpPr/>
          <p:nvPr/>
        </p:nvSpPr>
        <p:spPr>
          <a:xfrm>
            <a:off x="2014560" y="1125360"/>
            <a:ext cx="695016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>
                <a:solidFill>
                  <a:srgbClr val="000000"/>
                </a:solidFill>
                <a:latin typeface="Verdana"/>
              </a:rPr>
              <a:t>Lorem ipsum dolor sit amet, consectet adipiscing elit, sed diam nonummy nibh euismod tincidunt ut laoreet dolore aliquam erat volutp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>
                <a:solidFill>
                  <a:srgbClr val="000000"/>
                </a:solidFill>
                <a:latin typeface="Verdana"/>
              </a:rPr>
              <a:t>Lorem ipsum dolor sit amet, consetetur sadipscing elitr, sed diam nonumy eirmod tempor invidunt ut labore et dolore magna aliquyam erat, sed diam voluptu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>
                <a:solidFill>
                  <a:srgbClr val="000000"/>
                </a:solidFill>
                <a:latin typeface="Verdana"/>
              </a:rPr>
              <a:t>Lorem ipsum dolor sit amet, consetetur sadipscing elitr, sed diam nonumy eirmod tempor invidunt ut labore et dolor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06:19:00Z</dcterms:created>
  <dc:creator>ppt宝藏</dc:creator>
  <dc:description/>
  <dc:language>en-US</dc:language>
  <cp:lastModifiedBy>a</cp:lastModifiedBy>
  <dcterms:modified xsi:type="dcterms:W3CDTF">2015-07-25T07:04:43Z</dcterms:modified>
  <cp:revision>25</cp:revision>
  <dc:subject/>
  <dc:title>www.pptbz.com</dc:title>
</cp:coreProperties>
</file>