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15236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769-EFF1-47E0-949B-EB4A2FF9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85C-AEDE-4683-9503-246F6D69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BAB-FC74-4A0B-900B-BEBBBBE5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240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88440" y="160020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636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240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588440" y="3964320"/>
            <a:ext cx="333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4DC-7B71-46A0-B469-C42AA888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EE51-12D5-4354-8FEE-037F825D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1A52-6DD5-4D55-93C9-A1378945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1DD-6BEF-4B5F-89D8-ECA42721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9F43-72EA-41E5-AA77-9CB3CFD7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6360" y="274320"/>
            <a:ext cx="1036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777-0069-42BA-B9DE-B02EFFB8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3E0-73E2-464D-81F2-E25A2001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889960" y="396432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E82-99B9-4709-ADDD-99FEED7D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63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889960" y="1600200"/>
            <a:ext cx="5060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6360" y="3964320"/>
            <a:ext cx="10369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2CC-771B-4DA3-B71D-FB9BE846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6360" y="274320"/>
            <a:ext cx="103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6360" y="1600200"/>
            <a:ext cx="103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6000" y="6244920"/>
            <a:ext cx="2687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36960" y="6244920"/>
            <a:ext cx="3648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58040" y="6244920"/>
            <a:ext cx="2687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400-B12B-4A83-ACC5-1FF970888B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标题 1"/>
          <p:cNvSpPr/>
          <p:nvPr/>
        </p:nvSpPr>
        <p:spPr>
          <a:xfrm>
            <a:off x="863640" y="1847880"/>
            <a:ext cx="9794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团队通用</a:t>
            </a:r>
            <a:r>
              <a:rPr b="1" lang="en-US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2"/>
          <p:cNvSpPr/>
          <p:nvPr/>
        </p:nvSpPr>
        <p:spPr>
          <a:xfrm>
            <a:off x="99720" y="66531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0d0d0d"/>
                </a:solidFill>
                <a:latin typeface="Arial"/>
              </a:rPr>
              <a:t>模板下载：</a:t>
            </a:r>
            <a:r>
              <a:rPr b="0" lang="en-US" sz="800" spc="-1" strike="noStrike">
                <a:solidFill>
                  <a:srgbClr val="0d0d0d"/>
                </a:solidFill>
                <a:latin typeface="Arial"/>
              </a:rPr>
              <a:t>www.1ppt.com/moban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0"/>
            <a:ext cx="1147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标题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99720" y="64119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1ppt.com/moban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王玉清</cp:lastModifiedBy>
  <dcterms:modified xsi:type="dcterms:W3CDTF">2016-02-21T04:05:03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