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E6D-EA3B-434B-9C41-3BCBE88E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1DD-7D93-41DA-9CD1-E8FB8A4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ACC-2C74-455B-A241-233513B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162-21AB-4772-BF11-B5CAAA50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3A5-6AB6-49DF-BB4A-4301B81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67E-D000-4D19-A389-9C34E48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5A7-A0D3-48AA-9EE8-9C063F7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194-F440-453F-9508-E8E7364F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132-EA1D-4AB3-8AF6-268E699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02A-7BF6-4D53-B149-F4E7465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E8A-9F68-423C-BFF0-7DBC5E6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706-FA7C-4DF6-A186-226A8DA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5EFB79-D737-4A78-AB9E-18A0A0BA7C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aikang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14960" y="4910040"/>
            <a:ext cx="48574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金融投资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86240" y="54100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77280" y="1196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投资理财知识讲解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7" descr="1.png"/>
          <p:cNvPicPr/>
          <p:nvPr/>
        </p:nvPicPr>
        <p:blipFill>
          <a:blip r:embed="rId2"/>
          <a:stretch/>
        </p:blipFill>
        <p:spPr>
          <a:xfrm>
            <a:off x="2214720" y="1428840"/>
            <a:ext cx="4789080" cy="3379320"/>
          </a:xfrm>
          <a:prstGeom prst="rect">
            <a:avLst/>
          </a:prstGeom>
          <a:ln w="9525">
            <a:noFill/>
          </a:ln>
        </p:spPr>
      </p:pic>
      <p:sp>
        <p:nvSpPr>
          <p:cNvPr id="1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折角形 12"/>
          <p:cNvSpPr/>
          <p:nvPr/>
        </p:nvSpPr>
        <p:spPr>
          <a:xfrm>
            <a:off x="1428840" y="192888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折角形 13"/>
          <p:cNvSpPr/>
          <p:nvPr/>
        </p:nvSpPr>
        <p:spPr>
          <a:xfrm>
            <a:off x="1428840" y="257184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折角形 14"/>
          <p:cNvSpPr/>
          <p:nvPr/>
        </p:nvSpPr>
        <p:spPr>
          <a:xfrm>
            <a:off x="1428840" y="321480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折角形 15"/>
          <p:cNvSpPr/>
          <p:nvPr/>
        </p:nvSpPr>
        <p:spPr>
          <a:xfrm>
            <a:off x="1428840" y="385776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折角形 16"/>
          <p:cNvSpPr/>
          <p:nvPr/>
        </p:nvSpPr>
        <p:spPr>
          <a:xfrm>
            <a:off x="5143680" y="192888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折角形 17"/>
          <p:cNvSpPr/>
          <p:nvPr/>
        </p:nvSpPr>
        <p:spPr>
          <a:xfrm>
            <a:off x="5143680" y="257184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折角形 18"/>
          <p:cNvSpPr/>
          <p:nvPr/>
        </p:nvSpPr>
        <p:spPr>
          <a:xfrm>
            <a:off x="5143680" y="321480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折角形 19"/>
          <p:cNvSpPr/>
          <p:nvPr/>
        </p:nvSpPr>
        <p:spPr>
          <a:xfrm>
            <a:off x="5143680" y="3857760"/>
            <a:ext cx="2785680" cy="499680"/>
          </a:xfrm>
          <a:prstGeom prst="foldedCorner">
            <a:avLst>
              <a:gd name="adj" fmla="val 16667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332080" y="26431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概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378520" y="200016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含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2332080" y="3286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500120" y="200016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1500120" y="263052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1500120" y="328608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1500120" y="391644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5214960" y="200016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5214960" y="263052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5214960" y="328608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5214960" y="3916440"/>
            <a:ext cx="49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6010200" y="3286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理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6046920" y="2000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6021720" y="264312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6046920" y="39290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2332080" y="39290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领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 14"/>
          <p:cNvSpPr/>
          <p:nvPr/>
        </p:nvSpPr>
        <p:spPr>
          <a:xfrm>
            <a:off x="857160" y="2523960"/>
            <a:ext cx="7370280" cy="24048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d13f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2880" y="285840"/>
            <a:ext cx="1247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928800" y="3071880"/>
            <a:ext cx="7214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对现有资源进行重新整合之后，实现价值的等效流通。在金本位时代，黄金是世人公认的最好价值代表。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指的是金子，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最早指固体融化变成液体，也有融通的意思，所以，金融就是将黄金融化分开交易流通，即价值的流通。如今黄金已很大程度上被更易流通的纸币、电子货币等所取代，但是黄金作为价值的流通并没有变。离开了价值流通，金融就成为“一潭死水”，价值就无法转换。价值无法转换，经济就无法运转。同许多其它学科一样，</a:t>
            </a:r>
            <a:r>
              <a:rPr b="1" lang="zh-CN" sz="12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学的本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研究探索金融的客观规律，然而由于人类进入金融社会的时间还非常短，因此人类仍处在金融洪荒时代，距发现金融规律还有很长的路要走，正因如此，金融危机频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11"/>
          <p:cNvSpPr/>
          <p:nvPr/>
        </p:nvSpPr>
        <p:spPr>
          <a:xfrm>
            <a:off x="857160" y="1500120"/>
            <a:ext cx="7714800" cy="571320"/>
          </a:xfrm>
          <a:prstGeom prst="homePlate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928800" y="1538280"/>
            <a:ext cx="7857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解释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banking;finance]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货币的发行、流通和回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款的发放和收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存款的存入和提取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兑的往来等经济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半闭框 11"/>
          <p:cNvSpPr/>
          <p:nvPr/>
        </p:nvSpPr>
        <p:spPr>
          <a:xfrm>
            <a:off x="3214800" y="359712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半闭框 12"/>
          <p:cNvSpPr/>
          <p:nvPr/>
        </p:nvSpPr>
        <p:spPr>
          <a:xfrm flipH="1">
            <a:off x="3241080" y="18828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半闭框 13"/>
          <p:cNvSpPr/>
          <p:nvPr/>
        </p:nvSpPr>
        <p:spPr>
          <a:xfrm flipH="1" flipV="1">
            <a:off x="3214080" y="36234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半闭框 14"/>
          <p:cNvSpPr/>
          <p:nvPr/>
        </p:nvSpPr>
        <p:spPr>
          <a:xfrm flipV="1">
            <a:off x="3214800" y="188208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半闭框 15"/>
          <p:cNvSpPr/>
          <p:nvPr/>
        </p:nvSpPr>
        <p:spPr>
          <a:xfrm>
            <a:off x="4929120" y="1865160"/>
            <a:ext cx="1518840" cy="151740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半闭框 16"/>
          <p:cNvSpPr/>
          <p:nvPr/>
        </p:nvSpPr>
        <p:spPr>
          <a:xfrm flipH="1">
            <a:off x="4955400" y="362412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半闭框 17"/>
          <p:cNvSpPr/>
          <p:nvPr/>
        </p:nvSpPr>
        <p:spPr>
          <a:xfrm flipH="1" flipV="1">
            <a:off x="4928400" y="1891440"/>
            <a:ext cx="1518840" cy="151740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半闭框 18"/>
          <p:cNvSpPr/>
          <p:nvPr/>
        </p:nvSpPr>
        <p:spPr>
          <a:xfrm flipV="1">
            <a:off x="4929120" y="3623400"/>
            <a:ext cx="1518840" cy="15188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3643200" y="24368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5357880" y="24368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证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643200" y="421020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5357880" y="421020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3546360" y="1365120"/>
            <a:ext cx="2714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13f05"/>
                </a:solidFill>
                <a:latin typeface="微软雅黑"/>
                <a:ea typeface="微软雅黑"/>
              </a:rPr>
              <a:t>金融的本质是价值流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9"/>
          <p:cNvSpPr/>
          <p:nvPr/>
        </p:nvSpPr>
        <p:spPr>
          <a:xfrm>
            <a:off x="7128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燕尾形 10"/>
          <p:cNvSpPr/>
          <p:nvPr/>
        </p:nvSpPr>
        <p:spPr>
          <a:xfrm>
            <a:off x="128592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燕尾形 11"/>
          <p:cNvSpPr/>
          <p:nvPr/>
        </p:nvSpPr>
        <p:spPr>
          <a:xfrm>
            <a:off x="250020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燕尾形 12"/>
          <p:cNvSpPr/>
          <p:nvPr/>
        </p:nvSpPr>
        <p:spPr>
          <a:xfrm>
            <a:off x="371484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燕尾形 13"/>
          <p:cNvSpPr/>
          <p:nvPr/>
        </p:nvSpPr>
        <p:spPr>
          <a:xfrm>
            <a:off x="492912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2" name="燕尾形 14"/>
          <p:cNvSpPr/>
          <p:nvPr/>
        </p:nvSpPr>
        <p:spPr>
          <a:xfrm>
            <a:off x="614376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燕尾形 15"/>
          <p:cNvSpPr/>
          <p:nvPr/>
        </p:nvSpPr>
        <p:spPr>
          <a:xfrm>
            <a:off x="7358040" y="2428920"/>
            <a:ext cx="1688760" cy="1142640"/>
          </a:xfrm>
          <a:prstGeom prst="chevron">
            <a:avLst>
              <a:gd name="adj" fmla="val 50000"/>
            </a:avLst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760320" y="27860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1974960" y="2786040"/>
            <a:ext cx="85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311796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33224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547524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证券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68988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7904160" y="278604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托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5"/>
          <p:cNvSpPr/>
          <p:nvPr/>
        </p:nvSpPr>
        <p:spPr>
          <a:xfrm>
            <a:off x="1071720" y="2357280"/>
            <a:ext cx="713880" cy="185688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928800" y="2643120"/>
            <a:ext cx="829800" cy="157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4"/>
          <p:cNvGrpSpPr/>
          <p:nvPr/>
        </p:nvGrpSpPr>
        <p:grpSpPr>
          <a:xfrm>
            <a:off x="2500200" y="2214720"/>
            <a:ext cx="5000400" cy="999720"/>
            <a:chOff x="2500200" y="2214720"/>
            <a:chExt cx="5000400" cy="999720"/>
          </a:xfrm>
        </p:grpSpPr>
        <p:sp>
          <p:nvSpPr>
            <p:cNvPr id="129" name="线形标注 1 7"/>
            <p:cNvSpPr/>
            <p:nvPr/>
          </p:nvSpPr>
          <p:spPr>
            <a:xfrm>
              <a:off x="2500200" y="2214720"/>
              <a:ext cx="1374480" cy="999720"/>
            </a:xfrm>
            <a:prstGeom prst="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13"/>
            <p:cNvSpPr/>
            <p:nvPr/>
          </p:nvSpPr>
          <p:spPr>
            <a:xfrm>
              <a:off x="3881520" y="2214720"/>
              <a:ext cx="3619080" cy="999720"/>
            </a:xfrm>
            <a:prstGeom prst="rect">
              <a:avLst/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1" name="TextBox 15"/>
          <p:cNvSpPr/>
          <p:nvPr/>
        </p:nvSpPr>
        <p:spPr>
          <a:xfrm>
            <a:off x="2571840" y="2428920"/>
            <a:ext cx="492876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交易是一种将未来收入变现的方式，也就是明天的钱今天来花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地说金融交易的频繁程度就是反映一个地区、区域、乃至国家经济繁荣能力的重要指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7"/>
          <p:cNvGrpSpPr/>
          <p:nvPr/>
        </p:nvGrpSpPr>
        <p:grpSpPr>
          <a:xfrm>
            <a:off x="2500200" y="3571560"/>
            <a:ext cx="5071680" cy="1000080"/>
            <a:chOff x="2500200" y="3571560"/>
            <a:chExt cx="5071680" cy="1000080"/>
          </a:xfrm>
        </p:grpSpPr>
        <p:sp>
          <p:nvSpPr>
            <p:cNvPr id="133" name="线形标注 1 18"/>
            <p:cNvSpPr/>
            <p:nvPr/>
          </p:nvSpPr>
          <p:spPr>
            <a:xfrm flipV="1">
              <a:off x="2500200" y="3571200"/>
              <a:ext cx="1393560" cy="999720"/>
            </a:xfrm>
            <a:prstGeom prst="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902040" y="3571920"/>
              <a:ext cx="3669840" cy="999720"/>
            </a:xfrm>
            <a:prstGeom prst="rect">
              <a:avLst/>
            </a:prstGeom>
            <a:solidFill>
              <a:srgbClr val="eb9100"/>
            </a:solidFill>
            <a:ln>
              <a:solidFill>
                <a:srgbClr val="eb91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5" name="矩形 20"/>
          <p:cNvSpPr/>
          <p:nvPr/>
        </p:nvSpPr>
        <p:spPr>
          <a:xfrm>
            <a:off x="2643120" y="3643200"/>
            <a:ext cx="4857480" cy="35676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4150440" y="3724200"/>
            <a:ext cx="2009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金融的概念是研究货币资金的流通的学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2"/>
          <p:cNvSpPr/>
          <p:nvPr/>
        </p:nvSpPr>
        <p:spPr>
          <a:xfrm>
            <a:off x="2643120" y="4071960"/>
            <a:ext cx="4857480" cy="356760"/>
          </a:xfrm>
          <a:prstGeom prst="rect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500280" y="4071960"/>
            <a:ext cx="47858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代的金融本质就是经营活动的资本化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波形 7"/>
          <p:cNvSpPr/>
          <p:nvPr/>
        </p:nvSpPr>
        <p:spPr>
          <a:xfrm>
            <a:off x="1000080" y="1714680"/>
            <a:ext cx="6928920" cy="28573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eb9100"/>
          </a:solidFill>
          <a:ln>
            <a:solidFill>
              <a:srgbClr val="d13f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22880" y="285840"/>
            <a:ext cx="1247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28840" y="2762280"/>
            <a:ext cx="6214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的核心是跨时间、跨空间的价值交换，所有涉及到价值或者收入在不同时间、不同空间之间进行配置的交易都是金融交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流程图: 顺序访问存储器 13"/>
          <p:cNvSpPr/>
          <p:nvPr/>
        </p:nvSpPr>
        <p:spPr>
          <a:xfrm flipV="1" rot="16200000">
            <a:off x="4786560" y="3429000"/>
            <a:ext cx="2785680" cy="2785680"/>
          </a:xfrm>
          <a:prstGeom prst="flowChartMagneticTape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流程图: 顺序访问存储器 14"/>
          <p:cNvSpPr/>
          <p:nvPr/>
        </p:nvSpPr>
        <p:spPr>
          <a:xfrm flipH="1" rot="10800000">
            <a:off x="2000160" y="3429360"/>
            <a:ext cx="2785680" cy="2785680"/>
          </a:xfrm>
          <a:prstGeom prst="flowChartMagneticTape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流程图: 顺序访问存储器 7"/>
          <p:cNvSpPr/>
          <p:nvPr/>
        </p:nvSpPr>
        <p:spPr>
          <a:xfrm>
            <a:off x="2000160" y="642960"/>
            <a:ext cx="2785680" cy="2785680"/>
          </a:xfrm>
          <a:prstGeom prst="flowChartMagneticTape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理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2214720" y="1143000"/>
            <a:ext cx="24285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一：合理配置稳健投资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理财产品非常多，一般来说我们认为股票、期货、外汇投资为高风险投资。银行定存、房屋租金、保险等固定收益型投资为低风险投资。投资者应该根据自己的年龄、家庭结构、财富程度、以及需求来合理搭配理财产品。保证适宜的流动性和收益性。但是对于大多数人来说，专家建议还是选择稳健型的投资较为合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流程图: 顺序访问存储器 9"/>
          <p:cNvSpPr/>
          <p:nvPr/>
        </p:nvSpPr>
        <p:spPr>
          <a:xfrm rot="5400000">
            <a:off x="4786560" y="642600"/>
            <a:ext cx="2785680" cy="2785680"/>
          </a:xfrm>
          <a:prstGeom prst="flowChartMagneticTape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5000760" y="1214280"/>
            <a:ext cx="24285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二：适当降低收益期望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想要在投资市场是获得幸福感，最简单的办法就是降低收益期望。据了解，大部分人将自己的收益期望设定在市场平均水平附近，能够获得高出平均收益的人只是小部分。所以，适当放宽心态，将追求平均收益作为自己的投资目标往往更易实现。理财是为了让财富合理增值来获得幸福感，不要再理财过程中迷失了自我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2214720" y="4002120"/>
            <a:ext cx="2428560" cy="75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三：学会有效保障财富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调查显示，两个资产程度几乎相同的人，一个有风险保障，一个没有，前者的幸福感更加明显。这是一个危机四伏的社会，特别对于投资人来说更加是这样。但是财富除了增值之外，我们还需要用它来抵御疾病、赡养父母、教育子女等。一份保险保障能够让您走的更加顺畅。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000760" y="4151160"/>
            <a:ext cx="24285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律四：具备驾驭财富的能力</a:t>
            </a:r>
            <a:br>
              <a:rPr sz="1100"/>
            </a:b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一个人的脑容量决定了他的财富。我们首先要扩大自己的内在财富，才能抓住外在财富。投资理财不是简单的事情，了解更多的投资理财基础知识，积累投资经验，提高驾驭财富的能力非常重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流程图: 可选过程 20"/>
          <p:cNvSpPr/>
          <p:nvPr/>
        </p:nvSpPr>
        <p:spPr>
          <a:xfrm>
            <a:off x="1000080" y="5143680"/>
            <a:ext cx="7000560" cy="1142640"/>
          </a:xfrm>
          <a:prstGeom prst="flowChartAlternateProcess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流程图: 可选过程 9"/>
          <p:cNvSpPr/>
          <p:nvPr/>
        </p:nvSpPr>
        <p:spPr>
          <a:xfrm>
            <a:off x="1000080" y="1928880"/>
            <a:ext cx="7000560" cy="999720"/>
          </a:xfrm>
          <a:prstGeom prst="flowChartAlternateProcess">
            <a:avLst/>
          </a:prstGeom>
          <a:solidFill>
            <a:srgbClr val="eb9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流程图: 可选过程 10"/>
          <p:cNvSpPr/>
          <p:nvPr/>
        </p:nvSpPr>
        <p:spPr>
          <a:xfrm>
            <a:off x="928800" y="3500280"/>
            <a:ext cx="7000560" cy="1071360"/>
          </a:xfrm>
          <a:prstGeom prst="flowChartAlternateProcess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流程图: 可选过程 11"/>
          <p:cNvSpPr/>
          <p:nvPr/>
        </p:nvSpPr>
        <p:spPr>
          <a:xfrm>
            <a:off x="2714760" y="928800"/>
            <a:ext cx="3849480" cy="431280"/>
          </a:xfrm>
          <a:prstGeom prst="flowChartAlternateProcess">
            <a:avLst/>
          </a:prstGeom>
          <a:solidFill>
            <a:srgbClr val="d13f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429000" y="987480"/>
            <a:ext cx="2714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应规避的三大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1357200" y="2000160"/>
            <a:ext cx="65718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收益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任何一笔投资，风险和收益应该对等。相同类型的产品投资者应该货比三家，摒弃那些收益率很低的“鸡肋”产品。另外，一些结构性理财产品的预期收益可能很高，但是实现最高预期收益可能需要很多苛刻条件或者，发生概率很低，这种“画饼”投资也是不可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1071720" y="3711600"/>
            <a:ext cx="671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保本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很多理财产品都标榜自己是“稳健型”产品，但是真正的稳健理财产品应该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本的产品。部分保本或者不保本的产品都是不稳健的。您需要认清产品特点，而不是看表面的标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1214280" y="5199120"/>
            <a:ext cx="671472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赎回风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一般的理财产品都分为到期前可赎回产品和到期前不可赎回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保险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。到期前可赎回产品有的可以随时赎回，有的设定了开放日，比如说每个交易日开放，每周开放一次，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开放一次等。到期前不可赎回产品就只能在投资到期后赎回，一般这种方式的收益利率更高，但是流动性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箭头 16"/>
          <p:cNvSpPr/>
          <p:nvPr/>
        </p:nvSpPr>
        <p:spPr>
          <a:xfrm>
            <a:off x="4286160" y="142884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3" name="下箭头 17"/>
          <p:cNvSpPr/>
          <p:nvPr/>
        </p:nvSpPr>
        <p:spPr>
          <a:xfrm>
            <a:off x="4286160" y="300024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4" name="下箭头 21"/>
          <p:cNvSpPr/>
          <p:nvPr/>
        </p:nvSpPr>
        <p:spPr>
          <a:xfrm>
            <a:off x="4286160" y="4643280"/>
            <a:ext cx="442440" cy="4424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  <Words>535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54:47Z</dcterms:modified>
  <cp:revision>3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