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DBF-DB52-48E2-A12A-596649A8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3C9-8F87-4071-9E0D-7647D43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EC6-FF5E-4BAE-B96A-ECB028EA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AA2-E2F5-4A3D-ACBA-B9EDDAD1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0671-136E-41A8-BB89-528E490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618-7562-428C-8E68-04A143E6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3D2C-0960-444A-8257-74FF262A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A04-DAA7-4CD6-8095-76D996E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71CB-0D7E-469C-BCBF-8D8B354D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943-00CC-49B1-A0C1-58016462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129-73D2-4FF0-9356-41C10AE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DB0-2F4E-4080-B76A-D5D0E995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2F70-21AC-43BC-86EF-BA5D443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F9EF-016D-45E0-9FD6-7208D43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D8DD-C610-49FA-8402-21568B1C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83EB-89EF-4C4E-9CB4-1DB80DCA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6C99-6042-48B2-89C9-19FBDB38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233-1719-4C6D-A841-3122B791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C92-BF5D-4717-BC97-1A5A292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DF6-F88F-4C45-889E-F2B2F5C2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5EC2-89BD-419D-BA40-DDFCAB9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8E4-6393-4B08-A730-CEC4E4B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6CB-B1E2-400A-980E-1373C62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799-4D7B-41B2-8116-87313F10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7A4-2FD1-4959-AD4F-9C3EE6951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3920" y="1315080"/>
              <a:ext cx="439812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B3D0-C851-4792-BA2A-A6831C073C7D}" type="slidenum">
              <a:rPr b="0" lang="en-US" sz="1200" spc="-1" strike="noStrike">
                <a:solidFill>
                  <a:srgbClr val="33533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181400"/>
            <a:ext cx="8153280" cy="101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5338"/>
                </a:solidFill>
                <a:latin typeface="Verdana"/>
                <a:ea typeface="宋体"/>
              </a:rPr>
              <a:t>网格绿色商务</a:t>
            </a:r>
            <a:r>
              <a:rPr b="1" lang="en-US" sz="4000" spc="-1" strike="noStrike">
                <a:solidFill>
                  <a:srgbClr val="335338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335338"/>
                </a:solidFill>
                <a:latin typeface="Verdana"/>
                <a:ea typeface="宋体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8320" y="3714840"/>
            <a:ext cx="29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5338"/>
                </a:solidFill>
                <a:latin typeface="Arial"/>
                <a:ea typeface="宋体"/>
              </a:rPr>
              <a:t>PowerPoint</a:t>
            </a:r>
            <a:endParaRPr b="0" lang="en-US" sz="4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46" name="AutoShape 4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AutoShape 5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8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846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9" name="Oval 7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d4736"/>
                </a:gs>
                <a:gs pos="50000">
                  <a:srgbClr val="368463"/>
                </a:gs>
                <a:gs pos="100000">
                  <a:srgbClr val="1d47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3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81ec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4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5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7106f"/>
                </a:gs>
                <a:gs pos="50000">
                  <a:srgbClr val="481ece"/>
                </a:gs>
                <a:gs pos="100000">
                  <a:srgbClr val="27106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6" name="Oval 14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e1383"/>
                </a:gs>
                <a:gs pos="100000">
                  <a:srgbClr val="481ec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7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58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59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0" name="Oval 18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1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2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63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86b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32156"/>
                  </a:srgbClr>
                </a:gs>
                <a:gs pos="100000">
                  <a:srgbClr val="163e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5" name="Oval 23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94960"/>
                </a:gs>
                <a:gs pos="50000">
                  <a:srgbClr val="2f86b1"/>
                </a:gs>
                <a:gs pos="100000">
                  <a:srgbClr val="1949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e5570"/>
                </a:gs>
                <a:gs pos="100000">
                  <a:srgbClr val="2f86b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7" name="Oval 25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68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69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0" name="Oval 28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1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2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74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5" name="Oval 33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6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7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78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9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0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1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2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3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f86b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6" name="Text Box 32"/>
          <p:cNvSpPr/>
          <p:nvPr/>
        </p:nvSpPr>
        <p:spPr>
          <a:xfrm>
            <a:off x="5791320" y="34290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7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8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9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0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1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3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94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95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6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7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8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00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1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2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3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4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5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6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7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9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0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1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5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6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8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a779e">
                  <a:alpha val="0"/>
                </a:srgbClr>
              </a:gs>
              <a:gs pos="100000">
                <a:srgbClr val="2f86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9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20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21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3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424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6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427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8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9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430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1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2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433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4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5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36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7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38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846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9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8463">
                  <a:alpha val="32156"/>
                </a:srgbClr>
              </a:gs>
              <a:gs pos="100000">
                <a:srgbClr val="193d2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0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4736"/>
              </a:gs>
              <a:gs pos="50000">
                <a:srgbClr val="368463"/>
              </a:gs>
              <a:gs pos="100000">
                <a:srgbClr val="1d473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1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2543f"/>
              </a:gs>
              <a:gs pos="100000">
                <a:srgbClr val="36846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2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3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4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6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3973680" y="36878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AutoShape 4"/>
          <p:cNvSpPr/>
          <p:nvPr/>
        </p:nvSpPr>
        <p:spPr>
          <a:xfrm>
            <a:off x="114300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6" name="AutoShape 5"/>
          <p:cNvSpPr/>
          <p:nvPr/>
        </p:nvSpPr>
        <p:spPr>
          <a:xfrm>
            <a:off x="1176480" y="199548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7" name="AutoShape 6"/>
          <p:cNvSpPr/>
          <p:nvPr/>
        </p:nvSpPr>
        <p:spPr>
          <a:xfrm>
            <a:off x="119376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119376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114948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119376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1887480" y="1679400"/>
            <a:ext cx="642960" cy="642960"/>
            <a:chOff x="1887480" y="1679400"/>
            <a:chExt cx="642960" cy="642960"/>
          </a:xfrm>
        </p:grpSpPr>
        <p:sp>
          <p:nvSpPr>
            <p:cNvPr id="462" name="Oval 11"/>
            <p:cNvSpPr/>
            <p:nvPr/>
          </p:nvSpPr>
          <p:spPr>
            <a:xfrm>
              <a:off x="1887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3" name="Oval 12"/>
            <p:cNvSpPr/>
            <p:nvPr/>
          </p:nvSpPr>
          <p:spPr>
            <a:xfrm>
              <a:off x="189396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4" name="Oval 13"/>
            <p:cNvSpPr/>
            <p:nvPr/>
          </p:nvSpPr>
          <p:spPr>
            <a:xfrm>
              <a:off x="1901880" y="1688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5" name="Oval 14"/>
            <p:cNvSpPr/>
            <p:nvPr/>
          </p:nvSpPr>
          <p:spPr>
            <a:xfrm>
              <a:off x="190836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6" name="Oval 15"/>
            <p:cNvSpPr/>
            <p:nvPr/>
          </p:nvSpPr>
          <p:spPr>
            <a:xfrm>
              <a:off x="194220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67" name="Text Box 16"/>
          <p:cNvSpPr/>
          <p:nvPr/>
        </p:nvSpPr>
        <p:spPr>
          <a:xfrm>
            <a:off x="202752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21932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9" name="AutoShape 19"/>
          <p:cNvSpPr/>
          <p:nvPr/>
        </p:nvSpPr>
        <p:spPr>
          <a:xfrm>
            <a:off x="350532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0" name="AutoShape 20"/>
          <p:cNvSpPr/>
          <p:nvPr/>
        </p:nvSpPr>
        <p:spPr>
          <a:xfrm>
            <a:off x="353844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1" name="AutoShape 21"/>
          <p:cNvSpPr/>
          <p:nvPr/>
        </p:nvSpPr>
        <p:spPr>
          <a:xfrm>
            <a:off x="355608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2" name="AutoShape 22"/>
          <p:cNvSpPr/>
          <p:nvPr/>
        </p:nvSpPr>
        <p:spPr>
          <a:xfrm>
            <a:off x="355608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4249800" y="1679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4" name="Oval 24"/>
          <p:cNvSpPr/>
          <p:nvPr/>
        </p:nvSpPr>
        <p:spPr>
          <a:xfrm>
            <a:off x="4255920" y="1684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4264200" y="1687680"/>
            <a:ext cx="60768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4270320" y="1693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7" name="Oval 27"/>
          <p:cNvSpPr/>
          <p:nvPr/>
        </p:nvSpPr>
        <p:spPr>
          <a:xfrm>
            <a:off x="4305240" y="1709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8" name="Text Box 28"/>
          <p:cNvSpPr/>
          <p:nvPr/>
        </p:nvSpPr>
        <p:spPr>
          <a:xfrm>
            <a:off x="438984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358128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0" name="AutoShape 30"/>
          <p:cNvSpPr/>
          <p:nvPr/>
        </p:nvSpPr>
        <p:spPr>
          <a:xfrm>
            <a:off x="3508200" y="4844880"/>
            <a:ext cx="216396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1" name="AutoShape 31"/>
          <p:cNvSpPr/>
          <p:nvPr/>
        </p:nvSpPr>
        <p:spPr>
          <a:xfrm>
            <a:off x="35528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2" name="AutoShape 33"/>
          <p:cNvSpPr/>
          <p:nvPr/>
        </p:nvSpPr>
        <p:spPr>
          <a:xfrm>
            <a:off x="5867280" y="1987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3" name="AutoShape 34"/>
          <p:cNvSpPr/>
          <p:nvPr/>
        </p:nvSpPr>
        <p:spPr>
          <a:xfrm>
            <a:off x="590076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4" name="AutoShape 35"/>
          <p:cNvSpPr/>
          <p:nvPr/>
        </p:nvSpPr>
        <p:spPr>
          <a:xfrm>
            <a:off x="5918040" y="4059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5" name="AutoShape 36"/>
          <p:cNvSpPr/>
          <p:nvPr/>
        </p:nvSpPr>
        <p:spPr>
          <a:xfrm>
            <a:off x="5918040" y="2017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86" name="Group 37"/>
          <p:cNvGrpSpPr/>
          <p:nvPr/>
        </p:nvGrpSpPr>
        <p:grpSpPr>
          <a:xfrm>
            <a:off x="6611760" y="1679400"/>
            <a:ext cx="642960" cy="642960"/>
            <a:chOff x="6611760" y="1679400"/>
            <a:chExt cx="642960" cy="642960"/>
          </a:xfrm>
        </p:grpSpPr>
        <p:sp>
          <p:nvSpPr>
            <p:cNvPr id="487" name="Oval 38"/>
            <p:cNvSpPr/>
            <p:nvPr/>
          </p:nvSpPr>
          <p:spPr>
            <a:xfrm>
              <a:off x="661176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8" name="Oval 39"/>
            <p:cNvSpPr/>
            <p:nvPr/>
          </p:nvSpPr>
          <p:spPr>
            <a:xfrm>
              <a:off x="661824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9" name="Oval 40"/>
            <p:cNvSpPr/>
            <p:nvPr/>
          </p:nvSpPr>
          <p:spPr>
            <a:xfrm>
              <a:off x="6626160" y="1688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0" name="Oval 41"/>
            <p:cNvSpPr/>
            <p:nvPr/>
          </p:nvSpPr>
          <p:spPr>
            <a:xfrm>
              <a:off x="663264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1" name="Oval 42"/>
            <p:cNvSpPr/>
            <p:nvPr/>
          </p:nvSpPr>
          <p:spPr>
            <a:xfrm>
              <a:off x="666648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92" name="Text Box 43"/>
          <p:cNvSpPr/>
          <p:nvPr/>
        </p:nvSpPr>
        <p:spPr>
          <a:xfrm>
            <a:off x="675216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594360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4" name="AutoShape 45"/>
          <p:cNvSpPr/>
          <p:nvPr/>
        </p:nvSpPr>
        <p:spPr>
          <a:xfrm>
            <a:off x="586116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5" name="AutoShape 46"/>
          <p:cNvSpPr/>
          <p:nvPr/>
        </p:nvSpPr>
        <p:spPr>
          <a:xfrm>
            <a:off x="59054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7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98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00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01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02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3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05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6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07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8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9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0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1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2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13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14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5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6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7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19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20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3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6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7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8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9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30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31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2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3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4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35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36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37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8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540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1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3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48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49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0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1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2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4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5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6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8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9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60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61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3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4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5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66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67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8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9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70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2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3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4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5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6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7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8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79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80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1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2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3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584" name="AutoShape 90"/>
            <p:cNvCxnSpPr>
              <a:stCxn id="580" idx="3"/>
              <a:endCxn id="581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5" name="AutoShape 91"/>
            <p:cNvCxnSpPr>
              <a:stCxn id="581" idx="3"/>
              <a:endCxn id="582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6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89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2761a"/>
                </a:gs>
                <a:gs pos="100000">
                  <a:srgbClr val="e09f5f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0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73a992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1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f86b1"/>
                </a:gs>
                <a:gs pos="100000">
                  <a:srgbClr val="6eabc9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2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6eabc9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3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73a992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4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761a"/>
                </a:gs>
                <a:gs pos="100000">
                  <a:srgbClr val="e09f5f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0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0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0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0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1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1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62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35080" y="2367000"/>
          <a:ext cx="7040520" cy="312408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7f9f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2" name="Oval 5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eaeae"/>
              </a:gs>
              <a:gs pos="100000">
                <a:srgbClr val="8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3" name="Oval 6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791bb"/>
              </a:gs>
              <a:gs pos="100000">
                <a:srgbClr val="0000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4" name="Arc 7"/>
          <p:cNvSpPr/>
          <p:nvPr/>
        </p:nvSpPr>
        <p:spPr>
          <a:xfrm rot="20601600">
            <a:off x="4125960" y="20793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7fb19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5" name="Arc 8"/>
          <p:cNvSpPr/>
          <p:nvPr/>
        </p:nvSpPr>
        <p:spPr>
          <a:xfrm flipH="1" rot="20602200">
            <a:off x="1713600" y="3954600"/>
            <a:ext cx="328104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215e7c"/>
              </a:gs>
              <a:gs pos="100000">
                <a:srgbClr val="2f86b1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6" name="Arc 9"/>
          <p:cNvSpPr/>
          <p:nvPr/>
        </p:nvSpPr>
        <p:spPr>
          <a:xfrm rot="20601600">
            <a:off x="2722680" y="2125440"/>
            <a:ext cx="3228840" cy="141768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lnTo>
                  <a:pt x="0" y="2373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aacbbd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7" name="Arc 10"/>
          <p:cNvSpPr/>
          <p:nvPr/>
        </p:nvSpPr>
        <p:spPr>
          <a:xfrm flipH="1" rot="20602200">
            <a:off x="1370520" y="2719440"/>
            <a:ext cx="2851200" cy="206640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lnTo>
                  <a:pt x="8291" y="0"/>
                </a:lnTo>
                <a:close/>
              </a:path>
            </a:pathLst>
          </a:custGeom>
          <a:gradFill rotWithShape="0">
            <a:gsLst>
              <a:gs pos="0">
                <a:srgbClr val="d2761a"/>
              </a:gs>
              <a:gs pos="100000">
                <a:srgbClr val="61370c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50000">
                <a:srgbClr val="ececec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3" name="Freeform 16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368463">
                  <a:alpha val="19215"/>
                </a:srgbClr>
              </a:gs>
              <a:gs pos="100000">
                <a:srgbClr val="79a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4" name="Freeform 17"/>
          <p:cNvSpPr/>
          <p:nvPr/>
        </p:nvSpPr>
        <p:spPr>
          <a:xfrm>
            <a:off x="5356080" y="3506760"/>
            <a:ext cx="1773360" cy="177660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7a5cdb"/>
              </a:gs>
              <a:gs pos="100000">
                <a:srgbClr val="481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5" name="Arc 18"/>
          <p:cNvSpPr/>
          <p:nvPr/>
        </p:nvSpPr>
        <p:spPr>
          <a:xfrm rot="20539200">
            <a:off x="4419720" y="289548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481ece"/>
              </a:gs>
              <a:gs pos="100000">
                <a:srgbClr val="2a1177"/>
              </a:gs>
            </a:gsLst>
            <a:lin ang="10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6" name="Freeform 19"/>
          <p:cNvSpPr/>
          <p:nvPr/>
        </p:nvSpPr>
        <p:spPr>
          <a:xfrm>
            <a:off x="4491000" y="3983040"/>
            <a:ext cx="92412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481ece"/>
              </a:gs>
              <a:gs pos="100000">
                <a:srgbClr val="8b70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7" name="Oval 20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5383800" y="3900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455760" y="6359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8463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52"/>
              </a:gs>
              <a:gs pos="50000">
                <a:srgbClr val="2f86b1"/>
              </a:gs>
              <a:gs pos="100000">
                <a:srgbClr val="163e52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54" name="Group 60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655" name="Oval 45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6" name="Oval 29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7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85098"/>
                  </a:srgbClr>
                </a:gs>
                <a:gs pos="100000">
                  <a:srgbClr val="2e138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8" name="Oval 31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59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Text Box 33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1" name="Group 59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662" name="Oval 50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85098"/>
                  </a:srgbClr>
                </a:gs>
                <a:gs pos="100000">
                  <a:srgbClr val="1e55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2261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66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26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8" name="Group 58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669" name="Oval 51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0" name="Oval 15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1" name="Oval 16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85098"/>
                  </a:srgbClr>
                </a:gs>
                <a:gs pos="100000">
                  <a:srgbClr val="2254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2" name="Oval 17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3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 Box 19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75" name="Group 5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676" name="Oval 52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7" name="Oval 8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8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d2761a">
                    <a:alpha val="85098"/>
                  </a:srgbClr>
                </a:gs>
                <a:gs pos="100000">
                  <a:srgbClr val="854b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9" name="Oval 10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80" name="Picture 11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 Box 12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200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873080" y="20635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3" name="Group 7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204" name="AutoShape 8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>
              <a:off x="1873080" y="297792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7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3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4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5" name="AutoShape 19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6" name="AutoShape 20"/>
            <p:cNvSpPr/>
            <p:nvPr/>
          </p:nvSpPr>
          <p:spPr>
            <a:xfrm>
              <a:off x="1873080" y="38703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93d2e"/>
                </a:gs>
                <a:gs pos="100000">
                  <a:srgbClr val="368463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218" name="AutoShape 22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9" name="AutoShape 23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0" name="AutoShape 24"/>
            <p:cNvSpPr/>
            <p:nvPr/>
          </p:nvSpPr>
          <p:spPr>
            <a:xfrm>
              <a:off x="1873080" y="47847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21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WordArt 3"/>
          <p:cNvSpPr txBox="1"/>
          <p:nvPr/>
        </p:nvSpPr>
        <p:spPr>
          <a:xfrm>
            <a:off x="582480" y="4419720"/>
            <a:ext cx="48024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2761a"/>
              </a:gs>
              <a:gs pos="100000">
                <a:srgbClr val="e2a86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bfd8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7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38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100000">
                    <a:srgbClr val="1a403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40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a6c8ba"/>
                  </a:gs>
                  <a:gs pos="100000">
                    <a:srgbClr val="3684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41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63e52"/>
                </a:gs>
                <a:gs pos="100000">
                  <a:srgbClr val="2f86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0"/>
                  </a:srgbClr>
                </a:gs>
                <a:gs pos="100000">
                  <a:srgbClr val="b6d5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6a8c"/>
                </a:gs>
                <a:gs pos="100000">
                  <a:srgbClr val="2f86b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6b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45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4"/>
          <p:cNvSpPr/>
          <p:nvPr/>
        </p:nvSpPr>
        <p:spPr>
          <a:xfrm rot="20241600">
            <a:off x="1391760" y="2801880"/>
            <a:ext cx="6094440" cy="2424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8e8e8">
                  <a:alpha val="36078"/>
                </a:srgbClr>
              </a:gs>
              <a:gs pos="100000">
                <a:srgbClr val="b2b2b2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3821040" y="2057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100000">
                <a:srgbClr val="132e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1585800" y="33750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2f86b1"/>
              </a:gs>
              <a:gs pos="100000">
                <a:srgbClr val="0f2a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2370240" y="484200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d2761a"/>
              </a:gs>
              <a:gs pos="100000">
                <a:srgbClr val="4b2a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2" name="Oval 8"/>
          <p:cNvSpPr/>
          <p:nvPr/>
        </p:nvSpPr>
        <p:spPr>
          <a:xfrm>
            <a:off x="4838760" y="42973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6464160" y="225432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481ece"/>
              </a:gs>
              <a:gs pos="100000">
                <a:srgbClr val="190a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1786680" y="3770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042800" y="24526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6663600" y="2635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5063400" y="4692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2563200" y="523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5338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3353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cxnSp>
        <p:nvCxnSpPr>
          <p:cNvPr id="261" name="AutoShape 17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335338"/>
            </a:solidFill>
            <a:miter/>
          </a:ln>
        </p:spPr>
      </p:cxnSp>
      <p:sp>
        <p:nvSpPr>
          <p:cNvPr id="262" name="Text Box 18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5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1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2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3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4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5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6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7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8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0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93d2e"/>
                </a:gs>
                <a:gs pos="50000">
                  <a:srgbClr val="368463"/>
                </a:gs>
                <a:gs pos="100000">
                  <a:srgbClr val="193d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2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461880" y="6334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68463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533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6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287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66"/>
                  </a:gs>
                  <a:gs pos="100000">
                    <a:srgbClr val="9b9b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0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1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2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6846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3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4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4736"/>
                  </a:gs>
                  <a:gs pos="50000">
                    <a:srgbClr val="368463"/>
                  </a:gs>
                  <a:gs pos="100000">
                    <a:srgbClr val="1d473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5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96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7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8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9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0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1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3e52"/>
                </a:gs>
                <a:gs pos="50000">
                  <a:srgbClr val="2f86b1"/>
                </a:gs>
                <a:gs pos="100000">
                  <a:srgbClr val="163e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3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4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24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25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1370c"/>
                </a:gs>
                <a:gs pos="50000">
                  <a:srgbClr val="d2761a"/>
                </a:gs>
                <a:gs pos="100000">
                  <a:srgbClr val="613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76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93d2e"/>
                </a:gs>
                <a:gs pos="50000">
                  <a:srgbClr val="368463"/>
                </a:gs>
                <a:gs pos="100000">
                  <a:srgbClr val="193d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0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1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2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3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85613"/>
                </a:gs>
                <a:gs pos="5000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4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6048"/>
                </a:gs>
                <a:gs pos="5000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5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481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341695"/>
                </a:gs>
                <a:gs pos="5000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b2b2b2"/>
                </a:gs>
                <a:gs pos="100000">
                  <a:srgbClr val="818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0" y="1600200"/>
            <a:ext cx="6324480" cy="4495680"/>
          </a:xfrm>
          <a:prstGeom prst="rightArrow">
            <a:avLst>
              <a:gd name="adj1" fmla="val 79306"/>
              <a:gd name="adj2" fmla="val 34844"/>
            </a:avLst>
          </a:prstGeom>
          <a:gradFill rotWithShape="0">
            <a:gsLst>
              <a:gs pos="0">
                <a:srgbClr val="d7e4be"/>
              </a:gs>
              <a:gs pos="100000">
                <a:srgbClr val="2f86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2761a"/>
              </a:gs>
              <a:gs pos="100000">
                <a:srgbClr val="e09f5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8463"/>
              </a:gs>
              <a:gs pos="100000">
                <a:srgbClr val="73a99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21:58Z</dcterms:modified>
  <cp:revision>36</cp:revision>
  <dc:subject/>
  <dc:title>www.pptbz.com</dc:title>
</cp:coreProperties>
</file>