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B803-1A7F-4A28-8950-5E5173306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4442-F6CF-4565-8B6D-C37AD05E2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C29-4F4F-4902-A2FD-BEC4FF03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6DB8-01BB-4EDF-B110-AF797F4F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8DAF-04FD-47E9-AA74-E03854C7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24A7-9D4E-49AC-8713-3C946F78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FD1-FFA5-4C3C-B2DD-4F0B374B2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13E1-115A-432F-B0EF-92008863F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84AC-8BD1-463E-88C7-CA82907C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F1A-3E8F-4EEA-9943-0953A9FF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D28D-DBED-4466-968A-A0BEFDC5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3767-C201-4308-9704-E7F6590F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761595-BA4C-4B35-BBC3-57DFDD78FC2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bd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2010083065388741_副本.gif"/>
          <p:cNvPicPr/>
          <p:nvPr/>
        </p:nvPicPr>
        <p:blipFill>
          <a:blip r:embed="rId1"/>
          <a:stretch/>
        </p:blipFill>
        <p:spPr>
          <a:xfrm>
            <a:off x="1503360" y="1380960"/>
            <a:ext cx="6387120" cy="42620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2" name="任意多边形 4"/>
          <p:cNvSpPr/>
          <p:nvPr/>
        </p:nvSpPr>
        <p:spPr>
          <a:xfrm>
            <a:off x="2979720" y="1600200"/>
            <a:ext cx="4034880" cy="3495240"/>
          </a:xfrm>
          <a:custGeom>
            <a:avLst/>
            <a:gdLst>
              <a:gd name="textAreaLeft" fmla="*/ 0 w 4034880"/>
              <a:gd name="textAreaRight" fmla="*/ 4035240 w 4034880"/>
              <a:gd name="textAreaTop" fmla="*/ 0 h 3495240"/>
              <a:gd name="textAreaBottom" fmla="*/ 3495600 h 3495240"/>
            </a:gdLst>
            <a:ahLst/>
            <a:rect l="textAreaLeft" t="textAreaTop" r="textAreaRight" b="textAreaBottom"/>
            <a:pathLst>
              <a:path w="4729150" h="3802453">
                <a:moveTo>
                  <a:pt x="710593" y="2719122"/>
                </a:moveTo>
                <a:cubicBezTo>
                  <a:pt x="0" y="2628679"/>
                  <a:pt x="716596" y="1763107"/>
                  <a:pt x="888031" y="1115394"/>
                </a:cubicBezTo>
                <a:cubicBezTo>
                  <a:pt x="766394" y="0"/>
                  <a:pt x="2075502" y="700332"/>
                  <a:pt x="3074095" y="615376"/>
                </a:cubicBezTo>
                <a:cubicBezTo>
                  <a:pt x="3688044" y="256108"/>
                  <a:pt x="4729150" y="3802453"/>
                  <a:pt x="1068881" y="2973980"/>
                </a:cubicBezTo>
              </a:path>
            </a:pathLst>
          </a:custGeom>
          <a:solidFill>
            <a:srgbClr val="5fd5e7">
              <a:alpha val="89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3" name="矩形 2"/>
          <p:cNvSpPr/>
          <p:nvPr/>
        </p:nvSpPr>
        <p:spPr>
          <a:xfrm>
            <a:off x="1556280" y="782640"/>
            <a:ext cx="6281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in8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开机风格的封面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delay="0"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4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3bdd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"/>
          <p:cNvSpPr/>
          <p:nvPr/>
        </p:nvSpPr>
        <p:spPr>
          <a:xfrm>
            <a:off x="2786040" y="785880"/>
            <a:ext cx="3428640" cy="1856880"/>
          </a:xfrm>
          <a:prstGeom prst="rect">
            <a:avLst/>
          </a:prstGeom>
          <a:blipFill rotWithShape="0">
            <a:blip r:embed="rId1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4000" spc="-1" strike="noStrike">
              <a:ln>
                <a:solidFill>
                  <a:srgbClr val="ffffff"/>
                </a:solidFill>
              </a:ln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286680" y="785880"/>
            <a:ext cx="1856880" cy="1856880"/>
          </a:xfrm>
          <a:prstGeom prst="rect">
            <a:avLst/>
          </a:prstGeom>
          <a:blipFill rotWithShape="0">
            <a:blip r:embed="rId2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7" name="矩形 10"/>
          <p:cNvSpPr/>
          <p:nvPr/>
        </p:nvSpPr>
        <p:spPr>
          <a:xfrm>
            <a:off x="4714920" y="2714760"/>
            <a:ext cx="3357360" cy="1856880"/>
          </a:xfrm>
          <a:prstGeom prst="rect">
            <a:avLst/>
          </a:prstGeom>
          <a:blipFill rotWithShape="0">
            <a:blip r:embed="rId3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矩形 15"/>
          <p:cNvSpPr/>
          <p:nvPr/>
        </p:nvSpPr>
        <p:spPr>
          <a:xfrm>
            <a:off x="712080" y="4658040"/>
            <a:ext cx="2642760" cy="1785600"/>
          </a:xfrm>
          <a:prstGeom prst="rect">
            <a:avLst/>
          </a:prstGeom>
          <a:blipFill rotWithShape="0">
            <a:blip r:embed="rId4"/>
            <a:srcRect/>
            <a:stretch/>
          </a:blip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9" name="组合 44"/>
          <p:cNvGrpSpPr/>
          <p:nvPr/>
        </p:nvGrpSpPr>
        <p:grpSpPr>
          <a:xfrm>
            <a:off x="714240" y="2714760"/>
            <a:ext cx="1999800" cy="1856880"/>
            <a:chOff x="714240" y="2714760"/>
            <a:chExt cx="1999800" cy="1856880"/>
          </a:xfrm>
        </p:grpSpPr>
        <p:sp>
          <p:nvSpPr>
            <p:cNvPr id="50" name="矩形 20"/>
            <p:cNvSpPr/>
            <p:nvPr/>
          </p:nvSpPr>
          <p:spPr>
            <a:xfrm>
              <a:off x="714240" y="2714760"/>
              <a:ext cx="1999800" cy="1856880"/>
            </a:xfrm>
            <a:prstGeom prst="rect">
              <a:avLst/>
            </a:prstGeom>
            <a:solidFill>
              <a:srgbClr val="d3675f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圆角矩形标注 34"/>
            <p:cNvSpPr/>
            <p:nvPr/>
          </p:nvSpPr>
          <p:spPr>
            <a:xfrm>
              <a:off x="1214280" y="3214800"/>
              <a:ext cx="999720" cy="642600"/>
            </a:xfrm>
            <a:prstGeom prst="wedgeRoundRectCallout">
              <a:avLst>
                <a:gd name="adj1" fmla="val -46738"/>
                <a:gd name="adj2" fmla="val 102796"/>
                <a:gd name="adj3" fmla="val 16667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2" name="组合 37"/>
          <p:cNvGrpSpPr/>
          <p:nvPr/>
        </p:nvGrpSpPr>
        <p:grpSpPr>
          <a:xfrm>
            <a:off x="2786040" y="2714760"/>
            <a:ext cx="1856880" cy="1856880"/>
            <a:chOff x="2786040" y="2714760"/>
            <a:chExt cx="1856880" cy="1856880"/>
          </a:xfrm>
        </p:grpSpPr>
        <p:sp>
          <p:nvSpPr>
            <p:cNvPr id="53" name="矩形 6"/>
            <p:cNvSpPr/>
            <p:nvPr/>
          </p:nvSpPr>
          <p:spPr>
            <a:xfrm>
              <a:off x="2786040" y="2714760"/>
              <a:ext cx="1856880" cy="1856880"/>
            </a:xfrm>
            <a:prstGeom prst="rect">
              <a:avLst/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4" name="图片 35" descr="ie.png"/>
            <p:cNvPicPr/>
            <p:nvPr/>
          </p:nvPicPr>
          <p:blipFill>
            <a:blip r:embed="rId5"/>
            <a:stretch/>
          </p:blipFill>
          <p:spPr>
            <a:xfrm>
              <a:off x="2924280" y="2815560"/>
              <a:ext cx="1625040" cy="1625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组合 42"/>
          <p:cNvGrpSpPr/>
          <p:nvPr/>
        </p:nvGrpSpPr>
        <p:grpSpPr>
          <a:xfrm>
            <a:off x="714240" y="785880"/>
            <a:ext cx="1999800" cy="1856880"/>
            <a:chOff x="714240" y="785880"/>
            <a:chExt cx="1999800" cy="1856880"/>
          </a:xfrm>
        </p:grpSpPr>
        <p:sp>
          <p:nvSpPr>
            <p:cNvPr id="56" name="矩形 38"/>
            <p:cNvSpPr/>
            <p:nvPr/>
          </p:nvSpPr>
          <p:spPr>
            <a:xfrm>
              <a:off x="714240" y="785880"/>
              <a:ext cx="1999800" cy="1856880"/>
            </a:xfrm>
            <a:prstGeom prst="rect">
              <a:avLst/>
            </a:prstGeom>
            <a:solidFill>
              <a:srgbClr val="ffc00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pic>
          <p:nvPicPr>
            <p:cNvPr id="57" name="图片 41" descr="131GE6425K0-51R14.png"/>
            <p:cNvPicPr/>
            <p:nvPr/>
          </p:nvPicPr>
          <p:blipFill>
            <a:blip r:embed="rId6"/>
            <a:stretch/>
          </p:blipFill>
          <p:spPr>
            <a:xfrm>
              <a:off x="1071360" y="1000080"/>
              <a:ext cx="1269000" cy="1269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500" autoRev="1" fill="hold"/>
                                        <p:tgtEl>
                                          <p:spTgt spid="4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46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" dur="500" autoRev="1" fill="hold"/>
                                        <p:tgtEl>
                                          <p:spTgt spid="47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50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" dur="50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50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500" autoRev="1" fill="hold"/>
                                        <p:tgtEl>
                                          <p:spTgt spid="49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  <Words>16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3T02:19:37Z</dcterms:created>
  <dc:creator>Captain Jack</dc:creator>
  <dc:description/>
  <dc:language>en-US</dc:language>
  <cp:lastModifiedBy>王玉清</cp:lastModifiedBy>
  <dcterms:modified xsi:type="dcterms:W3CDTF">2016-02-24T02:39:03Z</dcterms:modified>
  <cp:revision>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