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gif" ContentType="image/gif"/>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9655F5-C199-4087-9D93-BDBBC758B8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B05E3-8718-4717-A331-0EF2F5E2D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BE8BBF-BF13-4312-AFDD-CDDCADA885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DD7318-5588-4A83-AB14-AA9711AB42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359354-0678-42B2-8429-63BA04D8B9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3001CE-1B51-415F-B8F4-A0FB649007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4ABA03-B10E-4D15-9FD6-58B6E34D87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2"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DD6E07-0150-4133-BA2D-F3802F6047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3C288B-851E-45C4-80FD-CD0435F652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589019-2259-4C56-8B67-B84D764EC0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7"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8"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7FD61E-C7FE-40CD-B55D-01F7A92D9F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5B7D6-27AD-4A74-9456-CE63872CA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2"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3E649C-C094-4F3B-A4B7-C3FAD292B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5"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6"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2FDEA-19CD-4F59-9F67-F6E3BCF42F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9"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8867C0-5142-48C3-A7A7-EFE9565E77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3"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4"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84B099-D564-47DD-9AD1-D653F6106C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7"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8"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9"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0"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1"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24F9D0-9159-48A2-9369-2882EB7007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973C0-A0E9-402D-8F52-F2881B8BC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F7927-B304-4DC3-85E3-42AA551E9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88511-4954-4AEB-A09A-D060DC571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EEFE4-94A9-415B-8817-6A88A39F2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8A481-1AFC-4F39-BE37-6129FC45C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3C605-6481-4B22-B839-BC53E494D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AE2E3-4A4C-42C6-8A1E-623420B300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zh-CN" sz="4400" spc="-1" strike="noStrike">
                <a:solidFill>
                  <a:srgbClr val="000000"/>
                </a:solidFill>
                <a:latin typeface="Calibri Light"/>
              </a:rPr>
              <a:t>单击此处编辑母版标题样式</a:t>
            </a:r>
            <a:endParaRPr b="0" lang="en-US" sz="4400" spc="-1" strike="noStrike">
              <a:solidFill>
                <a:srgbClr val="000000"/>
              </a:solidFill>
              <a:latin typeface="Calibr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32097095-94B7-4E67-8C65-C8C2D518B63E}"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zh-CN" sz="4400" spc="-1" strike="noStrike">
                <a:solidFill>
                  <a:srgbClr val="000000"/>
                </a:solidFill>
                <a:latin typeface="Calibri Light"/>
              </a:rPr>
              <a:t>单击此处编辑母版标题样式</a:t>
            </a:r>
            <a:endParaRPr b="0" lang="en-US" sz="4400" spc="-1" strike="noStrike">
              <a:solidFill>
                <a:srgbClr val="000000"/>
              </a:solidFill>
              <a:latin typeface="Calibri"/>
            </a:endParaRPr>
          </a:p>
        </p:txBody>
      </p:sp>
      <p:sp>
        <p:nvSpPr>
          <p:cNvPr id="42"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zh-CN" sz="2800" spc="-1" strike="noStrike">
                <a:solidFill>
                  <a:srgbClr val="000000"/>
                </a:solidFill>
                <a:latin typeface="Calibri"/>
              </a:rPr>
              <a:t>单击此处编辑母版文本样式</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zh-CN" sz="2400" spc="-1" strike="noStrike">
                <a:solidFill>
                  <a:srgbClr val="000000"/>
                </a:solidFill>
                <a:latin typeface="Calibri"/>
              </a:rPr>
              <a:t>第二级</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zh-CN" sz="2000" spc="-1" strike="noStrike">
                <a:solidFill>
                  <a:srgbClr val="000000"/>
                </a:solidFill>
                <a:latin typeface="Calibri"/>
              </a:rPr>
              <a:t>第三级</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zh-CN" sz="1800" spc="-1" strike="noStrike">
                <a:solidFill>
                  <a:srgbClr val="000000"/>
                </a:solidFill>
                <a:latin typeface="Calibri"/>
              </a:rPr>
              <a:t>第四级</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zh-CN" sz="1800" spc="-1" strike="noStrike">
                <a:solidFill>
                  <a:srgbClr val="000000"/>
                </a:solidFill>
                <a:latin typeface="Calibri"/>
              </a:rPr>
              <a:t>第五级</a:t>
            </a:r>
            <a:endParaRPr b="0" lang="en-US" sz="1800" spc="-1" strike="noStrike">
              <a:solidFill>
                <a:srgbClr val="000000"/>
              </a:solidFill>
              <a:latin typeface="Calibri"/>
            </a:endParaRPr>
          </a:p>
        </p:txBody>
      </p:sp>
      <p:sp>
        <p:nvSpPr>
          <p:cNvPr id="43" name="PlaceHolder 3"/>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CDB94D86-F08A-4784-961C-E9DC9526C2A0}"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moban/" TargetMode="External"/><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89880"/>
            <a:ext cx="10515240" cy="134064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sp>
        <p:nvSpPr>
          <p:cNvPr id="83" name="矩形 2"/>
          <p:cNvSpPr/>
          <p:nvPr/>
        </p:nvSpPr>
        <p:spPr>
          <a:xfrm>
            <a:off x="0" y="3468600"/>
            <a:ext cx="1218960" cy="3544560"/>
          </a:xfrm>
          <a:prstGeom prst="rect">
            <a:avLst/>
          </a:prstGeom>
          <a:solidFill>
            <a:srgbClr val="f2e7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2e750"/>
              </a:solidFill>
              <a:latin typeface="Calibri"/>
            </a:endParaRPr>
          </a:p>
        </p:txBody>
      </p:sp>
      <p:sp>
        <p:nvSpPr>
          <p:cNvPr id="84" name="Rectangle 1 copy copy"/>
          <p:cNvSpPr/>
          <p:nvPr/>
        </p:nvSpPr>
        <p:spPr>
          <a:xfrm>
            <a:off x="0" y="0"/>
            <a:ext cx="1218960" cy="3468960"/>
          </a:xfrm>
          <a:prstGeom prst="rect">
            <a:avLst/>
          </a:prstGeom>
          <a:solidFill>
            <a:srgbClr val="63a53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63a537"/>
              </a:solidFill>
              <a:latin typeface="Calibri"/>
            </a:endParaRPr>
          </a:p>
        </p:txBody>
      </p:sp>
      <p:sp>
        <p:nvSpPr>
          <p:cNvPr id="85" name="Rectangle 1 copy copy"/>
          <p:cNvSpPr/>
          <p:nvPr/>
        </p:nvSpPr>
        <p:spPr>
          <a:xfrm>
            <a:off x="1219320" y="0"/>
            <a:ext cx="1218960" cy="3468960"/>
          </a:xfrm>
          <a:prstGeom prst="rect">
            <a:avLst/>
          </a:prstGeom>
          <a:solidFill>
            <a:srgbClr val="63a53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63a537"/>
              </a:solidFill>
              <a:latin typeface="Calibri"/>
            </a:endParaRPr>
          </a:p>
        </p:txBody>
      </p:sp>
      <p:sp>
        <p:nvSpPr>
          <p:cNvPr id="86" name="Rectangle 1 copy copy"/>
          <p:cNvSpPr/>
          <p:nvPr/>
        </p:nvSpPr>
        <p:spPr>
          <a:xfrm>
            <a:off x="2438280" y="0"/>
            <a:ext cx="1218960" cy="3468960"/>
          </a:xfrm>
          <a:prstGeom prst="rect">
            <a:avLst/>
          </a:prstGeom>
          <a:solidFill>
            <a:srgbClr val="63a53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63a537"/>
              </a:solidFill>
              <a:latin typeface="Calibri"/>
            </a:endParaRPr>
          </a:p>
        </p:txBody>
      </p:sp>
      <p:sp>
        <p:nvSpPr>
          <p:cNvPr id="87" name="Rectangle 1 copy copy"/>
          <p:cNvSpPr/>
          <p:nvPr/>
        </p:nvSpPr>
        <p:spPr>
          <a:xfrm>
            <a:off x="3657600" y="0"/>
            <a:ext cx="1218960" cy="3468960"/>
          </a:xfrm>
          <a:prstGeom prst="rect">
            <a:avLst/>
          </a:prstGeom>
          <a:solidFill>
            <a:srgbClr val="63a53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63a537"/>
              </a:solidFill>
              <a:latin typeface="Calibri"/>
            </a:endParaRPr>
          </a:p>
        </p:txBody>
      </p:sp>
      <p:sp>
        <p:nvSpPr>
          <p:cNvPr id="88" name="Rectangle 1 copy copy"/>
          <p:cNvSpPr/>
          <p:nvPr/>
        </p:nvSpPr>
        <p:spPr>
          <a:xfrm>
            <a:off x="4876920" y="0"/>
            <a:ext cx="1218960" cy="3468960"/>
          </a:xfrm>
          <a:prstGeom prst="rect">
            <a:avLst/>
          </a:prstGeom>
          <a:solidFill>
            <a:srgbClr val="63a53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63a537"/>
              </a:solidFill>
              <a:latin typeface="Calibri"/>
            </a:endParaRPr>
          </a:p>
        </p:txBody>
      </p:sp>
      <p:sp>
        <p:nvSpPr>
          <p:cNvPr id="89" name="Rectangle 1 copy copy"/>
          <p:cNvSpPr/>
          <p:nvPr/>
        </p:nvSpPr>
        <p:spPr>
          <a:xfrm>
            <a:off x="6095880" y="0"/>
            <a:ext cx="1218960" cy="3468960"/>
          </a:xfrm>
          <a:prstGeom prst="rect">
            <a:avLst/>
          </a:prstGeom>
          <a:solidFill>
            <a:srgbClr val="63a53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63a537"/>
              </a:solidFill>
              <a:latin typeface="Calibri"/>
            </a:endParaRPr>
          </a:p>
        </p:txBody>
      </p:sp>
      <p:sp>
        <p:nvSpPr>
          <p:cNvPr id="90" name="Rectangle 1 copy copy"/>
          <p:cNvSpPr/>
          <p:nvPr/>
        </p:nvSpPr>
        <p:spPr>
          <a:xfrm>
            <a:off x="7315200" y="0"/>
            <a:ext cx="1218960" cy="3468960"/>
          </a:xfrm>
          <a:prstGeom prst="rect">
            <a:avLst/>
          </a:prstGeom>
          <a:solidFill>
            <a:srgbClr val="63a53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63a537"/>
              </a:solidFill>
              <a:latin typeface="Calibri"/>
            </a:endParaRPr>
          </a:p>
        </p:txBody>
      </p:sp>
      <p:sp>
        <p:nvSpPr>
          <p:cNvPr id="91" name="Rectangle 1 copy copy"/>
          <p:cNvSpPr/>
          <p:nvPr/>
        </p:nvSpPr>
        <p:spPr>
          <a:xfrm>
            <a:off x="8534520" y="0"/>
            <a:ext cx="1218960" cy="3468960"/>
          </a:xfrm>
          <a:prstGeom prst="rect">
            <a:avLst/>
          </a:prstGeom>
          <a:solidFill>
            <a:srgbClr val="63a53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63a537"/>
              </a:solidFill>
              <a:latin typeface="Calibri"/>
            </a:endParaRPr>
          </a:p>
        </p:txBody>
      </p:sp>
      <p:sp>
        <p:nvSpPr>
          <p:cNvPr id="92" name="Rectangle 1 copy copy"/>
          <p:cNvSpPr/>
          <p:nvPr/>
        </p:nvSpPr>
        <p:spPr>
          <a:xfrm>
            <a:off x="9753480" y="0"/>
            <a:ext cx="1218960" cy="3468960"/>
          </a:xfrm>
          <a:prstGeom prst="rect">
            <a:avLst/>
          </a:prstGeom>
          <a:solidFill>
            <a:srgbClr val="63a53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63a537"/>
              </a:solidFill>
              <a:latin typeface="Calibri"/>
            </a:endParaRPr>
          </a:p>
        </p:txBody>
      </p:sp>
      <p:sp>
        <p:nvSpPr>
          <p:cNvPr id="93" name="Rectangle 1 copy copy"/>
          <p:cNvSpPr/>
          <p:nvPr/>
        </p:nvSpPr>
        <p:spPr>
          <a:xfrm>
            <a:off x="10972800" y="0"/>
            <a:ext cx="1218960" cy="3468960"/>
          </a:xfrm>
          <a:prstGeom prst="rect">
            <a:avLst/>
          </a:prstGeom>
          <a:solidFill>
            <a:srgbClr val="63a53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63a537"/>
              </a:solidFill>
              <a:latin typeface="Calibri"/>
            </a:endParaRPr>
          </a:p>
        </p:txBody>
      </p:sp>
      <p:sp>
        <p:nvSpPr>
          <p:cNvPr id="94" name="矩形 13"/>
          <p:cNvSpPr/>
          <p:nvPr/>
        </p:nvSpPr>
        <p:spPr>
          <a:xfrm>
            <a:off x="1219320" y="3468960"/>
            <a:ext cx="1218960" cy="3544560"/>
          </a:xfrm>
          <a:prstGeom prst="rect">
            <a:avLst/>
          </a:prstGeom>
          <a:solidFill>
            <a:srgbClr val="f2e7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2e750"/>
              </a:solidFill>
              <a:latin typeface="Calibri"/>
            </a:endParaRPr>
          </a:p>
        </p:txBody>
      </p:sp>
      <p:sp>
        <p:nvSpPr>
          <p:cNvPr id="95" name="矩形 14"/>
          <p:cNvSpPr/>
          <p:nvPr/>
        </p:nvSpPr>
        <p:spPr>
          <a:xfrm>
            <a:off x="2438280" y="3468960"/>
            <a:ext cx="1218960" cy="3544560"/>
          </a:xfrm>
          <a:prstGeom prst="rect">
            <a:avLst/>
          </a:prstGeom>
          <a:solidFill>
            <a:srgbClr val="f2e7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2e750"/>
              </a:solidFill>
              <a:latin typeface="Calibri"/>
            </a:endParaRPr>
          </a:p>
        </p:txBody>
      </p:sp>
      <p:sp>
        <p:nvSpPr>
          <p:cNvPr id="96" name="矩形 15"/>
          <p:cNvSpPr/>
          <p:nvPr/>
        </p:nvSpPr>
        <p:spPr>
          <a:xfrm>
            <a:off x="3657600" y="3468960"/>
            <a:ext cx="1218960" cy="3544560"/>
          </a:xfrm>
          <a:prstGeom prst="rect">
            <a:avLst/>
          </a:prstGeom>
          <a:solidFill>
            <a:srgbClr val="f2e7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2e750"/>
              </a:solidFill>
              <a:latin typeface="Calibri"/>
            </a:endParaRPr>
          </a:p>
        </p:txBody>
      </p:sp>
      <p:sp>
        <p:nvSpPr>
          <p:cNvPr id="97" name="矩形 16"/>
          <p:cNvSpPr/>
          <p:nvPr/>
        </p:nvSpPr>
        <p:spPr>
          <a:xfrm>
            <a:off x="4876920" y="3468960"/>
            <a:ext cx="1218960" cy="3544560"/>
          </a:xfrm>
          <a:prstGeom prst="rect">
            <a:avLst/>
          </a:prstGeom>
          <a:solidFill>
            <a:srgbClr val="f2e7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2e750"/>
              </a:solidFill>
              <a:latin typeface="Calibri"/>
            </a:endParaRPr>
          </a:p>
        </p:txBody>
      </p:sp>
      <p:sp>
        <p:nvSpPr>
          <p:cNvPr id="98" name="矩形 17"/>
          <p:cNvSpPr/>
          <p:nvPr/>
        </p:nvSpPr>
        <p:spPr>
          <a:xfrm>
            <a:off x="6095880" y="3468960"/>
            <a:ext cx="1218960" cy="3544560"/>
          </a:xfrm>
          <a:prstGeom prst="rect">
            <a:avLst/>
          </a:prstGeom>
          <a:solidFill>
            <a:srgbClr val="f2e7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2e750"/>
              </a:solidFill>
              <a:latin typeface="Calibri"/>
            </a:endParaRPr>
          </a:p>
        </p:txBody>
      </p:sp>
      <p:sp>
        <p:nvSpPr>
          <p:cNvPr id="99" name="矩形 18"/>
          <p:cNvSpPr/>
          <p:nvPr/>
        </p:nvSpPr>
        <p:spPr>
          <a:xfrm>
            <a:off x="7315200" y="3468960"/>
            <a:ext cx="1218960" cy="3544560"/>
          </a:xfrm>
          <a:prstGeom prst="rect">
            <a:avLst/>
          </a:prstGeom>
          <a:solidFill>
            <a:srgbClr val="f2e7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2e750"/>
              </a:solidFill>
              <a:latin typeface="Calibri"/>
            </a:endParaRPr>
          </a:p>
        </p:txBody>
      </p:sp>
      <p:sp>
        <p:nvSpPr>
          <p:cNvPr id="100" name="矩形 19"/>
          <p:cNvSpPr/>
          <p:nvPr/>
        </p:nvSpPr>
        <p:spPr>
          <a:xfrm>
            <a:off x="8534520" y="3468960"/>
            <a:ext cx="1218960" cy="3544560"/>
          </a:xfrm>
          <a:prstGeom prst="rect">
            <a:avLst/>
          </a:prstGeom>
          <a:solidFill>
            <a:srgbClr val="f2e7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2e750"/>
              </a:solidFill>
              <a:latin typeface="Calibri"/>
            </a:endParaRPr>
          </a:p>
        </p:txBody>
      </p:sp>
      <p:sp>
        <p:nvSpPr>
          <p:cNvPr id="101" name="矩形 20"/>
          <p:cNvSpPr/>
          <p:nvPr/>
        </p:nvSpPr>
        <p:spPr>
          <a:xfrm>
            <a:off x="9753480" y="3468960"/>
            <a:ext cx="1218960" cy="3544560"/>
          </a:xfrm>
          <a:prstGeom prst="rect">
            <a:avLst/>
          </a:prstGeom>
          <a:solidFill>
            <a:srgbClr val="f2e7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2e750"/>
              </a:solidFill>
              <a:latin typeface="Calibri"/>
            </a:endParaRPr>
          </a:p>
        </p:txBody>
      </p:sp>
      <p:sp>
        <p:nvSpPr>
          <p:cNvPr id="102" name="矩形 21"/>
          <p:cNvSpPr/>
          <p:nvPr/>
        </p:nvSpPr>
        <p:spPr>
          <a:xfrm>
            <a:off x="10972800" y="3468960"/>
            <a:ext cx="1218960" cy="3544560"/>
          </a:xfrm>
          <a:prstGeom prst="rect">
            <a:avLst/>
          </a:prstGeom>
          <a:solidFill>
            <a:srgbClr val="f2e7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2e750"/>
              </a:solidFill>
              <a:latin typeface="Calibri"/>
            </a:endParaRPr>
          </a:p>
        </p:txBody>
      </p:sp>
      <p:sp>
        <p:nvSpPr>
          <p:cNvPr id="103" name="矩形 22"/>
          <p:cNvSpPr/>
          <p:nvPr/>
        </p:nvSpPr>
        <p:spPr>
          <a:xfrm>
            <a:off x="3212640" y="798480"/>
            <a:ext cx="576612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000" spc="-1" strike="noStrike">
                <a:solidFill>
                  <a:srgbClr val="000000"/>
                </a:solidFill>
                <a:latin typeface="Calibri"/>
              </a:rPr>
              <a:t>学霸的那些蒙题秘术通用</a:t>
            </a:r>
            <a:r>
              <a:rPr b="0" lang="en-US" sz="4000" spc="-1" strike="noStrike">
                <a:solidFill>
                  <a:srgbClr val="000000"/>
                </a:solidFill>
                <a:latin typeface="Calibri"/>
              </a:rPr>
              <a:t>PPT</a:t>
            </a:r>
            <a:r>
              <a:rPr b="0" lang="zh-CN" sz="4000" spc="-1" strike="noStrike">
                <a:solidFill>
                  <a:srgbClr val="000000"/>
                </a:solidFill>
                <a:latin typeface="Calibri"/>
              </a:rPr>
              <a:t>模板下载</a:t>
            </a:r>
            <a:endParaRPr b="0" lang="en-US" sz="4000" spc="-1" strike="noStrike">
              <a:solidFill>
                <a:srgbClr val="ffffff"/>
              </a:solidFill>
              <a:latin typeface="Arial"/>
            </a:endParaRPr>
          </a:p>
        </p:txBody>
      </p:sp>
      <p:sp>
        <p:nvSpPr>
          <p:cNvPr id="104" name="矩形 12"/>
          <p:cNvSpPr/>
          <p:nvPr/>
        </p:nvSpPr>
        <p:spPr>
          <a:xfrm>
            <a:off x="18180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ffffff"/>
              </a:solidFill>
              <a:latin typeface="Arial"/>
            </a:endParaRPr>
          </a:p>
        </p:txBody>
      </p:sp>
    </p:spTree>
  </p:cSld>
  <mc:AlternateContent>
    <mc:Choice Requires="p14">
      <p:transition spd="slow" advTm="0" p14:dur="2000"/>
    </mc:Choice>
    <mc:Fallback>
      <p:transition spd="slow" advTm="0"/>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84"/>
                                        </p:tgtEl>
                                        <p:attrNameLst>
                                          <p:attrName>style.visibility</p:attrName>
                                        </p:attrNameLst>
                                      </p:cBhvr>
                                      <p:to>
                                        <p:strVal val="visible"/>
                                      </p:to>
                                    </p:set>
                                    <p:anim calcmode="lin" valueType="num">
                                      <p:cBhvr additive="repl">
                                        <p:cTn id="7" dur="500" fill="hold"/>
                                        <p:tgtEl>
                                          <p:spTgt spid="84"/>
                                        </p:tgtEl>
                                        <p:attrNameLst>
                                          <p:attrName>ppt_x</p:attrName>
                                        </p:attrNameLst>
                                      </p:cBhvr>
                                      <p:tavLst>
                                        <p:tav tm="0">
                                          <p:val>
                                            <p:strVal val="#ppt_x"/>
                                          </p:val>
                                        </p:tav>
                                        <p:tav tm="100000">
                                          <p:val>
                                            <p:strVal val="#ppt_x"/>
                                          </p:val>
                                        </p:tav>
                                      </p:tavLst>
                                    </p:anim>
                                    <p:anim calcmode="lin" valueType="num">
                                      <p:cBhvr additive="repl">
                                        <p:cTn id="8" dur="500" fill="hold"/>
                                        <p:tgtEl>
                                          <p:spTgt spid="84"/>
                                        </p:tgtEl>
                                        <p:attrNameLst>
                                          <p:attrName>ppt_y</p:attrName>
                                        </p:attrNameLst>
                                      </p:cBhvr>
                                      <p:tavLst>
                                        <p:tav tm="0">
                                          <p:val>
                                            <p:strVal val="0-#ppt_h/2"/>
                                          </p:val>
                                        </p:tav>
                                        <p:tav tm="100000">
                                          <p:val>
                                            <p:strVal val="#ppt_y"/>
                                          </p:val>
                                        </p:tav>
                                      </p:tavLst>
                                    </p:anim>
                                  </p:childTnLst>
                                </p:cTn>
                              </p:par>
                              <p:par>
                                <p:cTn id="9" nodeType="withEffect" fill="hold" presetClass="entr" presetID="2" presetSubtype="1">
                                  <p:stCondLst>
                                    <p:cond delay="200"/>
                                  </p:stCondLst>
                                  <p:childTnLst>
                                    <p:set>
                                      <p:cBhvr>
                                        <p:cTn id="10" dur="1" fill="hold">
                                          <p:stCondLst>
                                            <p:cond delay="0"/>
                                          </p:stCondLst>
                                        </p:cTn>
                                        <p:tgtEl>
                                          <p:spTgt spid="85"/>
                                        </p:tgtEl>
                                        <p:attrNameLst>
                                          <p:attrName>style.visibility</p:attrName>
                                        </p:attrNameLst>
                                      </p:cBhvr>
                                      <p:to>
                                        <p:strVal val="visible"/>
                                      </p:to>
                                    </p:set>
                                    <p:anim calcmode="lin" valueType="num">
                                      <p:cBhvr additive="repl">
                                        <p:cTn id="11" dur="500" fill="hold"/>
                                        <p:tgtEl>
                                          <p:spTgt spid="85"/>
                                        </p:tgtEl>
                                        <p:attrNameLst>
                                          <p:attrName>ppt_x</p:attrName>
                                        </p:attrNameLst>
                                      </p:cBhvr>
                                      <p:tavLst>
                                        <p:tav tm="0">
                                          <p:val>
                                            <p:strVal val="#ppt_x"/>
                                          </p:val>
                                        </p:tav>
                                        <p:tav tm="100000">
                                          <p:val>
                                            <p:strVal val="#ppt_x"/>
                                          </p:val>
                                        </p:tav>
                                      </p:tavLst>
                                    </p:anim>
                                    <p:anim calcmode="lin" valueType="num">
                                      <p:cBhvr additive="repl">
                                        <p:cTn id="12" dur="500" fill="hold"/>
                                        <p:tgtEl>
                                          <p:spTgt spid="85"/>
                                        </p:tgtEl>
                                        <p:attrNameLst>
                                          <p:attrName>ppt_y</p:attrName>
                                        </p:attrNameLst>
                                      </p:cBhvr>
                                      <p:tavLst>
                                        <p:tav tm="0">
                                          <p:val>
                                            <p:strVal val="0-#ppt_h/2"/>
                                          </p:val>
                                        </p:tav>
                                        <p:tav tm="100000">
                                          <p:val>
                                            <p:strVal val="#ppt_y"/>
                                          </p:val>
                                        </p:tav>
                                      </p:tavLst>
                                    </p:anim>
                                  </p:childTnLst>
                                </p:cTn>
                              </p:par>
                              <p:par>
                                <p:cTn id="13" nodeType="withEffect" fill="hold" presetClass="entr" presetID="2" presetSubtype="1">
                                  <p:stCondLst>
                                    <p:cond delay="400"/>
                                  </p:stCondLst>
                                  <p:childTnLst>
                                    <p:set>
                                      <p:cBhvr>
                                        <p:cTn id="14" dur="1" fill="hold">
                                          <p:stCondLst>
                                            <p:cond delay="0"/>
                                          </p:stCondLst>
                                        </p:cTn>
                                        <p:tgtEl>
                                          <p:spTgt spid="86"/>
                                        </p:tgtEl>
                                        <p:attrNameLst>
                                          <p:attrName>style.visibility</p:attrName>
                                        </p:attrNameLst>
                                      </p:cBhvr>
                                      <p:to>
                                        <p:strVal val="visible"/>
                                      </p:to>
                                    </p:set>
                                    <p:anim calcmode="lin" valueType="num">
                                      <p:cBhvr additive="repl">
                                        <p:cTn id="15" dur="500" fill="hold"/>
                                        <p:tgtEl>
                                          <p:spTgt spid="86"/>
                                        </p:tgtEl>
                                        <p:attrNameLst>
                                          <p:attrName>ppt_x</p:attrName>
                                        </p:attrNameLst>
                                      </p:cBhvr>
                                      <p:tavLst>
                                        <p:tav tm="0">
                                          <p:val>
                                            <p:strVal val="#ppt_x"/>
                                          </p:val>
                                        </p:tav>
                                        <p:tav tm="100000">
                                          <p:val>
                                            <p:strVal val="#ppt_x"/>
                                          </p:val>
                                        </p:tav>
                                      </p:tavLst>
                                    </p:anim>
                                    <p:anim calcmode="lin" valueType="num">
                                      <p:cBhvr additive="repl">
                                        <p:cTn id="16" dur="500" fill="hold"/>
                                        <p:tgtEl>
                                          <p:spTgt spid="86"/>
                                        </p:tgtEl>
                                        <p:attrNameLst>
                                          <p:attrName>ppt_y</p:attrName>
                                        </p:attrNameLst>
                                      </p:cBhvr>
                                      <p:tavLst>
                                        <p:tav tm="0">
                                          <p:val>
                                            <p:strVal val="0-#ppt_h/2"/>
                                          </p:val>
                                        </p:tav>
                                        <p:tav tm="100000">
                                          <p:val>
                                            <p:strVal val="#ppt_y"/>
                                          </p:val>
                                        </p:tav>
                                      </p:tavLst>
                                    </p:anim>
                                  </p:childTnLst>
                                </p:cTn>
                              </p:par>
                              <p:par>
                                <p:cTn id="17" nodeType="withEffect" fill="hold" presetClass="entr" presetID="2" presetSubtype="1">
                                  <p:stCondLst>
                                    <p:cond delay="600"/>
                                  </p:stCondLst>
                                  <p:childTnLst>
                                    <p:set>
                                      <p:cBhvr>
                                        <p:cTn id="18" dur="1" fill="hold">
                                          <p:stCondLst>
                                            <p:cond delay="0"/>
                                          </p:stCondLst>
                                        </p:cTn>
                                        <p:tgtEl>
                                          <p:spTgt spid="87"/>
                                        </p:tgtEl>
                                        <p:attrNameLst>
                                          <p:attrName>style.visibility</p:attrName>
                                        </p:attrNameLst>
                                      </p:cBhvr>
                                      <p:to>
                                        <p:strVal val="visible"/>
                                      </p:to>
                                    </p:set>
                                    <p:anim calcmode="lin" valueType="num">
                                      <p:cBhvr additive="repl">
                                        <p:cTn id="19" dur="500" fill="hold"/>
                                        <p:tgtEl>
                                          <p:spTgt spid="87"/>
                                        </p:tgtEl>
                                        <p:attrNameLst>
                                          <p:attrName>ppt_x</p:attrName>
                                        </p:attrNameLst>
                                      </p:cBhvr>
                                      <p:tavLst>
                                        <p:tav tm="0">
                                          <p:val>
                                            <p:strVal val="#ppt_x"/>
                                          </p:val>
                                        </p:tav>
                                        <p:tav tm="100000">
                                          <p:val>
                                            <p:strVal val="#ppt_x"/>
                                          </p:val>
                                        </p:tav>
                                      </p:tavLst>
                                    </p:anim>
                                    <p:anim calcmode="lin" valueType="num">
                                      <p:cBhvr additive="repl">
                                        <p:cTn id="20" dur="500" fill="hold"/>
                                        <p:tgtEl>
                                          <p:spTgt spid="87"/>
                                        </p:tgtEl>
                                        <p:attrNameLst>
                                          <p:attrName>ppt_y</p:attrName>
                                        </p:attrNameLst>
                                      </p:cBhvr>
                                      <p:tavLst>
                                        <p:tav tm="0">
                                          <p:val>
                                            <p:strVal val="0-#ppt_h/2"/>
                                          </p:val>
                                        </p:tav>
                                        <p:tav tm="100000">
                                          <p:val>
                                            <p:strVal val="#ppt_y"/>
                                          </p:val>
                                        </p:tav>
                                      </p:tavLst>
                                    </p:anim>
                                  </p:childTnLst>
                                </p:cTn>
                              </p:par>
                              <p:par>
                                <p:cTn id="21" nodeType="withEffect" fill="hold" presetClass="entr" presetID="2" presetSubtype="1">
                                  <p:stCondLst>
                                    <p:cond delay="800"/>
                                  </p:stCondLst>
                                  <p:childTnLst>
                                    <p:set>
                                      <p:cBhvr>
                                        <p:cTn id="22" dur="1" fill="hold">
                                          <p:stCondLst>
                                            <p:cond delay="0"/>
                                          </p:stCondLst>
                                        </p:cTn>
                                        <p:tgtEl>
                                          <p:spTgt spid="88"/>
                                        </p:tgtEl>
                                        <p:attrNameLst>
                                          <p:attrName>style.visibility</p:attrName>
                                        </p:attrNameLst>
                                      </p:cBhvr>
                                      <p:to>
                                        <p:strVal val="visible"/>
                                      </p:to>
                                    </p:set>
                                    <p:anim calcmode="lin" valueType="num">
                                      <p:cBhvr additive="repl">
                                        <p:cTn id="23" dur="500" fill="hold"/>
                                        <p:tgtEl>
                                          <p:spTgt spid="88"/>
                                        </p:tgtEl>
                                        <p:attrNameLst>
                                          <p:attrName>ppt_x</p:attrName>
                                        </p:attrNameLst>
                                      </p:cBhvr>
                                      <p:tavLst>
                                        <p:tav tm="0">
                                          <p:val>
                                            <p:strVal val="#ppt_x"/>
                                          </p:val>
                                        </p:tav>
                                        <p:tav tm="100000">
                                          <p:val>
                                            <p:strVal val="#ppt_x"/>
                                          </p:val>
                                        </p:tav>
                                      </p:tavLst>
                                    </p:anim>
                                    <p:anim calcmode="lin" valueType="num">
                                      <p:cBhvr additive="repl">
                                        <p:cTn id="24" dur="500" fill="hold"/>
                                        <p:tgtEl>
                                          <p:spTgt spid="88"/>
                                        </p:tgtEl>
                                        <p:attrNameLst>
                                          <p:attrName>ppt_y</p:attrName>
                                        </p:attrNameLst>
                                      </p:cBhvr>
                                      <p:tavLst>
                                        <p:tav tm="0">
                                          <p:val>
                                            <p:strVal val="0-#ppt_h/2"/>
                                          </p:val>
                                        </p:tav>
                                        <p:tav tm="100000">
                                          <p:val>
                                            <p:strVal val="#ppt_y"/>
                                          </p:val>
                                        </p:tav>
                                      </p:tavLst>
                                    </p:anim>
                                  </p:childTnLst>
                                </p:cTn>
                              </p:par>
                              <p:par>
                                <p:cTn id="25" nodeType="withEffect" fill="hold" presetClass="entr" presetID="2" presetSubtype="1">
                                  <p:stCondLst>
                                    <p:cond delay="1000"/>
                                  </p:stCondLst>
                                  <p:childTnLst>
                                    <p:set>
                                      <p:cBhvr>
                                        <p:cTn id="26" dur="1" fill="hold">
                                          <p:stCondLst>
                                            <p:cond delay="0"/>
                                          </p:stCondLst>
                                        </p:cTn>
                                        <p:tgtEl>
                                          <p:spTgt spid="89"/>
                                        </p:tgtEl>
                                        <p:attrNameLst>
                                          <p:attrName>style.visibility</p:attrName>
                                        </p:attrNameLst>
                                      </p:cBhvr>
                                      <p:to>
                                        <p:strVal val="visible"/>
                                      </p:to>
                                    </p:set>
                                    <p:anim calcmode="lin" valueType="num">
                                      <p:cBhvr additive="repl">
                                        <p:cTn id="27" dur="500" fill="hold"/>
                                        <p:tgtEl>
                                          <p:spTgt spid="89"/>
                                        </p:tgtEl>
                                        <p:attrNameLst>
                                          <p:attrName>ppt_x</p:attrName>
                                        </p:attrNameLst>
                                      </p:cBhvr>
                                      <p:tavLst>
                                        <p:tav tm="0">
                                          <p:val>
                                            <p:strVal val="#ppt_x"/>
                                          </p:val>
                                        </p:tav>
                                        <p:tav tm="100000">
                                          <p:val>
                                            <p:strVal val="#ppt_x"/>
                                          </p:val>
                                        </p:tav>
                                      </p:tavLst>
                                    </p:anim>
                                    <p:anim calcmode="lin" valueType="num">
                                      <p:cBhvr additive="repl">
                                        <p:cTn id="28" dur="500" fill="hold"/>
                                        <p:tgtEl>
                                          <p:spTgt spid="89"/>
                                        </p:tgtEl>
                                        <p:attrNameLst>
                                          <p:attrName>ppt_y</p:attrName>
                                        </p:attrNameLst>
                                      </p:cBhvr>
                                      <p:tavLst>
                                        <p:tav tm="0">
                                          <p:val>
                                            <p:strVal val="0-#ppt_h/2"/>
                                          </p:val>
                                        </p:tav>
                                        <p:tav tm="100000">
                                          <p:val>
                                            <p:strVal val="#ppt_y"/>
                                          </p:val>
                                        </p:tav>
                                      </p:tavLst>
                                    </p:anim>
                                  </p:childTnLst>
                                </p:cTn>
                              </p:par>
                              <p:par>
                                <p:cTn id="29" nodeType="withEffect" fill="hold" presetClass="entr" presetID="2" presetSubtype="1">
                                  <p:stCondLst>
                                    <p:cond delay="1200"/>
                                  </p:stCondLst>
                                  <p:childTnLst>
                                    <p:set>
                                      <p:cBhvr>
                                        <p:cTn id="30" dur="1" fill="hold">
                                          <p:stCondLst>
                                            <p:cond delay="0"/>
                                          </p:stCondLst>
                                        </p:cTn>
                                        <p:tgtEl>
                                          <p:spTgt spid="90"/>
                                        </p:tgtEl>
                                        <p:attrNameLst>
                                          <p:attrName>style.visibility</p:attrName>
                                        </p:attrNameLst>
                                      </p:cBhvr>
                                      <p:to>
                                        <p:strVal val="visible"/>
                                      </p:to>
                                    </p:set>
                                    <p:anim calcmode="lin" valueType="num">
                                      <p:cBhvr additive="repl">
                                        <p:cTn id="31" dur="500" fill="hold"/>
                                        <p:tgtEl>
                                          <p:spTgt spid="90"/>
                                        </p:tgtEl>
                                        <p:attrNameLst>
                                          <p:attrName>ppt_x</p:attrName>
                                        </p:attrNameLst>
                                      </p:cBhvr>
                                      <p:tavLst>
                                        <p:tav tm="0">
                                          <p:val>
                                            <p:strVal val="#ppt_x"/>
                                          </p:val>
                                        </p:tav>
                                        <p:tav tm="100000">
                                          <p:val>
                                            <p:strVal val="#ppt_x"/>
                                          </p:val>
                                        </p:tav>
                                      </p:tavLst>
                                    </p:anim>
                                    <p:anim calcmode="lin" valueType="num">
                                      <p:cBhvr additive="repl">
                                        <p:cTn id="32" dur="500" fill="hold"/>
                                        <p:tgtEl>
                                          <p:spTgt spid="90"/>
                                        </p:tgtEl>
                                        <p:attrNameLst>
                                          <p:attrName>ppt_y</p:attrName>
                                        </p:attrNameLst>
                                      </p:cBhvr>
                                      <p:tavLst>
                                        <p:tav tm="0">
                                          <p:val>
                                            <p:strVal val="0-#ppt_h/2"/>
                                          </p:val>
                                        </p:tav>
                                        <p:tav tm="100000">
                                          <p:val>
                                            <p:strVal val="#ppt_y"/>
                                          </p:val>
                                        </p:tav>
                                      </p:tavLst>
                                    </p:anim>
                                  </p:childTnLst>
                                </p:cTn>
                              </p:par>
                              <p:par>
                                <p:cTn id="33" nodeType="withEffect" fill="hold" presetClass="entr" presetID="2" presetSubtype="1">
                                  <p:stCondLst>
                                    <p:cond delay="1400"/>
                                  </p:stCondLst>
                                  <p:childTnLst>
                                    <p:set>
                                      <p:cBhvr>
                                        <p:cTn id="34" dur="1" fill="hold">
                                          <p:stCondLst>
                                            <p:cond delay="0"/>
                                          </p:stCondLst>
                                        </p:cTn>
                                        <p:tgtEl>
                                          <p:spTgt spid="91"/>
                                        </p:tgtEl>
                                        <p:attrNameLst>
                                          <p:attrName>style.visibility</p:attrName>
                                        </p:attrNameLst>
                                      </p:cBhvr>
                                      <p:to>
                                        <p:strVal val="visible"/>
                                      </p:to>
                                    </p:set>
                                    <p:anim calcmode="lin" valueType="num">
                                      <p:cBhvr additive="repl">
                                        <p:cTn id="35" dur="500" fill="hold"/>
                                        <p:tgtEl>
                                          <p:spTgt spid="91"/>
                                        </p:tgtEl>
                                        <p:attrNameLst>
                                          <p:attrName>ppt_x</p:attrName>
                                        </p:attrNameLst>
                                      </p:cBhvr>
                                      <p:tavLst>
                                        <p:tav tm="0">
                                          <p:val>
                                            <p:strVal val="#ppt_x"/>
                                          </p:val>
                                        </p:tav>
                                        <p:tav tm="100000">
                                          <p:val>
                                            <p:strVal val="#ppt_x"/>
                                          </p:val>
                                        </p:tav>
                                      </p:tavLst>
                                    </p:anim>
                                    <p:anim calcmode="lin" valueType="num">
                                      <p:cBhvr additive="repl">
                                        <p:cTn id="36" dur="500" fill="hold"/>
                                        <p:tgtEl>
                                          <p:spTgt spid="91"/>
                                        </p:tgtEl>
                                        <p:attrNameLst>
                                          <p:attrName>ppt_y</p:attrName>
                                        </p:attrNameLst>
                                      </p:cBhvr>
                                      <p:tavLst>
                                        <p:tav tm="0">
                                          <p:val>
                                            <p:strVal val="0-#ppt_h/2"/>
                                          </p:val>
                                        </p:tav>
                                        <p:tav tm="100000">
                                          <p:val>
                                            <p:strVal val="#ppt_y"/>
                                          </p:val>
                                        </p:tav>
                                      </p:tavLst>
                                    </p:anim>
                                  </p:childTnLst>
                                </p:cTn>
                              </p:par>
                              <p:par>
                                <p:cTn id="37" nodeType="withEffect" fill="hold" presetClass="entr" presetID="2" presetSubtype="1">
                                  <p:stCondLst>
                                    <p:cond delay="1600"/>
                                  </p:stCondLst>
                                  <p:childTnLst>
                                    <p:set>
                                      <p:cBhvr>
                                        <p:cTn id="38" dur="1" fill="hold">
                                          <p:stCondLst>
                                            <p:cond delay="0"/>
                                          </p:stCondLst>
                                        </p:cTn>
                                        <p:tgtEl>
                                          <p:spTgt spid="92"/>
                                        </p:tgtEl>
                                        <p:attrNameLst>
                                          <p:attrName>style.visibility</p:attrName>
                                        </p:attrNameLst>
                                      </p:cBhvr>
                                      <p:to>
                                        <p:strVal val="visible"/>
                                      </p:to>
                                    </p:set>
                                    <p:anim calcmode="lin" valueType="num">
                                      <p:cBhvr additive="repl">
                                        <p:cTn id="39" dur="500" fill="hold"/>
                                        <p:tgtEl>
                                          <p:spTgt spid="92"/>
                                        </p:tgtEl>
                                        <p:attrNameLst>
                                          <p:attrName>ppt_x</p:attrName>
                                        </p:attrNameLst>
                                      </p:cBhvr>
                                      <p:tavLst>
                                        <p:tav tm="0">
                                          <p:val>
                                            <p:strVal val="#ppt_x"/>
                                          </p:val>
                                        </p:tav>
                                        <p:tav tm="100000">
                                          <p:val>
                                            <p:strVal val="#ppt_x"/>
                                          </p:val>
                                        </p:tav>
                                      </p:tavLst>
                                    </p:anim>
                                    <p:anim calcmode="lin" valueType="num">
                                      <p:cBhvr additive="repl">
                                        <p:cTn id="40" dur="500" fill="hold"/>
                                        <p:tgtEl>
                                          <p:spTgt spid="92"/>
                                        </p:tgtEl>
                                        <p:attrNameLst>
                                          <p:attrName>ppt_y</p:attrName>
                                        </p:attrNameLst>
                                      </p:cBhvr>
                                      <p:tavLst>
                                        <p:tav tm="0">
                                          <p:val>
                                            <p:strVal val="0-#ppt_h/2"/>
                                          </p:val>
                                        </p:tav>
                                        <p:tav tm="100000">
                                          <p:val>
                                            <p:strVal val="#ppt_y"/>
                                          </p:val>
                                        </p:tav>
                                      </p:tavLst>
                                    </p:anim>
                                  </p:childTnLst>
                                </p:cTn>
                              </p:par>
                              <p:par>
                                <p:cTn id="41" nodeType="withEffect" fill="hold" presetClass="entr" presetID="2" presetSubtype="1">
                                  <p:stCondLst>
                                    <p:cond delay="1800"/>
                                  </p:stCondLst>
                                  <p:childTnLst>
                                    <p:set>
                                      <p:cBhvr>
                                        <p:cTn id="42" dur="1" fill="hold">
                                          <p:stCondLst>
                                            <p:cond delay="0"/>
                                          </p:stCondLst>
                                        </p:cTn>
                                        <p:tgtEl>
                                          <p:spTgt spid="93"/>
                                        </p:tgtEl>
                                        <p:attrNameLst>
                                          <p:attrName>style.visibility</p:attrName>
                                        </p:attrNameLst>
                                      </p:cBhvr>
                                      <p:to>
                                        <p:strVal val="visible"/>
                                      </p:to>
                                    </p:set>
                                    <p:anim calcmode="lin" valueType="num">
                                      <p:cBhvr additive="repl">
                                        <p:cTn id="43" dur="500" fill="hold"/>
                                        <p:tgtEl>
                                          <p:spTgt spid="93"/>
                                        </p:tgtEl>
                                        <p:attrNameLst>
                                          <p:attrName>ppt_x</p:attrName>
                                        </p:attrNameLst>
                                      </p:cBhvr>
                                      <p:tavLst>
                                        <p:tav tm="0">
                                          <p:val>
                                            <p:strVal val="#ppt_x"/>
                                          </p:val>
                                        </p:tav>
                                        <p:tav tm="100000">
                                          <p:val>
                                            <p:strVal val="#ppt_x"/>
                                          </p:val>
                                        </p:tav>
                                      </p:tavLst>
                                    </p:anim>
                                    <p:anim calcmode="lin" valueType="num">
                                      <p:cBhvr additive="repl">
                                        <p:cTn id="44" dur="500" fill="hold"/>
                                        <p:tgtEl>
                                          <p:spTgt spid="9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83"/>
                                        </p:tgtEl>
                                        <p:attrNameLst>
                                          <p:attrName>style.visibility</p:attrName>
                                        </p:attrNameLst>
                                      </p:cBhvr>
                                      <p:to>
                                        <p:strVal val="visible"/>
                                      </p:to>
                                    </p:set>
                                    <p:anim calcmode="lin" valueType="num">
                                      <p:cBhvr additive="repl">
                                        <p:cTn id="47" dur="500" fill="hold"/>
                                        <p:tgtEl>
                                          <p:spTgt spid="83"/>
                                        </p:tgtEl>
                                        <p:attrNameLst>
                                          <p:attrName>ppt_x</p:attrName>
                                        </p:attrNameLst>
                                      </p:cBhvr>
                                      <p:tavLst>
                                        <p:tav tm="0">
                                          <p:val>
                                            <p:strVal val="#ppt_x"/>
                                          </p:val>
                                        </p:tav>
                                        <p:tav tm="100000">
                                          <p:val>
                                            <p:strVal val="#ppt_x"/>
                                          </p:val>
                                        </p:tav>
                                      </p:tavLst>
                                    </p:anim>
                                    <p:anim calcmode="lin" valueType="num">
                                      <p:cBhvr additive="repl">
                                        <p:cTn id="48" dur="500" fill="hold"/>
                                        <p:tgtEl>
                                          <p:spTgt spid="83"/>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200"/>
                                  </p:stCondLst>
                                  <p:childTnLst>
                                    <p:set>
                                      <p:cBhvr>
                                        <p:cTn id="50" dur="1" fill="hold">
                                          <p:stCondLst>
                                            <p:cond delay="0"/>
                                          </p:stCondLst>
                                        </p:cTn>
                                        <p:tgtEl>
                                          <p:spTgt spid="94"/>
                                        </p:tgtEl>
                                        <p:attrNameLst>
                                          <p:attrName>style.visibility</p:attrName>
                                        </p:attrNameLst>
                                      </p:cBhvr>
                                      <p:to>
                                        <p:strVal val="visible"/>
                                      </p:to>
                                    </p:set>
                                    <p:anim calcmode="lin" valueType="num">
                                      <p:cBhvr additive="repl">
                                        <p:cTn id="51" dur="500" fill="hold"/>
                                        <p:tgtEl>
                                          <p:spTgt spid="94"/>
                                        </p:tgtEl>
                                        <p:attrNameLst>
                                          <p:attrName>ppt_x</p:attrName>
                                        </p:attrNameLst>
                                      </p:cBhvr>
                                      <p:tavLst>
                                        <p:tav tm="0">
                                          <p:val>
                                            <p:strVal val="#ppt_x"/>
                                          </p:val>
                                        </p:tav>
                                        <p:tav tm="100000">
                                          <p:val>
                                            <p:strVal val="#ppt_x"/>
                                          </p:val>
                                        </p:tav>
                                      </p:tavLst>
                                    </p:anim>
                                    <p:anim calcmode="lin" valueType="num">
                                      <p:cBhvr additive="repl">
                                        <p:cTn id="52" dur="500" fill="hold"/>
                                        <p:tgtEl>
                                          <p:spTgt spid="94"/>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400"/>
                                  </p:stCondLst>
                                  <p:childTnLst>
                                    <p:set>
                                      <p:cBhvr>
                                        <p:cTn id="54" dur="1" fill="hold">
                                          <p:stCondLst>
                                            <p:cond delay="0"/>
                                          </p:stCondLst>
                                        </p:cTn>
                                        <p:tgtEl>
                                          <p:spTgt spid="95"/>
                                        </p:tgtEl>
                                        <p:attrNameLst>
                                          <p:attrName>style.visibility</p:attrName>
                                        </p:attrNameLst>
                                      </p:cBhvr>
                                      <p:to>
                                        <p:strVal val="visible"/>
                                      </p:to>
                                    </p:set>
                                    <p:anim calcmode="lin" valueType="num">
                                      <p:cBhvr additive="repl">
                                        <p:cTn id="55" dur="500" fill="hold"/>
                                        <p:tgtEl>
                                          <p:spTgt spid="95"/>
                                        </p:tgtEl>
                                        <p:attrNameLst>
                                          <p:attrName>ppt_x</p:attrName>
                                        </p:attrNameLst>
                                      </p:cBhvr>
                                      <p:tavLst>
                                        <p:tav tm="0">
                                          <p:val>
                                            <p:strVal val="#ppt_x"/>
                                          </p:val>
                                        </p:tav>
                                        <p:tav tm="100000">
                                          <p:val>
                                            <p:strVal val="#ppt_x"/>
                                          </p:val>
                                        </p:tav>
                                      </p:tavLst>
                                    </p:anim>
                                    <p:anim calcmode="lin" valueType="num">
                                      <p:cBhvr additive="repl">
                                        <p:cTn id="56" dur="500" fill="hold"/>
                                        <p:tgtEl>
                                          <p:spTgt spid="95"/>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600"/>
                                  </p:stCondLst>
                                  <p:childTnLst>
                                    <p:set>
                                      <p:cBhvr>
                                        <p:cTn id="58" dur="1" fill="hold">
                                          <p:stCondLst>
                                            <p:cond delay="0"/>
                                          </p:stCondLst>
                                        </p:cTn>
                                        <p:tgtEl>
                                          <p:spTgt spid="96"/>
                                        </p:tgtEl>
                                        <p:attrNameLst>
                                          <p:attrName>style.visibility</p:attrName>
                                        </p:attrNameLst>
                                      </p:cBhvr>
                                      <p:to>
                                        <p:strVal val="visible"/>
                                      </p:to>
                                    </p:set>
                                    <p:anim calcmode="lin" valueType="num">
                                      <p:cBhvr additive="repl">
                                        <p:cTn id="59" dur="500" fill="hold"/>
                                        <p:tgtEl>
                                          <p:spTgt spid="96"/>
                                        </p:tgtEl>
                                        <p:attrNameLst>
                                          <p:attrName>ppt_x</p:attrName>
                                        </p:attrNameLst>
                                      </p:cBhvr>
                                      <p:tavLst>
                                        <p:tav tm="0">
                                          <p:val>
                                            <p:strVal val="#ppt_x"/>
                                          </p:val>
                                        </p:tav>
                                        <p:tav tm="100000">
                                          <p:val>
                                            <p:strVal val="#ppt_x"/>
                                          </p:val>
                                        </p:tav>
                                      </p:tavLst>
                                    </p:anim>
                                    <p:anim calcmode="lin" valueType="num">
                                      <p:cBhvr additive="repl">
                                        <p:cTn id="60" dur="500" fill="hold"/>
                                        <p:tgtEl>
                                          <p:spTgt spid="96"/>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800"/>
                                  </p:stCondLst>
                                  <p:childTnLst>
                                    <p:set>
                                      <p:cBhvr>
                                        <p:cTn id="62" dur="1" fill="hold">
                                          <p:stCondLst>
                                            <p:cond delay="0"/>
                                          </p:stCondLst>
                                        </p:cTn>
                                        <p:tgtEl>
                                          <p:spTgt spid="97"/>
                                        </p:tgtEl>
                                        <p:attrNameLst>
                                          <p:attrName>style.visibility</p:attrName>
                                        </p:attrNameLst>
                                      </p:cBhvr>
                                      <p:to>
                                        <p:strVal val="visible"/>
                                      </p:to>
                                    </p:set>
                                    <p:anim calcmode="lin" valueType="num">
                                      <p:cBhvr additive="repl">
                                        <p:cTn id="63" dur="500" fill="hold"/>
                                        <p:tgtEl>
                                          <p:spTgt spid="97"/>
                                        </p:tgtEl>
                                        <p:attrNameLst>
                                          <p:attrName>ppt_x</p:attrName>
                                        </p:attrNameLst>
                                      </p:cBhvr>
                                      <p:tavLst>
                                        <p:tav tm="0">
                                          <p:val>
                                            <p:strVal val="#ppt_x"/>
                                          </p:val>
                                        </p:tav>
                                        <p:tav tm="100000">
                                          <p:val>
                                            <p:strVal val="#ppt_x"/>
                                          </p:val>
                                        </p:tav>
                                      </p:tavLst>
                                    </p:anim>
                                    <p:anim calcmode="lin" valueType="num">
                                      <p:cBhvr additive="repl">
                                        <p:cTn id="64" dur="500" fill="hold"/>
                                        <p:tgtEl>
                                          <p:spTgt spid="97"/>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1000"/>
                                  </p:stCondLst>
                                  <p:childTnLst>
                                    <p:set>
                                      <p:cBhvr>
                                        <p:cTn id="66" dur="1" fill="hold">
                                          <p:stCondLst>
                                            <p:cond delay="0"/>
                                          </p:stCondLst>
                                        </p:cTn>
                                        <p:tgtEl>
                                          <p:spTgt spid="98"/>
                                        </p:tgtEl>
                                        <p:attrNameLst>
                                          <p:attrName>style.visibility</p:attrName>
                                        </p:attrNameLst>
                                      </p:cBhvr>
                                      <p:to>
                                        <p:strVal val="visible"/>
                                      </p:to>
                                    </p:set>
                                    <p:anim calcmode="lin" valueType="num">
                                      <p:cBhvr additive="repl">
                                        <p:cTn id="67" dur="500" fill="hold"/>
                                        <p:tgtEl>
                                          <p:spTgt spid="98"/>
                                        </p:tgtEl>
                                        <p:attrNameLst>
                                          <p:attrName>ppt_x</p:attrName>
                                        </p:attrNameLst>
                                      </p:cBhvr>
                                      <p:tavLst>
                                        <p:tav tm="0">
                                          <p:val>
                                            <p:strVal val="#ppt_x"/>
                                          </p:val>
                                        </p:tav>
                                        <p:tav tm="100000">
                                          <p:val>
                                            <p:strVal val="#ppt_x"/>
                                          </p:val>
                                        </p:tav>
                                      </p:tavLst>
                                    </p:anim>
                                    <p:anim calcmode="lin" valueType="num">
                                      <p:cBhvr additive="repl">
                                        <p:cTn id="68" dur="500" fill="hold"/>
                                        <p:tgtEl>
                                          <p:spTgt spid="98"/>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1200"/>
                                  </p:stCondLst>
                                  <p:childTnLst>
                                    <p:set>
                                      <p:cBhvr>
                                        <p:cTn id="70" dur="1" fill="hold">
                                          <p:stCondLst>
                                            <p:cond delay="0"/>
                                          </p:stCondLst>
                                        </p:cTn>
                                        <p:tgtEl>
                                          <p:spTgt spid="99"/>
                                        </p:tgtEl>
                                        <p:attrNameLst>
                                          <p:attrName>style.visibility</p:attrName>
                                        </p:attrNameLst>
                                      </p:cBhvr>
                                      <p:to>
                                        <p:strVal val="visible"/>
                                      </p:to>
                                    </p:set>
                                    <p:anim calcmode="lin" valueType="num">
                                      <p:cBhvr additive="repl">
                                        <p:cTn id="71" dur="500" fill="hold"/>
                                        <p:tgtEl>
                                          <p:spTgt spid="99"/>
                                        </p:tgtEl>
                                        <p:attrNameLst>
                                          <p:attrName>ppt_x</p:attrName>
                                        </p:attrNameLst>
                                      </p:cBhvr>
                                      <p:tavLst>
                                        <p:tav tm="0">
                                          <p:val>
                                            <p:strVal val="#ppt_x"/>
                                          </p:val>
                                        </p:tav>
                                        <p:tav tm="100000">
                                          <p:val>
                                            <p:strVal val="#ppt_x"/>
                                          </p:val>
                                        </p:tav>
                                      </p:tavLst>
                                    </p:anim>
                                    <p:anim calcmode="lin" valueType="num">
                                      <p:cBhvr additive="repl">
                                        <p:cTn id="72" dur="500" fill="hold"/>
                                        <p:tgtEl>
                                          <p:spTgt spid="99"/>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1400"/>
                                  </p:stCondLst>
                                  <p:childTnLst>
                                    <p:set>
                                      <p:cBhvr>
                                        <p:cTn id="74" dur="1" fill="hold">
                                          <p:stCondLst>
                                            <p:cond delay="0"/>
                                          </p:stCondLst>
                                        </p:cTn>
                                        <p:tgtEl>
                                          <p:spTgt spid="100"/>
                                        </p:tgtEl>
                                        <p:attrNameLst>
                                          <p:attrName>style.visibility</p:attrName>
                                        </p:attrNameLst>
                                      </p:cBhvr>
                                      <p:to>
                                        <p:strVal val="visible"/>
                                      </p:to>
                                    </p:set>
                                    <p:anim calcmode="lin" valueType="num">
                                      <p:cBhvr additive="repl">
                                        <p:cTn id="75" dur="500" fill="hold"/>
                                        <p:tgtEl>
                                          <p:spTgt spid="100"/>
                                        </p:tgtEl>
                                        <p:attrNameLst>
                                          <p:attrName>ppt_x</p:attrName>
                                        </p:attrNameLst>
                                      </p:cBhvr>
                                      <p:tavLst>
                                        <p:tav tm="0">
                                          <p:val>
                                            <p:strVal val="#ppt_x"/>
                                          </p:val>
                                        </p:tav>
                                        <p:tav tm="100000">
                                          <p:val>
                                            <p:strVal val="#ppt_x"/>
                                          </p:val>
                                        </p:tav>
                                      </p:tavLst>
                                    </p:anim>
                                    <p:anim calcmode="lin" valueType="num">
                                      <p:cBhvr additive="repl">
                                        <p:cTn id="76" dur="500" fill="hold"/>
                                        <p:tgtEl>
                                          <p:spTgt spid="100"/>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1600"/>
                                  </p:stCondLst>
                                  <p:childTnLst>
                                    <p:set>
                                      <p:cBhvr>
                                        <p:cTn id="78" dur="1" fill="hold">
                                          <p:stCondLst>
                                            <p:cond delay="0"/>
                                          </p:stCondLst>
                                        </p:cTn>
                                        <p:tgtEl>
                                          <p:spTgt spid="101"/>
                                        </p:tgtEl>
                                        <p:attrNameLst>
                                          <p:attrName>style.visibility</p:attrName>
                                        </p:attrNameLst>
                                      </p:cBhvr>
                                      <p:to>
                                        <p:strVal val="visible"/>
                                      </p:to>
                                    </p:set>
                                    <p:anim calcmode="lin" valueType="num">
                                      <p:cBhvr additive="repl">
                                        <p:cTn id="79" dur="500" fill="hold"/>
                                        <p:tgtEl>
                                          <p:spTgt spid="101"/>
                                        </p:tgtEl>
                                        <p:attrNameLst>
                                          <p:attrName>ppt_x</p:attrName>
                                        </p:attrNameLst>
                                      </p:cBhvr>
                                      <p:tavLst>
                                        <p:tav tm="0">
                                          <p:val>
                                            <p:strVal val="#ppt_x"/>
                                          </p:val>
                                        </p:tav>
                                        <p:tav tm="100000">
                                          <p:val>
                                            <p:strVal val="#ppt_x"/>
                                          </p:val>
                                        </p:tav>
                                      </p:tavLst>
                                    </p:anim>
                                    <p:anim calcmode="lin" valueType="num">
                                      <p:cBhvr additive="repl">
                                        <p:cTn id="80" dur="500" fill="hold"/>
                                        <p:tgtEl>
                                          <p:spTgt spid="101"/>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1800"/>
                                  </p:stCondLst>
                                  <p:childTnLst>
                                    <p:set>
                                      <p:cBhvr>
                                        <p:cTn id="82" dur="1" fill="hold">
                                          <p:stCondLst>
                                            <p:cond delay="0"/>
                                          </p:stCondLst>
                                        </p:cTn>
                                        <p:tgtEl>
                                          <p:spTgt spid="102"/>
                                        </p:tgtEl>
                                        <p:attrNameLst>
                                          <p:attrName>style.visibility</p:attrName>
                                        </p:attrNameLst>
                                      </p:cBhvr>
                                      <p:to>
                                        <p:strVal val="visible"/>
                                      </p:to>
                                    </p:set>
                                    <p:anim calcmode="lin" valueType="num">
                                      <p:cBhvr additive="repl">
                                        <p:cTn id="83" dur="500" fill="hold"/>
                                        <p:tgtEl>
                                          <p:spTgt spid="102"/>
                                        </p:tgtEl>
                                        <p:attrNameLst>
                                          <p:attrName>ppt_x</p:attrName>
                                        </p:attrNameLst>
                                      </p:cBhvr>
                                      <p:tavLst>
                                        <p:tav tm="0">
                                          <p:val>
                                            <p:strVal val="#ppt_x"/>
                                          </p:val>
                                        </p:tav>
                                        <p:tav tm="100000">
                                          <p:val>
                                            <p:strVal val="#ppt_x"/>
                                          </p:val>
                                        </p:tav>
                                      </p:tavLst>
                                    </p:anim>
                                    <p:anim calcmode="lin" valueType="num">
                                      <p:cBhvr additive="repl">
                                        <p:cTn id="84"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矩形 2"/>
          <p:cNvSpPr/>
          <p:nvPr/>
        </p:nvSpPr>
        <p:spPr>
          <a:xfrm>
            <a:off x="0" y="3465000"/>
            <a:ext cx="12191760" cy="3544560"/>
          </a:xfrm>
          <a:prstGeom prst="rect">
            <a:avLst/>
          </a:prstGeom>
          <a:solidFill>
            <a:srgbClr val="f2e7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2e750"/>
              </a:solidFill>
              <a:latin typeface="Calibri"/>
            </a:endParaRPr>
          </a:p>
        </p:txBody>
      </p:sp>
      <p:sp>
        <p:nvSpPr>
          <p:cNvPr id="106" name="Rectangle 1 copy copy"/>
          <p:cNvSpPr/>
          <p:nvPr/>
        </p:nvSpPr>
        <p:spPr>
          <a:xfrm>
            <a:off x="0" y="-79920"/>
            <a:ext cx="12191760" cy="3544560"/>
          </a:xfrm>
          <a:prstGeom prst="rect">
            <a:avLst/>
          </a:prstGeom>
          <a:solidFill>
            <a:srgbClr val="f2e7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63a537"/>
              </a:solidFill>
              <a:latin typeface="Calibri"/>
            </a:endParaRPr>
          </a:p>
        </p:txBody>
      </p:sp>
      <p:grpSp>
        <p:nvGrpSpPr>
          <p:cNvPr id="107" name="组合 13"/>
          <p:cNvGrpSpPr/>
          <p:nvPr/>
        </p:nvGrpSpPr>
        <p:grpSpPr>
          <a:xfrm>
            <a:off x="0" y="2993760"/>
            <a:ext cx="1904760" cy="942480"/>
            <a:chOff x="0" y="2993760"/>
            <a:chExt cx="1904760" cy="942480"/>
          </a:xfrm>
        </p:grpSpPr>
        <p:sp>
          <p:nvSpPr>
            <p:cNvPr id="108" name="KSO_Shape"/>
            <p:cNvSpPr/>
            <p:nvPr/>
          </p:nvSpPr>
          <p:spPr>
            <a:xfrm>
              <a:off x="0" y="2993760"/>
              <a:ext cx="1904760" cy="942480"/>
            </a:xfrm>
            <a:prstGeom prst="homePlate">
              <a:avLst>
                <a:gd name="adj" fmla="val 86876"/>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9" name="任意多边形 12"/>
            <p:cNvSpPr/>
            <p:nvPr/>
          </p:nvSpPr>
          <p:spPr>
            <a:xfrm>
              <a:off x="0" y="2993760"/>
              <a:ext cx="1904760" cy="471240"/>
            </a:xfrm>
            <a:custGeom>
              <a:avLst/>
              <a:gdLst>
                <a:gd name="textAreaLeft" fmla="*/ 0 w 1904760"/>
                <a:gd name="textAreaRight" fmla="*/ 1905120 w 1904760"/>
                <a:gd name="textAreaTop" fmla="*/ 0 h 471240"/>
                <a:gd name="textAreaBottom" fmla="*/ 471600 h 471240"/>
              </a:gdLst>
              <a:ahLst/>
              <a:rect l="textAreaLeft" t="textAreaTop" r="textAreaRight" b="textAreaBottom"/>
              <a:pathLst>
                <a:path w="1905000" h="471488">
                  <a:moveTo>
                    <a:pt x="0" y="0"/>
                  </a:moveTo>
                  <a:lnTo>
                    <a:pt x="1085781" y="0"/>
                  </a:lnTo>
                  <a:lnTo>
                    <a:pt x="1905000" y="471488"/>
                  </a:lnTo>
                  <a:lnTo>
                    <a:pt x="0" y="471488"/>
                  </a:lnTo>
                  <a:close/>
                </a:path>
              </a:pathLst>
            </a:custGeom>
            <a:solidFill>
              <a:srgbClr val="f2e7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10" name="组合 14"/>
          <p:cNvGrpSpPr/>
          <p:nvPr/>
        </p:nvGrpSpPr>
        <p:grpSpPr>
          <a:xfrm>
            <a:off x="10286640" y="2993760"/>
            <a:ext cx="1904760" cy="942480"/>
            <a:chOff x="10286640" y="2993760"/>
            <a:chExt cx="1904760" cy="942480"/>
          </a:xfrm>
        </p:grpSpPr>
        <p:sp>
          <p:nvSpPr>
            <p:cNvPr id="111" name="KSO_Shape"/>
            <p:cNvSpPr/>
            <p:nvPr/>
          </p:nvSpPr>
          <p:spPr>
            <a:xfrm flipH="1">
              <a:off x="10286280" y="2993760"/>
              <a:ext cx="1904760" cy="942480"/>
            </a:xfrm>
            <a:prstGeom prst="homePlate">
              <a:avLst>
                <a:gd name="adj" fmla="val 86876"/>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2" name="任意多边形 16"/>
            <p:cNvSpPr/>
            <p:nvPr/>
          </p:nvSpPr>
          <p:spPr>
            <a:xfrm flipH="1">
              <a:off x="10286280" y="2993760"/>
              <a:ext cx="1904760" cy="471240"/>
            </a:xfrm>
            <a:custGeom>
              <a:avLst/>
              <a:gdLst>
                <a:gd name="textAreaLeft" fmla="*/ -360 w 1904760"/>
                <a:gd name="textAreaRight" fmla="*/ 1904760 w 1904760"/>
                <a:gd name="textAreaTop" fmla="*/ 0 h 471240"/>
                <a:gd name="textAreaBottom" fmla="*/ 471600 h 471240"/>
              </a:gdLst>
              <a:ahLst/>
              <a:rect l="textAreaLeft" t="textAreaTop" r="textAreaRight" b="textAreaBottom"/>
              <a:pathLst>
                <a:path w="1905000" h="471488">
                  <a:moveTo>
                    <a:pt x="0" y="0"/>
                  </a:moveTo>
                  <a:lnTo>
                    <a:pt x="1085781" y="0"/>
                  </a:lnTo>
                  <a:lnTo>
                    <a:pt x="1905000" y="471488"/>
                  </a:lnTo>
                  <a:lnTo>
                    <a:pt x="0" y="471488"/>
                  </a:lnTo>
                  <a:close/>
                </a:path>
              </a:pathLst>
            </a:custGeom>
            <a:solidFill>
              <a:srgbClr val="f2e7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13" name="组合 20"/>
          <p:cNvGrpSpPr/>
          <p:nvPr/>
        </p:nvGrpSpPr>
        <p:grpSpPr>
          <a:xfrm>
            <a:off x="2559600" y="1541520"/>
            <a:ext cx="7392240" cy="2010600"/>
            <a:chOff x="2559600" y="1541520"/>
            <a:chExt cx="7392240" cy="2010600"/>
          </a:xfrm>
        </p:grpSpPr>
        <p:sp>
          <p:nvSpPr>
            <p:cNvPr id="114" name="文本框 17"/>
            <p:cNvSpPr/>
            <p:nvPr/>
          </p:nvSpPr>
          <p:spPr>
            <a:xfrm>
              <a:off x="2559600" y="2731320"/>
              <a:ext cx="739224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4800" spc="-1" strike="noStrike">
                  <a:solidFill>
                    <a:srgbClr val="f2e750"/>
                  </a:solidFill>
                  <a:latin typeface="隶书"/>
                  <a:ea typeface="隶书"/>
                </a:rPr>
                <a:t>学霸私藏秘术之蒙题秘术</a:t>
              </a:r>
              <a:endParaRPr b="0" lang="en-US" sz="4800" spc="-1" strike="noStrike">
                <a:solidFill>
                  <a:srgbClr val="000000"/>
                </a:solidFill>
                <a:latin typeface="Arial"/>
              </a:endParaRPr>
            </a:p>
          </p:txBody>
        </p:sp>
        <p:sp>
          <p:nvSpPr>
            <p:cNvPr id="115" name="TextBox 17 copy"/>
            <p:cNvSpPr/>
            <p:nvPr/>
          </p:nvSpPr>
          <p:spPr>
            <a:xfrm>
              <a:off x="2559600" y="1541520"/>
              <a:ext cx="7392240" cy="820800"/>
            </a:xfrm>
            <a:prstGeom prst="rect">
              <a:avLst/>
            </a:prstGeom>
            <a:noFill/>
            <a:ln w="0">
              <a:noFill/>
            </a:ln>
            <a:effectLst>
              <a:reflection algn="bl" dir="5400000" dist="1016000" endPos="73000" rotWithShape="0" stA="75000" sy="-100000"/>
            </a:effectLst>
          </p:spPr>
          <p:style>
            <a:lnRef idx="0"/>
            <a:fillRef idx="0"/>
            <a:effectRef idx="0"/>
            <a:fontRef idx="minor"/>
          </p:style>
          <p:txBody>
            <a:bodyPr lIns="90000" rIns="90000" tIns="45000" bIns="45000" anchor="t">
              <a:spAutoFit/>
            </a:bodyPr>
            <a:p>
              <a:pPr>
                <a:lnSpc>
                  <a:spcPct val="100000"/>
                </a:lnSpc>
              </a:pPr>
              <a:r>
                <a:rPr b="0" lang="zh-CN" sz="4800" spc="-1" strike="noStrike">
                  <a:solidFill>
                    <a:srgbClr val="63a537"/>
                  </a:solidFill>
                  <a:latin typeface="隶书"/>
                  <a:ea typeface="隶书"/>
                </a:rPr>
                <a:t>学霸私藏秘术之蒙题秘术</a:t>
              </a:r>
              <a:endParaRPr b="0" lang="en-US" sz="4800" spc="-1" strike="noStrike">
                <a:solidFill>
                  <a:srgbClr val="000000"/>
                </a:solidFill>
                <a:latin typeface="Arial"/>
              </a:endParaRPr>
            </a:p>
          </p:txBody>
        </p:sp>
      </p:grpSp>
      <p:sp>
        <p:nvSpPr>
          <p:cNvPr id="116" name="文本框 1"/>
          <p:cNvSpPr/>
          <p:nvPr/>
        </p:nvSpPr>
        <p:spPr>
          <a:xfrm>
            <a:off x="10148040" y="6396480"/>
            <a:ext cx="21823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dobe 宋体 Std L"/>
                <a:ea typeface="Adobe 宋体 Std L"/>
              </a:rPr>
              <a:t>—</a:t>
            </a:r>
            <a:r>
              <a:rPr b="0" lang="en-US" sz="2400" spc="-1" strike="noStrike">
                <a:solidFill>
                  <a:srgbClr val="000000"/>
                </a:solidFill>
                <a:latin typeface="Adobe 宋体 Std L"/>
                <a:ea typeface="Adobe 宋体 Std L"/>
              </a:rPr>
              <a:t>PPT</a:t>
            </a:r>
            <a:r>
              <a:rPr b="0" lang="zh-CN" sz="2400" spc="-1" strike="noStrike">
                <a:solidFill>
                  <a:srgbClr val="000000"/>
                </a:solidFill>
                <a:latin typeface="Adobe 宋体 Std L"/>
                <a:ea typeface="Adobe 宋体 Std L"/>
              </a:rPr>
              <a:t>玩乐会</a:t>
            </a:r>
            <a:endParaRPr b="0" lang="en-US" sz="2400" spc="-1" strike="noStrike">
              <a:solidFill>
                <a:srgbClr val="000000"/>
              </a:solidFill>
              <a:latin typeface="Arial"/>
            </a:endParaRPr>
          </a:p>
        </p:txBody>
      </p:sp>
      <p:pic>
        <p:nvPicPr>
          <p:cNvPr id="117" name="图片 18" descr=""/>
          <p:cNvPicPr/>
          <p:nvPr/>
        </p:nvPicPr>
        <p:blipFill>
          <a:blip r:embed="rId1"/>
          <a:stretch/>
        </p:blipFill>
        <p:spPr>
          <a:xfrm>
            <a:off x="295560" y="6021360"/>
            <a:ext cx="887760" cy="887760"/>
          </a:xfrm>
          <a:prstGeom prst="rect">
            <a:avLst/>
          </a:prstGeom>
          <a:ln w="0">
            <a:noFill/>
          </a:ln>
        </p:spPr>
      </p:pic>
      <p:grpSp>
        <p:nvGrpSpPr>
          <p:cNvPr id="118" name="组合 21"/>
          <p:cNvGrpSpPr/>
          <p:nvPr/>
        </p:nvGrpSpPr>
        <p:grpSpPr>
          <a:xfrm>
            <a:off x="1393560" y="5819760"/>
            <a:ext cx="1165320" cy="968040"/>
            <a:chOff x="1393560" y="5819760"/>
            <a:chExt cx="1165320" cy="968040"/>
          </a:xfrm>
        </p:grpSpPr>
        <p:sp>
          <p:nvSpPr>
            <p:cNvPr id="119" name="任意多边形 22"/>
            <p:cNvSpPr/>
            <p:nvPr/>
          </p:nvSpPr>
          <p:spPr>
            <a:xfrm>
              <a:off x="1393560" y="5819760"/>
              <a:ext cx="1165320" cy="968040"/>
            </a:xfrm>
            <a:custGeom>
              <a:avLst/>
              <a:gdLst>
                <a:gd name="textAreaLeft" fmla="*/ 0 w 1165320"/>
                <a:gd name="textAreaRight" fmla="*/ 1165680 w 1165320"/>
                <a:gd name="textAreaTop" fmla="*/ 0 h 968040"/>
                <a:gd name="textAreaBottom" fmla="*/ 968400 h 968040"/>
              </a:gdLst>
              <a:ahLst/>
              <a:rect l="textAreaLeft" t="textAreaTop" r="textAreaRight" b="textAreaBottom"/>
              <a:pathLst>
                <a:path w="6160444" h="5118100">
                  <a:moveTo>
                    <a:pt x="1568308" y="4996908"/>
                  </a:moveTo>
                  <a:lnTo>
                    <a:pt x="1582645" y="5000876"/>
                  </a:lnTo>
                  <a:lnTo>
                    <a:pt x="1576177" y="5118100"/>
                  </a:lnTo>
                  <a:close/>
                  <a:moveTo>
                    <a:pt x="3063173" y="4265084"/>
                  </a:moveTo>
                  <a:cubicBezTo>
                    <a:pt x="3063173" y="4265084"/>
                    <a:pt x="3087198" y="5082057"/>
                    <a:pt x="2090166" y="5052021"/>
                  </a:cubicBezTo>
                  <a:cubicBezTo>
                    <a:pt x="2090166" y="5052021"/>
                    <a:pt x="1886048" y="5070794"/>
                    <a:pt x="1631781" y="5014477"/>
                  </a:cubicBezTo>
                  <a:lnTo>
                    <a:pt x="1582645" y="5000876"/>
                  </a:lnTo>
                  <a:lnTo>
                    <a:pt x="1601635" y="4656688"/>
                  </a:lnTo>
                  <a:lnTo>
                    <a:pt x="1646822" y="4691762"/>
                  </a:lnTo>
                  <a:cubicBezTo>
                    <a:pt x="1741928" y="4761572"/>
                    <a:pt x="1851043" y="4829944"/>
                    <a:pt x="1976047" y="4895835"/>
                  </a:cubicBezTo>
                  <a:cubicBezTo>
                    <a:pt x="1976047" y="4895835"/>
                    <a:pt x="2907012" y="5118100"/>
                    <a:pt x="3063173" y="4265084"/>
                  </a:cubicBezTo>
                  <a:close/>
                  <a:moveTo>
                    <a:pt x="806378" y="4097021"/>
                  </a:moveTo>
                  <a:lnTo>
                    <a:pt x="855418" y="4119598"/>
                  </a:lnTo>
                  <a:lnTo>
                    <a:pt x="883909" y="4139015"/>
                  </a:lnTo>
                  <a:lnTo>
                    <a:pt x="807815" y="4244532"/>
                  </a:lnTo>
                  <a:cubicBezTo>
                    <a:pt x="807659" y="4205864"/>
                    <a:pt x="807385" y="4171187"/>
                    <a:pt x="807023" y="4139505"/>
                  </a:cubicBezTo>
                  <a:close/>
                  <a:moveTo>
                    <a:pt x="1066518" y="3885797"/>
                  </a:moveTo>
                  <a:lnTo>
                    <a:pt x="1072973" y="3917380"/>
                  </a:lnTo>
                  <a:lnTo>
                    <a:pt x="1082396" y="3945529"/>
                  </a:lnTo>
                  <a:lnTo>
                    <a:pt x="1067067" y="3960858"/>
                  </a:lnTo>
                  <a:lnTo>
                    <a:pt x="1087528" y="3960858"/>
                  </a:lnTo>
                  <a:lnTo>
                    <a:pt x="1118331" y="4052874"/>
                  </a:lnTo>
                  <a:cubicBezTo>
                    <a:pt x="1174287" y="4190939"/>
                    <a:pt x="1263712" y="4335788"/>
                    <a:pt x="1401649" y="4479067"/>
                  </a:cubicBezTo>
                  <a:lnTo>
                    <a:pt x="1543144" y="4609381"/>
                  </a:lnTo>
                  <a:lnTo>
                    <a:pt x="1568308" y="4996908"/>
                  </a:lnTo>
                  <a:lnTo>
                    <a:pt x="1474434" y="4970925"/>
                  </a:lnTo>
                  <a:cubicBezTo>
                    <a:pt x="1367166" y="4934882"/>
                    <a:pt x="1256802" y="4883821"/>
                    <a:pt x="1153195" y="4811735"/>
                  </a:cubicBezTo>
                  <a:cubicBezTo>
                    <a:pt x="1153195" y="4811735"/>
                    <a:pt x="1495550" y="4841771"/>
                    <a:pt x="1201245" y="4619506"/>
                  </a:cubicBezTo>
                  <a:cubicBezTo>
                    <a:pt x="1027064" y="4607492"/>
                    <a:pt x="1027064" y="4607492"/>
                    <a:pt x="1027064" y="4607492"/>
                  </a:cubicBezTo>
                  <a:cubicBezTo>
                    <a:pt x="1027064" y="4607492"/>
                    <a:pt x="672697" y="4583463"/>
                    <a:pt x="612635" y="4283105"/>
                  </a:cubicBezTo>
                  <a:cubicBezTo>
                    <a:pt x="612635" y="4283105"/>
                    <a:pt x="918952" y="4517384"/>
                    <a:pt x="1015052" y="4307134"/>
                  </a:cubicBezTo>
                  <a:cubicBezTo>
                    <a:pt x="1015052" y="4307134"/>
                    <a:pt x="1005667" y="4234391"/>
                    <a:pt x="917979" y="4162234"/>
                  </a:cubicBezTo>
                  <a:lnTo>
                    <a:pt x="883909" y="4139015"/>
                  </a:lnTo>
                  <a:close/>
                  <a:moveTo>
                    <a:pt x="1089611" y="3853775"/>
                  </a:moveTo>
                  <a:lnTo>
                    <a:pt x="1066518" y="3885797"/>
                  </a:lnTo>
                  <a:lnTo>
                    <a:pt x="1061790" y="3862662"/>
                  </a:lnTo>
                  <a:close/>
                  <a:moveTo>
                    <a:pt x="3036670" y="3772134"/>
                  </a:moveTo>
                  <a:lnTo>
                    <a:pt x="2322787" y="3775891"/>
                  </a:lnTo>
                  <a:lnTo>
                    <a:pt x="2243884" y="3952484"/>
                  </a:lnTo>
                  <a:lnTo>
                    <a:pt x="2957767" y="3959998"/>
                  </a:lnTo>
                  <a:close/>
                  <a:moveTo>
                    <a:pt x="2059778" y="3661294"/>
                  </a:moveTo>
                  <a:lnTo>
                    <a:pt x="3117451" y="3665051"/>
                  </a:lnTo>
                  <a:lnTo>
                    <a:pt x="3260228" y="4068959"/>
                  </a:lnTo>
                  <a:lnTo>
                    <a:pt x="2202554" y="4057687"/>
                  </a:lnTo>
                  <a:close/>
                  <a:moveTo>
                    <a:pt x="381161" y="3577857"/>
                  </a:moveTo>
                  <a:lnTo>
                    <a:pt x="381208" y="3577921"/>
                  </a:lnTo>
                  <a:cubicBezTo>
                    <a:pt x="444836" y="3658736"/>
                    <a:pt x="594616" y="3813045"/>
                    <a:pt x="774803" y="3754475"/>
                  </a:cubicBezTo>
                  <a:cubicBezTo>
                    <a:pt x="774803" y="3754475"/>
                    <a:pt x="778557" y="3750063"/>
                    <a:pt x="784598" y="3742038"/>
                  </a:cubicBezTo>
                  <a:lnTo>
                    <a:pt x="798027" y="3722559"/>
                  </a:lnTo>
                  <a:lnTo>
                    <a:pt x="798657" y="3764070"/>
                  </a:lnTo>
                  <a:cubicBezTo>
                    <a:pt x="800692" y="3870839"/>
                    <a:pt x="803667" y="3945672"/>
                    <a:pt x="805702" y="4052441"/>
                  </a:cubicBezTo>
                  <a:lnTo>
                    <a:pt x="806378" y="4097021"/>
                  </a:lnTo>
                  <a:lnTo>
                    <a:pt x="770756" y="4080621"/>
                  </a:lnTo>
                  <a:cubicBezTo>
                    <a:pt x="738484" y="4068631"/>
                    <a:pt x="701977" y="4057836"/>
                    <a:pt x="660685" y="4048826"/>
                  </a:cubicBezTo>
                  <a:cubicBezTo>
                    <a:pt x="660685" y="4048826"/>
                    <a:pt x="449153" y="3966040"/>
                    <a:pt x="372128" y="3671689"/>
                  </a:cubicBezTo>
                  <a:lnTo>
                    <a:pt x="356200" y="3578211"/>
                  </a:lnTo>
                  <a:close/>
                  <a:moveTo>
                    <a:pt x="937440" y="3571979"/>
                  </a:moveTo>
                  <a:lnTo>
                    <a:pt x="1037130" y="3571979"/>
                  </a:lnTo>
                  <a:lnTo>
                    <a:pt x="1035821" y="3667387"/>
                  </a:lnTo>
                  <a:cubicBezTo>
                    <a:pt x="1037176" y="3706101"/>
                    <a:pt x="1040578" y="3746497"/>
                    <a:pt x="1046585" y="3788265"/>
                  </a:cubicBezTo>
                  <a:lnTo>
                    <a:pt x="1061790" y="3862662"/>
                  </a:lnTo>
                  <a:lnTo>
                    <a:pt x="922411" y="3907183"/>
                  </a:lnTo>
                  <a:close/>
                  <a:moveTo>
                    <a:pt x="1049645" y="3447989"/>
                  </a:moveTo>
                  <a:lnTo>
                    <a:pt x="1123426" y="3447989"/>
                  </a:lnTo>
                  <a:lnTo>
                    <a:pt x="1123426" y="3571979"/>
                  </a:lnTo>
                  <a:lnTo>
                    <a:pt x="1037130" y="3571979"/>
                  </a:lnTo>
                  <a:lnTo>
                    <a:pt x="1037341" y="3556602"/>
                  </a:lnTo>
                  <a:cubicBezTo>
                    <a:pt x="1039523" y="3521563"/>
                    <a:pt x="1043194" y="3488514"/>
                    <a:pt x="1047799" y="3457767"/>
                  </a:cubicBezTo>
                  <a:close/>
                  <a:moveTo>
                    <a:pt x="796543" y="3353308"/>
                  </a:moveTo>
                  <a:lnTo>
                    <a:pt x="823662" y="3379637"/>
                  </a:lnTo>
                  <a:cubicBezTo>
                    <a:pt x="920149" y="3492976"/>
                    <a:pt x="853869" y="3635646"/>
                    <a:pt x="808119" y="3707919"/>
                  </a:cubicBezTo>
                  <a:lnTo>
                    <a:pt x="798027" y="3722559"/>
                  </a:lnTo>
                  <a:lnTo>
                    <a:pt x="797336" y="3677007"/>
                  </a:lnTo>
                  <a:cubicBezTo>
                    <a:pt x="796974" y="3645324"/>
                    <a:pt x="796700" y="3610648"/>
                    <a:pt x="796543" y="3571979"/>
                  </a:cubicBezTo>
                  <a:lnTo>
                    <a:pt x="381161" y="3577857"/>
                  </a:lnTo>
                  <a:lnTo>
                    <a:pt x="356831" y="3544963"/>
                  </a:lnTo>
                  <a:cubicBezTo>
                    <a:pt x="351270" y="3536903"/>
                    <a:pt x="348361" y="3532210"/>
                    <a:pt x="348361" y="3532210"/>
                  </a:cubicBezTo>
                  <a:lnTo>
                    <a:pt x="356200" y="3578211"/>
                  </a:lnTo>
                  <a:lnTo>
                    <a:pt x="0" y="3583251"/>
                  </a:lnTo>
                  <a:lnTo>
                    <a:pt x="706368" y="3447989"/>
                  </a:lnTo>
                  <a:lnTo>
                    <a:pt x="796543" y="3447989"/>
                  </a:lnTo>
                  <a:close/>
                  <a:moveTo>
                    <a:pt x="1501032" y="3340907"/>
                  </a:moveTo>
                  <a:lnTo>
                    <a:pt x="1636294" y="3340907"/>
                  </a:lnTo>
                  <a:lnTo>
                    <a:pt x="1636294" y="3419810"/>
                  </a:lnTo>
                  <a:lnTo>
                    <a:pt x="1896200" y="3419810"/>
                  </a:lnTo>
                  <a:lnTo>
                    <a:pt x="1896336" y="3415193"/>
                  </a:lnTo>
                  <a:lnTo>
                    <a:pt x="3203868" y="3418950"/>
                  </a:lnTo>
                  <a:lnTo>
                    <a:pt x="3203868" y="3542940"/>
                  </a:lnTo>
                  <a:lnTo>
                    <a:pt x="1892578" y="3542940"/>
                  </a:lnTo>
                  <a:lnTo>
                    <a:pt x="1892603" y="3542092"/>
                  </a:lnTo>
                  <a:lnTo>
                    <a:pt x="1636294" y="3543800"/>
                  </a:lnTo>
                  <a:lnTo>
                    <a:pt x="1636294" y="3628338"/>
                  </a:lnTo>
                  <a:lnTo>
                    <a:pt x="1912454" y="3628338"/>
                  </a:lnTo>
                  <a:lnTo>
                    <a:pt x="1960361" y="3758903"/>
                  </a:lnTo>
                  <a:lnTo>
                    <a:pt x="1636294" y="3752329"/>
                  </a:lnTo>
                  <a:lnTo>
                    <a:pt x="1636294" y="3836868"/>
                  </a:lnTo>
                  <a:lnTo>
                    <a:pt x="1934998" y="3836868"/>
                  </a:lnTo>
                  <a:cubicBezTo>
                    <a:pt x="1935938" y="3878198"/>
                    <a:pt x="1936876" y="3919528"/>
                    <a:pt x="1937816" y="3960858"/>
                  </a:cubicBezTo>
                  <a:lnTo>
                    <a:pt x="1636294" y="3960858"/>
                  </a:lnTo>
                  <a:lnTo>
                    <a:pt x="1636294" y="4028489"/>
                  </a:lnTo>
                  <a:lnTo>
                    <a:pt x="1601635" y="4656688"/>
                  </a:lnTo>
                  <a:lnTo>
                    <a:pt x="1556316" y="4621512"/>
                  </a:lnTo>
                  <a:lnTo>
                    <a:pt x="1543144" y="4609381"/>
                  </a:lnTo>
                  <a:lnTo>
                    <a:pt x="1501032" y="3960858"/>
                  </a:lnTo>
                  <a:lnTo>
                    <a:pt x="1087528" y="3960858"/>
                  </a:lnTo>
                  <a:lnTo>
                    <a:pt x="1082396" y="3945529"/>
                  </a:lnTo>
                  <a:lnTo>
                    <a:pt x="1191057" y="3836868"/>
                  </a:lnTo>
                  <a:lnTo>
                    <a:pt x="1501032" y="3836868"/>
                  </a:lnTo>
                  <a:lnTo>
                    <a:pt x="1501032" y="3752329"/>
                  </a:lnTo>
                  <a:lnTo>
                    <a:pt x="1222055" y="3749511"/>
                  </a:lnTo>
                  <a:cubicBezTo>
                    <a:pt x="1222995" y="3709120"/>
                    <a:pt x="1223933" y="3668729"/>
                    <a:pt x="1224873" y="3628338"/>
                  </a:cubicBezTo>
                  <a:lnTo>
                    <a:pt x="1501032" y="3628338"/>
                  </a:lnTo>
                  <a:lnTo>
                    <a:pt x="1501032" y="3543800"/>
                  </a:lnTo>
                  <a:lnTo>
                    <a:pt x="1134697" y="3543800"/>
                  </a:lnTo>
                  <a:lnTo>
                    <a:pt x="1196692" y="3419810"/>
                  </a:lnTo>
                  <a:lnTo>
                    <a:pt x="1501032" y="3419810"/>
                  </a:lnTo>
                  <a:close/>
                  <a:moveTo>
                    <a:pt x="937440" y="3335271"/>
                  </a:moveTo>
                  <a:lnTo>
                    <a:pt x="1073740" y="3335271"/>
                  </a:lnTo>
                  <a:lnTo>
                    <a:pt x="1063853" y="3372739"/>
                  </a:lnTo>
                  <a:lnTo>
                    <a:pt x="1049645" y="3447989"/>
                  </a:lnTo>
                  <a:lnTo>
                    <a:pt x="937440" y="3447989"/>
                  </a:lnTo>
                  <a:close/>
                  <a:moveTo>
                    <a:pt x="1089664" y="3280769"/>
                  </a:moveTo>
                  <a:lnTo>
                    <a:pt x="1078339" y="3335271"/>
                  </a:lnTo>
                  <a:lnTo>
                    <a:pt x="1073740" y="3335271"/>
                  </a:lnTo>
                  <a:lnTo>
                    <a:pt x="1082159" y="3303373"/>
                  </a:lnTo>
                  <a:close/>
                  <a:moveTo>
                    <a:pt x="4490335" y="3222444"/>
                  </a:moveTo>
                  <a:lnTo>
                    <a:pt x="4490335" y="3712770"/>
                  </a:lnTo>
                  <a:lnTo>
                    <a:pt x="4901756" y="3712770"/>
                  </a:lnTo>
                  <a:lnTo>
                    <a:pt x="4901756" y="3222444"/>
                  </a:lnTo>
                  <a:close/>
                  <a:moveTo>
                    <a:pt x="3554773" y="3222444"/>
                  </a:moveTo>
                  <a:lnTo>
                    <a:pt x="3554773" y="3278183"/>
                  </a:lnTo>
                  <a:lnTo>
                    <a:pt x="3714858" y="3319382"/>
                  </a:lnTo>
                  <a:lnTo>
                    <a:pt x="3554773" y="3318647"/>
                  </a:lnTo>
                  <a:lnTo>
                    <a:pt x="3554773" y="3712770"/>
                  </a:lnTo>
                  <a:lnTo>
                    <a:pt x="3966194" y="3712770"/>
                  </a:lnTo>
                  <a:lnTo>
                    <a:pt x="3966194" y="3222444"/>
                  </a:lnTo>
                  <a:close/>
                  <a:moveTo>
                    <a:pt x="4270533" y="3079668"/>
                  </a:moveTo>
                  <a:lnTo>
                    <a:pt x="5044819" y="3087149"/>
                  </a:lnTo>
                  <a:lnTo>
                    <a:pt x="5048290" y="3132269"/>
                  </a:lnTo>
                  <a:lnTo>
                    <a:pt x="5048290" y="3848032"/>
                  </a:lnTo>
                  <a:lnTo>
                    <a:pt x="4490335" y="3848032"/>
                  </a:lnTo>
                  <a:lnTo>
                    <a:pt x="4490335" y="3966386"/>
                  </a:lnTo>
                  <a:lnTo>
                    <a:pt x="4345679" y="4184308"/>
                  </a:lnTo>
                  <a:close/>
                  <a:moveTo>
                    <a:pt x="4240475" y="3012036"/>
                  </a:moveTo>
                  <a:lnTo>
                    <a:pt x="4112727" y="3848032"/>
                  </a:lnTo>
                  <a:lnTo>
                    <a:pt x="3554773" y="3848032"/>
                  </a:lnTo>
                  <a:lnTo>
                    <a:pt x="3554773" y="3966386"/>
                  </a:lnTo>
                  <a:lnTo>
                    <a:pt x="3402602" y="4522463"/>
                  </a:lnTo>
                  <a:lnTo>
                    <a:pt x="3402602" y="3317949"/>
                  </a:lnTo>
                  <a:lnTo>
                    <a:pt x="2076685" y="3311867"/>
                  </a:lnTo>
                  <a:lnTo>
                    <a:pt x="2076685" y="3187877"/>
                  </a:lnTo>
                  <a:lnTo>
                    <a:pt x="3203868" y="3187877"/>
                  </a:lnTo>
                  <a:lnTo>
                    <a:pt x="3402602" y="3239022"/>
                  </a:lnTo>
                  <a:lnTo>
                    <a:pt x="3402602" y="3087182"/>
                  </a:lnTo>
                  <a:close/>
                  <a:moveTo>
                    <a:pt x="2025962" y="2962440"/>
                  </a:moveTo>
                  <a:lnTo>
                    <a:pt x="2578282" y="2962440"/>
                  </a:lnTo>
                  <a:lnTo>
                    <a:pt x="2736088" y="2962440"/>
                  </a:lnTo>
                  <a:lnTo>
                    <a:pt x="3260228" y="2962440"/>
                  </a:lnTo>
                  <a:lnTo>
                    <a:pt x="3260228" y="3080795"/>
                  </a:lnTo>
                  <a:lnTo>
                    <a:pt x="2025962" y="3080795"/>
                  </a:lnTo>
                  <a:close/>
                  <a:moveTo>
                    <a:pt x="1315410" y="2897196"/>
                  </a:moveTo>
                  <a:lnTo>
                    <a:pt x="1870185" y="2907880"/>
                  </a:lnTo>
                  <a:lnTo>
                    <a:pt x="1934998" y="3138014"/>
                  </a:lnTo>
                  <a:lnTo>
                    <a:pt x="1737250" y="3201575"/>
                  </a:lnTo>
                  <a:lnTo>
                    <a:pt x="1957542" y="3278911"/>
                  </a:lnTo>
                  <a:lnTo>
                    <a:pt x="1844823" y="3346542"/>
                  </a:lnTo>
                  <a:lnTo>
                    <a:pt x="1577840" y="3252814"/>
                  </a:lnTo>
                  <a:lnTo>
                    <a:pt x="1303775" y="3340907"/>
                  </a:lnTo>
                  <a:lnTo>
                    <a:pt x="1185421" y="3278911"/>
                  </a:lnTo>
                  <a:lnTo>
                    <a:pt x="1423760" y="3198722"/>
                  </a:lnTo>
                  <a:lnTo>
                    <a:pt x="1315047" y="3160558"/>
                  </a:lnTo>
                  <a:lnTo>
                    <a:pt x="1427766" y="3092927"/>
                  </a:lnTo>
                  <a:lnTo>
                    <a:pt x="1579687" y="3146261"/>
                  </a:lnTo>
                  <a:lnTo>
                    <a:pt x="1788464" y="3076018"/>
                  </a:lnTo>
                  <a:lnTo>
                    <a:pt x="1788464" y="3014024"/>
                  </a:lnTo>
                  <a:lnTo>
                    <a:pt x="1354498" y="3014024"/>
                  </a:lnTo>
                  <a:lnTo>
                    <a:pt x="1337591" y="3143649"/>
                  </a:lnTo>
                  <a:lnTo>
                    <a:pt x="1213601" y="3109834"/>
                  </a:lnTo>
                  <a:lnTo>
                    <a:pt x="1221804" y="3031909"/>
                  </a:lnTo>
                  <a:lnTo>
                    <a:pt x="1274680" y="2951476"/>
                  </a:lnTo>
                  <a:close/>
                  <a:moveTo>
                    <a:pt x="790907" y="2844946"/>
                  </a:moveTo>
                  <a:lnTo>
                    <a:pt x="890379" y="2894682"/>
                  </a:lnTo>
                  <a:lnTo>
                    <a:pt x="875700" y="2901963"/>
                  </a:lnTo>
                  <a:cubicBezTo>
                    <a:pt x="850655" y="2911572"/>
                    <a:pt x="827029" y="2915115"/>
                    <a:pt x="804928" y="2914130"/>
                  </a:cubicBezTo>
                  <a:lnTo>
                    <a:pt x="775804" y="2907037"/>
                  </a:lnTo>
                  <a:close/>
                  <a:moveTo>
                    <a:pt x="5522083" y="2467607"/>
                  </a:moveTo>
                  <a:lnTo>
                    <a:pt x="5459712" y="3087182"/>
                  </a:lnTo>
                  <a:lnTo>
                    <a:pt x="5747143" y="3087182"/>
                  </a:lnTo>
                  <a:lnTo>
                    <a:pt x="6160444" y="3213427"/>
                  </a:lnTo>
                  <a:lnTo>
                    <a:pt x="5459712" y="3222444"/>
                  </a:lnTo>
                  <a:lnTo>
                    <a:pt x="5459712" y="3684590"/>
                  </a:lnTo>
                  <a:lnTo>
                    <a:pt x="5741508" y="3684590"/>
                  </a:lnTo>
                  <a:lnTo>
                    <a:pt x="5741508" y="3814216"/>
                  </a:lnTo>
                  <a:lnTo>
                    <a:pt x="5201587" y="3886356"/>
                  </a:lnTo>
                  <a:lnTo>
                    <a:pt x="5318814" y="3222444"/>
                  </a:lnTo>
                  <a:lnTo>
                    <a:pt x="5055804" y="3229959"/>
                  </a:lnTo>
                  <a:lnTo>
                    <a:pt x="5048290" y="3132269"/>
                  </a:lnTo>
                  <a:lnTo>
                    <a:pt x="5048290" y="3087182"/>
                  </a:lnTo>
                  <a:lnTo>
                    <a:pt x="5044819" y="3087149"/>
                  </a:lnTo>
                  <a:lnTo>
                    <a:pt x="5044533" y="3083425"/>
                  </a:lnTo>
                  <a:lnTo>
                    <a:pt x="5318814" y="3087182"/>
                  </a:lnTo>
                  <a:lnTo>
                    <a:pt x="5318814" y="2901197"/>
                  </a:lnTo>
                  <a:close/>
                  <a:moveTo>
                    <a:pt x="4556773" y="1629409"/>
                  </a:moveTo>
                  <a:lnTo>
                    <a:pt x="4566665" y="1630909"/>
                  </a:lnTo>
                  <a:cubicBezTo>
                    <a:pt x="4573269" y="1632540"/>
                    <a:pt x="4576742" y="1633948"/>
                    <a:pt x="4576742" y="1633948"/>
                  </a:cubicBezTo>
                  <a:close/>
                  <a:moveTo>
                    <a:pt x="991027" y="1603912"/>
                  </a:moveTo>
                  <a:cubicBezTo>
                    <a:pt x="991027" y="1603912"/>
                    <a:pt x="582604" y="1850205"/>
                    <a:pt x="516535" y="2270706"/>
                  </a:cubicBezTo>
                  <a:cubicBezTo>
                    <a:pt x="516535" y="2276714"/>
                    <a:pt x="516535" y="2288728"/>
                    <a:pt x="516535" y="2294735"/>
                  </a:cubicBezTo>
                  <a:cubicBezTo>
                    <a:pt x="516535" y="2300742"/>
                    <a:pt x="516535" y="2312757"/>
                    <a:pt x="510529" y="2318764"/>
                  </a:cubicBezTo>
                  <a:cubicBezTo>
                    <a:pt x="504523" y="2444914"/>
                    <a:pt x="522541" y="2589086"/>
                    <a:pt x="594616" y="2739265"/>
                  </a:cubicBezTo>
                  <a:cubicBezTo>
                    <a:pt x="594616" y="2739265"/>
                    <a:pt x="648578" y="2856592"/>
                    <a:pt x="743305" y="2899123"/>
                  </a:cubicBezTo>
                  <a:lnTo>
                    <a:pt x="775804" y="2907037"/>
                  </a:lnTo>
                  <a:lnTo>
                    <a:pt x="689460" y="3262004"/>
                  </a:lnTo>
                  <a:lnTo>
                    <a:pt x="796543" y="3335271"/>
                  </a:lnTo>
                  <a:lnTo>
                    <a:pt x="796543" y="3353308"/>
                  </a:lnTo>
                  <a:lnTo>
                    <a:pt x="789650" y="3346616"/>
                  </a:lnTo>
                  <a:cubicBezTo>
                    <a:pt x="776562" y="3335968"/>
                    <a:pt x="761664" y="3325714"/>
                    <a:pt x="744772" y="3315952"/>
                  </a:cubicBezTo>
                  <a:cubicBezTo>
                    <a:pt x="744772" y="3315952"/>
                    <a:pt x="252261" y="3177788"/>
                    <a:pt x="318330" y="2841387"/>
                  </a:cubicBezTo>
                  <a:cubicBezTo>
                    <a:pt x="318330" y="2841387"/>
                    <a:pt x="336349" y="2661172"/>
                    <a:pt x="234243" y="2559050"/>
                  </a:cubicBezTo>
                  <a:cubicBezTo>
                    <a:pt x="228237" y="2559050"/>
                    <a:pt x="222230" y="2553043"/>
                    <a:pt x="216224" y="2547036"/>
                  </a:cubicBezTo>
                  <a:cubicBezTo>
                    <a:pt x="156162" y="2480957"/>
                    <a:pt x="36038" y="2456928"/>
                    <a:pt x="12013" y="2366821"/>
                  </a:cubicBezTo>
                  <a:cubicBezTo>
                    <a:pt x="6007" y="2360814"/>
                    <a:pt x="6007" y="2348800"/>
                    <a:pt x="0" y="2336785"/>
                  </a:cubicBezTo>
                  <a:cubicBezTo>
                    <a:pt x="0" y="2324771"/>
                    <a:pt x="0" y="2312757"/>
                    <a:pt x="0" y="2300742"/>
                  </a:cubicBezTo>
                  <a:cubicBezTo>
                    <a:pt x="0" y="2288728"/>
                    <a:pt x="0" y="2276714"/>
                    <a:pt x="0" y="2264699"/>
                  </a:cubicBezTo>
                  <a:cubicBezTo>
                    <a:pt x="12013" y="2216642"/>
                    <a:pt x="24025" y="2162578"/>
                    <a:pt x="42044" y="2114520"/>
                  </a:cubicBezTo>
                  <a:cubicBezTo>
                    <a:pt x="48050" y="2102506"/>
                    <a:pt x="54056" y="2096499"/>
                    <a:pt x="54056" y="2084485"/>
                  </a:cubicBezTo>
                  <a:cubicBezTo>
                    <a:pt x="132137" y="1928298"/>
                    <a:pt x="276286" y="1850205"/>
                    <a:pt x="420436" y="1772112"/>
                  </a:cubicBezTo>
                  <a:cubicBezTo>
                    <a:pt x="372386" y="1856213"/>
                    <a:pt x="294305" y="1922291"/>
                    <a:pt x="246255" y="2000384"/>
                  </a:cubicBezTo>
                  <a:cubicBezTo>
                    <a:pt x="240249" y="2012399"/>
                    <a:pt x="234243" y="2024413"/>
                    <a:pt x="228237" y="2030420"/>
                  </a:cubicBezTo>
                  <a:cubicBezTo>
                    <a:pt x="198205" y="2096499"/>
                    <a:pt x="168174" y="2180599"/>
                    <a:pt x="228237" y="2210635"/>
                  </a:cubicBezTo>
                  <a:cubicBezTo>
                    <a:pt x="324336" y="2270706"/>
                    <a:pt x="372386" y="2132542"/>
                    <a:pt x="414429" y="2066463"/>
                  </a:cubicBezTo>
                  <a:cubicBezTo>
                    <a:pt x="420436" y="2060456"/>
                    <a:pt x="426442" y="2054449"/>
                    <a:pt x="426442" y="2042434"/>
                  </a:cubicBezTo>
                  <a:cubicBezTo>
                    <a:pt x="444461" y="2006392"/>
                    <a:pt x="468486" y="1964341"/>
                    <a:pt x="498517" y="1922291"/>
                  </a:cubicBezTo>
                  <a:cubicBezTo>
                    <a:pt x="504523" y="1916284"/>
                    <a:pt x="510529" y="1910277"/>
                    <a:pt x="510529" y="1904270"/>
                  </a:cubicBezTo>
                  <a:cubicBezTo>
                    <a:pt x="582604" y="1802148"/>
                    <a:pt x="684709" y="1730062"/>
                    <a:pt x="792821" y="1675998"/>
                  </a:cubicBezTo>
                  <a:cubicBezTo>
                    <a:pt x="798828" y="1669991"/>
                    <a:pt x="810840" y="1663983"/>
                    <a:pt x="816846" y="1663983"/>
                  </a:cubicBezTo>
                  <a:cubicBezTo>
                    <a:pt x="870903" y="1639955"/>
                    <a:pt x="924958" y="1621933"/>
                    <a:pt x="991027" y="1603912"/>
                  </a:cubicBezTo>
                  <a:close/>
                  <a:moveTo>
                    <a:pt x="5297488" y="0"/>
                  </a:moveTo>
                  <a:cubicBezTo>
                    <a:pt x="5297488" y="0"/>
                    <a:pt x="5111295" y="78093"/>
                    <a:pt x="4925102" y="258308"/>
                  </a:cubicBezTo>
                  <a:cubicBezTo>
                    <a:pt x="4919096" y="264315"/>
                    <a:pt x="4913090" y="270322"/>
                    <a:pt x="4907084" y="276329"/>
                  </a:cubicBezTo>
                  <a:cubicBezTo>
                    <a:pt x="4738910" y="414494"/>
                    <a:pt x="4672841" y="612730"/>
                    <a:pt x="4600766" y="810967"/>
                  </a:cubicBezTo>
                  <a:cubicBezTo>
                    <a:pt x="4594760" y="822981"/>
                    <a:pt x="4594760" y="834995"/>
                    <a:pt x="4588754" y="847010"/>
                  </a:cubicBezTo>
                  <a:cubicBezTo>
                    <a:pt x="4558723" y="931110"/>
                    <a:pt x="4528692" y="1015210"/>
                    <a:pt x="4486648" y="1087296"/>
                  </a:cubicBezTo>
                  <a:cubicBezTo>
                    <a:pt x="4480642" y="1099310"/>
                    <a:pt x="4474636" y="1105317"/>
                    <a:pt x="4468630" y="1117332"/>
                  </a:cubicBezTo>
                  <a:cubicBezTo>
                    <a:pt x="4456617" y="1135353"/>
                    <a:pt x="4444605" y="1153375"/>
                    <a:pt x="4426586" y="1177403"/>
                  </a:cubicBezTo>
                  <a:cubicBezTo>
                    <a:pt x="4420580" y="1183411"/>
                    <a:pt x="4414574" y="1189418"/>
                    <a:pt x="4408567" y="1201432"/>
                  </a:cubicBezTo>
                  <a:cubicBezTo>
                    <a:pt x="4294449" y="1357618"/>
                    <a:pt x="4102250" y="1513804"/>
                    <a:pt x="3813951" y="1531826"/>
                  </a:cubicBezTo>
                  <a:cubicBezTo>
                    <a:pt x="3813951" y="1531826"/>
                    <a:pt x="3321441" y="1537833"/>
                    <a:pt x="3453578" y="1844198"/>
                  </a:cubicBezTo>
                  <a:cubicBezTo>
                    <a:pt x="3453578" y="1844198"/>
                    <a:pt x="3525653" y="2006392"/>
                    <a:pt x="3717852" y="1970349"/>
                  </a:cubicBezTo>
                  <a:cubicBezTo>
                    <a:pt x="3729864" y="1964341"/>
                    <a:pt x="3735870" y="1964341"/>
                    <a:pt x="3747883" y="1958334"/>
                  </a:cubicBezTo>
                  <a:cubicBezTo>
                    <a:pt x="3868007" y="1928298"/>
                    <a:pt x="3934076" y="1820170"/>
                    <a:pt x="4030175" y="1760098"/>
                  </a:cubicBezTo>
                  <a:cubicBezTo>
                    <a:pt x="4042188" y="1754091"/>
                    <a:pt x="4048194" y="1748084"/>
                    <a:pt x="4060206" y="1736069"/>
                  </a:cubicBezTo>
                  <a:cubicBezTo>
                    <a:pt x="4165316" y="1662482"/>
                    <a:pt x="4316410" y="1588894"/>
                    <a:pt x="4497394" y="1615914"/>
                  </a:cubicBezTo>
                  <a:lnTo>
                    <a:pt x="4556773" y="1629409"/>
                  </a:lnTo>
                  <a:lnTo>
                    <a:pt x="4537795" y="1626532"/>
                  </a:lnTo>
                  <a:cubicBezTo>
                    <a:pt x="4462623" y="1621182"/>
                    <a:pt x="4286941" y="1650467"/>
                    <a:pt x="4084231" y="1970349"/>
                  </a:cubicBezTo>
                  <a:cubicBezTo>
                    <a:pt x="4084231" y="1970349"/>
                    <a:pt x="3783920" y="2486964"/>
                    <a:pt x="3333453" y="2330778"/>
                  </a:cubicBezTo>
                  <a:cubicBezTo>
                    <a:pt x="3333453" y="2330778"/>
                    <a:pt x="2174235" y="1822616"/>
                    <a:pt x="1357849" y="2840636"/>
                  </a:cubicBezTo>
                  <a:lnTo>
                    <a:pt x="1315410" y="2897196"/>
                  </a:lnTo>
                  <a:lnTo>
                    <a:pt x="1236144" y="2895669"/>
                  </a:lnTo>
                  <a:lnTo>
                    <a:pt x="1221804" y="3031909"/>
                  </a:lnTo>
                  <a:lnTo>
                    <a:pt x="1194327" y="3073705"/>
                  </a:lnTo>
                  <a:cubicBezTo>
                    <a:pt x="1168052" y="3116402"/>
                    <a:pt x="1142309" y="3161080"/>
                    <a:pt x="1117158" y="3207823"/>
                  </a:cubicBezTo>
                  <a:cubicBezTo>
                    <a:pt x="1117158" y="3207823"/>
                    <a:pt x="1109744" y="3223217"/>
                    <a:pt x="1099374" y="3251528"/>
                  </a:cubicBezTo>
                  <a:lnTo>
                    <a:pt x="1089664" y="3280769"/>
                  </a:lnTo>
                  <a:lnTo>
                    <a:pt x="1108397" y="3190616"/>
                  </a:lnTo>
                  <a:lnTo>
                    <a:pt x="826931" y="3216917"/>
                  </a:lnTo>
                  <a:lnTo>
                    <a:pt x="852978" y="3115470"/>
                  </a:lnTo>
                  <a:lnTo>
                    <a:pt x="1117790" y="3115470"/>
                  </a:lnTo>
                  <a:lnTo>
                    <a:pt x="1219236" y="2982086"/>
                  </a:lnTo>
                  <a:lnTo>
                    <a:pt x="883366" y="2997115"/>
                  </a:lnTo>
                  <a:lnTo>
                    <a:pt x="929926" y="2914455"/>
                  </a:lnTo>
                  <a:lnTo>
                    <a:pt x="890379" y="2894682"/>
                  </a:lnTo>
                  <a:lnTo>
                    <a:pt x="914320" y="2882807"/>
                  </a:lnTo>
                  <a:cubicBezTo>
                    <a:pt x="927539" y="2874778"/>
                    <a:pt x="941100" y="2865040"/>
                    <a:pt x="954989" y="2853401"/>
                  </a:cubicBezTo>
                  <a:cubicBezTo>
                    <a:pt x="954989" y="2853401"/>
                    <a:pt x="1057095" y="2859408"/>
                    <a:pt x="906940" y="2583079"/>
                  </a:cubicBezTo>
                  <a:cubicBezTo>
                    <a:pt x="906940" y="2583079"/>
                    <a:pt x="750778" y="2222649"/>
                    <a:pt x="1261307" y="1784127"/>
                  </a:cubicBezTo>
                  <a:cubicBezTo>
                    <a:pt x="1261307" y="1784127"/>
                    <a:pt x="804834" y="2486964"/>
                    <a:pt x="1279326" y="2535021"/>
                  </a:cubicBezTo>
                  <a:cubicBezTo>
                    <a:pt x="1279326" y="2535021"/>
                    <a:pt x="1507562" y="2408871"/>
                    <a:pt x="1453506" y="2198621"/>
                  </a:cubicBezTo>
                  <a:cubicBezTo>
                    <a:pt x="1453506" y="2198621"/>
                    <a:pt x="1219263" y="1838191"/>
                    <a:pt x="1633693" y="1639955"/>
                  </a:cubicBezTo>
                  <a:cubicBezTo>
                    <a:pt x="1633693" y="1639955"/>
                    <a:pt x="1982054" y="1591897"/>
                    <a:pt x="2084159" y="1369633"/>
                  </a:cubicBezTo>
                  <a:cubicBezTo>
                    <a:pt x="2084159" y="1369633"/>
                    <a:pt x="2102178" y="1627940"/>
                    <a:pt x="1747811" y="1796141"/>
                  </a:cubicBezTo>
                  <a:cubicBezTo>
                    <a:pt x="1747811" y="1796141"/>
                    <a:pt x="1597655" y="1886248"/>
                    <a:pt x="1723786" y="2018406"/>
                  </a:cubicBezTo>
                  <a:cubicBezTo>
                    <a:pt x="1729792" y="2024413"/>
                    <a:pt x="1741805" y="2030420"/>
                    <a:pt x="1747811" y="2036427"/>
                  </a:cubicBezTo>
                  <a:cubicBezTo>
                    <a:pt x="1855923" y="2144556"/>
                    <a:pt x="1982054" y="2060456"/>
                    <a:pt x="2090166" y="2036427"/>
                  </a:cubicBezTo>
                  <a:cubicBezTo>
                    <a:pt x="2102178" y="2030420"/>
                    <a:pt x="2108184" y="2030420"/>
                    <a:pt x="2120197" y="2030420"/>
                  </a:cubicBezTo>
                  <a:cubicBezTo>
                    <a:pt x="2132209" y="2030420"/>
                    <a:pt x="2138215" y="2030420"/>
                    <a:pt x="2150228" y="2024413"/>
                  </a:cubicBezTo>
                  <a:cubicBezTo>
                    <a:pt x="2156234" y="2024413"/>
                    <a:pt x="2168246" y="2024413"/>
                    <a:pt x="2174253" y="2024413"/>
                  </a:cubicBezTo>
                  <a:cubicBezTo>
                    <a:pt x="2276358" y="2000384"/>
                    <a:pt x="2378464" y="1994377"/>
                    <a:pt x="2480570" y="1982363"/>
                  </a:cubicBezTo>
                  <a:cubicBezTo>
                    <a:pt x="2486576" y="1976356"/>
                    <a:pt x="2498589" y="1976356"/>
                    <a:pt x="2510601" y="1976356"/>
                  </a:cubicBezTo>
                  <a:cubicBezTo>
                    <a:pt x="2624719" y="1946320"/>
                    <a:pt x="2762862" y="1892255"/>
                    <a:pt x="2690788" y="1778119"/>
                  </a:cubicBezTo>
                  <a:cubicBezTo>
                    <a:pt x="2690788" y="1778119"/>
                    <a:pt x="2612707" y="1712041"/>
                    <a:pt x="2492582" y="1742076"/>
                  </a:cubicBezTo>
                  <a:cubicBezTo>
                    <a:pt x="2492582" y="1742076"/>
                    <a:pt x="2144221" y="1778119"/>
                    <a:pt x="2396483" y="1297547"/>
                  </a:cubicBezTo>
                  <a:cubicBezTo>
                    <a:pt x="2396483" y="1297547"/>
                    <a:pt x="2666763" y="804959"/>
                    <a:pt x="3387509" y="834995"/>
                  </a:cubicBezTo>
                  <a:cubicBezTo>
                    <a:pt x="3387509" y="834995"/>
                    <a:pt x="4312468" y="666795"/>
                    <a:pt x="4216368" y="210251"/>
                  </a:cubicBezTo>
                  <a:cubicBezTo>
                    <a:pt x="4216368" y="210251"/>
                    <a:pt x="4480642" y="648773"/>
                    <a:pt x="3249366" y="949131"/>
                  </a:cubicBezTo>
                  <a:cubicBezTo>
                    <a:pt x="3249366" y="949131"/>
                    <a:pt x="2744844" y="1033232"/>
                    <a:pt x="2750850" y="1399668"/>
                  </a:cubicBezTo>
                  <a:cubicBezTo>
                    <a:pt x="2750850" y="1399668"/>
                    <a:pt x="2925030" y="1682005"/>
                    <a:pt x="3183298" y="1351611"/>
                  </a:cubicBezTo>
                  <a:cubicBezTo>
                    <a:pt x="3183298" y="1351611"/>
                    <a:pt x="3321441" y="1003196"/>
                    <a:pt x="3753889" y="1099310"/>
                  </a:cubicBezTo>
                  <a:cubicBezTo>
                    <a:pt x="3753889" y="1099310"/>
                    <a:pt x="3345466" y="1111325"/>
                    <a:pt x="3483609" y="1393661"/>
                  </a:cubicBezTo>
                  <a:cubicBezTo>
                    <a:pt x="3483609" y="1393661"/>
                    <a:pt x="3669802" y="1429704"/>
                    <a:pt x="3874013" y="1333590"/>
                  </a:cubicBezTo>
                  <a:cubicBezTo>
                    <a:pt x="3886026" y="1333590"/>
                    <a:pt x="3892032" y="1327582"/>
                    <a:pt x="3898038" y="1327582"/>
                  </a:cubicBezTo>
                  <a:cubicBezTo>
                    <a:pt x="3994138" y="1261504"/>
                    <a:pt x="4078225" y="1177403"/>
                    <a:pt x="4138287" y="1069275"/>
                  </a:cubicBezTo>
                  <a:cubicBezTo>
                    <a:pt x="4144293" y="1063267"/>
                    <a:pt x="4144293" y="1051253"/>
                    <a:pt x="4150300" y="1045246"/>
                  </a:cubicBezTo>
                  <a:cubicBezTo>
                    <a:pt x="4180331" y="985174"/>
                    <a:pt x="4228381" y="907081"/>
                    <a:pt x="4282437" y="828988"/>
                  </a:cubicBezTo>
                  <a:cubicBezTo>
                    <a:pt x="4288443" y="816974"/>
                    <a:pt x="4294449" y="810967"/>
                    <a:pt x="4300455" y="798952"/>
                  </a:cubicBezTo>
                  <a:cubicBezTo>
                    <a:pt x="4378536" y="684816"/>
                    <a:pt x="4462623" y="588702"/>
                    <a:pt x="4558723" y="486580"/>
                  </a:cubicBezTo>
                  <a:cubicBezTo>
                    <a:pt x="4558723" y="480573"/>
                    <a:pt x="4564729" y="474566"/>
                    <a:pt x="4570735" y="474566"/>
                  </a:cubicBezTo>
                  <a:cubicBezTo>
                    <a:pt x="4756928" y="282337"/>
                    <a:pt x="4997177" y="102122"/>
                    <a:pt x="5297488" y="0"/>
                  </a:cubicBezTo>
                  <a:close/>
                </a:path>
              </a:pathLst>
            </a:custGeom>
            <a:gradFill rotWithShape="0">
              <a:gsLst>
                <a:gs pos="0">
                  <a:srgbClr val="ffc000"/>
                </a:gs>
                <a:gs pos="100000">
                  <a:srgbClr val="ff0000"/>
                </a:gs>
              </a:gsLst>
              <a:lin ang="5400000"/>
            </a:gradFill>
            <a:ln w="0">
              <a:noFill/>
            </a:ln>
            <a:effectLst>
              <a:outerShdw algn="t" blurRad="50760" dir="5400000" dist="38160" rotWithShape="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nvGrpSpPr>
            <p:cNvPr id="120" name="Group 8"/>
            <p:cNvGrpSpPr/>
            <p:nvPr/>
          </p:nvGrpSpPr>
          <p:grpSpPr>
            <a:xfrm>
              <a:off x="1845000" y="6286680"/>
              <a:ext cx="51480" cy="102600"/>
              <a:chOff x="1845000" y="6286680"/>
              <a:chExt cx="51480" cy="102600"/>
            </a:xfrm>
          </p:grpSpPr>
          <p:sp>
            <p:nvSpPr>
              <p:cNvPr id="121" name="AutoShape 7"/>
              <p:cNvSpPr/>
              <p:nvPr/>
            </p:nvSpPr>
            <p:spPr>
              <a:xfrm>
                <a:off x="1845720" y="6286680"/>
                <a:ext cx="50400" cy="10224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2" name="Freeform 9"/>
              <p:cNvSpPr/>
              <p:nvPr/>
            </p:nvSpPr>
            <p:spPr>
              <a:xfrm>
                <a:off x="1845000" y="6286680"/>
                <a:ext cx="51480" cy="102600"/>
              </a:xfrm>
              <a:custGeom>
                <a:avLst/>
                <a:gdLst>
                  <a:gd name="textAreaLeft" fmla="*/ 0 w 51480"/>
                  <a:gd name="textAreaRight" fmla="*/ 51840 w 51480"/>
                  <a:gd name="textAreaTop" fmla="*/ 0 h 102600"/>
                  <a:gd name="textAreaBottom" fmla="*/ 102960 h 102600"/>
                </a:gdLst>
                <a:ahLst/>
                <a:rect l="textAreaLeft" t="textAreaTop" r="textAreaRight" b="textAreaBottom"/>
                <a:pathLst>
                  <a:path w="123" h="247">
                    <a:moveTo>
                      <a:pt x="67" y="154"/>
                    </a:moveTo>
                    <a:cubicBezTo>
                      <a:pt x="59" y="159"/>
                      <a:pt x="50" y="165"/>
                      <a:pt x="44" y="173"/>
                    </a:cubicBezTo>
                    <a:cubicBezTo>
                      <a:pt x="48" y="166"/>
                      <a:pt x="55" y="160"/>
                      <a:pt x="62" y="154"/>
                    </a:cubicBezTo>
                    <a:cubicBezTo>
                      <a:pt x="67" y="150"/>
                      <a:pt x="76" y="145"/>
                      <a:pt x="73" y="133"/>
                    </a:cubicBezTo>
                    <a:cubicBezTo>
                      <a:pt x="67" y="139"/>
                      <a:pt x="61" y="145"/>
                      <a:pt x="54" y="150"/>
                    </a:cubicBezTo>
                    <a:cubicBezTo>
                      <a:pt x="46" y="155"/>
                      <a:pt x="43" y="164"/>
                      <a:pt x="39" y="172"/>
                    </a:cubicBezTo>
                    <a:cubicBezTo>
                      <a:pt x="41" y="163"/>
                      <a:pt x="45" y="156"/>
                      <a:pt x="51" y="150"/>
                    </a:cubicBezTo>
                    <a:cubicBezTo>
                      <a:pt x="52" y="148"/>
                      <a:pt x="54" y="147"/>
                      <a:pt x="57" y="145"/>
                    </a:cubicBezTo>
                    <a:cubicBezTo>
                      <a:pt x="60" y="143"/>
                      <a:pt x="63" y="140"/>
                      <a:pt x="65" y="138"/>
                    </a:cubicBezTo>
                    <a:cubicBezTo>
                      <a:pt x="72" y="131"/>
                      <a:pt x="81" y="121"/>
                      <a:pt x="80" y="107"/>
                    </a:cubicBezTo>
                    <a:cubicBezTo>
                      <a:pt x="80" y="104"/>
                      <a:pt x="79" y="99"/>
                      <a:pt x="76" y="99"/>
                    </a:cubicBezTo>
                    <a:cubicBezTo>
                      <a:pt x="73" y="99"/>
                      <a:pt x="68" y="103"/>
                      <a:pt x="67" y="104"/>
                    </a:cubicBezTo>
                    <a:cubicBezTo>
                      <a:pt x="59" y="110"/>
                      <a:pt x="54" y="119"/>
                      <a:pt x="50" y="128"/>
                    </a:cubicBezTo>
                    <a:cubicBezTo>
                      <a:pt x="44" y="140"/>
                      <a:pt x="39" y="154"/>
                      <a:pt x="37" y="170"/>
                    </a:cubicBezTo>
                    <a:cubicBezTo>
                      <a:pt x="37" y="166"/>
                      <a:pt x="38" y="162"/>
                      <a:pt x="38" y="157"/>
                    </a:cubicBezTo>
                    <a:cubicBezTo>
                      <a:pt x="39" y="153"/>
                      <a:pt x="40" y="149"/>
                      <a:pt x="40" y="145"/>
                    </a:cubicBezTo>
                    <a:cubicBezTo>
                      <a:pt x="41" y="140"/>
                      <a:pt x="39" y="135"/>
                      <a:pt x="36" y="132"/>
                    </a:cubicBezTo>
                    <a:cubicBezTo>
                      <a:pt x="36" y="131"/>
                      <a:pt x="34" y="130"/>
                      <a:pt x="32" y="129"/>
                    </a:cubicBezTo>
                    <a:cubicBezTo>
                      <a:pt x="29" y="129"/>
                      <a:pt x="26" y="131"/>
                      <a:pt x="25" y="133"/>
                    </a:cubicBezTo>
                    <a:cubicBezTo>
                      <a:pt x="22" y="136"/>
                      <a:pt x="21" y="144"/>
                      <a:pt x="22" y="151"/>
                    </a:cubicBezTo>
                    <a:cubicBezTo>
                      <a:pt x="23" y="157"/>
                      <a:pt x="26" y="162"/>
                      <a:pt x="28" y="165"/>
                    </a:cubicBezTo>
                    <a:cubicBezTo>
                      <a:pt x="16" y="151"/>
                      <a:pt x="6" y="130"/>
                      <a:pt x="3" y="106"/>
                    </a:cubicBezTo>
                    <a:cubicBezTo>
                      <a:pt x="0" y="84"/>
                      <a:pt x="1" y="55"/>
                      <a:pt x="10" y="41"/>
                    </a:cubicBezTo>
                    <a:cubicBezTo>
                      <a:pt x="11" y="39"/>
                      <a:pt x="13" y="36"/>
                      <a:pt x="16" y="37"/>
                    </a:cubicBezTo>
                    <a:cubicBezTo>
                      <a:pt x="18" y="42"/>
                      <a:pt x="15" y="46"/>
                      <a:pt x="13" y="50"/>
                    </a:cubicBezTo>
                    <a:cubicBezTo>
                      <a:pt x="10" y="55"/>
                      <a:pt x="8" y="61"/>
                      <a:pt x="7" y="67"/>
                    </a:cubicBezTo>
                    <a:cubicBezTo>
                      <a:pt x="5" y="77"/>
                      <a:pt x="5" y="87"/>
                      <a:pt x="8" y="95"/>
                    </a:cubicBezTo>
                    <a:cubicBezTo>
                      <a:pt x="12" y="107"/>
                      <a:pt x="19" y="116"/>
                      <a:pt x="31" y="120"/>
                    </a:cubicBezTo>
                    <a:cubicBezTo>
                      <a:pt x="36" y="121"/>
                      <a:pt x="44" y="121"/>
                      <a:pt x="46" y="125"/>
                    </a:cubicBezTo>
                    <a:cubicBezTo>
                      <a:pt x="61" y="92"/>
                      <a:pt x="76" y="58"/>
                      <a:pt x="94" y="28"/>
                    </a:cubicBezTo>
                    <a:cubicBezTo>
                      <a:pt x="99" y="21"/>
                      <a:pt x="104" y="13"/>
                      <a:pt x="110" y="7"/>
                    </a:cubicBezTo>
                    <a:cubicBezTo>
                      <a:pt x="111" y="5"/>
                      <a:pt x="114" y="2"/>
                      <a:pt x="116" y="1"/>
                    </a:cubicBezTo>
                    <a:cubicBezTo>
                      <a:pt x="118" y="0"/>
                      <a:pt x="122" y="1"/>
                      <a:pt x="123" y="2"/>
                    </a:cubicBezTo>
                    <a:cubicBezTo>
                      <a:pt x="123" y="4"/>
                      <a:pt x="121" y="7"/>
                      <a:pt x="120" y="8"/>
                    </a:cubicBezTo>
                    <a:cubicBezTo>
                      <a:pt x="116" y="13"/>
                      <a:pt x="111" y="17"/>
                      <a:pt x="106" y="21"/>
                    </a:cubicBezTo>
                    <a:cubicBezTo>
                      <a:pt x="101" y="28"/>
                      <a:pt x="96" y="35"/>
                      <a:pt x="92" y="43"/>
                    </a:cubicBezTo>
                    <a:cubicBezTo>
                      <a:pt x="89" y="50"/>
                      <a:pt x="85" y="61"/>
                      <a:pt x="88" y="72"/>
                    </a:cubicBezTo>
                    <a:cubicBezTo>
                      <a:pt x="89" y="77"/>
                      <a:pt x="91" y="81"/>
                      <a:pt x="92" y="85"/>
                    </a:cubicBezTo>
                    <a:cubicBezTo>
                      <a:pt x="95" y="95"/>
                      <a:pt x="95" y="108"/>
                      <a:pt x="92" y="116"/>
                    </a:cubicBezTo>
                    <a:cubicBezTo>
                      <a:pt x="91" y="118"/>
                      <a:pt x="90" y="119"/>
                      <a:pt x="90" y="121"/>
                    </a:cubicBezTo>
                    <a:cubicBezTo>
                      <a:pt x="89" y="124"/>
                      <a:pt x="89" y="127"/>
                      <a:pt x="88" y="129"/>
                    </a:cubicBezTo>
                    <a:cubicBezTo>
                      <a:pt x="87" y="134"/>
                      <a:pt x="85" y="138"/>
                      <a:pt x="82" y="140"/>
                    </a:cubicBezTo>
                    <a:cubicBezTo>
                      <a:pt x="81" y="147"/>
                      <a:pt x="80" y="153"/>
                      <a:pt x="76" y="157"/>
                    </a:cubicBezTo>
                    <a:cubicBezTo>
                      <a:pt x="83" y="156"/>
                      <a:pt x="90" y="157"/>
                      <a:pt x="91" y="163"/>
                    </a:cubicBezTo>
                    <a:cubicBezTo>
                      <a:pt x="95" y="165"/>
                      <a:pt x="98" y="161"/>
                      <a:pt x="101" y="159"/>
                    </a:cubicBezTo>
                    <a:cubicBezTo>
                      <a:pt x="108" y="156"/>
                      <a:pt x="117" y="157"/>
                      <a:pt x="118" y="165"/>
                    </a:cubicBezTo>
                    <a:cubicBezTo>
                      <a:pt x="119" y="168"/>
                      <a:pt x="118" y="171"/>
                      <a:pt x="117" y="172"/>
                    </a:cubicBezTo>
                    <a:cubicBezTo>
                      <a:pt x="115" y="172"/>
                      <a:pt x="114" y="170"/>
                      <a:pt x="113" y="169"/>
                    </a:cubicBezTo>
                    <a:cubicBezTo>
                      <a:pt x="112" y="168"/>
                      <a:pt x="108" y="167"/>
                      <a:pt x="106" y="167"/>
                    </a:cubicBezTo>
                    <a:cubicBezTo>
                      <a:pt x="100" y="165"/>
                      <a:pt x="93" y="165"/>
                      <a:pt x="88" y="168"/>
                    </a:cubicBezTo>
                    <a:cubicBezTo>
                      <a:pt x="90" y="171"/>
                      <a:pt x="89" y="177"/>
                      <a:pt x="86" y="179"/>
                    </a:cubicBezTo>
                    <a:cubicBezTo>
                      <a:pt x="90" y="192"/>
                      <a:pt x="81" y="202"/>
                      <a:pt x="69" y="202"/>
                    </a:cubicBezTo>
                    <a:cubicBezTo>
                      <a:pt x="66" y="202"/>
                      <a:pt x="65" y="201"/>
                      <a:pt x="63" y="200"/>
                    </a:cubicBezTo>
                    <a:cubicBezTo>
                      <a:pt x="64" y="210"/>
                      <a:pt x="66" y="216"/>
                      <a:pt x="72" y="220"/>
                    </a:cubicBezTo>
                    <a:cubicBezTo>
                      <a:pt x="74" y="222"/>
                      <a:pt x="77" y="223"/>
                      <a:pt x="80" y="224"/>
                    </a:cubicBezTo>
                    <a:cubicBezTo>
                      <a:pt x="82" y="225"/>
                      <a:pt x="85" y="227"/>
                      <a:pt x="87" y="228"/>
                    </a:cubicBezTo>
                    <a:cubicBezTo>
                      <a:pt x="92" y="231"/>
                      <a:pt x="98" y="234"/>
                      <a:pt x="101" y="237"/>
                    </a:cubicBezTo>
                    <a:cubicBezTo>
                      <a:pt x="102" y="239"/>
                      <a:pt x="105" y="244"/>
                      <a:pt x="102" y="247"/>
                    </a:cubicBezTo>
                    <a:cubicBezTo>
                      <a:pt x="95" y="247"/>
                      <a:pt x="90" y="243"/>
                      <a:pt x="86" y="240"/>
                    </a:cubicBezTo>
                    <a:cubicBezTo>
                      <a:pt x="75" y="232"/>
                      <a:pt x="66" y="221"/>
                      <a:pt x="61" y="208"/>
                    </a:cubicBezTo>
                    <a:cubicBezTo>
                      <a:pt x="59" y="205"/>
                      <a:pt x="59" y="202"/>
                      <a:pt x="58" y="199"/>
                    </a:cubicBezTo>
                    <a:cubicBezTo>
                      <a:pt x="57" y="196"/>
                      <a:pt x="54" y="193"/>
                      <a:pt x="52" y="191"/>
                    </a:cubicBezTo>
                    <a:cubicBezTo>
                      <a:pt x="50" y="188"/>
                      <a:pt x="48" y="186"/>
                      <a:pt x="46" y="184"/>
                    </a:cubicBezTo>
                    <a:cubicBezTo>
                      <a:pt x="46" y="184"/>
                      <a:pt x="45" y="184"/>
                      <a:pt x="46" y="183"/>
                    </a:cubicBezTo>
                    <a:cubicBezTo>
                      <a:pt x="48" y="185"/>
                      <a:pt x="51" y="186"/>
                      <a:pt x="54" y="189"/>
                    </a:cubicBezTo>
                    <a:cubicBezTo>
                      <a:pt x="54" y="190"/>
                      <a:pt x="55" y="191"/>
                      <a:pt x="56" y="192"/>
                    </a:cubicBezTo>
                    <a:cubicBezTo>
                      <a:pt x="58" y="195"/>
                      <a:pt x="63" y="198"/>
                      <a:pt x="68" y="197"/>
                    </a:cubicBezTo>
                    <a:cubicBezTo>
                      <a:pt x="71" y="195"/>
                      <a:pt x="74" y="191"/>
                      <a:pt x="73" y="185"/>
                    </a:cubicBezTo>
                    <a:cubicBezTo>
                      <a:pt x="68" y="188"/>
                      <a:pt x="57" y="189"/>
                      <a:pt x="53" y="184"/>
                    </a:cubicBezTo>
                    <a:cubicBezTo>
                      <a:pt x="61" y="188"/>
                      <a:pt x="73" y="187"/>
                      <a:pt x="75" y="178"/>
                    </a:cubicBezTo>
                    <a:cubicBezTo>
                      <a:pt x="75" y="177"/>
                      <a:pt x="75" y="175"/>
                      <a:pt x="75" y="174"/>
                    </a:cubicBezTo>
                    <a:cubicBezTo>
                      <a:pt x="73" y="168"/>
                      <a:pt x="64" y="170"/>
                      <a:pt x="62" y="175"/>
                    </a:cubicBezTo>
                    <a:cubicBezTo>
                      <a:pt x="55" y="173"/>
                      <a:pt x="47" y="175"/>
                      <a:pt x="45" y="179"/>
                    </a:cubicBezTo>
                    <a:cubicBezTo>
                      <a:pt x="46" y="175"/>
                      <a:pt x="50" y="172"/>
                      <a:pt x="53" y="170"/>
                    </a:cubicBezTo>
                    <a:cubicBezTo>
                      <a:pt x="59" y="166"/>
                      <a:pt x="67" y="163"/>
                      <a:pt x="67" y="154"/>
                    </a:cubicBezTo>
                    <a:close/>
                  </a:path>
                </a:pathLst>
              </a:custGeom>
              <a:solidFill>
                <a:srgbClr val="ff00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cxnSp>
        <p:nvCxnSpPr>
          <p:cNvPr id="123" name="直接连接符 26"/>
          <p:cNvCxnSpPr/>
          <p:nvPr/>
        </p:nvCxnSpPr>
        <p:spPr>
          <a:xfrm>
            <a:off x="1290600" y="6021000"/>
            <a:ext cx="360" cy="831240"/>
          </a:xfrm>
          <a:prstGeom prst="straightConnector1">
            <a:avLst/>
          </a:prstGeom>
          <a:ln w="19050">
            <a:solidFill>
              <a:srgbClr val="000000"/>
            </a:solidFill>
          </a:ln>
        </p:spPr>
      </p:cxn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7" presetSubtype="10">
                                  <p:stCondLst>
                                    <p:cond delay="0"/>
                                  </p:stCondLst>
                                  <p:childTnLst>
                                    <p:set>
                                      <p:cBhvr>
                                        <p:cTn id="90" dur="1" fill="hold">
                                          <p:stCondLst>
                                            <p:cond delay="0"/>
                                          </p:stCondLst>
                                        </p:cTn>
                                        <p:tgtEl>
                                          <p:spTgt spid="113"/>
                                        </p:tgtEl>
                                        <p:attrNameLst>
                                          <p:attrName>style.visibility</p:attrName>
                                        </p:attrNameLst>
                                      </p:cBhvr>
                                      <p:to>
                                        <p:strVal val="visible"/>
                                      </p:to>
                                    </p:set>
                                    <p:anim calcmode="lin" valueType="num">
                                      <p:cBhvr additive="repl">
                                        <p:cTn id="91" dur="500" fill="hold"/>
                                        <p:tgtEl>
                                          <p:spTgt spid="113"/>
                                        </p:tgtEl>
                                        <p:attrNameLst>
                                          <p:attrName>ppt_w</p:attrName>
                                        </p:attrNameLst>
                                      </p:cBhvr>
                                      <p:tavLst>
                                        <p:tav tm="0">
                                          <p:val>
                                            <p:fltVal val="0"/>
                                          </p:val>
                                        </p:tav>
                                        <p:tav tm="100000">
                                          <p:val>
                                            <p:strVal val="#ppt_w"/>
                                          </p:val>
                                        </p:tav>
                                      </p:tavLst>
                                    </p:anim>
                                    <p:anim calcmode="lin" valueType="num">
                                      <p:cBhvr additive="repl">
                                        <p:cTn id="92" dur="500" fill="hold"/>
                                        <p:tgtEl>
                                          <p:spTgt spid="113"/>
                                        </p:tgtEl>
                                        <p:attrNameLst>
                                          <p:attrName>ppt_h</p:attrName>
                                        </p:attrNameLst>
                                      </p:cBhvr>
                                      <p:tavLst>
                                        <p:tav tm="0">
                                          <p:val>
                                            <p:strVal val="#ppt_h"/>
                                          </p:val>
                                        </p:tav>
                                        <p:tav tm="100000">
                                          <p:val>
                                            <p:strVal val="#ppt_h"/>
                                          </p:val>
                                        </p:tav>
                                      </p:tavLst>
                                    </p:anim>
                                  </p:childTnLst>
                                </p:cTn>
                              </p:par>
                              <p:par>
                                <p:cTn id="93" nodeType="withEffect" fill="hold" presetClass="entr" presetID="2" presetSubtype="8">
                                  <p:stCondLst>
                                    <p:cond delay="0"/>
                                  </p:stCondLst>
                                  <p:childTnLst>
                                    <p:set>
                                      <p:cBhvr>
                                        <p:cTn id="94" dur="1" fill="hold">
                                          <p:stCondLst>
                                            <p:cond delay="0"/>
                                          </p:stCondLst>
                                        </p:cTn>
                                        <p:tgtEl>
                                          <p:spTgt spid="107"/>
                                        </p:tgtEl>
                                        <p:attrNameLst>
                                          <p:attrName>style.visibility</p:attrName>
                                        </p:attrNameLst>
                                      </p:cBhvr>
                                      <p:to>
                                        <p:strVal val="visible"/>
                                      </p:to>
                                    </p:set>
                                    <p:anim calcmode="lin" valueType="num">
                                      <p:cBhvr additive="repl">
                                        <p:cTn id="95" dur="500" fill="hold"/>
                                        <p:tgtEl>
                                          <p:spTgt spid="107"/>
                                        </p:tgtEl>
                                        <p:attrNameLst>
                                          <p:attrName>ppt_x</p:attrName>
                                        </p:attrNameLst>
                                      </p:cBhvr>
                                      <p:tavLst>
                                        <p:tav tm="0">
                                          <p:val>
                                            <p:strVal val="0-#ppt_w/2"/>
                                          </p:val>
                                        </p:tav>
                                        <p:tav tm="100000">
                                          <p:val>
                                            <p:strVal val="#ppt_x"/>
                                          </p:val>
                                        </p:tav>
                                      </p:tavLst>
                                    </p:anim>
                                    <p:anim calcmode="lin" valueType="num">
                                      <p:cBhvr additive="repl">
                                        <p:cTn id="96" dur="500" fill="hold"/>
                                        <p:tgtEl>
                                          <p:spTgt spid="107"/>
                                        </p:tgtEl>
                                        <p:attrNameLst>
                                          <p:attrName>ppt_y</p:attrName>
                                        </p:attrNameLst>
                                      </p:cBhvr>
                                      <p:tavLst>
                                        <p:tav tm="0">
                                          <p:val>
                                            <p:strVal val="#ppt_y"/>
                                          </p:val>
                                        </p:tav>
                                        <p:tav tm="100000">
                                          <p:val>
                                            <p:strVal val="#ppt_y"/>
                                          </p:val>
                                        </p:tav>
                                      </p:tavLst>
                                    </p:anim>
                                  </p:childTnLst>
                                </p:cTn>
                              </p:par>
                              <p:par>
                                <p:cTn id="97" nodeType="withEffect" fill="hold" presetClass="entr" presetID="2" presetSubtype="2">
                                  <p:stCondLst>
                                    <p:cond delay="0"/>
                                  </p:stCondLst>
                                  <p:childTnLst>
                                    <p:set>
                                      <p:cBhvr>
                                        <p:cTn id="98" dur="1" fill="hold">
                                          <p:stCondLst>
                                            <p:cond delay="0"/>
                                          </p:stCondLst>
                                        </p:cTn>
                                        <p:tgtEl>
                                          <p:spTgt spid="110"/>
                                        </p:tgtEl>
                                        <p:attrNameLst>
                                          <p:attrName>style.visibility</p:attrName>
                                        </p:attrNameLst>
                                      </p:cBhvr>
                                      <p:to>
                                        <p:strVal val="visible"/>
                                      </p:to>
                                    </p:set>
                                    <p:anim calcmode="lin" valueType="num">
                                      <p:cBhvr additive="repl">
                                        <p:cTn id="99" dur="500" fill="hold"/>
                                        <p:tgtEl>
                                          <p:spTgt spid="110"/>
                                        </p:tgtEl>
                                        <p:attrNameLst>
                                          <p:attrName>ppt_x</p:attrName>
                                        </p:attrNameLst>
                                      </p:cBhvr>
                                      <p:tavLst>
                                        <p:tav tm="0">
                                          <p:val>
                                            <p:strVal val="1+#ppt_w/2"/>
                                          </p:val>
                                        </p:tav>
                                        <p:tav tm="100000">
                                          <p:val>
                                            <p:strVal val="#ppt_x"/>
                                          </p:val>
                                        </p:tav>
                                      </p:tavLst>
                                    </p:anim>
                                    <p:anim calcmode="lin" valueType="num">
                                      <p:cBhvr additive="repl">
                                        <p:cTn id="100" dur="500" fill="hold"/>
                                        <p:tgtEl>
                                          <p:spTgt spid="110"/>
                                        </p:tgtEl>
                                        <p:attrNameLst>
                                          <p:attrName>ppt_y</p:attrName>
                                        </p:attrNameLst>
                                      </p:cBhvr>
                                      <p:tavLst>
                                        <p:tav tm="0">
                                          <p:val>
                                            <p:strVal val="#ppt_y"/>
                                          </p:val>
                                        </p:tav>
                                        <p:tav tm="100000">
                                          <p:val>
                                            <p:strVal val="#ppt_y"/>
                                          </p:val>
                                        </p:tav>
                                      </p:tavLst>
                                    </p:anim>
                                  </p:childTnLst>
                                </p:cTn>
                              </p:par>
                            </p:childTnLst>
                          </p:cTn>
                        </p:par>
                        <p:par>
                          <p:cTn id="101" fill="hold">
                            <p:stCondLst>
                              <p:cond delay="500"/>
                            </p:stCondLst>
                            <p:childTnLst>
                              <p:par>
                                <p:cTn id="102" nodeType="afterEffect" fill="hold" presetClass="entr" presetID="10">
                                  <p:stCondLst>
                                    <p:cond delay="0"/>
                                  </p:stCondLst>
                                  <p:childTnLst>
                                    <p:set>
                                      <p:cBhvr>
                                        <p:cTn id="103" dur="1" fill="hold">
                                          <p:stCondLst>
                                            <p:cond delay="0"/>
                                          </p:stCondLst>
                                        </p:cTn>
                                        <p:tgtEl>
                                          <p:spTgt spid="116"/>
                                        </p:tgtEl>
                                        <p:attrNameLst>
                                          <p:attrName>style.visibility</p:attrName>
                                        </p:attrNameLst>
                                      </p:cBhvr>
                                      <p:to>
                                        <p:strVal val="visible"/>
                                      </p:to>
                                    </p:set>
                                    <p:animEffect filter="fade" transition="in">
                                      <p:cBhvr additive="repl">
                                        <p:cTn id="104" dur="500"/>
                                        <p:tgtEl>
                                          <p:spTgt spid="116"/>
                                        </p:tgtEl>
                                      </p:cBhvr>
                                    </p:animEffect>
                                  </p:childTnLst>
                                </p:cTn>
                              </p:par>
                              <p:par>
                                <p:cTn id="105" nodeType="withEffect" fill="hold" presetClass="entr" presetID="22" presetSubtype="1">
                                  <p:stCondLst>
                                    <p:cond delay="0"/>
                                  </p:stCondLst>
                                  <p:childTnLst>
                                    <p:set>
                                      <p:cBhvr>
                                        <p:cTn id="106" dur="1" fill="hold">
                                          <p:stCondLst>
                                            <p:cond delay="0"/>
                                          </p:stCondLst>
                                        </p:cTn>
                                        <p:tgtEl>
                                          <p:spTgt spid="123"/>
                                        </p:tgtEl>
                                        <p:attrNameLst>
                                          <p:attrName>style.visibility</p:attrName>
                                        </p:attrNameLst>
                                      </p:cBhvr>
                                      <p:to>
                                        <p:strVal val="visible"/>
                                      </p:to>
                                    </p:set>
                                    <p:animEffect filter="wipe(up)" transition="in">
                                      <p:cBhvr additive="repl">
                                        <p:cTn id="107" dur="500"/>
                                        <p:tgtEl>
                                          <p:spTgt spid="123"/>
                                        </p:tgtEl>
                                      </p:cBhvr>
                                    </p:animEffect>
                                  </p:childTnLst>
                                </p:cTn>
                              </p:par>
                            </p:childTnLst>
                          </p:cTn>
                        </p:par>
                        <p:par>
                          <p:cTn id="108" fill="hold">
                            <p:stCondLst>
                              <p:cond delay="1000"/>
                            </p:stCondLst>
                            <p:childTnLst>
                              <p:par>
                                <p:cTn id="109" nodeType="afterEffect" fill="hold" presetClass="entr" presetID="17" presetSubtype="8">
                                  <p:stCondLst>
                                    <p:cond delay="0"/>
                                  </p:stCondLst>
                                  <p:childTnLst>
                                    <p:set>
                                      <p:cBhvr>
                                        <p:cTn id="110" dur="1" fill="hold">
                                          <p:stCondLst>
                                            <p:cond delay="0"/>
                                          </p:stCondLst>
                                        </p:cTn>
                                        <p:tgtEl>
                                          <p:spTgt spid="118"/>
                                        </p:tgtEl>
                                        <p:attrNameLst>
                                          <p:attrName>style.visibility</p:attrName>
                                        </p:attrNameLst>
                                      </p:cBhvr>
                                      <p:to>
                                        <p:strVal val="visible"/>
                                      </p:to>
                                    </p:set>
                                    <p:anim calcmode="lin" valueType="num">
                                      <p:cBhvr additive="repl">
                                        <p:cTn id="111" dur="500" fill="hold"/>
                                        <p:tgtEl>
                                          <p:spTgt spid="118"/>
                                        </p:tgtEl>
                                        <p:attrNameLst>
                                          <p:attrName>ppt_x</p:attrName>
                                        </p:attrNameLst>
                                      </p:cBhvr>
                                      <p:tavLst>
                                        <p:tav tm="0">
                                          <p:val>
                                            <p:strVal val="#ppt_x-#ppt_w/2"/>
                                          </p:val>
                                        </p:tav>
                                        <p:tav tm="100000">
                                          <p:val>
                                            <p:strVal val="#ppt_x"/>
                                          </p:val>
                                        </p:tav>
                                      </p:tavLst>
                                    </p:anim>
                                    <p:anim calcmode="lin" valueType="num">
                                      <p:cBhvr additive="repl">
                                        <p:cTn id="112" dur="500" fill="hold"/>
                                        <p:tgtEl>
                                          <p:spTgt spid="118"/>
                                        </p:tgtEl>
                                        <p:attrNameLst>
                                          <p:attrName>ppt_y</p:attrName>
                                        </p:attrNameLst>
                                      </p:cBhvr>
                                      <p:tavLst>
                                        <p:tav tm="0">
                                          <p:val>
                                            <p:strVal val="#ppt_y"/>
                                          </p:val>
                                        </p:tav>
                                        <p:tav tm="100000">
                                          <p:val>
                                            <p:strVal val="#ppt_y"/>
                                          </p:val>
                                        </p:tav>
                                      </p:tavLst>
                                    </p:anim>
                                    <p:anim calcmode="lin" valueType="num">
                                      <p:cBhvr additive="repl">
                                        <p:cTn id="113" dur="500" fill="hold"/>
                                        <p:tgtEl>
                                          <p:spTgt spid="118"/>
                                        </p:tgtEl>
                                        <p:attrNameLst>
                                          <p:attrName>ppt_w</p:attrName>
                                        </p:attrNameLst>
                                      </p:cBhvr>
                                      <p:tavLst>
                                        <p:tav tm="0">
                                          <p:val>
                                            <p:fltVal val="0"/>
                                          </p:val>
                                        </p:tav>
                                        <p:tav tm="100000">
                                          <p:val>
                                            <p:strVal val="#ppt_w"/>
                                          </p:val>
                                        </p:tav>
                                      </p:tavLst>
                                    </p:anim>
                                    <p:anim calcmode="lin" valueType="num">
                                      <p:cBhvr additive="repl">
                                        <p:cTn id="114" dur="500" fill="hold"/>
                                        <p:tgtEl>
                                          <p:spTgt spid="118"/>
                                        </p:tgtEl>
                                        <p:attrNameLst>
                                          <p:attrName>ppt_h</p:attrName>
                                        </p:attrNameLst>
                                      </p:cBhvr>
                                      <p:tavLst>
                                        <p:tav tm="0">
                                          <p:val>
                                            <p:strVal val="#ppt_h"/>
                                          </p:val>
                                        </p:tav>
                                        <p:tav tm="100000">
                                          <p:val>
                                            <p:strVal val="#ppt_h"/>
                                          </p:val>
                                        </p:tav>
                                      </p:tavLst>
                                    </p:anim>
                                  </p:childTnLst>
                                </p:cTn>
                              </p:par>
                              <p:par>
                                <p:cTn id="115" nodeType="withEffect" fill="hold" presetClass="entr" presetID="17" presetSubtype="2">
                                  <p:stCondLst>
                                    <p:cond delay="0"/>
                                  </p:stCondLst>
                                  <p:childTnLst>
                                    <p:set>
                                      <p:cBhvr>
                                        <p:cTn id="116" dur="1" fill="hold">
                                          <p:stCondLst>
                                            <p:cond delay="0"/>
                                          </p:stCondLst>
                                        </p:cTn>
                                        <p:tgtEl>
                                          <p:spTgt spid="117"/>
                                        </p:tgtEl>
                                        <p:attrNameLst>
                                          <p:attrName>style.visibility</p:attrName>
                                        </p:attrNameLst>
                                      </p:cBhvr>
                                      <p:to>
                                        <p:strVal val="visible"/>
                                      </p:to>
                                    </p:set>
                                    <p:anim calcmode="lin" valueType="num">
                                      <p:cBhvr additive="repl">
                                        <p:cTn id="117" dur="500" fill="hold"/>
                                        <p:tgtEl>
                                          <p:spTgt spid="117"/>
                                        </p:tgtEl>
                                        <p:attrNameLst>
                                          <p:attrName>ppt_x</p:attrName>
                                        </p:attrNameLst>
                                      </p:cBhvr>
                                      <p:tavLst>
                                        <p:tav tm="0">
                                          <p:val>
                                            <p:strVal val="#ppt_x+#ppt_w/2"/>
                                          </p:val>
                                        </p:tav>
                                        <p:tav tm="100000">
                                          <p:val>
                                            <p:strVal val="#ppt_x"/>
                                          </p:val>
                                        </p:tav>
                                      </p:tavLst>
                                    </p:anim>
                                    <p:anim calcmode="lin" valueType="num">
                                      <p:cBhvr additive="repl">
                                        <p:cTn id="118" dur="500" fill="hold"/>
                                        <p:tgtEl>
                                          <p:spTgt spid="117"/>
                                        </p:tgtEl>
                                        <p:attrNameLst>
                                          <p:attrName>ppt_y</p:attrName>
                                        </p:attrNameLst>
                                      </p:cBhvr>
                                      <p:tavLst>
                                        <p:tav tm="0">
                                          <p:val>
                                            <p:strVal val="#ppt_y"/>
                                          </p:val>
                                        </p:tav>
                                        <p:tav tm="100000">
                                          <p:val>
                                            <p:strVal val="#ppt_y"/>
                                          </p:val>
                                        </p:tav>
                                      </p:tavLst>
                                    </p:anim>
                                    <p:anim calcmode="lin" valueType="num">
                                      <p:cBhvr additive="repl">
                                        <p:cTn id="119" dur="500" fill="hold"/>
                                        <p:tgtEl>
                                          <p:spTgt spid="117"/>
                                        </p:tgtEl>
                                        <p:attrNameLst>
                                          <p:attrName>ppt_w</p:attrName>
                                        </p:attrNameLst>
                                      </p:cBhvr>
                                      <p:tavLst>
                                        <p:tav tm="0">
                                          <p:val>
                                            <p:fltVal val="0"/>
                                          </p:val>
                                        </p:tav>
                                        <p:tav tm="100000">
                                          <p:val>
                                            <p:strVal val="#ppt_w"/>
                                          </p:val>
                                        </p:tav>
                                      </p:tavLst>
                                    </p:anim>
                                    <p:anim calcmode="lin" valueType="num">
                                      <p:cBhvr additive="repl">
                                        <p:cTn id="120" dur="500" fill="hold"/>
                                        <p:tgtEl>
                                          <p:spTgt spid="11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矩形 3"/>
          <p:cNvSpPr/>
          <p:nvPr/>
        </p:nvSpPr>
        <p:spPr>
          <a:xfrm>
            <a:off x="0" y="783720"/>
            <a:ext cx="12191760" cy="6073920"/>
          </a:xfrm>
          <a:prstGeom prst="rect">
            <a:avLst/>
          </a:prstGeom>
          <a:solidFill>
            <a:srgbClr val="78a1bf"/>
          </a:solidFill>
          <a:ln>
            <a:solidFill>
              <a:srgbClr val="b3aa3b"/>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5" name="KSO_Shape"/>
          <p:cNvSpPr/>
          <p:nvPr/>
        </p:nvSpPr>
        <p:spPr>
          <a:xfrm rot="5400000">
            <a:off x="4540680" y="-4938120"/>
            <a:ext cx="3111120" cy="12191760"/>
          </a:xfrm>
          <a:prstGeom prst="homePlate">
            <a:avLst>
              <a:gd name="adj" fmla="val 60000"/>
            </a:avLst>
          </a:prstGeom>
          <a:solidFill>
            <a:srgbClr val="f2e750"/>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6" name="KSO_Shape"/>
          <p:cNvSpPr/>
          <p:nvPr/>
        </p:nvSpPr>
        <p:spPr>
          <a:xfrm>
            <a:off x="5143320" y="1401840"/>
            <a:ext cx="1904760" cy="1904760"/>
          </a:xfrm>
          <a:custGeom>
            <a:avLst/>
            <a:gdLst>
              <a:gd name="textAreaLeft" fmla="*/ 0 w 1904760"/>
              <a:gd name="textAreaRight" fmla="*/ 1905120 w 1904760"/>
              <a:gd name="textAreaTop" fmla="*/ 0 h 1904760"/>
              <a:gd name="textAreaBottom" fmla="*/ 1905120 h 1904760"/>
            </a:gdLst>
            <a:ahLst/>
            <a:rect l="textAreaLeft" t="textAreaTop" r="textAreaRight" b="textAreaBottom"/>
            <a:pathLst>
              <a:path w="1117355" h="1117355">
                <a:moveTo>
                  <a:pt x="607556" y="0"/>
                </a:moveTo>
                <a:lnTo>
                  <a:pt x="616337" y="32441"/>
                </a:lnTo>
                <a:cubicBezTo>
                  <a:pt x="623336" y="51367"/>
                  <a:pt x="631935" y="69370"/>
                  <a:pt x="641988" y="86205"/>
                </a:cubicBezTo>
                <a:cubicBezTo>
                  <a:pt x="657192" y="73824"/>
                  <a:pt x="671430" y="59848"/>
                  <a:pt x="684480" y="44457"/>
                </a:cubicBezTo>
                <a:lnTo>
                  <a:pt x="703827" y="16976"/>
                </a:lnTo>
                <a:lnTo>
                  <a:pt x="706841" y="50449"/>
                </a:lnTo>
                <a:cubicBezTo>
                  <a:pt x="710447" y="70302"/>
                  <a:pt x="715790" y="89525"/>
                  <a:pt x="722767" y="107849"/>
                </a:cubicBezTo>
                <a:cubicBezTo>
                  <a:pt x="739889" y="98297"/>
                  <a:pt x="756338" y="87005"/>
                  <a:pt x="771862" y="74114"/>
                </a:cubicBezTo>
                <a:lnTo>
                  <a:pt x="795686" y="50411"/>
                </a:lnTo>
                <a:lnTo>
                  <a:pt x="792843" y="83897"/>
                </a:lnTo>
                <a:cubicBezTo>
                  <a:pt x="792946" y="104075"/>
                  <a:pt x="794869" y="123935"/>
                  <a:pt x="798558" y="143192"/>
                </a:cubicBezTo>
                <a:cubicBezTo>
                  <a:pt x="817080" y="136758"/>
                  <a:pt x="835240" y="128494"/>
                  <a:pt x="852767" y="118495"/>
                </a:cubicBezTo>
                <a:lnTo>
                  <a:pt x="880346" y="99288"/>
                </a:lnTo>
                <a:lnTo>
                  <a:pt x="871730" y="131774"/>
                </a:lnTo>
                <a:cubicBezTo>
                  <a:pt x="868328" y="151663"/>
                  <a:pt x="866774" y="171555"/>
                  <a:pt x="867062" y="191159"/>
                </a:cubicBezTo>
                <a:cubicBezTo>
                  <a:pt x="886420" y="188040"/>
                  <a:pt x="905740" y="183055"/>
                  <a:pt x="924737" y="176251"/>
                </a:cubicBezTo>
                <a:lnTo>
                  <a:pt x="955231" y="162125"/>
                </a:lnTo>
                <a:lnTo>
                  <a:pt x="941105" y="192620"/>
                </a:lnTo>
                <a:cubicBezTo>
                  <a:pt x="934301" y="211617"/>
                  <a:pt x="929316" y="230936"/>
                  <a:pt x="926196" y="250293"/>
                </a:cubicBezTo>
                <a:cubicBezTo>
                  <a:pt x="945801" y="250582"/>
                  <a:pt x="965692" y="249027"/>
                  <a:pt x="985583" y="245626"/>
                </a:cubicBezTo>
                <a:lnTo>
                  <a:pt x="1018066" y="237010"/>
                </a:lnTo>
                <a:lnTo>
                  <a:pt x="998860" y="264588"/>
                </a:lnTo>
                <a:cubicBezTo>
                  <a:pt x="988861" y="282115"/>
                  <a:pt x="980597" y="300275"/>
                  <a:pt x="974163" y="318796"/>
                </a:cubicBezTo>
                <a:cubicBezTo>
                  <a:pt x="993421" y="322486"/>
                  <a:pt x="1013279" y="324408"/>
                  <a:pt x="1033458" y="324513"/>
                </a:cubicBezTo>
                <a:lnTo>
                  <a:pt x="1066945" y="321669"/>
                </a:lnTo>
                <a:lnTo>
                  <a:pt x="1043241" y="345493"/>
                </a:lnTo>
                <a:cubicBezTo>
                  <a:pt x="1030350" y="361018"/>
                  <a:pt x="1019057" y="377467"/>
                  <a:pt x="1009506" y="394590"/>
                </a:cubicBezTo>
                <a:cubicBezTo>
                  <a:pt x="1027829" y="401567"/>
                  <a:pt x="1047052" y="406909"/>
                  <a:pt x="1066906" y="410515"/>
                </a:cubicBezTo>
                <a:lnTo>
                  <a:pt x="1100380" y="413529"/>
                </a:lnTo>
                <a:lnTo>
                  <a:pt x="1072898" y="432875"/>
                </a:lnTo>
                <a:cubicBezTo>
                  <a:pt x="1057507" y="445926"/>
                  <a:pt x="1043531" y="460165"/>
                  <a:pt x="1031151" y="475368"/>
                </a:cubicBezTo>
                <a:cubicBezTo>
                  <a:pt x="1047984" y="485421"/>
                  <a:pt x="1065988" y="494020"/>
                  <a:pt x="1084914" y="501019"/>
                </a:cubicBezTo>
                <a:lnTo>
                  <a:pt x="1117353" y="509800"/>
                </a:lnTo>
                <a:lnTo>
                  <a:pt x="1086932" y="524080"/>
                </a:lnTo>
                <a:cubicBezTo>
                  <a:pt x="1069509" y="534259"/>
                  <a:pt x="1053271" y="545854"/>
                  <a:pt x="1038439" y="558677"/>
                </a:cubicBezTo>
                <a:cubicBezTo>
                  <a:pt x="1053272" y="571501"/>
                  <a:pt x="1069509" y="583096"/>
                  <a:pt x="1086931" y="593274"/>
                </a:cubicBezTo>
                <a:lnTo>
                  <a:pt x="1117355" y="607555"/>
                </a:lnTo>
                <a:lnTo>
                  <a:pt x="1084914" y="616336"/>
                </a:lnTo>
                <a:cubicBezTo>
                  <a:pt x="1065988" y="623335"/>
                  <a:pt x="1047984" y="631934"/>
                  <a:pt x="1031150" y="641988"/>
                </a:cubicBezTo>
                <a:cubicBezTo>
                  <a:pt x="1043531" y="657191"/>
                  <a:pt x="1057507" y="671430"/>
                  <a:pt x="1072898" y="684480"/>
                </a:cubicBezTo>
                <a:lnTo>
                  <a:pt x="1100380" y="703827"/>
                </a:lnTo>
                <a:lnTo>
                  <a:pt x="1066906" y="706840"/>
                </a:lnTo>
                <a:cubicBezTo>
                  <a:pt x="1047052" y="710447"/>
                  <a:pt x="1027829" y="715789"/>
                  <a:pt x="1009506" y="722766"/>
                </a:cubicBezTo>
                <a:cubicBezTo>
                  <a:pt x="1019057" y="739889"/>
                  <a:pt x="1030349" y="756338"/>
                  <a:pt x="1043241" y="771862"/>
                </a:cubicBezTo>
                <a:lnTo>
                  <a:pt x="1066944" y="795686"/>
                </a:lnTo>
                <a:lnTo>
                  <a:pt x="1033457" y="792842"/>
                </a:lnTo>
                <a:cubicBezTo>
                  <a:pt x="1013279" y="792946"/>
                  <a:pt x="993420" y="794869"/>
                  <a:pt x="974163" y="798558"/>
                </a:cubicBezTo>
                <a:cubicBezTo>
                  <a:pt x="980597" y="817079"/>
                  <a:pt x="988861" y="835239"/>
                  <a:pt x="998861" y="852767"/>
                </a:cubicBezTo>
                <a:lnTo>
                  <a:pt x="1018067" y="880346"/>
                </a:lnTo>
                <a:lnTo>
                  <a:pt x="985583" y="871730"/>
                </a:lnTo>
                <a:cubicBezTo>
                  <a:pt x="965693" y="868328"/>
                  <a:pt x="945802" y="866773"/>
                  <a:pt x="926197" y="867062"/>
                </a:cubicBezTo>
                <a:cubicBezTo>
                  <a:pt x="929316" y="886420"/>
                  <a:pt x="934301" y="905738"/>
                  <a:pt x="941106" y="924736"/>
                </a:cubicBezTo>
                <a:lnTo>
                  <a:pt x="955230" y="955231"/>
                </a:lnTo>
                <a:lnTo>
                  <a:pt x="924736" y="941105"/>
                </a:lnTo>
                <a:cubicBezTo>
                  <a:pt x="905739" y="934301"/>
                  <a:pt x="886420" y="929316"/>
                  <a:pt x="867062" y="926196"/>
                </a:cubicBezTo>
                <a:cubicBezTo>
                  <a:pt x="866773" y="945801"/>
                  <a:pt x="868328" y="965692"/>
                  <a:pt x="871730" y="985583"/>
                </a:cubicBezTo>
                <a:lnTo>
                  <a:pt x="881237" y="1021426"/>
                </a:lnTo>
                <a:lnTo>
                  <a:pt x="798559" y="974163"/>
                </a:lnTo>
                <a:cubicBezTo>
                  <a:pt x="794870" y="993421"/>
                  <a:pt x="792946" y="1013280"/>
                  <a:pt x="792843" y="1033459"/>
                </a:cubicBezTo>
                <a:lnTo>
                  <a:pt x="795980" y="1070407"/>
                </a:lnTo>
                <a:lnTo>
                  <a:pt x="722766" y="1009507"/>
                </a:lnTo>
                <a:cubicBezTo>
                  <a:pt x="715790" y="1027830"/>
                  <a:pt x="710446" y="1047053"/>
                  <a:pt x="706840" y="1066907"/>
                </a:cubicBezTo>
                <a:lnTo>
                  <a:pt x="703827" y="1100380"/>
                </a:lnTo>
                <a:lnTo>
                  <a:pt x="684480" y="1072899"/>
                </a:lnTo>
                <a:cubicBezTo>
                  <a:pt x="671430" y="1057508"/>
                  <a:pt x="657192" y="1043531"/>
                  <a:pt x="641988" y="1031150"/>
                </a:cubicBezTo>
                <a:cubicBezTo>
                  <a:pt x="631934" y="1047985"/>
                  <a:pt x="623336" y="1065989"/>
                  <a:pt x="616336" y="1084915"/>
                </a:cubicBezTo>
                <a:lnTo>
                  <a:pt x="607556" y="1117355"/>
                </a:lnTo>
                <a:lnTo>
                  <a:pt x="593275" y="1086932"/>
                </a:lnTo>
                <a:cubicBezTo>
                  <a:pt x="583096" y="1069509"/>
                  <a:pt x="571501" y="1053271"/>
                  <a:pt x="558678" y="1038439"/>
                </a:cubicBezTo>
                <a:cubicBezTo>
                  <a:pt x="545854" y="1053271"/>
                  <a:pt x="534259" y="1069508"/>
                  <a:pt x="524080" y="1086931"/>
                </a:cubicBezTo>
                <a:lnTo>
                  <a:pt x="509800" y="1117354"/>
                </a:lnTo>
                <a:lnTo>
                  <a:pt x="501019" y="1084915"/>
                </a:lnTo>
                <a:cubicBezTo>
                  <a:pt x="494020" y="1065988"/>
                  <a:pt x="485422" y="1047985"/>
                  <a:pt x="475369" y="1031151"/>
                </a:cubicBezTo>
                <a:cubicBezTo>
                  <a:pt x="460165" y="1043532"/>
                  <a:pt x="445926" y="1057508"/>
                  <a:pt x="432876" y="1072898"/>
                </a:cubicBezTo>
                <a:lnTo>
                  <a:pt x="413529" y="1100382"/>
                </a:lnTo>
                <a:lnTo>
                  <a:pt x="410514" y="1066908"/>
                </a:lnTo>
                <a:cubicBezTo>
                  <a:pt x="406908" y="1047053"/>
                  <a:pt x="401566" y="1027831"/>
                  <a:pt x="394589" y="1009506"/>
                </a:cubicBezTo>
                <a:cubicBezTo>
                  <a:pt x="377466" y="1019058"/>
                  <a:pt x="361017" y="1030350"/>
                  <a:pt x="345493" y="1043241"/>
                </a:cubicBezTo>
                <a:lnTo>
                  <a:pt x="321668" y="1066945"/>
                </a:lnTo>
                <a:lnTo>
                  <a:pt x="324512" y="1033458"/>
                </a:lnTo>
                <a:cubicBezTo>
                  <a:pt x="324409" y="1013280"/>
                  <a:pt x="322485" y="993421"/>
                  <a:pt x="318796" y="974164"/>
                </a:cubicBezTo>
                <a:cubicBezTo>
                  <a:pt x="300275" y="980597"/>
                  <a:pt x="282115" y="988861"/>
                  <a:pt x="264588" y="998861"/>
                </a:cubicBezTo>
                <a:lnTo>
                  <a:pt x="237009" y="1018067"/>
                </a:lnTo>
                <a:lnTo>
                  <a:pt x="245625" y="985583"/>
                </a:lnTo>
                <a:cubicBezTo>
                  <a:pt x="249026" y="965692"/>
                  <a:pt x="250582" y="945802"/>
                  <a:pt x="250293" y="926196"/>
                </a:cubicBezTo>
                <a:cubicBezTo>
                  <a:pt x="230935" y="929316"/>
                  <a:pt x="211616" y="934301"/>
                  <a:pt x="192619" y="941105"/>
                </a:cubicBezTo>
                <a:lnTo>
                  <a:pt x="162124" y="955230"/>
                </a:lnTo>
                <a:lnTo>
                  <a:pt x="176250" y="924736"/>
                </a:lnTo>
                <a:cubicBezTo>
                  <a:pt x="183053" y="905739"/>
                  <a:pt x="188039" y="886420"/>
                  <a:pt x="191158" y="867062"/>
                </a:cubicBezTo>
                <a:cubicBezTo>
                  <a:pt x="171553" y="866773"/>
                  <a:pt x="151663" y="868328"/>
                  <a:pt x="131772" y="871729"/>
                </a:cubicBezTo>
                <a:lnTo>
                  <a:pt x="99288" y="880346"/>
                </a:lnTo>
                <a:lnTo>
                  <a:pt x="118495" y="852766"/>
                </a:lnTo>
                <a:cubicBezTo>
                  <a:pt x="128494" y="835239"/>
                  <a:pt x="136758" y="817079"/>
                  <a:pt x="143192" y="798558"/>
                </a:cubicBezTo>
                <a:cubicBezTo>
                  <a:pt x="123935" y="794869"/>
                  <a:pt x="104076" y="792946"/>
                  <a:pt x="83897" y="792842"/>
                </a:cubicBezTo>
                <a:lnTo>
                  <a:pt x="50411" y="795685"/>
                </a:lnTo>
                <a:lnTo>
                  <a:pt x="74115" y="771862"/>
                </a:lnTo>
                <a:cubicBezTo>
                  <a:pt x="87006" y="756338"/>
                  <a:pt x="98298" y="739889"/>
                  <a:pt x="107850" y="722765"/>
                </a:cubicBezTo>
                <a:cubicBezTo>
                  <a:pt x="89526" y="715788"/>
                  <a:pt x="70303" y="710446"/>
                  <a:pt x="50448" y="706840"/>
                </a:cubicBezTo>
                <a:lnTo>
                  <a:pt x="16975" y="703826"/>
                </a:lnTo>
                <a:lnTo>
                  <a:pt x="44457" y="684480"/>
                </a:lnTo>
                <a:cubicBezTo>
                  <a:pt x="59848" y="671429"/>
                  <a:pt x="73825" y="657192"/>
                  <a:pt x="86205" y="641988"/>
                </a:cubicBezTo>
                <a:cubicBezTo>
                  <a:pt x="69371" y="631934"/>
                  <a:pt x="51368" y="623335"/>
                  <a:pt x="32441" y="616336"/>
                </a:cubicBezTo>
                <a:lnTo>
                  <a:pt x="0" y="607555"/>
                </a:lnTo>
                <a:lnTo>
                  <a:pt x="30424" y="593275"/>
                </a:lnTo>
                <a:cubicBezTo>
                  <a:pt x="47847" y="583095"/>
                  <a:pt x="64084" y="571500"/>
                  <a:pt x="78916" y="558677"/>
                </a:cubicBezTo>
                <a:cubicBezTo>
                  <a:pt x="64083" y="545854"/>
                  <a:pt x="47846" y="534259"/>
                  <a:pt x="30424" y="524080"/>
                </a:cubicBezTo>
                <a:lnTo>
                  <a:pt x="1" y="509800"/>
                </a:lnTo>
                <a:lnTo>
                  <a:pt x="32441" y="501019"/>
                </a:lnTo>
                <a:cubicBezTo>
                  <a:pt x="51367" y="494020"/>
                  <a:pt x="69371" y="485421"/>
                  <a:pt x="86205" y="475369"/>
                </a:cubicBezTo>
                <a:cubicBezTo>
                  <a:pt x="73825" y="460164"/>
                  <a:pt x="59848" y="445926"/>
                  <a:pt x="44457" y="432875"/>
                </a:cubicBezTo>
                <a:lnTo>
                  <a:pt x="16976" y="413530"/>
                </a:lnTo>
                <a:lnTo>
                  <a:pt x="50449" y="410515"/>
                </a:lnTo>
                <a:cubicBezTo>
                  <a:pt x="70302" y="406909"/>
                  <a:pt x="89526" y="401567"/>
                  <a:pt x="107850" y="394590"/>
                </a:cubicBezTo>
                <a:cubicBezTo>
                  <a:pt x="98298" y="377467"/>
                  <a:pt x="87005" y="361018"/>
                  <a:pt x="74114" y="345493"/>
                </a:cubicBezTo>
                <a:lnTo>
                  <a:pt x="50410" y="321668"/>
                </a:lnTo>
                <a:lnTo>
                  <a:pt x="83898" y="324512"/>
                </a:lnTo>
                <a:cubicBezTo>
                  <a:pt x="104076" y="324409"/>
                  <a:pt x="123935" y="322486"/>
                  <a:pt x="143192" y="318797"/>
                </a:cubicBezTo>
                <a:cubicBezTo>
                  <a:pt x="136758" y="300275"/>
                  <a:pt x="128494" y="282115"/>
                  <a:pt x="118495" y="264588"/>
                </a:cubicBezTo>
                <a:lnTo>
                  <a:pt x="99289" y="237010"/>
                </a:lnTo>
                <a:lnTo>
                  <a:pt x="131773" y="245625"/>
                </a:lnTo>
                <a:cubicBezTo>
                  <a:pt x="151663" y="249028"/>
                  <a:pt x="171554" y="250582"/>
                  <a:pt x="191158" y="250293"/>
                </a:cubicBezTo>
                <a:cubicBezTo>
                  <a:pt x="188040" y="230936"/>
                  <a:pt x="183054" y="211617"/>
                  <a:pt x="176250" y="192620"/>
                </a:cubicBezTo>
                <a:lnTo>
                  <a:pt x="162125" y="162124"/>
                </a:lnTo>
                <a:lnTo>
                  <a:pt x="192619" y="176251"/>
                </a:lnTo>
                <a:cubicBezTo>
                  <a:pt x="211616" y="183054"/>
                  <a:pt x="230935" y="188040"/>
                  <a:pt x="250292" y="191159"/>
                </a:cubicBezTo>
                <a:cubicBezTo>
                  <a:pt x="250581" y="171554"/>
                  <a:pt x="249027" y="151663"/>
                  <a:pt x="245625" y="131774"/>
                </a:cubicBezTo>
                <a:lnTo>
                  <a:pt x="237009" y="99287"/>
                </a:lnTo>
                <a:lnTo>
                  <a:pt x="264588" y="118495"/>
                </a:lnTo>
                <a:cubicBezTo>
                  <a:pt x="282116" y="128494"/>
                  <a:pt x="300275" y="136758"/>
                  <a:pt x="318796" y="143192"/>
                </a:cubicBezTo>
                <a:cubicBezTo>
                  <a:pt x="322486" y="123935"/>
                  <a:pt x="324409" y="104076"/>
                  <a:pt x="324513" y="83897"/>
                </a:cubicBezTo>
                <a:lnTo>
                  <a:pt x="321669" y="50411"/>
                </a:lnTo>
                <a:lnTo>
                  <a:pt x="345493" y="74115"/>
                </a:lnTo>
                <a:cubicBezTo>
                  <a:pt x="361017" y="87006"/>
                  <a:pt x="377466" y="98297"/>
                  <a:pt x="394589" y="107850"/>
                </a:cubicBezTo>
                <a:cubicBezTo>
                  <a:pt x="401566" y="89526"/>
                  <a:pt x="406909" y="70302"/>
                  <a:pt x="410514" y="50448"/>
                </a:cubicBezTo>
                <a:lnTo>
                  <a:pt x="413529" y="16974"/>
                </a:lnTo>
                <a:lnTo>
                  <a:pt x="432877" y="44457"/>
                </a:lnTo>
                <a:cubicBezTo>
                  <a:pt x="445926" y="59848"/>
                  <a:pt x="460165" y="73825"/>
                  <a:pt x="475368" y="86205"/>
                </a:cubicBezTo>
                <a:cubicBezTo>
                  <a:pt x="485422" y="69371"/>
                  <a:pt x="494020" y="51368"/>
                  <a:pt x="501019" y="32441"/>
                </a:cubicBezTo>
                <a:lnTo>
                  <a:pt x="509800" y="1"/>
                </a:lnTo>
                <a:lnTo>
                  <a:pt x="524080" y="30424"/>
                </a:lnTo>
                <a:cubicBezTo>
                  <a:pt x="534259" y="47847"/>
                  <a:pt x="545854" y="64083"/>
                  <a:pt x="558677" y="78916"/>
                </a:cubicBezTo>
                <a:cubicBezTo>
                  <a:pt x="571502" y="64083"/>
                  <a:pt x="583096" y="47846"/>
                  <a:pt x="593275" y="30423"/>
                </a:cubicBezTo>
                <a:close/>
              </a:path>
            </a:pathLst>
          </a:custGeom>
          <a:solidFill>
            <a:srgbClr val="c0e750"/>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4800" spc="-1" strike="noStrike">
              <a:solidFill>
                <a:srgbClr val="505050"/>
              </a:solidFill>
              <a:latin typeface="方正兰亭超细黑简体"/>
              <a:ea typeface="方正兰亭超细黑简体"/>
            </a:endParaRPr>
          </a:p>
        </p:txBody>
      </p:sp>
      <p:sp>
        <p:nvSpPr>
          <p:cNvPr id="127" name="矩形 5"/>
          <p:cNvSpPr/>
          <p:nvPr/>
        </p:nvSpPr>
        <p:spPr>
          <a:xfrm>
            <a:off x="5639400" y="1938960"/>
            <a:ext cx="912600" cy="8208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4800" spc="-1" strike="noStrike">
                <a:solidFill>
                  <a:srgbClr val="505050"/>
                </a:solidFill>
                <a:latin typeface="方正兰亭超细黑简体"/>
                <a:ea typeface="方正兰亭超细黑简体"/>
              </a:rPr>
              <a:t>原理</a:t>
            </a:r>
            <a:endParaRPr b="0" lang="en-US" sz="4800" spc="-1" strike="noStrike">
              <a:solidFill>
                <a:srgbClr val="000000"/>
              </a:solidFill>
              <a:latin typeface="Arial"/>
            </a:endParaRPr>
          </a:p>
        </p:txBody>
      </p:sp>
      <p:sp>
        <p:nvSpPr>
          <p:cNvPr id="128" name="选项不是随便给的"/>
          <p:cNvSpPr/>
          <p:nvPr/>
        </p:nvSpPr>
        <p:spPr>
          <a:xfrm>
            <a:off x="4814280" y="6018840"/>
            <a:ext cx="213192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3200" spc="-1" strike="noStrike">
                <a:solidFill>
                  <a:srgbClr val="414141"/>
                </a:solidFill>
                <a:latin typeface="方正正粗黑简体"/>
                <a:ea typeface="方正正粗黑简体"/>
              </a:rPr>
              <a:t>选项不是随便给的</a:t>
            </a:r>
            <a:endParaRPr b="0" lang="en-US" sz="3200" spc="-1" strike="noStrike">
              <a:solidFill>
                <a:srgbClr val="000000"/>
              </a:solidFill>
              <a:latin typeface="Arial"/>
            </a:endParaRPr>
          </a:p>
        </p:txBody>
      </p:sp>
      <p:sp>
        <p:nvSpPr>
          <p:cNvPr id="129" name="题干不是随便出的"/>
          <p:cNvSpPr/>
          <p:nvPr/>
        </p:nvSpPr>
        <p:spPr>
          <a:xfrm>
            <a:off x="4814280" y="5069880"/>
            <a:ext cx="213192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3200" spc="-1" strike="noStrike">
                <a:solidFill>
                  <a:srgbClr val="414141"/>
                </a:solidFill>
                <a:latin typeface="方正正粗黑简体"/>
                <a:ea typeface="方正正粗黑简体"/>
              </a:rPr>
              <a:t>题干不是随便出的</a:t>
            </a:r>
            <a:endParaRPr b="0" lang="en-US" sz="3200" spc="-1" strike="noStrike">
              <a:solidFill>
                <a:srgbClr val="000000"/>
              </a:solidFill>
              <a:latin typeface="Arial"/>
            </a:endParaRPr>
          </a:p>
        </p:txBody>
      </p:sp>
      <p:sp>
        <p:nvSpPr>
          <p:cNvPr id="130" name="正确的选项不是让你选的"/>
          <p:cNvSpPr/>
          <p:nvPr/>
        </p:nvSpPr>
        <p:spPr>
          <a:xfrm>
            <a:off x="5064120" y="4163400"/>
            <a:ext cx="28634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3200" spc="-1" strike="noStrike">
                <a:solidFill>
                  <a:srgbClr val="414141"/>
                </a:solidFill>
                <a:latin typeface="方正正粗黑简体"/>
                <a:ea typeface="方正正粗黑简体"/>
              </a:rPr>
              <a:t>正确的选项不是让你选的</a:t>
            </a:r>
            <a:endParaRPr b="0" lang="en-US" sz="3200" spc="-1" strike="noStrike">
              <a:solidFill>
                <a:srgbClr val="000000"/>
              </a:solidFill>
              <a:latin typeface="Arial"/>
            </a:endParaRPr>
          </a:p>
        </p:txBody>
      </p:sp>
      <p:sp>
        <p:nvSpPr>
          <p:cNvPr id="131" name="1、错误的选项不是让你不选"/>
          <p:cNvSpPr/>
          <p:nvPr/>
        </p:nvSpPr>
        <p:spPr>
          <a:xfrm>
            <a:off x="5064120" y="3253320"/>
            <a:ext cx="28634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3200" spc="-1" strike="noStrike">
                <a:solidFill>
                  <a:srgbClr val="414141"/>
                </a:solidFill>
                <a:latin typeface="方正正粗黑简体"/>
                <a:ea typeface="方正正粗黑简体"/>
              </a:rPr>
              <a:t>错误的选项不是让你不选</a:t>
            </a:r>
            <a:endParaRPr b="0" lang="en-US" sz="3200" spc="-1" strike="noStrike">
              <a:solidFill>
                <a:srgbClr val="000000"/>
              </a:solidFill>
              <a:latin typeface="Arial"/>
            </a:endParaRPr>
          </a:p>
        </p:txBody>
      </p:sp>
      <p:sp>
        <p:nvSpPr>
          <p:cNvPr id="132" name="矩形 7"/>
          <p:cNvSpPr/>
          <p:nvPr/>
        </p:nvSpPr>
        <p:spPr>
          <a:xfrm>
            <a:off x="-406440" y="3171600"/>
            <a:ext cx="3948840" cy="709200"/>
          </a:xfrm>
          <a:prstGeom prst="rect">
            <a:avLst/>
          </a:prstGeom>
          <a:solidFill>
            <a:srgbClr val="78a1b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3" name="矩形 10"/>
          <p:cNvSpPr/>
          <p:nvPr/>
        </p:nvSpPr>
        <p:spPr>
          <a:xfrm>
            <a:off x="-406440" y="4101120"/>
            <a:ext cx="3948840" cy="709200"/>
          </a:xfrm>
          <a:prstGeom prst="rect">
            <a:avLst/>
          </a:prstGeom>
          <a:solidFill>
            <a:srgbClr val="78a1b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4" name="矩形 13"/>
          <p:cNvSpPr/>
          <p:nvPr/>
        </p:nvSpPr>
        <p:spPr>
          <a:xfrm>
            <a:off x="-406440" y="5007240"/>
            <a:ext cx="3948840" cy="709200"/>
          </a:xfrm>
          <a:prstGeom prst="rect">
            <a:avLst/>
          </a:prstGeom>
          <a:solidFill>
            <a:srgbClr val="78a1b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5" name="矩形 16"/>
          <p:cNvSpPr/>
          <p:nvPr/>
        </p:nvSpPr>
        <p:spPr>
          <a:xfrm>
            <a:off x="-406440" y="5950800"/>
            <a:ext cx="3948840" cy="709200"/>
          </a:xfrm>
          <a:prstGeom prst="rect">
            <a:avLst/>
          </a:prstGeom>
          <a:solidFill>
            <a:srgbClr val="78a1b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6" name="KSO_Shape"/>
          <p:cNvSpPr/>
          <p:nvPr/>
        </p:nvSpPr>
        <p:spPr>
          <a:xfrm>
            <a:off x="2993040" y="3093480"/>
            <a:ext cx="865080" cy="865080"/>
          </a:xfrm>
          <a:custGeom>
            <a:avLst/>
            <a:gdLst>
              <a:gd name="textAreaLeft" fmla="*/ 0 w 865080"/>
              <a:gd name="textAreaRight" fmla="*/ 865440 w 865080"/>
              <a:gd name="textAreaTop" fmla="*/ 0 h 865080"/>
              <a:gd name="textAreaBottom" fmla="*/ 865440 h 865080"/>
            </a:gdLst>
            <a:ahLst/>
            <a:rect l="textAreaLeft" t="textAreaTop" r="textAreaRight" b="textAreaBottom"/>
            <a:pathLst>
              <a:path w="1117355" h="1117355">
                <a:moveTo>
                  <a:pt x="607556" y="0"/>
                </a:moveTo>
                <a:lnTo>
                  <a:pt x="616337" y="32441"/>
                </a:lnTo>
                <a:cubicBezTo>
                  <a:pt x="623336" y="51367"/>
                  <a:pt x="631935" y="69370"/>
                  <a:pt x="641988" y="86205"/>
                </a:cubicBezTo>
                <a:cubicBezTo>
                  <a:pt x="657192" y="73824"/>
                  <a:pt x="671430" y="59848"/>
                  <a:pt x="684480" y="44457"/>
                </a:cubicBezTo>
                <a:lnTo>
                  <a:pt x="703827" y="16976"/>
                </a:lnTo>
                <a:lnTo>
                  <a:pt x="706841" y="50449"/>
                </a:lnTo>
                <a:cubicBezTo>
                  <a:pt x="710447" y="70302"/>
                  <a:pt x="715790" y="89525"/>
                  <a:pt x="722767" y="107849"/>
                </a:cubicBezTo>
                <a:cubicBezTo>
                  <a:pt x="739889" y="98297"/>
                  <a:pt x="756338" y="87005"/>
                  <a:pt x="771862" y="74114"/>
                </a:cubicBezTo>
                <a:lnTo>
                  <a:pt x="795686" y="50411"/>
                </a:lnTo>
                <a:lnTo>
                  <a:pt x="792843" y="83897"/>
                </a:lnTo>
                <a:cubicBezTo>
                  <a:pt x="792946" y="104075"/>
                  <a:pt x="794869" y="123935"/>
                  <a:pt x="798558" y="143192"/>
                </a:cubicBezTo>
                <a:cubicBezTo>
                  <a:pt x="817080" y="136758"/>
                  <a:pt x="835240" y="128494"/>
                  <a:pt x="852767" y="118495"/>
                </a:cubicBezTo>
                <a:lnTo>
                  <a:pt x="880346" y="99288"/>
                </a:lnTo>
                <a:lnTo>
                  <a:pt x="871730" y="131774"/>
                </a:lnTo>
                <a:cubicBezTo>
                  <a:pt x="868328" y="151663"/>
                  <a:pt x="866774" y="171555"/>
                  <a:pt x="867062" y="191159"/>
                </a:cubicBezTo>
                <a:cubicBezTo>
                  <a:pt x="886420" y="188040"/>
                  <a:pt x="905740" y="183055"/>
                  <a:pt x="924737" y="176251"/>
                </a:cubicBezTo>
                <a:lnTo>
                  <a:pt x="955231" y="162125"/>
                </a:lnTo>
                <a:lnTo>
                  <a:pt x="941105" y="192620"/>
                </a:lnTo>
                <a:cubicBezTo>
                  <a:pt x="934301" y="211617"/>
                  <a:pt x="929316" y="230936"/>
                  <a:pt x="926196" y="250293"/>
                </a:cubicBezTo>
                <a:cubicBezTo>
                  <a:pt x="945801" y="250582"/>
                  <a:pt x="965692" y="249027"/>
                  <a:pt x="985583" y="245626"/>
                </a:cubicBezTo>
                <a:lnTo>
                  <a:pt x="1018066" y="237010"/>
                </a:lnTo>
                <a:lnTo>
                  <a:pt x="998860" y="264588"/>
                </a:lnTo>
                <a:cubicBezTo>
                  <a:pt x="988861" y="282115"/>
                  <a:pt x="980597" y="300275"/>
                  <a:pt x="974163" y="318796"/>
                </a:cubicBezTo>
                <a:cubicBezTo>
                  <a:pt x="993421" y="322486"/>
                  <a:pt x="1013279" y="324408"/>
                  <a:pt x="1033458" y="324513"/>
                </a:cubicBezTo>
                <a:lnTo>
                  <a:pt x="1066945" y="321669"/>
                </a:lnTo>
                <a:lnTo>
                  <a:pt x="1043241" y="345493"/>
                </a:lnTo>
                <a:cubicBezTo>
                  <a:pt x="1030350" y="361018"/>
                  <a:pt x="1019057" y="377467"/>
                  <a:pt x="1009506" y="394590"/>
                </a:cubicBezTo>
                <a:cubicBezTo>
                  <a:pt x="1027829" y="401567"/>
                  <a:pt x="1047052" y="406909"/>
                  <a:pt x="1066906" y="410515"/>
                </a:cubicBezTo>
                <a:lnTo>
                  <a:pt x="1100380" y="413529"/>
                </a:lnTo>
                <a:lnTo>
                  <a:pt x="1072898" y="432875"/>
                </a:lnTo>
                <a:cubicBezTo>
                  <a:pt x="1057507" y="445926"/>
                  <a:pt x="1043531" y="460165"/>
                  <a:pt x="1031151" y="475368"/>
                </a:cubicBezTo>
                <a:cubicBezTo>
                  <a:pt x="1047984" y="485421"/>
                  <a:pt x="1065988" y="494020"/>
                  <a:pt x="1084914" y="501019"/>
                </a:cubicBezTo>
                <a:lnTo>
                  <a:pt x="1117353" y="509800"/>
                </a:lnTo>
                <a:lnTo>
                  <a:pt x="1086932" y="524080"/>
                </a:lnTo>
                <a:cubicBezTo>
                  <a:pt x="1069509" y="534259"/>
                  <a:pt x="1053271" y="545854"/>
                  <a:pt x="1038439" y="558677"/>
                </a:cubicBezTo>
                <a:cubicBezTo>
                  <a:pt x="1053272" y="571501"/>
                  <a:pt x="1069509" y="583096"/>
                  <a:pt x="1086931" y="593274"/>
                </a:cubicBezTo>
                <a:lnTo>
                  <a:pt x="1117355" y="607555"/>
                </a:lnTo>
                <a:lnTo>
                  <a:pt x="1084914" y="616336"/>
                </a:lnTo>
                <a:cubicBezTo>
                  <a:pt x="1065988" y="623335"/>
                  <a:pt x="1047984" y="631934"/>
                  <a:pt x="1031150" y="641988"/>
                </a:cubicBezTo>
                <a:cubicBezTo>
                  <a:pt x="1043531" y="657191"/>
                  <a:pt x="1057507" y="671430"/>
                  <a:pt x="1072898" y="684480"/>
                </a:cubicBezTo>
                <a:lnTo>
                  <a:pt x="1100380" y="703827"/>
                </a:lnTo>
                <a:lnTo>
                  <a:pt x="1066906" y="706840"/>
                </a:lnTo>
                <a:cubicBezTo>
                  <a:pt x="1047052" y="710447"/>
                  <a:pt x="1027829" y="715789"/>
                  <a:pt x="1009506" y="722766"/>
                </a:cubicBezTo>
                <a:cubicBezTo>
                  <a:pt x="1019057" y="739889"/>
                  <a:pt x="1030349" y="756338"/>
                  <a:pt x="1043241" y="771862"/>
                </a:cubicBezTo>
                <a:lnTo>
                  <a:pt x="1066944" y="795686"/>
                </a:lnTo>
                <a:lnTo>
                  <a:pt x="1033457" y="792842"/>
                </a:lnTo>
                <a:cubicBezTo>
                  <a:pt x="1013279" y="792946"/>
                  <a:pt x="993420" y="794869"/>
                  <a:pt x="974163" y="798558"/>
                </a:cubicBezTo>
                <a:cubicBezTo>
                  <a:pt x="980597" y="817079"/>
                  <a:pt x="988861" y="835239"/>
                  <a:pt x="998861" y="852767"/>
                </a:cubicBezTo>
                <a:lnTo>
                  <a:pt x="1018067" y="880346"/>
                </a:lnTo>
                <a:lnTo>
                  <a:pt x="985583" y="871730"/>
                </a:lnTo>
                <a:cubicBezTo>
                  <a:pt x="965693" y="868328"/>
                  <a:pt x="945802" y="866773"/>
                  <a:pt x="926197" y="867062"/>
                </a:cubicBezTo>
                <a:cubicBezTo>
                  <a:pt x="929316" y="886420"/>
                  <a:pt x="934301" y="905738"/>
                  <a:pt x="941106" y="924736"/>
                </a:cubicBezTo>
                <a:lnTo>
                  <a:pt x="955230" y="955231"/>
                </a:lnTo>
                <a:lnTo>
                  <a:pt x="924736" y="941105"/>
                </a:lnTo>
                <a:cubicBezTo>
                  <a:pt x="905739" y="934301"/>
                  <a:pt x="886420" y="929316"/>
                  <a:pt x="867062" y="926196"/>
                </a:cubicBezTo>
                <a:cubicBezTo>
                  <a:pt x="866773" y="945801"/>
                  <a:pt x="868328" y="965692"/>
                  <a:pt x="871730" y="985583"/>
                </a:cubicBezTo>
                <a:lnTo>
                  <a:pt x="881237" y="1021426"/>
                </a:lnTo>
                <a:lnTo>
                  <a:pt x="798559" y="974163"/>
                </a:lnTo>
                <a:cubicBezTo>
                  <a:pt x="794870" y="993421"/>
                  <a:pt x="792946" y="1013280"/>
                  <a:pt x="792843" y="1033459"/>
                </a:cubicBezTo>
                <a:lnTo>
                  <a:pt x="795980" y="1070407"/>
                </a:lnTo>
                <a:lnTo>
                  <a:pt x="722766" y="1009507"/>
                </a:lnTo>
                <a:cubicBezTo>
                  <a:pt x="715790" y="1027830"/>
                  <a:pt x="710446" y="1047053"/>
                  <a:pt x="706840" y="1066907"/>
                </a:cubicBezTo>
                <a:lnTo>
                  <a:pt x="703827" y="1100380"/>
                </a:lnTo>
                <a:lnTo>
                  <a:pt x="684480" y="1072899"/>
                </a:lnTo>
                <a:cubicBezTo>
                  <a:pt x="671430" y="1057508"/>
                  <a:pt x="657192" y="1043531"/>
                  <a:pt x="641988" y="1031150"/>
                </a:cubicBezTo>
                <a:cubicBezTo>
                  <a:pt x="631934" y="1047985"/>
                  <a:pt x="623336" y="1065989"/>
                  <a:pt x="616336" y="1084915"/>
                </a:cubicBezTo>
                <a:lnTo>
                  <a:pt x="607556" y="1117355"/>
                </a:lnTo>
                <a:lnTo>
                  <a:pt x="593275" y="1086932"/>
                </a:lnTo>
                <a:cubicBezTo>
                  <a:pt x="583096" y="1069509"/>
                  <a:pt x="571501" y="1053271"/>
                  <a:pt x="558678" y="1038439"/>
                </a:cubicBezTo>
                <a:cubicBezTo>
                  <a:pt x="545854" y="1053271"/>
                  <a:pt x="534259" y="1069508"/>
                  <a:pt x="524080" y="1086931"/>
                </a:cubicBezTo>
                <a:lnTo>
                  <a:pt x="509800" y="1117354"/>
                </a:lnTo>
                <a:lnTo>
                  <a:pt x="501019" y="1084915"/>
                </a:lnTo>
                <a:cubicBezTo>
                  <a:pt x="494020" y="1065988"/>
                  <a:pt x="485422" y="1047985"/>
                  <a:pt x="475369" y="1031151"/>
                </a:cubicBezTo>
                <a:cubicBezTo>
                  <a:pt x="460165" y="1043532"/>
                  <a:pt x="445926" y="1057508"/>
                  <a:pt x="432876" y="1072898"/>
                </a:cubicBezTo>
                <a:lnTo>
                  <a:pt x="413529" y="1100382"/>
                </a:lnTo>
                <a:lnTo>
                  <a:pt x="410514" y="1066908"/>
                </a:lnTo>
                <a:cubicBezTo>
                  <a:pt x="406908" y="1047053"/>
                  <a:pt x="401566" y="1027831"/>
                  <a:pt x="394589" y="1009506"/>
                </a:cubicBezTo>
                <a:cubicBezTo>
                  <a:pt x="377466" y="1019058"/>
                  <a:pt x="361017" y="1030350"/>
                  <a:pt x="345493" y="1043241"/>
                </a:cubicBezTo>
                <a:lnTo>
                  <a:pt x="321668" y="1066945"/>
                </a:lnTo>
                <a:lnTo>
                  <a:pt x="324512" y="1033458"/>
                </a:lnTo>
                <a:cubicBezTo>
                  <a:pt x="324409" y="1013280"/>
                  <a:pt x="322485" y="993421"/>
                  <a:pt x="318796" y="974164"/>
                </a:cubicBezTo>
                <a:cubicBezTo>
                  <a:pt x="300275" y="980597"/>
                  <a:pt x="282115" y="988861"/>
                  <a:pt x="264588" y="998861"/>
                </a:cubicBezTo>
                <a:lnTo>
                  <a:pt x="237009" y="1018067"/>
                </a:lnTo>
                <a:lnTo>
                  <a:pt x="245625" y="985583"/>
                </a:lnTo>
                <a:cubicBezTo>
                  <a:pt x="249026" y="965692"/>
                  <a:pt x="250582" y="945802"/>
                  <a:pt x="250293" y="926196"/>
                </a:cubicBezTo>
                <a:cubicBezTo>
                  <a:pt x="230935" y="929316"/>
                  <a:pt x="211616" y="934301"/>
                  <a:pt x="192619" y="941105"/>
                </a:cubicBezTo>
                <a:lnTo>
                  <a:pt x="162124" y="955230"/>
                </a:lnTo>
                <a:lnTo>
                  <a:pt x="176250" y="924736"/>
                </a:lnTo>
                <a:cubicBezTo>
                  <a:pt x="183053" y="905739"/>
                  <a:pt x="188039" y="886420"/>
                  <a:pt x="191158" y="867062"/>
                </a:cubicBezTo>
                <a:cubicBezTo>
                  <a:pt x="171553" y="866773"/>
                  <a:pt x="151663" y="868328"/>
                  <a:pt x="131772" y="871729"/>
                </a:cubicBezTo>
                <a:lnTo>
                  <a:pt x="99288" y="880346"/>
                </a:lnTo>
                <a:lnTo>
                  <a:pt x="118495" y="852766"/>
                </a:lnTo>
                <a:cubicBezTo>
                  <a:pt x="128494" y="835239"/>
                  <a:pt x="136758" y="817079"/>
                  <a:pt x="143192" y="798558"/>
                </a:cubicBezTo>
                <a:cubicBezTo>
                  <a:pt x="123935" y="794869"/>
                  <a:pt x="104076" y="792946"/>
                  <a:pt x="83897" y="792842"/>
                </a:cubicBezTo>
                <a:lnTo>
                  <a:pt x="50411" y="795685"/>
                </a:lnTo>
                <a:lnTo>
                  <a:pt x="74115" y="771862"/>
                </a:lnTo>
                <a:cubicBezTo>
                  <a:pt x="87006" y="756338"/>
                  <a:pt x="98298" y="739889"/>
                  <a:pt x="107850" y="722765"/>
                </a:cubicBezTo>
                <a:cubicBezTo>
                  <a:pt x="89526" y="715788"/>
                  <a:pt x="70303" y="710446"/>
                  <a:pt x="50448" y="706840"/>
                </a:cubicBezTo>
                <a:lnTo>
                  <a:pt x="16975" y="703826"/>
                </a:lnTo>
                <a:lnTo>
                  <a:pt x="44457" y="684480"/>
                </a:lnTo>
                <a:cubicBezTo>
                  <a:pt x="59848" y="671429"/>
                  <a:pt x="73825" y="657192"/>
                  <a:pt x="86205" y="641988"/>
                </a:cubicBezTo>
                <a:cubicBezTo>
                  <a:pt x="69371" y="631934"/>
                  <a:pt x="51368" y="623335"/>
                  <a:pt x="32441" y="616336"/>
                </a:cubicBezTo>
                <a:lnTo>
                  <a:pt x="0" y="607555"/>
                </a:lnTo>
                <a:lnTo>
                  <a:pt x="30424" y="593275"/>
                </a:lnTo>
                <a:cubicBezTo>
                  <a:pt x="47847" y="583095"/>
                  <a:pt x="64084" y="571500"/>
                  <a:pt x="78916" y="558677"/>
                </a:cubicBezTo>
                <a:cubicBezTo>
                  <a:pt x="64083" y="545854"/>
                  <a:pt x="47846" y="534259"/>
                  <a:pt x="30424" y="524080"/>
                </a:cubicBezTo>
                <a:lnTo>
                  <a:pt x="1" y="509800"/>
                </a:lnTo>
                <a:lnTo>
                  <a:pt x="32441" y="501019"/>
                </a:lnTo>
                <a:cubicBezTo>
                  <a:pt x="51367" y="494020"/>
                  <a:pt x="69371" y="485421"/>
                  <a:pt x="86205" y="475369"/>
                </a:cubicBezTo>
                <a:cubicBezTo>
                  <a:pt x="73825" y="460164"/>
                  <a:pt x="59848" y="445926"/>
                  <a:pt x="44457" y="432875"/>
                </a:cubicBezTo>
                <a:lnTo>
                  <a:pt x="16976" y="413530"/>
                </a:lnTo>
                <a:lnTo>
                  <a:pt x="50449" y="410515"/>
                </a:lnTo>
                <a:cubicBezTo>
                  <a:pt x="70302" y="406909"/>
                  <a:pt x="89526" y="401567"/>
                  <a:pt x="107850" y="394590"/>
                </a:cubicBezTo>
                <a:cubicBezTo>
                  <a:pt x="98298" y="377467"/>
                  <a:pt x="87005" y="361018"/>
                  <a:pt x="74114" y="345493"/>
                </a:cubicBezTo>
                <a:lnTo>
                  <a:pt x="50410" y="321668"/>
                </a:lnTo>
                <a:lnTo>
                  <a:pt x="83898" y="324512"/>
                </a:lnTo>
                <a:cubicBezTo>
                  <a:pt x="104076" y="324409"/>
                  <a:pt x="123935" y="322486"/>
                  <a:pt x="143192" y="318797"/>
                </a:cubicBezTo>
                <a:cubicBezTo>
                  <a:pt x="136758" y="300275"/>
                  <a:pt x="128494" y="282115"/>
                  <a:pt x="118495" y="264588"/>
                </a:cubicBezTo>
                <a:lnTo>
                  <a:pt x="99289" y="237010"/>
                </a:lnTo>
                <a:lnTo>
                  <a:pt x="131773" y="245625"/>
                </a:lnTo>
                <a:cubicBezTo>
                  <a:pt x="151663" y="249028"/>
                  <a:pt x="171554" y="250582"/>
                  <a:pt x="191158" y="250293"/>
                </a:cubicBezTo>
                <a:cubicBezTo>
                  <a:pt x="188040" y="230936"/>
                  <a:pt x="183054" y="211617"/>
                  <a:pt x="176250" y="192620"/>
                </a:cubicBezTo>
                <a:lnTo>
                  <a:pt x="162125" y="162124"/>
                </a:lnTo>
                <a:lnTo>
                  <a:pt x="192619" y="176251"/>
                </a:lnTo>
                <a:cubicBezTo>
                  <a:pt x="211616" y="183054"/>
                  <a:pt x="230935" y="188040"/>
                  <a:pt x="250292" y="191159"/>
                </a:cubicBezTo>
                <a:cubicBezTo>
                  <a:pt x="250581" y="171554"/>
                  <a:pt x="249027" y="151663"/>
                  <a:pt x="245625" y="131774"/>
                </a:cubicBezTo>
                <a:lnTo>
                  <a:pt x="237009" y="99287"/>
                </a:lnTo>
                <a:lnTo>
                  <a:pt x="264588" y="118495"/>
                </a:lnTo>
                <a:cubicBezTo>
                  <a:pt x="282116" y="128494"/>
                  <a:pt x="300275" y="136758"/>
                  <a:pt x="318796" y="143192"/>
                </a:cubicBezTo>
                <a:cubicBezTo>
                  <a:pt x="322486" y="123935"/>
                  <a:pt x="324409" y="104076"/>
                  <a:pt x="324513" y="83897"/>
                </a:cubicBezTo>
                <a:lnTo>
                  <a:pt x="321669" y="50411"/>
                </a:lnTo>
                <a:lnTo>
                  <a:pt x="345493" y="74115"/>
                </a:lnTo>
                <a:cubicBezTo>
                  <a:pt x="361017" y="87006"/>
                  <a:pt x="377466" y="98297"/>
                  <a:pt x="394589" y="107850"/>
                </a:cubicBezTo>
                <a:cubicBezTo>
                  <a:pt x="401566" y="89526"/>
                  <a:pt x="406909" y="70302"/>
                  <a:pt x="410514" y="50448"/>
                </a:cubicBezTo>
                <a:lnTo>
                  <a:pt x="413529" y="16974"/>
                </a:lnTo>
                <a:lnTo>
                  <a:pt x="432877" y="44457"/>
                </a:lnTo>
                <a:cubicBezTo>
                  <a:pt x="445926" y="59848"/>
                  <a:pt x="460165" y="73825"/>
                  <a:pt x="475368" y="86205"/>
                </a:cubicBezTo>
                <a:cubicBezTo>
                  <a:pt x="485422" y="69371"/>
                  <a:pt x="494020" y="51368"/>
                  <a:pt x="501019" y="32441"/>
                </a:cubicBezTo>
                <a:lnTo>
                  <a:pt x="509800" y="1"/>
                </a:lnTo>
                <a:lnTo>
                  <a:pt x="524080" y="30424"/>
                </a:lnTo>
                <a:cubicBezTo>
                  <a:pt x="534259" y="47847"/>
                  <a:pt x="545854" y="64083"/>
                  <a:pt x="558677" y="78916"/>
                </a:cubicBezTo>
                <a:cubicBezTo>
                  <a:pt x="571502" y="64083"/>
                  <a:pt x="583096" y="47846"/>
                  <a:pt x="593275" y="30423"/>
                </a:cubicBezTo>
                <a:close/>
              </a:path>
            </a:pathLst>
          </a:custGeom>
          <a:solidFill>
            <a:srgbClr val="c0e750"/>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4800" spc="-1" strike="noStrike">
              <a:solidFill>
                <a:srgbClr val="505050"/>
              </a:solidFill>
              <a:latin typeface="方正兰亭超细黑简体"/>
              <a:ea typeface="方正兰亭超细黑简体"/>
            </a:endParaRPr>
          </a:p>
        </p:txBody>
      </p:sp>
      <p:sp>
        <p:nvSpPr>
          <p:cNvPr id="137" name="KSO_Shape"/>
          <p:cNvSpPr/>
          <p:nvPr/>
        </p:nvSpPr>
        <p:spPr>
          <a:xfrm>
            <a:off x="2993040" y="4023360"/>
            <a:ext cx="865080" cy="865080"/>
          </a:xfrm>
          <a:custGeom>
            <a:avLst/>
            <a:gdLst>
              <a:gd name="textAreaLeft" fmla="*/ 0 w 865080"/>
              <a:gd name="textAreaRight" fmla="*/ 865440 w 865080"/>
              <a:gd name="textAreaTop" fmla="*/ 0 h 865080"/>
              <a:gd name="textAreaBottom" fmla="*/ 865440 h 865080"/>
            </a:gdLst>
            <a:ahLst/>
            <a:rect l="textAreaLeft" t="textAreaTop" r="textAreaRight" b="textAreaBottom"/>
            <a:pathLst>
              <a:path w="1117355" h="1117355">
                <a:moveTo>
                  <a:pt x="607556" y="0"/>
                </a:moveTo>
                <a:lnTo>
                  <a:pt x="616337" y="32441"/>
                </a:lnTo>
                <a:cubicBezTo>
                  <a:pt x="623336" y="51367"/>
                  <a:pt x="631935" y="69370"/>
                  <a:pt x="641988" y="86205"/>
                </a:cubicBezTo>
                <a:cubicBezTo>
                  <a:pt x="657192" y="73824"/>
                  <a:pt x="671430" y="59848"/>
                  <a:pt x="684480" y="44457"/>
                </a:cubicBezTo>
                <a:lnTo>
                  <a:pt x="703827" y="16976"/>
                </a:lnTo>
                <a:lnTo>
                  <a:pt x="706841" y="50449"/>
                </a:lnTo>
                <a:cubicBezTo>
                  <a:pt x="710447" y="70302"/>
                  <a:pt x="715790" y="89525"/>
                  <a:pt x="722767" y="107849"/>
                </a:cubicBezTo>
                <a:cubicBezTo>
                  <a:pt x="739889" y="98297"/>
                  <a:pt x="756338" y="87005"/>
                  <a:pt x="771862" y="74114"/>
                </a:cubicBezTo>
                <a:lnTo>
                  <a:pt x="795686" y="50411"/>
                </a:lnTo>
                <a:lnTo>
                  <a:pt x="792843" y="83897"/>
                </a:lnTo>
                <a:cubicBezTo>
                  <a:pt x="792946" y="104075"/>
                  <a:pt x="794869" y="123935"/>
                  <a:pt x="798558" y="143192"/>
                </a:cubicBezTo>
                <a:cubicBezTo>
                  <a:pt x="817080" y="136758"/>
                  <a:pt x="835240" y="128494"/>
                  <a:pt x="852767" y="118495"/>
                </a:cubicBezTo>
                <a:lnTo>
                  <a:pt x="880346" y="99288"/>
                </a:lnTo>
                <a:lnTo>
                  <a:pt x="871730" y="131774"/>
                </a:lnTo>
                <a:cubicBezTo>
                  <a:pt x="868328" y="151663"/>
                  <a:pt x="866774" y="171555"/>
                  <a:pt x="867062" y="191159"/>
                </a:cubicBezTo>
                <a:cubicBezTo>
                  <a:pt x="886420" y="188040"/>
                  <a:pt x="905740" y="183055"/>
                  <a:pt x="924737" y="176251"/>
                </a:cubicBezTo>
                <a:lnTo>
                  <a:pt x="955231" y="162125"/>
                </a:lnTo>
                <a:lnTo>
                  <a:pt x="941105" y="192620"/>
                </a:lnTo>
                <a:cubicBezTo>
                  <a:pt x="934301" y="211617"/>
                  <a:pt x="929316" y="230936"/>
                  <a:pt x="926196" y="250293"/>
                </a:cubicBezTo>
                <a:cubicBezTo>
                  <a:pt x="945801" y="250582"/>
                  <a:pt x="965692" y="249027"/>
                  <a:pt x="985583" y="245626"/>
                </a:cubicBezTo>
                <a:lnTo>
                  <a:pt x="1018066" y="237010"/>
                </a:lnTo>
                <a:lnTo>
                  <a:pt x="998860" y="264588"/>
                </a:lnTo>
                <a:cubicBezTo>
                  <a:pt x="988861" y="282115"/>
                  <a:pt x="980597" y="300275"/>
                  <a:pt x="974163" y="318796"/>
                </a:cubicBezTo>
                <a:cubicBezTo>
                  <a:pt x="993421" y="322486"/>
                  <a:pt x="1013279" y="324408"/>
                  <a:pt x="1033458" y="324513"/>
                </a:cubicBezTo>
                <a:lnTo>
                  <a:pt x="1066945" y="321669"/>
                </a:lnTo>
                <a:lnTo>
                  <a:pt x="1043241" y="345493"/>
                </a:lnTo>
                <a:cubicBezTo>
                  <a:pt x="1030350" y="361018"/>
                  <a:pt x="1019057" y="377467"/>
                  <a:pt x="1009506" y="394590"/>
                </a:cubicBezTo>
                <a:cubicBezTo>
                  <a:pt x="1027829" y="401567"/>
                  <a:pt x="1047052" y="406909"/>
                  <a:pt x="1066906" y="410515"/>
                </a:cubicBezTo>
                <a:lnTo>
                  <a:pt x="1100380" y="413529"/>
                </a:lnTo>
                <a:lnTo>
                  <a:pt x="1072898" y="432875"/>
                </a:lnTo>
                <a:cubicBezTo>
                  <a:pt x="1057507" y="445926"/>
                  <a:pt x="1043531" y="460165"/>
                  <a:pt x="1031151" y="475368"/>
                </a:cubicBezTo>
                <a:cubicBezTo>
                  <a:pt x="1047984" y="485421"/>
                  <a:pt x="1065988" y="494020"/>
                  <a:pt x="1084914" y="501019"/>
                </a:cubicBezTo>
                <a:lnTo>
                  <a:pt x="1117353" y="509800"/>
                </a:lnTo>
                <a:lnTo>
                  <a:pt x="1086932" y="524080"/>
                </a:lnTo>
                <a:cubicBezTo>
                  <a:pt x="1069509" y="534259"/>
                  <a:pt x="1053271" y="545854"/>
                  <a:pt x="1038439" y="558677"/>
                </a:cubicBezTo>
                <a:cubicBezTo>
                  <a:pt x="1053272" y="571501"/>
                  <a:pt x="1069509" y="583096"/>
                  <a:pt x="1086931" y="593274"/>
                </a:cubicBezTo>
                <a:lnTo>
                  <a:pt x="1117355" y="607555"/>
                </a:lnTo>
                <a:lnTo>
                  <a:pt x="1084914" y="616336"/>
                </a:lnTo>
                <a:cubicBezTo>
                  <a:pt x="1065988" y="623335"/>
                  <a:pt x="1047984" y="631934"/>
                  <a:pt x="1031150" y="641988"/>
                </a:cubicBezTo>
                <a:cubicBezTo>
                  <a:pt x="1043531" y="657191"/>
                  <a:pt x="1057507" y="671430"/>
                  <a:pt x="1072898" y="684480"/>
                </a:cubicBezTo>
                <a:lnTo>
                  <a:pt x="1100380" y="703827"/>
                </a:lnTo>
                <a:lnTo>
                  <a:pt x="1066906" y="706840"/>
                </a:lnTo>
                <a:cubicBezTo>
                  <a:pt x="1047052" y="710447"/>
                  <a:pt x="1027829" y="715789"/>
                  <a:pt x="1009506" y="722766"/>
                </a:cubicBezTo>
                <a:cubicBezTo>
                  <a:pt x="1019057" y="739889"/>
                  <a:pt x="1030349" y="756338"/>
                  <a:pt x="1043241" y="771862"/>
                </a:cubicBezTo>
                <a:lnTo>
                  <a:pt x="1066944" y="795686"/>
                </a:lnTo>
                <a:lnTo>
                  <a:pt x="1033457" y="792842"/>
                </a:lnTo>
                <a:cubicBezTo>
                  <a:pt x="1013279" y="792946"/>
                  <a:pt x="993420" y="794869"/>
                  <a:pt x="974163" y="798558"/>
                </a:cubicBezTo>
                <a:cubicBezTo>
                  <a:pt x="980597" y="817079"/>
                  <a:pt x="988861" y="835239"/>
                  <a:pt x="998861" y="852767"/>
                </a:cubicBezTo>
                <a:lnTo>
                  <a:pt x="1018067" y="880346"/>
                </a:lnTo>
                <a:lnTo>
                  <a:pt x="985583" y="871730"/>
                </a:lnTo>
                <a:cubicBezTo>
                  <a:pt x="965693" y="868328"/>
                  <a:pt x="945802" y="866773"/>
                  <a:pt x="926197" y="867062"/>
                </a:cubicBezTo>
                <a:cubicBezTo>
                  <a:pt x="929316" y="886420"/>
                  <a:pt x="934301" y="905738"/>
                  <a:pt x="941106" y="924736"/>
                </a:cubicBezTo>
                <a:lnTo>
                  <a:pt x="955230" y="955231"/>
                </a:lnTo>
                <a:lnTo>
                  <a:pt x="924736" y="941105"/>
                </a:lnTo>
                <a:cubicBezTo>
                  <a:pt x="905739" y="934301"/>
                  <a:pt x="886420" y="929316"/>
                  <a:pt x="867062" y="926196"/>
                </a:cubicBezTo>
                <a:cubicBezTo>
                  <a:pt x="866773" y="945801"/>
                  <a:pt x="868328" y="965692"/>
                  <a:pt x="871730" y="985583"/>
                </a:cubicBezTo>
                <a:lnTo>
                  <a:pt x="881237" y="1021426"/>
                </a:lnTo>
                <a:lnTo>
                  <a:pt x="798559" y="974163"/>
                </a:lnTo>
                <a:cubicBezTo>
                  <a:pt x="794870" y="993421"/>
                  <a:pt x="792946" y="1013280"/>
                  <a:pt x="792843" y="1033459"/>
                </a:cubicBezTo>
                <a:lnTo>
                  <a:pt x="795980" y="1070407"/>
                </a:lnTo>
                <a:lnTo>
                  <a:pt x="722766" y="1009507"/>
                </a:lnTo>
                <a:cubicBezTo>
                  <a:pt x="715790" y="1027830"/>
                  <a:pt x="710446" y="1047053"/>
                  <a:pt x="706840" y="1066907"/>
                </a:cubicBezTo>
                <a:lnTo>
                  <a:pt x="703827" y="1100380"/>
                </a:lnTo>
                <a:lnTo>
                  <a:pt x="684480" y="1072899"/>
                </a:lnTo>
                <a:cubicBezTo>
                  <a:pt x="671430" y="1057508"/>
                  <a:pt x="657192" y="1043531"/>
                  <a:pt x="641988" y="1031150"/>
                </a:cubicBezTo>
                <a:cubicBezTo>
                  <a:pt x="631934" y="1047985"/>
                  <a:pt x="623336" y="1065989"/>
                  <a:pt x="616336" y="1084915"/>
                </a:cubicBezTo>
                <a:lnTo>
                  <a:pt x="607556" y="1117355"/>
                </a:lnTo>
                <a:lnTo>
                  <a:pt x="593275" y="1086932"/>
                </a:lnTo>
                <a:cubicBezTo>
                  <a:pt x="583096" y="1069509"/>
                  <a:pt x="571501" y="1053271"/>
                  <a:pt x="558678" y="1038439"/>
                </a:cubicBezTo>
                <a:cubicBezTo>
                  <a:pt x="545854" y="1053271"/>
                  <a:pt x="534259" y="1069508"/>
                  <a:pt x="524080" y="1086931"/>
                </a:cubicBezTo>
                <a:lnTo>
                  <a:pt x="509800" y="1117354"/>
                </a:lnTo>
                <a:lnTo>
                  <a:pt x="501019" y="1084915"/>
                </a:lnTo>
                <a:cubicBezTo>
                  <a:pt x="494020" y="1065988"/>
                  <a:pt x="485422" y="1047985"/>
                  <a:pt x="475369" y="1031151"/>
                </a:cubicBezTo>
                <a:cubicBezTo>
                  <a:pt x="460165" y="1043532"/>
                  <a:pt x="445926" y="1057508"/>
                  <a:pt x="432876" y="1072898"/>
                </a:cubicBezTo>
                <a:lnTo>
                  <a:pt x="413529" y="1100382"/>
                </a:lnTo>
                <a:lnTo>
                  <a:pt x="410514" y="1066908"/>
                </a:lnTo>
                <a:cubicBezTo>
                  <a:pt x="406908" y="1047053"/>
                  <a:pt x="401566" y="1027831"/>
                  <a:pt x="394589" y="1009506"/>
                </a:cubicBezTo>
                <a:cubicBezTo>
                  <a:pt x="377466" y="1019058"/>
                  <a:pt x="361017" y="1030350"/>
                  <a:pt x="345493" y="1043241"/>
                </a:cubicBezTo>
                <a:lnTo>
                  <a:pt x="321668" y="1066945"/>
                </a:lnTo>
                <a:lnTo>
                  <a:pt x="324512" y="1033458"/>
                </a:lnTo>
                <a:cubicBezTo>
                  <a:pt x="324409" y="1013280"/>
                  <a:pt x="322485" y="993421"/>
                  <a:pt x="318796" y="974164"/>
                </a:cubicBezTo>
                <a:cubicBezTo>
                  <a:pt x="300275" y="980597"/>
                  <a:pt x="282115" y="988861"/>
                  <a:pt x="264588" y="998861"/>
                </a:cubicBezTo>
                <a:lnTo>
                  <a:pt x="237009" y="1018067"/>
                </a:lnTo>
                <a:lnTo>
                  <a:pt x="245625" y="985583"/>
                </a:lnTo>
                <a:cubicBezTo>
                  <a:pt x="249026" y="965692"/>
                  <a:pt x="250582" y="945802"/>
                  <a:pt x="250293" y="926196"/>
                </a:cubicBezTo>
                <a:cubicBezTo>
                  <a:pt x="230935" y="929316"/>
                  <a:pt x="211616" y="934301"/>
                  <a:pt x="192619" y="941105"/>
                </a:cubicBezTo>
                <a:lnTo>
                  <a:pt x="162124" y="955230"/>
                </a:lnTo>
                <a:lnTo>
                  <a:pt x="176250" y="924736"/>
                </a:lnTo>
                <a:cubicBezTo>
                  <a:pt x="183053" y="905739"/>
                  <a:pt x="188039" y="886420"/>
                  <a:pt x="191158" y="867062"/>
                </a:cubicBezTo>
                <a:cubicBezTo>
                  <a:pt x="171553" y="866773"/>
                  <a:pt x="151663" y="868328"/>
                  <a:pt x="131772" y="871729"/>
                </a:cubicBezTo>
                <a:lnTo>
                  <a:pt x="99288" y="880346"/>
                </a:lnTo>
                <a:lnTo>
                  <a:pt x="118495" y="852766"/>
                </a:lnTo>
                <a:cubicBezTo>
                  <a:pt x="128494" y="835239"/>
                  <a:pt x="136758" y="817079"/>
                  <a:pt x="143192" y="798558"/>
                </a:cubicBezTo>
                <a:cubicBezTo>
                  <a:pt x="123935" y="794869"/>
                  <a:pt x="104076" y="792946"/>
                  <a:pt x="83897" y="792842"/>
                </a:cubicBezTo>
                <a:lnTo>
                  <a:pt x="50411" y="795685"/>
                </a:lnTo>
                <a:lnTo>
                  <a:pt x="74115" y="771862"/>
                </a:lnTo>
                <a:cubicBezTo>
                  <a:pt x="87006" y="756338"/>
                  <a:pt x="98298" y="739889"/>
                  <a:pt x="107850" y="722765"/>
                </a:cubicBezTo>
                <a:cubicBezTo>
                  <a:pt x="89526" y="715788"/>
                  <a:pt x="70303" y="710446"/>
                  <a:pt x="50448" y="706840"/>
                </a:cubicBezTo>
                <a:lnTo>
                  <a:pt x="16975" y="703826"/>
                </a:lnTo>
                <a:lnTo>
                  <a:pt x="44457" y="684480"/>
                </a:lnTo>
                <a:cubicBezTo>
                  <a:pt x="59848" y="671429"/>
                  <a:pt x="73825" y="657192"/>
                  <a:pt x="86205" y="641988"/>
                </a:cubicBezTo>
                <a:cubicBezTo>
                  <a:pt x="69371" y="631934"/>
                  <a:pt x="51368" y="623335"/>
                  <a:pt x="32441" y="616336"/>
                </a:cubicBezTo>
                <a:lnTo>
                  <a:pt x="0" y="607555"/>
                </a:lnTo>
                <a:lnTo>
                  <a:pt x="30424" y="593275"/>
                </a:lnTo>
                <a:cubicBezTo>
                  <a:pt x="47847" y="583095"/>
                  <a:pt x="64084" y="571500"/>
                  <a:pt x="78916" y="558677"/>
                </a:cubicBezTo>
                <a:cubicBezTo>
                  <a:pt x="64083" y="545854"/>
                  <a:pt x="47846" y="534259"/>
                  <a:pt x="30424" y="524080"/>
                </a:cubicBezTo>
                <a:lnTo>
                  <a:pt x="1" y="509800"/>
                </a:lnTo>
                <a:lnTo>
                  <a:pt x="32441" y="501019"/>
                </a:lnTo>
                <a:cubicBezTo>
                  <a:pt x="51367" y="494020"/>
                  <a:pt x="69371" y="485421"/>
                  <a:pt x="86205" y="475369"/>
                </a:cubicBezTo>
                <a:cubicBezTo>
                  <a:pt x="73825" y="460164"/>
                  <a:pt x="59848" y="445926"/>
                  <a:pt x="44457" y="432875"/>
                </a:cubicBezTo>
                <a:lnTo>
                  <a:pt x="16976" y="413530"/>
                </a:lnTo>
                <a:lnTo>
                  <a:pt x="50449" y="410515"/>
                </a:lnTo>
                <a:cubicBezTo>
                  <a:pt x="70302" y="406909"/>
                  <a:pt x="89526" y="401567"/>
                  <a:pt x="107850" y="394590"/>
                </a:cubicBezTo>
                <a:cubicBezTo>
                  <a:pt x="98298" y="377467"/>
                  <a:pt x="87005" y="361018"/>
                  <a:pt x="74114" y="345493"/>
                </a:cubicBezTo>
                <a:lnTo>
                  <a:pt x="50410" y="321668"/>
                </a:lnTo>
                <a:lnTo>
                  <a:pt x="83898" y="324512"/>
                </a:lnTo>
                <a:cubicBezTo>
                  <a:pt x="104076" y="324409"/>
                  <a:pt x="123935" y="322486"/>
                  <a:pt x="143192" y="318797"/>
                </a:cubicBezTo>
                <a:cubicBezTo>
                  <a:pt x="136758" y="300275"/>
                  <a:pt x="128494" y="282115"/>
                  <a:pt x="118495" y="264588"/>
                </a:cubicBezTo>
                <a:lnTo>
                  <a:pt x="99289" y="237010"/>
                </a:lnTo>
                <a:lnTo>
                  <a:pt x="131773" y="245625"/>
                </a:lnTo>
                <a:cubicBezTo>
                  <a:pt x="151663" y="249028"/>
                  <a:pt x="171554" y="250582"/>
                  <a:pt x="191158" y="250293"/>
                </a:cubicBezTo>
                <a:cubicBezTo>
                  <a:pt x="188040" y="230936"/>
                  <a:pt x="183054" y="211617"/>
                  <a:pt x="176250" y="192620"/>
                </a:cubicBezTo>
                <a:lnTo>
                  <a:pt x="162125" y="162124"/>
                </a:lnTo>
                <a:lnTo>
                  <a:pt x="192619" y="176251"/>
                </a:lnTo>
                <a:cubicBezTo>
                  <a:pt x="211616" y="183054"/>
                  <a:pt x="230935" y="188040"/>
                  <a:pt x="250292" y="191159"/>
                </a:cubicBezTo>
                <a:cubicBezTo>
                  <a:pt x="250581" y="171554"/>
                  <a:pt x="249027" y="151663"/>
                  <a:pt x="245625" y="131774"/>
                </a:cubicBezTo>
                <a:lnTo>
                  <a:pt x="237009" y="99287"/>
                </a:lnTo>
                <a:lnTo>
                  <a:pt x="264588" y="118495"/>
                </a:lnTo>
                <a:cubicBezTo>
                  <a:pt x="282116" y="128494"/>
                  <a:pt x="300275" y="136758"/>
                  <a:pt x="318796" y="143192"/>
                </a:cubicBezTo>
                <a:cubicBezTo>
                  <a:pt x="322486" y="123935"/>
                  <a:pt x="324409" y="104076"/>
                  <a:pt x="324513" y="83897"/>
                </a:cubicBezTo>
                <a:lnTo>
                  <a:pt x="321669" y="50411"/>
                </a:lnTo>
                <a:lnTo>
                  <a:pt x="345493" y="74115"/>
                </a:lnTo>
                <a:cubicBezTo>
                  <a:pt x="361017" y="87006"/>
                  <a:pt x="377466" y="98297"/>
                  <a:pt x="394589" y="107850"/>
                </a:cubicBezTo>
                <a:cubicBezTo>
                  <a:pt x="401566" y="89526"/>
                  <a:pt x="406909" y="70302"/>
                  <a:pt x="410514" y="50448"/>
                </a:cubicBezTo>
                <a:lnTo>
                  <a:pt x="413529" y="16974"/>
                </a:lnTo>
                <a:lnTo>
                  <a:pt x="432877" y="44457"/>
                </a:lnTo>
                <a:cubicBezTo>
                  <a:pt x="445926" y="59848"/>
                  <a:pt x="460165" y="73825"/>
                  <a:pt x="475368" y="86205"/>
                </a:cubicBezTo>
                <a:cubicBezTo>
                  <a:pt x="485422" y="69371"/>
                  <a:pt x="494020" y="51368"/>
                  <a:pt x="501019" y="32441"/>
                </a:cubicBezTo>
                <a:lnTo>
                  <a:pt x="509800" y="1"/>
                </a:lnTo>
                <a:lnTo>
                  <a:pt x="524080" y="30424"/>
                </a:lnTo>
                <a:cubicBezTo>
                  <a:pt x="534259" y="47847"/>
                  <a:pt x="545854" y="64083"/>
                  <a:pt x="558677" y="78916"/>
                </a:cubicBezTo>
                <a:cubicBezTo>
                  <a:pt x="571502" y="64083"/>
                  <a:pt x="583096" y="47846"/>
                  <a:pt x="593275" y="30423"/>
                </a:cubicBezTo>
                <a:close/>
              </a:path>
            </a:pathLst>
          </a:custGeom>
          <a:solidFill>
            <a:srgbClr val="c0e750"/>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4800" spc="-1" strike="noStrike">
              <a:solidFill>
                <a:srgbClr val="505050"/>
              </a:solidFill>
              <a:latin typeface="方正兰亭超细黑简体"/>
              <a:ea typeface="方正兰亭超细黑简体"/>
            </a:endParaRPr>
          </a:p>
        </p:txBody>
      </p:sp>
      <p:sp>
        <p:nvSpPr>
          <p:cNvPr id="138" name="KSO_Shape"/>
          <p:cNvSpPr/>
          <p:nvPr/>
        </p:nvSpPr>
        <p:spPr>
          <a:xfrm>
            <a:off x="2993040" y="4929480"/>
            <a:ext cx="865080" cy="865080"/>
          </a:xfrm>
          <a:custGeom>
            <a:avLst/>
            <a:gdLst>
              <a:gd name="textAreaLeft" fmla="*/ 0 w 865080"/>
              <a:gd name="textAreaRight" fmla="*/ 865440 w 865080"/>
              <a:gd name="textAreaTop" fmla="*/ 0 h 865080"/>
              <a:gd name="textAreaBottom" fmla="*/ 865440 h 865080"/>
            </a:gdLst>
            <a:ahLst/>
            <a:rect l="textAreaLeft" t="textAreaTop" r="textAreaRight" b="textAreaBottom"/>
            <a:pathLst>
              <a:path w="1117355" h="1117355">
                <a:moveTo>
                  <a:pt x="607556" y="0"/>
                </a:moveTo>
                <a:lnTo>
                  <a:pt x="616337" y="32441"/>
                </a:lnTo>
                <a:cubicBezTo>
                  <a:pt x="623336" y="51367"/>
                  <a:pt x="631935" y="69370"/>
                  <a:pt x="641988" y="86205"/>
                </a:cubicBezTo>
                <a:cubicBezTo>
                  <a:pt x="657192" y="73824"/>
                  <a:pt x="671430" y="59848"/>
                  <a:pt x="684480" y="44457"/>
                </a:cubicBezTo>
                <a:lnTo>
                  <a:pt x="703827" y="16976"/>
                </a:lnTo>
                <a:lnTo>
                  <a:pt x="706841" y="50449"/>
                </a:lnTo>
                <a:cubicBezTo>
                  <a:pt x="710447" y="70302"/>
                  <a:pt x="715790" y="89525"/>
                  <a:pt x="722767" y="107849"/>
                </a:cubicBezTo>
                <a:cubicBezTo>
                  <a:pt x="739889" y="98297"/>
                  <a:pt x="756338" y="87005"/>
                  <a:pt x="771862" y="74114"/>
                </a:cubicBezTo>
                <a:lnTo>
                  <a:pt x="795686" y="50411"/>
                </a:lnTo>
                <a:lnTo>
                  <a:pt x="792843" y="83897"/>
                </a:lnTo>
                <a:cubicBezTo>
                  <a:pt x="792946" y="104075"/>
                  <a:pt x="794869" y="123935"/>
                  <a:pt x="798558" y="143192"/>
                </a:cubicBezTo>
                <a:cubicBezTo>
                  <a:pt x="817080" y="136758"/>
                  <a:pt x="835240" y="128494"/>
                  <a:pt x="852767" y="118495"/>
                </a:cubicBezTo>
                <a:lnTo>
                  <a:pt x="880346" y="99288"/>
                </a:lnTo>
                <a:lnTo>
                  <a:pt x="871730" y="131774"/>
                </a:lnTo>
                <a:cubicBezTo>
                  <a:pt x="868328" y="151663"/>
                  <a:pt x="866774" y="171555"/>
                  <a:pt x="867062" y="191159"/>
                </a:cubicBezTo>
                <a:cubicBezTo>
                  <a:pt x="886420" y="188040"/>
                  <a:pt x="905740" y="183055"/>
                  <a:pt x="924737" y="176251"/>
                </a:cubicBezTo>
                <a:lnTo>
                  <a:pt x="955231" y="162125"/>
                </a:lnTo>
                <a:lnTo>
                  <a:pt x="941105" y="192620"/>
                </a:lnTo>
                <a:cubicBezTo>
                  <a:pt x="934301" y="211617"/>
                  <a:pt x="929316" y="230936"/>
                  <a:pt x="926196" y="250293"/>
                </a:cubicBezTo>
                <a:cubicBezTo>
                  <a:pt x="945801" y="250582"/>
                  <a:pt x="965692" y="249027"/>
                  <a:pt x="985583" y="245626"/>
                </a:cubicBezTo>
                <a:lnTo>
                  <a:pt x="1018066" y="237010"/>
                </a:lnTo>
                <a:lnTo>
                  <a:pt x="998860" y="264588"/>
                </a:lnTo>
                <a:cubicBezTo>
                  <a:pt x="988861" y="282115"/>
                  <a:pt x="980597" y="300275"/>
                  <a:pt x="974163" y="318796"/>
                </a:cubicBezTo>
                <a:cubicBezTo>
                  <a:pt x="993421" y="322486"/>
                  <a:pt x="1013279" y="324408"/>
                  <a:pt x="1033458" y="324513"/>
                </a:cubicBezTo>
                <a:lnTo>
                  <a:pt x="1066945" y="321669"/>
                </a:lnTo>
                <a:lnTo>
                  <a:pt x="1043241" y="345493"/>
                </a:lnTo>
                <a:cubicBezTo>
                  <a:pt x="1030350" y="361018"/>
                  <a:pt x="1019057" y="377467"/>
                  <a:pt x="1009506" y="394590"/>
                </a:cubicBezTo>
                <a:cubicBezTo>
                  <a:pt x="1027829" y="401567"/>
                  <a:pt x="1047052" y="406909"/>
                  <a:pt x="1066906" y="410515"/>
                </a:cubicBezTo>
                <a:lnTo>
                  <a:pt x="1100380" y="413529"/>
                </a:lnTo>
                <a:lnTo>
                  <a:pt x="1072898" y="432875"/>
                </a:lnTo>
                <a:cubicBezTo>
                  <a:pt x="1057507" y="445926"/>
                  <a:pt x="1043531" y="460165"/>
                  <a:pt x="1031151" y="475368"/>
                </a:cubicBezTo>
                <a:cubicBezTo>
                  <a:pt x="1047984" y="485421"/>
                  <a:pt x="1065988" y="494020"/>
                  <a:pt x="1084914" y="501019"/>
                </a:cubicBezTo>
                <a:lnTo>
                  <a:pt x="1117353" y="509800"/>
                </a:lnTo>
                <a:lnTo>
                  <a:pt x="1086932" y="524080"/>
                </a:lnTo>
                <a:cubicBezTo>
                  <a:pt x="1069509" y="534259"/>
                  <a:pt x="1053271" y="545854"/>
                  <a:pt x="1038439" y="558677"/>
                </a:cubicBezTo>
                <a:cubicBezTo>
                  <a:pt x="1053272" y="571501"/>
                  <a:pt x="1069509" y="583096"/>
                  <a:pt x="1086931" y="593274"/>
                </a:cubicBezTo>
                <a:lnTo>
                  <a:pt x="1117355" y="607555"/>
                </a:lnTo>
                <a:lnTo>
                  <a:pt x="1084914" y="616336"/>
                </a:lnTo>
                <a:cubicBezTo>
                  <a:pt x="1065988" y="623335"/>
                  <a:pt x="1047984" y="631934"/>
                  <a:pt x="1031150" y="641988"/>
                </a:cubicBezTo>
                <a:cubicBezTo>
                  <a:pt x="1043531" y="657191"/>
                  <a:pt x="1057507" y="671430"/>
                  <a:pt x="1072898" y="684480"/>
                </a:cubicBezTo>
                <a:lnTo>
                  <a:pt x="1100380" y="703827"/>
                </a:lnTo>
                <a:lnTo>
                  <a:pt x="1066906" y="706840"/>
                </a:lnTo>
                <a:cubicBezTo>
                  <a:pt x="1047052" y="710447"/>
                  <a:pt x="1027829" y="715789"/>
                  <a:pt x="1009506" y="722766"/>
                </a:cubicBezTo>
                <a:cubicBezTo>
                  <a:pt x="1019057" y="739889"/>
                  <a:pt x="1030349" y="756338"/>
                  <a:pt x="1043241" y="771862"/>
                </a:cubicBezTo>
                <a:lnTo>
                  <a:pt x="1066944" y="795686"/>
                </a:lnTo>
                <a:lnTo>
                  <a:pt x="1033457" y="792842"/>
                </a:lnTo>
                <a:cubicBezTo>
                  <a:pt x="1013279" y="792946"/>
                  <a:pt x="993420" y="794869"/>
                  <a:pt x="974163" y="798558"/>
                </a:cubicBezTo>
                <a:cubicBezTo>
                  <a:pt x="980597" y="817079"/>
                  <a:pt x="988861" y="835239"/>
                  <a:pt x="998861" y="852767"/>
                </a:cubicBezTo>
                <a:lnTo>
                  <a:pt x="1018067" y="880346"/>
                </a:lnTo>
                <a:lnTo>
                  <a:pt x="985583" y="871730"/>
                </a:lnTo>
                <a:cubicBezTo>
                  <a:pt x="965693" y="868328"/>
                  <a:pt x="945802" y="866773"/>
                  <a:pt x="926197" y="867062"/>
                </a:cubicBezTo>
                <a:cubicBezTo>
                  <a:pt x="929316" y="886420"/>
                  <a:pt x="934301" y="905738"/>
                  <a:pt x="941106" y="924736"/>
                </a:cubicBezTo>
                <a:lnTo>
                  <a:pt x="955230" y="955231"/>
                </a:lnTo>
                <a:lnTo>
                  <a:pt x="924736" y="941105"/>
                </a:lnTo>
                <a:cubicBezTo>
                  <a:pt x="905739" y="934301"/>
                  <a:pt x="886420" y="929316"/>
                  <a:pt x="867062" y="926196"/>
                </a:cubicBezTo>
                <a:cubicBezTo>
                  <a:pt x="866773" y="945801"/>
                  <a:pt x="868328" y="965692"/>
                  <a:pt x="871730" y="985583"/>
                </a:cubicBezTo>
                <a:lnTo>
                  <a:pt x="881237" y="1021426"/>
                </a:lnTo>
                <a:lnTo>
                  <a:pt x="798559" y="974163"/>
                </a:lnTo>
                <a:cubicBezTo>
                  <a:pt x="794870" y="993421"/>
                  <a:pt x="792946" y="1013280"/>
                  <a:pt x="792843" y="1033459"/>
                </a:cubicBezTo>
                <a:lnTo>
                  <a:pt x="795980" y="1070407"/>
                </a:lnTo>
                <a:lnTo>
                  <a:pt x="722766" y="1009507"/>
                </a:lnTo>
                <a:cubicBezTo>
                  <a:pt x="715790" y="1027830"/>
                  <a:pt x="710446" y="1047053"/>
                  <a:pt x="706840" y="1066907"/>
                </a:cubicBezTo>
                <a:lnTo>
                  <a:pt x="703827" y="1100380"/>
                </a:lnTo>
                <a:lnTo>
                  <a:pt x="684480" y="1072899"/>
                </a:lnTo>
                <a:cubicBezTo>
                  <a:pt x="671430" y="1057508"/>
                  <a:pt x="657192" y="1043531"/>
                  <a:pt x="641988" y="1031150"/>
                </a:cubicBezTo>
                <a:cubicBezTo>
                  <a:pt x="631934" y="1047985"/>
                  <a:pt x="623336" y="1065989"/>
                  <a:pt x="616336" y="1084915"/>
                </a:cubicBezTo>
                <a:lnTo>
                  <a:pt x="607556" y="1117355"/>
                </a:lnTo>
                <a:lnTo>
                  <a:pt x="593275" y="1086932"/>
                </a:lnTo>
                <a:cubicBezTo>
                  <a:pt x="583096" y="1069509"/>
                  <a:pt x="571501" y="1053271"/>
                  <a:pt x="558678" y="1038439"/>
                </a:cubicBezTo>
                <a:cubicBezTo>
                  <a:pt x="545854" y="1053271"/>
                  <a:pt x="534259" y="1069508"/>
                  <a:pt x="524080" y="1086931"/>
                </a:cubicBezTo>
                <a:lnTo>
                  <a:pt x="509800" y="1117354"/>
                </a:lnTo>
                <a:lnTo>
                  <a:pt x="501019" y="1084915"/>
                </a:lnTo>
                <a:cubicBezTo>
                  <a:pt x="494020" y="1065988"/>
                  <a:pt x="485422" y="1047985"/>
                  <a:pt x="475369" y="1031151"/>
                </a:cubicBezTo>
                <a:cubicBezTo>
                  <a:pt x="460165" y="1043532"/>
                  <a:pt x="445926" y="1057508"/>
                  <a:pt x="432876" y="1072898"/>
                </a:cubicBezTo>
                <a:lnTo>
                  <a:pt x="413529" y="1100382"/>
                </a:lnTo>
                <a:lnTo>
                  <a:pt x="410514" y="1066908"/>
                </a:lnTo>
                <a:cubicBezTo>
                  <a:pt x="406908" y="1047053"/>
                  <a:pt x="401566" y="1027831"/>
                  <a:pt x="394589" y="1009506"/>
                </a:cubicBezTo>
                <a:cubicBezTo>
                  <a:pt x="377466" y="1019058"/>
                  <a:pt x="361017" y="1030350"/>
                  <a:pt x="345493" y="1043241"/>
                </a:cubicBezTo>
                <a:lnTo>
                  <a:pt x="321668" y="1066945"/>
                </a:lnTo>
                <a:lnTo>
                  <a:pt x="324512" y="1033458"/>
                </a:lnTo>
                <a:cubicBezTo>
                  <a:pt x="324409" y="1013280"/>
                  <a:pt x="322485" y="993421"/>
                  <a:pt x="318796" y="974164"/>
                </a:cubicBezTo>
                <a:cubicBezTo>
                  <a:pt x="300275" y="980597"/>
                  <a:pt x="282115" y="988861"/>
                  <a:pt x="264588" y="998861"/>
                </a:cubicBezTo>
                <a:lnTo>
                  <a:pt x="237009" y="1018067"/>
                </a:lnTo>
                <a:lnTo>
                  <a:pt x="245625" y="985583"/>
                </a:lnTo>
                <a:cubicBezTo>
                  <a:pt x="249026" y="965692"/>
                  <a:pt x="250582" y="945802"/>
                  <a:pt x="250293" y="926196"/>
                </a:cubicBezTo>
                <a:cubicBezTo>
                  <a:pt x="230935" y="929316"/>
                  <a:pt x="211616" y="934301"/>
                  <a:pt x="192619" y="941105"/>
                </a:cubicBezTo>
                <a:lnTo>
                  <a:pt x="162124" y="955230"/>
                </a:lnTo>
                <a:lnTo>
                  <a:pt x="176250" y="924736"/>
                </a:lnTo>
                <a:cubicBezTo>
                  <a:pt x="183053" y="905739"/>
                  <a:pt x="188039" y="886420"/>
                  <a:pt x="191158" y="867062"/>
                </a:cubicBezTo>
                <a:cubicBezTo>
                  <a:pt x="171553" y="866773"/>
                  <a:pt x="151663" y="868328"/>
                  <a:pt x="131772" y="871729"/>
                </a:cubicBezTo>
                <a:lnTo>
                  <a:pt x="99288" y="880346"/>
                </a:lnTo>
                <a:lnTo>
                  <a:pt x="118495" y="852766"/>
                </a:lnTo>
                <a:cubicBezTo>
                  <a:pt x="128494" y="835239"/>
                  <a:pt x="136758" y="817079"/>
                  <a:pt x="143192" y="798558"/>
                </a:cubicBezTo>
                <a:cubicBezTo>
                  <a:pt x="123935" y="794869"/>
                  <a:pt x="104076" y="792946"/>
                  <a:pt x="83897" y="792842"/>
                </a:cubicBezTo>
                <a:lnTo>
                  <a:pt x="50411" y="795685"/>
                </a:lnTo>
                <a:lnTo>
                  <a:pt x="74115" y="771862"/>
                </a:lnTo>
                <a:cubicBezTo>
                  <a:pt x="87006" y="756338"/>
                  <a:pt x="98298" y="739889"/>
                  <a:pt x="107850" y="722765"/>
                </a:cubicBezTo>
                <a:cubicBezTo>
                  <a:pt x="89526" y="715788"/>
                  <a:pt x="70303" y="710446"/>
                  <a:pt x="50448" y="706840"/>
                </a:cubicBezTo>
                <a:lnTo>
                  <a:pt x="16975" y="703826"/>
                </a:lnTo>
                <a:lnTo>
                  <a:pt x="44457" y="684480"/>
                </a:lnTo>
                <a:cubicBezTo>
                  <a:pt x="59848" y="671429"/>
                  <a:pt x="73825" y="657192"/>
                  <a:pt x="86205" y="641988"/>
                </a:cubicBezTo>
                <a:cubicBezTo>
                  <a:pt x="69371" y="631934"/>
                  <a:pt x="51368" y="623335"/>
                  <a:pt x="32441" y="616336"/>
                </a:cubicBezTo>
                <a:lnTo>
                  <a:pt x="0" y="607555"/>
                </a:lnTo>
                <a:lnTo>
                  <a:pt x="30424" y="593275"/>
                </a:lnTo>
                <a:cubicBezTo>
                  <a:pt x="47847" y="583095"/>
                  <a:pt x="64084" y="571500"/>
                  <a:pt x="78916" y="558677"/>
                </a:cubicBezTo>
                <a:cubicBezTo>
                  <a:pt x="64083" y="545854"/>
                  <a:pt x="47846" y="534259"/>
                  <a:pt x="30424" y="524080"/>
                </a:cubicBezTo>
                <a:lnTo>
                  <a:pt x="1" y="509800"/>
                </a:lnTo>
                <a:lnTo>
                  <a:pt x="32441" y="501019"/>
                </a:lnTo>
                <a:cubicBezTo>
                  <a:pt x="51367" y="494020"/>
                  <a:pt x="69371" y="485421"/>
                  <a:pt x="86205" y="475369"/>
                </a:cubicBezTo>
                <a:cubicBezTo>
                  <a:pt x="73825" y="460164"/>
                  <a:pt x="59848" y="445926"/>
                  <a:pt x="44457" y="432875"/>
                </a:cubicBezTo>
                <a:lnTo>
                  <a:pt x="16976" y="413530"/>
                </a:lnTo>
                <a:lnTo>
                  <a:pt x="50449" y="410515"/>
                </a:lnTo>
                <a:cubicBezTo>
                  <a:pt x="70302" y="406909"/>
                  <a:pt x="89526" y="401567"/>
                  <a:pt x="107850" y="394590"/>
                </a:cubicBezTo>
                <a:cubicBezTo>
                  <a:pt x="98298" y="377467"/>
                  <a:pt x="87005" y="361018"/>
                  <a:pt x="74114" y="345493"/>
                </a:cubicBezTo>
                <a:lnTo>
                  <a:pt x="50410" y="321668"/>
                </a:lnTo>
                <a:lnTo>
                  <a:pt x="83898" y="324512"/>
                </a:lnTo>
                <a:cubicBezTo>
                  <a:pt x="104076" y="324409"/>
                  <a:pt x="123935" y="322486"/>
                  <a:pt x="143192" y="318797"/>
                </a:cubicBezTo>
                <a:cubicBezTo>
                  <a:pt x="136758" y="300275"/>
                  <a:pt x="128494" y="282115"/>
                  <a:pt x="118495" y="264588"/>
                </a:cubicBezTo>
                <a:lnTo>
                  <a:pt x="99289" y="237010"/>
                </a:lnTo>
                <a:lnTo>
                  <a:pt x="131773" y="245625"/>
                </a:lnTo>
                <a:cubicBezTo>
                  <a:pt x="151663" y="249028"/>
                  <a:pt x="171554" y="250582"/>
                  <a:pt x="191158" y="250293"/>
                </a:cubicBezTo>
                <a:cubicBezTo>
                  <a:pt x="188040" y="230936"/>
                  <a:pt x="183054" y="211617"/>
                  <a:pt x="176250" y="192620"/>
                </a:cubicBezTo>
                <a:lnTo>
                  <a:pt x="162125" y="162124"/>
                </a:lnTo>
                <a:lnTo>
                  <a:pt x="192619" y="176251"/>
                </a:lnTo>
                <a:cubicBezTo>
                  <a:pt x="211616" y="183054"/>
                  <a:pt x="230935" y="188040"/>
                  <a:pt x="250292" y="191159"/>
                </a:cubicBezTo>
                <a:cubicBezTo>
                  <a:pt x="250581" y="171554"/>
                  <a:pt x="249027" y="151663"/>
                  <a:pt x="245625" y="131774"/>
                </a:cubicBezTo>
                <a:lnTo>
                  <a:pt x="237009" y="99287"/>
                </a:lnTo>
                <a:lnTo>
                  <a:pt x="264588" y="118495"/>
                </a:lnTo>
                <a:cubicBezTo>
                  <a:pt x="282116" y="128494"/>
                  <a:pt x="300275" y="136758"/>
                  <a:pt x="318796" y="143192"/>
                </a:cubicBezTo>
                <a:cubicBezTo>
                  <a:pt x="322486" y="123935"/>
                  <a:pt x="324409" y="104076"/>
                  <a:pt x="324513" y="83897"/>
                </a:cubicBezTo>
                <a:lnTo>
                  <a:pt x="321669" y="50411"/>
                </a:lnTo>
                <a:lnTo>
                  <a:pt x="345493" y="74115"/>
                </a:lnTo>
                <a:cubicBezTo>
                  <a:pt x="361017" y="87006"/>
                  <a:pt x="377466" y="98297"/>
                  <a:pt x="394589" y="107850"/>
                </a:cubicBezTo>
                <a:cubicBezTo>
                  <a:pt x="401566" y="89526"/>
                  <a:pt x="406909" y="70302"/>
                  <a:pt x="410514" y="50448"/>
                </a:cubicBezTo>
                <a:lnTo>
                  <a:pt x="413529" y="16974"/>
                </a:lnTo>
                <a:lnTo>
                  <a:pt x="432877" y="44457"/>
                </a:lnTo>
                <a:cubicBezTo>
                  <a:pt x="445926" y="59848"/>
                  <a:pt x="460165" y="73825"/>
                  <a:pt x="475368" y="86205"/>
                </a:cubicBezTo>
                <a:cubicBezTo>
                  <a:pt x="485422" y="69371"/>
                  <a:pt x="494020" y="51368"/>
                  <a:pt x="501019" y="32441"/>
                </a:cubicBezTo>
                <a:lnTo>
                  <a:pt x="509800" y="1"/>
                </a:lnTo>
                <a:lnTo>
                  <a:pt x="524080" y="30424"/>
                </a:lnTo>
                <a:cubicBezTo>
                  <a:pt x="534259" y="47847"/>
                  <a:pt x="545854" y="64083"/>
                  <a:pt x="558677" y="78916"/>
                </a:cubicBezTo>
                <a:cubicBezTo>
                  <a:pt x="571502" y="64083"/>
                  <a:pt x="583096" y="47846"/>
                  <a:pt x="593275" y="30423"/>
                </a:cubicBezTo>
                <a:close/>
              </a:path>
            </a:pathLst>
          </a:custGeom>
          <a:solidFill>
            <a:srgbClr val="c0e750"/>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4800" spc="-1" strike="noStrike">
              <a:solidFill>
                <a:srgbClr val="505050"/>
              </a:solidFill>
              <a:latin typeface="方正兰亭超细黑简体"/>
              <a:ea typeface="方正兰亭超细黑简体"/>
            </a:endParaRPr>
          </a:p>
        </p:txBody>
      </p:sp>
      <p:sp>
        <p:nvSpPr>
          <p:cNvPr id="139" name="KSO_Shape"/>
          <p:cNvSpPr/>
          <p:nvPr/>
        </p:nvSpPr>
        <p:spPr>
          <a:xfrm>
            <a:off x="2993040" y="5872680"/>
            <a:ext cx="865080" cy="865080"/>
          </a:xfrm>
          <a:custGeom>
            <a:avLst/>
            <a:gdLst>
              <a:gd name="textAreaLeft" fmla="*/ 0 w 865080"/>
              <a:gd name="textAreaRight" fmla="*/ 865440 w 865080"/>
              <a:gd name="textAreaTop" fmla="*/ 0 h 865080"/>
              <a:gd name="textAreaBottom" fmla="*/ 865440 h 865080"/>
            </a:gdLst>
            <a:ahLst/>
            <a:rect l="textAreaLeft" t="textAreaTop" r="textAreaRight" b="textAreaBottom"/>
            <a:pathLst>
              <a:path w="1117355" h="1117355">
                <a:moveTo>
                  <a:pt x="607556" y="0"/>
                </a:moveTo>
                <a:lnTo>
                  <a:pt x="616337" y="32441"/>
                </a:lnTo>
                <a:cubicBezTo>
                  <a:pt x="623336" y="51367"/>
                  <a:pt x="631935" y="69370"/>
                  <a:pt x="641988" y="86205"/>
                </a:cubicBezTo>
                <a:cubicBezTo>
                  <a:pt x="657192" y="73824"/>
                  <a:pt x="671430" y="59848"/>
                  <a:pt x="684480" y="44457"/>
                </a:cubicBezTo>
                <a:lnTo>
                  <a:pt x="703827" y="16976"/>
                </a:lnTo>
                <a:lnTo>
                  <a:pt x="706841" y="50449"/>
                </a:lnTo>
                <a:cubicBezTo>
                  <a:pt x="710447" y="70302"/>
                  <a:pt x="715790" y="89525"/>
                  <a:pt x="722767" y="107849"/>
                </a:cubicBezTo>
                <a:cubicBezTo>
                  <a:pt x="739889" y="98297"/>
                  <a:pt x="756338" y="87005"/>
                  <a:pt x="771862" y="74114"/>
                </a:cubicBezTo>
                <a:lnTo>
                  <a:pt x="795686" y="50411"/>
                </a:lnTo>
                <a:lnTo>
                  <a:pt x="792843" y="83897"/>
                </a:lnTo>
                <a:cubicBezTo>
                  <a:pt x="792946" y="104075"/>
                  <a:pt x="794869" y="123935"/>
                  <a:pt x="798558" y="143192"/>
                </a:cubicBezTo>
                <a:cubicBezTo>
                  <a:pt x="817080" y="136758"/>
                  <a:pt x="835240" y="128494"/>
                  <a:pt x="852767" y="118495"/>
                </a:cubicBezTo>
                <a:lnTo>
                  <a:pt x="880346" y="99288"/>
                </a:lnTo>
                <a:lnTo>
                  <a:pt x="871730" y="131774"/>
                </a:lnTo>
                <a:cubicBezTo>
                  <a:pt x="868328" y="151663"/>
                  <a:pt x="866774" y="171555"/>
                  <a:pt x="867062" y="191159"/>
                </a:cubicBezTo>
                <a:cubicBezTo>
                  <a:pt x="886420" y="188040"/>
                  <a:pt x="905740" y="183055"/>
                  <a:pt x="924737" y="176251"/>
                </a:cubicBezTo>
                <a:lnTo>
                  <a:pt x="955231" y="162125"/>
                </a:lnTo>
                <a:lnTo>
                  <a:pt x="941105" y="192620"/>
                </a:lnTo>
                <a:cubicBezTo>
                  <a:pt x="934301" y="211617"/>
                  <a:pt x="929316" y="230936"/>
                  <a:pt x="926196" y="250293"/>
                </a:cubicBezTo>
                <a:cubicBezTo>
                  <a:pt x="945801" y="250582"/>
                  <a:pt x="965692" y="249027"/>
                  <a:pt x="985583" y="245626"/>
                </a:cubicBezTo>
                <a:lnTo>
                  <a:pt x="1018066" y="237010"/>
                </a:lnTo>
                <a:lnTo>
                  <a:pt x="998860" y="264588"/>
                </a:lnTo>
                <a:cubicBezTo>
                  <a:pt x="988861" y="282115"/>
                  <a:pt x="980597" y="300275"/>
                  <a:pt x="974163" y="318796"/>
                </a:cubicBezTo>
                <a:cubicBezTo>
                  <a:pt x="993421" y="322486"/>
                  <a:pt x="1013279" y="324408"/>
                  <a:pt x="1033458" y="324513"/>
                </a:cubicBezTo>
                <a:lnTo>
                  <a:pt x="1066945" y="321669"/>
                </a:lnTo>
                <a:lnTo>
                  <a:pt x="1043241" y="345493"/>
                </a:lnTo>
                <a:cubicBezTo>
                  <a:pt x="1030350" y="361018"/>
                  <a:pt x="1019057" y="377467"/>
                  <a:pt x="1009506" y="394590"/>
                </a:cubicBezTo>
                <a:cubicBezTo>
                  <a:pt x="1027829" y="401567"/>
                  <a:pt x="1047052" y="406909"/>
                  <a:pt x="1066906" y="410515"/>
                </a:cubicBezTo>
                <a:lnTo>
                  <a:pt x="1100380" y="413529"/>
                </a:lnTo>
                <a:lnTo>
                  <a:pt x="1072898" y="432875"/>
                </a:lnTo>
                <a:cubicBezTo>
                  <a:pt x="1057507" y="445926"/>
                  <a:pt x="1043531" y="460165"/>
                  <a:pt x="1031151" y="475368"/>
                </a:cubicBezTo>
                <a:cubicBezTo>
                  <a:pt x="1047984" y="485421"/>
                  <a:pt x="1065988" y="494020"/>
                  <a:pt x="1084914" y="501019"/>
                </a:cubicBezTo>
                <a:lnTo>
                  <a:pt x="1117353" y="509800"/>
                </a:lnTo>
                <a:lnTo>
                  <a:pt x="1086932" y="524080"/>
                </a:lnTo>
                <a:cubicBezTo>
                  <a:pt x="1069509" y="534259"/>
                  <a:pt x="1053271" y="545854"/>
                  <a:pt x="1038439" y="558677"/>
                </a:cubicBezTo>
                <a:cubicBezTo>
                  <a:pt x="1053272" y="571501"/>
                  <a:pt x="1069509" y="583096"/>
                  <a:pt x="1086931" y="593274"/>
                </a:cubicBezTo>
                <a:lnTo>
                  <a:pt x="1117355" y="607555"/>
                </a:lnTo>
                <a:lnTo>
                  <a:pt x="1084914" y="616336"/>
                </a:lnTo>
                <a:cubicBezTo>
                  <a:pt x="1065988" y="623335"/>
                  <a:pt x="1047984" y="631934"/>
                  <a:pt x="1031150" y="641988"/>
                </a:cubicBezTo>
                <a:cubicBezTo>
                  <a:pt x="1043531" y="657191"/>
                  <a:pt x="1057507" y="671430"/>
                  <a:pt x="1072898" y="684480"/>
                </a:cubicBezTo>
                <a:lnTo>
                  <a:pt x="1100380" y="703827"/>
                </a:lnTo>
                <a:lnTo>
                  <a:pt x="1066906" y="706840"/>
                </a:lnTo>
                <a:cubicBezTo>
                  <a:pt x="1047052" y="710447"/>
                  <a:pt x="1027829" y="715789"/>
                  <a:pt x="1009506" y="722766"/>
                </a:cubicBezTo>
                <a:cubicBezTo>
                  <a:pt x="1019057" y="739889"/>
                  <a:pt x="1030349" y="756338"/>
                  <a:pt x="1043241" y="771862"/>
                </a:cubicBezTo>
                <a:lnTo>
                  <a:pt x="1066944" y="795686"/>
                </a:lnTo>
                <a:lnTo>
                  <a:pt x="1033457" y="792842"/>
                </a:lnTo>
                <a:cubicBezTo>
                  <a:pt x="1013279" y="792946"/>
                  <a:pt x="993420" y="794869"/>
                  <a:pt x="974163" y="798558"/>
                </a:cubicBezTo>
                <a:cubicBezTo>
                  <a:pt x="980597" y="817079"/>
                  <a:pt x="988861" y="835239"/>
                  <a:pt x="998861" y="852767"/>
                </a:cubicBezTo>
                <a:lnTo>
                  <a:pt x="1018067" y="880346"/>
                </a:lnTo>
                <a:lnTo>
                  <a:pt x="985583" y="871730"/>
                </a:lnTo>
                <a:cubicBezTo>
                  <a:pt x="965693" y="868328"/>
                  <a:pt x="945802" y="866773"/>
                  <a:pt x="926197" y="867062"/>
                </a:cubicBezTo>
                <a:cubicBezTo>
                  <a:pt x="929316" y="886420"/>
                  <a:pt x="934301" y="905738"/>
                  <a:pt x="941106" y="924736"/>
                </a:cubicBezTo>
                <a:lnTo>
                  <a:pt x="955230" y="955231"/>
                </a:lnTo>
                <a:lnTo>
                  <a:pt x="924736" y="941105"/>
                </a:lnTo>
                <a:cubicBezTo>
                  <a:pt x="905739" y="934301"/>
                  <a:pt x="886420" y="929316"/>
                  <a:pt x="867062" y="926196"/>
                </a:cubicBezTo>
                <a:cubicBezTo>
                  <a:pt x="866773" y="945801"/>
                  <a:pt x="868328" y="965692"/>
                  <a:pt x="871730" y="985583"/>
                </a:cubicBezTo>
                <a:lnTo>
                  <a:pt x="881237" y="1021426"/>
                </a:lnTo>
                <a:lnTo>
                  <a:pt x="798559" y="974163"/>
                </a:lnTo>
                <a:cubicBezTo>
                  <a:pt x="794870" y="993421"/>
                  <a:pt x="792946" y="1013280"/>
                  <a:pt x="792843" y="1033459"/>
                </a:cubicBezTo>
                <a:lnTo>
                  <a:pt x="795980" y="1070407"/>
                </a:lnTo>
                <a:lnTo>
                  <a:pt x="722766" y="1009507"/>
                </a:lnTo>
                <a:cubicBezTo>
                  <a:pt x="715790" y="1027830"/>
                  <a:pt x="710446" y="1047053"/>
                  <a:pt x="706840" y="1066907"/>
                </a:cubicBezTo>
                <a:lnTo>
                  <a:pt x="703827" y="1100380"/>
                </a:lnTo>
                <a:lnTo>
                  <a:pt x="684480" y="1072899"/>
                </a:lnTo>
                <a:cubicBezTo>
                  <a:pt x="671430" y="1057508"/>
                  <a:pt x="657192" y="1043531"/>
                  <a:pt x="641988" y="1031150"/>
                </a:cubicBezTo>
                <a:cubicBezTo>
                  <a:pt x="631934" y="1047985"/>
                  <a:pt x="623336" y="1065989"/>
                  <a:pt x="616336" y="1084915"/>
                </a:cubicBezTo>
                <a:lnTo>
                  <a:pt x="607556" y="1117355"/>
                </a:lnTo>
                <a:lnTo>
                  <a:pt x="593275" y="1086932"/>
                </a:lnTo>
                <a:cubicBezTo>
                  <a:pt x="583096" y="1069509"/>
                  <a:pt x="571501" y="1053271"/>
                  <a:pt x="558678" y="1038439"/>
                </a:cubicBezTo>
                <a:cubicBezTo>
                  <a:pt x="545854" y="1053271"/>
                  <a:pt x="534259" y="1069508"/>
                  <a:pt x="524080" y="1086931"/>
                </a:cubicBezTo>
                <a:lnTo>
                  <a:pt x="509800" y="1117354"/>
                </a:lnTo>
                <a:lnTo>
                  <a:pt x="501019" y="1084915"/>
                </a:lnTo>
                <a:cubicBezTo>
                  <a:pt x="494020" y="1065988"/>
                  <a:pt x="485422" y="1047985"/>
                  <a:pt x="475369" y="1031151"/>
                </a:cubicBezTo>
                <a:cubicBezTo>
                  <a:pt x="460165" y="1043532"/>
                  <a:pt x="445926" y="1057508"/>
                  <a:pt x="432876" y="1072898"/>
                </a:cubicBezTo>
                <a:lnTo>
                  <a:pt x="413529" y="1100382"/>
                </a:lnTo>
                <a:lnTo>
                  <a:pt x="410514" y="1066908"/>
                </a:lnTo>
                <a:cubicBezTo>
                  <a:pt x="406908" y="1047053"/>
                  <a:pt x="401566" y="1027831"/>
                  <a:pt x="394589" y="1009506"/>
                </a:cubicBezTo>
                <a:cubicBezTo>
                  <a:pt x="377466" y="1019058"/>
                  <a:pt x="361017" y="1030350"/>
                  <a:pt x="345493" y="1043241"/>
                </a:cubicBezTo>
                <a:lnTo>
                  <a:pt x="321668" y="1066945"/>
                </a:lnTo>
                <a:lnTo>
                  <a:pt x="324512" y="1033458"/>
                </a:lnTo>
                <a:cubicBezTo>
                  <a:pt x="324409" y="1013280"/>
                  <a:pt x="322485" y="993421"/>
                  <a:pt x="318796" y="974164"/>
                </a:cubicBezTo>
                <a:cubicBezTo>
                  <a:pt x="300275" y="980597"/>
                  <a:pt x="282115" y="988861"/>
                  <a:pt x="264588" y="998861"/>
                </a:cubicBezTo>
                <a:lnTo>
                  <a:pt x="237009" y="1018067"/>
                </a:lnTo>
                <a:lnTo>
                  <a:pt x="245625" y="985583"/>
                </a:lnTo>
                <a:cubicBezTo>
                  <a:pt x="249026" y="965692"/>
                  <a:pt x="250582" y="945802"/>
                  <a:pt x="250293" y="926196"/>
                </a:cubicBezTo>
                <a:cubicBezTo>
                  <a:pt x="230935" y="929316"/>
                  <a:pt x="211616" y="934301"/>
                  <a:pt x="192619" y="941105"/>
                </a:cubicBezTo>
                <a:lnTo>
                  <a:pt x="162124" y="955230"/>
                </a:lnTo>
                <a:lnTo>
                  <a:pt x="176250" y="924736"/>
                </a:lnTo>
                <a:cubicBezTo>
                  <a:pt x="183053" y="905739"/>
                  <a:pt x="188039" y="886420"/>
                  <a:pt x="191158" y="867062"/>
                </a:cubicBezTo>
                <a:cubicBezTo>
                  <a:pt x="171553" y="866773"/>
                  <a:pt x="151663" y="868328"/>
                  <a:pt x="131772" y="871729"/>
                </a:cubicBezTo>
                <a:lnTo>
                  <a:pt x="99288" y="880346"/>
                </a:lnTo>
                <a:lnTo>
                  <a:pt x="118495" y="852766"/>
                </a:lnTo>
                <a:cubicBezTo>
                  <a:pt x="128494" y="835239"/>
                  <a:pt x="136758" y="817079"/>
                  <a:pt x="143192" y="798558"/>
                </a:cubicBezTo>
                <a:cubicBezTo>
                  <a:pt x="123935" y="794869"/>
                  <a:pt x="104076" y="792946"/>
                  <a:pt x="83897" y="792842"/>
                </a:cubicBezTo>
                <a:lnTo>
                  <a:pt x="50411" y="795685"/>
                </a:lnTo>
                <a:lnTo>
                  <a:pt x="74115" y="771862"/>
                </a:lnTo>
                <a:cubicBezTo>
                  <a:pt x="87006" y="756338"/>
                  <a:pt x="98298" y="739889"/>
                  <a:pt x="107850" y="722765"/>
                </a:cubicBezTo>
                <a:cubicBezTo>
                  <a:pt x="89526" y="715788"/>
                  <a:pt x="70303" y="710446"/>
                  <a:pt x="50448" y="706840"/>
                </a:cubicBezTo>
                <a:lnTo>
                  <a:pt x="16975" y="703826"/>
                </a:lnTo>
                <a:lnTo>
                  <a:pt x="44457" y="684480"/>
                </a:lnTo>
                <a:cubicBezTo>
                  <a:pt x="59848" y="671429"/>
                  <a:pt x="73825" y="657192"/>
                  <a:pt x="86205" y="641988"/>
                </a:cubicBezTo>
                <a:cubicBezTo>
                  <a:pt x="69371" y="631934"/>
                  <a:pt x="51368" y="623335"/>
                  <a:pt x="32441" y="616336"/>
                </a:cubicBezTo>
                <a:lnTo>
                  <a:pt x="0" y="607555"/>
                </a:lnTo>
                <a:lnTo>
                  <a:pt x="30424" y="593275"/>
                </a:lnTo>
                <a:cubicBezTo>
                  <a:pt x="47847" y="583095"/>
                  <a:pt x="64084" y="571500"/>
                  <a:pt x="78916" y="558677"/>
                </a:cubicBezTo>
                <a:cubicBezTo>
                  <a:pt x="64083" y="545854"/>
                  <a:pt x="47846" y="534259"/>
                  <a:pt x="30424" y="524080"/>
                </a:cubicBezTo>
                <a:lnTo>
                  <a:pt x="1" y="509800"/>
                </a:lnTo>
                <a:lnTo>
                  <a:pt x="32441" y="501019"/>
                </a:lnTo>
                <a:cubicBezTo>
                  <a:pt x="51367" y="494020"/>
                  <a:pt x="69371" y="485421"/>
                  <a:pt x="86205" y="475369"/>
                </a:cubicBezTo>
                <a:cubicBezTo>
                  <a:pt x="73825" y="460164"/>
                  <a:pt x="59848" y="445926"/>
                  <a:pt x="44457" y="432875"/>
                </a:cubicBezTo>
                <a:lnTo>
                  <a:pt x="16976" y="413530"/>
                </a:lnTo>
                <a:lnTo>
                  <a:pt x="50449" y="410515"/>
                </a:lnTo>
                <a:cubicBezTo>
                  <a:pt x="70302" y="406909"/>
                  <a:pt x="89526" y="401567"/>
                  <a:pt x="107850" y="394590"/>
                </a:cubicBezTo>
                <a:cubicBezTo>
                  <a:pt x="98298" y="377467"/>
                  <a:pt x="87005" y="361018"/>
                  <a:pt x="74114" y="345493"/>
                </a:cubicBezTo>
                <a:lnTo>
                  <a:pt x="50410" y="321668"/>
                </a:lnTo>
                <a:lnTo>
                  <a:pt x="83898" y="324512"/>
                </a:lnTo>
                <a:cubicBezTo>
                  <a:pt x="104076" y="324409"/>
                  <a:pt x="123935" y="322486"/>
                  <a:pt x="143192" y="318797"/>
                </a:cubicBezTo>
                <a:cubicBezTo>
                  <a:pt x="136758" y="300275"/>
                  <a:pt x="128494" y="282115"/>
                  <a:pt x="118495" y="264588"/>
                </a:cubicBezTo>
                <a:lnTo>
                  <a:pt x="99289" y="237010"/>
                </a:lnTo>
                <a:lnTo>
                  <a:pt x="131773" y="245625"/>
                </a:lnTo>
                <a:cubicBezTo>
                  <a:pt x="151663" y="249028"/>
                  <a:pt x="171554" y="250582"/>
                  <a:pt x="191158" y="250293"/>
                </a:cubicBezTo>
                <a:cubicBezTo>
                  <a:pt x="188040" y="230936"/>
                  <a:pt x="183054" y="211617"/>
                  <a:pt x="176250" y="192620"/>
                </a:cubicBezTo>
                <a:lnTo>
                  <a:pt x="162125" y="162124"/>
                </a:lnTo>
                <a:lnTo>
                  <a:pt x="192619" y="176251"/>
                </a:lnTo>
                <a:cubicBezTo>
                  <a:pt x="211616" y="183054"/>
                  <a:pt x="230935" y="188040"/>
                  <a:pt x="250292" y="191159"/>
                </a:cubicBezTo>
                <a:cubicBezTo>
                  <a:pt x="250581" y="171554"/>
                  <a:pt x="249027" y="151663"/>
                  <a:pt x="245625" y="131774"/>
                </a:cubicBezTo>
                <a:lnTo>
                  <a:pt x="237009" y="99287"/>
                </a:lnTo>
                <a:lnTo>
                  <a:pt x="264588" y="118495"/>
                </a:lnTo>
                <a:cubicBezTo>
                  <a:pt x="282116" y="128494"/>
                  <a:pt x="300275" y="136758"/>
                  <a:pt x="318796" y="143192"/>
                </a:cubicBezTo>
                <a:cubicBezTo>
                  <a:pt x="322486" y="123935"/>
                  <a:pt x="324409" y="104076"/>
                  <a:pt x="324513" y="83897"/>
                </a:cubicBezTo>
                <a:lnTo>
                  <a:pt x="321669" y="50411"/>
                </a:lnTo>
                <a:lnTo>
                  <a:pt x="345493" y="74115"/>
                </a:lnTo>
                <a:cubicBezTo>
                  <a:pt x="361017" y="87006"/>
                  <a:pt x="377466" y="98297"/>
                  <a:pt x="394589" y="107850"/>
                </a:cubicBezTo>
                <a:cubicBezTo>
                  <a:pt x="401566" y="89526"/>
                  <a:pt x="406909" y="70302"/>
                  <a:pt x="410514" y="50448"/>
                </a:cubicBezTo>
                <a:lnTo>
                  <a:pt x="413529" y="16974"/>
                </a:lnTo>
                <a:lnTo>
                  <a:pt x="432877" y="44457"/>
                </a:lnTo>
                <a:cubicBezTo>
                  <a:pt x="445926" y="59848"/>
                  <a:pt x="460165" y="73825"/>
                  <a:pt x="475368" y="86205"/>
                </a:cubicBezTo>
                <a:cubicBezTo>
                  <a:pt x="485422" y="69371"/>
                  <a:pt x="494020" y="51368"/>
                  <a:pt x="501019" y="32441"/>
                </a:cubicBezTo>
                <a:lnTo>
                  <a:pt x="509800" y="1"/>
                </a:lnTo>
                <a:lnTo>
                  <a:pt x="524080" y="30424"/>
                </a:lnTo>
                <a:cubicBezTo>
                  <a:pt x="534259" y="47847"/>
                  <a:pt x="545854" y="64083"/>
                  <a:pt x="558677" y="78916"/>
                </a:cubicBezTo>
                <a:cubicBezTo>
                  <a:pt x="571502" y="64083"/>
                  <a:pt x="583096" y="47846"/>
                  <a:pt x="593275" y="30423"/>
                </a:cubicBezTo>
                <a:close/>
              </a:path>
            </a:pathLst>
          </a:custGeom>
          <a:solidFill>
            <a:srgbClr val="c0e750"/>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4800" spc="-1" strike="noStrike">
              <a:solidFill>
                <a:srgbClr val="505050"/>
              </a:solidFill>
              <a:latin typeface="方正兰亭超细黑简体"/>
              <a:ea typeface="方正兰亭超细黑简体"/>
            </a:endParaRPr>
          </a:p>
        </p:txBody>
      </p:sp>
      <p:sp>
        <p:nvSpPr>
          <p:cNvPr id="140" name="矩形 26"/>
          <p:cNvSpPr/>
          <p:nvPr/>
        </p:nvSpPr>
        <p:spPr>
          <a:xfrm>
            <a:off x="3213720" y="3196800"/>
            <a:ext cx="42336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200" spc="-1" strike="noStrike">
                <a:solidFill>
                  <a:srgbClr val="414141"/>
                </a:solidFill>
                <a:latin typeface="汉仪萝卜体简"/>
                <a:ea typeface="汉仪萝卜体简"/>
              </a:rPr>
              <a:t>1</a:t>
            </a:r>
            <a:endParaRPr b="0" lang="en-US" sz="3200" spc="-1" strike="noStrike">
              <a:solidFill>
                <a:srgbClr val="000000"/>
              </a:solidFill>
              <a:latin typeface="Arial"/>
            </a:endParaRPr>
          </a:p>
        </p:txBody>
      </p:sp>
      <p:sp>
        <p:nvSpPr>
          <p:cNvPr id="141" name="矩形 27"/>
          <p:cNvSpPr/>
          <p:nvPr/>
        </p:nvSpPr>
        <p:spPr>
          <a:xfrm>
            <a:off x="3213720" y="4119480"/>
            <a:ext cx="42336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200" spc="-1" strike="noStrike">
                <a:solidFill>
                  <a:srgbClr val="414141"/>
                </a:solidFill>
                <a:latin typeface="汉仪萝卜体简"/>
                <a:ea typeface="汉仪萝卜体简"/>
              </a:rPr>
              <a:t>2</a:t>
            </a:r>
            <a:endParaRPr b="0" lang="en-US" sz="3200" spc="-1" strike="noStrike">
              <a:solidFill>
                <a:srgbClr val="000000"/>
              </a:solidFill>
              <a:latin typeface="Arial"/>
            </a:endParaRPr>
          </a:p>
        </p:txBody>
      </p:sp>
      <p:sp>
        <p:nvSpPr>
          <p:cNvPr id="142" name="矩形 28"/>
          <p:cNvSpPr/>
          <p:nvPr/>
        </p:nvSpPr>
        <p:spPr>
          <a:xfrm>
            <a:off x="3213720" y="5061240"/>
            <a:ext cx="42336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200" spc="-1" strike="noStrike">
                <a:solidFill>
                  <a:srgbClr val="414141"/>
                </a:solidFill>
                <a:latin typeface="汉仪萝卜体简"/>
                <a:ea typeface="汉仪萝卜体简"/>
              </a:rPr>
              <a:t>3</a:t>
            </a:r>
            <a:endParaRPr b="0" lang="en-US" sz="3200" spc="-1" strike="noStrike">
              <a:solidFill>
                <a:srgbClr val="000000"/>
              </a:solidFill>
              <a:latin typeface="Arial"/>
            </a:endParaRPr>
          </a:p>
        </p:txBody>
      </p:sp>
      <p:sp>
        <p:nvSpPr>
          <p:cNvPr id="143" name="矩形 29"/>
          <p:cNvSpPr/>
          <p:nvPr/>
        </p:nvSpPr>
        <p:spPr>
          <a:xfrm>
            <a:off x="3213720" y="5989320"/>
            <a:ext cx="42336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200" spc="-1" strike="noStrike">
                <a:solidFill>
                  <a:srgbClr val="414141"/>
                </a:solidFill>
                <a:latin typeface="汉仪萝卜体简"/>
                <a:ea typeface="汉仪萝卜体简"/>
              </a:rPr>
              <a:t>4</a:t>
            </a:r>
            <a:endParaRPr b="0" lang="en-US" sz="3200" spc="-1" strike="noStrike">
              <a:solidFill>
                <a:srgbClr val="000000"/>
              </a:solidFill>
              <a:latin typeface="Arial"/>
            </a:endParaRPr>
          </a:p>
        </p:txBody>
      </p:sp>
    </p:spTree>
  </p:cSld>
  <mc:AlternateContent>
    <mc:Choice Requires="p14">
      <p:transition spd="slow" p14:dur="13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53" presetSubtype="16">
                                  <p:stCondLst>
                                    <p:cond delay="0"/>
                                  </p:stCondLst>
                                  <p:childTnLst>
                                    <p:set>
                                      <p:cBhvr>
                                        <p:cTn id="126" dur="1" fill="hold">
                                          <p:stCondLst>
                                            <p:cond delay="0"/>
                                          </p:stCondLst>
                                        </p:cTn>
                                        <p:tgtEl>
                                          <p:spTgt spid="126"/>
                                        </p:tgtEl>
                                        <p:attrNameLst>
                                          <p:attrName>style.visibility</p:attrName>
                                        </p:attrNameLst>
                                      </p:cBhvr>
                                      <p:to>
                                        <p:strVal val="visible"/>
                                      </p:to>
                                    </p:set>
                                    <p:anim calcmode="lin" valueType="num">
                                      <p:cBhvr additive="repl">
                                        <p:cTn id="127" dur="500" fill="hold"/>
                                        <p:tgtEl>
                                          <p:spTgt spid="126"/>
                                        </p:tgtEl>
                                        <p:attrNameLst>
                                          <p:attrName>ppt_w</p:attrName>
                                        </p:attrNameLst>
                                      </p:cBhvr>
                                      <p:tavLst>
                                        <p:tav tm="0">
                                          <p:val>
                                            <p:fltVal val="0"/>
                                          </p:val>
                                        </p:tav>
                                        <p:tav tm="100000">
                                          <p:val>
                                            <p:strVal val="#ppt_w"/>
                                          </p:val>
                                        </p:tav>
                                      </p:tavLst>
                                    </p:anim>
                                    <p:anim calcmode="lin" valueType="num">
                                      <p:cBhvr additive="repl">
                                        <p:cTn id="128" dur="500" fill="hold"/>
                                        <p:tgtEl>
                                          <p:spTgt spid="126"/>
                                        </p:tgtEl>
                                        <p:attrNameLst>
                                          <p:attrName>ppt_h</p:attrName>
                                        </p:attrNameLst>
                                      </p:cBhvr>
                                      <p:tavLst>
                                        <p:tav tm="0">
                                          <p:val>
                                            <p:fltVal val="0"/>
                                          </p:val>
                                        </p:tav>
                                        <p:tav tm="100000">
                                          <p:val>
                                            <p:strVal val="#ppt_h"/>
                                          </p:val>
                                        </p:tav>
                                      </p:tavLst>
                                    </p:anim>
                                    <p:animEffect filter="fade" transition="in">
                                      <p:cBhvr additive="repl">
                                        <p:cTn id="129" dur="500"/>
                                        <p:tgtEl>
                                          <p:spTgt spid="126"/>
                                        </p:tgtEl>
                                      </p:cBhvr>
                                    </p:animEffect>
                                  </p:childTnLst>
                                </p:cTn>
                              </p:par>
                              <p:par>
                                <p:cTn id="130" autoRev="1" nodeType="withEffect" fill="hold" presetClass="emph" presetID="6">
                                  <p:stCondLst>
                                    <p:cond delay="500"/>
                                  </p:stCondLst>
                                  <p:childTnLst>
                                    <p:animScale>
                                      <p:cBhvr>
                                        <p:cTn id="131" dur="200" fill="hold"/>
                                        <p:tgtEl>
                                          <p:spTgt spid="126"/>
                                        </p:tgtEl>
                                      </p:cBhvr>
                                      <p:by x="110000" y="110000"/>
                                    </p:animScale>
                                  </p:childTnLst>
                                </p:cTn>
                              </p:par>
                              <p:par>
                                <p:cTn id="132" nodeType="withEffect" fill="hold" presetClass="emph" presetID="8" repeatCount="indefinite">
                                  <p:stCondLst>
                                    <p:cond delay="900"/>
                                  </p:stCondLst>
                                  <p:childTnLst>
                                    <p:animRot by="600000">
                                      <p:cBhvr>
                                        <p:cTn id="133" dur="200" fill="hold"/>
                                        <p:tgtEl>
                                          <p:spTgt spid="126"/>
                                        </p:tgtEl>
                                        <p:attrNameLst>
                                          <p:attrName>r</p:attrName>
                                        </p:attrNameLst>
                                      </p:cBhvr>
                                    </p:animRot>
                                  </p:childTnLst>
                                </p:cTn>
                              </p:par>
                              <p:par>
                                <p:cTn id="134" nodeType="withEffect" fill="hold" presetClass="entr" presetID="10">
                                  <p:stCondLst>
                                    <p:cond delay="900"/>
                                  </p:stCondLst>
                                  <p:childTnLst>
                                    <p:set>
                                      <p:cBhvr>
                                        <p:cTn id="135" dur="1" fill="hold">
                                          <p:stCondLst>
                                            <p:cond delay="0"/>
                                          </p:stCondLst>
                                        </p:cTn>
                                        <p:tgtEl>
                                          <p:spTgt spid="127"/>
                                        </p:tgtEl>
                                        <p:attrNameLst>
                                          <p:attrName>style.visibility</p:attrName>
                                        </p:attrNameLst>
                                      </p:cBhvr>
                                      <p:to>
                                        <p:strVal val="visible"/>
                                      </p:to>
                                    </p:set>
                                    <p:animEffect filter="fade" transition="in">
                                      <p:cBhvr additive="repl">
                                        <p:cTn id="136" dur="300"/>
                                        <p:tgtEl>
                                          <p:spTgt spid="127"/>
                                        </p:tgtEl>
                                      </p:cBhvr>
                                    </p:animEffect>
                                  </p:childTnLst>
                                </p:cTn>
                              </p:par>
                              <p:par>
                                <p:cTn id="137" nodeType="withEffect" fill="hold" presetClass="entr" presetID="53" presetSubtype="16">
                                  <p:stCondLst>
                                    <p:cond delay="1200"/>
                                  </p:stCondLst>
                                  <p:childTnLst>
                                    <p:set>
                                      <p:cBhvr>
                                        <p:cTn id="138" dur="1" fill="hold">
                                          <p:stCondLst>
                                            <p:cond delay="0"/>
                                          </p:stCondLst>
                                        </p:cTn>
                                        <p:tgtEl>
                                          <p:spTgt spid="136"/>
                                        </p:tgtEl>
                                        <p:attrNameLst>
                                          <p:attrName>style.visibility</p:attrName>
                                        </p:attrNameLst>
                                      </p:cBhvr>
                                      <p:to>
                                        <p:strVal val="visible"/>
                                      </p:to>
                                    </p:set>
                                    <p:anim calcmode="lin" valueType="num">
                                      <p:cBhvr additive="repl">
                                        <p:cTn id="139" dur="500" fill="hold"/>
                                        <p:tgtEl>
                                          <p:spTgt spid="136"/>
                                        </p:tgtEl>
                                        <p:attrNameLst>
                                          <p:attrName>ppt_w</p:attrName>
                                        </p:attrNameLst>
                                      </p:cBhvr>
                                      <p:tavLst>
                                        <p:tav tm="0">
                                          <p:val>
                                            <p:fltVal val="0"/>
                                          </p:val>
                                        </p:tav>
                                        <p:tav tm="100000">
                                          <p:val>
                                            <p:strVal val="#ppt_w"/>
                                          </p:val>
                                        </p:tav>
                                      </p:tavLst>
                                    </p:anim>
                                    <p:anim calcmode="lin" valueType="num">
                                      <p:cBhvr additive="repl">
                                        <p:cTn id="140" dur="500" fill="hold"/>
                                        <p:tgtEl>
                                          <p:spTgt spid="136"/>
                                        </p:tgtEl>
                                        <p:attrNameLst>
                                          <p:attrName>ppt_h</p:attrName>
                                        </p:attrNameLst>
                                      </p:cBhvr>
                                      <p:tavLst>
                                        <p:tav tm="0">
                                          <p:val>
                                            <p:fltVal val="0"/>
                                          </p:val>
                                        </p:tav>
                                        <p:tav tm="100000">
                                          <p:val>
                                            <p:strVal val="#ppt_h"/>
                                          </p:val>
                                        </p:tav>
                                      </p:tavLst>
                                    </p:anim>
                                    <p:animEffect filter="fade" transition="in">
                                      <p:cBhvr additive="repl">
                                        <p:cTn id="141" dur="500"/>
                                        <p:tgtEl>
                                          <p:spTgt spid="136"/>
                                        </p:tgtEl>
                                      </p:cBhvr>
                                    </p:animEffect>
                                  </p:childTnLst>
                                </p:cTn>
                              </p:par>
                              <p:par>
                                <p:cTn id="142" autoRev="1" nodeType="withEffect" fill="hold" presetClass="emph" presetID="6">
                                  <p:stCondLst>
                                    <p:cond delay="1700"/>
                                  </p:stCondLst>
                                  <p:childTnLst>
                                    <p:animScale>
                                      <p:cBhvr>
                                        <p:cTn id="143" dur="200" fill="hold"/>
                                        <p:tgtEl>
                                          <p:spTgt spid="136"/>
                                        </p:tgtEl>
                                      </p:cBhvr>
                                      <p:by x="110000" y="110000"/>
                                    </p:animScale>
                                  </p:childTnLst>
                                </p:cTn>
                              </p:par>
                              <p:par>
                                <p:cTn id="144" nodeType="withEffect" fill="hold" presetClass="emph" presetID="8" repeatCount="indefinite">
                                  <p:stCondLst>
                                    <p:cond delay="2000"/>
                                  </p:stCondLst>
                                  <p:childTnLst>
                                    <p:animRot by="600000">
                                      <p:cBhvr>
                                        <p:cTn id="145" dur="200" fill="hold"/>
                                        <p:tgtEl>
                                          <p:spTgt spid="136"/>
                                        </p:tgtEl>
                                        <p:attrNameLst>
                                          <p:attrName>r</p:attrName>
                                        </p:attrNameLst>
                                      </p:cBhvr>
                                    </p:animRot>
                                  </p:childTnLst>
                                </p:cTn>
                              </p:par>
                              <p:par>
                                <p:cTn id="146" nodeType="withEffect" fill="hold" presetClass="entr" presetID="10">
                                  <p:stCondLst>
                                    <p:cond delay="2000"/>
                                  </p:stCondLst>
                                  <p:childTnLst>
                                    <p:set>
                                      <p:cBhvr>
                                        <p:cTn id="147" dur="1" fill="hold">
                                          <p:stCondLst>
                                            <p:cond delay="0"/>
                                          </p:stCondLst>
                                        </p:cTn>
                                        <p:tgtEl>
                                          <p:spTgt spid="140"/>
                                        </p:tgtEl>
                                        <p:attrNameLst>
                                          <p:attrName>style.visibility</p:attrName>
                                        </p:attrNameLst>
                                      </p:cBhvr>
                                      <p:to>
                                        <p:strVal val="visible"/>
                                      </p:to>
                                    </p:set>
                                    <p:animEffect filter="fade" transition="in">
                                      <p:cBhvr additive="repl">
                                        <p:cTn id="148" dur="300"/>
                                        <p:tgtEl>
                                          <p:spTgt spid="140"/>
                                        </p:tgtEl>
                                      </p:cBhvr>
                                    </p:animEffect>
                                  </p:childTnLst>
                                </p:cTn>
                              </p:par>
                              <p:par>
                                <p:cTn id="149" nodeType="withEffect" fill="hold" presetClass="entr" presetID="53" presetSubtype="16">
                                  <p:stCondLst>
                                    <p:cond delay="1700"/>
                                  </p:stCondLst>
                                  <p:childTnLst>
                                    <p:set>
                                      <p:cBhvr>
                                        <p:cTn id="150" dur="1" fill="hold">
                                          <p:stCondLst>
                                            <p:cond delay="0"/>
                                          </p:stCondLst>
                                        </p:cTn>
                                        <p:tgtEl>
                                          <p:spTgt spid="137"/>
                                        </p:tgtEl>
                                        <p:attrNameLst>
                                          <p:attrName>style.visibility</p:attrName>
                                        </p:attrNameLst>
                                      </p:cBhvr>
                                      <p:to>
                                        <p:strVal val="visible"/>
                                      </p:to>
                                    </p:set>
                                    <p:anim calcmode="lin" valueType="num">
                                      <p:cBhvr additive="repl">
                                        <p:cTn id="151" dur="500" fill="hold"/>
                                        <p:tgtEl>
                                          <p:spTgt spid="137"/>
                                        </p:tgtEl>
                                        <p:attrNameLst>
                                          <p:attrName>ppt_w</p:attrName>
                                        </p:attrNameLst>
                                      </p:cBhvr>
                                      <p:tavLst>
                                        <p:tav tm="0">
                                          <p:val>
                                            <p:fltVal val="0"/>
                                          </p:val>
                                        </p:tav>
                                        <p:tav tm="100000">
                                          <p:val>
                                            <p:strVal val="#ppt_w"/>
                                          </p:val>
                                        </p:tav>
                                      </p:tavLst>
                                    </p:anim>
                                    <p:anim calcmode="lin" valueType="num">
                                      <p:cBhvr additive="repl">
                                        <p:cTn id="152" dur="500" fill="hold"/>
                                        <p:tgtEl>
                                          <p:spTgt spid="137"/>
                                        </p:tgtEl>
                                        <p:attrNameLst>
                                          <p:attrName>ppt_h</p:attrName>
                                        </p:attrNameLst>
                                      </p:cBhvr>
                                      <p:tavLst>
                                        <p:tav tm="0">
                                          <p:val>
                                            <p:fltVal val="0"/>
                                          </p:val>
                                        </p:tav>
                                        <p:tav tm="100000">
                                          <p:val>
                                            <p:strVal val="#ppt_h"/>
                                          </p:val>
                                        </p:tav>
                                      </p:tavLst>
                                    </p:anim>
                                    <p:animEffect filter="fade" transition="in">
                                      <p:cBhvr additive="repl">
                                        <p:cTn id="153" dur="500"/>
                                        <p:tgtEl>
                                          <p:spTgt spid="137"/>
                                        </p:tgtEl>
                                      </p:cBhvr>
                                    </p:animEffect>
                                  </p:childTnLst>
                                </p:cTn>
                              </p:par>
                              <p:par>
                                <p:cTn id="154" autoRev="1" nodeType="withEffect" fill="hold" presetClass="emph" presetID="6">
                                  <p:stCondLst>
                                    <p:cond delay="2200"/>
                                  </p:stCondLst>
                                  <p:childTnLst>
                                    <p:animScale>
                                      <p:cBhvr>
                                        <p:cTn id="155" dur="200" fill="hold"/>
                                        <p:tgtEl>
                                          <p:spTgt spid="137"/>
                                        </p:tgtEl>
                                      </p:cBhvr>
                                      <p:by x="110000" y="110000"/>
                                    </p:animScale>
                                  </p:childTnLst>
                                </p:cTn>
                              </p:par>
                              <p:par>
                                <p:cTn id="156" nodeType="withEffect" fill="hold" presetClass="emph" presetID="8" repeatCount="indefinite">
                                  <p:stCondLst>
                                    <p:cond delay="2600"/>
                                  </p:stCondLst>
                                  <p:childTnLst>
                                    <p:animRot by="600000">
                                      <p:cBhvr>
                                        <p:cTn id="157" dur="200" fill="hold"/>
                                        <p:tgtEl>
                                          <p:spTgt spid="137"/>
                                        </p:tgtEl>
                                        <p:attrNameLst>
                                          <p:attrName>r</p:attrName>
                                        </p:attrNameLst>
                                      </p:cBhvr>
                                    </p:animRot>
                                  </p:childTnLst>
                                </p:cTn>
                              </p:par>
                              <p:par>
                                <p:cTn id="158" nodeType="withEffect" fill="hold" presetClass="entr" presetID="10">
                                  <p:stCondLst>
                                    <p:cond delay="2600"/>
                                  </p:stCondLst>
                                  <p:childTnLst>
                                    <p:set>
                                      <p:cBhvr>
                                        <p:cTn id="159" dur="1" fill="hold">
                                          <p:stCondLst>
                                            <p:cond delay="0"/>
                                          </p:stCondLst>
                                        </p:cTn>
                                        <p:tgtEl>
                                          <p:spTgt spid="141"/>
                                        </p:tgtEl>
                                        <p:attrNameLst>
                                          <p:attrName>style.visibility</p:attrName>
                                        </p:attrNameLst>
                                      </p:cBhvr>
                                      <p:to>
                                        <p:strVal val="visible"/>
                                      </p:to>
                                    </p:set>
                                    <p:animEffect filter="fade" transition="in">
                                      <p:cBhvr additive="repl">
                                        <p:cTn id="160" dur="300"/>
                                        <p:tgtEl>
                                          <p:spTgt spid="141"/>
                                        </p:tgtEl>
                                      </p:cBhvr>
                                    </p:animEffect>
                                  </p:childTnLst>
                                </p:cTn>
                              </p:par>
                              <p:par>
                                <p:cTn id="161" nodeType="withEffect" fill="hold" presetClass="entr" presetID="53" presetSubtype="16">
                                  <p:stCondLst>
                                    <p:cond delay="2200"/>
                                  </p:stCondLst>
                                  <p:childTnLst>
                                    <p:set>
                                      <p:cBhvr>
                                        <p:cTn id="162" dur="1" fill="hold">
                                          <p:stCondLst>
                                            <p:cond delay="0"/>
                                          </p:stCondLst>
                                        </p:cTn>
                                        <p:tgtEl>
                                          <p:spTgt spid="138"/>
                                        </p:tgtEl>
                                        <p:attrNameLst>
                                          <p:attrName>style.visibility</p:attrName>
                                        </p:attrNameLst>
                                      </p:cBhvr>
                                      <p:to>
                                        <p:strVal val="visible"/>
                                      </p:to>
                                    </p:set>
                                    <p:anim calcmode="lin" valueType="num">
                                      <p:cBhvr additive="repl">
                                        <p:cTn id="163" dur="500" fill="hold"/>
                                        <p:tgtEl>
                                          <p:spTgt spid="138"/>
                                        </p:tgtEl>
                                        <p:attrNameLst>
                                          <p:attrName>ppt_w</p:attrName>
                                        </p:attrNameLst>
                                      </p:cBhvr>
                                      <p:tavLst>
                                        <p:tav tm="0">
                                          <p:val>
                                            <p:fltVal val="0"/>
                                          </p:val>
                                        </p:tav>
                                        <p:tav tm="100000">
                                          <p:val>
                                            <p:strVal val="#ppt_w"/>
                                          </p:val>
                                        </p:tav>
                                      </p:tavLst>
                                    </p:anim>
                                    <p:anim calcmode="lin" valueType="num">
                                      <p:cBhvr additive="repl">
                                        <p:cTn id="164" dur="500" fill="hold"/>
                                        <p:tgtEl>
                                          <p:spTgt spid="138"/>
                                        </p:tgtEl>
                                        <p:attrNameLst>
                                          <p:attrName>ppt_h</p:attrName>
                                        </p:attrNameLst>
                                      </p:cBhvr>
                                      <p:tavLst>
                                        <p:tav tm="0">
                                          <p:val>
                                            <p:fltVal val="0"/>
                                          </p:val>
                                        </p:tav>
                                        <p:tav tm="100000">
                                          <p:val>
                                            <p:strVal val="#ppt_h"/>
                                          </p:val>
                                        </p:tav>
                                      </p:tavLst>
                                    </p:anim>
                                    <p:animEffect filter="fade" transition="in">
                                      <p:cBhvr additive="repl">
                                        <p:cTn id="165" dur="500"/>
                                        <p:tgtEl>
                                          <p:spTgt spid="138"/>
                                        </p:tgtEl>
                                      </p:cBhvr>
                                    </p:animEffect>
                                  </p:childTnLst>
                                </p:cTn>
                              </p:par>
                              <p:par>
                                <p:cTn id="166" autoRev="1" nodeType="withEffect" fill="hold" presetClass="emph" presetID="6">
                                  <p:stCondLst>
                                    <p:cond delay="2700"/>
                                  </p:stCondLst>
                                  <p:childTnLst>
                                    <p:animScale>
                                      <p:cBhvr>
                                        <p:cTn id="167" dur="200" fill="hold"/>
                                        <p:tgtEl>
                                          <p:spTgt spid="138"/>
                                        </p:tgtEl>
                                      </p:cBhvr>
                                      <p:by x="110000" y="110000"/>
                                    </p:animScale>
                                  </p:childTnLst>
                                </p:cTn>
                              </p:par>
                              <p:par>
                                <p:cTn id="168" nodeType="withEffect" fill="hold" presetClass="emph" presetID="8" repeatCount="indefinite">
                                  <p:stCondLst>
                                    <p:cond delay="3100"/>
                                  </p:stCondLst>
                                  <p:childTnLst>
                                    <p:animRot by="600000">
                                      <p:cBhvr>
                                        <p:cTn id="169" dur="200" fill="hold"/>
                                        <p:tgtEl>
                                          <p:spTgt spid="138"/>
                                        </p:tgtEl>
                                        <p:attrNameLst>
                                          <p:attrName>r</p:attrName>
                                        </p:attrNameLst>
                                      </p:cBhvr>
                                    </p:animRot>
                                  </p:childTnLst>
                                </p:cTn>
                              </p:par>
                              <p:par>
                                <p:cTn id="170" nodeType="withEffect" fill="hold" presetClass="entr" presetID="10">
                                  <p:stCondLst>
                                    <p:cond delay="3200"/>
                                  </p:stCondLst>
                                  <p:childTnLst>
                                    <p:set>
                                      <p:cBhvr>
                                        <p:cTn id="171" dur="1" fill="hold">
                                          <p:stCondLst>
                                            <p:cond delay="0"/>
                                          </p:stCondLst>
                                        </p:cTn>
                                        <p:tgtEl>
                                          <p:spTgt spid="142"/>
                                        </p:tgtEl>
                                        <p:attrNameLst>
                                          <p:attrName>style.visibility</p:attrName>
                                        </p:attrNameLst>
                                      </p:cBhvr>
                                      <p:to>
                                        <p:strVal val="visible"/>
                                      </p:to>
                                    </p:set>
                                    <p:animEffect filter="fade" transition="in">
                                      <p:cBhvr additive="repl">
                                        <p:cTn id="172" dur="300"/>
                                        <p:tgtEl>
                                          <p:spTgt spid="142"/>
                                        </p:tgtEl>
                                      </p:cBhvr>
                                    </p:animEffect>
                                  </p:childTnLst>
                                </p:cTn>
                              </p:par>
                              <p:par>
                                <p:cTn id="173" nodeType="withEffect" fill="hold" presetClass="entr" presetID="53" presetSubtype="16">
                                  <p:stCondLst>
                                    <p:cond delay="2700"/>
                                  </p:stCondLst>
                                  <p:childTnLst>
                                    <p:set>
                                      <p:cBhvr>
                                        <p:cTn id="174" dur="1" fill="hold">
                                          <p:stCondLst>
                                            <p:cond delay="0"/>
                                          </p:stCondLst>
                                        </p:cTn>
                                        <p:tgtEl>
                                          <p:spTgt spid="139"/>
                                        </p:tgtEl>
                                        <p:attrNameLst>
                                          <p:attrName>style.visibility</p:attrName>
                                        </p:attrNameLst>
                                      </p:cBhvr>
                                      <p:to>
                                        <p:strVal val="visible"/>
                                      </p:to>
                                    </p:set>
                                    <p:anim calcmode="lin" valueType="num">
                                      <p:cBhvr additive="repl">
                                        <p:cTn id="175" dur="500" fill="hold"/>
                                        <p:tgtEl>
                                          <p:spTgt spid="139"/>
                                        </p:tgtEl>
                                        <p:attrNameLst>
                                          <p:attrName>ppt_w</p:attrName>
                                        </p:attrNameLst>
                                      </p:cBhvr>
                                      <p:tavLst>
                                        <p:tav tm="0">
                                          <p:val>
                                            <p:fltVal val="0"/>
                                          </p:val>
                                        </p:tav>
                                        <p:tav tm="100000">
                                          <p:val>
                                            <p:strVal val="#ppt_w"/>
                                          </p:val>
                                        </p:tav>
                                      </p:tavLst>
                                    </p:anim>
                                    <p:anim calcmode="lin" valueType="num">
                                      <p:cBhvr additive="repl">
                                        <p:cTn id="176" dur="500" fill="hold"/>
                                        <p:tgtEl>
                                          <p:spTgt spid="139"/>
                                        </p:tgtEl>
                                        <p:attrNameLst>
                                          <p:attrName>ppt_h</p:attrName>
                                        </p:attrNameLst>
                                      </p:cBhvr>
                                      <p:tavLst>
                                        <p:tav tm="0">
                                          <p:val>
                                            <p:fltVal val="0"/>
                                          </p:val>
                                        </p:tav>
                                        <p:tav tm="100000">
                                          <p:val>
                                            <p:strVal val="#ppt_h"/>
                                          </p:val>
                                        </p:tav>
                                      </p:tavLst>
                                    </p:anim>
                                    <p:animEffect filter="fade" transition="in">
                                      <p:cBhvr additive="repl">
                                        <p:cTn id="177" dur="500"/>
                                        <p:tgtEl>
                                          <p:spTgt spid="139"/>
                                        </p:tgtEl>
                                      </p:cBhvr>
                                    </p:animEffect>
                                  </p:childTnLst>
                                </p:cTn>
                              </p:par>
                              <p:par>
                                <p:cTn id="178" autoRev="1" nodeType="withEffect" fill="hold" presetClass="emph" presetID="6">
                                  <p:stCondLst>
                                    <p:cond delay="3200"/>
                                  </p:stCondLst>
                                  <p:childTnLst>
                                    <p:animScale>
                                      <p:cBhvr>
                                        <p:cTn id="179" dur="200" fill="hold"/>
                                        <p:tgtEl>
                                          <p:spTgt spid="139"/>
                                        </p:tgtEl>
                                      </p:cBhvr>
                                      <p:by x="110000" y="110000"/>
                                    </p:animScale>
                                  </p:childTnLst>
                                </p:cTn>
                              </p:par>
                              <p:par>
                                <p:cTn id="180" nodeType="withEffect" fill="hold" presetClass="emph" presetID="8" repeatCount="indefinite">
                                  <p:stCondLst>
                                    <p:cond delay="3600"/>
                                  </p:stCondLst>
                                  <p:childTnLst>
                                    <p:animRot by="600000">
                                      <p:cBhvr>
                                        <p:cTn id="181" dur="200" fill="hold"/>
                                        <p:tgtEl>
                                          <p:spTgt spid="139"/>
                                        </p:tgtEl>
                                        <p:attrNameLst>
                                          <p:attrName>r</p:attrName>
                                        </p:attrNameLst>
                                      </p:cBhvr>
                                    </p:animRot>
                                  </p:childTnLst>
                                </p:cTn>
                              </p:par>
                              <p:par>
                                <p:cTn id="182" nodeType="withEffect" fill="hold" presetClass="entr" presetID="10">
                                  <p:stCondLst>
                                    <p:cond delay="3600"/>
                                  </p:stCondLst>
                                  <p:childTnLst>
                                    <p:set>
                                      <p:cBhvr>
                                        <p:cTn id="183" dur="1" fill="hold">
                                          <p:stCondLst>
                                            <p:cond delay="0"/>
                                          </p:stCondLst>
                                        </p:cTn>
                                        <p:tgtEl>
                                          <p:spTgt spid="143"/>
                                        </p:tgtEl>
                                        <p:attrNameLst>
                                          <p:attrName>style.visibility</p:attrName>
                                        </p:attrNameLst>
                                      </p:cBhvr>
                                      <p:to>
                                        <p:strVal val="visible"/>
                                      </p:to>
                                    </p:set>
                                    <p:animEffect filter="fade" transition="in">
                                      <p:cBhvr additive="repl">
                                        <p:cTn id="184" dur="300"/>
                                        <p:tgtEl>
                                          <p:spTgt spid="143"/>
                                        </p:tgtEl>
                                      </p:cBhvr>
                                    </p:animEffect>
                                  </p:childTnLst>
                                </p:cTn>
                              </p:par>
                              <p:par>
                                <p:cTn id="185" nodeType="withEffect" fill="hold" presetClass="entr" presetID="2" presetSubtype="8">
                                  <p:stCondLst>
                                    <p:cond delay="1300"/>
                                  </p:stCondLst>
                                  <p:childTnLst>
                                    <p:set>
                                      <p:cBhvr>
                                        <p:cTn id="186" dur="1" fill="hold">
                                          <p:stCondLst>
                                            <p:cond delay="0"/>
                                          </p:stCondLst>
                                        </p:cTn>
                                        <p:tgtEl>
                                          <p:spTgt spid="131">
                                            <p:txEl>
                                              <p:pRg st="0" end="0"/>
                                            </p:txEl>
                                          </p:spTgt>
                                        </p:tgtEl>
                                        <p:attrNameLst>
                                          <p:attrName>style.visibility</p:attrName>
                                        </p:attrNameLst>
                                      </p:cBhvr>
                                      <p:to>
                                        <p:strVal val="visible"/>
                                      </p:to>
                                    </p:set>
                                    <p:anim calcmode="lin" valueType="num">
                                      <p:cBhvr additive="repl">
                                        <p:cTn id="187" dur="20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repl">
                                        <p:cTn id="188" dur="2000" fill="hold"/>
                                        <p:tgtEl>
                                          <p:spTgt spid="131">
                                            <p:txEl>
                                              <p:pRg st="0" end="0"/>
                                            </p:txEl>
                                          </p:spTgt>
                                        </p:tgtEl>
                                        <p:attrNameLst>
                                          <p:attrName>ppt_y</p:attrName>
                                        </p:attrNameLst>
                                      </p:cBhvr>
                                      <p:tavLst>
                                        <p:tav tm="0">
                                          <p:val>
                                            <p:strVal val="#ppt_y"/>
                                          </p:val>
                                        </p:tav>
                                        <p:tav tm="100000">
                                          <p:val>
                                            <p:strVal val="#ppt_y"/>
                                          </p:val>
                                        </p:tav>
                                      </p:tavLst>
                                    </p:anim>
                                  </p:childTnLst>
                                </p:cTn>
                              </p:par>
                              <p:par>
                                <p:cTn id="189" nodeType="withEffect" fill="hold" presetClass="entr" presetID="2" presetSubtype="8">
                                  <p:stCondLst>
                                    <p:cond delay="1800"/>
                                  </p:stCondLst>
                                  <p:childTnLst>
                                    <p:set>
                                      <p:cBhvr>
                                        <p:cTn id="190" dur="1" fill="hold">
                                          <p:stCondLst>
                                            <p:cond delay="0"/>
                                          </p:stCondLst>
                                        </p:cTn>
                                        <p:tgtEl>
                                          <p:spTgt spid="130"/>
                                        </p:tgtEl>
                                        <p:attrNameLst>
                                          <p:attrName>style.visibility</p:attrName>
                                        </p:attrNameLst>
                                      </p:cBhvr>
                                      <p:to>
                                        <p:strVal val="visible"/>
                                      </p:to>
                                    </p:set>
                                    <p:anim calcmode="lin" valueType="num">
                                      <p:cBhvr additive="repl">
                                        <p:cTn id="191" dur="2000" fill="hold"/>
                                        <p:tgtEl>
                                          <p:spTgt spid="130"/>
                                        </p:tgtEl>
                                        <p:attrNameLst>
                                          <p:attrName>ppt_x</p:attrName>
                                        </p:attrNameLst>
                                      </p:cBhvr>
                                      <p:tavLst>
                                        <p:tav tm="0">
                                          <p:val>
                                            <p:strVal val="0-#ppt_w/2"/>
                                          </p:val>
                                        </p:tav>
                                        <p:tav tm="100000">
                                          <p:val>
                                            <p:strVal val="#ppt_x"/>
                                          </p:val>
                                        </p:tav>
                                      </p:tavLst>
                                    </p:anim>
                                    <p:anim calcmode="lin" valueType="num">
                                      <p:cBhvr additive="repl">
                                        <p:cTn id="192" dur="2000" fill="hold"/>
                                        <p:tgtEl>
                                          <p:spTgt spid="130"/>
                                        </p:tgtEl>
                                        <p:attrNameLst>
                                          <p:attrName>ppt_y</p:attrName>
                                        </p:attrNameLst>
                                      </p:cBhvr>
                                      <p:tavLst>
                                        <p:tav tm="0">
                                          <p:val>
                                            <p:strVal val="#ppt_y"/>
                                          </p:val>
                                        </p:tav>
                                        <p:tav tm="100000">
                                          <p:val>
                                            <p:strVal val="#ppt_y"/>
                                          </p:val>
                                        </p:tav>
                                      </p:tavLst>
                                    </p:anim>
                                  </p:childTnLst>
                                </p:cTn>
                              </p:par>
                              <p:par>
                                <p:cTn id="193" nodeType="withEffect" fill="hold" presetClass="entr" presetID="2" presetSubtype="8">
                                  <p:stCondLst>
                                    <p:cond delay="2300"/>
                                  </p:stCondLst>
                                  <p:childTnLst>
                                    <p:set>
                                      <p:cBhvr>
                                        <p:cTn id="194" dur="1" fill="hold">
                                          <p:stCondLst>
                                            <p:cond delay="0"/>
                                          </p:stCondLst>
                                        </p:cTn>
                                        <p:tgtEl>
                                          <p:spTgt spid="129"/>
                                        </p:tgtEl>
                                        <p:attrNameLst>
                                          <p:attrName>style.visibility</p:attrName>
                                        </p:attrNameLst>
                                      </p:cBhvr>
                                      <p:to>
                                        <p:strVal val="visible"/>
                                      </p:to>
                                    </p:set>
                                    <p:anim calcmode="lin" valueType="num">
                                      <p:cBhvr additive="repl">
                                        <p:cTn id="195" dur="2000" fill="hold"/>
                                        <p:tgtEl>
                                          <p:spTgt spid="129"/>
                                        </p:tgtEl>
                                        <p:attrNameLst>
                                          <p:attrName>ppt_x</p:attrName>
                                        </p:attrNameLst>
                                      </p:cBhvr>
                                      <p:tavLst>
                                        <p:tav tm="0">
                                          <p:val>
                                            <p:strVal val="0-#ppt_w/2"/>
                                          </p:val>
                                        </p:tav>
                                        <p:tav tm="100000">
                                          <p:val>
                                            <p:strVal val="#ppt_x"/>
                                          </p:val>
                                        </p:tav>
                                      </p:tavLst>
                                    </p:anim>
                                    <p:anim calcmode="lin" valueType="num">
                                      <p:cBhvr additive="repl">
                                        <p:cTn id="196" dur="2000" fill="hold"/>
                                        <p:tgtEl>
                                          <p:spTgt spid="129"/>
                                        </p:tgtEl>
                                        <p:attrNameLst>
                                          <p:attrName>ppt_y</p:attrName>
                                        </p:attrNameLst>
                                      </p:cBhvr>
                                      <p:tavLst>
                                        <p:tav tm="0">
                                          <p:val>
                                            <p:strVal val="#ppt_y"/>
                                          </p:val>
                                        </p:tav>
                                        <p:tav tm="100000">
                                          <p:val>
                                            <p:strVal val="#ppt_y"/>
                                          </p:val>
                                        </p:tav>
                                      </p:tavLst>
                                    </p:anim>
                                  </p:childTnLst>
                                </p:cTn>
                              </p:par>
                              <p:par>
                                <p:cTn id="197" nodeType="withEffect" fill="hold" presetClass="entr" presetID="2" presetSubtype="8">
                                  <p:stCondLst>
                                    <p:cond delay="2800"/>
                                  </p:stCondLst>
                                  <p:childTnLst>
                                    <p:set>
                                      <p:cBhvr>
                                        <p:cTn id="198" dur="1" fill="hold">
                                          <p:stCondLst>
                                            <p:cond delay="0"/>
                                          </p:stCondLst>
                                        </p:cTn>
                                        <p:tgtEl>
                                          <p:spTgt spid="128"/>
                                        </p:tgtEl>
                                        <p:attrNameLst>
                                          <p:attrName>style.visibility</p:attrName>
                                        </p:attrNameLst>
                                      </p:cBhvr>
                                      <p:to>
                                        <p:strVal val="visible"/>
                                      </p:to>
                                    </p:set>
                                    <p:anim calcmode="lin" valueType="num">
                                      <p:cBhvr additive="repl">
                                        <p:cTn id="199" dur="2000" fill="hold"/>
                                        <p:tgtEl>
                                          <p:spTgt spid="128"/>
                                        </p:tgtEl>
                                        <p:attrNameLst>
                                          <p:attrName>ppt_x</p:attrName>
                                        </p:attrNameLst>
                                      </p:cBhvr>
                                      <p:tavLst>
                                        <p:tav tm="0">
                                          <p:val>
                                            <p:strVal val="0-#ppt_w/2"/>
                                          </p:val>
                                        </p:tav>
                                        <p:tav tm="100000">
                                          <p:val>
                                            <p:strVal val="#ppt_x"/>
                                          </p:val>
                                        </p:tav>
                                      </p:tavLst>
                                    </p:anim>
                                    <p:anim calcmode="lin" valueType="num">
                                      <p:cBhvr additive="repl">
                                        <p:cTn id="200" dur="20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4" name="组合 17"/>
          <p:cNvGrpSpPr/>
          <p:nvPr/>
        </p:nvGrpSpPr>
        <p:grpSpPr>
          <a:xfrm>
            <a:off x="360" y="-390240"/>
            <a:ext cx="12191760" cy="1244160"/>
            <a:chOff x="360" y="-390240"/>
            <a:chExt cx="12191760" cy="1244160"/>
          </a:xfrm>
        </p:grpSpPr>
        <p:sp>
          <p:nvSpPr>
            <p:cNvPr id="145" name="任意多边形 4"/>
            <p:cNvSpPr/>
            <p:nvPr/>
          </p:nvSpPr>
          <p:spPr>
            <a:xfrm rot="5400000">
              <a:off x="5474160" y="-5864040"/>
              <a:ext cx="1244160" cy="12191760"/>
            </a:xfrm>
            <a:custGeom>
              <a:avLst/>
              <a:gdLst>
                <a:gd name="textAreaLeft" fmla="*/ 0 w 1244160"/>
                <a:gd name="textAreaRight" fmla="*/ 1244520 w 1244160"/>
                <a:gd name="textAreaTop" fmla="*/ 0 h 12191760"/>
                <a:gd name="textAreaBottom" fmla="*/ 12192120 h 12191760"/>
              </a:gdLst>
              <a:ahLst/>
              <a:rect l="textAreaLeft" t="textAreaTop" r="textAreaRight" b="textAreaBottom"/>
              <a:pathLst>
                <a:path w="1244601" h="12192001">
                  <a:moveTo>
                    <a:pt x="0" y="12192001"/>
                  </a:moveTo>
                  <a:lnTo>
                    <a:pt x="0" y="0"/>
                  </a:lnTo>
                  <a:lnTo>
                    <a:pt x="1235893" y="0"/>
                  </a:lnTo>
                  <a:lnTo>
                    <a:pt x="1235893" y="12191999"/>
                  </a:lnTo>
                  <a:lnTo>
                    <a:pt x="1244601" y="12191999"/>
                  </a:lnTo>
                  <a:lnTo>
                    <a:pt x="1244600" y="12192001"/>
                  </a:lnTo>
                  <a:close/>
                </a:path>
              </a:pathLst>
            </a:custGeom>
            <a:solidFill>
              <a:srgbClr val="f2e7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6" name="任意多边形 12"/>
            <p:cNvSpPr/>
            <p:nvPr/>
          </p:nvSpPr>
          <p:spPr>
            <a:xfrm rot="5400000">
              <a:off x="1853280" y="-727200"/>
              <a:ext cx="378000" cy="2767680"/>
            </a:xfrm>
            <a:custGeom>
              <a:avLst/>
              <a:gdLst>
                <a:gd name="textAreaLeft" fmla="*/ 0 w 378000"/>
                <a:gd name="textAreaRight" fmla="*/ 378360 w 378000"/>
                <a:gd name="textAreaTop" fmla="*/ 0 h 2767680"/>
                <a:gd name="textAreaBottom" fmla="*/ 2768040 h 2767680"/>
              </a:gdLst>
              <a:ahLst/>
              <a:rect l="textAreaLeft" t="textAreaTop" r="textAreaRight" b="textAreaBottom"/>
              <a:pathLst>
                <a:path w="378325" h="2768079">
                  <a:moveTo>
                    <a:pt x="332251" y="1816170"/>
                  </a:moveTo>
                  <a:lnTo>
                    <a:pt x="332251" y="1625584"/>
                  </a:lnTo>
                  <a:lnTo>
                    <a:pt x="378325" y="1625584"/>
                  </a:lnTo>
                  <a:lnTo>
                    <a:pt x="378325" y="1816170"/>
                  </a:lnTo>
                  <a:close/>
                  <a:moveTo>
                    <a:pt x="286388" y="529971"/>
                  </a:moveTo>
                  <a:lnTo>
                    <a:pt x="343462" y="537105"/>
                  </a:lnTo>
                  <a:lnTo>
                    <a:pt x="343462" y="176317"/>
                  </a:lnTo>
                  <a:lnTo>
                    <a:pt x="286388" y="176317"/>
                  </a:lnTo>
                  <a:close/>
                  <a:moveTo>
                    <a:pt x="204854" y="2426655"/>
                  </a:moveTo>
                  <a:lnTo>
                    <a:pt x="204854" y="2334930"/>
                  </a:lnTo>
                  <a:lnTo>
                    <a:pt x="283331" y="2334930"/>
                  </a:lnTo>
                  <a:lnTo>
                    <a:pt x="283331" y="2132114"/>
                  </a:lnTo>
                  <a:lnTo>
                    <a:pt x="378325" y="2132114"/>
                  </a:lnTo>
                  <a:lnTo>
                    <a:pt x="378325" y="2218744"/>
                  </a:lnTo>
                  <a:lnTo>
                    <a:pt x="346520" y="2218744"/>
                  </a:lnTo>
                  <a:lnTo>
                    <a:pt x="346520" y="2334930"/>
                  </a:lnTo>
                  <a:lnTo>
                    <a:pt x="378325" y="2334930"/>
                  </a:lnTo>
                  <a:lnTo>
                    <a:pt x="378325" y="2426655"/>
                  </a:lnTo>
                  <a:lnTo>
                    <a:pt x="346520" y="2426655"/>
                  </a:lnTo>
                  <a:lnTo>
                    <a:pt x="346520" y="2539784"/>
                  </a:lnTo>
                  <a:lnTo>
                    <a:pt x="378325" y="2539784"/>
                  </a:lnTo>
                  <a:lnTo>
                    <a:pt x="378325" y="2627433"/>
                  </a:lnTo>
                  <a:lnTo>
                    <a:pt x="283331" y="2627433"/>
                  </a:lnTo>
                  <a:lnTo>
                    <a:pt x="283331" y="2426655"/>
                  </a:lnTo>
                  <a:close/>
                  <a:moveTo>
                    <a:pt x="173260" y="384228"/>
                  </a:moveTo>
                  <a:lnTo>
                    <a:pt x="173260" y="300656"/>
                  </a:lnTo>
                  <a:lnTo>
                    <a:pt x="226257" y="300656"/>
                  </a:lnTo>
                  <a:lnTo>
                    <a:pt x="226257" y="90706"/>
                  </a:lnTo>
                  <a:lnTo>
                    <a:pt x="378325" y="90706"/>
                  </a:lnTo>
                  <a:lnTo>
                    <a:pt x="378325" y="627086"/>
                  </a:lnTo>
                  <a:lnTo>
                    <a:pt x="226257" y="609466"/>
                  </a:lnTo>
                  <a:lnTo>
                    <a:pt x="226257" y="384228"/>
                  </a:lnTo>
                  <a:close/>
                  <a:moveTo>
                    <a:pt x="138608" y="1709156"/>
                  </a:moveTo>
                  <a:lnTo>
                    <a:pt x="138608" y="1628641"/>
                  </a:lnTo>
                  <a:lnTo>
                    <a:pt x="276197" y="1607238"/>
                  </a:lnTo>
                  <a:lnTo>
                    <a:pt x="276197" y="1686734"/>
                  </a:lnTo>
                  <a:close/>
                  <a:moveTo>
                    <a:pt x="77458" y="1501244"/>
                  </a:moveTo>
                  <a:lnTo>
                    <a:pt x="77458" y="1010002"/>
                  </a:lnTo>
                  <a:lnTo>
                    <a:pt x="141666" y="1010002"/>
                  </a:lnTo>
                  <a:lnTo>
                    <a:pt x="141666" y="1232182"/>
                  </a:lnTo>
                  <a:lnTo>
                    <a:pt x="220142" y="1249508"/>
                  </a:lnTo>
                  <a:lnTo>
                    <a:pt x="220142" y="1072172"/>
                  </a:lnTo>
                  <a:lnTo>
                    <a:pt x="378325" y="1072172"/>
                  </a:lnTo>
                  <a:lnTo>
                    <a:pt x="378325" y="1158802"/>
                  </a:lnTo>
                  <a:lnTo>
                    <a:pt x="284350" y="1158802"/>
                  </a:lnTo>
                  <a:lnTo>
                    <a:pt x="284350" y="1263777"/>
                  </a:lnTo>
                  <a:lnTo>
                    <a:pt x="378325" y="1284046"/>
                  </a:lnTo>
                  <a:lnTo>
                    <a:pt x="378325" y="1368539"/>
                  </a:lnTo>
                  <a:lnTo>
                    <a:pt x="284350" y="1347349"/>
                  </a:lnTo>
                  <a:lnTo>
                    <a:pt x="284350" y="1470669"/>
                  </a:lnTo>
                  <a:lnTo>
                    <a:pt x="220142" y="1470669"/>
                  </a:lnTo>
                  <a:lnTo>
                    <a:pt x="220142" y="1332061"/>
                  </a:lnTo>
                  <a:lnTo>
                    <a:pt x="141666" y="1314735"/>
                  </a:lnTo>
                  <a:lnTo>
                    <a:pt x="141666" y="1501244"/>
                  </a:lnTo>
                  <a:close/>
                  <a:moveTo>
                    <a:pt x="29556" y="2591762"/>
                  </a:moveTo>
                  <a:lnTo>
                    <a:pt x="29556" y="2508189"/>
                  </a:lnTo>
                  <a:lnTo>
                    <a:pt x="90707" y="2508189"/>
                  </a:lnTo>
                  <a:lnTo>
                    <a:pt x="90707" y="2246261"/>
                  </a:lnTo>
                  <a:lnTo>
                    <a:pt x="29556" y="2246261"/>
                  </a:lnTo>
                  <a:lnTo>
                    <a:pt x="29556" y="2162689"/>
                  </a:lnTo>
                  <a:lnTo>
                    <a:pt x="90707" y="2162689"/>
                  </a:lnTo>
                  <a:lnTo>
                    <a:pt x="90707" y="2002679"/>
                  </a:lnTo>
                  <a:lnTo>
                    <a:pt x="153896" y="2002679"/>
                  </a:lnTo>
                  <a:lnTo>
                    <a:pt x="153896" y="2162689"/>
                  </a:lnTo>
                  <a:lnTo>
                    <a:pt x="210970" y="2162689"/>
                  </a:lnTo>
                  <a:lnTo>
                    <a:pt x="210970" y="2246261"/>
                  </a:lnTo>
                  <a:lnTo>
                    <a:pt x="153896" y="2246261"/>
                  </a:lnTo>
                  <a:lnTo>
                    <a:pt x="153896" y="2508189"/>
                  </a:lnTo>
                  <a:lnTo>
                    <a:pt x="210970" y="2508189"/>
                  </a:lnTo>
                  <a:lnTo>
                    <a:pt x="210970" y="2591762"/>
                  </a:lnTo>
                  <a:lnTo>
                    <a:pt x="153896" y="2591762"/>
                  </a:lnTo>
                  <a:lnTo>
                    <a:pt x="153896" y="2768079"/>
                  </a:lnTo>
                  <a:lnTo>
                    <a:pt x="90707" y="2768079"/>
                  </a:lnTo>
                  <a:lnTo>
                    <a:pt x="90707" y="2591762"/>
                  </a:lnTo>
                  <a:close/>
                  <a:moveTo>
                    <a:pt x="0" y="274158"/>
                  </a:moveTo>
                  <a:lnTo>
                    <a:pt x="0" y="193643"/>
                  </a:lnTo>
                  <a:lnTo>
                    <a:pt x="71343" y="222180"/>
                  </a:lnTo>
                  <a:lnTo>
                    <a:pt x="71343" y="0"/>
                  </a:lnTo>
                  <a:lnTo>
                    <a:pt x="129435" y="0"/>
                  </a:lnTo>
                  <a:lnTo>
                    <a:pt x="129435" y="108032"/>
                  </a:lnTo>
                  <a:lnTo>
                    <a:pt x="196701" y="108032"/>
                  </a:lnTo>
                  <a:lnTo>
                    <a:pt x="196701" y="188547"/>
                  </a:lnTo>
                  <a:lnTo>
                    <a:pt x="129435" y="188547"/>
                  </a:lnTo>
                  <a:lnTo>
                    <a:pt x="129435" y="331232"/>
                  </a:lnTo>
                  <a:close/>
                  <a:moveTo>
                    <a:pt x="0" y="663482"/>
                  </a:moveTo>
                  <a:lnTo>
                    <a:pt x="0" y="582968"/>
                  </a:lnTo>
                  <a:lnTo>
                    <a:pt x="71343" y="604370"/>
                  </a:lnTo>
                  <a:lnTo>
                    <a:pt x="71343" y="382190"/>
                  </a:lnTo>
                  <a:lnTo>
                    <a:pt x="129435" y="382190"/>
                  </a:lnTo>
                  <a:lnTo>
                    <a:pt x="129435" y="491242"/>
                  </a:lnTo>
                  <a:lnTo>
                    <a:pt x="196701" y="491242"/>
                  </a:lnTo>
                  <a:lnTo>
                    <a:pt x="196701" y="571757"/>
                  </a:lnTo>
                  <a:lnTo>
                    <a:pt x="129435" y="571757"/>
                  </a:lnTo>
                  <a:lnTo>
                    <a:pt x="129435" y="712403"/>
                  </a:lnTo>
                  <a:close/>
                </a:path>
              </a:pathLst>
            </a:custGeom>
            <a:solidFill>
              <a:srgbClr val="78a1b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47" name="矩形 5"/>
          <p:cNvSpPr/>
          <p:nvPr/>
        </p:nvSpPr>
        <p:spPr>
          <a:xfrm>
            <a:off x="0" y="846000"/>
            <a:ext cx="12191760" cy="6012000"/>
          </a:xfrm>
          <a:prstGeom prst="rect">
            <a:avLst/>
          </a:prstGeom>
          <a:solidFill>
            <a:srgbClr val="78a1bf"/>
          </a:solidFill>
          <a:ln>
            <a:solidFill>
              <a:srgbClr val="b3aa3b"/>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148" name="图片 6" descr=""/>
          <p:cNvPicPr/>
          <p:nvPr/>
        </p:nvPicPr>
        <p:blipFill>
          <a:blip r:embed="rId1"/>
          <a:srcRect l="14548" t="256" r="0" b="0"/>
          <a:stretch/>
        </p:blipFill>
        <p:spPr>
          <a:xfrm>
            <a:off x="4333320" y="861480"/>
            <a:ext cx="7858080" cy="5996160"/>
          </a:xfrm>
          <a:prstGeom prst="rect">
            <a:avLst/>
          </a:prstGeom>
          <a:ln w="0">
            <a:noFill/>
          </a:ln>
          <a:effectLst>
            <a:innerShdw blurRad="63500" dir="13500000" dist="50800">
              <a:srgbClr val="000000">
                <a:alpha val="50000"/>
              </a:srgbClr>
            </a:innerShdw>
          </a:effectLst>
        </p:spPr>
      </p:pic>
      <p:grpSp>
        <p:nvGrpSpPr>
          <p:cNvPr id="149" name="组合 13"/>
          <p:cNvGrpSpPr/>
          <p:nvPr/>
        </p:nvGrpSpPr>
        <p:grpSpPr>
          <a:xfrm>
            <a:off x="4329000" y="1603800"/>
            <a:ext cx="367920" cy="1667160"/>
            <a:chOff x="4329000" y="1603800"/>
            <a:chExt cx="367920" cy="1667160"/>
          </a:xfrm>
        </p:grpSpPr>
        <p:sp>
          <p:nvSpPr>
            <p:cNvPr id="150" name="矩形 9"/>
            <p:cNvSpPr/>
            <p:nvPr/>
          </p:nvSpPr>
          <p:spPr>
            <a:xfrm>
              <a:off x="4329000" y="1603800"/>
              <a:ext cx="357840" cy="1480680"/>
            </a:xfrm>
            <a:custGeom>
              <a:avLst/>
              <a:gdLst>
                <a:gd name="textAreaLeft" fmla="*/ 0 w 357840"/>
                <a:gd name="textAreaRight" fmla="*/ 358200 w 357840"/>
                <a:gd name="textAreaTop" fmla="*/ 0 h 1480680"/>
                <a:gd name="textAreaBottom" fmla="*/ 1481040 h 1480680"/>
              </a:gdLst>
              <a:ahLst/>
              <a:rect l="textAreaLeft" t="textAreaTop" r="textAreaRight" b="textAreaBottom"/>
              <a:pathLst>
                <a:path w="667126" h="1489372">
                  <a:moveTo>
                    <a:pt x="13083" y="99156"/>
                  </a:moveTo>
                  <a:lnTo>
                    <a:pt x="667126" y="0"/>
                  </a:lnTo>
                  <a:lnTo>
                    <a:pt x="667126" y="1489372"/>
                  </a:lnTo>
                  <a:lnTo>
                    <a:pt x="1" y="1481337"/>
                  </a:lnTo>
                  <a:lnTo>
                    <a:pt x="13083" y="99156"/>
                  </a:lnTo>
                  <a:close/>
                </a:path>
              </a:pathLst>
            </a:custGeom>
            <a:solidFill>
              <a:srgbClr val="f2e7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1" name="直角三角形 3"/>
            <p:cNvSpPr/>
            <p:nvPr/>
          </p:nvSpPr>
          <p:spPr>
            <a:xfrm flipV="1">
              <a:off x="4348080" y="3078720"/>
              <a:ext cx="348840" cy="191880"/>
            </a:xfrm>
            <a:prstGeom prst="rtTriangle">
              <a:avLst/>
            </a:prstGeom>
            <a:gradFill rotWithShape="0">
              <a:gsLst>
                <a:gs pos="50000">
                  <a:srgbClr val="000000">
                    <a:alpha val="0"/>
                  </a:srgbClr>
                </a:gs>
                <a:gs pos="100000">
                  <a:srgbClr val="000000"/>
                </a:gs>
              </a:gsLst>
              <a:lin ang="15000000"/>
            </a:gradFill>
            <a:ln>
              <a:noFill/>
            </a:ln>
          </p:spPr>
          <p:style>
            <a:lnRef idx="2">
              <a:schemeClr val="accent1">
                <a:shade val="50000"/>
              </a:schemeClr>
            </a:lnRef>
            <a:fillRef idx="1">
              <a:schemeClr val="accent1"/>
            </a:fillRef>
            <a:effectRef idx="0">
              <a:schemeClr val="accent1"/>
            </a:effectRef>
            <a:fontRef idx="minor"/>
          </p:style>
          <p:txBody>
            <a:bodyPr lIns="90000" rIns="90000" tIns="19080" bIns="19080" anchor="ctr">
              <a:noAutofit/>
            </a:bodyPr>
            <a:p>
              <a:pPr algn="ctr">
                <a:lnSpc>
                  <a:spcPct val="100000"/>
                </a:lnSpc>
              </a:pPr>
              <a:endParaRPr b="0" lang="en-US" sz="1800" spc="-1" strike="noStrike">
                <a:solidFill>
                  <a:schemeClr val="lt1"/>
                </a:solidFill>
                <a:latin typeface="Calibri"/>
              </a:endParaRPr>
            </a:p>
          </p:txBody>
        </p:sp>
      </p:grpSp>
      <p:sp>
        <p:nvSpPr>
          <p:cNvPr id="152" name="KSO_Shape"/>
          <p:cNvSpPr/>
          <p:nvPr/>
        </p:nvSpPr>
        <p:spPr>
          <a:xfrm>
            <a:off x="5940360" y="1265040"/>
            <a:ext cx="797040" cy="794160"/>
          </a:xfrm>
          <a:custGeom>
            <a:avLst/>
            <a:gdLst>
              <a:gd name="textAreaLeft" fmla="*/ 0 w 797040"/>
              <a:gd name="textAreaRight" fmla="*/ 797400 w 797040"/>
              <a:gd name="textAreaTop" fmla="*/ 0 h 794160"/>
              <a:gd name="textAreaBottom" fmla="*/ 794520 h 794160"/>
            </a:gdLst>
            <a:ahLst/>
            <a:rect l="textAreaLeft" t="textAreaTop" r="textAreaRight" b="textAreaBottom"/>
            <a:pathLst>
              <a:path w="2346740" h="2338503">
                <a:moveTo>
                  <a:pt x="1173371" y="216744"/>
                </a:moveTo>
                <a:cubicBezTo>
                  <a:pt x="647315" y="216744"/>
                  <a:pt x="220863" y="643196"/>
                  <a:pt x="220863" y="1169252"/>
                </a:cubicBezTo>
                <a:cubicBezTo>
                  <a:pt x="220863" y="1695308"/>
                  <a:pt x="647315" y="2121760"/>
                  <a:pt x="1173371" y="2121760"/>
                </a:cubicBezTo>
                <a:cubicBezTo>
                  <a:pt x="1699427" y="2121760"/>
                  <a:pt x="2125879" y="1695308"/>
                  <a:pt x="2125879" y="1169252"/>
                </a:cubicBezTo>
                <a:cubicBezTo>
                  <a:pt x="2125879" y="643196"/>
                  <a:pt x="1699427" y="216744"/>
                  <a:pt x="1173371" y="216744"/>
                </a:cubicBezTo>
                <a:close/>
                <a:moveTo>
                  <a:pt x="1047356" y="0"/>
                </a:moveTo>
                <a:lnTo>
                  <a:pt x="1299384" y="0"/>
                </a:lnTo>
                <a:lnTo>
                  <a:pt x="1343430" y="204792"/>
                </a:lnTo>
                <a:lnTo>
                  <a:pt x="1454863" y="27415"/>
                </a:lnTo>
                <a:lnTo>
                  <a:pt x="1691692" y="113614"/>
                </a:lnTo>
                <a:lnTo>
                  <a:pt x="1663038" y="321121"/>
                </a:lnTo>
                <a:lnTo>
                  <a:pt x="1828419" y="192553"/>
                </a:lnTo>
                <a:lnTo>
                  <a:pt x="2021483" y="354553"/>
                </a:lnTo>
                <a:lnTo>
                  <a:pt x="1923586" y="539746"/>
                </a:lnTo>
                <a:lnTo>
                  <a:pt x="2122965" y="475495"/>
                </a:lnTo>
                <a:lnTo>
                  <a:pt x="2248979" y="693757"/>
                </a:lnTo>
                <a:lnTo>
                  <a:pt x="2093646" y="834298"/>
                </a:lnTo>
                <a:lnTo>
                  <a:pt x="2302976" y="842114"/>
                </a:lnTo>
                <a:lnTo>
                  <a:pt x="2346740" y="1090313"/>
                </a:lnTo>
                <a:lnTo>
                  <a:pt x="2152708" y="1169251"/>
                </a:lnTo>
                <a:lnTo>
                  <a:pt x="2346740" y="1248190"/>
                </a:lnTo>
                <a:lnTo>
                  <a:pt x="2302976" y="1496389"/>
                </a:lnTo>
                <a:lnTo>
                  <a:pt x="2093645" y="1504204"/>
                </a:lnTo>
                <a:lnTo>
                  <a:pt x="2248979" y="1644746"/>
                </a:lnTo>
                <a:lnTo>
                  <a:pt x="2122965" y="1863009"/>
                </a:lnTo>
                <a:lnTo>
                  <a:pt x="1923587" y="1798758"/>
                </a:lnTo>
                <a:lnTo>
                  <a:pt x="2021483" y="1983949"/>
                </a:lnTo>
                <a:lnTo>
                  <a:pt x="1828419" y="2145950"/>
                </a:lnTo>
                <a:lnTo>
                  <a:pt x="1663038" y="2017381"/>
                </a:lnTo>
                <a:lnTo>
                  <a:pt x="1691692" y="2224889"/>
                </a:lnTo>
                <a:lnTo>
                  <a:pt x="1454863" y="2311087"/>
                </a:lnTo>
                <a:lnTo>
                  <a:pt x="1343430" y="2133710"/>
                </a:lnTo>
                <a:lnTo>
                  <a:pt x="1299384" y="2338503"/>
                </a:lnTo>
                <a:lnTo>
                  <a:pt x="1047356" y="2338503"/>
                </a:lnTo>
                <a:lnTo>
                  <a:pt x="1003310" y="2133710"/>
                </a:lnTo>
                <a:lnTo>
                  <a:pt x="891877" y="2311087"/>
                </a:lnTo>
                <a:lnTo>
                  <a:pt x="655048" y="2224889"/>
                </a:lnTo>
                <a:lnTo>
                  <a:pt x="683702" y="2017381"/>
                </a:lnTo>
                <a:lnTo>
                  <a:pt x="518321" y="2145950"/>
                </a:lnTo>
                <a:lnTo>
                  <a:pt x="325257" y="1983949"/>
                </a:lnTo>
                <a:lnTo>
                  <a:pt x="423154" y="1798757"/>
                </a:lnTo>
                <a:lnTo>
                  <a:pt x="223775" y="1863008"/>
                </a:lnTo>
                <a:lnTo>
                  <a:pt x="97761" y="1644745"/>
                </a:lnTo>
                <a:lnTo>
                  <a:pt x="253094" y="1504204"/>
                </a:lnTo>
                <a:lnTo>
                  <a:pt x="43764" y="1496389"/>
                </a:lnTo>
                <a:lnTo>
                  <a:pt x="0" y="1248190"/>
                </a:lnTo>
                <a:lnTo>
                  <a:pt x="194032" y="1169251"/>
                </a:lnTo>
                <a:lnTo>
                  <a:pt x="0" y="1090313"/>
                </a:lnTo>
                <a:lnTo>
                  <a:pt x="43764" y="842114"/>
                </a:lnTo>
                <a:lnTo>
                  <a:pt x="253095" y="834298"/>
                </a:lnTo>
                <a:lnTo>
                  <a:pt x="97761" y="693756"/>
                </a:lnTo>
                <a:lnTo>
                  <a:pt x="223775" y="475494"/>
                </a:lnTo>
                <a:lnTo>
                  <a:pt x="423153" y="539745"/>
                </a:lnTo>
                <a:lnTo>
                  <a:pt x="325257" y="354553"/>
                </a:lnTo>
                <a:lnTo>
                  <a:pt x="518321" y="192553"/>
                </a:lnTo>
                <a:lnTo>
                  <a:pt x="683702" y="321121"/>
                </a:lnTo>
                <a:lnTo>
                  <a:pt x="655048" y="113614"/>
                </a:lnTo>
                <a:lnTo>
                  <a:pt x="891877" y="27415"/>
                </a:lnTo>
                <a:lnTo>
                  <a:pt x="1003310" y="204793"/>
                </a:ln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3" name="KSO_Shape"/>
          <p:cNvSpPr/>
          <p:nvPr/>
        </p:nvSpPr>
        <p:spPr>
          <a:xfrm>
            <a:off x="4799160" y="2550960"/>
            <a:ext cx="797040" cy="794160"/>
          </a:xfrm>
          <a:custGeom>
            <a:avLst/>
            <a:gdLst>
              <a:gd name="textAreaLeft" fmla="*/ 0 w 797040"/>
              <a:gd name="textAreaRight" fmla="*/ 797400 w 797040"/>
              <a:gd name="textAreaTop" fmla="*/ 0 h 794160"/>
              <a:gd name="textAreaBottom" fmla="*/ 794520 h 794160"/>
            </a:gdLst>
            <a:ahLst/>
            <a:rect l="textAreaLeft" t="textAreaTop" r="textAreaRight" b="textAreaBottom"/>
            <a:pathLst>
              <a:path w="2346740" h="2338503">
                <a:moveTo>
                  <a:pt x="1173371" y="216744"/>
                </a:moveTo>
                <a:cubicBezTo>
                  <a:pt x="647315" y="216744"/>
                  <a:pt x="220863" y="643196"/>
                  <a:pt x="220863" y="1169252"/>
                </a:cubicBezTo>
                <a:cubicBezTo>
                  <a:pt x="220863" y="1695308"/>
                  <a:pt x="647315" y="2121760"/>
                  <a:pt x="1173371" y="2121760"/>
                </a:cubicBezTo>
                <a:cubicBezTo>
                  <a:pt x="1699427" y="2121760"/>
                  <a:pt x="2125879" y="1695308"/>
                  <a:pt x="2125879" y="1169252"/>
                </a:cubicBezTo>
                <a:cubicBezTo>
                  <a:pt x="2125879" y="643196"/>
                  <a:pt x="1699427" y="216744"/>
                  <a:pt x="1173371" y="216744"/>
                </a:cubicBezTo>
                <a:close/>
                <a:moveTo>
                  <a:pt x="1047356" y="0"/>
                </a:moveTo>
                <a:lnTo>
                  <a:pt x="1299384" y="0"/>
                </a:lnTo>
                <a:lnTo>
                  <a:pt x="1343430" y="204792"/>
                </a:lnTo>
                <a:lnTo>
                  <a:pt x="1454863" y="27415"/>
                </a:lnTo>
                <a:lnTo>
                  <a:pt x="1691692" y="113614"/>
                </a:lnTo>
                <a:lnTo>
                  <a:pt x="1663038" y="321121"/>
                </a:lnTo>
                <a:lnTo>
                  <a:pt x="1828419" y="192553"/>
                </a:lnTo>
                <a:lnTo>
                  <a:pt x="2021483" y="354553"/>
                </a:lnTo>
                <a:lnTo>
                  <a:pt x="1923586" y="539746"/>
                </a:lnTo>
                <a:lnTo>
                  <a:pt x="2122965" y="475495"/>
                </a:lnTo>
                <a:lnTo>
                  <a:pt x="2248979" y="693757"/>
                </a:lnTo>
                <a:lnTo>
                  <a:pt x="2093646" y="834298"/>
                </a:lnTo>
                <a:lnTo>
                  <a:pt x="2302976" y="842114"/>
                </a:lnTo>
                <a:lnTo>
                  <a:pt x="2346740" y="1090313"/>
                </a:lnTo>
                <a:lnTo>
                  <a:pt x="2152708" y="1169251"/>
                </a:lnTo>
                <a:lnTo>
                  <a:pt x="2346740" y="1248190"/>
                </a:lnTo>
                <a:lnTo>
                  <a:pt x="2302976" y="1496389"/>
                </a:lnTo>
                <a:lnTo>
                  <a:pt x="2093645" y="1504204"/>
                </a:lnTo>
                <a:lnTo>
                  <a:pt x="2248979" y="1644746"/>
                </a:lnTo>
                <a:lnTo>
                  <a:pt x="2122965" y="1863009"/>
                </a:lnTo>
                <a:lnTo>
                  <a:pt x="1923587" y="1798758"/>
                </a:lnTo>
                <a:lnTo>
                  <a:pt x="2021483" y="1983949"/>
                </a:lnTo>
                <a:lnTo>
                  <a:pt x="1828419" y="2145950"/>
                </a:lnTo>
                <a:lnTo>
                  <a:pt x="1663038" y="2017381"/>
                </a:lnTo>
                <a:lnTo>
                  <a:pt x="1691692" y="2224889"/>
                </a:lnTo>
                <a:lnTo>
                  <a:pt x="1454863" y="2311087"/>
                </a:lnTo>
                <a:lnTo>
                  <a:pt x="1343430" y="2133710"/>
                </a:lnTo>
                <a:lnTo>
                  <a:pt x="1299384" y="2338503"/>
                </a:lnTo>
                <a:lnTo>
                  <a:pt x="1047356" y="2338503"/>
                </a:lnTo>
                <a:lnTo>
                  <a:pt x="1003310" y="2133710"/>
                </a:lnTo>
                <a:lnTo>
                  <a:pt x="891877" y="2311087"/>
                </a:lnTo>
                <a:lnTo>
                  <a:pt x="655048" y="2224889"/>
                </a:lnTo>
                <a:lnTo>
                  <a:pt x="683702" y="2017381"/>
                </a:lnTo>
                <a:lnTo>
                  <a:pt x="518321" y="2145950"/>
                </a:lnTo>
                <a:lnTo>
                  <a:pt x="325257" y="1983949"/>
                </a:lnTo>
                <a:lnTo>
                  <a:pt x="423154" y="1798757"/>
                </a:lnTo>
                <a:lnTo>
                  <a:pt x="223775" y="1863008"/>
                </a:lnTo>
                <a:lnTo>
                  <a:pt x="97761" y="1644745"/>
                </a:lnTo>
                <a:lnTo>
                  <a:pt x="253094" y="1504204"/>
                </a:lnTo>
                <a:lnTo>
                  <a:pt x="43764" y="1496389"/>
                </a:lnTo>
                <a:lnTo>
                  <a:pt x="0" y="1248190"/>
                </a:lnTo>
                <a:lnTo>
                  <a:pt x="194032" y="1169251"/>
                </a:lnTo>
                <a:lnTo>
                  <a:pt x="0" y="1090313"/>
                </a:lnTo>
                <a:lnTo>
                  <a:pt x="43764" y="842114"/>
                </a:lnTo>
                <a:lnTo>
                  <a:pt x="253095" y="834298"/>
                </a:lnTo>
                <a:lnTo>
                  <a:pt x="97761" y="693756"/>
                </a:lnTo>
                <a:lnTo>
                  <a:pt x="223775" y="475494"/>
                </a:lnTo>
                <a:lnTo>
                  <a:pt x="423153" y="539745"/>
                </a:lnTo>
                <a:lnTo>
                  <a:pt x="325257" y="354553"/>
                </a:lnTo>
                <a:lnTo>
                  <a:pt x="518321" y="192553"/>
                </a:lnTo>
                <a:lnTo>
                  <a:pt x="683702" y="321121"/>
                </a:lnTo>
                <a:lnTo>
                  <a:pt x="655048" y="113614"/>
                </a:lnTo>
                <a:lnTo>
                  <a:pt x="891877" y="27415"/>
                </a:lnTo>
                <a:lnTo>
                  <a:pt x="1003310" y="204793"/>
                </a:ln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4" name="文本框 24"/>
          <p:cNvSpPr/>
          <p:nvPr/>
        </p:nvSpPr>
        <p:spPr>
          <a:xfrm>
            <a:off x="4943520" y="2625120"/>
            <a:ext cx="5090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600" spc="-1" strike="noStrike">
                <a:solidFill>
                  <a:srgbClr val="ffffff"/>
                </a:solidFill>
                <a:latin typeface="Broadway"/>
              </a:rPr>
              <a:t>B</a:t>
            </a:r>
            <a:endParaRPr b="0" lang="en-US" sz="3600" spc="-1" strike="noStrike">
              <a:solidFill>
                <a:srgbClr val="000000"/>
              </a:solidFill>
              <a:latin typeface="Arial"/>
            </a:endParaRPr>
          </a:p>
        </p:txBody>
      </p:sp>
      <p:sp>
        <p:nvSpPr>
          <p:cNvPr id="155" name="KSO_Shape"/>
          <p:cNvSpPr/>
          <p:nvPr/>
        </p:nvSpPr>
        <p:spPr>
          <a:xfrm>
            <a:off x="11217240" y="3639600"/>
            <a:ext cx="797040" cy="794160"/>
          </a:xfrm>
          <a:custGeom>
            <a:avLst/>
            <a:gdLst>
              <a:gd name="textAreaLeft" fmla="*/ 0 w 797040"/>
              <a:gd name="textAreaRight" fmla="*/ 797400 w 797040"/>
              <a:gd name="textAreaTop" fmla="*/ 0 h 794160"/>
              <a:gd name="textAreaBottom" fmla="*/ 794520 h 794160"/>
            </a:gdLst>
            <a:ahLst/>
            <a:rect l="textAreaLeft" t="textAreaTop" r="textAreaRight" b="textAreaBottom"/>
            <a:pathLst>
              <a:path w="2346740" h="2338503">
                <a:moveTo>
                  <a:pt x="1173371" y="216744"/>
                </a:moveTo>
                <a:cubicBezTo>
                  <a:pt x="647315" y="216744"/>
                  <a:pt x="220863" y="643196"/>
                  <a:pt x="220863" y="1169252"/>
                </a:cubicBezTo>
                <a:cubicBezTo>
                  <a:pt x="220863" y="1695308"/>
                  <a:pt x="647315" y="2121760"/>
                  <a:pt x="1173371" y="2121760"/>
                </a:cubicBezTo>
                <a:cubicBezTo>
                  <a:pt x="1699427" y="2121760"/>
                  <a:pt x="2125879" y="1695308"/>
                  <a:pt x="2125879" y="1169252"/>
                </a:cubicBezTo>
                <a:cubicBezTo>
                  <a:pt x="2125879" y="643196"/>
                  <a:pt x="1699427" y="216744"/>
                  <a:pt x="1173371" y="216744"/>
                </a:cubicBezTo>
                <a:close/>
                <a:moveTo>
                  <a:pt x="1047356" y="0"/>
                </a:moveTo>
                <a:lnTo>
                  <a:pt x="1299384" y="0"/>
                </a:lnTo>
                <a:lnTo>
                  <a:pt x="1343430" y="204792"/>
                </a:lnTo>
                <a:lnTo>
                  <a:pt x="1454863" y="27415"/>
                </a:lnTo>
                <a:lnTo>
                  <a:pt x="1691692" y="113614"/>
                </a:lnTo>
                <a:lnTo>
                  <a:pt x="1663038" y="321121"/>
                </a:lnTo>
                <a:lnTo>
                  <a:pt x="1828419" y="192553"/>
                </a:lnTo>
                <a:lnTo>
                  <a:pt x="2021483" y="354553"/>
                </a:lnTo>
                <a:lnTo>
                  <a:pt x="1923586" y="539746"/>
                </a:lnTo>
                <a:lnTo>
                  <a:pt x="2122965" y="475495"/>
                </a:lnTo>
                <a:lnTo>
                  <a:pt x="2248979" y="693757"/>
                </a:lnTo>
                <a:lnTo>
                  <a:pt x="2093646" y="834298"/>
                </a:lnTo>
                <a:lnTo>
                  <a:pt x="2302976" y="842114"/>
                </a:lnTo>
                <a:lnTo>
                  <a:pt x="2346740" y="1090313"/>
                </a:lnTo>
                <a:lnTo>
                  <a:pt x="2152708" y="1169251"/>
                </a:lnTo>
                <a:lnTo>
                  <a:pt x="2346740" y="1248190"/>
                </a:lnTo>
                <a:lnTo>
                  <a:pt x="2302976" y="1496389"/>
                </a:lnTo>
                <a:lnTo>
                  <a:pt x="2093645" y="1504204"/>
                </a:lnTo>
                <a:lnTo>
                  <a:pt x="2248979" y="1644746"/>
                </a:lnTo>
                <a:lnTo>
                  <a:pt x="2122965" y="1863009"/>
                </a:lnTo>
                <a:lnTo>
                  <a:pt x="1923587" y="1798758"/>
                </a:lnTo>
                <a:lnTo>
                  <a:pt x="2021483" y="1983949"/>
                </a:lnTo>
                <a:lnTo>
                  <a:pt x="1828419" y="2145950"/>
                </a:lnTo>
                <a:lnTo>
                  <a:pt x="1663038" y="2017381"/>
                </a:lnTo>
                <a:lnTo>
                  <a:pt x="1691692" y="2224889"/>
                </a:lnTo>
                <a:lnTo>
                  <a:pt x="1454863" y="2311087"/>
                </a:lnTo>
                <a:lnTo>
                  <a:pt x="1343430" y="2133710"/>
                </a:lnTo>
                <a:lnTo>
                  <a:pt x="1299384" y="2338503"/>
                </a:lnTo>
                <a:lnTo>
                  <a:pt x="1047356" y="2338503"/>
                </a:lnTo>
                <a:lnTo>
                  <a:pt x="1003310" y="2133710"/>
                </a:lnTo>
                <a:lnTo>
                  <a:pt x="891877" y="2311087"/>
                </a:lnTo>
                <a:lnTo>
                  <a:pt x="655048" y="2224889"/>
                </a:lnTo>
                <a:lnTo>
                  <a:pt x="683702" y="2017381"/>
                </a:lnTo>
                <a:lnTo>
                  <a:pt x="518321" y="2145950"/>
                </a:lnTo>
                <a:lnTo>
                  <a:pt x="325257" y="1983949"/>
                </a:lnTo>
                <a:lnTo>
                  <a:pt x="423154" y="1798757"/>
                </a:lnTo>
                <a:lnTo>
                  <a:pt x="223775" y="1863008"/>
                </a:lnTo>
                <a:lnTo>
                  <a:pt x="97761" y="1644745"/>
                </a:lnTo>
                <a:lnTo>
                  <a:pt x="253094" y="1504204"/>
                </a:lnTo>
                <a:lnTo>
                  <a:pt x="43764" y="1496389"/>
                </a:lnTo>
                <a:lnTo>
                  <a:pt x="0" y="1248190"/>
                </a:lnTo>
                <a:lnTo>
                  <a:pt x="194032" y="1169251"/>
                </a:lnTo>
                <a:lnTo>
                  <a:pt x="0" y="1090313"/>
                </a:lnTo>
                <a:lnTo>
                  <a:pt x="43764" y="842114"/>
                </a:lnTo>
                <a:lnTo>
                  <a:pt x="253095" y="834298"/>
                </a:lnTo>
                <a:lnTo>
                  <a:pt x="97761" y="693756"/>
                </a:lnTo>
                <a:lnTo>
                  <a:pt x="223775" y="475494"/>
                </a:lnTo>
                <a:lnTo>
                  <a:pt x="423153" y="539745"/>
                </a:lnTo>
                <a:lnTo>
                  <a:pt x="325257" y="354553"/>
                </a:lnTo>
                <a:lnTo>
                  <a:pt x="518321" y="192553"/>
                </a:lnTo>
                <a:lnTo>
                  <a:pt x="683702" y="321121"/>
                </a:lnTo>
                <a:lnTo>
                  <a:pt x="655048" y="113614"/>
                </a:lnTo>
                <a:lnTo>
                  <a:pt x="891877" y="27415"/>
                </a:lnTo>
                <a:lnTo>
                  <a:pt x="1003310" y="204793"/>
                </a:ln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6" name="文本框 27"/>
          <p:cNvSpPr/>
          <p:nvPr/>
        </p:nvSpPr>
        <p:spPr>
          <a:xfrm>
            <a:off x="11361240" y="3713760"/>
            <a:ext cx="5090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600" spc="-1" strike="noStrike">
                <a:solidFill>
                  <a:srgbClr val="ffffff"/>
                </a:solidFill>
                <a:latin typeface="Broadway"/>
              </a:rPr>
              <a:t>C</a:t>
            </a:r>
            <a:endParaRPr b="0" lang="en-US" sz="3600" spc="-1" strike="noStrike">
              <a:solidFill>
                <a:srgbClr val="000000"/>
              </a:solidFill>
              <a:latin typeface="Arial"/>
            </a:endParaRPr>
          </a:p>
        </p:txBody>
      </p:sp>
      <p:sp>
        <p:nvSpPr>
          <p:cNvPr id="157" name="KSO_Shape"/>
          <p:cNvSpPr/>
          <p:nvPr/>
        </p:nvSpPr>
        <p:spPr>
          <a:xfrm>
            <a:off x="10619640" y="1400040"/>
            <a:ext cx="797040" cy="794160"/>
          </a:xfrm>
          <a:custGeom>
            <a:avLst/>
            <a:gdLst>
              <a:gd name="textAreaLeft" fmla="*/ 0 w 797040"/>
              <a:gd name="textAreaRight" fmla="*/ 797400 w 797040"/>
              <a:gd name="textAreaTop" fmla="*/ 0 h 794160"/>
              <a:gd name="textAreaBottom" fmla="*/ 794520 h 794160"/>
            </a:gdLst>
            <a:ahLst/>
            <a:rect l="textAreaLeft" t="textAreaTop" r="textAreaRight" b="textAreaBottom"/>
            <a:pathLst>
              <a:path w="2346740" h="2338503">
                <a:moveTo>
                  <a:pt x="1173371" y="216744"/>
                </a:moveTo>
                <a:cubicBezTo>
                  <a:pt x="647315" y="216744"/>
                  <a:pt x="220863" y="643196"/>
                  <a:pt x="220863" y="1169252"/>
                </a:cubicBezTo>
                <a:cubicBezTo>
                  <a:pt x="220863" y="1695308"/>
                  <a:pt x="647315" y="2121760"/>
                  <a:pt x="1173371" y="2121760"/>
                </a:cubicBezTo>
                <a:cubicBezTo>
                  <a:pt x="1699427" y="2121760"/>
                  <a:pt x="2125879" y="1695308"/>
                  <a:pt x="2125879" y="1169252"/>
                </a:cubicBezTo>
                <a:cubicBezTo>
                  <a:pt x="2125879" y="643196"/>
                  <a:pt x="1699427" y="216744"/>
                  <a:pt x="1173371" y="216744"/>
                </a:cubicBezTo>
                <a:close/>
                <a:moveTo>
                  <a:pt x="1047356" y="0"/>
                </a:moveTo>
                <a:lnTo>
                  <a:pt x="1299384" y="0"/>
                </a:lnTo>
                <a:lnTo>
                  <a:pt x="1343430" y="204792"/>
                </a:lnTo>
                <a:lnTo>
                  <a:pt x="1454863" y="27415"/>
                </a:lnTo>
                <a:lnTo>
                  <a:pt x="1691692" y="113614"/>
                </a:lnTo>
                <a:lnTo>
                  <a:pt x="1663038" y="321121"/>
                </a:lnTo>
                <a:lnTo>
                  <a:pt x="1828419" y="192553"/>
                </a:lnTo>
                <a:lnTo>
                  <a:pt x="2021483" y="354553"/>
                </a:lnTo>
                <a:lnTo>
                  <a:pt x="1923586" y="539746"/>
                </a:lnTo>
                <a:lnTo>
                  <a:pt x="2122965" y="475495"/>
                </a:lnTo>
                <a:lnTo>
                  <a:pt x="2248979" y="693757"/>
                </a:lnTo>
                <a:lnTo>
                  <a:pt x="2093646" y="834298"/>
                </a:lnTo>
                <a:lnTo>
                  <a:pt x="2302976" y="842114"/>
                </a:lnTo>
                <a:lnTo>
                  <a:pt x="2346740" y="1090313"/>
                </a:lnTo>
                <a:lnTo>
                  <a:pt x="2152708" y="1169251"/>
                </a:lnTo>
                <a:lnTo>
                  <a:pt x="2346740" y="1248190"/>
                </a:lnTo>
                <a:lnTo>
                  <a:pt x="2302976" y="1496389"/>
                </a:lnTo>
                <a:lnTo>
                  <a:pt x="2093645" y="1504204"/>
                </a:lnTo>
                <a:lnTo>
                  <a:pt x="2248979" y="1644746"/>
                </a:lnTo>
                <a:lnTo>
                  <a:pt x="2122965" y="1863009"/>
                </a:lnTo>
                <a:lnTo>
                  <a:pt x="1923587" y="1798758"/>
                </a:lnTo>
                <a:lnTo>
                  <a:pt x="2021483" y="1983949"/>
                </a:lnTo>
                <a:lnTo>
                  <a:pt x="1828419" y="2145950"/>
                </a:lnTo>
                <a:lnTo>
                  <a:pt x="1663038" y="2017381"/>
                </a:lnTo>
                <a:lnTo>
                  <a:pt x="1691692" y="2224889"/>
                </a:lnTo>
                <a:lnTo>
                  <a:pt x="1454863" y="2311087"/>
                </a:lnTo>
                <a:lnTo>
                  <a:pt x="1343430" y="2133710"/>
                </a:lnTo>
                <a:lnTo>
                  <a:pt x="1299384" y="2338503"/>
                </a:lnTo>
                <a:lnTo>
                  <a:pt x="1047356" y="2338503"/>
                </a:lnTo>
                <a:lnTo>
                  <a:pt x="1003310" y="2133710"/>
                </a:lnTo>
                <a:lnTo>
                  <a:pt x="891877" y="2311087"/>
                </a:lnTo>
                <a:lnTo>
                  <a:pt x="655048" y="2224889"/>
                </a:lnTo>
                <a:lnTo>
                  <a:pt x="683702" y="2017381"/>
                </a:lnTo>
                <a:lnTo>
                  <a:pt x="518321" y="2145950"/>
                </a:lnTo>
                <a:lnTo>
                  <a:pt x="325257" y="1983949"/>
                </a:lnTo>
                <a:lnTo>
                  <a:pt x="423154" y="1798757"/>
                </a:lnTo>
                <a:lnTo>
                  <a:pt x="223775" y="1863008"/>
                </a:lnTo>
                <a:lnTo>
                  <a:pt x="97761" y="1644745"/>
                </a:lnTo>
                <a:lnTo>
                  <a:pt x="253094" y="1504204"/>
                </a:lnTo>
                <a:lnTo>
                  <a:pt x="43764" y="1496389"/>
                </a:lnTo>
                <a:lnTo>
                  <a:pt x="0" y="1248190"/>
                </a:lnTo>
                <a:lnTo>
                  <a:pt x="194032" y="1169251"/>
                </a:lnTo>
                <a:lnTo>
                  <a:pt x="0" y="1090313"/>
                </a:lnTo>
                <a:lnTo>
                  <a:pt x="43764" y="842114"/>
                </a:lnTo>
                <a:lnTo>
                  <a:pt x="253095" y="834298"/>
                </a:lnTo>
                <a:lnTo>
                  <a:pt x="97761" y="693756"/>
                </a:lnTo>
                <a:lnTo>
                  <a:pt x="223775" y="475494"/>
                </a:lnTo>
                <a:lnTo>
                  <a:pt x="423153" y="539745"/>
                </a:lnTo>
                <a:lnTo>
                  <a:pt x="325257" y="354553"/>
                </a:lnTo>
                <a:lnTo>
                  <a:pt x="518321" y="192553"/>
                </a:lnTo>
                <a:lnTo>
                  <a:pt x="683702" y="321121"/>
                </a:lnTo>
                <a:lnTo>
                  <a:pt x="655048" y="113614"/>
                </a:lnTo>
                <a:lnTo>
                  <a:pt x="891877" y="27415"/>
                </a:lnTo>
                <a:lnTo>
                  <a:pt x="1003310" y="204793"/>
                </a:ln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8" name="文本框 30"/>
          <p:cNvSpPr/>
          <p:nvPr/>
        </p:nvSpPr>
        <p:spPr>
          <a:xfrm>
            <a:off x="10763640" y="1474200"/>
            <a:ext cx="5090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600" spc="-1" strike="noStrike">
                <a:solidFill>
                  <a:srgbClr val="ffffff"/>
                </a:solidFill>
                <a:latin typeface="Broadway"/>
              </a:rPr>
              <a:t>D</a:t>
            </a:r>
            <a:endParaRPr b="0" lang="en-US" sz="3600" spc="-1" strike="noStrike">
              <a:solidFill>
                <a:srgbClr val="000000"/>
              </a:solidFill>
              <a:latin typeface="Arial"/>
            </a:endParaRPr>
          </a:p>
        </p:txBody>
      </p:sp>
      <p:grpSp>
        <p:nvGrpSpPr>
          <p:cNvPr id="159" name="组合 18"/>
          <p:cNvGrpSpPr/>
          <p:nvPr/>
        </p:nvGrpSpPr>
        <p:grpSpPr>
          <a:xfrm>
            <a:off x="0" y="846000"/>
            <a:ext cx="4339440" cy="6011640"/>
            <a:chOff x="0" y="846000"/>
            <a:chExt cx="4339440" cy="6011640"/>
          </a:xfrm>
        </p:grpSpPr>
        <p:sp>
          <p:nvSpPr>
            <p:cNvPr id="160" name="矩形 7"/>
            <p:cNvSpPr/>
            <p:nvPr/>
          </p:nvSpPr>
          <p:spPr>
            <a:xfrm>
              <a:off x="0" y="846000"/>
              <a:ext cx="4339440" cy="6011640"/>
            </a:xfrm>
            <a:prstGeom prst="rect">
              <a:avLst/>
            </a:prstGeom>
            <a:solidFill>
              <a:srgbClr val="78a1b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1" name="文本框 15"/>
            <p:cNvSpPr/>
            <p:nvPr/>
          </p:nvSpPr>
          <p:spPr>
            <a:xfrm>
              <a:off x="650160" y="846000"/>
              <a:ext cx="2791080" cy="432360"/>
            </a:xfrm>
            <a:custGeom>
              <a:avLst/>
              <a:gdLst>
                <a:gd name="textAreaLeft" fmla="*/ 0 w 2791080"/>
                <a:gd name="textAreaRight" fmla="*/ 2791440 w 2791080"/>
                <a:gd name="textAreaTop" fmla="*/ 0 h 432360"/>
                <a:gd name="textAreaBottom" fmla="*/ 432720 h 432360"/>
              </a:gdLst>
              <a:ahLst/>
              <a:rect l="textAreaLeft" t="textAreaTop" r="textAreaRight" b="textAreaBottom"/>
              <a:pathLst>
                <a:path w="2791520" h="432731">
                  <a:moveTo>
                    <a:pt x="1409519" y="218704"/>
                  </a:moveTo>
                  <a:lnTo>
                    <a:pt x="1409519" y="333871"/>
                  </a:lnTo>
                  <a:lnTo>
                    <a:pt x="1666351" y="333871"/>
                  </a:lnTo>
                  <a:lnTo>
                    <a:pt x="1666351" y="218704"/>
                  </a:lnTo>
                  <a:close/>
                  <a:moveTo>
                    <a:pt x="450475" y="216666"/>
                  </a:moveTo>
                  <a:lnTo>
                    <a:pt x="542201" y="216666"/>
                  </a:lnTo>
                  <a:lnTo>
                    <a:pt x="639022" y="414386"/>
                  </a:lnTo>
                  <a:lnTo>
                    <a:pt x="545258" y="414386"/>
                  </a:lnTo>
                  <a:close/>
                  <a:moveTo>
                    <a:pt x="1320850" y="154496"/>
                  </a:moveTo>
                  <a:lnTo>
                    <a:pt x="1754000" y="154496"/>
                  </a:lnTo>
                  <a:lnTo>
                    <a:pt x="1754000" y="398079"/>
                  </a:lnTo>
                  <a:lnTo>
                    <a:pt x="1320850" y="398079"/>
                  </a:lnTo>
                  <a:close/>
                  <a:moveTo>
                    <a:pt x="2641701" y="139209"/>
                  </a:moveTo>
                  <a:lnTo>
                    <a:pt x="2641701" y="223800"/>
                  </a:lnTo>
                  <a:lnTo>
                    <a:pt x="2708967" y="223800"/>
                  </a:lnTo>
                  <a:lnTo>
                    <a:pt x="2708967" y="139209"/>
                  </a:lnTo>
                  <a:close/>
                  <a:moveTo>
                    <a:pt x="2500036" y="139209"/>
                  </a:moveTo>
                  <a:lnTo>
                    <a:pt x="2500036" y="223800"/>
                  </a:lnTo>
                  <a:lnTo>
                    <a:pt x="2564244" y="223800"/>
                  </a:lnTo>
                  <a:lnTo>
                    <a:pt x="2564244" y="139209"/>
                  </a:lnTo>
                  <a:close/>
                  <a:moveTo>
                    <a:pt x="2355313" y="139209"/>
                  </a:moveTo>
                  <a:lnTo>
                    <a:pt x="2355313" y="223800"/>
                  </a:lnTo>
                  <a:lnTo>
                    <a:pt x="2422579" y="223800"/>
                  </a:lnTo>
                  <a:lnTo>
                    <a:pt x="2422579" y="139209"/>
                  </a:lnTo>
                  <a:close/>
                  <a:moveTo>
                    <a:pt x="2272760" y="78058"/>
                  </a:moveTo>
                  <a:lnTo>
                    <a:pt x="2791520" y="78058"/>
                  </a:lnTo>
                  <a:lnTo>
                    <a:pt x="2791520" y="428655"/>
                  </a:lnTo>
                  <a:lnTo>
                    <a:pt x="2708967" y="428655"/>
                  </a:lnTo>
                  <a:lnTo>
                    <a:pt x="2708967" y="282912"/>
                  </a:lnTo>
                  <a:lnTo>
                    <a:pt x="2641701" y="282912"/>
                  </a:lnTo>
                  <a:lnTo>
                    <a:pt x="2641701" y="402156"/>
                  </a:lnTo>
                  <a:lnTo>
                    <a:pt x="2564244" y="402156"/>
                  </a:lnTo>
                  <a:lnTo>
                    <a:pt x="2564244" y="282912"/>
                  </a:lnTo>
                  <a:lnTo>
                    <a:pt x="2500036" y="282912"/>
                  </a:lnTo>
                  <a:lnTo>
                    <a:pt x="2500036" y="402156"/>
                  </a:lnTo>
                  <a:lnTo>
                    <a:pt x="2422579" y="402156"/>
                  </a:lnTo>
                  <a:lnTo>
                    <a:pt x="2422579" y="282912"/>
                  </a:lnTo>
                  <a:lnTo>
                    <a:pt x="2355313" y="282912"/>
                  </a:lnTo>
                  <a:lnTo>
                    <a:pt x="2355313" y="432731"/>
                  </a:lnTo>
                  <a:lnTo>
                    <a:pt x="2272760" y="432731"/>
                  </a:lnTo>
                  <a:close/>
                  <a:moveTo>
                    <a:pt x="2148768" y="0"/>
                  </a:moveTo>
                  <a:lnTo>
                    <a:pt x="2685526" y="0"/>
                  </a:lnTo>
                  <a:lnTo>
                    <a:pt x="2685526" y="23023"/>
                  </a:lnTo>
                  <a:lnTo>
                    <a:pt x="2231993" y="23023"/>
                  </a:lnTo>
                  <a:lnTo>
                    <a:pt x="2184092" y="416424"/>
                  </a:lnTo>
                  <a:lnTo>
                    <a:pt x="2100519" y="416424"/>
                  </a:lnTo>
                  <a:close/>
                  <a:moveTo>
                    <a:pt x="1406956" y="0"/>
                  </a:moveTo>
                  <a:lnTo>
                    <a:pt x="1491482" y="0"/>
                  </a:lnTo>
                  <a:lnTo>
                    <a:pt x="1490034" y="6716"/>
                  </a:lnTo>
                  <a:lnTo>
                    <a:pt x="1617430" y="6716"/>
                  </a:lnTo>
                  <a:lnTo>
                    <a:pt x="1617430" y="0"/>
                  </a:lnTo>
                  <a:lnTo>
                    <a:pt x="1704060" y="0"/>
                  </a:lnTo>
                  <a:lnTo>
                    <a:pt x="1704060" y="6716"/>
                  </a:lnTo>
                  <a:lnTo>
                    <a:pt x="1839610" y="6716"/>
                  </a:lnTo>
                  <a:lnTo>
                    <a:pt x="1839610" y="70924"/>
                  </a:lnTo>
                  <a:lnTo>
                    <a:pt x="1229125" y="70924"/>
                  </a:lnTo>
                  <a:lnTo>
                    <a:pt x="1229125" y="6716"/>
                  </a:lnTo>
                  <a:lnTo>
                    <a:pt x="1405442" y="6716"/>
                  </a:lnTo>
                  <a:close/>
                  <a:moveTo>
                    <a:pt x="960062" y="0"/>
                  </a:moveTo>
                  <a:lnTo>
                    <a:pt x="1150648" y="0"/>
                  </a:lnTo>
                  <a:lnTo>
                    <a:pt x="1150648" y="223800"/>
                  </a:lnTo>
                  <a:lnTo>
                    <a:pt x="1249508" y="202398"/>
                  </a:lnTo>
                  <a:lnTo>
                    <a:pt x="1249508" y="276797"/>
                  </a:lnTo>
                  <a:lnTo>
                    <a:pt x="1067076" y="319603"/>
                  </a:lnTo>
                  <a:lnTo>
                    <a:pt x="1067076" y="16908"/>
                  </a:lnTo>
                  <a:lnTo>
                    <a:pt x="960062" y="16908"/>
                  </a:lnTo>
                  <a:close/>
                  <a:moveTo>
                    <a:pt x="148799" y="0"/>
                  </a:moveTo>
                  <a:lnTo>
                    <a:pt x="236448" y="0"/>
                  </a:lnTo>
                  <a:lnTo>
                    <a:pt x="236448" y="99461"/>
                  </a:lnTo>
                  <a:lnTo>
                    <a:pt x="349577" y="99461"/>
                  </a:lnTo>
                  <a:lnTo>
                    <a:pt x="349577" y="0"/>
                  </a:lnTo>
                  <a:lnTo>
                    <a:pt x="441302" y="0"/>
                  </a:lnTo>
                  <a:lnTo>
                    <a:pt x="441302" y="99461"/>
                  </a:lnTo>
                  <a:lnTo>
                    <a:pt x="557488" y="99461"/>
                  </a:lnTo>
                  <a:lnTo>
                    <a:pt x="557488" y="0"/>
                  </a:lnTo>
                  <a:lnTo>
                    <a:pt x="644118" y="0"/>
                  </a:lnTo>
                  <a:lnTo>
                    <a:pt x="644118" y="99461"/>
                  </a:lnTo>
                  <a:lnTo>
                    <a:pt x="791898" y="99461"/>
                  </a:lnTo>
                  <a:lnTo>
                    <a:pt x="791898" y="165707"/>
                  </a:lnTo>
                  <a:lnTo>
                    <a:pt x="434168" y="165707"/>
                  </a:lnTo>
                  <a:lnTo>
                    <a:pt x="263966" y="413367"/>
                  </a:lnTo>
                  <a:lnTo>
                    <a:pt x="158991" y="413367"/>
                  </a:lnTo>
                  <a:lnTo>
                    <a:pt x="325116" y="165707"/>
                  </a:lnTo>
                  <a:lnTo>
                    <a:pt x="0" y="165707"/>
                  </a:lnTo>
                  <a:lnTo>
                    <a:pt x="0" y="99461"/>
                  </a:lnTo>
                  <a:lnTo>
                    <a:pt x="148799" y="99461"/>
                  </a:lnTo>
                  <a:close/>
                </a:path>
              </a:pathLst>
            </a:custGeom>
            <a:solidFill>
              <a:srgbClr val="f2e750"/>
            </a:solidFill>
            <a:ln w="0">
              <a:noFill/>
            </a:ln>
          </p:spPr>
          <p:style>
            <a:lnRef idx="0"/>
            <a:fillRef idx="0"/>
            <a:effectRef idx="0"/>
            <a:fontRef idx="minor"/>
          </p:style>
          <p:txBody>
            <a:bodyPr numCol="1" spcCol="0" horzOverflow="overflow" vertOverflow="overflow" anchor="t">
              <a:noAutofit/>
            </a:bodyPr>
            <a:p>
              <a:pPr>
                <a:lnSpc>
                  <a:spcPct val="100000"/>
                </a:lnSpc>
              </a:pPr>
              <a:endParaRPr b="0" lang="en-US" sz="8000" spc="-1" strike="noStrike">
                <a:solidFill>
                  <a:srgbClr val="000000"/>
                </a:solidFill>
                <a:latin typeface="方正经黑简体"/>
                <a:ea typeface="方正经黑简体"/>
              </a:endParaRPr>
            </a:p>
          </p:txBody>
        </p:sp>
      </p:grpSp>
      <p:sp>
        <p:nvSpPr>
          <p:cNvPr id="162" name="文本框 20"/>
          <p:cNvSpPr/>
          <p:nvPr/>
        </p:nvSpPr>
        <p:spPr>
          <a:xfrm>
            <a:off x="6084360" y="1339200"/>
            <a:ext cx="5090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600" spc="-1" strike="noStrike">
                <a:solidFill>
                  <a:srgbClr val="ffffff"/>
                </a:solidFill>
                <a:latin typeface="Broadway"/>
              </a:rPr>
              <a:t>A</a:t>
            </a:r>
            <a:endParaRPr b="0" lang="en-US" sz="3600" spc="-1" strike="noStrike">
              <a:solidFill>
                <a:srgbClr val="000000"/>
              </a:solidFill>
              <a:latin typeface="Arial"/>
            </a:endParaRPr>
          </a:p>
        </p:txBody>
      </p:sp>
      <p:sp>
        <p:nvSpPr>
          <p:cNvPr id="163" name="任意多边形 25"/>
          <p:cNvSpPr/>
          <p:nvPr/>
        </p:nvSpPr>
        <p:spPr>
          <a:xfrm>
            <a:off x="31680" y="1589760"/>
            <a:ext cx="4654800" cy="1488960"/>
          </a:xfrm>
          <a:custGeom>
            <a:avLst/>
            <a:gdLst>
              <a:gd name="textAreaLeft" fmla="*/ 0 w 4654800"/>
              <a:gd name="textAreaRight" fmla="*/ 4655160 w 4654800"/>
              <a:gd name="textAreaTop" fmla="*/ 0 h 1488960"/>
              <a:gd name="textAreaBottom" fmla="*/ 1489320 h 1488960"/>
            </a:gdLst>
            <a:ahLst/>
            <a:rect l="textAreaLeft" t="textAreaTop" r="textAreaRight" b="textAreaBottom"/>
            <a:pathLst>
              <a:path w="4655302" h="1905000">
                <a:moveTo>
                  <a:pt x="0" y="0"/>
                </a:moveTo>
                <a:lnTo>
                  <a:pt x="1668338" y="0"/>
                </a:lnTo>
                <a:lnTo>
                  <a:pt x="1668339" y="1"/>
                </a:lnTo>
                <a:lnTo>
                  <a:pt x="4655302" y="1"/>
                </a:lnTo>
                <a:lnTo>
                  <a:pt x="4655302" y="1900575"/>
                </a:lnTo>
                <a:lnTo>
                  <a:pt x="1670362" y="1900575"/>
                </a:lnTo>
                <a:lnTo>
                  <a:pt x="1668338" y="1905000"/>
                </a:lnTo>
                <a:lnTo>
                  <a:pt x="0" y="1905000"/>
                </a:lnTo>
                <a:lnTo>
                  <a:pt x="435674" y="952500"/>
                </a:lnTo>
                <a:close/>
              </a:path>
            </a:pathLst>
          </a:custGeom>
          <a:solidFill>
            <a:schemeClr val="accent1"/>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30000"/>
              </a:lnSpc>
            </a:pPr>
            <a:endParaRPr b="0" lang="en-US" sz="2400" spc="-1" strike="noStrike">
              <a:solidFill>
                <a:srgbClr val="000000"/>
              </a:solidFill>
              <a:latin typeface="方正喵呜体"/>
              <a:ea typeface="方正喵呜体"/>
            </a:endParaRPr>
          </a:p>
        </p:txBody>
      </p:sp>
      <p:sp>
        <p:nvSpPr>
          <p:cNvPr id="164" name="矩形 11"/>
          <p:cNvSpPr/>
          <p:nvPr/>
        </p:nvSpPr>
        <p:spPr>
          <a:xfrm>
            <a:off x="712800" y="1848600"/>
            <a:ext cx="3774240" cy="1040040"/>
          </a:xfrm>
          <a:prstGeom prst="rect">
            <a:avLst/>
          </a:prstGeom>
          <a:noFill/>
          <a:ln w="0">
            <a:noFill/>
          </a:ln>
        </p:spPr>
        <p:style>
          <a:lnRef idx="0"/>
          <a:fillRef idx="0"/>
          <a:effectRef idx="0"/>
          <a:fontRef idx="minor"/>
        </p:style>
        <p:txBody>
          <a:bodyPr lIns="90000" rIns="90000" tIns="45000" bIns="45000" anchor="t">
            <a:spAutoFit/>
          </a:bodyPr>
          <a:p>
            <a:pPr algn="just">
              <a:lnSpc>
                <a:spcPct val="130000"/>
              </a:lnSpc>
            </a:pPr>
            <a:r>
              <a:rPr b="0" lang="zh-CN" sz="2400" spc="-1" strike="noStrike">
                <a:solidFill>
                  <a:srgbClr val="0d0d0d"/>
                </a:solidFill>
                <a:latin typeface="方正正纤黑简体"/>
                <a:ea typeface="方正正纤黑简体"/>
              </a:rPr>
              <a:t>英语完形填空</a:t>
            </a:r>
            <a:r>
              <a:rPr b="0" lang="en-US" sz="2400" spc="-1" strike="noStrike">
                <a:solidFill>
                  <a:srgbClr val="0d0d0d"/>
                </a:solidFill>
                <a:latin typeface="方正正纤黑简体"/>
                <a:ea typeface="方正正纤黑简体"/>
              </a:rPr>
              <a:t>ABCD</a:t>
            </a:r>
            <a:r>
              <a:rPr b="0" lang="zh-CN" sz="2400" spc="-1" strike="noStrike">
                <a:solidFill>
                  <a:srgbClr val="0d0d0d"/>
                </a:solidFill>
                <a:latin typeface="方正正纤黑简体"/>
                <a:ea typeface="方正正纤黑简体"/>
              </a:rPr>
              <a:t>各</a:t>
            </a:r>
            <a:r>
              <a:rPr b="0" lang="en-US" sz="2400" spc="-1" strike="noStrike">
                <a:solidFill>
                  <a:srgbClr val="0d0d0d"/>
                </a:solidFill>
                <a:latin typeface="方正正纤黑简体"/>
                <a:ea typeface="方正正纤黑简体"/>
              </a:rPr>
              <a:t>5</a:t>
            </a:r>
            <a:r>
              <a:rPr b="0" lang="zh-CN" sz="2400" spc="-1" strike="noStrike">
                <a:solidFill>
                  <a:srgbClr val="0d0d0d"/>
                </a:solidFill>
                <a:latin typeface="方正正纤黑简体"/>
                <a:ea typeface="方正正纤黑简体"/>
              </a:rPr>
              <a:t>个前四个是</a:t>
            </a:r>
            <a:r>
              <a:rPr b="0" lang="en-US" sz="2400" spc="-1" strike="noStrike">
                <a:solidFill>
                  <a:srgbClr val="0d0d0d"/>
                </a:solidFill>
                <a:latin typeface="方正正纤黑简体"/>
                <a:ea typeface="方正正纤黑简体"/>
              </a:rPr>
              <a:t>ABCD</a:t>
            </a:r>
            <a:r>
              <a:rPr b="0" lang="zh-CN" sz="2400" spc="-1" strike="noStrike">
                <a:solidFill>
                  <a:srgbClr val="0d0d0d"/>
                </a:solidFill>
                <a:latin typeface="方正正纤黑简体"/>
                <a:ea typeface="方正正纤黑简体"/>
              </a:rPr>
              <a:t>顺序不定</a:t>
            </a:r>
            <a:endParaRPr b="0" lang="en-US" sz="2400" spc="-1" strike="noStrike">
              <a:solidFill>
                <a:srgbClr val="000000"/>
              </a:solidFill>
              <a:latin typeface="Arial"/>
            </a:endParaRPr>
          </a:p>
        </p:txBody>
      </p:sp>
      <p:grpSp>
        <p:nvGrpSpPr>
          <p:cNvPr id="165" name="组合 39"/>
          <p:cNvGrpSpPr/>
          <p:nvPr/>
        </p:nvGrpSpPr>
        <p:grpSpPr>
          <a:xfrm>
            <a:off x="4329000" y="3290760"/>
            <a:ext cx="367920" cy="1667160"/>
            <a:chOff x="4329000" y="3290760"/>
            <a:chExt cx="367920" cy="1667160"/>
          </a:xfrm>
        </p:grpSpPr>
        <p:sp>
          <p:nvSpPr>
            <p:cNvPr id="166" name="矩形 9"/>
            <p:cNvSpPr/>
            <p:nvPr/>
          </p:nvSpPr>
          <p:spPr>
            <a:xfrm>
              <a:off x="4329000" y="3290760"/>
              <a:ext cx="357840" cy="1480680"/>
            </a:xfrm>
            <a:custGeom>
              <a:avLst/>
              <a:gdLst>
                <a:gd name="textAreaLeft" fmla="*/ 0 w 357840"/>
                <a:gd name="textAreaRight" fmla="*/ 358200 w 357840"/>
                <a:gd name="textAreaTop" fmla="*/ 0 h 1480680"/>
                <a:gd name="textAreaBottom" fmla="*/ 1481040 h 1480680"/>
              </a:gdLst>
              <a:ahLst/>
              <a:rect l="textAreaLeft" t="textAreaTop" r="textAreaRight" b="textAreaBottom"/>
              <a:pathLst>
                <a:path w="667126" h="1489372">
                  <a:moveTo>
                    <a:pt x="13083" y="99156"/>
                  </a:moveTo>
                  <a:lnTo>
                    <a:pt x="667126" y="0"/>
                  </a:lnTo>
                  <a:lnTo>
                    <a:pt x="667126" y="1489372"/>
                  </a:lnTo>
                  <a:lnTo>
                    <a:pt x="1" y="1481337"/>
                  </a:lnTo>
                  <a:lnTo>
                    <a:pt x="13083" y="99156"/>
                  </a:lnTo>
                  <a:close/>
                </a:path>
              </a:pathLst>
            </a:custGeom>
            <a:solidFill>
              <a:srgbClr val="f2e7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7" name="直角三角形 41"/>
            <p:cNvSpPr/>
            <p:nvPr/>
          </p:nvSpPr>
          <p:spPr>
            <a:xfrm flipV="1">
              <a:off x="4348080" y="4765680"/>
              <a:ext cx="348840" cy="191880"/>
            </a:xfrm>
            <a:prstGeom prst="rtTriangle">
              <a:avLst/>
            </a:prstGeom>
            <a:gradFill rotWithShape="0">
              <a:gsLst>
                <a:gs pos="50000">
                  <a:srgbClr val="000000">
                    <a:alpha val="0"/>
                  </a:srgbClr>
                </a:gs>
                <a:gs pos="100000">
                  <a:srgbClr val="000000"/>
                </a:gs>
              </a:gsLst>
              <a:lin ang="15000000"/>
            </a:gradFill>
            <a:ln>
              <a:noFill/>
            </a:ln>
          </p:spPr>
          <p:style>
            <a:lnRef idx="2">
              <a:schemeClr val="accent1">
                <a:shade val="50000"/>
              </a:schemeClr>
            </a:lnRef>
            <a:fillRef idx="1">
              <a:schemeClr val="accent1"/>
            </a:fillRef>
            <a:effectRef idx="0">
              <a:schemeClr val="accent1"/>
            </a:effectRef>
            <a:fontRef idx="minor"/>
          </p:style>
          <p:txBody>
            <a:bodyPr lIns="90000" rIns="90000" tIns="19080" bIns="19080" anchor="ctr">
              <a:noAutofit/>
            </a:bodyPr>
            <a:p>
              <a:pPr algn="ctr">
                <a:lnSpc>
                  <a:spcPct val="100000"/>
                </a:lnSpc>
              </a:pPr>
              <a:endParaRPr b="0" lang="en-US" sz="1800" spc="-1" strike="noStrike">
                <a:solidFill>
                  <a:schemeClr val="lt1"/>
                </a:solidFill>
                <a:latin typeface="Calibri"/>
              </a:endParaRPr>
            </a:p>
          </p:txBody>
        </p:sp>
      </p:grpSp>
      <p:sp>
        <p:nvSpPr>
          <p:cNvPr id="168" name="任意多边形 42"/>
          <p:cNvSpPr/>
          <p:nvPr/>
        </p:nvSpPr>
        <p:spPr>
          <a:xfrm>
            <a:off x="31680" y="3276720"/>
            <a:ext cx="4654800" cy="1488960"/>
          </a:xfrm>
          <a:custGeom>
            <a:avLst/>
            <a:gdLst>
              <a:gd name="textAreaLeft" fmla="*/ 0 w 4654800"/>
              <a:gd name="textAreaRight" fmla="*/ 4655160 w 4654800"/>
              <a:gd name="textAreaTop" fmla="*/ 0 h 1488960"/>
              <a:gd name="textAreaBottom" fmla="*/ 1489320 h 1488960"/>
            </a:gdLst>
            <a:ahLst/>
            <a:rect l="textAreaLeft" t="textAreaTop" r="textAreaRight" b="textAreaBottom"/>
            <a:pathLst>
              <a:path w="4655302" h="1905000">
                <a:moveTo>
                  <a:pt x="0" y="0"/>
                </a:moveTo>
                <a:lnTo>
                  <a:pt x="1668338" y="0"/>
                </a:lnTo>
                <a:lnTo>
                  <a:pt x="1668339" y="1"/>
                </a:lnTo>
                <a:lnTo>
                  <a:pt x="4655302" y="1"/>
                </a:lnTo>
                <a:lnTo>
                  <a:pt x="4655302" y="1900575"/>
                </a:lnTo>
                <a:lnTo>
                  <a:pt x="1670362" y="1900575"/>
                </a:lnTo>
                <a:lnTo>
                  <a:pt x="1668338" y="1905000"/>
                </a:lnTo>
                <a:lnTo>
                  <a:pt x="0" y="1905000"/>
                </a:lnTo>
                <a:lnTo>
                  <a:pt x="435674" y="952500"/>
                </a:lnTo>
                <a:close/>
              </a:path>
            </a:pathLst>
          </a:custGeom>
          <a:solidFill>
            <a:schemeClr val="accent1"/>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30000"/>
              </a:lnSpc>
            </a:pPr>
            <a:endParaRPr b="0" lang="en-US" sz="2400" spc="-1" strike="noStrike">
              <a:solidFill>
                <a:srgbClr val="000000"/>
              </a:solidFill>
              <a:latin typeface="方正喵呜体"/>
              <a:ea typeface="方正喵呜体"/>
            </a:endParaRPr>
          </a:p>
        </p:txBody>
      </p:sp>
      <p:sp>
        <p:nvSpPr>
          <p:cNvPr id="169" name="矩形 16"/>
          <p:cNvSpPr/>
          <p:nvPr/>
        </p:nvSpPr>
        <p:spPr>
          <a:xfrm>
            <a:off x="583200" y="3468600"/>
            <a:ext cx="398592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方正正纤黑简体"/>
                <a:ea typeface="方正正纤黑简体"/>
              </a:rPr>
              <a:t>英语阅读理解有一个选项出现</a:t>
            </a:r>
            <a:r>
              <a:rPr b="0" lang="en-US" sz="2400" spc="-1" strike="noStrike">
                <a:solidFill>
                  <a:srgbClr val="000000"/>
                </a:solidFill>
                <a:latin typeface="方正正纤黑简体"/>
                <a:ea typeface="方正正纤黑简体"/>
              </a:rPr>
              <a:t>only never must</a:t>
            </a:r>
            <a:r>
              <a:rPr b="0" lang="zh-CN" sz="2400" spc="-1" strike="noStrike">
                <a:solidFill>
                  <a:srgbClr val="000000"/>
                </a:solidFill>
                <a:latin typeface="方正正纤黑简体"/>
                <a:ea typeface="方正正纤黑简体"/>
              </a:rPr>
              <a:t>绝对错出现</a:t>
            </a:r>
            <a:r>
              <a:rPr b="0" lang="en-US" sz="2400" spc="-1" strike="noStrike">
                <a:solidFill>
                  <a:srgbClr val="000000"/>
                </a:solidFill>
                <a:latin typeface="方正正纤黑简体"/>
                <a:ea typeface="方正正纤黑简体"/>
              </a:rPr>
              <a:t>both A and B</a:t>
            </a:r>
            <a:r>
              <a:rPr b="0" lang="zh-CN" sz="2400" spc="-1" strike="noStrike">
                <a:solidFill>
                  <a:srgbClr val="000000"/>
                </a:solidFill>
                <a:latin typeface="方正正纤黑简体"/>
                <a:ea typeface="方正正纤黑简体"/>
              </a:rPr>
              <a:t>一定对</a:t>
            </a:r>
            <a:endParaRPr b="0" lang="en-US" sz="2400" spc="-1" strike="noStrike">
              <a:solidFill>
                <a:srgbClr val="000000"/>
              </a:solidFill>
              <a:latin typeface="Arial"/>
            </a:endParaRPr>
          </a:p>
        </p:txBody>
      </p:sp>
      <p:cxnSp>
        <p:nvCxnSpPr>
          <p:cNvPr id="170" name="直接连接符 49"/>
          <p:cNvCxnSpPr/>
          <p:nvPr/>
        </p:nvCxnSpPr>
        <p:spPr>
          <a:xfrm>
            <a:off x="6593400" y="1848240"/>
            <a:ext cx="4679640" cy="2038320"/>
          </a:xfrm>
          <a:prstGeom prst="straightConnector1">
            <a:avLst/>
          </a:prstGeom>
          <a:ln w="28575">
            <a:solidFill>
              <a:srgbClr val="ffffff">
                <a:alpha val="61000"/>
              </a:srgbClr>
            </a:solidFill>
            <a:prstDash val="sysDash"/>
          </a:ln>
        </p:spPr>
      </p:cxnSp>
      <p:cxnSp>
        <p:nvCxnSpPr>
          <p:cNvPr id="171" name="直接连接符 50"/>
          <p:cNvCxnSpPr>
            <a:stCxn id="153" idx="1"/>
            <a:endCxn id="157" idx="1"/>
          </p:cNvCxnSpPr>
          <p:nvPr/>
        </p:nvCxnSpPr>
        <p:spPr>
          <a:xfrm flipV="1">
            <a:off x="5596560" y="2032920"/>
            <a:ext cx="5099040" cy="942480"/>
          </a:xfrm>
          <a:prstGeom prst="straightConnector1">
            <a:avLst/>
          </a:prstGeom>
          <a:ln w="28575">
            <a:solidFill>
              <a:srgbClr val="ffffff">
                <a:alpha val="61000"/>
              </a:srgbClr>
            </a:solidFill>
            <a:prstDash val="sysDash"/>
          </a:ln>
        </p:spPr>
      </p:cxnSp>
      <p:cxnSp>
        <p:nvCxnSpPr>
          <p:cNvPr id="172" name="直接连接符 53"/>
          <p:cNvCxnSpPr>
            <a:stCxn id="152" idx="1"/>
            <a:endCxn id="157" idx="1"/>
          </p:cNvCxnSpPr>
          <p:nvPr/>
        </p:nvCxnSpPr>
        <p:spPr>
          <a:xfrm>
            <a:off x="6722640" y="1551240"/>
            <a:ext cx="3912120" cy="135000"/>
          </a:xfrm>
          <a:prstGeom prst="straightConnector1">
            <a:avLst/>
          </a:prstGeom>
          <a:ln w="28575">
            <a:solidFill>
              <a:srgbClr val="ffffff">
                <a:alpha val="61000"/>
              </a:srgbClr>
            </a:solidFill>
            <a:prstDash val="sysDash"/>
          </a:ln>
        </p:spPr>
      </p:cxnSp>
      <p:cxnSp>
        <p:nvCxnSpPr>
          <p:cNvPr id="173" name="直接连接符 57"/>
          <p:cNvCxnSpPr>
            <a:stCxn id="153" idx="1"/>
          </p:cNvCxnSpPr>
          <p:nvPr/>
        </p:nvCxnSpPr>
        <p:spPr>
          <a:xfrm flipV="1">
            <a:off x="5520600" y="1959120"/>
            <a:ext cx="563760" cy="753480"/>
          </a:xfrm>
          <a:prstGeom prst="straightConnector1">
            <a:avLst/>
          </a:prstGeom>
          <a:ln w="28575">
            <a:solidFill>
              <a:srgbClr val="ffffff">
                <a:alpha val="61000"/>
              </a:srgbClr>
            </a:solidFill>
            <a:prstDash val="sysDash"/>
          </a:ln>
        </p:spPr>
      </p:cxnSp>
      <p:cxnSp>
        <p:nvCxnSpPr>
          <p:cNvPr id="174" name="直接连接符 60"/>
          <p:cNvCxnSpPr>
            <a:endCxn id="155" idx="1"/>
          </p:cNvCxnSpPr>
          <p:nvPr/>
        </p:nvCxnSpPr>
        <p:spPr>
          <a:xfrm>
            <a:off x="5452560" y="3250800"/>
            <a:ext cx="5798160" cy="947880"/>
          </a:xfrm>
          <a:prstGeom prst="straightConnector1">
            <a:avLst/>
          </a:prstGeom>
          <a:ln w="28575">
            <a:solidFill>
              <a:srgbClr val="ffffff">
                <a:alpha val="61000"/>
              </a:srgbClr>
            </a:solidFill>
            <a:prstDash val="sysDash"/>
          </a:ln>
        </p:spPr>
      </p:cxnSp>
      <p:cxnSp>
        <p:nvCxnSpPr>
          <p:cNvPr id="175" name="直接连接符 63"/>
          <p:cNvCxnSpPr>
            <a:stCxn id="155" idx="1"/>
          </p:cNvCxnSpPr>
          <p:nvPr/>
        </p:nvCxnSpPr>
        <p:spPr>
          <a:xfrm flipH="1" flipV="1">
            <a:off x="11062800" y="2167560"/>
            <a:ext cx="510480" cy="1472040"/>
          </a:xfrm>
          <a:prstGeom prst="straightConnector1">
            <a:avLst/>
          </a:prstGeom>
          <a:ln w="28575">
            <a:solidFill>
              <a:srgbClr val="ffffff">
                <a:alpha val="61000"/>
              </a:srgbClr>
            </a:solidFill>
            <a:prstDash val="sysDash"/>
          </a:ln>
        </p:spPr>
      </p:cxnSp>
      <p:grpSp>
        <p:nvGrpSpPr>
          <p:cNvPr id="176" name="组合 38"/>
          <p:cNvGrpSpPr/>
          <p:nvPr/>
        </p:nvGrpSpPr>
        <p:grpSpPr>
          <a:xfrm>
            <a:off x="4329000" y="4985280"/>
            <a:ext cx="367920" cy="1667160"/>
            <a:chOff x="4329000" y="4985280"/>
            <a:chExt cx="367920" cy="1667160"/>
          </a:xfrm>
        </p:grpSpPr>
        <p:sp>
          <p:nvSpPr>
            <p:cNvPr id="177" name="矩形 9"/>
            <p:cNvSpPr/>
            <p:nvPr/>
          </p:nvSpPr>
          <p:spPr>
            <a:xfrm>
              <a:off x="4329000" y="4985280"/>
              <a:ext cx="357840" cy="1480680"/>
            </a:xfrm>
            <a:custGeom>
              <a:avLst/>
              <a:gdLst>
                <a:gd name="textAreaLeft" fmla="*/ 0 w 357840"/>
                <a:gd name="textAreaRight" fmla="*/ 358200 w 357840"/>
                <a:gd name="textAreaTop" fmla="*/ 0 h 1480680"/>
                <a:gd name="textAreaBottom" fmla="*/ 1481040 h 1480680"/>
              </a:gdLst>
              <a:ahLst/>
              <a:rect l="textAreaLeft" t="textAreaTop" r="textAreaRight" b="textAreaBottom"/>
              <a:pathLst>
                <a:path w="667126" h="1489372">
                  <a:moveTo>
                    <a:pt x="13083" y="99156"/>
                  </a:moveTo>
                  <a:lnTo>
                    <a:pt x="667126" y="0"/>
                  </a:lnTo>
                  <a:lnTo>
                    <a:pt x="667126" y="1489372"/>
                  </a:lnTo>
                  <a:lnTo>
                    <a:pt x="1" y="1481337"/>
                  </a:lnTo>
                  <a:lnTo>
                    <a:pt x="13083" y="99156"/>
                  </a:lnTo>
                  <a:close/>
                </a:path>
              </a:pathLst>
            </a:custGeom>
            <a:solidFill>
              <a:srgbClr val="f2e7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8" name="直角三角形 51"/>
            <p:cNvSpPr/>
            <p:nvPr/>
          </p:nvSpPr>
          <p:spPr>
            <a:xfrm flipV="1">
              <a:off x="4348080" y="6460200"/>
              <a:ext cx="348840" cy="191880"/>
            </a:xfrm>
            <a:prstGeom prst="rtTriangle">
              <a:avLst/>
            </a:prstGeom>
            <a:gradFill rotWithShape="0">
              <a:gsLst>
                <a:gs pos="50000">
                  <a:srgbClr val="000000">
                    <a:alpha val="0"/>
                  </a:srgbClr>
                </a:gs>
                <a:gs pos="100000">
                  <a:srgbClr val="000000"/>
                </a:gs>
              </a:gsLst>
              <a:lin ang="15000000"/>
            </a:gradFill>
            <a:ln>
              <a:noFill/>
            </a:ln>
          </p:spPr>
          <p:style>
            <a:lnRef idx="2">
              <a:schemeClr val="accent1">
                <a:shade val="50000"/>
              </a:schemeClr>
            </a:lnRef>
            <a:fillRef idx="1">
              <a:schemeClr val="accent1"/>
            </a:fillRef>
            <a:effectRef idx="0">
              <a:schemeClr val="accent1"/>
            </a:effectRef>
            <a:fontRef idx="minor"/>
          </p:style>
          <p:txBody>
            <a:bodyPr lIns="90000" rIns="90000" tIns="19080" bIns="19080" anchor="ctr">
              <a:noAutofit/>
            </a:bodyPr>
            <a:p>
              <a:pPr algn="ctr">
                <a:lnSpc>
                  <a:spcPct val="100000"/>
                </a:lnSpc>
              </a:pPr>
              <a:endParaRPr b="0" lang="en-US" sz="1800" spc="-1" strike="noStrike">
                <a:solidFill>
                  <a:schemeClr val="lt1"/>
                </a:solidFill>
                <a:latin typeface="Calibri"/>
              </a:endParaRPr>
            </a:p>
          </p:txBody>
        </p:sp>
      </p:grpSp>
      <p:sp>
        <p:nvSpPr>
          <p:cNvPr id="179" name="任意多边形 52"/>
          <p:cNvSpPr/>
          <p:nvPr/>
        </p:nvSpPr>
        <p:spPr>
          <a:xfrm>
            <a:off x="31680" y="4971240"/>
            <a:ext cx="4654800" cy="1488960"/>
          </a:xfrm>
          <a:custGeom>
            <a:avLst/>
            <a:gdLst>
              <a:gd name="textAreaLeft" fmla="*/ 0 w 4654800"/>
              <a:gd name="textAreaRight" fmla="*/ 4655160 w 4654800"/>
              <a:gd name="textAreaTop" fmla="*/ 0 h 1488960"/>
              <a:gd name="textAreaBottom" fmla="*/ 1489320 h 1488960"/>
            </a:gdLst>
            <a:ahLst/>
            <a:rect l="textAreaLeft" t="textAreaTop" r="textAreaRight" b="textAreaBottom"/>
            <a:pathLst>
              <a:path w="4655302" h="1905000">
                <a:moveTo>
                  <a:pt x="0" y="0"/>
                </a:moveTo>
                <a:lnTo>
                  <a:pt x="1668338" y="0"/>
                </a:lnTo>
                <a:lnTo>
                  <a:pt x="1668339" y="1"/>
                </a:lnTo>
                <a:lnTo>
                  <a:pt x="4655302" y="1"/>
                </a:lnTo>
                <a:lnTo>
                  <a:pt x="4655302" y="1900575"/>
                </a:lnTo>
                <a:lnTo>
                  <a:pt x="1670362" y="1900575"/>
                </a:lnTo>
                <a:lnTo>
                  <a:pt x="1668338" y="1905000"/>
                </a:lnTo>
                <a:lnTo>
                  <a:pt x="0" y="1905000"/>
                </a:lnTo>
                <a:lnTo>
                  <a:pt x="435674" y="952500"/>
                </a:lnTo>
                <a:close/>
              </a:path>
            </a:pathLst>
          </a:custGeom>
          <a:solidFill>
            <a:schemeClr val="accent1"/>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30000"/>
              </a:lnSpc>
            </a:pPr>
            <a:endParaRPr b="0" lang="en-US" sz="2400" spc="-1" strike="noStrike">
              <a:solidFill>
                <a:srgbClr val="000000"/>
              </a:solidFill>
              <a:latin typeface="方正喵呜体"/>
              <a:ea typeface="方正喵呜体"/>
            </a:endParaRPr>
          </a:p>
        </p:txBody>
      </p:sp>
      <p:sp>
        <p:nvSpPr>
          <p:cNvPr id="180" name="矩形 54"/>
          <p:cNvSpPr/>
          <p:nvPr/>
        </p:nvSpPr>
        <p:spPr>
          <a:xfrm>
            <a:off x="399960" y="5125680"/>
            <a:ext cx="416916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方正正纤黑简体"/>
                <a:ea typeface="方正正纤黑简体"/>
              </a:rPr>
              <a:t>英语阅读中有废话的不选，有含义不肯定的词如：</a:t>
            </a:r>
            <a:r>
              <a:rPr b="0" lang="en-US" sz="2400" spc="-1" strike="noStrike">
                <a:solidFill>
                  <a:srgbClr val="000000"/>
                </a:solidFill>
                <a:latin typeface="方正正纤黑简体"/>
                <a:ea typeface="方正正纤黑简体"/>
              </a:rPr>
              <a:t>might can usually</a:t>
            </a:r>
            <a:r>
              <a:rPr b="0" lang="zh-CN" sz="2400" spc="-1" strike="noStrike">
                <a:solidFill>
                  <a:srgbClr val="000000"/>
                </a:solidFill>
                <a:latin typeface="方正正纤黑简体"/>
                <a:ea typeface="方正正纤黑简体"/>
              </a:rPr>
              <a:t>的估计是答案</a:t>
            </a:r>
            <a:endParaRPr b="0" lang="en-US" sz="2400" spc="-1" strike="noStrike">
              <a:solidFill>
                <a:srgbClr val="000000"/>
              </a:solidFill>
              <a:latin typeface="Arial"/>
            </a:endParaRPr>
          </a:p>
        </p:txBody>
      </p:sp>
    </p:spTree>
  </p:cSld>
  <mc:AlternateContent>
    <mc:Choice Requires="p14">
      <p:transition spd="slow" p14:dur="13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48"/>
                                        </p:tgtEl>
                                        <p:attrNameLst>
                                          <p:attrName>style.visibility</p:attrName>
                                        </p:attrNameLst>
                                      </p:cBhvr>
                                      <p:to>
                                        <p:strVal val="visible"/>
                                      </p:to>
                                    </p:set>
                                    <p:anim calcmode="lin" valueType="num">
                                      <p:cBhvr additive="repl">
                                        <p:cTn id="207" dur="800" fill="hold"/>
                                        <p:tgtEl>
                                          <p:spTgt spid="148"/>
                                        </p:tgtEl>
                                        <p:attrNameLst>
                                          <p:attrName>ppt_x</p:attrName>
                                        </p:attrNameLst>
                                      </p:cBhvr>
                                      <p:tavLst>
                                        <p:tav tm="0">
                                          <p:val>
                                            <p:strVal val="0-#ppt_w/2"/>
                                          </p:val>
                                        </p:tav>
                                        <p:tav tm="100000">
                                          <p:val>
                                            <p:strVal val="#ppt_x"/>
                                          </p:val>
                                        </p:tav>
                                      </p:tavLst>
                                    </p:anim>
                                    <p:anim calcmode="lin" valueType="num">
                                      <p:cBhvr additive="repl">
                                        <p:cTn id="208" dur="800" fill="hold"/>
                                        <p:tgtEl>
                                          <p:spTgt spid="148"/>
                                        </p:tgtEl>
                                        <p:attrNameLst>
                                          <p:attrName>ppt_y</p:attrName>
                                        </p:attrNameLst>
                                      </p:cBhvr>
                                      <p:tavLst>
                                        <p:tav tm="0">
                                          <p:val>
                                            <p:strVal val="#ppt_y"/>
                                          </p:val>
                                        </p:tav>
                                        <p:tav tm="100000">
                                          <p:val>
                                            <p:strVal val="#ppt_y"/>
                                          </p:val>
                                        </p:tav>
                                      </p:tavLst>
                                    </p:anim>
                                  </p:childTnLst>
                                </p:cTn>
                              </p:par>
                              <p:par>
                                <p:cTn id="209" nodeType="withEffect" fill="hold" presetClass="entr" presetID="23" presetSubtype="16">
                                  <p:stCondLst>
                                    <p:cond delay="700"/>
                                  </p:stCondLst>
                                  <p:childTnLst>
                                    <p:set>
                                      <p:cBhvr>
                                        <p:cTn id="210" dur="1" fill="hold">
                                          <p:stCondLst>
                                            <p:cond delay="0"/>
                                          </p:stCondLst>
                                        </p:cTn>
                                        <p:tgtEl>
                                          <p:spTgt spid="152"/>
                                        </p:tgtEl>
                                        <p:attrNameLst>
                                          <p:attrName>style.visibility</p:attrName>
                                        </p:attrNameLst>
                                      </p:cBhvr>
                                      <p:to>
                                        <p:strVal val="visible"/>
                                      </p:to>
                                    </p:set>
                                    <p:anim calcmode="lin" valueType="num">
                                      <p:cBhvr additive="repl">
                                        <p:cTn id="211" dur="500" fill="hold"/>
                                        <p:tgtEl>
                                          <p:spTgt spid="152"/>
                                        </p:tgtEl>
                                        <p:attrNameLst>
                                          <p:attrName>ppt_w</p:attrName>
                                        </p:attrNameLst>
                                      </p:cBhvr>
                                      <p:tavLst>
                                        <p:tav tm="0">
                                          <p:val>
                                            <p:fltVal val="0"/>
                                          </p:val>
                                        </p:tav>
                                        <p:tav tm="100000">
                                          <p:val>
                                            <p:strVal val="#ppt_w"/>
                                          </p:val>
                                        </p:tav>
                                      </p:tavLst>
                                    </p:anim>
                                    <p:anim calcmode="lin" valueType="num">
                                      <p:cBhvr additive="repl">
                                        <p:cTn id="212" dur="500" fill="hold"/>
                                        <p:tgtEl>
                                          <p:spTgt spid="152"/>
                                        </p:tgtEl>
                                        <p:attrNameLst>
                                          <p:attrName>ppt_h</p:attrName>
                                        </p:attrNameLst>
                                      </p:cBhvr>
                                      <p:tavLst>
                                        <p:tav tm="0">
                                          <p:val>
                                            <p:fltVal val="0"/>
                                          </p:val>
                                        </p:tav>
                                        <p:tav tm="100000">
                                          <p:val>
                                            <p:strVal val="#ppt_h"/>
                                          </p:val>
                                        </p:tav>
                                      </p:tavLst>
                                    </p:anim>
                                  </p:childTnLst>
                                </p:cTn>
                              </p:par>
                              <p:par>
                                <p:cTn id="213" nodeType="withEffect" fill="hold" presetClass="emph" presetID="8" repeatCount="indefinite">
                                  <p:stCondLst>
                                    <p:cond delay="700"/>
                                  </p:stCondLst>
                                  <p:childTnLst>
                                    <p:animRot by="2400000">
                                      <p:cBhvr>
                                        <p:cTn id="214" dur="500" fill="hold"/>
                                        <p:tgtEl>
                                          <p:spTgt spid="152"/>
                                        </p:tgtEl>
                                        <p:attrNameLst>
                                          <p:attrName>r</p:attrName>
                                        </p:attrNameLst>
                                      </p:cBhvr>
                                    </p:animRot>
                                  </p:childTnLst>
                                </p:cTn>
                              </p:par>
                              <p:par>
                                <p:cTn id="215" nodeType="withEffect" fill="remove" presetClass="emph" presetID="26" repeatCount="2000">
                                  <p:stCondLst>
                                    <p:cond delay="1100"/>
                                  </p:stCondLst>
                                  <p:childTnLst>
                                    <p:animEffect filter="fade" transition="out">
                                      <p:cBhvr additive="repl">
                                        <p:cTn id="216" dur="500"/>
                                        <p:tgtEl>
                                          <p:spTgt spid="152"/>
                                        </p:tgtEl>
                                      </p:cBhvr>
                                    </p:animEffect>
                                    <p:animScale>
                                      <p:cBhvr>
                                        <p:cTn id="217" dur="250" autoRev="1" fill="hold"/>
                                        <p:tgtEl>
                                          <p:spTgt spid="152"/>
                                        </p:tgtEl>
                                      </p:cBhvr>
                                      <p:by x="105000" y="105000"/>
                                    </p:animScale>
                                  </p:childTnLst>
                                </p:cTn>
                              </p:par>
                              <p:par>
                                <p:cTn id="218" nodeType="withEffect" fill="hold" presetClass="entr" presetID="53" presetSubtype="16">
                                  <p:stCondLst>
                                    <p:cond delay="1100"/>
                                  </p:stCondLst>
                                  <p:childTnLst>
                                    <p:set>
                                      <p:cBhvr>
                                        <p:cTn id="219" dur="1" fill="hold">
                                          <p:stCondLst>
                                            <p:cond delay="0"/>
                                          </p:stCondLst>
                                        </p:cTn>
                                        <p:tgtEl>
                                          <p:spTgt spid="162"/>
                                        </p:tgtEl>
                                        <p:attrNameLst>
                                          <p:attrName>style.visibility</p:attrName>
                                        </p:attrNameLst>
                                      </p:cBhvr>
                                      <p:to>
                                        <p:strVal val="visible"/>
                                      </p:to>
                                    </p:set>
                                    <p:anim calcmode="lin" valueType="num">
                                      <p:cBhvr additive="repl">
                                        <p:cTn id="220" dur="300" fill="hold"/>
                                        <p:tgtEl>
                                          <p:spTgt spid="162"/>
                                        </p:tgtEl>
                                        <p:attrNameLst>
                                          <p:attrName>ppt_w</p:attrName>
                                        </p:attrNameLst>
                                      </p:cBhvr>
                                      <p:tavLst>
                                        <p:tav tm="0">
                                          <p:val>
                                            <p:fltVal val="0"/>
                                          </p:val>
                                        </p:tav>
                                        <p:tav tm="100000">
                                          <p:val>
                                            <p:strVal val="#ppt_w"/>
                                          </p:val>
                                        </p:tav>
                                      </p:tavLst>
                                    </p:anim>
                                    <p:anim calcmode="lin" valueType="num">
                                      <p:cBhvr additive="repl">
                                        <p:cTn id="221" dur="300" fill="hold"/>
                                        <p:tgtEl>
                                          <p:spTgt spid="162"/>
                                        </p:tgtEl>
                                        <p:attrNameLst>
                                          <p:attrName>ppt_h</p:attrName>
                                        </p:attrNameLst>
                                      </p:cBhvr>
                                      <p:tavLst>
                                        <p:tav tm="0">
                                          <p:val>
                                            <p:fltVal val="0"/>
                                          </p:val>
                                        </p:tav>
                                        <p:tav tm="100000">
                                          <p:val>
                                            <p:strVal val="#ppt_h"/>
                                          </p:val>
                                        </p:tav>
                                      </p:tavLst>
                                    </p:anim>
                                    <p:animEffect filter="fade" transition="in">
                                      <p:cBhvr additive="repl">
                                        <p:cTn id="222" dur="300"/>
                                        <p:tgtEl>
                                          <p:spTgt spid="162"/>
                                        </p:tgtEl>
                                      </p:cBhvr>
                                    </p:animEffect>
                                  </p:childTnLst>
                                </p:cTn>
                              </p:par>
                              <p:par>
                                <p:cTn id="223" nodeType="withEffect" fill="hold" presetClass="entr" presetID="23" presetSubtype="16">
                                  <p:stCondLst>
                                    <p:cond delay="1200"/>
                                  </p:stCondLst>
                                  <p:childTnLst>
                                    <p:set>
                                      <p:cBhvr>
                                        <p:cTn id="224" dur="1" fill="hold">
                                          <p:stCondLst>
                                            <p:cond delay="0"/>
                                          </p:stCondLst>
                                        </p:cTn>
                                        <p:tgtEl>
                                          <p:spTgt spid="153"/>
                                        </p:tgtEl>
                                        <p:attrNameLst>
                                          <p:attrName>style.visibility</p:attrName>
                                        </p:attrNameLst>
                                      </p:cBhvr>
                                      <p:to>
                                        <p:strVal val="visible"/>
                                      </p:to>
                                    </p:set>
                                    <p:anim calcmode="lin" valueType="num">
                                      <p:cBhvr additive="repl">
                                        <p:cTn id="225" dur="500" fill="hold"/>
                                        <p:tgtEl>
                                          <p:spTgt spid="153"/>
                                        </p:tgtEl>
                                        <p:attrNameLst>
                                          <p:attrName>ppt_w</p:attrName>
                                        </p:attrNameLst>
                                      </p:cBhvr>
                                      <p:tavLst>
                                        <p:tav tm="0">
                                          <p:val>
                                            <p:fltVal val="0"/>
                                          </p:val>
                                        </p:tav>
                                        <p:tav tm="100000">
                                          <p:val>
                                            <p:strVal val="#ppt_w"/>
                                          </p:val>
                                        </p:tav>
                                      </p:tavLst>
                                    </p:anim>
                                    <p:anim calcmode="lin" valueType="num">
                                      <p:cBhvr additive="repl">
                                        <p:cTn id="226" dur="500" fill="hold"/>
                                        <p:tgtEl>
                                          <p:spTgt spid="153"/>
                                        </p:tgtEl>
                                        <p:attrNameLst>
                                          <p:attrName>ppt_h</p:attrName>
                                        </p:attrNameLst>
                                      </p:cBhvr>
                                      <p:tavLst>
                                        <p:tav tm="0">
                                          <p:val>
                                            <p:fltVal val="0"/>
                                          </p:val>
                                        </p:tav>
                                        <p:tav tm="100000">
                                          <p:val>
                                            <p:strVal val="#ppt_h"/>
                                          </p:val>
                                        </p:tav>
                                      </p:tavLst>
                                    </p:anim>
                                  </p:childTnLst>
                                </p:cTn>
                              </p:par>
                              <p:par>
                                <p:cTn id="227" nodeType="withEffect" fill="hold" presetClass="emph" presetID="8" repeatCount="indefinite">
                                  <p:stCondLst>
                                    <p:cond delay="1200"/>
                                  </p:stCondLst>
                                  <p:childTnLst>
                                    <p:animRot by="2400000">
                                      <p:cBhvr>
                                        <p:cTn id="228" dur="500" fill="hold"/>
                                        <p:tgtEl>
                                          <p:spTgt spid="153"/>
                                        </p:tgtEl>
                                        <p:attrNameLst>
                                          <p:attrName>r</p:attrName>
                                        </p:attrNameLst>
                                      </p:cBhvr>
                                    </p:animRot>
                                  </p:childTnLst>
                                </p:cTn>
                              </p:par>
                              <p:par>
                                <p:cTn id="229" nodeType="withEffect" fill="remove" presetClass="emph" presetID="26" repeatCount="2000">
                                  <p:stCondLst>
                                    <p:cond delay="1700"/>
                                  </p:stCondLst>
                                  <p:childTnLst>
                                    <p:animEffect filter="fade" transition="out">
                                      <p:cBhvr additive="repl">
                                        <p:cTn id="230" dur="500"/>
                                        <p:tgtEl>
                                          <p:spTgt spid="153"/>
                                        </p:tgtEl>
                                      </p:cBhvr>
                                    </p:animEffect>
                                    <p:animScale>
                                      <p:cBhvr>
                                        <p:cTn id="231" dur="250" autoRev="1" fill="hold"/>
                                        <p:tgtEl>
                                          <p:spTgt spid="153"/>
                                        </p:tgtEl>
                                      </p:cBhvr>
                                      <p:by x="105000" y="105000"/>
                                    </p:animScale>
                                  </p:childTnLst>
                                </p:cTn>
                              </p:par>
                              <p:par>
                                <p:cTn id="232" nodeType="withEffect" fill="hold" presetClass="entr" presetID="53" presetSubtype="16">
                                  <p:stCondLst>
                                    <p:cond delay="1700"/>
                                  </p:stCondLst>
                                  <p:childTnLst>
                                    <p:set>
                                      <p:cBhvr>
                                        <p:cTn id="233" dur="1" fill="hold">
                                          <p:stCondLst>
                                            <p:cond delay="0"/>
                                          </p:stCondLst>
                                        </p:cTn>
                                        <p:tgtEl>
                                          <p:spTgt spid="154"/>
                                        </p:tgtEl>
                                        <p:attrNameLst>
                                          <p:attrName>style.visibility</p:attrName>
                                        </p:attrNameLst>
                                      </p:cBhvr>
                                      <p:to>
                                        <p:strVal val="visible"/>
                                      </p:to>
                                    </p:set>
                                    <p:anim calcmode="lin" valueType="num">
                                      <p:cBhvr additive="repl">
                                        <p:cTn id="234" dur="300" fill="hold"/>
                                        <p:tgtEl>
                                          <p:spTgt spid="154"/>
                                        </p:tgtEl>
                                        <p:attrNameLst>
                                          <p:attrName>ppt_w</p:attrName>
                                        </p:attrNameLst>
                                      </p:cBhvr>
                                      <p:tavLst>
                                        <p:tav tm="0">
                                          <p:val>
                                            <p:fltVal val="0"/>
                                          </p:val>
                                        </p:tav>
                                        <p:tav tm="100000">
                                          <p:val>
                                            <p:strVal val="#ppt_w"/>
                                          </p:val>
                                        </p:tav>
                                      </p:tavLst>
                                    </p:anim>
                                    <p:anim calcmode="lin" valueType="num">
                                      <p:cBhvr additive="repl">
                                        <p:cTn id="235" dur="300" fill="hold"/>
                                        <p:tgtEl>
                                          <p:spTgt spid="154"/>
                                        </p:tgtEl>
                                        <p:attrNameLst>
                                          <p:attrName>ppt_h</p:attrName>
                                        </p:attrNameLst>
                                      </p:cBhvr>
                                      <p:tavLst>
                                        <p:tav tm="0">
                                          <p:val>
                                            <p:fltVal val="0"/>
                                          </p:val>
                                        </p:tav>
                                        <p:tav tm="100000">
                                          <p:val>
                                            <p:strVal val="#ppt_h"/>
                                          </p:val>
                                        </p:tav>
                                      </p:tavLst>
                                    </p:anim>
                                    <p:animEffect filter="fade" transition="in">
                                      <p:cBhvr additive="repl">
                                        <p:cTn id="236" dur="300"/>
                                        <p:tgtEl>
                                          <p:spTgt spid="154"/>
                                        </p:tgtEl>
                                      </p:cBhvr>
                                    </p:animEffect>
                                  </p:childTnLst>
                                </p:cTn>
                              </p:par>
                              <p:par>
                                <p:cTn id="237" nodeType="withEffect" fill="hold" presetClass="entr" presetID="23" presetSubtype="16">
                                  <p:stCondLst>
                                    <p:cond delay="1700"/>
                                  </p:stCondLst>
                                  <p:childTnLst>
                                    <p:set>
                                      <p:cBhvr>
                                        <p:cTn id="238" dur="1" fill="hold">
                                          <p:stCondLst>
                                            <p:cond delay="0"/>
                                          </p:stCondLst>
                                        </p:cTn>
                                        <p:tgtEl>
                                          <p:spTgt spid="157"/>
                                        </p:tgtEl>
                                        <p:attrNameLst>
                                          <p:attrName>style.visibility</p:attrName>
                                        </p:attrNameLst>
                                      </p:cBhvr>
                                      <p:to>
                                        <p:strVal val="visible"/>
                                      </p:to>
                                    </p:set>
                                    <p:anim calcmode="lin" valueType="num">
                                      <p:cBhvr additive="repl">
                                        <p:cTn id="239" dur="500" fill="hold"/>
                                        <p:tgtEl>
                                          <p:spTgt spid="157"/>
                                        </p:tgtEl>
                                        <p:attrNameLst>
                                          <p:attrName>ppt_w</p:attrName>
                                        </p:attrNameLst>
                                      </p:cBhvr>
                                      <p:tavLst>
                                        <p:tav tm="0">
                                          <p:val>
                                            <p:fltVal val="0"/>
                                          </p:val>
                                        </p:tav>
                                        <p:tav tm="100000">
                                          <p:val>
                                            <p:strVal val="#ppt_w"/>
                                          </p:val>
                                        </p:tav>
                                      </p:tavLst>
                                    </p:anim>
                                    <p:anim calcmode="lin" valueType="num">
                                      <p:cBhvr additive="repl">
                                        <p:cTn id="240" dur="500" fill="hold"/>
                                        <p:tgtEl>
                                          <p:spTgt spid="157"/>
                                        </p:tgtEl>
                                        <p:attrNameLst>
                                          <p:attrName>ppt_h</p:attrName>
                                        </p:attrNameLst>
                                      </p:cBhvr>
                                      <p:tavLst>
                                        <p:tav tm="0">
                                          <p:val>
                                            <p:fltVal val="0"/>
                                          </p:val>
                                        </p:tav>
                                        <p:tav tm="100000">
                                          <p:val>
                                            <p:strVal val="#ppt_h"/>
                                          </p:val>
                                        </p:tav>
                                      </p:tavLst>
                                    </p:anim>
                                  </p:childTnLst>
                                </p:cTn>
                              </p:par>
                              <p:par>
                                <p:cTn id="241" nodeType="withEffect" fill="hold" presetClass="emph" presetID="8" repeatCount="indefinite">
                                  <p:stCondLst>
                                    <p:cond delay="1700"/>
                                  </p:stCondLst>
                                  <p:childTnLst>
                                    <p:animRot by="2400000">
                                      <p:cBhvr>
                                        <p:cTn id="242" dur="500" fill="hold"/>
                                        <p:tgtEl>
                                          <p:spTgt spid="157"/>
                                        </p:tgtEl>
                                        <p:attrNameLst>
                                          <p:attrName>r</p:attrName>
                                        </p:attrNameLst>
                                      </p:cBhvr>
                                    </p:animRot>
                                  </p:childTnLst>
                                </p:cTn>
                              </p:par>
                              <p:par>
                                <p:cTn id="243" nodeType="withEffect" fill="remove" presetClass="emph" presetID="26" repeatCount="2000">
                                  <p:stCondLst>
                                    <p:cond delay="2200"/>
                                  </p:stCondLst>
                                  <p:childTnLst>
                                    <p:animEffect filter="fade" transition="out">
                                      <p:cBhvr additive="repl">
                                        <p:cTn id="244" dur="500"/>
                                        <p:tgtEl>
                                          <p:spTgt spid="157"/>
                                        </p:tgtEl>
                                      </p:cBhvr>
                                    </p:animEffect>
                                    <p:animScale>
                                      <p:cBhvr>
                                        <p:cTn id="245" dur="250" autoRev="1" fill="hold"/>
                                        <p:tgtEl>
                                          <p:spTgt spid="157"/>
                                        </p:tgtEl>
                                      </p:cBhvr>
                                      <p:by x="105000" y="105000"/>
                                    </p:animScale>
                                  </p:childTnLst>
                                </p:cTn>
                              </p:par>
                              <p:par>
                                <p:cTn id="246" nodeType="withEffect" fill="hold" presetClass="entr" presetID="53" presetSubtype="16">
                                  <p:stCondLst>
                                    <p:cond delay="2200"/>
                                  </p:stCondLst>
                                  <p:childTnLst>
                                    <p:set>
                                      <p:cBhvr>
                                        <p:cTn id="247" dur="1" fill="hold">
                                          <p:stCondLst>
                                            <p:cond delay="0"/>
                                          </p:stCondLst>
                                        </p:cTn>
                                        <p:tgtEl>
                                          <p:spTgt spid="158"/>
                                        </p:tgtEl>
                                        <p:attrNameLst>
                                          <p:attrName>style.visibility</p:attrName>
                                        </p:attrNameLst>
                                      </p:cBhvr>
                                      <p:to>
                                        <p:strVal val="visible"/>
                                      </p:to>
                                    </p:set>
                                    <p:anim calcmode="lin" valueType="num">
                                      <p:cBhvr additive="repl">
                                        <p:cTn id="248" dur="300" fill="hold"/>
                                        <p:tgtEl>
                                          <p:spTgt spid="158"/>
                                        </p:tgtEl>
                                        <p:attrNameLst>
                                          <p:attrName>ppt_w</p:attrName>
                                        </p:attrNameLst>
                                      </p:cBhvr>
                                      <p:tavLst>
                                        <p:tav tm="0">
                                          <p:val>
                                            <p:fltVal val="0"/>
                                          </p:val>
                                        </p:tav>
                                        <p:tav tm="100000">
                                          <p:val>
                                            <p:strVal val="#ppt_w"/>
                                          </p:val>
                                        </p:tav>
                                      </p:tavLst>
                                    </p:anim>
                                    <p:anim calcmode="lin" valueType="num">
                                      <p:cBhvr additive="repl">
                                        <p:cTn id="249" dur="300" fill="hold"/>
                                        <p:tgtEl>
                                          <p:spTgt spid="158"/>
                                        </p:tgtEl>
                                        <p:attrNameLst>
                                          <p:attrName>ppt_h</p:attrName>
                                        </p:attrNameLst>
                                      </p:cBhvr>
                                      <p:tavLst>
                                        <p:tav tm="0">
                                          <p:val>
                                            <p:fltVal val="0"/>
                                          </p:val>
                                        </p:tav>
                                        <p:tav tm="100000">
                                          <p:val>
                                            <p:strVal val="#ppt_h"/>
                                          </p:val>
                                        </p:tav>
                                      </p:tavLst>
                                    </p:anim>
                                    <p:animEffect filter="fade" transition="in">
                                      <p:cBhvr additive="repl">
                                        <p:cTn id="250" dur="300"/>
                                        <p:tgtEl>
                                          <p:spTgt spid="158"/>
                                        </p:tgtEl>
                                      </p:cBhvr>
                                    </p:animEffect>
                                  </p:childTnLst>
                                </p:cTn>
                              </p:par>
                              <p:par>
                                <p:cTn id="251" nodeType="withEffect" fill="hold" presetClass="entr" presetID="23" presetSubtype="16">
                                  <p:stCondLst>
                                    <p:cond delay="2200"/>
                                  </p:stCondLst>
                                  <p:childTnLst>
                                    <p:set>
                                      <p:cBhvr>
                                        <p:cTn id="252" dur="1" fill="hold">
                                          <p:stCondLst>
                                            <p:cond delay="0"/>
                                          </p:stCondLst>
                                        </p:cTn>
                                        <p:tgtEl>
                                          <p:spTgt spid="155"/>
                                        </p:tgtEl>
                                        <p:attrNameLst>
                                          <p:attrName>style.visibility</p:attrName>
                                        </p:attrNameLst>
                                      </p:cBhvr>
                                      <p:to>
                                        <p:strVal val="visible"/>
                                      </p:to>
                                    </p:set>
                                    <p:anim calcmode="lin" valueType="num">
                                      <p:cBhvr additive="repl">
                                        <p:cTn id="253" dur="500" fill="hold"/>
                                        <p:tgtEl>
                                          <p:spTgt spid="155"/>
                                        </p:tgtEl>
                                        <p:attrNameLst>
                                          <p:attrName>ppt_w</p:attrName>
                                        </p:attrNameLst>
                                      </p:cBhvr>
                                      <p:tavLst>
                                        <p:tav tm="0">
                                          <p:val>
                                            <p:fltVal val="0"/>
                                          </p:val>
                                        </p:tav>
                                        <p:tav tm="100000">
                                          <p:val>
                                            <p:strVal val="#ppt_w"/>
                                          </p:val>
                                        </p:tav>
                                      </p:tavLst>
                                    </p:anim>
                                    <p:anim calcmode="lin" valueType="num">
                                      <p:cBhvr additive="repl">
                                        <p:cTn id="254" dur="500" fill="hold"/>
                                        <p:tgtEl>
                                          <p:spTgt spid="155"/>
                                        </p:tgtEl>
                                        <p:attrNameLst>
                                          <p:attrName>ppt_h</p:attrName>
                                        </p:attrNameLst>
                                      </p:cBhvr>
                                      <p:tavLst>
                                        <p:tav tm="0">
                                          <p:val>
                                            <p:fltVal val="0"/>
                                          </p:val>
                                        </p:tav>
                                        <p:tav tm="100000">
                                          <p:val>
                                            <p:strVal val="#ppt_h"/>
                                          </p:val>
                                        </p:tav>
                                      </p:tavLst>
                                    </p:anim>
                                  </p:childTnLst>
                                </p:cTn>
                              </p:par>
                              <p:par>
                                <p:cTn id="255" nodeType="withEffect" fill="hold" presetClass="emph" presetID="8" repeatCount="indefinite">
                                  <p:stCondLst>
                                    <p:cond delay="2200"/>
                                  </p:stCondLst>
                                  <p:childTnLst>
                                    <p:animRot by="2400000">
                                      <p:cBhvr>
                                        <p:cTn id="256" dur="500" fill="hold"/>
                                        <p:tgtEl>
                                          <p:spTgt spid="155"/>
                                        </p:tgtEl>
                                        <p:attrNameLst>
                                          <p:attrName>r</p:attrName>
                                        </p:attrNameLst>
                                      </p:cBhvr>
                                    </p:animRot>
                                  </p:childTnLst>
                                </p:cTn>
                              </p:par>
                              <p:par>
                                <p:cTn id="257" nodeType="withEffect" fill="remove" presetClass="emph" presetID="26" repeatCount="2000">
                                  <p:stCondLst>
                                    <p:cond delay="2700"/>
                                  </p:stCondLst>
                                  <p:childTnLst>
                                    <p:animEffect filter="fade" transition="out">
                                      <p:cBhvr additive="repl">
                                        <p:cTn id="258" dur="500"/>
                                        <p:tgtEl>
                                          <p:spTgt spid="155"/>
                                        </p:tgtEl>
                                      </p:cBhvr>
                                    </p:animEffect>
                                    <p:animScale>
                                      <p:cBhvr>
                                        <p:cTn id="259" dur="250" autoRev="1" fill="hold"/>
                                        <p:tgtEl>
                                          <p:spTgt spid="155"/>
                                        </p:tgtEl>
                                      </p:cBhvr>
                                      <p:by x="105000" y="105000"/>
                                    </p:animScale>
                                  </p:childTnLst>
                                </p:cTn>
                              </p:par>
                              <p:par>
                                <p:cTn id="260" nodeType="withEffect" fill="hold" presetClass="entr" presetID="53" presetSubtype="16">
                                  <p:stCondLst>
                                    <p:cond delay="2700"/>
                                  </p:stCondLst>
                                  <p:childTnLst>
                                    <p:set>
                                      <p:cBhvr>
                                        <p:cTn id="261" dur="1" fill="hold">
                                          <p:stCondLst>
                                            <p:cond delay="0"/>
                                          </p:stCondLst>
                                        </p:cTn>
                                        <p:tgtEl>
                                          <p:spTgt spid="156"/>
                                        </p:tgtEl>
                                        <p:attrNameLst>
                                          <p:attrName>style.visibility</p:attrName>
                                        </p:attrNameLst>
                                      </p:cBhvr>
                                      <p:to>
                                        <p:strVal val="visible"/>
                                      </p:to>
                                    </p:set>
                                    <p:anim calcmode="lin" valueType="num">
                                      <p:cBhvr additive="repl">
                                        <p:cTn id="262" dur="300" fill="hold"/>
                                        <p:tgtEl>
                                          <p:spTgt spid="156"/>
                                        </p:tgtEl>
                                        <p:attrNameLst>
                                          <p:attrName>ppt_w</p:attrName>
                                        </p:attrNameLst>
                                      </p:cBhvr>
                                      <p:tavLst>
                                        <p:tav tm="0">
                                          <p:val>
                                            <p:fltVal val="0"/>
                                          </p:val>
                                        </p:tav>
                                        <p:tav tm="100000">
                                          <p:val>
                                            <p:strVal val="#ppt_w"/>
                                          </p:val>
                                        </p:tav>
                                      </p:tavLst>
                                    </p:anim>
                                    <p:anim calcmode="lin" valueType="num">
                                      <p:cBhvr additive="repl">
                                        <p:cTn id="263" dur="300" fill="hold"/>
                                        <p:tgtEl>
                                          <p:spTgt spid="156"/>
                                        </p:tgtEl>
                                        <p:attrNameLst>
                                          <p:attrName>ppt_h</p:attrName>
                                        </p:attrNameLst>
                                      </p:cBhvr>
                                      <p:tavLst>
                                        <p:tav tm="0">
                                          <p:val>
                                            <p:fltVal val="0"/>
                                          </p:val>
                                        </p:tav>
                                        <p:tav tm="100000">
                                          <p:val>
                                            <p:strVal val="#ppt_h"/>
                                          </p:val>
                                        </p:tav>
                                      </p:tavLst>
                                    </p:anim>
                                    <p:animEffect filter="fade" transition="in">
                                      <p:cBhvr additive="repl">
                                        <p:cTn id="264" dur="300"/>
                                        <p:tgtEl>
                                          <p:spTgt spid="156"/>
                                        </p:tgtEl>
                                      </p:cBhvr>
                                    </p:animEffect>
                                  </p:childTnLst>
                                </p:cTn>
                              </p:par>
                              <p:par>
                                <p:cTn id="265" nodeType="withEffect" fill="hold" presetClass="entr" presetID="22" presetSubtype="8">
                                  <p:stCondLst>
                                    <p:cond delay="2700"/>
                                  </p:stCondLst>
                                  <p:childTnLst>
                                    <p:set>
                                      <p:cBhvr>
                                        <p:cTn id="266" dur="1" fill="hold">
                                          <p:stCondLst>
                                            <p:cond delay="0"/>
                                          </p:stCondLst>
                                        </p:cTn>
                                        <p:tgtEl>
                                          <p:spTgt spid="149"/>
                                        </p:tgtEl>
                                        <p:attrNameLst>
                                          <p:attrName>style.visibility</p:attrName>
                                        </p:attrNameLst>
                                      </p:cBhvr>
                                      <p:to>
                                        <p:strVal val="visible"/>
                                      </p:to>
                                    </p:set>
                                    <p:animEffect filter="wipe(left)" transition="in">
                                      <p:cBhvr additive="repl">
                                        <p:cTn id="267" dur="500"/>
                                        <p:tgtEl>
                                          <p:spTgt spid="149"/>
                                        </p:tgtEl>
                                      </p:cBhvr>
                                    </p:animEffect>
                                  </p:childTnLst>
                                </p:cTn>
                              </p:par>
                              <p:par>
                                <p:cTn id="268" nodeType="withEffect" fill="hold" presetClass="entr" presetID="22" presetSubtype="2">
                                  <p:stCondLst>
                                    <p:cond delay="3100"/>
                                  </p:stCondLst>
                                  <p:childTnLst>
                                    <p:set>
                                      <p:cBhvr>
                                        <p:cTn id="269" dur="1" fill="hold">
                                          <p:stCondLst>
                                            <p:cond delay="0"/>
                                          </p:stCondLst>
                                        </p:cTn>
                                        <p:tgtEl>
                                          <p:spTgt spid="163"/>
                                        </p:tgtEl>
                                        <p:attrNameLst>
                                          <p:attrName>style.visibility</p:attrName>
                                        </p:attrNameLst>
                                      </p:cBhvr>
                                      <p:to>
                                        <p:strVal val="visible"/>
                                      </p:to>
                                    </p:set>
                                    <p:animEffect filter="wipe(right)" transition="in">
                                      <p:cBhvr additive="repl">
                                        <p:cTn id="270" dur="500"/>
                                        <p:tgtEl>
                                          <p:spTgt spid="163"/>
                                        </p:tgtEl>
                                      </p:cBhvr>
                                    </p:animEffect>
                                  </p:childTnLst>
                                </p:cTn>
                              </p:par>
                              <p:par>
                                <p:cTn id="271" nodeType="withEffect" fill="hold" presetClass="entr" presetID="53" presetSubtype="16">
                                  <p:stCondLst>
                                    <p:cond delay="3500"/>
                                  </p:stCondLst>
                                  <p:childTnLst>
                                    <p:set>
                                      <p:cBhvr>
                                        <p:cTn id="272" dur="1" fill="hold">
                                          <p:stCondLst>
                                            <p:cond delay="0"/>
                                          </p:stCondLst>
                                        </p:cTn>
                                        <p:tgtEl>
                                          <p:spTgt spid="164"/>
                                        </p:tgtEl>
                                        <p:attrNameLst>
                                          <p:attrName>style.visibility</p:attrName>
                                        </p:attrNameLst>
                                      </p:cBhvr>
                                      <p:to>
                                        <p:strVal val="visible"/>
                                      </p:to>
                                    </p:set>
                                    <p:anim calcmode="lin" valueType="num">
                                      <p:cBhvr additive="repl">
                                        <p:cTn id="273" dur="500" fill="hold"/>
                                        <p:tgtEl>
                                          <p:spTgt spid="164"/>
                                        </p:tgtEl>
                                        <p:attrNameLst>
                                          <p:attrName>ppt_w</p:attrName>
                                        </p:attrNameLst>
                                      </p:cBhvr>
                                      <p:tavLst>
                                        <p:tav tm="0">
                                          <p:val>
                                            <p:fltVal val="0"/>
                                          </p:val>
                                        </p:tav>
                                        <p:tav tm="100000">
                                          <p:val>
                                            <p:strVal val="#ppt_w"/>
                                          </p:val>
                                        </p:tav>
                                      </p:tavLst>
                                    </p:anim>
                                    <p:anim calcmode="lin" valueType="num">
                                      <p:cBhvr additive="repl">
                                        <p:cTn id="274" dur="500" fill="hold"/>
                                        <p:tgtEl>
                                          <p:spTgt spid="164"/>
                                        </p:tgtEl>
                                        <p:attrNameLst>
                                          <p:attrName>ppt_h</p:attrName>
                                        </p:attrNameLst>
                                      </p:cBhvr>
                                      <p:tavLst>
                                        <p:tav tm="0">
                                          <p:val>
                                            <p:fltVal val="0"/>
                                          </p:val>
                                        </p:tav>
                                        <p:tav tm="100000">
                                          <p:val>
                                            <p:strVal val="#ppt_h"/>
                                          </p:val>
                                        </p:tav>
                                      </p:tavLst>
                                    </p:anim>
                                    <p:animEffect filter="fade" transition="in">
                                      <p:cBhvr additive="repl">
                                        <p:cTn id="275" dur="500"/>
                                        <p:tgtEl>
                                          <p:spTgt spid="164"/>
                                        </p:tgtEl>
                                      </p:cBhvr>
                                    </p:animEffect>
                                  </p:childTnLst>
                                </p:cTn>
                              </p:par>
                              <p:par>
                                <p:cTn id="276" nodeType="withEffect" fill="hold" presetClass="entr" presetID="22" presetSubtype="8">
                                  <p:stCondLst>
                                    <p:cond delay="4000"/>
                                  </p:stCondLst>
                                  <p:childTnLst>
                                    <p:set>
                                      <p:cBhvr>
                                        <p:cTn id="277" dur="1" fill="hold">
                                          <p:stCondLst>
                                            <p:cond delay="0"/>
                                          </p:stCondLst>
                                        </p:cTn>
                                        <p:tgtEl>
                                          <p:spTgt spid="165"/>
                                        </p:tgtEl>
                                        <p:attrNameLst>
                                          <p:attrName>style.visibility</p:attrName>
                                        </p:attrNameLst>
                                      </p:cBhvr>
                                      <p:to>
                                        <p:strVal val="visible"/>
                                      </p:to>
                                    </p:set>
                                    <p:animEffect filter="wipe(left)" transition="in">
                                      <p:cBhvr additive="repl">
                                        <p:cTn id="278" dur="500"/>
                                        <p:tgtEl>
                                          <p:spTgt spid="165"/>
                                        </p:tgtEl>
                                      </p:cBhvr>
                                    </p:animEffect>
                                  </p:childTnLst>
                                </p:cTn>
                              </p:par>
                              <p:par>
                                <p:cTn id="279" nodeType="withEffect" fill="hold" presetClass="entr" presetID="22" presetSubtype="2">
                                  <p:stCondLst>
                                    <p:cond delay="4400"/>
                                  </p:stCondLst>
                                  <p:childTnLst>
                                    <p:set>
                                      <p:cBhvr>
                                        <p:cTn id="280" dur="1" fill="hold">
                                          <p:stCondLst>
                                            <p:cond delay="0"/>
                                          </p:stCondLst>
                                        </p:cTn>
                                        <p:tgtEl>
                                          <p:spTgt spid="168"/>
                                        </p:tgtEl>
                                        <p:attrNameLst>
                                          <p:attrName>style.visibility</p:attrName>
                                        </p:attrNameLst>
                                      </p:cBhvr>
                                      <p:to>
                                        <p:strVal val="visible"/>
                                      </p:to>
                                    </p:set>
                                    <p:animEffect filter="wipe(right)" transition="in">
                                      <p:cBhvr additive="repl">
                                        <p:cTn id="281" dur="500"/>
                                        <p:tgtEl>
                                          <p:spTgt spid="168"/>
                                        </p:tgtEl>
                                      </p:cBhvr>
                                    </p:animEffect>
                                  </p:childTnLst>
                                </p:cTn>
                              </p:par>
                              <p:par>
                                <p:cTn id="282" nodeType="withEffect" fill="hold" presetClass="entr" presetID="53" presetSubtype="16">
                                  <p:stCondLst>
                                    <p:cond delay="4900"/>
                                  </p:stCondLst>
                                  <p:childTnLst>
                                    <p:set>
                                      <p:cBhvr>
                                        <p:cTn id="283" dur="1" fill="hold">
                                          <p:stCondLst>
                                            <p:cond delay="0"/>
                                          </p:stCondLst>
                                        </p:cTn>
                                        <p:tgtEl>
                                          <p:spTgt spid="169"/>
                                        </p:tgtEl>
                                        <p:attrNameLst>
                                          <p:attrName>style.visibility</p:attrName>
                                        </p:attrNameLst>
                                      </p:cBhvr>
                                      <p:to>
                                        <p:strVal val="visible"/>
                                      </p:to>
                                    </p:set>
                                    <p:anim calcmode="lin" valueType="num">
                                      <p:cBhvr additive="repl">
                                        <p:cTn id="284" dur="500" fill="hold"/>
                                        <p:tgtEl>
                                          <p:spTgt spid="169"/>
                                        </p:tgtEl>
                                        <p:attrNameLst>
                                          <p:attrName>ppt_w</p:attrName>
                                        </p:attrNameLst>
                                      </p:cBhvr>
                                      <p:tavLst>
                                        <p:tav tm="0">
                                          <p:val>
                                            <p:fltVal val="0"/>
                                          </p:val>
                                        </p:tav>
                                        <p:tav tm="100000">
                                          <p:val>
                                            <p:strVal val="#ppt_w"/>
                                          </p:val>
                                        </p:tav>
                                      </p:tavLst>
                                    </p:anim>
                                    <p:anim calcmode="lin" valueType="num">
                                      <p:cBhvr additive="repl">
                                        <p:cTn id="285" dur="500" fill="hold"/>
                                        <p:tgtEl>
                                          <p:spTgt spid="169"/>
                                        </p:tgtEl>
                                        <p:attrNameLst>
                                          <p:attrName>ppt_h</p:attrName>
                                        </p:attrNameLst>
                                      </p:cBhvr>
                                      <p:tavLst>
                                        <p:tav tm="0">
                                          <p:val>
                                            <p:fltVal val="0"/>
                                          </p:val>
                                        </p:tav>
                                        <p:tav tm="100000">
                                          <p:val>
                                            <p:strVal val="#ppt_h"/>
                                          </p:val>
                                        </p:tav>
                                      </p:tavLst>
                                    </p:anim>
                                    <p:animEffect filter="fade" transition="in">
                                      <p:cBhvr additive="repl">
                                        <p:cTn id="286" dur="500"/>
                                        <p:tgtEl>
                                          <p:spTgt spid="169"/>
                                        </p:tgtEl>
                                      </p:cBhvr>
                                    </p:animEffect>
                                  </p:childTnLst>
                                </p:cTn>
                              </p:par>
                              <p:par>
                                <p:cTn id="287" nodeType="withEffect" fill="hold" presetClass="entr" presetID="22" presetSubtype="8">
                                  <p:stCondLst>
                                    <p:cond delay="1200"/>
                                  </p:stCondLst>
                                  <p:childTnLst>
                                    <p:set>
                                      <p:cBhvr>
                                        <p:cTn id="288" dur="1" fill="hold">
                                          <p:stCondLst>
                                            <p:cond delay="0"/>
                                          </p:stCondLst>
                                        </p:cTn>
                                        <p:tgtEl>
                                          <p:spTgt spid="170"/>
                                        </p:tgtEl>
                                        <p:attrNameLst>
                                          <p:attrName>style.visibility</p:attrName>
                                        </p:attrNameLst>
                                      </p:cBhvr>
                                      <p:to>
                                        <p:strVal val="visible"/>
                                      </p:to>
                                    </p:set>
                                    <p:animEffect filter="wipe(left)" transition="in">
                                      <p:cBhvr additive="repl">
                                        <p:cTn id="289" dur="500"/>
                                        <p:tgtEl>
                                          <p:spTgt spid="170"/>
                                        </p:tgtEl>
                                      </p:cBhvr>
                                    </p:animEffect>
                                  </p:childTnLst>
                                </p:cTn>
                              </p:par>
                              <p:par>
                                <p:cTn id="290" nodeType="withEffect" fill="hold" presetClass="entr" presetID="22" presetSubtype="1">
                                  <p:stCondLst>
                                    <p:cond delay="1300"/>
                                  </p:stCondLst>
                                  <p:childTnLst>
                                    <p:set>
                                      <p:cBhvr>
                                        <p:cTn id="291" dur="1" fill="hold">
                                          <p:stCondLst>
                                            <p:cond delay="0"/>
                                          </p:stCondLst>
                                        </p:cTn>
                                        <p:tgtEl>
                                          <p:spTgt spid="173"/>
                                        </p:tgtEl>
                                        <p:attrNameLst>
                                          <p:attrName>style.visibility</p:attrName>
                                        </p:attrNameLst>
                                      </p:cBhvr>
                                      <p:to>
                                        <p:strVal val="visible"/>
                                      </p:to>
                                    </p:set>
                                    <p:animEffect filter="wipe(up)" transition="in">
                                      <p:cBhvr additive="repl">
                                        <p:cTn id="292" dur="500"/>
                                        <p:tgtEl>
                                          <p:spTgt spid="173"/>
                                        </p:tgtEl>
                                      </p:cBhvr>
                                    </p:animEffect>
                                  </p:childTnLst>
                                </p:cTn>
                              </p:par>
                              <p:par>
                                <p:cTn id="293" nodeType="withEffect" fill="hold" presetClass="entr" presetID="22" presetSubtype="8">
                                  <p:stCondLst>
                                    <p:cond delay="1400"/>
                                  </p:stCondLst>
                                  <p:childTnLst>
                                    <p:set>
                                      <p:cBhvr>
                                        <p:cTn id="294" dur="1" fill="hold">
                                          <p:stCondLst>
                                            <p:cond delay="0"/>
                                          </p:stCondLst>
                                        </p:cTn>
                                        <p:tgtEl>
                                          <p:spTgt spid="172"/>
                                        </p:tgtEl>
                                        <p:attrNameLst>
                                          <p:attrName>style.visibility</p:attrName>
                                        </p:attrNameLst>
                                      </p:cBhvr>
                                      <p:to>
                                        <p:strVal val="visible"/>
                                      </p:to>
                                    </p:set>
                                    <p:animEffect filter="wipe(left)" transition="in">
                                      <p:cBhvr additive="repl">
                                        <p:cTn id="295" dur="500"/>
                                        <p:tgtEl>
                                          <p:spTgt spid="172"/>
                                        </p:tgtEl>
                                      </p:cBhvr>
                                    </p:animEffect>
                                  </p:childTnLst>
                                </p:cTn>
                              </p:par>
                              <p:par>
                                <p:cTn id="296" nodeType="withEffect" fill="hold" presetClass="entr" presetID="22" presetSubtype="8">
                                  <p:stCondLst>
                                    <p:cond delay="1700"/>
                                  </p:stCondLst>
                                  <p:childTnLst>
                                    <p:set>
                                      <p:cBhvr>
                                        <p:cTn id="297" dur="1" fill="hold">
                                          <p:stCondLst>
                                            <p:cond delay="0"/>
                                          </p:stCondLst>
                                        </p:cTn>
                                        <p:tgtEl>
                                          <p:spTgt spid="171"/>
                                        </p:tgtEl>
                                        <p:attrNameLst>
                                          <p:attrName>style.visibility</p:attrName>
                                        </p:attrNameLst>
                                      </p:cBhvr>
                                      <p:to>
                                        <p:strVal val="visible"/>
                                      </p:to>
                                    </p:set>
                                    <p:animEffect filter="wipe(left)" transition="in">
                                      <p:cBhvr additive="repl">
                                        <p:cTn id="298" dur="500"/>
                                        <p:tgtEl>
                                          <p:spTgt spid="171"/>
                                        </p:tgtEl>
                                      </p:cBhvr>
                                    </p:animEffect>
                                  </p:childTnLst>
                                </p:cTn>
                              </p:par>
                              <p:par>
                                <p:cTn id="299" nodeType="withEffect" fill="hold" presetClass="entr" presetID="22" presetSubtype="8">
                                  <p:stCondLst>
                                    <p:cond delay="2000"/>
                                  </p:stCondLst>
                                  <p:childTnLst>
                                    <p:set>
                                      <p:cBhvr>
                                        <p:cTn id="300" dur="1" fill="hold">
                                          <p:stCondLst>
                                            <p:cond delay="0"/>
                                          </p:stCondLst>
                                        </p:cTn>
                                        <p:tgtEl>
                                          <p:spTgt spid="174"/>
                                        </p:tgtEl>
                                        <p:attrNameLst>
                                          <p:attrName>style.visibility</p:attrName>
                                        </p:attrNameLst>
                                      </p:cBhvr>
                                      <p:to>
                                        <p:strVal val="visible"/>
                                      </p:to>
                                    </p:set>
                                    <p:animEffect filter="wipe(left)" transition="in">
                                      <p:cBhvr additive="repl">
                                        <p:cTn id="301" dur="500"/>
                                        <p:tgtEl>
                                          <p:spTgt spid="174"/>
                                        </p:tgtEl>
                                      </p:cBhvr>
                                    </p:animEffect>
                                  </p:childTnLst>
                                </p:cTn>
                              </p:par>
                              <p:par>
                                <p:cTn id="302" nodeType="withEffect" fill="hold" presetClass="entr" presetID="22" presetSubtype="4">
                                  <p:stCondLst>
                                    <p:cond delay="2700"/>
                                  </p:stCondLst>
                                  <p:childTnLst>
                                    <p:set>
                                      <p:cBhvr>
                                        <p:cTn id="303" dur="1" fill="hold">
                                          <p:stCondLst>
                                            <p:cond delay="0"/>
                                          </p:stCondLst>
                                        </p:cTn>
                                        <p:tgtEl>
                                          <p:spTgt spid="175"/>
                                        </p:tgtEl>
                                        <p:attrNameLst>
                                          <p:attrName>style.visibility</p:attrName>
                                        </p:attrNameLst>
                                      </p:cBhvr>
                                      <p:to>
                                        <p:strVal val="visible"/>
                                      </p:to>
                                    </p:set>
                                    <p:animEffect filter="wipe(down)" transition="in">
                                      <p:cBhvr additive="repl">
                                        <p:cTn id="304" dur="500"/>
                                        <p:tgtEl>
                                          <p:spTgt spid="175"/>
                                        </p:tgtEl>
                                      </p:cBhvr>
                                    </p:animEffect>
                                  </p:childTnLst>
                                </p:cTn>
                              </p:par>
                              <p:par>
                                <p:cTn id="305" nodeType="withEffect" fill="hold" presetClass="entr" presetID="22" presetSubtype="8">
                                  <p:stCondLst>
                                    <p:cond delay="5300"/>
                                  </p:stCondLst>
                                  <p:childTnLst>
                                    <p:set>
                                      <p:cBhvr>
                                        <p:cTn id="306" dur="1" fill="hold">
                                          <p:stCondLst>
                                            <p:cond delay="0"/>
                                          </p:stCondLst>
                                        </p:cTn>
                                        <p:tgtEl>
                                          <p:spTgt spid="176"/>
                                        </p:tgtEl>
                                        <p:attrNameLst>
                                          <p:attrName>style.visibility</p:attrName>
                                        </p:attrNameLst>
                                      </p:cBhvr>
                                      <p:to>
                                        <p:strVal val="visible"/>
                                      </p:to>
                                    </p:set>
                                    <p:animEffect filter="wipe(left)" transition="in">
                                      <p:cBhvr additive="repl">
                                        <p:cTn id="307" dur="500"/>
                                        <p:tgtEl>
                                          <p:spTgt spid="176"/>
                                        </p:tgtEl>
                                      </p:cBhvr>
                                    </p:animEffect>
                                  </p:childTnLst>
                                </p:cTn>
                              </p:par>
                              <p:par>
                                <p:cTn id="308" nodeType="withEffect" fill="hold" presetClass="entr" presetID="22" presetSubtype="2">
                                  <p:stCondLst>
                                    <p:cond delay="5800"/>
                                  </p:stCondLst>
                                  <p:childTnLst>
                                    <p:set>
                                      <p:cBhvr>
                                        <p:cTn id="309" dur="1" fill="hold">
                                          <p:stCondLst>
                                            <p:cond delay="0"/>
                                          </p:stCondLst>
                                        </p:cTn>
                                        <p:tgtEl>
                                          <p:spTgt spid="179"/>
                                        </p:tgtEl>
                                        <p:attrNameLst>
                                          <p:attrName>style.visibility</p:attrName>
                                        </p:attrNameLst>
                                      </p:cBhvr>
                                      <p:to>
                                        <p:strVal val="visible"/>
                                      </p:to>
                                    </p:set>
                                    <p:animEffect filter="wipe(right)" transition="in">
                                      <p:cBhvr additive="repl">
                                        <p:cTn id="310" dur="500"/>
                                        <p:tgtEl>
                                          <p:spTgt spid="179"/>
                                        </p:tgtEl>
                                      </p:cBhvr>
                                    </p:animEffect>
                                  </p:childTnLst>
                                </p:cTn>
                              </p:par>
                              <p:par>
                                <p:cTn id="311" nodeType="withEffect" fill="hold" presetClass="entr" presetID="53" presetSubtype="16">
                                  <p:stCondLst>
                                    <p:cond delay="6300"/>
                                  </p:stCondLst>
                                  <p:childTnLst>
                                    <p:set>
                                      <p:cBhvr>
                                        <p:cTn id="312" dur="1" fill="hold">
                                          <p:stCondLst>
                                            <p:cond delay="0"/>
                                          </p:stCondLst>
                                        </p:cTn>
                                        <p:tgtEl>
                                          <p:spTgt spid="180"/>
                                        </p:tgtEl>
                                        <p:attrNameLst>
                                          <p:attrName>style.visibility</p:attrName>
                                        </p:attrNameLst>
                                      </p:cBhvr>
                                      <p:to>
                                        <p:strVal val="visible"/>
                                      </p:to>
                                    </p:set>
                                    <p:anim calcmode="lin" valueType="num">
                                      <p:cBhvr additive="repl">
                                        <p:cTn id="313" dur="500" fill="hold"/>
                                        <p:tgtEl>
                                          <p:spTgt spid="180"/>
                                        </p:tgtEl>
                                        <p:attrNameLst>
                                          <p:attrName>ppt_w</p:attrName>
                                        </p:attrNameLst>
                                      </p:cBhvr>
                                      <p:tavLst>
                                        <p:tav tm="0">
                                          <p:val>
                                            <p:fltVal val="0"/>
                                          </p:val>
                                        </p:tav>
                                        <p:tav tm="100000">
                                          <p:val>
                                            <p:strVal val="#ppt_w"/>
                                          </p:val>
                                        </p:tav>
                                      </p:tavLst>
                                    </p:anim>
                                    <p:anim calcmode="lin" valueType="num">
                                      <p:cBhvr additive="repl">
                                        <p:cTn id="314" dur="500" fill="hold"/>
                                        <p:tgtEl>
                                          <p:spTgt spid="180"/>
                                        </p:tgtEl>
                                        <p:attrNameLst>
                                          <p:attrName>ppt_h</p:attrName>
                                        </p:attrNameLst>
                                      </p:cBhvr>
                                      <p:tavLst>
                                        <p:tav tm="0">
                                          <p:val>
                                            <p:fltVal val="0"/>
                                          </p:val>
                                        </p:tav>
                                        <p:tav tm="100000">
                                          <p:val>
                                            <p:strVal val="#ppt_h"/>
                                          </p:val>
                                        </p:tav>
                                      </p:tavLst>
                                    </p:anim>
                                    <p:animEffect filter="fade" transition="in">
                                      <p:cBhvr additive="repl">
                                        <p:cTn id="315"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图片 1" descr=""/>
          <p:cNvPicPr/>
          <p:nvPr/>
        </p:nvPicPr>
        <p:blipFill>
          <a:blip r:embed="rId1"/>
          <a:srcRect l="23482" t="-557" r="0" b="0"/>
          <a:stretch/>
        </p:blipFill>
        <p:spPr>
          <a:xfrm>
            <a:off x="4324320" y="-159840"/>
            <a:ext cx="7867440" cy="7017480"/>
          </a:xfrm>
          <a:prstGeom prst="rect">
            <a:avLst/>
          </a:prstGeom>
          <a:ln w="0">
            <a:noFill/>
          </a:ln>
          <a:effectLst>
            <a:innerShdw blurRad="63500" dir="10800000" dist="50800">
              <a:srgbClr val="000000">
                <a:alpha val="50000"/>
              </a:srgbClr>
            </a:innerShdw>
          </a:effectLst>
        </p:spPr>
      </p:pic>
      <p:grpSp>
        <p:nvGrpSpPr>
          <p:cNvPr id="182" name="组合 5"/>
          <p:cNvGrpSpPr/>
          <p:nvPr/>
        </p:nvGrpSpPr>
        <p:grpSpPr>
          <a:xfrm>
            <a:off x="0" y="-601920"/>
            <a:ext cx="4339440" cy="7783560"/>
            <a:chOff x="0" y="-601920"/>
            <a:chExt cx="4339440" cy="7783560"/>
          </a:xfrm>
        </p:grpSpPr>
        <p:sp>
          <p:nvSpPr>
            <p:cNvPr id="183" name="矩形 6"/>
            <p:cNvSpPr/>
            <p:nvPr/>
          </p:nvSpPr>
          <p:spPr>
            <a:xfrm>
              <a:off x="0" y="-601920"/>
              <a:ext cx="4339440" cy="7783560"/>
            </a:xfrm>
            <a:prstGeom prst="rect">
              <a:avLst/>
            </a:prstGeom>
            <a:solidFill>
              <a:srgbClr val="78a1b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4" name="文本框 7"/>
            <p:cNvSpPr/>
            <p:nvPr/>
          </p:nvSpPr>
          <p:spPr>
            <a:xfrm>
              <a:off x="650160" y="-601920"/>
              <a:ext cx="2791080" cy="559800"/>
            </a:xfrm>
            <a:custGeom>
              <a:avLst/>
              <a:gdLst>
                <a:gd name="textAreaLeft" fmla="*/ 0 w 2791080"/>
                <a:gd name="textAreaRight" fmla="*/ 2791440 w 2791080"/>
                <a:gd name="textAreaTop" fmla="*/ 0 h 559800"/>
                <a:gd name="textAreaBottom" fmla="*/ 560160 h 559800"/>
              </a:gdLst>
              <a:ahLst/>
              <a:rect l="textAreaLeft" t="textAreaTop" r="textAreaRight" b="textAreaBottom"/>
              <a:pathLst>
                <a:path w="2791520" h="432731">
                  <a:moveTo>
                    <a:pt x="1409519" y="218704"/>
                  </a:moveTo>
                  <a:lnTo>
                    <a:pt x="1409519" y="333871"/>
                  </a:lnTo>
                  <a:lnTo>
                    <a:pt x="1666351" y="333871"/>
                  </a:lnTo>
                  <a:lnTo>
                    <a:pt x="1666351" y="218704"/>
                  </a:lnTo>
                  <a:close/>
                  <a:moveTo>
                    <a:pt x="450475" y="216666"/>
                  </a:moveTo>
                  <a:lnTo>
                    <a:pt x="542201" y="216666"/>
                  </a:lnTo>
                  <a:lnTo>
                    <a:pt x="639022" y="414386"/>
                  </a:lnTo>
                  <a:lnTo>
                    <a:pt x="545258" y="414386"/>
                  </a:lnTo>
                  <a:close/>
                  <a:moveTo>
                    <a:pt x="1320850" y="154496"/>
                  </a:moveTo>
                  <a:lnTo>
                    <a:pt x="1754000" y="154496"/>
                  </a:lnTo>
                  <a:lnTo>
                    <a:pt x="1754000" y="398079"/>
                  </a:lnTo>
                  <a:lnTo>
                    <a:pt x="1320850" y="398079"/>
                  </a:lnTo>
                  <a:close/>
                  <a:moveTo>
                    <a:pt x="2641701" y="139209"/>
                  </a:moveTo>
                  <a:lnTo>
                    <a:pt x="2641701" y="223800"/>
                  </a:lnTo>
                  <a:lnTo>
                    <a:pt x="2708967" y="223800"/>
                  </a:lnTo>
                  <a:lnTo>
                    <a:pt x="2708967" y="139209"/>
                  </a:lnTo>
                  <a:close/>
                  <a:moveTo>
                    <a:pt x="2500036" y="139209"/>
                  </a:moveTo>
                  <a:lnTo>
                    <a:pt x="2500036" y="223800"/>
                  </a:lnTo>
                  <a:lnTo>
                    <a:pt x="2564244" y="223800"/>
                  </a:lnTo>
                  <a:lnTo>
                    <a:pt x="2564244" y="139209"/>
                  </a:lnTo>
                  <a:close/>
                  <a:moveTo>
                    <a:pt x="2355313" y="139209"/>
                  </a:moveTo>
                  <a:lnTo>
                    <a:pt x="2355313" y="223800"/>
                  </a:lnTo>
                  <a:lnTo>
                    <a:pt x="2422579" y="223800"/>
                  </a:lnTo>
                  <a:lnTo>
                    <a:pt x="2422579" y="139209"/>
                  </a:lnTo>
                  <a:close/>
                  <a:moveTo>
                    <a:pt x="2272760" y="78058"/>
                  </a:moveTo>
                  <a:lnTo>
                    <a:pt x="2791520" y="78058"/>
                  </a:lnTo>
                  <a:lnTo>
                    <a:pt x="2791520" y="428655"/>
                  </a:lnTo>
                  <a:lnTo>
                    <a:pt x="2708967" y="428655"/>
                  </a:lnTo>
                  <a:lnTo>
                    <a:pt x="2708967" y="282912"/>
                  </a:lnTo>
                  <a:lnTo>
                    <a:pt x="2641701" y="282912"/>
                  </a:lnTo>
                  <a:lnTo>
                    <a:pt x="2641701" y="402156"/>
                  </a:lnTo>
                  <a:lnTo>
                    <a:pt x="2564244" y="402156"/>
                  </a:lnTo>
                  <a:lnTo>
                    <a:pt x="2564244" y="282912"/>
                  </a:lnTo>
                  <a:lnTo>
                    <a:pt x="2500036" y="282912"/>
                  </a:lnTo>
                  <a:lnTo>
                    <a:pt x="2500036" y="402156"/>
                  </a:lnTo>
                  <a:lnTo>
                    <a:pt x="2422579" y="402156"/>
                  </a:lnTo>
                  <a:lnTo>
                    <a:pt x="2422579" y="282912"/>
                  </a:lnTo>
                  <a:lnTo>
                    <a:pt x="2355313" y="282912"/>
                  </a:lnTo>
                  <a:lnTo>
                    <a:pt x="2355313" y="432731"/>
                  </a:lnTo>
                  <a:lnTo>
                    <a:pt x="2272760" y="432731"/>
                  </a:lnTo>
                  <a:close/>
                  <a:moveTo>
                    <a:pt x="2148768" y="0"/>
                  </a:moveTo>
                  <a:lnTo>
                    <a:pt x="2685526" y="0"/>
                  </a:lnTo>
                  <a:lnTo>
                    <a:pt x="2685526" y="23023"/>
                  </a:lnTo>
                  <a:lnTo>
                    <a:pt x="2231993" y="23023"/>
                  </a:lnTo>
                  <a:lnTo>
                    <a:pt x="2184092" y="416424"/>
                  </a:lnTo>
                  <a:lnTo>
                    <a:pt x="2100519" y="416424"/>
                  </a:lnTo>
                  <a:close/>
                  <a:moveTo>
                    <a:pt x="1406956" y="0"/>
                  </a:moveTo>
                  <a:lnTo>
                    <a:pt x="1491482" y="0"/>
                  </a:lnTo>
                  <a:lnTo>
                    <a:pt x="1490034" y="6716"/>
                  </a:lnTo>
                  <a:lnTo>
                    <a:pt x="1617430" y="6716"/>
                  </a:lnTo>
                  <a:lnTo>
                    <a:pt x="1617430" y="0"/>
                  </a:lnTo>
                  <a:lnTo>
                    <a:pt x="1704060" y="0"/>
                  </a:lnTo>
                  <a:lnTo>
                    <a:pt x="1704060" y="6716"/>
                  </a:lnTo>
                  <a:lnTo>
                    <a:pt x="1839610" y="6716"/>
                  </a:lnTo>
                  <a:lnTo>
                    <a:pt x="1839610" y="70924"/>
                  </a:lnTo>
                  <a:lnTo>
                    <a:pt x="1229125" y="70924"/>
                  </a:lnTo>
                  <a:lnTo>
                    <a:pt x="1229125" y="6716"/>
                  </a:lnTo>
                  <a:lnTo>
                    <a:pt x="1405442" y="6716"/>
                  </a:lnTo>
                  <a:close/>
                  <a:moveTo>
                    <a:pt x="960062" y="0"/>
                  </a:moveTo>
                  <a:lnTo>
                    <a:pt x="1150648" y="0"/>
                  </a:lnTo>
                  <a:lnTo>
                    <a:pt x="1150648" y="223800"/>
                  </a:lnTo>
                  <a:lnTo>
                    <a:pt x="1249508" y="202398"/>
                  </a:lnTo>
                  <a:lnTo>
                    <a:pt x="1249508" y="276797"/>
                  </a:lnTo>
                  <a:lnTo>
                    <a:pt x="1067076" y="319603"/>
                  </a:lnTo>
                  <a:lnTo>
                    <a:pt x="1067076" y="16908"/>
                  </a:lnTo>
                  <a:lnTo>
                    <a:pt x="960062" y="16908"/>
                  </a:lnTo>
                  <a:close/>
                  <a:moveTo>
                    <a:pt x="148799" y="0"/>
                  </a:moveTo>
                  <a:lnTo>
                    <a:pt x="236448" y="0"/>
                  </a:lnTo>
                  <a:lnTo>
                    <a:pt x="236448" y="99461"/>
                  </a:lnTo>
                  <a:lnTo>
                    <a:pt x="349577" y="99461"/>
                  </a:lnTo>
                  <a:lnTo>
                    <a:pt x="349577" y="0"/>
                  </a:lnTo>
                  <a:lnTo>
                    <a:pt x="441302" y="0"/>
                  </a:lnTo>
                  <a:lnTo>
                    <a:pt x="441302" y="99461"/>
                  </a:lnTo>
                  <a:lnTo>
                    <a:pt x="557488" y="99461"/>
                  </a:lnTo>
                  <a:lnTo>
                    <a:pt x="557488" y="0"/>
                  </a:lnTo>
                  <a:lnTo>
                    <a:pt x="644118" y="0"/>
                  </a:lnTo>
                  <a:lnTo>
                    <a:pt x="644118" y="99461"/>
                  </a:lnTo>
                  <a:lnTo>
                    <a:pt x="791898" y="99461"/>
                  </a:lnTo>
                  <a:lnTo>
                    <a:pt x="791898" y="165707"/>
                  </a:lnTo>
                  <a:lnTo>
                    <a:pt x="434168" y="165707"/>
                  </a:lnTo>
                  <a:lnTo>
                    <a:pt x="263966" y="413367"/>
                  </a:lnTo>
                  <a:lnTo>
                    <a:pt x="158991" y="413367"/>
                  </a:lnTo>
                  <a:lnTo>
                    <a:pt x="325116" y="165707"/>
                  </a:lnTo>
                  <a:lnTo>
                    <a:pt x="0" y="165707"/>
                  </a:lnTo>
                  <a:lnTo>
                    <a:pt x="0" y="99461"/>
                  </a:lnTo>
                  <a:lnTo>
                    <a:pt x="148799" y="99461"/>
                  </a:lnTo>
                  <a:close/>
                </a:path>
              </a:pathLst>
            </a:custGeom>
            <a:solidFill>
              <a:srgbClr val="f2e750"/>
            </a:solidFill>
            <a:ln w="0">
              <a:noFill/>
            </a:ln>
          </p:spPr>
          <p:style>
            <a:lnRef idx="0"/>
            <a:fillRef idx="0"/>
            <a:effectRef idx="0"/>
            <a:fontRef idx="minor"/>
          </p:style>
          <p:txBody>
            <a:bodyPr numCol="1" spcCol="0" horzOverflow="overflow" vertOverflow="overflow" anchor="t">
              <a:noAutofit/>
            </a:bodyPr>
            <a:p>
              <a:pPr>
                <a:lnSpc>
                  <a:spcPct val="100000"/>
                </a:lnSpc>
              </a:pPr>
              <a:endParaRPr b="0" lang="en-US" sz="8000" spc="-1" strike="noStrike">
                <a:solidFill>
                  <a:srgbClr val="000000"/>
                </a:solidFill>
                <a:latin typeface="方正经黑简体"/>
                <a:ea typeface="方正经黑简体"/>
              </a:endParaRPr>
            </a:p>
          </p:txBody>
        </p:sp>
      </p:grpSp>
      <p:grpSp>
        <p:nvGrpSpPr>
          <p:cNvPr id="185" name="组合 8"/>
          <p:cNvGrpSpPr/>
          <p:nvPr/>
        </p:nvGrpSpPr>
        <p:grpSpPr>
          <a:xfrm>
            <a:off x="4329000" y="613080"/>
            <a:ext cx="367920" cy="1667160"/>
            <a:chOff x="4329000" y="613080"/>
            <a:chExt cx="367920" cy="1667160"/>
          </a:xfrm>
        </p:grpSpPr>
        <p:sp>
          <p:nvSpPr>
            <p:cNvPr id="186" name="矩形 9"/>
            <p:cNvSpPr/>
            <p:nvPr/>
          </p:nvSpPr>
          <p:spPr>
            <a:xfrm>
              <a:off x="4329000" y="613080"/>
              <a:ext cx="357840" cy="1480680"/>
            </a:xfrm>
            <a:custGeom>
              <a:avLst/>
              <a:gdLst>
                <a:gd name="textAreaLeft" fmla="*/ 0 w 357840"/>
                <a:gd name="textAreaRight" fmla="*/ 358200 w 357840"/>
                <a:gd name="textAreaTop" fmla="*/ 0 h 1480680"/>
                <a:gd name="textAreaBottom" fmla="*/ 1481040 h 1480680"/>
              </a:gdLst>
              <a:ahLst/>
              <a:rect l="textAreaLeft" t="textAreaTop" r="textAreaRight" b="textAreaBottom"/>
              <a:pathLst>
                <a:path w="667126" h="1489372">
                  <a:moveTo>
                    <a:pt x="13083" y="99156"/>
                  </a:moveTo>
                  <a:lnTo>
                    <a:pt x="667126" y="0"/>
                  </a:lnTo>
                  <a:lnTo>
                    <a:pt x="667126" y="1489372"/>
                  </a:lnTo>
                  <a:lnTo>
                    <a:pt x="1" y="1481337"/>
                  </a:lnTo>
                  <a:lnTo>
                    <a:pt x="13083" y="99156"/>
                  </a:lnTo>
                  <a:close/>
                </a:path>
              </a:pathLst>
            </a:custGeom>
            <a:solidFill>
              <a:srgbClr val="f2e7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7" name="直角三角形 10"/>
            <p:cNvSpPr/>
            <p:nvPr/>
          </p:nvSpPr>
          <p:spPr>
            <a:xfrm flipV="1">
              <a:off x="4348080" y="2088000"/>
              <a:ext cx="348840" cy="191880"/>
            </a:xfrm>
            <a:prstGeom prst="rtTriangle">
              <a:avLst/>
            </a:prstGeom>
            <a:gradFill rotWithShape="0">
              <a:gsLst>
                <a:gs pos="50000">
                  <a:srgbClr val="000000">
                    <a:alpha val="0"/>
                  </a:srgbClr>
                </a:gs>
                <a:gs pos="100000">
                  <a:srgbClr val="000000"/>
                </a:gs>
              </a:gsLst>
              <a:lin ang="15000000"/>
            </a:gradFill>
            <a:ln>
              <a:noFill/>
            </a:ln>
          </p:spPr>
          <p:style>
            <a:lnRef idx="2">
              <a:schemeClr val="accent1">
                <a:shade val="50000"/>
              </a:schemeClr>
            </a:lnRef>
            <a:fillRef idx="1">
              <a:schemeClr val="accent1"/>
            </a:fillRef>
            <a:effectRef idx="0">
              <a:schemeClr val="accent1"/>
            </a:effectRef>
            <a:fontRef idx="minor"/>
          </p:style>
          <p:txBody>
            <a:bodyPr lIns="90000" rIns="90000" tIns="19080" bIns="19080" anchor="ctr">
              <a:noAutofit/>
            </a:bodyPr>
            <a:p>
              <a:pPr algn="ctr">
                <a:lnSpc>
                  <a:spcPct val="100000"/>
                </a:lnSpc>
              </a:pPr>
              <a:endParaRPr b="0" lang="en-US" sz="1800" spc="-1" strike="noStrike">
                <a:solidFill>
                  <a:schemeClr val="lt1"/>
                </a:solidFill>
                <a:latin typeface="Calibri"/>
              </a:endParaRPr>
            </a:p>
          </p:txBody>
        </p:sp>
      </p:grpSp>
      <p:sp>
        <p:nvSpPr>
          <p:cNvPr id="188" name="任意多边形 11"/>
          <p:cNvSpPr/>
          <p:nvPr/>
        </p:nvSpPr>
        <p:spPr>
          <a:xfrm>
            <a:off x="31680" y="599400"/>
            <a:ext cx="4654800" cy="1488960"/>
          </a:xfrm>
          <a:custGeom>
            <a:avLst/>
            <a:gdLst>
              <a:gd name="textAreaLeft" fmla="*/ 0 w 4654800"/>
              <a:gd name="textAreaRight" fmla="*/ 4655160 w 4654800"/>
              <a:gd name="textAreaTop" fmla="*/ 0 h 1488960"/>
              <a:gd name="textAreaBottom" fmla="*/ 1489320 h 1488960"/>
            </a:gdLst>
            <a:ahLst/>
            <a:rect l="textAreaLeft" t="textAreaTop" r="textAreaRight" b="textAreaBottom"/>
            <a:pathLst>
              <a:path w="4655302" h="1905000">
                <a:moveTo>
                  <a:pt x="0" y="0"/>
                </a:moveTo>
                <a:lnTo>
                  <a:pt x="1668338" y="0"/>
                </a:lnTo>
                <a:lnTo>
                  <a:pt x="1668339" y="1"/>
                </a:lnTo>
                <a:lnTo>
                  <a:pt x="4655302" y="1"/>
                </a:lnTo>
                <a:lnTo>
                  <a:pt x="4655302" y="1900575"/>
                </a:lnTo>
                <a:lnTo>
                  <a:pt x="1670362" y="1900575"/>
                </a:lnTo>
                <a:lnTo>
                  <a:pt x="1668338" y="1905000"/>
                </a:lnTo>
                <a:lnTo>
                  <a:pt x="0" y="1905000"/>
                </a:lnTo>
                <a:lnTo>
                  <a:pt x="435674" y="952500"/>
                </a:lnTo>
                <a:close/>
              </a:path>
            </a:pathLst>
          </a:custGeom>
          <a:solidFill>
            <a:schemeClr val="accent1"/>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30000"/>
              </a:lnSpc>
            </a:pPr>
            <a:endParaRPr b="0" lang="en-US" sz="2400" spc="-1" strike="noStrike">
              <a:solidFill>
                <a:srgbClr val="000000"/>
              </a:solidFill>
              <a:latin typeface="方正喵呜体"/>
              <a:ea typeface="方正喵呜体"/>
            </a:endParaRPr>
          </a:p>
        </p:txBody>
      </p:sp>
      <p:sp>
        <p:nvSpPr>
          <p:cNvPr id="189" name="矩形 12"/>
          <p:cNvSpPr/>
          <p:nvPr/>
        </p:nvSpPr>
        <p:spPr>
          <a:xfrm>
            <a:off x="476280" y="857880"/>
            <a:ext cx="4011120" cy="564840"/>
          </a:xfrm>
          <a:prstGeom prst="rect">
            <a:avLst/>
          </a:prstGeom>
          <a:noFill/>
          <a:ln w="0">
            <a:noFill/>
          </a:ln>
        </p:spPr>
        <p:style>
          <a:lnRef idx="0"/>
          <a:fillRef idx="0"/>
          <a:effectRef idx="0"/>
          <a:fontRef idx="minor"/>
        </p:style>
        <p:txBody>
          <a:bodyPr lIns="90000" rIns="90000" tIns="45000" bIns="45000" anchor="t">
            <a:spAutoFit/>
          </a:bodyPr>
          <a:p>
            <a:pPr algn="just">
              <a:lnSpc>
                <a:spcPct val="130000"/>
              </a:lnSpc>
            </a:pPr>
            <a:r>
              <a:rPr b="0" lang="zh-CN" sz="2400" spc="-1" strike="noStrike">
                <a:solidFill>
                  <a:srgbClr val="0d0d0d"/>
                </a:solidFill>
                <a:latin typeface="方正正纤黑简体"/>
                <a:ea typeface="方正正纤黑简体"/>
              </a:rPr>
              <a:t>阅读中照抄原文的一般是错的，同意替换的一般都对</a:t>
            </a:r>
            <a:endParaRPr b="0" lang="en-US" sz="2400" spc="-1" strike="noStrike">
              <a:solidFill>
                <a:srgbClr val="000000"/>
              </a:solidFill>
              <a:latin typeface="Arial"/>
            </a:endParaRPr>
          </a:p>
        </p:txBody>
      </p:sp>
      <p:grpSp>
        <p:nvGrpSpPr>
          <p:cNvPr id="190" name="组合 13"/>
          <p:cNvGrpSpPr/>
          <p:nvPr/>
        </p:nvGrpSpPr>
        <p:grpSpPr>
          <a:xfrm>
            <a:off x="4329000" y="2361240"/>
            <a:ext cx="367920" cy="1666800"/>
            <a:chOff x="4329000" y="2361240"/>
            <a:chExt cx="367920" cy="1666800"/>
          </a:xfrm>
        </p:grpSpPr>
        <p:sp>
          <p:nvSpPr>
            <p:cNvPr id="191" name="矩形 9"/>
            <p:cNvSpPr/>
            <p:nvPr/>
          </p:nvSpPr>
          <p:spPr>
            <a:xfrm>
              <a:off x="4329000" y="2361240"/>
              <a:ext cx="357840" cy="1480680"/>
            </a:xfrm>
            <a:custGeom>
              <a:avLst/>
              <a:gdLst>
                <a:gd name="textAreaLeft" fmla="*/ 0 w 357840"/>
                <a:gd name="textAreaRight" fmla="*/ 358200 w 357840"/>
                <a:gd name="textAreaTop" fmla="*/ 0 h 1480680"/>
                <a:gd name="textAreaBottom" fmla="*/ 1481040 h 1480680"/>
              </a:gdLst>
              <a:ahLst/>
              <a:rect l="textAreaLeft" t="textAreaTop" r="textAreaRight" b="textAreaBottom"/>
              <a:pathLst>
                <a:path w="667126" h="1489372">
                  <a:moveTo>
                    <a:pt x="13083" y="99156"/>
                  </a:moveTo>
                  <a:lnTo>
                    <a:pt x="667126" y="0"/>
                  </a:lnTo>
                  <a:lnTo>
                    <a:pt x="667126" y="1489372"/>
                  </a:lnTo>
                  <a:lnTo>
                    <a:pt x="1" y="1481337"/>
                  </a:lnTo>
                  <a:lnTo>
                    <a:pt x="13083" y="99156"/>
                  </a:lnTo>
                  <a:close/>
                </a:path>
              </a:pathLst>
            </a:custGeom>
            <a:solidFill>
              <a:srgbClr val="f2e7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2" name="直角三角形 15"/>
            <p:cNvSpPr/>
            <p:nvPr/>
          </p:nvSpPr>
          <p:spPr>
            <a:xfrm flipV="1">
              <a:off x="4348080" y="3835800"/>
              <a:ext cx="348840" cy="191880"/>
            </a:xfrm>
            <a:prstGeom prst="rtTriangle">
              <a:avLst/>
            </a:prstGeom>
            <a:gradFill rotWithShape="0">
              <a:gsLst>
                <a:gs pos="50000">
                  <a:srgbClr val="000000">
                    <a:alpha val="0"/>
                  </a:srgbClr>
                </a:gs>
                <a:gs pos="100000">
                  <a:srgbClr val="000000"/>
                </a:gs>
              </a:gsLst>
              <a:lin ang="15000000"/>
            </a:gradFill>
            <a:ln>
              <a:noFill/>
            </a:ln>
          </p:spPr>
          <p:style>
            <a:lnRef idx="2">
              <a:schemeClr val="accent1">
                <a:shade val="50000"/>
              </a:schemeClr>
            </a:lnRef>
            <a:fillRef idx="1">
              <a:schemeClr val="accent1"/>
            </a:fillRef>
            <a:effectRef idx="0">
              <a:schemeClr val="accent1"/>
            </a:effectRef>
            <a:fontRef idx="minor"/>
          </p:style>
          <p:txBody>
            <a:bodyPr lIns="90000" rIns="90000" tIns="19080" bIns="19080" anchor="ctr">
              <a:noAutofit/>
            </a:bodyPr>
            <a:p>
              <a:pPr algn="ctr">
                <a:lnSpc>
                  <a:spcPct val="100000"/>
                </a:lnSpc>
              </a:pPr>
              <a:endParaRPr b="0" lang="en-US" sz="1800" spc="-1" strike="noStrike">
                <a:solidFill>
                  <a:schemeClr val="lt1"/>
                </a:solidFill>
                <a:latin typeface="Calibri"/>
              </a:endParaRPr>
            </a:p>
          </p:txBody>
        </p:sp>
      </p:grpSp>
      <p:sp>
        <p:nvSpPr>
          <p:cNvPr id="193" name="任意多边形 16"/>
          <p:cNvSpPr/>
          <p:nvPr/>
        </p:nvSpPr>
        <p:spPr>
          <a:xfrm>
            <a:off x="31680" y="2347200"/>
            <a:ext cx="4654800" cy="1488960"/>
          </a:xfrm>
          <a:custGeom>
            <a:avLst/>
            <a:gdLst>
              <a:gd name="textAreaLeft" fmla="*/ 0 w 4654800"/>
              <a:gd name="textAreaRight" fmla="*/ 4655160 w 4654800"/>
              <a:gd name="textAreaTop" fmla="*/ 0 h 1488960"/>
              <a:gd name="textAreaBottom" fmla="*/ 1489320 h 1488960"/>
            </a:gdLst>
            <a:ahLst/>
            <a:rect l="textAreaLeft" t="textAreaTop" r="textAreaRight" b="textAreaBottom"/>
            <a:pathLst>
              <a:path w="4655302" h="1905000">
                <a:moveTo>
                  <a:pt x="0" y="0"/>
                </a:moveTo>
                <a:lnTo>
                  <a:pt x="1668338" y="0"/>
                </a:lnTo>
                <a:lnTo>
                  <a:pt x="1668339" y="1"/>
                </a:lnTo>
                <a:lnTo>
                  <a:pt x="4655302" y="1"/>
                </a:lnTo>
                <a:lnTo>
                  <a:pt x="4655302" y="1900575"/>
                </a:lnTo>
                <a:lnTo>
                  <a:pt x="1670362" y="1900575"/>
                </a:lnTo>
                <a:lnTo>
                  <a:pt x="1668338" y="1905000"/>
                </a:lnTo>
                <a:lnTo>
                  <a:pt x="0" y="1905000"/>
                </a:lnTo>
                <a:lnTo>
                  <a:pt x="435674" y="952500"/>
                </a:lnTo>
                <a:close/>
              </a:path>
            </a:pathLst>
          </a:custGeom>
          <a:solidFill>
            <a:schemeClr val="accent1"/>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30000"/>
              </a:lnSpc>
            </a:pPr>
            <a:endParaRPr b="0" lang="en-US" sz="2400" spc="-1" strike="noStrike">
              <a:solidFill>
                <a:srgbClr val="000000"/>
              </a:solidFill>
              <a:latin typeface="方正喵呜体"/>
              <a:ea typeface="方正喵呜体"/>
            </a:endParaRPr>
          </a:p>
        </p:txBody>
      </p:sp>
      <p:sp>
        <p:nvSpPr>
          <p:cNvPr id="194" name="矩形 17"/>
          <p:cNvSpPr/>
          <p:nvPr/>
        </p:nvSpPr>
        <p:spPr>
          <a:xfrm>
            <a:off x="476280" y="2605680"/>
            <a:ext cx="4242240" cy="1040040"/>
          </a:xfrm>
          <a:prstGeom prst="rect">
            <a:avLst/>
          </a:prstGeom>
          <a:noFill/>
          <a:ln w="0">
            <a:noFill/>
          </a:ln>
        </p:spPr>
        <p:style>
          <a:lnRef idx="0"/>
          <a:fillRef idx="0"/>
          <a:effectRef idx="0"/>
          <a:fontRef idx="minor"/>
        </p:style>
        <p:txBody>
          <a:bodyPr lIns="90000" rIns="90000" tIns="45000" bIns="45000" anchor="t">
            <a:spAutoFit/>
          </a:bodyPr>
          <a:p>
            <a:pPr algn="just">
              <a:lnSpc>
                <a:spcPct val="130000"/>
              </a:lnSpc>
            </a:pPr>
            <a:r>
              <a:rPr b="0" lang="zh-CN" sz="2400" spc="-1" strike="noStrike">
                <a:solidFill>
                  <a:srgbClr val="0d0d0d"/>
                </a:solidFill>
                <a:latin typeface="方正正纤黑简体"/>
                <a:ea typeface="方正正纤黑简体"/>
              </a:rPr>
              <a:t>选项中表达意义肤浅的错，概括性的抽象的含义深刻的对</a:t>
            </a:r>
            <a:endParaRPr b="0" lang="en-US" sz="2400" spc="-1" strike="noStrike">
              <a:solidFill>
                <a:srgbClr val="000000"/>
              </a:solidFill>
              <a:latin typeface="Arial"/>
            </a:endParaRPr>
          </a:p>
        </p:txBody>
      </p:sp>
      <p:grpSp>
        <p:nvGrpSpPr>
          <p:cNvPr id="195" name="组合 18"/>
          <p:cNvGrpSpPr/>
          <p:nvPr/>
        </p:nvGrpSpPr>
        <p:grpSpPr>
          <a:xfrm>
            <a:off x="4329000" y="4173120"/>
            <a:ext cx="367920" cy="1666800"/>
            <a:chOff x="4329000" y="4173120"/>
            <a:chExt cx="367920" cy="1666800"/>
          </a:xfrm>
        </p:grpSpPr>
        <p:sp>
          <p:nvSpPr>
            <p:cNvPr id="196" name="矩形 9"/>
            <p:cNvSpPr/>
            <p:nvPr/>
          </p:nvSpPr>
          <p:spPr>
            <a:xfrm>
              <a:off x="4329000" y="4173120"/>
              <a:ext cx="357840" cy="1480680"/>
            </a:xfrm>
            <a:custGeom>
              <a:avLst/>
              <a:gdLst>
                <a:gd name="textAreaLeft" fmla="*/ 0 w 357840"/>
                <a:gd name="textAreaRight" fmla="*/ 358200 w 357840"/>
                <a:gd name="textAreaTop" fmla="*/ 0 h 1480680"/>
                <a:gd name="textAreaBottom" fmla="*/ 1481040 h 1480680"/>
              </a:gdLst>
              <a:ahLst/>
              <a:rect l="textAreaLeft" t="textAreaTop" r="textAreaRight" b="textAreaBottom"/>
              <a:pathLst>
                <a:path w="667126" h="1489372">
                  <a:moveTo>
                    <a:pt x="13083" y="99156"/>
                  </a:moveTo>
                  <a:lnTo>
                    <a:pt x="667126" y="0"/>
                  </a:lnTo>
                  <a:lnTo>
                    <a:pt x="667126" y="1489372"/>
                  </a:lnTo>
                  <a:lnTo>
                    <a:pt x="1" y="1481337"/>
                  </a:lnTo>
                  <a:lnTo>
                    <a:pt x="13083" y="99156"/>
                  </a:lnTo>
                  <a:close/>
                </a:path>
              </a:pathLst>
            </a:custGeom>
            <a:solidFill>
              <a:srgbClr val="f2e7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7" name="直角三角形 20"/>
            <p:cNvSpPr/>
            <p:nvPr/>
          </p:nvSpPr>
          <p:spPr>
            <a:xfrm flipV="1">
              <a:off x="4348080" y="5647680"/>
              <a:ext cx="348840" cy="191880"/>
            </a:xfrm>
            <a:prstGeom prst="rtTriangle">
              <a:avLst/>
            </a:prstGeom>
            <a:gradFill rotWithShape="0">
              <a:gsLst>
                <a:gs pos="50000">
                  <a:srgbClr val="000000">
                    <a:alpha val="0"/>
                  </a:srgbClr>
                </a:gs>
                <a:gs pos="100000">
                  <a:srgbClr val="000000"/>
                </a:gs>
              </a:gsLst>
              <a:lin ang="15000000"/>
            </a:gradFill>
            <a:ln>
              <a:noFill/>
            </a:ln>
          </p:spPr>
          <p:style>
            <a:lnRef idx="2">
              <a:schemeClr val="accent1">
                <a:shade val="50000"/>
              </a:schemeClr>
            </a:lnRef>
            <a:fillRef idx="1">
              <a:schemeClr val="accent1"/>
            </a:fillRef>
            <a:effectRef idx="0">
              <a:schemeClr val="accent1"/>
            </a:effectRef>
            <a:fontRef idx="minor"/>
          </p:style>
          <p:txBody>
            <a:bodyPr lIns="90000" rIns="90000" tIns="19080" bIns="19080" anchor="ctr">
              <a:noAutofit/>
            </a:bodyPr>
            <a:p>
              <a:pPr algn="ctr">
                <a:lnSpc>
                  <a:spcPct val="100000"/>
                </a:lnSpc>
              </a:pPr>
              <a:endParaRPr b="0" lang="en-US" sz="1800" spc="-1" strike="noStrike">
                <a:solidFill>
                  <a:schemeClr val="lt1"/>
                </a:solidFill>
                <a:latin typeface="Calibri"/>
              </a:endParaRPr>
            </a:p>
          </p:txBody>
        </p:sp>
      </p:grpSp>
      <p:sp>
        <p:nvSpPr>
          <p:cNvPr id="198" name="任意多边形 21"/>
          <p:cNvSpPr/>
          <p:nvPr/>
        </p:nvSpPr>
        <p:spPr>
          <a:xfrm>
            <a:off x="31680" y="4159080"/>
            <a:ext cx="4654800" cy="1488960"/>
          </a:xfrm>
          <a:custGeom>
            <a:avLst/>
            <a:gdLst>
              <a:gd name="textAreaLeft" fmla="*/ 0 w 4654800"/>
              <a:gd name="textAreaRight" fmla="*/ 4655160 w 4654800"/>
              <a:gd name="textAreaTop" fmla="*/ 0 h 1488960"/>
              <a:gd name="textAreaBottom" fmla="*/ 1489320 h 1488960"/>
            </a:gdLst>
            <a:ahLst/>
            <a:rect l="textAreaLeft" t="textAreaTop" r="textAreaRight" b="textAreaBottom"/>
            <a:pathLst>
              <a:path w="4655302" h="1905000">
                <a:moveTo>
                  <a:pt x="0" y="0"/>
                </a:moveTo>
                <a:lnTo>
                  <a:pt x="1668338" y="0"/>
                </a:lnTo>
                <a:lnTo>
                  <a:pt x="1668339" y="1"/>
                </a:lnTo>
                <a:lnTo>
                  <a:pt x="4655302" y="1"/>
                </a:lnTo>
                <a:lnTo>
                  <a:pt x="4655302" y="1900575"/>
                </a:lnTo>
                <a:lnTo>
                  <a:pt x="1670362" y="1900575"/>
                </a:lnTo>
                <a:lnTo>
                  <a:pt x="1668338" y="1905000"/>
                </a:lnTo>
                <a:lnTo>
                  <a:pt x="0" y="1905000"/>
                </a:lnTo>
                <a:lnTo>
                  <a:pt x="435674" y="952500"/>
                </a:lnTo>
                <a:close/>
              </a:path>
            </a:pathLst>
          </a:custGeom>
          <a:solidFill>
            <a:schemeClr val="accent1"/>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30000"/>
              </a:lnSpc>
            </a:pPr>
            <a:endParaRPr b="0" lang="en-US" sz="2400" spc="-1" strike="noStrike">
              <a:solidFill>
                <a:srgbClr val="000000"/>
              </a:solidFill>
              <a:latin typeface="方正喵呜体"/>
              <a:ea typeface="方正喵呜体"/>
            </a:endParaRPr>
          </a:p>
        </p:txBody>
      </p:sp>
      <p:sp>
        <p:nvSpPr>
          <p:cNvPr id="199" name="矩形 22"/>
          <p:cNvSpPr/>
          <p:nvPr/>
        </p:nvSpPr>
        <p:spPr>
          <a:xfrm>
            <a:off x="476280" y="4417560"/>
            <a:ext cx="4011120" cy="564840"/>
          </a:xfrm>
          <a:prstGeom prst="rect">
            <a:avLst/>
          </a:prstGeom>
          <a:noFill/>
          <a:ln w="0">
            <a:noFill/>
          </a:ln>
        </p:spPr>
        <p:style>
          <a:lnRef idx="0"/>
          <a:fillRef idx="0"/>
          <a:effectRef idx="0"/>
          <a:fontRef idx="minor"/>
        </p:style>
        <p:txBody>
          <a:bodyPr lIns="90000" rIns="90000" tIns="45000" bIns="45000" anchor="t">
            <a:spAutoFit/>
          </a:bodyPr>
          <a:p>
            <a:pPr algn="just">
              <a:lnSpc>
                <a:spcPct val="130000"/>
              </a:lnSpc>
            </a:pPr>
            <a:r>
              <a:rPr b="0" lang="zh-CN" sz="2400" spc="-1" strike="noStrike">
                <a:solidFill>
                  <a:srgbClr val="0d0d0d"/>
                </a:solidFill>
                <a:latin typeface="方正正纤黑简体"/>
                <a:ea typeface="方正正纤黑简体"/>
              </a:rPr>
              <a:t>阅读选项中易懂的符合常理的一般是陷阱，需谨慎选择</a:t>
            </a:r>
            <a:endParaRPr b="0" lang="en-US" sz="2400" spc="-1" strike="noStrike">
              <a:solidFill>
                <a:srgbClr val="000000"/>
              </a:solidFill>
              <a:latin typeface="Arial"/>
            </a:endParaRPr>
          </a:p>
        </p:txBody>
      </p:sp>
      <p:sp>
        <p:nvSpPr>
          <p:cNvPr id="200" name="Text Box 4"/>
          <p:cNvSpPr/>
          <p:nvPr/>
        </p:nvSpPr>
        <p:spPr>
          <a:xfrm>
            <a:off x="650160" y="6564960"/>
            <a:ext cx="71514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powerpoint</a:t>
            </a:r>
            <a:r>
              <a:rPr b="0" lang="zh-CN" sz="1600" spc="-1" strike="noStrike">
                <a:solidFill>
                  <a:srgbClr val="000000"/>
                </a:solidFill>
                <a:latin typeface="Arial"/>
                <a:ea typeface="宋体"/>
              </a:rPr>
              <a:t>模板下载</a:t>
            </a:r>
            <a:r>
              <a:rPr b="0" lang="en-US" sz="1600" spc="-1" strike="noStrike" u="sng">
                <a:solidFill>
                  <a:srgbClr val="006382"/>
                </a:solidFill>
                <a:uFillTx/>
                <a:latin typeface="Arial"/>
                <a:ea typeface="宋体"/>
                <a:hlinkClick r:id="rId2"/>
              </a:rPr>
              <a:t>http://www.eeppt.com/moban/</a:t>
            </a:r>
            <a:endParaRPr b="0" lang="en-US" sz="1600" spc="-1" strike="noStrike">
              <a:solidFill>
                <a:srgbClr val="000000"/>
              </a:solidFill>
              <a:latin typeface="Arial"/>
            </a:endParaRPr>
          </a:p>
        </p:txBody>
      </p:sp>
    </p:spTree>
  </p:cSld>
  <mc:AlternateContent>
    <mc:Choice Requires="p14">
      <p:transition spd="slow" p14:dur="1300"/>
    </mc:Choice>
    <mc:Fallback>
      <p:transition spd="slow"/>
    </mc:Fallback>
  </mc:AlternateContent>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withEffect" fill="hold" presetClass="entr" presetID="22" presetSubtype="8">
                                  <p:stCondLst>
                                    <p:cond delay="0"/>
                                  </p:stCondLst>
                                  <p:childTnLst>
                                    <p:set>
                                      <p:cBhvr>
                                        <p:cTn id="321" dur="1" fill="hold">
                                          <p:stCondLst>
                                            <p:cond delay="0"/>
                                          </p:stCondLst>
                                        </p:cTn>
                                        <p:tgtEl>
                                          <p:spTgt spid="185"/>
                                        </p:tgtEl>
                                        <p:attrNameLst>
                                          <p:attrName>style.visibility</p:attrName>
                                        </p:attrNameLst>
                                      </p:cBhvr>
                                      <p:to>
                                        <p:strVal val="visible"/>
                                      </p:to>
                                    </p:set>
                                    <p:animEffect filter="wipe(left)" transition="in">
                                      <p:cBhvr additive="repl">
                                        <p:cTn id="322" dur="500"/>
                                        <p:tgtEl>
                                          <p:spTgt spid="185"/>
                                        </p:tgtEl>
                                      </p:cBhvr>
                                    </p:animEffect>
                                  </p:childTnLst>
                                </p:cTn>
                              </p:par>
                              <p:par>
                                <p:cTn id="323" nodeType="withEffect" fill="hold" presetClass="entr" presetID="22" presetSubtype="2">
                                  <p:stCondLst>
                                    <p:cond delay="500"/>
                                  </p:stCondLst>
                                  <p:childTnLst>
                                    <p:set>
                                      <p:cBhvr>
                                        <p:cTn id="324" dur="1" fill="hold">
                                          <p:stCondLst>
                                            <p:cond delay="0"/>
                                          </p:stCondLst>
                                        </p:cTn>
                                        <p:tgtEl>
                                          <p:spTgt spid="188"/>
                                        </p:tgtEl>
                                        <p:attrNameLst>
                                          <p:attrName>style.visibility</p:attrName>
                                        </p:attrNameLst>
                                      </p:cBhvr>
                                      <p:to>
                                        <p:strVal val="visible"/>
                                      </p:to>
                                    </p:set>
                                    <p:animEffect filter="wipe(right)" transition="in">
                                      <p:cBhvr additive="repl">
                                        <p:cTn id="325" dur="500"/>
                                        <p:tgtEl>
                                          <p:spTgt spid="188"/>
                                        </p:tgtEl>
                                      </p:cBhvr>
                                    </p:animEffect>
                                  </p:childTnLst>
                                </p:cTn>
                              </p:par>
                              <p:par>
                                <p:cTn id="326" nodeType="withEffect" fill="hold" presetClass="entr" presetID="53" presetSubtype="16">
                                  <p:stCondLst>
                                    <p:cond delay="900"/>
                                  </p:stCondLst>
                                  <p:childTnLst>
                                    <p:set>
                                      <p:cBhvr>
                                        <p:cTn id="327" dur="1" fill="hold">
                                          <p:stCondLst>
                                            <p:cond delay="0"/>
                                          </p:stCondLst>
                                        </p:cTn>
                                        <p:tgtEl>
                                          <p:spTgt spid="189"/>
                                        </p:tgtEl>
                                        <p:attrNameLst>
                                          <p:attrName>style.visibility</p:attrName>
                                        </p:attrNameLst>
                                      </p:cBhvr>
                                      <p:to>
                                        <p:strVal val="visible"/>
                                      </p:to>
                                    </p:set>
                                    <p:anim calcmode="lin" valueType="num">
                                      <p:cBhvr additive="repl">
                                        <p:cTn id="328" dur="500" fill="hold"/>
                                        <p:tgtEl>
                                          <p:spTgt spid="189"/>
                                        </p:tgtEl>
                                        <p:attrNameLst>
                                          <p:attrName>ppt_w</p:attrName>
                                        </p:attrNameLst>
                                      </p:cBhvr>
                                      <p:tavLst>
                                        <p:tav tm="0">
                                          <p:val>
                                            <p:fltVal val="0"/>
                                          </p:val>
                                        </p:tav>
                                        <p:tav tm="100000">
                                          <p:val>
                                            <p:strVal val="#ppt_w"/>
                                          </p:val>
                                        </p:tav>
                                      </p:tavLst>
                                    </p:anim>
                                    <p:anim calcmode="lin" valueType="num">
                                      <p:cBhvr additive="repl">
                                        <p:cTn id="329" dur="500" fill="hold"/>
                                        <p:tgtEl>
                                          <p:spTgt spid="189"/>
                                        </p:tgtEl>
                                        <p:attrNameLst>
                                          <p:attrName>ppt_h</p:attrName>
                                        </p:attrNameLst>
                                      </p:cBhvr>
                                      <p:tavLst>
                                        <p:tav tm="0">
                                          <p:val>
                                            <p:fltVal val="0"/>
                                          </p:val>
                                        </p:tav>
                                        <p:tav tm="100000">
                                          <p:val>
                                            <p:strVal val="#ppt_h"/>
                                          </p:val>
                                        </p:tav>
                                      </p:tavLst>
                                    </p:anim>
                                    <p:animEffect filter="fade" transition="in">
                                      <p:cBhvr additive="repl">
                                        <p:cTn id="330" dur="500"/>
                                        <p:tgtEl>
                                          <p:spTgt spid="189"/>
                                        </p:tgtEl>
                                      </p:cBhvr>
                                    </p:animEffect>
                                  </p:childTnLst>
                                </p:cTn>
                              </p:par>
                              <p:par>
                                <p:cTn id="331" nodeType="withEffect" fill="hold" presetClass="entr" presetID="22" presetSubtype="8">
                                  <p:stCondLst>
                                    <p:cond delay="1400"/>
                                  </p:stCondLst>
                                  <p:childTnLst>
                                    <p:set>
                                      <p:cBhvr>
                                        <p:cTn id="332" dur="1" fill="hold">
                                          <p:stCondLst>
                                            <p:cond delay="0"/>
                                          </p:stCondLst>
                                        </p:cTn>
                                        <p:tgtEl>
                                          <p:spTgt spid="190"/>
                                        </p:tgtEl>
                                        <p:attrNameLst>
                                          <p:attrName>style.visibility</p:attrName>
                                        </p:attrNameLst>
                                      </p:cBhvr>
                                      <p:to>
                                        <p:strVal val="visible"/>
                                      </p:to>
                                    </p:set>
                                    <p:animEffect filter="wipe(left)" transition="in">
                                      <p:cBhvr additive="repl">
                                        <p:cTn id="333" dur="500"/>
                                        <p:tgtEl>
                                          <p:spTgt spid="190"/>
                                        </p:tgtEl>
                                      </p:cBhvr>
                                    </p:animEffect>
                                  </p:childTnLst>
                                </p:cTn>
                              </p:par>
                              <p:par>
                                <p:cTn id="334" nodeType="withEffect" fill="hold" presetClass="entr" presetID="22" presetSubtype="2">
                                  <p:stCondLst>
                                    <p:cond delay="1900"/>
                                  </p:stCondLst>
                                  <p:childTnLst>
                                    <p:set>
                                      <p:cBhvr>
                                        <p:cTn id="335" dur="1" fill="hold">
                                          <p:stCondLst>
                                            <p:cond delay="0"/>
                                          </p:stCondLst>
                                        </p:cTn>
                                        <p:tgtEl>
                                          <p:spTgt spid="193"/>
                                        </p:tgtEl>
                                        <p:attrNameLst>
                                          <p:attrName>style.visibility</p:attrName>
                                        </p:attrNameLst>
                                      </p:cBhvr>
                                      <p:to>
                                        <p:strVal val="visible"/>
                                      </p:to>
                                    </p:set>
                                    <p:animEffect filter="wipe(right)" transition="in">
                                      <p:cBhvr additive="repl">
                                        <p:cTn id="336" dur="500"/>
                                        <p:tgtEl>
                                          <p:spTgt spid="193"/>
                                        </p:tgtEl>
                                      </p:cBhvr>
                                    </p:animEffect>
                                  </p:childTnLst>
                                </p:cTn>
                              </p:par>
                              <p:par>
                                <p:cTn id="337" nodeType="withEffect" fill="hold" presetClass="entr" presetID="53" presetSubtype="16">
                                  <p:stCondLst>
                                    <p:cond delay="2500"/>
                                  </p:stCondLst>
                                  <p:childTnLst>
                                    <p:set>
                                      <p:cBhvr>
                                        <p:cTn id="338" dur="1" fill="hold">
                                          <p:stCondLst>
                                            <p:cond delay="0"/>
                                          </p:stCondLst>
                                        </p:cTn>
                                        <p:tgtEl>
                                          <p:spTgt spid="194"/>
                                        </p:tgtEl>
                                        <p:attrNameLst>
                                          <p:attrName>style.visibility</p:attrName>
                                        </p:attrNameLst>
                                      </p:cBhvr>
                                      <p:to>
                                        <p:strVal val="visible"/>
                                      </p:to>
                                    </p:set>
                                    <p:anim calcmode="lin" valueType="num">
                                      <p:cBhvr additive="repl">
                                        <p:cTn id="339" dur="500" fill="hold"/>
                                        <p:tgtEl>
                                          <p:spTgt spid="194"/>
                                        </p:tgtEl>
                                        <p:attrNameLst>
                                          <p:attrName>ppt_w</p:attrName>
                                        </p:attrNameLst>
                                      </p:cBhvr>
                                      <p:tavLst>
                                        <p:tav tm="0">
                                          <p:val>
                                            <p:fltVal val="0"/>
                                          </p:val>
                                        </p:tav>
                                        <p:tav tm="100000">
                                          <p:val>
                                            <p:strVal val="#ppt_w"/>
                                          </p:val>
                                        </p:tav>
                                      </p:tavLst>
                                    </p:anim>
                                    <p:anim calcmode="lin" valueType="num">
                                      <p:cBhvr additive="repl">
                                        <p:cTn id="340" dur="500" fill="hold"/>
                                        <p:tgtEl>
                                          <p:spTgt spid="194"/>
                                        </p:tgtEl>
                                        <p:attrNameLst>
                                          <p:attrName>ppt_h</p:attrName>
                                        </p:attrNameLst>
                                      </p:cBhvr>
                                      <p:tavLst>
                                        <p:tav tm="0">
                                          <p:val>
                                            <p:fltVal val="0"/>
                                          </p:val>
                                        </p:tav>
                                        <p:tav tm="100000">
                                          <p:val>
                                            <p:strVal val="#ppt_h"/>
                                          </p:val>
                                        </p:tav>
                                      </p:tavLst>
                                    </p:anim>
                                    <p:animEffect filter="fade" transition="in">
                                      <p:cBhvr additive="repl">
                                        <p:cTn id="341" dur="500"/>
                                        <p:tgtEl>
                                          <p:spTgt spid="194"/>
                                        </p:tgtEl>
                                      </p:cBhvr>
                                    </p:animEffect>
                                  </p:childTnLst>
                                </p:cTn>
                              </p:par>
                              <p:par>
                                <p:cTn id="342" nodeType="withEffect" fill="hold" presetClass="entr" presetID="22" presetSubtype="8">
                                  <p:stCondLst>
                                    <p:cond delay="3000"/>
                                  </p:stCondLst>
                                  <p:childTnLst>
                                    <p:set>
                                      <p:cBhvr>
                                        <p:cTn id="343" dur="1" fill="hold">
                                          <p:stCondLst>
                                            <p:cond delay="0"/>
                                          </p:stCondLst>
                                        </p:cTn>
                                        <p:tgtEl>
                                          <p:spTgt spid="195"/>
                                        </p:tgtEl>
                                        <p:attrNameLst>
                                          <p:attrName>style.visibility</p:attrName>
                                        </p:attrNameLst>
                                      </p:cBhvr>
                                      <p:to>
                                        <p:strVal val="visible"/>
                                      </p:to>
                                    </p:set>
                                    <p:animEffect filter="wipe(left)" transition="in">
                                      <p:cBhvr additive="repl">
                                        <p:cTn id="344" dur="500"/>
                                        <p:tgtEl>
                                          <p:spTgt spid="195"/>
                                        </p:tgtEl>
                                      </p:cBhvr>
                                    </p:animEffect>
                                  </p:childTnLst>
                                </p:cTn>
                              </p:par>
                              <p:par>
                                <p:cTn id="345" nodeType="withEffect" fill="hold" presetClass="entr" presetID="22" presetSubtype="2">
                                  <p:stCondLst>
                                    <p:cond delay="3500"/>
                                  </p:stCondLst>
                                  <p:childTnLst>
                                    <p:set>
                                      <p:cBhvr>
                                        <p:cTn id="346" dur="1" fill="hold">
                                          <p:stCondLst>
                                            <p:cond delay="0"/>
                                          </p:stCondLst>
                                        </p:cTn>
                                        <p:tgtEl>
                                          <p:spTgt spid="198"/>
                                        </p:tgtEl>
                                        <p:attrNameLst>
                                          <p:attrName>style.visibility</p:attrName>
                                        </p:attrNameLst>
                                      </p:cBhvr>
                                      <p:to>
                                        <p:strVal val="visible"/>
                                      </p:to>
                                    </p:set>
                                    <p:animEffect filter="wipe(right)" transition="in">
                                      <p:cBhvr additive="repl">
                                        <p:cTn id="347" dur="500"/>
                                        <p:tgtEl>
                                          <p:spTgt spid="198"/>
                                        </p:tgtEl>
                                      </p:cBhvr>
                                    </p:animEffect>
                                  </p:childTnLst>
                                </p:cTn>
                              </p:par>
                              <p:par>
                                <p:cTn id="348" nodeType="withEffect" fill="hold" presetClass="entr" presetID="53" presetSubtype="16">
                                  <p:stCondLst>
                                    <p:cond delay="4000"/>
                                  </p:stCondLst>
                                  <p:childTnLst>
                                    <p:set>
                                      <p:cBhvr>
                                        <p:cTn id="349" dur="1" fill="hold">
                                          <p:stCondLst>
                                            <p:cond delay="0"/>
                                          </p:stCondLst>
                                        </p:cTn>
                                        <p:tgtEl>
                                          <p:spTgt spid="199"/>
                                        </p:tgtEl>
                                        <p:attrNameLst>
                                          <p:attrName>style.visibility</p:attrName>
                                        </p:attrNameLst>
                                      </p:cBhvr>
                                      <p:to>
                                        <p:strVal val="visible"/>
                                      </p:to>
                                    </p:set>
                                    <p:anim calcmode="lin" valueType="num">
                                      <p:cBhvr additive="repl">
                                        <p:cTn id="350" dur="500" fill="hold"/>
                                        <p:tgtEl>
                                          <p:spTgt spid="199"/>
                                        </p:tgtEl>
                                        <p:attrNameLst>
                                          <p:attrName>ppt_w</p:attrName>
                                        </p:attrNameLst>
                                      </p:cBhvr>
                                      <p:tavLst>
                                        <p:tav tm="0">
                                          <p:val>
                                            <p:fltVal val="0"/>
                                          </p:val>
                                        </p:tav>
                                        <p:tav tm="100000">
                                          <p:val>
                                            <p:strVal val="#ppt_w"/>
                                          </p:val>
                                        </p:tav>
                                      </p:tavLst>
                                    </p:anim>
                                    <p:anim calcmode="lin" valueType="num">
                                      <p:cBhvr additive="repl">
                                        <p:cTn id="351" dur="500" fill="hold"/>
                                        <p:tgtEl>
                                          <p:spTgt spid="199"/>
                                        </p:tgtEl>
                                        <p:attrNameLst>
                                          <p:attrName>ppt_h</p:attrName>
                                        </p:attrNameLst>
                                      </p:cBhvr>
                                      <p:tavLst>
                                        <p:tav tm="0">
                                          <p:val>
                                            <p:fltVal val="0"/>
                                          </p:val>
                                        </p:tav>
                                        <p:tav tm="100000">
                                          <p:val>
                                            <p:strVal val="#ppt_h"/>
                                          </p:val>
                                        </p:tav>
                                      </p:tavLst>
                                    </p:anim>
                                    <p:animEffect filter="fade" transition="in">
                                      <p:cBhvr additive="repl">
                                        <p:cTn id="352"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图片 46"/>
          <p:cNvSpPr/>
          <p:nvPr/>
        </p:nvSpPr>
        <p:spPr>
          <a:xfrm>
            <a:off x="0" y="-41760"/>
            <a:ext cx="12310920" cy="6928920"/>
          </a:xfrm>
          <a:custGeom>
            <a:avLst/>
            <a:gdLst>
              <a:gd name="textAreaLeft" fmla="*/ 0 w 12310920"/>
              <a:gd name="textAreaRight" fmla="*/ 12311280 w 12310920"/>
              <a:gd name="textAreaTop" fmla="*/ 0 h 6928920"/>
              <a:gd name="textAreaBottom" fmla="*/ 6929280 h 6928920"/>
            </a:gdLst>
            <a:ahLst/>
            <a:rect l="textAreaLeft" t="textAreaTop" r="textAreaRight" b="textAreaBottom"/>
            <a:pathLst>
              <a:path w="12311281" h="6929229">
                <a:moveTo>
                  <a:pt x="0" y="6899733"/>
                </a:moveTo>
                <a:lnTo>
                  <a:pt x="12215411" y="6929229"/>
                </a:lnTo>
                <a:lnTo>
                  <a:pt x="0" y="6929229"/>
                </a:lnTo>
                <a:close/>
                <a:moveTo>
                  <a:pt x="4339773" y="0"/>
                </a:moveTo>
                <a:lnTo>
                  <a:pt x="12311281" y="0"/>
                </a:lnTo>
                <a:lnTo>
                  <a:pt x="12311281" y="6929229"/>
                </a:lnTo>
                <a:lnTo>
                  <a:pt x="12215411" y="6929229"/>
                </a:lnTo>
                <a:close/>
              </a:path>
            </a:pathLst>
          </a:custGeom>
          <a:blipFill rotWithShape="0">
            <a:blip r:embed="rId1"/>
            <a:srcRect/>
            <a:stretch/>
          </a:blipFill>
          <a:ln w="0">
            <a:noFill/>
          </a:ln>
          <a:effectLst>
            <a:innerShdw blurRad="63500" dir="10800000" dist="50800">
              <a:srgbClr val="000000">
                <a:alpha val="50000"/>
              </a:srgbClr>
            </a:inn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202" name="组合 61"/>
          <p:cNvGrpSpPr/>
          <p:nvPr/>
        </p:nvGrpSpPr>
        <p:grpSpPr>
          <a:xfrm>
            <a:off x="-135000" y="-4016880"/>
            <a:ext cx="12345840" cy="11067480"/>
            <a:chOff x="-135000" y="-4016880"/>
            <a:chExt cx="12345840" cy="11067480"/>
          </a:xfrm>
        </p:grpSpPr>
        <p:sp>
          <p:nvSpPr>
            <p:cNvPr id="203" name="Freeform 22 copy"/>
            <p:cNvSpPr/>
            <p:nvPr/>
          </p:nvSpPr>
          <p:spPr>
            <a:xfrm>
              <a:off x="-135000" y="-4016880"/>
              <a:ext cx="12345840" cy="11067480"/>
            </a:xfrm>
            <a:custGeom>
              <a:avLst/>
              <a:gdLst>
                <a:gd name="textAreaLeft" fmla="*/ 0 w 12345840"/>
                <a:gd name="textAreaRight" fmla="*/ 12346200 w 12345840"/>
                <a:gd name="textAreaTop" fmla="*/ 0 h 11067480"/>
                <a:gd name="textAreaBottom" fmla="*/ 11067840 h 11067480"/>
              </a:gdLst>
              <a:ahLst/>
              <a:rect l="textAreaLeft" t="textAreaTop" r="textAreaRight" b="textAreaBottom"/>
              <a:pathLst>
                <a:path w="12346040" h="11067791">
                  <a:moveTo>
                    <a:pt x="29294" y="0"/>
                  </a:moveTo>
                  <a:lnTo>
                    <a:pt x="12346040" y="10894087"/>
                  </a:lnTo>
                  <a:lnTo>
                    <a:pt x="0" y="11067791"/>
                  </a:lnTo>
                  <a:cubicBezTo>
                    <a:pt x="9765" y="7378527"/>
                    <a:pt x="19529" y="3689264"/>
                    <a:pt x="29294" y="0"/>
                  </a:cubicBezTo>
                  <a:close/>
                </a:path>
              </a:pathLst>
            </a:custGeom>
            <a:solidFill>
              <a:srgbClr val="54ee9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4" name="任意多边形 28"/>
            <p:cNvSpPr/>
            <p:nvPr/>
          </p:nvSpPr>
          <p:spPr>
            <a:xfrm>
              <a:off x="1085040" y="4264200"/>
              <a:ext cx="576360" cy="1367640"/>
            </a:xfrm>
            <a:custGeom>
              <a:avLst/>
              <a:gdLst>
                <a:gd name="textAreaLeft" fmla="*/ 0 w 576360"/>
                <a:gd name="textAreaRight" fmla="*/ 576720 w 576360"/>
                <a:gd name="textAreaTop" fmla="*/ 0 h 1367640"/>
                <a:gd name="textAreaBottom" fmla="*/ 1368000 h 1367640"/>
              </a:gdLst>
              <a:ahLst/>
              <a:rect l="textAreaLeft" t="textAreaTop" r="textAreaRight" b="textAreaBottom"/>
              <a:pathLst>
                <a:path w="576682" h="1367942">
                  <a:moveTo>
                    <a:pt x="445084" y="1126540"/>
                  </a:moveTo>
                  <a:lnTo>
                    <a:pt x="445084" y="1196111"/>
                  </a:lnTo>
                  <a:lnTo>
                    <a:pt x="500406" y="1196111"/>
                  </a:lnTo>
                  <a:lnTo>
                    <a:pt x="500406" y="1126540"/>
                  </a:lnTo>
                  <a:close/>
                  <a:moveTo>
                    <a:pt x="328575" y="1126540"/>
                  </a:moveTo>
                  <a:lnTo>
                    <a:pt x="328575" y="1196111"/>
                  </a:lnTo>
                  <a:lnTo>
                    <a:pt x="381381" y="1196111"/>
                  </a:lnTo>
                  <a:lnTo>
                    <a:pt x="381381" y="1126540"/>
                  </a:lnTo>
                  <a:close/>
                  <a:moveTo>
                    <a:pt x="209550" y="1126540"/>
                  </a:moveTo>
                  <a:lnTo>
                    <a:pt x="209550" y="1196111"/>
                  </a:lnTo>
                  <a:lnTo>
                    <a:pt x="264871" y="1196111"/>
                  </a:lnTo>
                  <a:lnTo>
                    <a:pt x="264871" y="1126540"/>
                  </a:lnTo>
                  <a:close/>
                  <a:moveTo>
                    <a:pt x="141656" y="1076248"/>
                  </a:moveTo>
                  <a:lnTo>
                    <a:pt x="568300" y="1076248"/>
                  </a:lnTo>
                  <a:lnTo>
                    <a:pt x="568300" y="1364589"/>
                  </a:lnTo>
                  <a:lnTo>
                    <a:pt x="500406" y="1364589"/>
                  </a:lnTo>
                  <a:lnTo>
                    <a:pt x="500406" y="1244727"/>
                  </a:lnTo>
                  <a:lnTo>
                    <a:pt x="445084" y="1244727"/>
                  </a:lnTo>
                  <a:lnTo>
                    <a:pt x="445084" y="1342796"/>
                  </a:lnTo>
                  <a:lnTo>
                    <a:pt x="381381" y="1342796"/>
                  </a:lnTo>
                  <a:lnTo>
                    <a:pt x="381381" y="1244727"/>
                  </a:lnTo>
                  <a:lnTo>
                    <a:pt x="328575" y="1244727"/>
                  </a:lnTo>
                  <a:lnTo>
                    <a:pt x="328575" y="1342796"/>
                  </a:lnTo>
                  <a:lnTo>
                    <a:pt x="264871" y="1342796"/>
                  </a:lnTo>
                  <a:lnTo>
                    <a:pt x="264871" y="1244727"/>
                  </a:lnTo>
                  <a:lnTo>
                    <a:pt x="209550" y="1244727"/>
                  </a:lnTo>
                  <a:lnTo>
                    <a:pt x="209550" y="1367942"/>
                  </a:lnTo>
                  <a:lnTo>
                    <a:pt x="141656" y="1367942"/>
                  </a:lnTo>
                  <a:close/>
                  <a:moveTo>
                    <a:pt x="119863" y="933754"/>
                  </a:moveTo>
                  <a:lnTo>
                    <a:pt x="113995" y="980694"/>
                  </a:lnTo>
                  <a:lnTo>
                    <a:pt x="410718" y="980694"/>
                  </a:lnTo>
                  <a:lnTo>
                    <a:pt x="410718" y="933754"/>
                  </a:lnTo>
                  <a:close/>
                  <a:moveTo>
                    <a:pt x="239725" y="840714"/>
                  </a:moveTo>
                  <a:lnTo>
                    <a:pt x="308458" y="840714"/>
                  </a:lnTo>
                  <a:lnTo>
                    <a:pt x="308458" y="884301"/>
                  </a:lnTo>
                  <a:lnTo>
                    <a:pt x="481127" y="884301"/>
                  </a:lnTo>
                  <a:lnTo>
                    <a:pt x="481127" y="1030986"/>
                  </a:lnTo>
                  <a:lnTo>
                    <a:pt x="108128" y="1030986"/>
                  </a:lnTo>
                  <a:lnTo>
                    <a:pt x="68732" y="1354531"/>
                  </a:lnTo>
                  <a:lnTo>
                    <a:pt x="0" y="1354531"/>
                  </a:lnTo>
                  <a:lnTo>
                    <a:pt x="54483" y="884301"/>
                  </a:lnTo>
                  <a:lnTo>
                    <a:pt x="239725" y="884301"/>
                  </a:lnTo>
                  <a:close/>
                  <a:moveTo>
                    <a:pt x="70342" y="718001"/>
                  </a:moveTo>
                  <a:lnTo>
                    <a:pt x="58674" y="756894"/>
                  </a:lnTo>
                  <a:lnTo>
                    <a:pt x="241402" y="756894"/>
                  </a:lnTo>
                  <a:lnTo>
                    <a:pt x="241402" y="804672"/>
                  </a:lnTo>
                  <a:lnTo>
                    <a:pt x="151714" y="804672"/>
                  </a:lnTo>
                  <a:lnTo>
                    <a:pt x="151714" y="859993"/>
                  </a:lnTo>
                  <a:lnTo>
                    <a:pt x="85496" y="859993"/>
                  </a:lnTo>
                  <a:lnTo>
                    <a:pt x="85496" y="804672"/>
                  </a:lnTo>
                  <a:lnTo>
                    <a:pt x="15828" y="804672"/>
                  </a:lnTo>
                  <a:close/>
                  <a:moveTo>
                    <a:pt x="330251" y="698220"/>
                  </a:moveTo>
                  <a:lnTo>
                    <a:pt x="396469" y="698220"/>
                  </a:lnTo>
                  <a:lnTo>
                    <a:pt x="372999" y="756894"/>
                  </a:lnTo>
                  <a:lnTo>
                    <a:pt x="555727" y="756894"/>
                  </a:lnTo>
                  <a:lnTo>
                    <a:pt x="555727" y="804672"/>
                  </a:lnTo>
                  <a:lnTo>
                    <a:pt x="466878" y="804672"/>
                  </a:lnTo>
                  <a:lnTo>
                    <a:pt x="466878" y="859993"/>
                  </a:lnTo>
                  <a:lnTo>
                    <a:pt x="400660" y="859993"/>
                  </a:lnTo>
                  <a:lnTo>
                    <a:pt x="400660" y="804672"/>
                  </a:lnTo>
                  <a:lnTo>
                    <a:pt x="283312" y="804672"/>
                  </a:lnTo>
                  <a:close/>
                  <a:moveTo>
                    <a:pt x="305943" y="343423"/>
                  </a:moveTo>
                  <a:lnTo>
                    <a:pt x="305943" y="521360"/>
                  </a:lnTo>
                  <a:lnTo>
                    <a:pt x="194024" y="521360"/>
                  </a:lnTo>
                  <a:lnTo>
                    <a:pt x="226184" y="470230"/>
                  </a:lnTo>
                  <a:lnTo>
                    <a:pt x="232181" y="470230"/>
                  </a:lnTo>
                  <a:lnTo>
                    <a:pt x="232181" y="460695"/>
                  </a:lnTo>
                  <a:close/>
                  <a:moveTo>
                    <a:pt x="355350" y="264871"/>
                  </a:moveTo>
                  <a:lnTo>
                    <a:pt x="507111" y="264871"/>
                  </a:lnTo>
                  <a:lnTo>
                    <a:pt x="507111" y="316001"/>
                  </a:lnTo>
                  <a:lnTo>
                    <a:pt x="323191" y="316001"/>
                  </a:lnTo>
                  <a:close/>
                  <a:moveTo>
                    <a:pt x="521948" y="0"/>
                  </a:moveTo>
                  <a:lnTo>
                    <a:pt x="576682" y="0"/>
                  </a:lnTo>
                  <a:lnTo>
                    <a:pt x="576682" y="165963"/>
                  </a:lnTo>
                  <a:lnTo>
                    <a:pt x="507111" y="165963"/>
                  </a:lnTo>
                  <a:lnTo>
                    <a:pt x="507111" y="53645"/>
                  </a:lnTo>
                  <a:lnTo>
                    <a:pt x="488207" y="53645"/>
                  </a:lnTo>
                  <a:close/>
                </a:path>
              </a:pathLst>
            </a:custGeom>
            <a:solidFill>
              <a:srgbClr val="78a1b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205" name="组合 59"/>
          <p:cNvGrpSpPr/>
          <p:nvPr/>
        </p:nvGrpSpPr>
        <p:grpSpPr>
          <a:xfrm>
            <a:off x="0" y="-42120"/>
            <a:ext cx="4339440" cy="6899400"/>
            <a:chOff x="0" y="-42120"/>
            <a:chExt cx="4339440" cy="6899400"/>
          </a:xfrm>
        </p:grpSpPr>
        <p:sp>
          <p:nvSpPr>
            <p:cNvPr id="206" name="Right Triangle 5 copy"/>
            <p:cNvSpPr/>
            <p:nvPr/>
          </p:nvSpPr>
          <p:spPr>
            <a:xfrm flipV="1">
              <a:off x="0" y="-42480"/>
              <a:ext cx="4339440" cy="6899400"/>
            </a:xfrm>
            <a:prstGeom prst="rtTriangle">
              <a:avLst/>
            </a:prstGeom>
            <a:solidFill>
              <a:srgbClr val="78a1b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7" name="任意多边形 25"/>
            <p:cNvSpPr/>
            <p:nvPr/>
          </p:nvSpPr>
          <p:spPr>
            <a:xfrm flipV="1">
              <a:off x="1005120" y="3306960"/>
              <a:ext cx="736560" cy="1764000"/>
            </a:xfrm>
            <a:custGeom>
              <a:avLst/>
              <a:gdLst>
                <a:gd name="textAreaLeft" fmla="*/ 0 w 736560"/>
                <a:gd name="textAreaRight" fmla="*/ 736920 w 736560"/>
                <a:gd name="textAreaTop" fmla="*/ 360 h 1764000"/>
                <a:gd name="textAreaBottom" fmla="*/ 1764720 h 1764000"/>
              </a:gdLst>
              <a:ahLst/>
              <a:rect l="textAreaLeft" t="textAreaTop" r="textAreaRight" b="textAreaBottom"/>
              <a:pathLst>
                <a:path w="736778" h="1764411">
                  <a:moveTo>
                    <a:pt x="113995" y="106451"/>
                  </a:moveTo>
                  <a:lnTo>
                    <a:pt x="180213" y="106451"/>
                  </a:lnTo>
                  <a:lnTo>
                    <a:pt x="174279" y="86671"/>
                  </a:lnTo>
                  <a:lnTo>
                    <a:pt x="119765" y="0"/>
                  </a:lnTo>
                  <a:lnTo>
                    <a:pt x="73762" y="0"/>
                  </a:lnTo>
                  <a:close/>
                  <a:moveTo>
                    <a:pt x="238049" y="334442"/>
                  </a:moveTo>
                  <a:lnTo>
                    <a:pt x="330121" y="334442"/>
                  </a:lnTo>
                  <a:lnTo>
                    <a:pt x="297961" y="283311"/>
                  </a:lnTo>
                  <a:lnTo>
                    <a:pt x="238049" y="283311"/>
                  </a:lnTo>
                  <a:close/>
                  <a:moveTo>
                    <a:pt x="212903" y="693191"/>
                  </a:moveTo>
                  <a:lnTo>
                    <a:pt x="523037" y="693191"/>
                  </a:lnTo>
                  <a:lnTo>
                    <a:pt x="523037" y="645414"/>
                  </a:lnTo>
                  <a:lnTo>
                    <a:pt x="419938" y="539801"/>
                  </a:lnTo>
                  <a:lnTo>
                    <a:pt x="459287" y="539801"/>
                  </a:lnTo>
                  <a:lnTo>
                    <a:pt x="427127" y="488670"/>
                  </a:lnTo>
                  <a:lnTo>
                    <a:pt x="409880" y="488670"/>
                  </a:lnTo>
                  <a:lnTo>
                    <a:pt x="409880" y="461249"/>
                  </a:lnTo>
                  <a:lnTo>
                    <a:pt x="336118" y="343977"/>
                  </a:lnTo>
                  <a:lnTo>
                    <a:pt x="336118" y="488670"/>
                  </a:lnTo>
                  <a:lnTo>
                    <a:pt x="136627" y="488670"/>
                  </a:lnTo>
                  <a:lnTo>
                    <a:pt x="136627" y="539801"/>
                  </a:lnTo>
                  <a:lnTo>
                    <a:pt x="336118" y="539801"/>
                  </a:lnTo>
                  <a:lnTo>
                    <a:pt x="336118" y="549021"/>
                  </a:lnTo>
                  <a:lnTo>
                    <a:pt x="425806" y="642061"/>
                  </a:lnTo>
                  <a:lnTo>
                    <a:pt x="212903" y="642061"/>
                  </a:lnTo>
                  <a:close/>
                  <a:moveTo>
                    <a:pt x="501244" y="922858"/>
                  </a:moveTo>
                  <a:lnTo>
                    <a:pt x="575844" y="922858"/>
                  </a:lnTo>
                  <a:lnTo>
                    <a:pt x="524713" y="804672"/>
                  </a:lnTo>
                  <a:lnTo>
                    <a:pt x="625885" y="804672"/>
                  </a:lnTo>
                  <a:lnTo>
                    <a:pt x="592144" y="751027"/>
                  </a:lnTo>
                  <a:lnTo>
                    <a:pt x="139980" y="751027"/>
                  </a:lnTo>
                  <a:lnTo>
                    <a:pt x="139980" y="638708"/>
                  </a:lnTo>
                  <a:lnTo>
                    <a:pt x="69571" y="638708"/>
                  </a:lnTo>
                  <a:lnTo>
                    <a:pt x="69571" y="804672"/>
                  </a:lnTo>
                  <a:lnTo>
                    <a:pt x="450114" y="804672"/>
                  </a:lnTo>
                  <a:close/>
                  <a:moveTo>
                    <a:pt x="319354" y="922858"/>
                  </a:moveTo>
                  <a:lnTo>
                    <a:pt x="388925" y="922858"/>
                  </a:lnTo>
                  <a:lnTo>
                    <a:pt x="409880" y="829817"/>
                  </a:lnTo>
                  <a:lnTo>
                    <a:pt x="341148" y="829817"/>
                  </a:lnTo>
                  <a:close/>
                  <a:moveTo>
                    <a:pt x="180213" y="922858"/>
                  </a:moveTo>
                  <a:lnTo>
                    <a:pt x="248946" y="922858"/>
                  </a:lnTo>
                  <a:lnTo>
                    <a:pt x="274091" y="829817"/>
                  </a:lnTo>
                  <a:lnTo>
                    <a:pt x="202845" y="829817"/>
                  </a:lnTo>
                  <a:close/>
                  <a:moveTo>
                    <a:pt x="178537" y="1328547"/>
                  </a:moveTo>
                  <a:lnTo>
                    <a:pt x="178537" y="1289990"/>
                  </a:lnTo>
                  <a:lnTo>
                    <a:pt x="227991" y="1263167"/>
                  </a:lnTo>
                  <a:lnTo>
                    <a:pt x="276606" y="1290827"/>
                  </a:lnTo>
                  <a:lnTo>
                    <a:pt x="276606" y="1328547"/>
                  </a:lnTo>
                  <a:close/>
                  <a:moveTo>
                    <a:pt x="276606" y="1423263"/>
                  </a:moveTo>
                  <a:lnTo>
                    <a:pt x="344500" y="1423263"/>
                  </a:lnTo>
                  <a:lnTo>
                    <a:pt x="344500" y="1379677"/>
                  </a:lnTo>
                  <a:lnTo>
                    <a:pt x="435864" y="1379677"/>
                  </a:lnTo>
                  <a:lnTo>
                    <a:pt x="435864" y="1328547"/>
                  </a:lnTo>
                  <a:lnTo>
                    <a:pt x="344500" y="1328547"/>
                  </a:lnTo>
                  <a:lnTo>
                    <a:pt x="344500" y="1258976"/>
                  </a:lnTo>
                  <a:lnTo>
                    <a:pt x="291694" y="1228801"/>
                  </a:lnTo>
                  <a:lnTo>
                    <a:pt x="393954" y="1175156"/>
                  </a:lnTo>
                  <a:lnTo>
                    <a:pt x="363779" y="1121511"/>
                  </a:lnTo>
                  <a:lnTo>
                    <a:pt x="228829" y="1193596"/>
                  </a:lnTo>
                  <a:lnTo>
                    <a:pt x="90526" y="1115644"/>
                  </a:lnTo>
                  <a:lnTo>
                    <a:pt x="59512" y="1169289"/>
                  </a:lnTo>
                  <a:lnTo>
                    <a:pt x="164287" y="1227963"/>
                  </a:lnTo>
                  <a:lnTo>
                    <a:pt x="112319" y="1255623"/>
                  </a:lnTo>
                  <a:lnTo>
                    <a:pt x="112319" y="1328547"/>
                  </a:lnTo>
                  <a:lnTo>
                    <a:pt x="0" y="1328547"/>
                  </a:lnTo>
                  <a:lnTo>
                    <a:pt x="0" y="1379677"/>
                  </a:lnTo>
                  <a:lnTo>
                    <a:pt x="112319" y="1379677"/>
                  </a:lnTo>
                  <a:lnTo>
                    <a:pt x="112319" y="1421587"/>
                  </a:lnTo>
                  <a:lnTo>
                    <a:pt x="178537" y="1421587"/>
                  </a:lnTo>
                  <a:lnTo>
                    <a:pt x="178537" y="1379677"/>
                  </a:lnTo>
                  <a:lnTo>
                    <a:pt x="276606" y="1379677"/>
                  </a:lnTo>
                  <a:close/>
                  <a:moveTo>
                    <a:pt x="281635" y="1546478"/>
                  </a:moveTo>
                  <a:lnTo>
                    <a:pt x="347015" y="1546478"/>
                  </a:lnTo>
                  <a:lnTo>
                    <a:pt x="403174" y="1435836"/>
                  </a:lnTo>
                  <a:lnTo>
                    <a:pt x="340309" y="1435836"/>
                  </a:lnTo>
                  <a:close/>
                  <a:moveTo>
                    <a:pt x="104775" y="1546478"/>
                  </a:moveTo>
                  <a:lnTo>
                    <a:pt x="171831" y="1546478"/>
                  </a:lnTo>
                  <a:lnTo>
                    <a:pt x="109804" y="1436675"/>
                  </a:lnTo>
                  <a:lnTo>
                    <a:pt x="43587" y="1436675"/>
                  </a:lnTo>
                  <a:close/>
                  <a:moveTo>
                    <a:pt x="316001" y="1725853"/>
                  </a:moveTo>
                  <a:lnTo>
                    <a:pt x="375514" y="1725853"/>
                  </a:lnTo>
                  <a:lnTo>
                    <a:pt x="351206" y="1638681"/>
                  </a:lnTo>
                  <a:lnTo>
                    <a:pt x="290017" y="1638681"/>
                  </a:lnTo>
                  <a:close/>
                  <a:moveTo>
                    <a:pt x="88849" y="1728368"/>
                  </a:moveTo>
                  <a:lnTo>
                    <a:pt x="148362" y="1728368"/>
                  </a:lnTo>
                  <a:lnTo>
                    <a:pt x="167640" y="1638681"/>
                  </a:lnTo>
                  <a:lnTo>
                    <a:pt x="106452" y="1638681"/>
                  </a:lnTo>
                  <a:close/>
                  <a:moveTo>
                    <a:pt x="476098" y="1729206"/>
                  </a:moveTo>
                  <a:lnTo>
                    <a:pt x="540639" y="1729206"/>
                  </a:lnTo>
                  <a:lnTo>
                    <a:pt x="507111" y="1607667"/>
                  </a:lnTo>
                  <a:lnTo>
                    <a:pt x="712470" y="1607667"/>
                  </a:lnTo>
                  <a:lnTo>
                    <a:pt x="712470" y="1554861"/>
                  </a:lnTo>
                  <a:lnTo>
                    <a:pt x="651282" y="1554861"/>
                  </a:lnTo>
                  <a:lnTo>
                    <a:pt x="586740" y="1365427"/>
                  </a:lnTo>
                  <a:lnTo>
                    <a:pt x="736778" y="1174318"/>
                  </a:lnTo>
                  <a:lnTo>
                    <a:pt x="685648" y="1134922"/>
                  </a:lnTo>
                  <a:lnTo>
                    <a:pt x="562432" y="1294181"/>
                  </a:lnTo>
                  <a:lnTo>
                    <a:pt x="511302" y="1144981"/>
                  </a:lnTo>
                  <a:lnTo>
                    <a:pt x="437541" y="1144981"/>
                  </a:lnTo>
                  <a:lnTo>
                    <a:pt x="513817" y="1357045"/>
                  </a:lnTo>
                  <a:lnTo>
                    <a:pt x="427482" y="1469364"/>
                  </a:lnTo>
                  <a:lnTo>
                    <a:pt x="476936" y="1505407"/>
                  </a:lnTo>
                  <a:lnTo>
                    <a:pt x="538125" y="1426616"/>
                  </a:lnTo>
                  <a:lnTo>
                    <a:pt x="584226" y="1554861"/>
                  </a:lnTo>
                  <a:lnTo>
                    <a:pt x="421615" y="1554861"/>
                  </a:lnTo>
                  <a:close/>
                  <a:moveTo>
                    <a:pt x="196139" y="1764411"/>
                  </a:moveTo>
                  <a:lnTo>
                    <a:pt x="263195" y="1764411"/>
                  </a:lnTo>
                  <a:lnTo>
                    <a:pt x="263195" y="1617726"/>
                  </a:lnTo>
                  <a:lnTo>
                    <a:pt x="397307" y="1617726"/>
                  </a:lnTo>
                  <a:lnTo>
                    <a:pt x="397307" y="1569948"/>
                  </a:lnTo>
                  <a:lnTo>
                    <a:pt x="263195" y="1569948"/>
                  </a:lnTo>
                  <a:lnTo>
                    <a:pt x="263195" y="1433322"/>
                  </a:lnTo>
                  <a:lnTo>
                    <a:pt x="196139" y="1433322"/>
                  </a:lnTo>
                  <a:lnTo>
                    <a:pt x="196139" y="1569948"/>
                  </a:lnTo>
                  <a:lnTo>
                    <a:pt x="49454" y="1569948"/>
                  </a:lnTo>
                  <a:lnTo>
                    <a:pt x="49454" y="1617726"/>
                  </a:lnTo>
                  <a:lnTo>
                    <a:pt x="196139" y="1617726"/>
                  </a:lnTo>
                  <a:close/>
                </a:path>
              </a:pathLst>
            </a:custGeom>
            <a:solidFill>
              <a:srgbClr val="54ee9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208" name="组合 87"/>
          <p:cNvGrpSpPr/>
          <p:nvPr/>
        </p:nvGrpSpPr>
        <p:grpSpPr>
          <a:xfrm>
            <a:off x="5854680" y="868680"/>
            <a:ext cx="1269000" cy="1296360"/>
            <a:chOff x="5854680" y="868680"/>
            <a:chExt cx="1269000" cy="1296360"/>
          </a:xfrm>
        </p:grpSpPr>
        <p:sp>
          <p:nvSpPr>
            <p:cNvPr id="209" name="矩形 9"/>
            <p:cNvSpPr/>
            <p:nvPr/>
          </p:nvSpPr>
          <p:spPr>
            <a:xfrm rot="19486800">
              <a:off x="6124320" y="947880"/>
              <a:ext cx="636120" cy="1137600"/>
            </a:xfrm>
            <a:custGeom>
              <a:avLst/>
              <a:gdLst>
                <a:gd name="textAreaLeft" fmla="*/ 0 w 636120"/>
                <a:gd name="textAreaRight" fmla="*/ 636480 w 636120"/>
                <a:gd name="textAreaTop" fmla="*/ 0 h 1137600"/>
                <a:gd name="textAreaBottom" fmla="*/ 1137960 h 1137600"/>
              </a:gdLst>
              <a:ahLst/>
              <a:rect l="textAreaLeft" t="textAreaTop" r="textAreaRight" b="textAreaBottom"/>
              <a:pathLst>
                <a:path w="969573" h="1489372">
                  <a:moveTo>
                    <a:pt x="1" y="186808"/>
                  </a:moveTo>
                  <a:lnTo>
                    <a:pt x="969573" y="0"/>
                  </a:lnTo>
                  <a:lnTo>
                    <a:pt x="969573" y="1489372"/>
                  </a:lnTo>
                  <a:lnTo>
                    <a:pt x="302448" y="1481337"/>
                  </a:lnTo>
                  <a:lnTo>
                    <a:pt x="1" y="186808"/>
                  </a:lnTo>
                  <a:close/>
                </a:path>
              </a:pathLst>
            </a:custGeom>
            <a:solidFill>
              <a:srgbClr val="f2e7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0" name="直角三角形 49"/>
            <p:cNvSpPr/>
            <p:nvPr/>
          </p:nvSpPr>
          <p:spPr>
            <a:xfrm flipV="1" rot="19486200">
              <a:off x="6693120" y="1896840"/>
              <a:ext cx="426960" cy="147240"/>
            </a:xfrm>
            <a:prstGeom prst="rtTriangle">
              <a:avLst/>
            </a:prstGeom>
            <a:gradFill rotWithShape="0">
              <a:gsLst>
                <a:gs pos="50000">
                  <a:srgbClr val="000000">
                    <a:alpha val="0"/>
                  </a:srgbClr>
                </a:gs>
                <a:gs pos="100000">
                  <a:srgbClr val="000000"/>
                </a:gs>
              </a:gsLst>
              <a:lin ang="17118000"/>
            </a:gradFill>
            <a:ln>
              <a:noFill/>
            </a:ln>
          </p:spPr>
          <p:style>
            <a:lnRef idx="2">
              <a:schemeClr val="accent1">
                <a:shade val="50000"/>
              </a:schemeClr>
            </a:lnRef>
            <a:fillRef idx="1">
              <a:schemeClr val="accent1"/>
            </a:fillRef>
            <a:effectRef idx="0">
              <a:schemeClr val="accent1"/>
            </a:effectRef>
            <a:fontRef idx="minor"/>
          </p:style>
          <p:txBody>
            <a:bodyPr lIns="90000" rIns="90000" tIns="3960" bIns="3960" anchor="ctr">
              <a:noAutofit/>
            </a:bodyPr>
            <a:p>
              <a:pPr algn="ctr">
                <a:lnSpc>
                  <a:spcPct val="100000"/>
                </a:lnSpc>
              </a:pPr>
              <a:endParaRPr b="0" lang="en-US" sz="1800" spc="-1" strike="noStrike">
                <a:solidFill>
                  <a:schemeClr val="lt1"/>
                </a:solidFill>
                <a:latin typeface="Calibri"/>
              </a:endParaRPr>
            </a:p>
          </p:txBody>
        </p:sp>
      </p:grpSp>
      <p:sp>
        <p:nvSpPr>
          <p:cNvPr id="211" name="任意多边形 50"/>
          <p:cNvSpPr/>
          <p:nvPr/>
        </p:nvSpPr>
        <p:spPr>
          <a:xfrm rot="19486800">
            <a:off x="1515600" y="2408760"/>
            <a:ext cx="5694840" cy="1144080"/>
          </a:xfrm>
          <a:custGeom>
            <a:avLst/>
            <a:gdLst>
              <a:gd name="textAreaLeft" fmla="*/ 0 w 5694840"/>
              <a:gd name="textAreaRight" fmla="*/ 5695200 w 5694840"/>
              <a:gd name="textAreaTop" fmla="*/ 0 h 1144080"/>
              <a:gd name="textAreaBottom" fmla="*/ 1144440 h 1144080"/>
            </a:gdLst>
            <a:ahLst/>
            <a:rect l="textAreaLeft" t="textAreaTop" r="textAreaRight" b="textAreaBottom"/>
            <a:pathLst>
              <a:path w="4655302" h="1905000">
                <a:moveTo>
                  <a:pt x="0" y="0"/>
                </a:moveTo>
                <a:lnTo>
                  <a:pt x="1668338" y="0"/>
                </a:lnTo>
                <a:lnTo>
                  <a:pt x="1668339" y="1"/>
                </a:lnTo>
                <a:lnTo>
                  <a:pt x="4655302" y="1"/>
                </a:lnTo>
                <a:lnTo>
                  <a:pt x="4655302" y="1900575"/>
                </a:lnTo>
                <a:lnTo>
                  <a:pt x="1670362" y="1900575"/>
                </a:lnTo>
                <a:lnTo>
                  <a:pt x="1668338" y="1905000"/>
                </a:lnTo>
                <a:lnTo>
                  <a:pt x="0" y="1905000"/>
                </a:lnTo>
                <a:lnTo>
                  <a:pt x="435674" y="952500"/>
                </a:lnTo>
                <a:close/>
              </a:path>
            </a:pathLst>
          </a:custGeom>
          <a:solidFill>
            <a:schemeClr val="accent1"/>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30000"/>
              </a:lnSpc>
            </a:pPr>
            <a:endParaRPr b="0" lang="en-US" sz="2400" spc="-1" strike="noStrike">
              <a:solidFill>
                <a:srgbClr val="000000"/>
              </a:solidFill>
              <a:latin typeface="方正喵呜体"/>
              <a:ea typeface="方正喵呜体"/>
            </a:endParaRPr>
          </a:p>
        </p:txBody>
      </p:sp>
      <p:sp>
        <p:nvSpPr>
          <p:cNvPr id="212" name="矩形 51"/>
          <p:cNvSpPr/>
          <p:nvPr/>
        </p:nvSpPr>
        <p:spPr>
          <a:xfrm rot="19486800">
            <a:off x="1918800" y="2509920"/>
            <a:ext cx="51004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方正正纤黑简体"/>
                <a:ea typeface="方正正纤黑简体"/>
              </a:rPr>
              <a:t>数学上提到用仪器测量的直接作为已知条件</a:t>
            </a:r>
            <a:endParaRPr b="0" lang="en-US" sz="2400" spc="-1" strike="noStrike">
              <a:solidFill>
                <a:srgbClr val="000000"/>
              </a:solidFill>
              <a:latin typeface="Arial"/>
            </a:endParaRPr>
          </a:p>
        </p:txBody>
      </p:sp>
      <p:grpSp>
        <p:nvGrpSpPr>
          <p:cNvPr id="213" name="组合 88"/>
          <p:cNvGrpSpPr/>
          <p:nvPr/>
        </p:nvGrpSpPr>
        <p:grpSpPr>
          <a:xfrm>
            <a:off x="7108200" y="1955520"/>
            <a:ext cx="1533960" cy="1545120"/>
            <a:chOff x="7108200" y="1955520"/>
            <a:chExt cx="1533960" cy="1545120"/>
          </a:xfrm>
        </p:grpSpPr>
        <p:sp>
          <p:nvSpPr>
            <p:cNvPr id="214" name="矩形 9"/>
            <p:cNvSpPr/>
            <p:nvPr/>
          </p:nvSpPr>
          <p:spPr>
            <a:xfrm rot="19334400">
              <a:off x="7504920" y="1972800"/>
              <a:ext cx="567000" cy="1490400"/>
            </a:xfrm>
            <a:custGeom>
              <a:avLst/>
              <a:gdLst>
                <a:gd name="textAreaLeft" fmla="*/ 0 w 567000"/>
                <a:gd name="textAreaRight" fmla="*/ 567360 w 567000"/>
                <a:gd name="textAreaTop" fmla="*/ 0 h 1490400"/>
                <a:gd name="textAreaBottom" fmla="*/ 1490760 h 1490400"/>
              </a:gdLst>
              <a:ahLst/>
              <a:rect l="textAreaLeft" t="textAreaTop" r="textAreaRight" b="textAreaBottom"/>
              <a:pathLst>
                <a:path w="1023241" h="1489372">
                  <a:moveTo>
                    <a:pt x="-1" y="197497"/>
                  </a:moveTo>
                  <a:lnTo>
                    <a:pt x="1023241" y="0"/>
                  </a:lnTo>
                  <a:lnTo>
                    <a:pt x="1023241" y="1489372"/>
                  </a:lnTo>
                  <a:lnTo>
                    <a:pt x="356116" y="1481337"/>
                  </a:lnTo>
                  <a:lnTo>
                    <a:pt x="-1" y="197497"/>
                  </a:lnTo>
                  <a:close/>
                </a:path>
              </a:pathLst>
            </a:custGeom>
            <a:solidFill>
              <a:srgbClr val="f2e7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5" name="直角三角形 73"/>
            <p:cNvSpPr/>
            <p:nvPr/>
          </p:nvSpPr>
          <p:spPr>
            <a:xfrm flipV="1" rot="19334400">
              <a:off x="8199000" y="3186360"/>
              <a:ext cx="424440" cy="205560"/>
            </a:xfrm>
            <a:custGeom>
              <a:avLst/>
              <a:gdLst>
                <a:gd name="textAreaLeft" fmla="*/ 0 w 424440"/>
                <a:gd name="textAreaRight" fmla="*/ 424800 w 424440"/>
                <a:gd name="textAreaTop" fmla="*/ -360 h 205560"/>
                <a:gd name="textAreaBottom" fmla="*/ 205560 h 205560"/>
              </a:gdLst>
              <a:ahLst/>
              <a:rect l="textAreaLeft" t="textAreaTop" r="textAreaRight" b="textAreaBottom"/>
              <a:pathLst>
                <a:path w="424627" h="205993">
                  <a:moveTo>
                    <a:pt x="0" y="205993"/>
                  </a:moveTo>
                  <a:lnTo>
                    <a:pt x="63676" y="0"/>
                  </a:lnTo>
                  <a:lnTo>
                    <a:pt x="424627" y="193395"/>
                  </a:lnTo>
                  <a:lnTo>
                    <a:pt x="0" y="205993"/>
                  </a:lnTo>
                  <a:close/>
                </a:path>
              </a:pathLst>
            </a:custGeom>
            <a:gradFill rotWithShape="0">
              <a:gsLst>
                <a:gs pos="50000">
                  <a:srgbClr val="000000">
                    <a:alpha val="0"/>
                  </a:srgbClr>
                </a:gs>
                <a:gs pos="100000">
                  <a:srgbClr val="000000"/>
                </a:gs>
              </a:gsLst>
              <a:lin ang="17268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16" name="任意多边形 70"/>
          <p:cNvSpPr/>
          <p:nvPr/>
        </p:nvSpPr>
        <p:spPr>
          <a:xfrm rot="19334400">
            <a:off x="3726720" y="3264840"/>
            <a:ext cx="4810320" cy="1499040"/>
          </a:xfrm>
          <a:custGeom>
            <a:avLst/>
            <a:gdLst>
              <a:gd name="textAreaLeft" fmla="*/ 0 w 4810320"/>
              <a:gd name="textAreaRight" fmla="*/ 4810680 w 4810320"/>
              <a:gd name="textAreaTop" fmla="*/ 0 h 1499040"/>
              <a:gd name="textAreaBottom" fmla="*/ 1499400 h 1499040"/>
            </a:gdLst>
            <a:ahLst/>
            <a:rect l="textAreaLeft" t="textAreaTop" r="textAreaRight" b="textAreaBottom"/>
            <a:pathLst>
              <a:path w="4655302" h="1905000">
                <a:moveTo>
                  <a:pt x="0" y="0"/>
                </a:moveTo>
                <a:lnTo>
                  <a:pt x="1668338" y="0"/>
                </a:lnTo>
                <a:lnTo>
                  <a:pt x="1668339" y="1"/>
                </a:lnTo>
                <a:lnTo>
                  <a:pt x="4655302" y="1"/>
                </a:lnTo>
                <a:lnTo>
                  <a:pt x="4655302" y="1900575"/>
                </a:lnTo>
                <a:lnTo>
                  <a:pt x="1670362" y="1900575"/>
                </a:lnTo>
                <a:lnTo>
                  <a:pt x="1668338" y="1905000"/>
                </a:lnTo>
                <a:lnTo>
                  <a:pt x="0" y="1905000"/>
                </a:lnTo>
                <a:lnTo>
                  <a:pt x="435674" y="952500"/>
                </a:lnTo>
                <a:close/>
              </a:path>
            </a:pathLst>
          </a:custGeom>
          <a:solidFill>
            <a:schemeClr val="accent1"/>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30000"/>
              </a:lnSpc>
            </a:pPr>
            <a:endParaRPr b="0" lang="en-US" sz="2400" spc="-1" strike="noStrike">
              <a:solidFill>
                <a:srgbClr val="000000"/>
              </a:solidFill>
              <a:latin typeface="方正喵呜体"/>
              <a:ea typeface="方正喵呜体"/>
            </a:endParaRPr>
          </a:p>
        </p:txBody>
      </p:sp>
      <p:sp>
        <p:nvSpPr>
          <p:cNvPr id="217" name="矩形 71"/>
          <p:cNvSpPr/>
          <p:nvPr/>
        </p:nvSpPr>
        <p:spPr>
          <a:xfrm rot="19334400">
            <a:off x="4092120" y="3533400"/>
            <a:ext cx="430812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方正正纤黑简体"/>
                <a:ea typeface="方正正纤黑简体"/>
              </a:rPr>
              <a:t>椭圆参量长蒙数值（试卷</a:t>
            </a:r>
            <a:r>
              <a:rPr b="0" lang="en-US" sz="2400" spc="-1" strike="noStrike">
                <a:solidFill>
                  <a:srgbClr val="000000"/>
                </a:solidFill>
                <a:latin typeface="方正正纤黑简体"/>
                <a:ea typeface="方正正纤黑简体"/>
              </a:rPr>
              <a:t>20</a:t>
            </a:r>
            <a:r>
              <a:rPr b="0" lang="zh-CN" sz="2400" spc="-1" strike="noStrike">
                <a:solidFill>
                  <a:srgbClr val="000000"/>
                </a:solidFill>
                <a:latin typeface="方正正纤黑简体"/>
                <a:ea typeface="方正正纤黑简体"/>
              </a:rPr>
              <a:t>题）</a:t>
            </a:r>
            <a:r>
              <a:rPr b="0" lang="en-US" sz="2400" spc="-1" strike="noStrike">
                <a:solidFill>
                  <a:srgbClr val="000000"/>
                </a:solidFill>
                <a:latin typeface="方正正纤黑简体"/>
                <a:ea typeface="方正正纤黑简体"/>
              </a:rPr>
              <a:t>a</a:t>
            </a:r>
            <a:r>
              <a:rPr b="0" lang="en-US" sz="2400" spc="-1" strike="noStrike" baseline="30000">
                <a:solidFill>
                  <a:srgbClr val="000000"/>
                </a:solidFill>
                <a:latin typeface="方正正纤黑简体"/>
                <a:ea typeface="方正正纤黑简体"/>
              </a:rPr>
              <a:t>2</a:t>
            </a:r>
            <a:r>
              <a:rPr b="0" lang="en-US" sz="2400" spc="-1" strike="noStrike">
                <a:solidFill>
                  <a:srgbClr val="000000"/>
                </a:solidFill>
                <a:latin typeface="方正正纤黑简体"/>
                <a:ea typeface="方正正纤黑简体"/>
              </a:rPr>
              <a:t>=4.3 b</a:t>
            </a:r>
            <a:r>
              <a:rPr b="0" lang="en-US" sz="2400" spc="-1" strike="noStrike" baseline="30000">
                <a:solidFill>
                  <a:srgbClr val="000000"/>
                </a:solidFill>
                <a:latin typeface="方正正纤黑简体"/>
                <a:ea typeface="方正正纤黑简体"/>
              </a:rPr>
              <a:t>2</a:t>
            </a:r>
            <a:r>
              <a:rPr b="0" lang="en-US" sz="2400" spc="-1" strike="noStrike">
                <a:solidFill>
                  <a:srgbClr val="000000"/>
                </a:solidFill>
                <a:latin typeface="方正正纤黑简体"/>
                <a:ea typeface="方正正纤黑简体"/>
              </a:rPr>
              <a:t>=1.4</a:t>
            </a:r>
            <a:endParaRPr b="0" lang="en-US" sz="2400" spc="-1" strike="noStrike">
              <a:solidFill>
                <a:srgbClr val="000000"/>
              </a:solidFill>
              <a:latin typeface="Arial"/>
            </a:endParaRPr>
          </a:p>
        </p:txBody>
      </p:sp>
      <p:grpSp>
        <p:nvGrpSpPr>
          <p:cNvPr id="218" name="组合 89"/>
          <p:cNvGrpSpPr/>
          <p:nvPr/>
        </p:nvGrpSpPr>
        <p:grpSpPr>
          <a:xfrm>
            <a:off x="8597880" y="3311640"/>
            <a:ext cx="2044080" cy="2052000"/>
            <a:chOff x="8597880" y="3311640"/>
            <a:chExt cx="2044080" cy="2052000"/>
          </a:xfrm>
        </p:grpSpPr>
        <p:sp>
          <p:nvSpPr>
            <p:cNvPr id="219" name="矩形 9"/>
            <p:cNvSpPr/>
            <p:nvPr/>
          </p:nvSpPr>
          <p:spPr>
            <a:xfrm rot="19158000">
              <a:off x="9264600" y="3210480"/>
              <a:ext cx="521280" cy="2238480"/>
            </a:xfrm>
            <a:custGeom>
              <a:avLst/>
              <a:gdLst>
                <a:gd name="textAreaLeft" fmla="*/ 0 w 521280"/>
                <a:gd name="textAreaRight" fmla="*/ 521640 w 521280"/>
                <a:gd name="textAreaTop" fmla="*/ 0 h 2238480"/>
                <a:gd name="textAreaBottom" fmla="*/ 2238840 h 2238480"/>
              </a:gdLst>
              <a:ahLst/>
              <a:rect l="textAreaLeft" t="textAreaTop" r="textAreaRight" b="textAreaBottom"/>
              <a:pathLst>
                <a:path w="1513783" h="1489372">
                  <a:moveTo>
                    <a:pt x="0" y="209822"/>
                  </a:moveTo>
                  <a:lnTo>
                    <a:pt x="1513783" y="0"/>
                  </a:lnTo>
                  <a:lnTo>
                    <a:pt x="1513783" y="1489372"/>
                  </a:lnTo>
                  <a:lnTo>
                    <a:pt x="727861" y="1483384"/>
                  </a:lnTo>
                  <a:lnTo>
                    <a:pt x="0" y="209822"/>
                  </a:lnTo>
                  <a:close/>
                </a:path>
              </a:pathLst>
            </a:custGeom>
            <a:solidFill>
              <a:srgbClr val="f2e7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0" name="直角三角形 79"/>
            <p:cNvSpPr/>
            <p:nvPr/>
          </p:nvSpPr>
          <p:spPr>
            <a:xfrm flipV="1" rot="19158000">
              <a:off x="10350000" y="5034960"/>
              <a:ext cx="224280" cy="290160"/>
            </a:xfrm>
            <a:prstGeom prst="rtTriangle">
              <a:avLst/>
            </a:prstGeom>
            <a:gradFill rotWithShape="0">
              <a:gsLst>
                <a:gs pos="50000">
                  <a:srgbClr val="000000">
                    <a:alpha val="0"/>
                  </a:srgbClr>
                </a:gs>
                <a:gs pos="100000">
                  <a:srgbClr val="000000"/>
                </a:gs>
              </a:gsLst>
              <a:lin ang="17448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21" name="任意多边形 76"/>
          <p:cNvSpPr/>
          <p:nvPr/>
        </p:nvSpPr>
        <p:spPr>
          <a:xfrm rot="19158000">
            <a:off x="7102800" y="4019400"/>
            <a:ext cx="2988720" cy="2251080"/>
          </a:xfrm>
          <a:custGeom>
            <a:avLst/>
            <a:gdLst>
              <a:gd name="textAreaLeft" fmla="*/ 0 w 2988720"/>
              <a:gd name="textAreaRight" fmla="*/ 2989080 w 2988720"/>
              <a:gd name="textAreaTop" fmla="*/ 0 h 2251080"/>
              <a:gd name="textAreaBottom" fmla="*/ 2251440 h 2251080"/>
            </a:gdLst>
            <a:ahLst/>
            <a:rect l="textAreaLeft" t="textAreaTop" r="textAreaRight" b="textAreaBottom"/>
            <a:pathLst>
              <a:path w="4655302" h="1905000">
                <a:moveTo>
                  <a:pt x="0" y="0"/>
                </a:moveTo>
                <a:lnTo>
                  <a:pt x="1668338" y="0"/>
                </a:lnTo>
                <a:lnTo>
                  <a:pt x="1668339" y="1"/>
                </a:lnTo>
                <a:lnTo>
                  <a:pt x="4655302" y="1"/>
                </a:lnTo>
                <a:lnTo>
                  <a:pt x="4655302" y="1900575"/>
                </a:lnTo>
                <a:lnTo>
                  <a:pt x="1670362" y="1900575"/>
                </a:lnTo>
                <a:lnTo>
                  <a:pt x="1668338" y="1905000"/>
                </a:lnTo>
                <a:lnTo>
                  <a:pt x="0" y="1905000"/>
                </a:lnTo>
                <a:lnTo>
                  <a:pt x="435674" y="952500"/>
                </a:lnTo>
                <a:close/>
              </a:path>
            </a:pathLst>
          </a:custGeom>
          <a:solidFill>
            <a:schemeClr val="accent1"/>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30000"/>
              </a:lnSpc>
            </a:pPr>
            <a:endParaRPr b="0" lang="en-US" sz="2400" spc="-1" strike="noStrike">
              <a:solidFill>
                <a:srgbClr val="000000"/>
              </a:solidFill>
              <a:latin typeface="方正喵呜体"/>
              <a:ea typeface="方正喵呜体"/>
            </a:endParaRPr>
          </a:p>
        </p:txBody>
      </p:sp>
      <p:sp>
        <p:nvSpPr>
          <p:cNvPr id="222" name="矩形 77"/>
          <p:cNvSpPr/>
          <p:nvPr/>
        </p:nvSpPr>
        <p:spPr>
          <a:xfrm rot="19158000">
            <a:off x="6949440" y="4431960"/>
            <a:ext cx="26769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方正正纤黑简体"/>
                <a:ea typeface="方正正纤黑简体"/>
              </a:rPr>
              <a:t>问正确的项的个数时选最小的选项必要时可以用排列组合蒙一下概率</a:t>
            </a:r>
            <a:endParaRPr b="0" lang="en-US" sz="2400" spc="-1" strike="noStrike">
              <a:solidFill>
                <a:srgbClr val="000000"/>
              </a:solidFill>
              <a:latin typeface="Arial"/>
            </a:endParaRPr>
          </a:p>
        </p:txBody>
      </p:sp>
      <p:sp>
        <p:nvSpPr>
          <p:cNvPr id="223" name="KSO_Shape"/>
          <p:cNvSpPr/>
          <p:nvPr/>
        </p:nvSpPr>
        <p:spPr>
          <a:xfrm>
            <a:off x="1742040" y="267480"/>
            <a:ext cx="797040" cy="794160"/>
          </a:xfrm>
          <a:custGeom>
            <a:avLst/>
            <a:gdLst>
              <a:gd name="textAreaLeft" fmla="*/ 0 w 797040"/>
              <a:gd name="textAreaRight" fmla="*/ 797400 w 797040"/>
              <a:gd name="textAreaTop" fmla="*/ 0 h 794160"/>
              <a:gd name="textAreaBottom" fmla="*/ 794520 h 794160"/>
            </a:gdLst>
            <a:ahLst/>
            <a:rect l="textAreaLeft" t="textAreaTop" r="textAreaRight" b="textAreaBottom"/>
            <a:pathLst>
              <a:path w="2346740" h="2338503">
                <a:moveTo>
                  <a:pt x="1173371" y="216744"/>
                </a:moveTo>
                <a:cubicBezTo>
                  <a:pt x="647315" y="216744"/>
                  <a:pt x="220863" y="643196"/>
                  <a:pt x="220863" y="1169252"/>
                </a:cubicBezTo>
                <a:cubicBezTo>
                  <a:pt x="220863" y="1695308"/>
                  <a:pt x="647315" y="2121760"/>
                  <a:pt x="1173371" y="2121760"/>
                </a:cubicBezTo>
                <a:cubicBezTo>
                  <a:pt x="1699427" y="2121760"/>
                  <a:pt x="2125879" y="1695308"/>
                  <a:pt x="2125879" y="1169252"/>
                </a:cubicBezTo>
                <a:cubicBezTo>
                  <a:pt x="2125879" y="643196"/>
                  <a:pt x="1699427" y="216744"/>
                  <a:pt x="1173371" y="216744"/>
                </a:cubicBezTo>
                <a:close/>
                <a:moveTo>
                  <a:pt x="1047356" y="0"/>
                </a:moveTo>
                <a:lnTo>
                  <a:pt x="1299384" y="0"/>
                </a:lnTo>
                <a:lnTo>
                  <a:pt x="1343430" y="204792"/>
                </a:lnTo>
                <a:lnTo>
                  <a:pt x="1454863" y="27415"/>
                </a:lnTo>
                <a:lnTo>
                  <a:pt x="1691692" y="113614"/>
                </a:lnTo>
                <a:lnTo>
                  <a:pt x="1663038" y="321121"/>
                </a:lnTo>
                <a:lnTo>
                  <a:pt x="1828419" y="192553"/>
                </a:lnTo>
                <a:lnTo>
                  <a:pt x="2021483" y="354553"/>
                </a:lnTo>
                <a:lnTo>
                  <a:pt x="1923586" y="539746"/>
                </a:lnTo>
                <a:lnTo>
                  <a:pt x="2122965" y="475495"/>
                </a:lnTo>
                <a:lnTo>
                  <a:pt x="2248979" y="693757"/>
                </a:lnTo>
                <a:lnTo>
                  <a:pt x="2093646" y="834298"/>
                </a:lnTo>
                <a:lnTo>
                  <a:pt x="2302976" y="842114"/>
                </a:lnTo>
                <a:lnTo>
                  <a:pt x="2346740" y="1090313"/>
                </a:lnTo>
                <a:lnTo>
                  <a:pt x="2152708" y="1169251"/>
                </a:lnTo>
                <a:lnTo>
                  <a:pt x="2346740" y="1248190"/>
                </a:lnTo>
                <a:lnTo>
                  <a:pt x="2302976" y="1496389"/>
                </a:lnTo>
                <a:lnTo>
                  <a:pt x="2093645" y="1504204"/>
                </a:lnTo>
                <a:lnTo>
                  <a:pt x="2248979" y="1644746"/>
                </a:lnTo>
                <a:lnTo>
                  <a:pt x="2122965" y="1863009"/>
                </a:lnTo>
                <a:lnTo>
                  <a:pt x="1923587" y="1798758"/>
                </a:lnTo>
                <a:lnTo>
                  <a:pt x="2021483" y="1983949"/>
                </a:lnTo>
                <a:lnTo>
                  <a:pt x="1828419" y="2145950"/>
                </a:lnTo>
                <a:lnTo>
                  <a:pt x="1663038" y="2017381"/>
                </a:lnTo>
                <a:lnTo>
                  <a:pt x="1691692" y="2224889"/>
                </a:lnTo>
                <a:lnTo>
                  <a:pt x="1454863" y="2311087"/>
                </a:lnTo>
                <a:lnTo>
                  <a:pt x="1343430" y="2133710"/>
                </a:lnTo>
                <a:lnTo>
                  <a:pt x="1299384" y="2338503"/>
                </a:lnTo>
                <a:lnTo>
                  <a:pt x="1047356" y="2338503"/>
                </a:lnTo>
                <a:lnTo>
                  <a:pt x="1003310" y="2133710"/>
                </a:lnTo>
                <a:lnTo>
                  <a:pt x="891877" y="2311087"/>
                </a:lnTo>
                <a:lnTo>
                  <a:pt x="655048" y="2224889"/>
                </a:lnTo>
                <a:lnTo>
                  <a:pt x="683702" y="2017381"/>
                </a:lnTo>
                <a:lnTo>
                  <a:pt x="518321" y="2145950"/>
                </a:lnTo>
                <a:lnTo>
                  <a:pt x="325257" y="1983949"/>
                </a:lnTo>
                <a:lnTo>
                  <a:pt x="423154" y="1798757"/>
                </a:lnTo>
                <a:lnTo>
                  <a:pt x="223775" y="1863008"/>
                </a:lnTo>
                <a:lnTo>
                  <a:pt x="97761" y="1644745"/>
                </a:lnTo>
                <a:lnTo>
                  <a:pt x="253094" y="1504204"/>
                </a:lnTo>
                <a:lnTo>
                  <a:pt x="43764" y="1496389"/>
                </a:lnTo>
                <a:lnTo>
                  <a:pt x="0" y="1248190"/>
                </a:lnTo>
                <a:lnTo>
                  <a:pt x="194032" y="1169251"/>
                </a:lnTo>
                <a:lnTo>
                  <a:pt x="0" y="1090313"/>
                </a:lnTo>
                <a:lnTo>
                  <a:pt x="43764" y="842114"/>
                </a:lnTo>
                <a:lnTo>
                  <a:pt x="253095" y="834298"/>
                </a:lnTo>
                <a:lnTo>
                  <a:pt x="97761" y="693756"/>
                </a:lnTo>
                <a:lnTo>
                  <a:pt x="223775" y="475494"/>
                </a:lnTo>
                <a:lnTo>
                  <a:pt x="423153" y="539745"/>
                </a:lnTo>
                <a:lnTo>
                  <a:pt x="325257" y="354553"/>
                </a:lnTo>
                <a:lnTo>
                  <a:pt x="518321" y="192553"/>
                </a:lnTo>
                <a:lnTo>
                  <a:pt x="683702" y="321121"/>
                </a:lnTo>
                <a:lnTo>
                  <a:pt x="655048" y="113614"/>
                </a:lnTo>
                <a:lnTo>
                  <a:pt x="891877" y="27415"/>
                </a:lnTo>
                <a:lnTo>
                  <a:pt x="1003310" y="204793"/>
                </a:ln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4" name="文本框 81"/>
          <p:cNvSpPr/>
          <p:nvPr/>
        </p:nvSpPr>
        <p:spPr>
          <a:xfrm>
            <a:off x="1804320" y="341640"/>
            <a:ext cx="8996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600" spc="-1" strike="noStrike">
                <a:solidFill>
                  <a:srgbClr val="ffffff"/>
                </a:solidFill>
                <a:latin typeface="Broadway"/>
              </a:rPr>
              <a:t>x</a:t>
            </a:r>
            <a:r>
              <a:rPr b="0" lang="en-US" sz="3600" spc="-1" strike="noStrike" baseline="40000">
                <a:solidFill>
                  <a:srgbClr val="ffffff"/>
                </a:solidFill>
                <a:latin typeface="Broadway"/>
              </a:rPr>
              <a:t>2</a:t>
            </a:r>
            <a:endParaRPr b="0" lang="en-US" sz="3600" spc="-1" strike="noStrike">
              <a:solidFill>
                <a:srgbClr val="000000"/>
              </a:solidFill>
              <a:latin typeface="Arial"/>
            </a:endParaRPr>
          </a:p>
        </p:txBody>
      </p:sp>
      <p:sp>
        <p:nvSpPr>
          <p:cNvPr id="225" name="KSO_Shape"/>
          <p:cNvSpPr/>
          <p:nvPr/>
        </p:nvSpPr>
        <p:spPr>
          <a:xfrm>
            <a:off x="362880" y="1598400"/>
            <a:ext cx="797040" cy="794160"/>
          </a:xfrm>
          <a:custGeom>
            <a:avLst/>
            <a:gdLst>
              <a:gd name="textAreaLeft" fmla="*/ 0 w 797040"/>
              <a:gd name="textAreaRight" fmla="*/ 797400 w 797040"/>
              <a:gd name="textAreaTop" fmla="*/ 0 h 794160"/>
              <a:gd name="textAreaBottom" fmla="*/ 794520 h 794160"/>
            </a:gdLst>
            <a:ahLst/>
            <a:rect l="textAreaLeft" t="textAreaTop" r="textAreaRight" b="textAreaBottom"/>
            <a:pathLst>
              <a:path w="2346740" h="2338503">
                <a:moveTo>
                  <a:pt x="1173371" y="216744"/>
                </a:moveTo>
                <a:cubicBezTo>
                  <a:pt x="647315" y="216744"/>
                  <a:pt x="220863" y="643196"/>
                  <a:pt x="220863" y="1169252"/>
                </a:cubicBezTo>
                <a:cubicBezTo>
                  <a:pt x="220863" y="1695308"/>
                  <a:pt x="647315" y="2121760"/>
                  <a:pt x="1173371" y="2121760"/>
                </a:cubicBezTo>
                <a:cubicBezTo>
                  <a:pt x="1699427" y="2121760"/>
                  <a:pt x="2125879" y="1695308"/>
                  <a:pt x="2125879" y="1169252"/>
                </a:cubicBezTo>
                <a:cubicBezTo>
                  <a:pt x="2125879" y="643196"/>
                  <a:pt x="1699427" y="216744"/>
                  <a:pt x="1173371" y="216744"/>
                </a:cubicBezTo>
                <a:close/>
                <a:moveTo>
                  <a:pt x="1047356" y="0"/>
                </a:moveTo>
                <a:lnTo>
                  <a:pt x="1299384" y="0"/>
                </a:lnTo>
                <a:lnTo>
                  <a:pt x="1343430" y="204792"/>
                </a:lnTo>
                <a:lnTo>
                  <a:pt x="1454863" y="27415"/>
                </a:lnTo>
                <a:lnTo>
                  <a:pt x="1691692" y="113614"/>
                </a:lnTo>
                <a:lnTo>
                  <a:pt x="1663038" y="321121"/>
                </a:lnTo>
                <a:lnTo>
                  <a:pt x="1828419" y="192553"/>
                </a:lnTo>
                <a:lnTo>
                  <a:pt x="2021483" y="354553"/>
                </a:lnTo>
                <a:lnTo>
                  <a:pt x="1923586" y="539746"/>
                </a:lnTo>
                <a:lnTo>
                  <a:pt x="2122965" y="475495"/>
                </a:lnTo>
                <a:lnTo>
                  <a:pt x="2248979" y="693757"/>
                </a:lnTo>
                <a:lnTo>
                  <a:pt x="2093646" y="834298"/>
                </a:lnTo>
                <a:lnTo>
                  <a:pt x="2302976" y="842114"/>
                </a:lnTo>
                <a:lnTo>
                  <a:pt x="2346740" y="1090313"/>
                </a:lnTo>
                <a:lnTo>
                  <a:pt x="2152708" y="1169251"/>
                </a:lnTo>
                <a:lnTo>
                  <a:pt x="2346740" y="1248190"/>
                </a:lnTo>
                <a:lnTo>
                  <a:pt x="2302976" y="1496389"/>
                </a:lnTo>
                <a:lnTo>
                  <a:pt x="2093645" y="1504204"/>
                </a:lnTo>
                <a:lnTo>
                  <a:pt x="2248979" y="1644746"/>
                </a:lnTo>
                <a:lnTo>
                  <a:pt x="2122965" y="1863009"/>
                </a:lnTo>
                <a:lnTo>
                  <a:pt x="1923587" y="1798758"/>
                </a:lnTo>
                <a:lnTo>
                  <a:pt x="2021483" y="1983949"/>
                </a:lnTo>
                <a:lnTo>
                  <a:pt x="1828419" y="2145950"/>
                </a:lnTo>
                <a:lnTo>
                  <a:pt x="1663038" y="2017381"/>
                </a:lnTo>
                <a:lnTo>
                  <a:pt x="1691692" y="2224889"/>
                </a:lnTo>
                <a:lnTo>
                  <a:pt x="1454863" y="2311087"/>
                </a:lnTo>
                <a:lnTo>
                  <a:pt x="1343430" y="2133710"/>
                </a:lnTo>
                <a:lnTo>
                  <a:pt x="1299384" y="2338503"/>
                </a:lnTo>
                <a:lnTo>
                  <a:pt x="1047356" y="2338503"/>
                </a:lnTo>
                <a:lnTo>
                  <a:pt x="1003310" y="2133710"/>
                </a:lnTo>
                <a:lnTo>
                  <a:pt x="891877" y="2311087"/>
                </a:lnTo>
                <a:lnTo>
                  <a:pt x="655048" y="2224889"/>
                </a:lnTo>
                <a:lnTo>
                  <a:pt x="683702" y="2017381"/>
                </a:lnTo>
                <a:lnTo>
                  <a:pt x="518321" y="2145950"/>
                </a:lnTo>
                <a:lnTo>
                  <a:pt x="325257" y="1983949"/>
                </a:lnTo>
                <a:lnTo>
                  <a:pt x="423154" y="1798757"/>
                </a:lnTo>
                <a:lnTo>
                  <a:pt x="223775" y="1863008"/>
                </a:lnTo>
                <a:lnTo>
                  <a:pt x="97761" y="1644745"/>
                </a:lnTo>
                <a:lnTo>
                  <a:pt x="253094" y="1504204"/>
                </a:lnTo>
                <a:lnTo>
                  <a:pt x="43764" y="1496389"/>
                </a:lnTo>
                <a:lnTo>
                  <a:pt x="0" y="1248190"/>
                </a:lnTo>
                <a:lnTo>
                  <a:pt x="194032" y="1169251"/>
                </a:lnTo>
                <a:lnTo>
                  <a:pt x="0" y="1090313"/>
                </a:lnTo>
                <a:lnTo>
                  <a:pt x="43764" y="842114"/>
                </a:lnTo>
                <a:lnTo>
                  <a:pt x="253095" y="834298"/>
                </a:lnTo>
                <a:lnTo>
                  <a:pt x="97761" y="693756"/>
                </a:lnTo>
                <a:lnTo>
                  <a:pt x="223775" y="475494"/>
                </a:lnTo>
                <a:lnTo>
                  <a:pt x="423153" y="539745"/>
                </a:lnTo>
                <a:lnTo>
                  <a:pt x="325257" y="354553"/>
                </a:lnTo>
                <a:lnTo>
                  <a:pt x="518321" y="192553"/>
                </a:lnTo>
                <a:lnTo>
                  <a:pt x="683702" y="321121"/>
                </a:lnTo>
                <a:lnTo>
                  <a:pt x="655048" y="113614"/>
                </a:lnTo>
                <a:lnTo>
                  <a:pt x="891877" y="27415"/>
                </a:lnTo>
                <a:lnTo>
                  <a:pt x="1003310" y="204793"/>
                </a:ln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6" name="文本框 83"/>
          <p:cNvSpPr/>
          <p:nvPr/>
        </p:nvSpPr>
        <p:spPr>
          <a:xfrm>
            <a:off x="425520" y="1672560"/>
            <a:ext cx="8996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600" spc="-1" strike="noStrike">
                <a:solidFill>
                  <a:srgbClr val="ffffff"/>
                </a:solidFill>
                <a:latin typeface="Broadway"/>
              </a:rPr>
              <a:t>y</a:t>
            </a:r>
            <a:r>
              <a:rPr b="0" lang="en-US" sz="3600" spc="-1" strike="noStrike" baseline="40000">
                <a:solidFill>
                  <a:srgbClr val="ffffff"/>
                </a:solidFill>
                <a:latin typeface="Broadway"/>
              </a:rPr>
              <a:t>2</a:t>
            </a:r>
            <a:endParaRPr b="0" lang="en-US" sz="3600" spc="-1" strike="noStrike">
              <a:solidFill>
                <a:srgbClr val="000000"/>
              </a:solidFill>
              <a:latin typeface="Arial"/>
            </a:endParaRPr>
          </a:p>
        </p:txBody>
      </p:sp>
      <p:sp>
        <p:nvSpPr>
          <p:cNvPr id="227" name="KSO_Shape"/>
          <p:cNvSpPr/>
          <p:nvPr/>
        </p:nvSpPr>
        <p:spPr>
          <a:xfrm>
            <a:off x="1770480" y="1815120"/>
            <a:ext cx="797040" cy="794160"/>
          </a:xfrm>
          <a:custGeom>
            <a:avLst/>
            <a:gdLst>
              <a:gd name="textAreaLeft" fmla="*/ 0 w 797040"/>
              <a:gd name="textAreaRight" fmla="*/ 797400 w 797040"/>
              <a:gd name="textAreaTop" fmla="*/ 0 h 794160"/>
              <a:gd name="textAreaBottom" fmla="*/ 794520 h 794160"/>
            </a:gdLst>
            <a:ahLst/>
            <a:rect l="textAreaLeft" t="textAreaTop" r="textAreaRight" b="textAreaBottom"/>
            <a:pathLst>
              <a:path w="2346740" h="2338503">
                <a:moveTo>
                  <a:pt x="1173371" y="216744"/>
                </a:moveTo>
                <a:cubicBezTo>
                  <a:pt x="647315" y="216744"/>
                  <a:pt x="220863" y="643196"/>
                  <a:pt x="220863" y="1169252"/>
                </a:cubicBezTo>
                <a:cubicBezTo>
                  <a:pt x="220863" y="1695308"/>
                  <a:pt x="647315" y="2121760"/>
                  <a:pt x="1173371" y="2121760"/>
                </a:cubicBezTo>
                <a:cubicBezTo>
                  <a:pt x="1699427" y="2121760"/>
                  <a:pt x="2125879" y="1695308"/>
                  <a:pt x="2125879" y="1169252"/>
                </a:cubicBezTo>
                <a:cubicBezTo>
                  <a:pt x="2125879" y="643196"/>
                  <a:pt x="1699427" y="216744"/>
                  <a:pt x="1173371" y="216744"/>
                </a:cubicBezTo>
                <a:close/>
                <a:moveTo>
                  <a:pt x="1047356" y="0"/>
                </a:moveTo>
                <a:lnTo>
                  <a:pt x="1299384" y="0"/>
                </a:lnTo>
                <a:lnTo>
                  <a:pt x="1343430" y="204792"/>
                </a:lnTo>
                <a:lnTo>
                  <a:pt x="1454863" y="27415"/>
                </a:lnTo>
                <a:lnTo>
                  <a:pt x="1691692" y="113614"/>
                </a:lnTo>
                <a:lnTo>
                  <a:pt x="1663038" y="321121"/>
                </a:lnTo>
                <a:lnTo>
                  <a:pt x="1828419" y="192553"/>
                </a:lnTo>
                <a:lnTo>
                  <a:pt x="2021483" y="354553"/>
                </a:lnTo>
                <a:lnTo>
                  <a:pt x="1923586" y="539746"/>
                </a:lnTo>
                <a:lnTo>
                  <a:pt x="2122965" y="475495"/>
                </a:lnTo>
                <a:lnTo>
                  <a:pt x="2248979" y="693757"/>
                </a:lnTo>
                <a:lnTo>
                  <a:pt x="2093646" y="834298"/>
                </a:lnTo>
                <a:lnTo>
                  <a:pt x="2302976" y="842114"/>
                </a:lnTo>
                <a:lnTo>
                  <a:pt x="2346740" y="1090313"/>
                </a:lnTo>
                <a:lnTo>
                  <a:pt x="2152708" y="1169251"/>
                </a:lnTo>
                <a:lnTo>
                  <a:pt x="2346740" y="1248190"/>
                </a:lnTo>
                <a:lnTo>
                  <a:pt x="2302976" y="1496389"/>
                </a:lnTo>
                <a:lnTo>
                  <a:pt x="2093645" y="1504204"/>
                </a:lnTo>
                <a:lnTo>
                  <a:pt x="2248979" y="1644746"/>
                </a:lnTo>
                <a:lnTo>
                  <a:pt x="2122965" y="1863009"/>
                </a:lnTo>
                <a:lnTo>
                  <a:pt x="1923587" y="1798758"/>
                </a:lnTo>
                <a:lnTo>
                  <a:pt x="2021483" y="1983949"/>
                </a:lnTo>
                <a:lnTo>
                  <a:pt x="1828419" y="2145950"/>
                </a:lnTo>
                <a:lnTo>
                  <a:pt x="1663038" y="2017381"/>
                </a:lnTo>
                <a:lnTo>
                  <a:pt x="1691692" y="2224889"/>
                </a:lnTo>
                <a:lnTo>
                  <a:pt x="1454863" y="2311087"/>
                </a:lnTo>
                <a:lnTo>
                  <a:pt x="1343430" y="2133710"/>
                </a:lnTo>
                <a:lnTo>
                  <a:pt x="1299384" y="2338503"/>
                </a:lnTo>
                <a:lnTo>
                  <a:pt x="1047356" y="2338503"/>
                </a:lnTo>
                <a:lnTo>
                  <a:pt x="1003310" y="2133710"/>
                </a:lnTo>
                <a:lnTo>
                  <a:pt x="891877" y="2311087"/>
                </a:lnTo>
                <a:lnTo>
                  <a:pt x="655048" y="2224889"/>
                </a:lnTo>
                <a:lnTo>
                  <a:pt x="683702" y="2017381"/>
                </a:lnTo>
                <a:lnTo>
                  <a:pt x="518321" y="2145950"/>
                </a:lnTo>
                <a:lnTo>
                  <a:pt x="325257" y="1983949"/>
                </a:lnTo>
                <a:lnTo>
                  <a:pt x="423154" y="1798757"/>
                </a:lnTo>
                <a:lnTo>
                  <a:pt x="223775" y="1863008"/>
                </a:lnTo>
                <a:lnTo>
                  <a:pt x="97761" y="1644745"/>
                </a:lnTo>
                <a:lnTo>
                  <a:pt x="253094" y="1504204"/>
                </a:lnTo>
                <a:lnTo>
                  <a:pt x="43764" y="1496389"/>
                </a:lnTo>
                <a:lnTo>
                  <a:pt x="0" y="1248190"/>
                </a:lnTo>
                <a:lnTo>
                  <a:pt x="194032" y="1169251"/>
                </a:lnTo>
                <a:lnTo>
                  <a:pt x="0" y="1090313"/>
                </a:lnTo>
                <a:lnTo>
                  <a:pt x="43764" y="842114"/>
                </a:lnTo>
                <a:lnTo>
                  <a:pt x="253095" y="834298"/>
                </a:lnTo>
                <a:lnTo>
                  <a:pt x="97761" y="693756"/>
                </a:lnTo>
                <a:lnTo>
                  <a:pt x="223775" y="475494"/>
                </a:lnTo>
                <a:lnTo>
                  <a:pt x="423153" y="539745"/>
                </a:lnTo>
                <a:lnTo>
                  <a:pt x="325257" y="354553"/>
                </a:lnTo>
                <a:lnTo>
                  <a:pt x="518321" y="192553"/>
                </a:lnTo>
                <a:lnTo>
                  <a:pt x="683702" y="321121"/>
                </a:lnTo>
                <a:lnTo>
                  <a:pt x="655048" y="113614"/>
                </a:lnTo>
                <a:lnTo>
                  <a:pt x="891877" y="27415"/>
                </a:lnTo>
                <a:lnTo>
                  <a:pt x="1003310" y="204793"/>
                </a:ln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8" name="文本框 86"/>
          <p:cNvSpPr/>
          <p:nvPr/>
        </p:nvSpPr>
        <p:spPr>
          <a:xfrm>
            <a:off x="1832760" y="1889280"/>
            <a:ext cx="8996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600" spc="-1" strike="noStrike">
                <a:solidFill>
                  <a:srgbClr val="ffffff"/>
                </a:solidFill>
                <a:latin typeface="Broadway"/>
              </a:rPr>
              <a:t>z</a:t>
            </a:r>
            <a:r>
              <a:rPr b="0" lang="en-US" sz="3600" spc="-1" strike="noStrike" baseline="40000">
                <a:solidFill>
                  <a:srgbClr val="ffffff"/>
                </a:solidFill>
                <a:latin typeface="Broadway"/>
              </a:rPr>
              <a:t>2</a:t>
            </a:r>
            <a:endParaRPr b="0" lang="en-US" sz="3600" spc="-1" strike="noStrike">
              <a:solidFill>
                <a:srgbClr val="000000"/>
              </a:solidFill>
              <a:latin typeface="Arial"/>
            </a:endParaRPr>
          </a:p>
        </p:txBody>
      </p:sp>
      <p:cxnSp>
        <p:nvCxnSpPr>
          <p:cNvPr id="229" name="直接连接符 90"/>
          <p:cNvCxnSpPr>
            <a:stCxn id="225" idx="1"/>
          </p:cNvCxnSpPr>
          <p:nvPr/>
        </p:nvCxnSpPr>
        <p:spPr>
          <a:xfrm flipV="1">
            <a:off x="937440" y="838080"/>
            <a:ext cx="867240" cy="799200"/>
          </a:xfrm>
          <a:prstGeom prst="straightConnector1">
            <a:avLst/>
          </a:prstGeom>
          <a:ln w="28575">
            <a:solidFill>
              <a:srgbClr val="ffffff">
                <a:alpha val="61000"/>
              </a:srgbClr>
            </a:solidFill>
            <a:prstDash val="sysDash"/>
          </a:ln>
        </p:spPr>
      </p:cxnSp>
      <p:cxnSp>
        <p:nvCxnSpPr>
          <p:cNvPr id="230" name="直接连接符 93"/>
          <p:cNvCxnSpPr>
            <a:endCxn id="228" idx="1"/>
          </p:cNvCxnSpPr>
          <p:nvPr/>
        </p:nvCxnSpPr>
        <p:spPr>
          <a:xfrm>
            <a:off x="1121400" y="2080800"/>
            <a:ext cx="711720" cy="131760"/>
          </a:xfrm>
          <a:prstGeom prst="straightConnector1">
            <a:avLst/>
          </a:prstGeom>
          <a:ln w="28575">
            <a:solidFill>
              <a:srgbClr val="ffffff">
                <a:alpha val="61000"/>
              </a:srgbClr>
            </a:solidFill>
            <a:prstDash val="sysDash"/>
          </a:ln>
        </p:spPr>
      </p:cxnSp>
      <p:cxnSp>
        <p:nvCxnSpPr>
          <p:cNvPr id="231" name="直接连接符 96"/>
          <p:cNvCxnSpPr>
            <a:endCxn id="223" idx="1"/>
          </p:cNvCxnSpPr>
          <p:nvPr/>
        </p:nvCxnSpPr>
        <p:spPr>
          <a:xfrm flipH="1" flipV="1">
            <a:off x="2316600" y="1023120"/>
            <a:ext cx="82080" cy="926640"/>
          </a:xfrm>
          <a:prstGeom prst="straightConnector1">
            <a:avLst/>
          </a:prstGeom>
          <a:ln w="28575">
            <a:solidFill>
              <a:srgbClr val="ffffff">
                <a:alpha val="61000"/>
              </a:srgbClr>
            </a:solidFill>
            <a:prstDash val="sysDash"/>
          </a:ln>
        </p:spPr>
      </p:cxnSp>
    </p:spTree>
  </p:cSld>
  <mc:AlternateContent>
    <mc:Choice Requires="p14">
      <p:transition spd="slow" p14:dur="1300"/>
    </mc:Choice>
    <mc:Fallback>
      <p:transition spd="slow"/>
    </mc:Fallback>
  </mc:AlternateContent>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withEffect" fill="hold" presetClass="entr" presetID="23" presetSubtype="16">
                                  <p:stCondLst>
                                    <p:cond delay="700"/>
                                  </p:stCondLst>
                                  <p:childTnLst>
                                    <p:set>
                                      <p:cBhvr>
                                        <p:cTn id="358" dur="1" fill="hold">
                                          <p:stCondLst>
                                            <p:cond delay="0"/>
                                          </p:stCondLst>
                                        </p:cTn>
                                        <p:tgtEl>
                                          <p:spTgt spid="223"/>
                                        </p:tgtEl>
                                        <p:attrNameLst>
                                          <p:attrName>style.visibility</p:attrName>
                                        </p:attrNameLst>
                                      </p:cBhvr>
                                      <p:to>
                                        <p:strVal val="visible"/>
                                      </p:to>
                                    </p:set>
                                    <p:anim calcmode="lin" valueType="num">
                                      <p:cBhvr additive="repl">
                                        <p:cTn id="359" dur="500" fill="hold"/>
                                        <p:tgtEl>
                                          <p:spTgt spid="223"/>
                                        </p:tgtEl>
                                        <p:attrNameLst>
                                          <p:attrName>ppt_w</p:attrName>
                                        </p:attrNameLst>
                                      </p:cBhvr>
                                      <p:tavLst>
                                        <p:tav tm="0">
                                          <p:val>
                                            <p:fltVal val="0"/>
                                          </p:val>
                                        </p:tav>
                                        <p:tav tm="100000">
                                          <p:val>
                                            <p:strVal val="#ppt_w"/>
                                          </p:val>
                                        </p:tav>
                                      </p:tavLst>
                                    </p:anim>
                                    <p:anim calcmode="lin" valueType="num">
                                      <p:cBhvr additive="repl">
                                        <p:cTn id="360" dur="500" fill="hold"/>
                                        <p:tgtEl>
                                          <p:spTgt spid="223"/>
                                        </p:tgtEl>
                                        <p:attrNameLst>
                                          <p:attrName>ppt_h</p:attrName>
                                        </p:attrNameLst>
                                      </p:cBhvr>
                                      <p:tavLst>
                                        <p:tav tm="0">
                                          <p:val>
                                            <p:fltVal val="0"/>
                                          </p:val>
                                        </p:tav>
                                        <p:tav tm="100000">
                                          <p:val>
                                            <p:strVal val="#ppt_h"/>
                                          </p:val>
                                        </p:tav>
                                      </p:tavLst>
                                    </p:anim>
                                  </p:childTnLst>
                                </p:cTn>
                              </p:par>
                              <p:par>
                                <p:cTn id="361" nodeType="withEffect" fill="hold" presetClass="emph" presetID="8" repeatCount="indefinite">
                                  <p:stCondLst>
                                    <p:cond delay="700"/>
                                  </p:stCondLst>
                                  <p:childTnLst>
                                    <p:animRot by="2400000">
                                      <p:cBhvr>
                                        <p:cTn id="362" dur="500" fill="hold"/>
                                        <p:tgtEl>
                                          <p:spTgt spid="223"/>
                                        </p:tgtEl>
                                        <p:attrNameLst>
                                          <p:attrName>r</p:attrName>
                                        </p:attrNameLst>
                                      </p:cBhvr>
                                    </p:animRot>
                                  </p:childTnLst>
                                </p:cTn>
                              </p:par>
                              <p:par>
                                <p:cTn id="363" nodeType="withEffect" fill="remove" presetClass="emph" presetID="26" repeatCount="2000">
                                  <p:stCondLst>
                                    <p:cond delay="1100"/>
                                  </p:stCondLst>
                                  <p:childTnLst>
                                    <p:animEffect filter="fade" transition="out">
                                      <p:cBhvr additive="repl">
                                        <p:cTn id="364" dur="500"/>
                                        <p:tgtEl>
                                          <p:spTgt spid="223"/>
                                        </p:tgtEl>
                                      </p:cBhvr>
                                    </p:animEffect>
                                    <p:animScale>
                                      <p:cBhvr>
                                        <p:cTn id="365" dur="250" autoRev="1" fill="hold"/>
                                        <p:tgtEl>
                                          <p:spTgt spid="223"/>
                                        </p:tgtEl>
                                      </p:cBhvr>
                                      <p:by x="105000" y="105000"/>
                                    </p:animScale>
                                  </p:childTnLst>
                                </p:cTn>
                              </p:par>
                              <p:par>
                                <p:cTn id="366" nodeType="withEffect" fill="hold" presetClass="entr" presetID="53" presetSubtype="16">
                                  <p:stCondLst>
                                    <p:cond delay="1100"/>
                                  </p:stCondLst>
                                  <p:childTnLst>
                                    <p:set>
                                      <p:cBhvr>
                                        <p:cTn id="367" dur="1" fill="hold">
                                          <p:stCondLst>
                                            <p:cond delay="0"/>
                                          </p:stCondLst>
                                        </p:cTn>
                                        <p:tgtEl>
                                          <p:spTgt spid="224"/>
                                        </p:tgtEl>
                                        <p:attrNameLst>
                                          <p:attrName>style.visibility</p:attrName>
                                        </p:attrNameLst>
                                      </p:cBhvr>
                                      <p:to>
                                        <p:strVal val="visible"/>
                                      </p:to>
                                    </p:set>
                                    <p:anim calcmode="lin" valueType="num">
                                      <p:cBhvr additive="repl">
                                        <p:cTn id="368" dur="300" fill="hold"/>
                                        <p:tgtEl>
                                          <p:spTgt spid="224"/>
                                        </p:tgtEl>
                                        <p:attrNameLst>
                                          <p:attrName>ppt_w</p:attrName>
                                        </p:attrNameLst>
                                      </p:cBhvr>
                                      <p:tavLst>
                                        <p:tav tm="0">
                                          <p:val>
                                            <p:fltVal val="0"/>
                                          </p:val>
                                        </p:tav>
                                        <p:tav tm="100000">
                                          <p:val>
                                            <p:strVal val="#ppt_w"/>
                                          </p:val>
                                        </p:tav>
                                      </p:tavLst>
                                    </p:anim>
                                    <p:anim calcmode="lin" valueType="num">
                                      <p:cBhvr additive="repl">
                                        <p:cTn id="369" dur="300" fill="hold"/>
                                        <p:tgtEl>
                                          <p:spTgt spid="224"/>
                                        </p:tgtEl>
                                        <p:attrNameLst>
                                          <p:attrName>ppt_h</p:attrName>
                                        </p:attrNameLst>
                                      </p:cBhvr>
                                      <p:tavLst>
                                        <p:tav tm="0">
                                          <p:val>
                                            <p:fltVal val="0"/>
                                          </p:val>
                                        </p:tav>
                                        <p:tav tm="100000">
                                          <p:val>
                                            <p:strVal val="#ppt_h"/>
                                          </p:val>
                                        </p:tav>
                                      </p:tavLst>
                                    </p:anim>
                                    <p:animEffect filter="fade" transition="in">
                                      <p:cBhvr additive="repl">
                                        <p:cTn id="370" dur="300"/>
                                        <p:tgtEl>
                                          <p:spTgt spid="224"/>
                                        </p:tgtEl>
                                      </p:cBhvr>
                                    </p:animEffect>
                                  </p:childTnLst>
                                </p:cTn>
                              </p:par>
                              <p:par>
                                <p:cTn id="371" nodeType="withEffect" fill="hold" presetClass="entr" presetID="23" presetSubtype="16">
                                  <p:stCondLst>
                                    <p:cond delay="1400"/>
                                  </p:stCondLst>
                                  <p:childTnLst>
                                    <p:set>
                                      <p:cBhvr>
                                        <p:cTn id="372" dur="1" fill="hold">
                                          <p:stCondLst>
                                            <p:cond delay="0"/>
                                          </p:stCondLst>
                                        </p:cTn>
                                        <p:tgtEl>
                                          <p:spTgt spid="225"/>
                                        </p:tgtEl>
                                        <p:attrNameLst>
                                          <p:attrName>style.visibility</p:attrName>
                                        </p:attrNameLst>
                                      </p:cBhvr>
                                      <p:to>
                                        <p:strVal val="visible"/>
                                      </p:to>
                                    </p:set>
                                    <p:anim calcmode="lin" valueType="num">
                                      <p:cBhvr additive="repl">
                                        <p:cTn id="373" dur="500" fill="hold"/>
                                        <p:tgtEl>
                                          <p:spTgt spid="225"/>
                                        </p:tgtEl>
                                        <p:attrNameLst>
                                          <p:attrName>ppt_w</p:attrName>
                                        </p:attrNameLst>
                                      </p:cBhvr>
                                      <p:tavLst>
                                        <p:tav tm="0">
                                          <p:val>
                                            <p:fltVal val="0"/>
                                          </p:val>
                                        </p:tav>
                                        <p:tav tm="100000">
                                          <p:val>
                                            <p:strVal val="#ppt_w"/>
                                          </p:val>
                                        </p:tav>
                                      </p:tavLst>
                                    </p:anim>
                                    <p:anim calcmode="lin" valueType="num">
                                      <p:cBhvr additive="repl">
                                        <p:cTn id="374" dur="500" fill="hold"/>
                                        <p:tgtEl>
                                          <p:spTgt spid="225"/>
                                        </p:tgtEl>
                                        <p:attrNameLst>
                                          <p:attrName>ppt_h</p:attrName>
                                        </p:attrNameLst>
                                      </p:cBhvr>
                                      <p:tavLst>
                                        <p:tav tm="0">
                                          <p:val>
                                            <p:fltVal val="0"/>
                                          </p:val>
                                        </p:tav>
                                        <p:tav tm="100000">
                                          <p:val>
                                            <p:strVal val="#ppt_h"/>
                                          </p:val>
                                        </p:tav>
                                      </p:tavLst>
                                    </p:anim>
                                  </p:childTnLst>
                                </p:cTn>
                              </p:par>
                              <p:par>
                                <p:cTn id="375" nodeType="withEffect" fill="hold" presetClass="entr" presetID="22" presetSubtype="8">
                                  <p:stCondLst>
                                    <p:cond delay="1400"/>
                                  </p:stCondLst>
                                  <p:childTnLst>
                                    <p:set>
                                      <p:cBhvr>
                                        <p:cTn id="376" dur="1" fill="hold">
                                          <p:stCondLst>
                                            <p:cond delay="0"/>
                                          </p:stCondLst>
                                        </p:cTn>
                                        <p:tgtEl>
                                          <p:spTgt spid="229"/>
                                        </p:tgtEl>
                                        <p:attrNameLst>
                                          <p:attrName>style.visibility</p:attrName>
                                        </p:attrNameLst>
                                      </p:cBhvr>
                                      <p:to>
                                        <p:strVal val="visible"/>
                                      </p:to>
                                    </p:set>
                                    <p:animEffect filter="wipe(left)" transition="in">
                                      <p:cBhvr additive="repl">
                                        <p:cTn id="377" dur="500"/>
                                        <p:tgtEl>
                                          <p:spTgt spid="229"/>
                                        </p:tgtEl>
                                      </p:cBhvr>
                                    </p:animEffect>
                                  </p:childTnLst>
                                </p:cTn>
                              </p:par>
                              <p:par>
                                <p:cTn id="378" nodeType="withEffect" fill="hold" presetClass="emph" presetID="8" repeatCount="indefinite">
                                  <p:stCondLst>
                                    <p:cond delay="1500"/>
                                  </p:stCondLst>
                                  <p:childTnLst>
                                    <p:animRot by="2400000">
                                      <p:cBhvr>
                                        <p:cTn id="379" dur="500" fill="hold"/>
                                        <p:tgtEl>
                                          <p:spTgt spid="225"/>
                                        </p:tgtEl>
                                        <p:attrNameLst>
                                          <p:attrName>r</p:attrName>
                                        </p:attrNameLst>
                                      </p:cBhvr>
                                    </p:animRot>
                                  </p:childTnLst>
                                </p:cTn>
                              </p:par>
                              <p:par>
                                <p:cTn id="380" nodeType="withEffect" fill="remove" presetClass="emph" presetID="26" repeatCount="2000">
                                  <p:stCondLst>
                                    <p:cond delay="1800"/>
                                  </p:stCondLst>
                                  <p:childTnLst>
                                    <p:animEffect filter="fade" transition="out">
                                      <p:cBhvr additive="repl">
                                        <p:cTn id="381" dur="500"/>
                                        <p:tgtEl>
                                          <p:spTgt spid="225"/>
                                        </p:tgtEl>
                                      </p:cBhvr>
                                    </p:animEffect>
                                    <p:animScale>
                                      <p:cBhvr>
                                        <p:cTn id="382" dur="250" autoRev="1" fill="hold"/>
                                        <p:tgtEl>
                                          <p:spTgt spid="225"/>
                                        </p:tgtEl>
                                      </p:cBhvr>
                                      <p:by x="105000" y="105000"/>
                                    </p:animScale>
                                  </p:childTnLst>
                                </p:cTn>
                              </p:par>
                              <p:par>
                                <p:cTn id="383" nodeType="withEffect" fill="hold" presetClass="entr" presetID="53" presetSubtype="16">
                                  <p:stCondLst>
                                    <p:cond delay="1800"/>
                                  </p:stCondLst>
                                  <p:childTnLst>
                                    <p:set>
                                      <p:cBhvr>
                                        <p:cTn id="384" dur="1" fill="hold">
                                          <p:stCondLst>
                                            <p:cond delay="0"/>
                                          </p:stCondLst>
                                        </p:cTn>
                                        <p:tgtEl>
                                          <p:spTgt spid="226"/>
                                        </p:tgtEl>
                                        <p:attrNameLst>
                                          <p:attrName>style.visibility</p:attrName>
                                        </p:attrNameLst>
                                      </p:cBhvr>
                                      <p:to>
                                        <p:strVal val="visible"/>
                                      </p:to>
                                    </p:set>
                                    <p:anim calcmode="lin" valueType="num">
                                      <p:cBhvr additive="repl">
                                        <p:cTn id="385" dur="300" fill="hold"/>
                                        <p:tgtEl>
                                          <p:spTgt spid="226"/>
                                        </p:tgtEl>
                                        <p:attrNameLst>
                                          <p:attrName>ppt_w</p:attrName>
                                        </p:attrNameLst>
                                      </p:cBhvr>
                                      <p:tavLst>
                                        <p:tav tm="0">
                                          <p:val>
                                            <p:fltVal val="0"/>
                                          </p:val>
                                        </p:tav>
                                        <p:tav tm="100000">
                                          <p:val>
                                            <p:strVal val="#ppt_w"/>
                                          </p:val>
                                        </p:tav>
                                      </p:tavLst>
                                    </p:anim>
                                    <p:anim calcmode="lin" valueType="num">
                                      <p:cBhvr additive="repl">
                                        <p:cTn id="386" dur="300" fill="hold"/>
                                        <p:tgtEl>
                                          <p:spTgt spid="226"/>
                                        </p:tgtEl>
                                        <p:attrNameLst>
                                          <p:attrName>ppt_h</p:attrName>
                                        </p:attrNameLst>
                                      </p:cBhvr>
                                      <p:tavLst>
                                        <p:tav tm="0">
                                          <p:val>
                                            <p:fltVal val="0"/>
                                          </p:val>
                                        </p:tav>
                                        <p:tav tm="100000">
                                          <p:val>
                                            <p:strVal val="#ppt_h"/>
                                          </p:val>
                                        </p:tav>
                                      </p:tavLst>
                                    </p:anim>
                                    <p:animEffect filter="fade" transition="in">
                                      <p:cBhvr additive="repl">
                                        <p:cTn id="387" dur="300"/>
                                        <p:tgtEl>
                                          <p:spTgt spid="226"/>
                                        </p:tgtEl>
                                      </p:cBhvr>
                                    </p:animEffect>
                                  </p:childTnLst>
                                </p:cTn>
                              </p:par>
                              <p:par>
                                <p:cTn id="388" nodeType="withEffect" fill="hold" presetClass="entr" presetID="23" presetSubtype="16">
                                  <p:stCondLst>
                                    <p:cond delay="1900"/>
                                  </p:stCondLst>
                                  <p:childTnLst>
                                    <p:set>
                                      <p:cBhvr>
                                        <p:cTn id="389" dur="1" fill="hold">
                                          <p:stCondLst>
                                            <p:cond delay="0"/>
                                          </p:stCondLst>
                                        </p:cTn>
                                        <p:tgtEl>
                                          <p:spTgt spid="227"/>
                                        </p:tgtEl>
                                        <p:attrNameLst>
                                          <p:attrName>style.visibility</p:attrName>
                                        </p:attrNameLst>
                                      </p:cBhvr>
                                      <p:to>
                                        <p:strVal val="visible"/>
                                      </p:to>
                                    </p:set>
                                    <p:anim calcmode="lin" valueType="num">
                                      <p:cBhvr additive="repl">
                                        <p:cTn id="390" dur="500" fill="hold"/>
                                        <p:tgtEl>
                                          <p:spTgt spid="227"/>
                                        </p:tgtEl>
                                        <p:attrNameLst>
                                          <p:attrName>ppt_w</p:attrName>
                                        </p:attrNameLst>
                                      </p:cBhvr>
                                      <p:tavLst>
                                        <p:tav tm="0">
                                          <p:val>
                                            <p:fltVal val="0"/>
                                          </p:val>
                                        </p:tav>
                                        <p:tav tm="100000">
                                          <p:val>
                                            <p:strVal val="#ppt_w"/>
                                          </p:val>
                                        </p:tav>
                                      </p:tavLst>
                                    </p:anim>
                                    <p:anim calcmode="lin" valueType="num">
                                      <p:cBhvr additive="repl">
                                        <p:cTn id="391" dur="500" fill="hold"/>
                                        <p:tgtEl>
                                          <p:spTgt spid="227"/>
                                        </p:tgtEl>
                                        <p:attrNameLst>
                                          <p:attrName>ppt_h</p:attrName>
                                        </p:attrNameLst>
                                      </p:cBhvr>
                                      <p:tavLst>
                                        <p:tav tm="0">
                                          <p:val>
                                            <p:fltVal val="0"/>
                                          </p:val>
                                        </p:tav>
                                        <p:tav tm="100000">
                                          <p:val>
                                            <p:strVal val="#ppt_h"/>
                                          </p:val>
                                        </p:tav>
                                      </p:tavLst>
                                    </p:anim>
                                  </p:childTnLst>
                                </p:cTn>
                              </p:par>
                              <p:par>
                                <p:cTn id="392" nodeType="withEffect" fill="hold" presetClass="entr" presetID="22" presetSubtype="8">
                                  <p:stCondLst>
                                    <p:cond delay="1900"/>
                                  </p:stCondLst>
                                  <p:childTnLst>
                                    <p:set>
                                      <p:cBhvr>
                                        <p:cTn id="393" dur="1" fill="hold">
                                          <p:stCondLst>
                                            <p:cond delay="0"/>
                                          </p:stCondLst>
                                        </p:cTn>
                                        <p:tgtEl>
                                          <p:spTgt spid="230"/>
                                        </p:tgtEl>
                                        <p:attrNameLst>
                                          <p:attrName>style.visibility</p:attrName>
                                        </p:attrNameLst>
                                      </p:cBhvr>
                                      <p:to>
                                        <p:strVal val="visible"/>
                                      </p:to>
                                    </p:set>
                                    <p:animEffect filter="wipe(left)" transition="in">
                                      <p:cBhvr additive="repl">
                                        <p:cTn id="394" dur="500"/>
                                        <p:tgtEl>
                                          <p:spTgt spid="230"/>
                                        </p:tgtEl>
                                      </p:cBhvr>
                                    </p:animEffect>
                                  </p:childTnLst>
                                </p:cTn>
                              </p:par>
                              <p:par>
                                <p:cTn id="395" nodeType="withEffect" fill="hold" presetClass="emph" presetID="8" repeatCount="indefinite">
                                  <p:stCondLst>
                                    <p:cond delay="2100"/>
                                  </p:stCondLst>
                                  <p:childTnLst>
                                    <p:animRot by="2400000">
                                      <p:cBhvr>
                                        <p:cTn id="396" dur="500" fill="hold"/>
                                        <p:tgtEl>
                                          <p:spTgt spid="227"/>
                                        </p:tgtEl>
                                        <p:attrNameLst>
                                          <p:attrName>r</p:attrName>
                                        </p:attrNameLst>
                                      </p:cBhvr>
                                    </p:animRot>
                                  </p:childTnLst>
                                </p:cTn>
                              </p:par>
                              <p:par>
                                <p:cTn id="397" nodeType="withEffect" fill="remove" presetClass="emph" presetID="26" repeatCount="2000">
                                  <p:stCondLst>
                                    <p:cond delay="2200"/>
                                  </p:stCondLst>
                                  <p:childTnLst>
                                    <p:animEffect filter="fade" transition="out">
                                      <p:cBhvr additive="repl">
                                        <p:cTn id="398" dur="500"/>
                                        <p:tgtEl>
                                          <p:spTgt spid="227"/>
                                        </p:tgtEl>
                                      </p:cBhvr>
                                    </p:animEffect>
                                    <p:animScale>
                                      <p:cBhvr>
                                        <p:cTn id="399" dur="250" autoRev="1" fill="hold"/>
                                        <p:tgtEl>
                                          <p:spTgt spid="227"/>
                                        </p:tgtEl>
                                      </p:cBhvr>
                                      <p:by x="105000" y="105000"/>
                                    </p:animScale>
                                  </p:childTnLst>
                                </p:cTn>
                              </p:par>
                              <p:par>
                                <p:cTn id="400" nodeType="withEffect" fill="hold" presetClass="entr" presetID="53" presetSubtype="16">
                                  <p:stCondLst>
                                    <p:cond delay="2400"/>
                                  </p:stCondLst>
                                  <p:childTnLst>
                                    <p:set>
                                      <p:cBhvr>
                                        <p:cTn id="401" dur="1" fill="hold">
                                          <p:stCondLst>
                                            <p:cond delay="0"/>
                                          </p:stCondLst>
                                        </p:cTn>
                                        <p:tgtEl>
                                          <p:spTgt spid="228"/>
                                        </p:tgtEl>
                                        <p:attrNameLst>
                                          <p:attrName>style.visibility</p:attrName>
                                        </p:attrNameLst>
                                      </p:cBhvr>
                                      <p:to>
                                        <p:strVal val="visible"/>
                                      </p:to>
                                    </p:set>
                                    <p:anim calcmode="lin" valueType="num">
                                      <p:cBhvr additive="repl">
                                        <p:cTn id="402" dur="300" fill="hold"/>
                                        <p:tgtEl>
                                          <p:spTgt spid="228"/>
                                        </p:tgtEl>
                                        <p:attrNameLst>
                                          <p:attrName>ppt_w</p:attrName>
                                        </p:attrNameLst>
                                      </p:cBhvr>
                                      <p:tavLst>
                                        <p:tav tm="0">
                                          <p:val>
                                            <p:fltVal val="0"/>
                                          </p:val>
                                        </p:tav>
                                        <p:tav tm="100000">
                                          <p:val>
                                            <p:strVal val="#ppt_w"/>
                                          </p:val>
                                        </p:tav>
                                      </p:tavLst>
                                    </p:anim>
                                    <p:anim calcmode="lin" valueType="num">
                                      <p:cBhvr additive="repl">
                                        <p:cTn id="403" dur="300" fill="hold"/>
                                        <p:tgtEl>
                                          <p:spTgt spid="228"/>
                                        </p:tgtEl>
                                        <p:attrNameLst>
                                          <p:attrName>ppt_h</p:attrName>
                                        </p:attrNameLst>
                                      </p:cBhvr>
                                      <p:tavLst>
                                        <p:tav tm="0">
                                          <p:val>
                                            <p:fltVal val="0"/>
                                          </p:val>
                                        </p:tav>
                                        <p:tav tm="100000">
                                          <p:val>
                                            <p:strVal val="#ppt_h"/>
                                          </p:val>
                                        </p:tav>
                                      </p:tavLst>
                                    </p:anim>
                                    <p:animEffect filter="fade" transition="in">
                                      <p:cBhvr additive="repl">
                                        <p:cTn id="404" dur="300"/>
                                        <p:tgtEl>
                                          <p:spTgt spid="228"/>
                                        </p:tgtEl>
                                      </p:cBhvr>
                                    </p:animEffect>
                                  </p:childTnLst>
                                </p:cTn>
                              </p:par>
                              <p:par>
                                <p:cTn id="405" nodeType="withEffect" fill="hold" presetClass="entr" presetID="22" presetSubtype="1">
                                  <p:stCondLst>
                                    <p:cond delay="2400"/>
                                  </p:stCondLst>
                                  <p:childTnLst>
                                    <p:set>
                                      <p:cBhvr>
                                        <p:cTn id="406" dur="1" fill="hold">
                                          <p:stCondLst>
                                            <p:cond delay="0"/>
                                          </p:stCondLst>
                                        </p:cTn>
                                        <p:tgtEl>
                                          <p:spTgt spid="231"/>
                                        </p:tgtEl>
                                        <p:attrNameLst>
                                          <p:attrName>style.visibility</p:attrName>
                                        </p:attrNameLst>
                                      </p:cBhvr>
                                      <p:to>
                                        <p:strVal val="visible"/>
                                      </p:to>
                                    </p:set>
                                    <p:animEffect filter="wipe(up)" transition="in">
                                      <p:cBhvr additive="repl">
                                        <p:cTn id="407" dur="500"/>
                                        <p:tgtEl>
                                          <p:spTgt spid="231"/>
                                        </p:tgtEl>
                                      </p:cBhvr>
                                    </p:animEffect>
                                  </p:childTnLst>
                                </p:cTn>
                              </p:par>
                              <p:par>
                                <p:cTn id="408" nodeType="withEffect" fill="hold" presetClass="entr" presetID="22" presetSubtype="8">
                                  <p:stCondLst>
                                    <p:cond delay="2700"/>
                                  </p:stCondLst>
                                  <p:childTnLst>
                                    <p:set>
                                      <p:cBhvr>
                                        <p:cTn id="409" dur="1" fill="hold">
                                          <p:stCondLst>
                                            <p:cond delay="0"/>
                                          </p:stCondLst>
                                        </p:cTn>
                                        <p:tgtEl>
                                          <p:spTgt spid="201"/>
                                        </p:tgtEl>
                                        <p:attrNameLst>
                                          <p:attrName>style.visibility</p:attrName>
                                        </p:attrNameLst>
                                      </p:cBhvr>
                                      <p:to>
                                        <p:strVal val="visible"/>
                                      </p:to>
                                    </p:set>
                                    <p:animEffect filter="wipe(left)" transition="in">
                                      <p:cBhvr additive="repl">
                                        <p:cTn id="410" dur="500"/>
                                        <p:tgtEl>
                                          <p:spTgt spid="201"/>
                                        </p:tgtEl>
                                      </p:cBhvr>
                                    </p:animEffect>
                                  </p:childTnLst>
                                </p:cTn>
                              </p:par>
                              <p:par>
                                <p:cTn id="411" nodeType="withEffect" fill="hold" presetClass="entr" presetID="2" presetSubtype="4">
                                  <p:stCondLst>
                                    <p:cond delay="2300"/>
                                  </p:stCondLst>
                                  <p:childTnLst>
                                    <p:set>
                                      <p:cBhvr>
                                        <p:cTn id="412" dur="1" fill="hold">
                                          <p:stCondLst>
                                            <p:cond delay="0"/>
                                          </p:stCondLst>
                                        </p:cTn>
                                        <p:tgtEl>
                                          <p:spTgt spid="202"/>
                                        </p:tgtEl>
                                        <p:attrNameLst>
                                          <p:attrName>style.visibility</p:attrName>
                                        </p:attrNameLst>
                                      </p:cBhvr>
                                      <p:to>
                                        <p:strVal val="visible"/>
                                      </p:to>
                                    </p:set>
                                    <p:anim calcmode="lin" valueType="num">
                                      <p:cBhvr additive="repl">
                                        <p:cTn id="413" dur="900" fill="hold"/>
                                        <p:tgtEl>
                                          <p:spTgt spid="202"/>
                                        </p:tgtEl>
                                        <p:attrNameLst>
                                          <p:attrName>ppt_x</p:attrName>
                                        </p:attrNameLst>
                                      </p:cBhvr>
                                      <p:tavLst>
                                        <p:tav tm="0">
                                          <p:val>
                                            <p:strVal val="#ppt_x"/>
                                          </p:val>
                                        </p:tav>
                                        <p:tav tm="100000">
                                          <p:val>
                                            <p:strVal val="#ppt_x"/>
                                          </p:val>
                                        </p:tav>
                                      </p:tavLst>
                                    </p:anim>
                                    <p:anim calcmode="lin" valueType="num">
                                      <p:cBhvr additive="repl">
                                        <p:cTn id="414" dur="900" fill="hold"/>
                                        <p:tgtEl>
                                          <p:spTgt spid="202"/>
                                        </p:tgtEl>
                                        <p:attrNameLst>
                                          <p:attrName>ppt_y</p:attrName>
                                        </p:attrNameLst>
                                      </p:cBhvr>
                                      <p:tavLst>
                                        <p:tav tm="0">
                                          <p:val>
                                            <p:strVal val="1+#ppt_h/2"/>
                                          </p:val>
                                        </p:tav>
                                        <p:tav tm="100000">
                                          <p:val>
                                            <p:strVal val="#ppt_y"/>
                                          </p:val>
                                        </p:tav>
                                      </p:tavLst>
                                    </p:anim>
                                  </p:childTnLst>
                                </p:cTn>
                              </p:par>
                              <p:par>
                                <p:cTn id="415" nodeType="withEffect" fill="hold" presetClass="entr" presetID="22" presetSubtype="8">
                                  <p:stCondLst>
                                    <p:cond delay="2900"/>
                                  </p:stCondLst>
                                  <p:childTnLst>
                                    <p:set>
                                      <p:cBhvr>
                                        <p:cTn id="416" dur="1" fill="hold">
                                          <p:stCondLst>
                                            <p:cond delay="0"/>
                                          </p:stCondLst>
                                        </p:cTn>
                                        <p:tgtEl>
                                          <p:spTgt spid="208"/>
                                        </p:tgtEl>
                                        <p:attrNameLst>
                                          <p:attrName>style.visibility</p:attrName>
                                        </p:attrNameLst>
                                      </p:cBhvr>
                                      <p:to>
                                        <p:strVal val="visible"/>
                                      </p:to>
                                    </p:set>
                                    <p:animEffect filter="wipe(left)" transition="in">
                                      <p:cBhvr additive="repl">
                                        <p:cTn id="417" dur="500"/>
                                        <p:tgtEl>
                                          <p:spTgt spid="208"/>
                                        </p:tgtEl>
                                      </p:cBhvr>
                                    </p:animEffect>
                                  </p:childTnLst>
                                </p:cTn>
                              </p:par>
                              <p:par>
                                <p:cTn id="418" nodeType="withEffect" fill="hold" presetClass="entr" presetID="22" presetSubtype="2">
                                  <p:stCondLst>
                                    <p:cond delay="3400"/>
                                  </p:stCondLst>
                                  <p:childTnLst>
                                    <p:set>
                                      <p:cBhvr>
                                        <p:cTn id="419" dur="1" fill="hold">
                                          <p:stCondLst>
                                            <p:cond delay="0"/>
                                          </p:stCondLst>
                                        </p:cTn>
                                        <p:tgtEl>
                                          <p:spTgt spid="211"/>
                                        </p:tgtEl>
                                        <p:attrNameLst>
                                          <p:attrName>style.visibility</p:attrName>
                                        </p:attrNameLst>
                                      </p:cBhvr>
                                      <p:to>
                                        <p:strVal val="visible"/>
                                      </p:to>
                                    </p:set>
                                    <p:animEffect filter="wipe(right)" transition="in">
                                      <p:cBhvr additive="repl">
                                        <p:cTn id="420" dur="500"/>
                                        <p:tgtEl>
                                          <p:spTgt spid="211"/>
                                        </p:tgtEl>
                                      </p:cBhvr>
                                    </p:animEffect>
                                  </p:childTnLst>
                                </p:cTn>
                              </p:par>
                              <p:par>
                                <p:cTn id="421" nodeType="withEffect" fill="hold" presetClass="entr" presetID="53" presetSubtype="16">
                                  <p:stCondLst>
                                    <p:cond delay="3900"/>
                                  </p:stCondLst>
                                  <p:childTnLst>
                                    <p:set>
                                      <p:cBhvr>
                                        <p:cTn id="422" dur="1" fill="hold">
                                          <p:stCondLst>
                                            <p:cond delay="0"/>
                                          </p:stCondLst>
                                        </p:cTn>
                                        <p:tgtEl>
                                          <p:spTgt spid="212"/>
                                        </p:tgtEl>
                                        <p:attrNameLst>
                                          <p:attrName>style.visibility</p:attrName>
                                        </p:attrNameLst>
                                      </p:cBhvr>
                                      <p:to>
                                        <p:strVal val="visible"/>
                                      </p:to>
                                    </p:set>
                                    <p:anim calcmode="lin" valueType="num">
                                      <p:cBhvr additive="repl">
                                        <p:cTn id="423" dur="500" fill="hold"/>
                                        <p:tgtEl>
                                          <p:spTgt spid="212"/>
                                        </p:tgtEl>
                                        <p:attrNameLst>
                                          <p:attrName>ppt_w</p:attrName>
                                        </p:attrNameLst>
                                      </p:cBhvr>
                                      <p:tavLst>
                                        <p:tav tm="0">
                                          <p:val>
                                            <p:fltVal val="0"/>
                                          </p:val>
                                        </p:tav>
                                        <p:tav tm="100000">
                                          <p:val>
                                            <p:strVal val="#ppt_w"/>
                                          </p:val>
                                        </p:tav>
                                      </p:tavLst>
                                    </p:anim>
                                    <p:anim calcmode="lin" valueType="num">
                                      <p:cBhvr additive="repl">
                                        <p:cTn id="424" dur="500" fill="hold"/>
                                        <p:tgtEl>
                                          <p:spTgt spid="212"/>
                                        </p:tgtEl>
                                        <p:attrNameLst>
                                          <p:attrName>ppt_h</p:attrName>
                                        </p:attrNameLst>
                                      </p:cBhvr>
                                      <p:tavLst>
                                        <p:tav tm="0">
                                          <p:val>
                                            <p:fltVal val="0"/>
                                          </p:val>
                                        </p:tav>
                                        <p:tav tm="100000">
                                          <p:val>
                                            <p:strVal val="#ppt_h"/>
                                          </p:val>
                                        </p:tav>
                                      </p:tavLst>
                                    </p:anim>
                                    <p:animEffect filter="fade" transition="in">
                                      <p:cBhvr additive="repl">
                                        <p:cTn id="425" dur="500"/>
                                        <p:tgtEl>
                                          <p:spTgt spid="212"/>
                                        </p:tgtEl>
                                      </p:cBhvr>
                                    </p:animEffect>
                                  </p:childTnLst>
                                </p:cTn>
                              </p:par>
                              <p:par>
                                <p:cTn id="426" nodeType="withEffect" fill="hold" presetClass="entr" presetID="22" presetSubtype="8">
                                  <p:stCondLst>
                                    <p:cond delay="4400"/>
                                  </p:stCondLst>
                                  <p:childTnLst>
                                    <p:set>
                                      <p:cBhvr>
                                        <p:cTn id="427" dur="1" fill="hold">
                                          <p:stCondLst>
                                            <p:cond delay="0"/>
                                          </p:stCondLst>
                                        </p:cTn>
                                        <p:tgtEl>
                                          <p:spTgt spid="213"/>
                                        </p:tgtEl>
                                        <p:attrNameLst>
                                          <p:attrName>style.visibility</p:attrName>
                                        </p:attrNameLst>
                                      </p:cBhvr>
                                      <p:to>
                                        <p:strVal val="visible"/>
                                      </p:to>
                                    </p:set>
                                    <p:animEffect filter="wipe(left)" transition="in">
                                      <p:cBhvr additive="repl">
                                        <p:cTn id="428" dur="500"/>
                                        <p:tgtEl>
                                          <p:spTgt spid="213"/>
                                        </p:tgtEl>
                                      </p:cBhvr>
                                    </p:animEffect>
                                  </p:childTnLst>
                                </p:cTn>
                              </p:par>
                            </p:childTnLst>
                          </p:cTn>
                        </p:par>
                        <p:par>
                          <p:cTn id="429" fill="hold">
                            <p:stCondLst>
                              <p:cond delay="4900"/>
                            </p:stCondLst>
                            <p:childTnLst>
                              <p:par>
                                <p:cTn id="430" nodeType="afterEffect" fill="hold" presetClass="entr" presetID="22" presetSubtype="2">
                                  <p:stCondLst>
                                    <p:cond delay="0"/>
                                  </p:stCondLst>
                                  <p:childTnLst>
                                    <p:set>
                                      <p:cBhvr>
                                        <p:cTn id="431" dur="1" fill="hold">
                                          <p:stCondLst>
                                            <p:cond delay="0"/>
                                          </p:stCondLst>
                                        </p:cTn>
                                        <p:tgtEl>
                                          <p:spTgt spid="216"/>
                                        </p:tgtEl>
                                        <p:attrNameLst>
                                          <p:attrName>style.visibility</p:attrName>
                                        </p:attrNameLst>
                                      </p:cBhvr>
                                      <p:to>
                                        <p:strVal val="visible"/>
                                      </p:to>
                                    </p:set>
                                    <p:animEffect filter="wipe(right)" transition="in">
                                      <p:cBhvr additive="repl">
                                        <p:cTn id="432" dur="500"/>
                                        <p:tgtEl>
                                          <p:spTgt spid="216"/>
                                        </p:tgtEl>
                                      </p:cBhvr>
                                    </p:animEffect>
                                  </p:childTnLst>
                                </p:cTn>
                              </p:par>
                            </p:childTnLst>
                          </p:cTn>
                        </p:par>
                        <p:par>
                          <p:cTn id="433" fill="hold">
                            <p:stCondLst>
                              <p:cond delay="5400"/>
                            </p:stCondLst>
                            <p:childTnLst>
                              <p:par>
                                <p:cTn id="434" nodeType="afterEffect" fill="hold" presetClass="entr" presetID="53" presetSubtype="16">
                                  <p:stCondLst>
                                    <p:cond delay="0"/>
                                  </p:stCondLst>
                                  <p:childTnLst>
                                    <p:set>
                                      <p:cBhvr>
                                        <p:cTn id="435" dur="1" fill="hold">
                                          <p:stCondLst>
                                            <p:cond delay="0"/>
                                          </p:stCondLst>
                                        </p:cTn>
                                        <p:tgtEl>
                                          <p:spTgt spid="217"/>
                                        </p:tgtEl>
                                        <p:attrNameLst>
                                          <p:attrName>style.visibility</p:attrName>
                                        </p:attrNameLst>
                                      </p:cBhvr>
                                      <p:to>
                                        <p:strVal val="visible"/>
                                      </p:to>
                                    </p:set>
                                    <p:anim calcmode="lin" valueType="num">
                                      <p:cBhvr additive="repl">
                                        <p:cTn id="436" dur="500" fill="hold"/>
                                        <p:tgtEl>
                                          <p:spTgt spid="217"/>
                                        </p:tgtEl>
                                        <p:attrNameLst>
                                          <p:attrName>ppt_w</p:attrName>
                                        </p:attrNameLst>
                                      </p:cBhvr>
                                      <p:tavLst>
                                        <p:tav tm="0">
                                          <p:val>
                                            <p:fltVal val="0"/>
                                          </p:val>
                                        </p:tav>
                                        <p:tav tm="100000">
                                          <p:val>
                                            <p:strVal val="#ppt_w"/>
                                          </p:val>
                                        </p:tav>
                                      </p:tavLst>
                                    </p:anim>
                                    <p:anim calcmode="lin" valueType="num">
                                      <p:cBhvr additive="repl">
                                        <p:cTn id="437" dur="500" fill="hold"/>
                                        <p:tgtEl>
                                          <p:spTgt spid="217"/>
                                        </p:tgtEl>
                                        <p:attrNameLst>
                                          <p:attrName>ppt_h</p:attrName>
                                        </p:attrNameLst>
                                      </p:cBhvr>
                                      <p:tavLst>
                                        <p:tav tm="0">
                                          <p:val>
                                            <p:fltVal val="0"/>
                                          </p:val>
                                        </p:tav>
                                        <p:tav tm="100000">
                                          <p:val>
                                            <p:strVal val="#ppt_h"/>
                                          </p:val>
                                        </p:tav>
                                      </p:tavLst>
                                    </p:anim>
                                    <p:animEffect filter="fade" transition="in">
                                      <p:cBhvr additive="repl">
                                        <p:cTn id="438" dur="500"/>
                                        <p:tgtEl>
                                          <p:spTgt spid="217"/>
                                        </p:tgtEl>
                                      </p:cBhvr>
                                    </p:animEffect>
                                  </p:childTnLst>
                                </p:cTn>
                              </p:par>
                            </p:childTnLst>
                          </p:cTn>
                        </p:par>
                        <p:par>
                          <p:cTn id="439" fill="hold">
                            <p:stCondLst>
                              <p:cond delay="5900"/>
                            </p:stCondLst>
                            <p:childTnLst>
                              <p:par>
                                <p:cTn id="440" nodeType="afterEffect" fill="hold" presetClass="entr" presetID="22" presetSubtype="8">
                                  <p:stCondLst>
                                    <p:cond delay="0"/>
                                  </p:stCondLst>
                                  <p:childTnLst>
                                    <p:set>
                                      <p:cBhvr>
                                        <p:cTn id="441" dur="1" fill="hold">
                                          <p:stCondLst>
                                            <p:cond delay="0"/>
                                          </p:stCondLst>
                                        </p:cTn>
                                        <p:tgtEl>
                                          <p:spTgt spid="218"/>
                                        </p:tgtEl>
                                        <p:attrNameLst>
                                          <p:attrName>style.visibility</p:attrName>
                                        </p:attrNameLst>
                                      </p:cBhvr>
                                      <p:to>
                                        <p:strVal val="visible"/>
                                      </p:to>
                                    </p:set>
                                    <p:animEffect filter="wipe(left)" transition="in">
                                      <p:cBhvr additive="repl">
                                        <p:cTn id="442" dur="500"/>
                                        <p:tgtEl>
                                          <p:spTgt spid="218"/>
                                        </p:tgtEl>
                                      </p:cBhvr>
                                    </p:animEffect>
                                  </p:childTnLst>
                                </p:cTn>
                              </p:par>
                            </p:childTnLst>
                          </p:cTn>
                        </p:par>
                        <p:par>
                          <p:cTn id="443" fill="hold">
                            <p:stCondLst>
                              <p:cond delay="6400"/>
                            </p:stCondLst>
                            <p:childTnLst>
                              <p:par>
                                <p:cTn id="444" nodeType="afterEffect" fill="hold" presetClass="entr" presetID="22" presetSubtype="2">
                                  <p:stCondLst>
                                    <p:cond delay="0"/>
                                  </p:stCondLst>
                                  <p:childTnLst>
                                    <p:set>
                                      <p:cBhvr>
                                        <p:cTn id="445" dur="1" fill="hold">
                                          <p:stCondLst>
                                            <p:cond delay="0"/>
                                          </p:stCondLst>
                                        </p:cTn>
                                        <p:tgtEl>
                                          <p:spTgt spid="221"/>
                                        </p:tgtEl>
                                        <p:attrNameLst>
                                          <p:attrName>style.visibility</p:attrName>
                                        </p:attrNameLst>
                                      </p:cBhvr>
                                      <p:to>
                                        <p:strVal val="visible"/>
                                      </p:to>
                                    </p:set>
                                    <p:animEffect filter="wipe(right)" transition="in">
                                      <p:cBhvr additive="repl">
                                        <p:cTn id="446" dur="500"/>
                                        <p:tgtEl>
                                          <p:spTgt spid="221"/>
                                        </p:tgtEl>
                                      </p:cBhvr>
                                    </p:animEffect>
                                  </p:childTnLst>
                                </p:cTn>
                              </p:par>
                            </p:childTnLst>
                          </p:cTn>
                        </p:par>
                        <p:par>
                          <p:cTn id="447" fill="hold">
                            <p:stCondLst>
                              <p:cond delay="6900"/>
                            </p:stCondLst>
                            <p:childTnLst>
                              <p:par>
                                <p:cTn id="448" nodeType="afterEffect" fill="hold" presetClass="entr" presetID="53" presetSubtype="16">
                                  <p:stCondLst>
                                    <p:cond delay="0"/>
                                  </p:stCondLst>
                                  <p:childTnLst>
                                    <p:set>
                                      <p:cBhvr>
                                        <p:cTn id="449" dur="1" fill="hold">
                                          <p:stCondLst>
                                            <p:cond delay="0"/>
                                          </p:stCondLst>
                                        </p:cTn>
                                        <p:tgtEl>
                                          <p:spTgt spid="222"/>
                                        </p:tgtEl>
                                        <p:attrNameLst>
                                          <p:attrName>style.visibility</p:attrName>
                                        </p:attrNameLst>
                                      </p:cBhvr>
                                      <p:to>
                                        <p:strVal val="visible"/>
                                      </p:to>
                                    </p:set>
                                    <p:anim calcmode="lin" valueType="num">
                                      <p:cBhvr additive="repl">
                                        <p:cTn id="450" dur="500" fill="hold"/>
                                        <p:tgtEl>
                                          <p:spTgt spid="222"/>
                                        </p:tgtEl>
                                        <p:attrNameLst>
                                          <p:attrName>ppt_w</p:attrName>
                                        </p:attrNameLst>
                                      </p:cBhvr>
                                      <p:tavLst>
                                        <p:tav tm="0">
                                          <p:val>
                                            <p:fltVal val="0"/>
                                          </p:val>
                                        </p:tav>
                                        <p:tav tm="100000">
                                          <p:val>
                                            <p:strVal val="#ppt_w"/>
                                          </p:val>
                                        </p:tav>
                                      </p:tavLst>
                                    </p:anim>
                                    <p:anim calcmode="lin" valueType="num">
                                      <p:cBhvr additive="repl">
                                        <p:cTn id="451" dur="500" fill="hold"/>
                                        <p:tgtEl>
                                          <p:spTgt spid="222"/>
                                        </p:tgtEl>
                                        <p:attrNameLst>
                                          <p:attrName>ppt_h</p:attrName>
                                        </p:attrNameLst>
                                      </p:cBhvr>
                                      <p:tavLst>
                                        <p:tav tm="0">
                                          <p:val>
                                            <p:fltVal val="0"/>
                                          </p:val>
                                        </p:tav>
                                        <p:tav tm="100000">
                                          <p:val>
                                            <p:strVal val="#ppt_h"/>
                                          </p:val>
                                        </p:tav>
                                      </p:tavLst>
                                    </p:anim>
                                    <p:animEffect filter="fade" transition="in">
                                      <p:cBhvr additive="repl">
                                        <p:cTn id="452"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图片 10"/>
          <p:cNvSpPr/>
          <p:nvPr/>
        </p:nvSpPr>
        <p:spPr>
          <a:xfrm>
            <a:off x="6357960" y="0"/>
            <a:ext cx="5833800" cy="6857640"/>
          </a:xfrm>
          <a:custGeom>
            <a:avLst/>
            <a:gdLst>
              <a:gd name="textAreaLeft" fmla="*/ 0 w 5833800"/>
              <a:gd name="textAreaRight" fmla="*/ 5834160 w 5833800"/>
              <a:gd name="textAreaTop" fmla="*/ 0 h 6857640"/>
              <a:gd name="textAreaBottom" fmla="*/ 6858000 h 6857640"/>
            </a:gdLst>
            <a:ahLst/>
            <a:rect l="textAreaLeft" t="textAreaTop" r="textAreaRight" b="textAreaBottom"/>
            <a:pathLst>
              <a:path w="5834176" h="6858000">
                <a:moveTo>
                  <a:pt x="5795570" y="0"/>
                </a:moveTo>
                <a:lnTo>
                  <a:pt x="5834176" y="0"/>
                </a:lnTo>
                <a:lnTo>
                  <a:pt x="5834176" y="6858000"/>
                </a:lnTo>
                <a:lnTo>
                  <a:pt x="1400497" y="6858000"/>
                </a:lnTo>
                <a:lnTo>
                  <a:pt x="0" y="1520766"/>
                </a:lnTo>
                <a:close/>
              </a:path>
            </a:pathLst>
          </a:custGeom>
          <a:blipFill rotWithShape="0">
            <a:blip r:embed="rId1"/>
            <a:srcRect/>
            <a:stretch/>
          </a:blipFill>
          <a:ln w="0">
            <a:noFill/>
          </a:ln>
          <a:effectLst>
            <a:innerShdw blurRad="63500" dir="13500000" dist="50800">
              <a:srgbClr val="000000">
                <a:alpha val="50000"/>
              </a:srgbClr>
            </a:inn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233" name="组合 75"/>
          <p:cNvGrpSpPr/>
          <p:nvPr/>
        </p:nvGrpSpPr>
        <p:grpSpPr>
          <a:xfrm>
            <a:off x="-1249200" y="914760"/>
            <a:ext cx="9051120" cy="8065440"/>
            <a:chOff x="-1249200" y="914760"/>
            <a:chExt cx="9051120" cy="8065440"/>
          </a:xfrm>
        </p:grpSpPr>
        <p:sp>
          <p:nvSpPr>
            <p:cNvPr id="234" name="矩形 4"/>
            <p:cNvSpPr/>
            <p:nvPr/>
          </p:nvSpPr>
          <p:spPr>
            <a:xfrm rot="20718000">
              <a:off x="-573480" y="1788120"/>
              <a:ext cx="7699680" cy="6318720"/>
            </a:xfrm>
            <a:prstGeom prst="rect">
              <a:avLst/>
            </a:prstGeom>
            <a:solidFill>
              <a:srgbClr val="ed805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5" name="任意多边形 74"/>
            <p:cNvSpPr/>
            <p:nvPr/>
          </p:nvSpPr>
          <p:spPr>
            <a:xfrm rot="20718000">
              <a:off x="923040" y="1917360"/>
              <a:ext cx="3060000" cy="1216440"/>
            </a:xfrm>
            <a:custGeom>
              <a:avLst/>
              <a:gdLst>
                <a:gd name="textAreaLeft" fmla="*/ 0 w 3060000"/>
                <a:gd name="textAreaRight" fmla="*/ 3060360 w 3060000"/>
                <a:gd name="textAreaTop" fmla="*/ 0 h 1216440"/>
                <a:gd name="textAreaBottom" fmla="*/ 1216800 h 1216440"/>
              </a:gdLst>
              <a:ahLst/>
              <a:rect l="textAreaLeft" t="textAreaTop" r="textAreaRight" b="textAreaBottom"/>
              <a:pathLst>
                <a:path w="3060427" h="1216894">
                  <a:moveTo>
                    <a:pt x="390188" y="328443"/>
                  </a:moveTo>
                  <a:lnTo>
                    <a:pt x="358226" y="450250"/>
                  </a:lnTo>
                  <a:lnTo>
                    <a:pt x="629865" y="521528"/>
                  </a:lnTo>
                  <a:lnTo>
                    <a:pt x="661827" y="399722"/>
                  </a:lnTo>
                  <a:close/>
                  <a:moveTo>
                    <a:pt x="314227" y="235925"/>
                  </a:moveTo>
                  <a:lnTo>
                    <a:pt x="772349" y="356137"/>
                  </a:lnTo>
                  <a:lnTo>
                    <a:pt x="704747" y="613763"/>
                  </a:lnTo>
                  <a:lnTo>
                    <a:pt x="246626" y="493551"/>
                  </a:lnTo>
                  <a:close/>
                  <a:moveTo>
                    <a:pt x="2793403" y="869182"/>
                  </a:moveTo>
                  <a:lnTo>
                    <a:pt x="2769926" y="958650"/>
                  </a:lnTo>
                  <a:lnTo>
                    <a:pt x="2841070" y="977319"/>
                  </a:lnTo>
                  <a:lnTo>
                    <a:pt x="2864547" y="887850"/>
                  </a:lnTo>
                  <a:close/>
                  <a:moveTo>
                    <a:pt x="2643570" y="829866"/>
                  </a:moveTo>
                  <a:lnTo>
                    <a:pt x="2620094" y="919334"/>
                  </a:lnTo>
                  <a:lnTo>
                    <a:pt x="2688004" y="937154"/>
                  </a:lnTo>
                  <a:lnTo>
                    <a:pt x="2711480" y="847685"/>
                  </a:lnTo>
                  <a:close/>
                  <a:moveTo>
                    <a:pt x="2490504" y="789701"/>
                  </a:moveTo>
                  <a:lnTo>
                    <a:pt x="2467028" y="879169"/>
                  </a:lnTo>
                  <a:lnTo>
                    <a:pt x="2538171" y="897837"/>
                  </a:lnTo>
                  <a:lnTo>
                    <a:pt x="2561647" y="808369"/>
                  </a:lnTo>
                  <a:close/>
                  <a:moveTo>
                    <a:pt x="2420162" y="702114"/>
                  </a:moveTo>
                  <a:lnTo>
                    <a:pt x="2968830" y="846085"/>
                  </a:lnTo>
                  <a:lnTo>
                    <a:pt x="2871530" y="1216894"/>
                  </a:lnTo>
                  <a:lnTo>
                    <a:pt x="2784217" y="1193983"/>
                  </a:lnTo>
                  <a:lnTo>
                    <a:pt x="2824665" y="1039839"/>
                  </a:lnTo>
                  <a:lnTo>
                    <a:pt x="2753521" y="1021171"/>
                  </a:lnTo>
                  <a:lnTo>
                    <a:pt x="2720428" y="1147289"/>
                  </a:lnTo>
                  <a:lnTo>
                    <a:pt x="2638505" y="1125792"/>
                  </a:lnTo>
                  <a:lnTo>
                    <a:pt x="2671598" y="999674"/>
                  </a:lnTo>
                  <a:lnTo>
                    <a:pt x="2603688" y="981855"/>
                  </a:lnTo>
                  <a:lnTo>
                    <a:pt x="2570595" y="1107972"/>
                  </a:lnTo>
                  <a:lnTo>
                    <a:pt x="2488672" y="1086476"/>
                  </a:lnTo>
                  <a:lnTo>
                    <a:pt x="2521765" y="960358"/>
                  </a:lnTo>
                  <a:lnTo>
                    <a:pt x="2450622" y="941690"/>
                  </a:lnTo>
                  <a:lnTo>
                    <a:pt x="2409043" y="1100146"/>
                  </a:lnTo>
                  <a:lnTo>
                    <a:pt x="2321730" y="1077235"/>
                  </a:lnTo>
                  <a:close/>
                  <a:moveTo>
                    <a:pt x="183725" y="0"/>
                  </a:moveTo>
                  <a:lnTo>
                    <a:pt x="114979" y="261989"/>
                  </a:lnTo>
                  <a:lnTo>
                    <a:pt x="225478" y="266789"/>
                  </a:lnTo>
                  <a:lnTo>
                    <a:pt x="204830" y="345478"/>
                  </a:lnTo>
                  <a:lnTo>
                    <a:pt x="0" y="340120"/>
                  </a:lnTo>
                  <a:lnTo>
                    <a:pt x="84007" y="19975"/>
                  </a:lnTo>
                  <a:lnTo>
                    <a:pt x="7885" y="0"/>
                  </a:lnTo>
                  <a:close/>
                  <a:moveTo>
                    <a:pt x="2440221" y="511511"/>
                  </a:moveTo>
                  <a:lnTo>
                    <a:pt x="2416836" y="569896"/>
                  </a:lnTo>
                  <a:lnTo>
                    <a:pt x="2798424" y="670025"/>
                  </a:lnTo>
                  <a:lnTo>
                    <a:pt x="2814264" y="609660"/>
                  </a:lnTo>
                  <a:close/>
                  <a:moveTo>
                    <a:pt x="586743" y="22852"/>
                  </a:moveTo>
                  <a:lnTo>
                    <a:pt x="534177" y="126578"/>
                  </a:lnTo>
                  <a:lnTo>
                    <a:pt x="668919" y="161935"/>
                  </a:lnTo>
                  <a:lnTo>
                    <a:pt x="697770" y="51986"/>
                  </a:lnTo>
                  <a:close/>
                  <a:moveTo>
                    <a:pt x="1750015" y="265880"/>
                  </a:moveTo>
                  <a:lnTo>
                    <a:pt x="1807528" y="340884"/>
                  </a:lnTo>
                  <a:lnTo>
                    <a:pt x="1550249" y="522238"/>
                  </a:lnTo>
                  <a:lnTo>
                    <a:pt x="1727284" y="848665"/>
                  </a:lnTo>
                  <a:lnTo>
                    <a:pt x="1637580" y="891952"/>
                  </a:lnTo>
                  <a:lnTo>
                    <a:pt x="1469573" y="579415"/>
                  </a:lnTo>
                  <a:lnTo>
                    <a:pt x="1189672" y="776725"/>
                  </a:lnTo>
                  <a:lnTo>
                    <a:pt x="1126540" y="696790"/>
                  </a:lnTo>
                  <a:lnTo>
                    <a:pt x="1423282" y="492378"/>
                  </a:lnTo>
                  <a:lnTo>
                    <a:pt x="1275664" y="216300"/>
                  </a:lnTo>
                  <a:lnTo>
                    <a:pt x="1361852" y="173243"/>
                  </a:lnTo>
                  <a:lnTo>
                    <a:pt x="1503675" y="436279"/>
                  </a:lnTo>
                  <a:close/>
                  <a:moveTo>
                    <a:pt x="776277" y="0"/>
                  </a:moveTo>
                  <a:lnTo>
                    <a:pt x="807214" y="8118"/>
                  </a:lnTo>
                  <a:lnTo>
                    <a:pt x="760543" y="185977"/>
                  </a:lnTo>
                  <a:lnTo>
                    <a:pt x="903908" y="223596"/>
                  </a:lnTo>
                  <a:lnTo>
                    <a:pt x="886089" y="291506"/>
                  </a:lnTo>
                  <a:lnTo>
                    <a:pt x="240407" y="122078"/>
                  </a:lnTo>
                  <a:lnTo>
                    <a:pt x="258227" y="54169"/>
                  </a:lnTo>
                  <a:lnTo>
                    <a:pt x="444709" y="103102"/>
                  </a:lnTo>
                  <a:lnTo>
                    <a:pt x="498175" y="0"/>
                  </a:lnTo>
                  <a:close/>
                  <a:moveTo>
                    <a:pt x="2625762" y="432309"/>
                  </a:moveTo>
                  <a:lnTo>
                    <a:pt x="2714152" y="455502"/>
                  </a:lnTo>
                  <a:lnTo>
                    <a:pt x="2699444" y="511555"/>
                  </a:lnTo>
                  <a:lnTo>
                    <a:pt x="2921498" y="569822"/>
                  </a:lnTo>
                  <a:lnTo>
                    <a:pt x="2871999" y="758461"/>
                  </a:lnTo>
                  <a:lnTo>
                    <a:pt x="2392319" y="632592"/>
                  </a:lnTo>
                  <a:lnTo>
                    <a:pt x="2232476" y="1035380"/>
                  </a:lnTo>
                  <a:lnTo>
                    <a:pt x="2144086" y="1012186"/>
                  </a:lnTo>
                  <a:lnTo>
                    <a:pt x="2372830" y="425851"/>
                  </a:lnTo>
                  <a:lnTo>
                    <a:pt x="2611054" y="488361"/>
                  </a:lnTo>
                  <a:close/>
                  <a:moveTo>
                    <a:pt x="1562789" y="48537"/>
                  </a:moveTo>
                  <a:lnTo>
                    <a:pt x="1653336" y="72297"/>
                  </a:lnTo>
                  <a:lnTo>
                    <a:pt x="1632971" y="149908"/>
                  </a:lnTo>
                  <a:lnTo>
                    <a:pt x="1978987" y="240703"/>
                  </a:lnTo>
                  <a:lnTo>
                    <a:pt x="1960601" y="310769"/>
                  </a:lnTo>
                  <a:lnTo>
                    <a:pt x="1176945" y="105136"/>
                  </a:lnTo>
                  <a:lnTo>
                    <a:pt x="1195330" y="35071"/>
                  </a:lnTo>
                  <a:lnTo>
                    <a:pt x="1542424" y="126149"/>
                  </a:lnTo>
                  <a:close/>
                  <a:moveTo>
                    <a:pt x="2790263" y="279608"/>
                  </a:moveTo>
                  <a:lnTo>
                    <a:pt x="2875420" y="301953"/>
                  </a:lnTo>
                  <a:lnTo>
                    <a:pt x="2825438" y="369489"/>
                  </a:lnTo>
                  <a:lnTo>
                    <a:pt x="3060427" y="431150"/>
                  </a:lnTo>
                  <a:lnTo>
                    <a:pt x="3044305" y="492592"/>
                  </a:lnTo>
                  <a:lnTo>
                    <a:pt x="2930044" y="462610"/>
                  </a:lnTo>
                  <a:lnTo>
                    <a:pt x="2911376" y="533754"/>
                  </a:lnTo>
                  <a:lnTo>
                    <a:pt x="2826219" y="511408"/>
                  </a:lnTo>
                  <a:lnTo>
                    <a:pt x="2844887" y="440265"/>
                  </a:lnTo>
                  <a:lnTo>
                    <a:pt x="2693977" y="400666"/>
                  </a:lnTo>
                  <a:close/>
                  <a:moveTo>
                    <a:pt x="2378493" y="171559"/>
                  </a:moveTo>
                  <a:lnTo>
                    <a:pt x="2463650" y="193904"/>
                  </a:lnTo>
                  <a:lnTo>
                    <a:pt x="2421214" y="263420"/>
                  </a:lnTo>
                  <a:lnTo>
                    <a:pt x="2656203" y="325081"/>
                  </a:lnTo>
                  <a:lnTo>
                    <a:pt x="2640080" y="386523"/>
                  </a:lnTo>
                  <a:lnTo>
                    <a:pt x="2524742" y="356258"/>
                  </a:lnTo>
                  <a:lnTo>
                    <a:pt x="2506074" y="427402"/>
                  </a:lnTo>
                  <a:lnTo>
                    <a:pt x="2420917" y="405056"/>
                  </a:lnTo>
                  <a:lnTo>
                    <a:pt x="2439585" y="333913"/>
                  </a:lnTo>
                  <a:lnTo>
                    <a:pt x="2290830" y="294880"/>
                  </a:lnTo>
                  <a:close/>
                </a:path>
              </a:pathLst>
            </a:custGeom>
            <a:solidFill>
              <a:srgbClr val="54ee9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36" name="矩形 3"/>
          <p:cNvSpPr/>
          <p:nvPr/>
        </p:nvSpPr>
        <p:spPr>
          <a:xfrm rot="20718000">
            <a:off x="-956880" y="-2332080"/>
            <a:ext cx="13062600" cy="3986280"/>
          </a:xfrm>
          <a:prstGeom prst="rect">
            <a:avLst/>
          </a:prstGeom>
          <a:solidFill>
            <a:srgbClr val="54ee9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7" name="文本框 71"/>
          <p:cNvSpPr/>
          <p:nvPr/>
        </p:nvSpPr>
        <p:spPr>
          <a:xfrm>
            <a:off x="788400" y="1888200"/>
            <a:ext cx="3099960" cy="852120"/>
          </a:xfrm>
          <a:custGeom>
            <a:avLst/>
            <a:gdLst>
              <a:gd name="textAreaLeft" fmla="*/ 0 w 3099960"/>
              <a:gd name="textAreaRight" fmla="*/ 3100320 w 3099960"/>
              <a:gd name="textAreaTop" fmla="*/ 0 h 852120"/>
              <a:gd name="textAreaBottom" fmla="*/ 852480 h 852120"/>
            </a:gdLst>
            <a:ahLst/>
            <a:rect l="textAreaLeft" t="textAreaTop" r="textAreaRight" b="textAreaBottom"/>
            <a:pathLst>
              <a:path w="3100330" h="852535">
                <a:moveTo>
                  <a:pt x="491462" y="656396"/>
                </a:moveTo>
                <a:lnTo>
                  <a:pt x="491462" y="782326"/>
                </a:lnTo>
                <a:lnTo>
                  <a:pt x="772297" y="782326"/>
                </a:lnTo>
                <a:lnTo>
                  <a:pt x="772297" y="656396"/>
                </a:lnTo>
                <a:close/>
                <a:moveTo>
                  <a:pt x="394507" y="586187"/>
                </a:moveTo>
                <a:lnTo>
                  <a:pt x="868137" y="586187"/>
                </a:lnTo>
                <a:lnTo>
                  <a:pt x="868137" y="852535"/>
                </a:lnTo>
                <a:lnTo>
                  <a:pt x="394507" y="852535"/>
                </a:lnTo>
                <a:close/>
                <a:moveTo>
                  <a:pt x="0" y="363303"/>
                </a:moveTo>
                <a:lnTo>
                  <a:pt x="208397" y="363303"/>
                </a:lnTo>
                <a:lnTo>
                  <a:pt x="208397" y="661968"/>
                </a:lnTo>
                <a:lnTo>
                  <a:pt x="316497" y="638565"/>
                </a:lnTo>
                <a:lnTo>
                  <a:pt x="316497" y="719918"/>
                </a:lnTo>
                <a:lnTo>
                  <a:pt x="117015" y="766724"/>
                </a:lnTo>
                <a:lnTo>
                  <a:pt x="117015" y="435740"/>
                </a:lnTo>
                <a:lnTo>
                  <a:pt x="0" y="435740"/>
                </a:lnTo>
                <a:close/>
                <a:moveTo>
                  <a:pt x="604018" y="310925"/>
                </a:moveTo>
                <a:lnTo>
                  <a:pt x="579501" y="424596"/>
                </a:lnTo>
                <a:lnTo>
                  <a:pt x="718804" y="424596"/>
                </a:lnTo>
                <a:lnTo>
                  <a:pt x="718804" y="310925"/>
                </a:lnTo>
                <a:close/>
                <a:moveTo>
                  <a:pt x="1790881" y="250746"/>
                </a:moveTo>
                <a:lnTo>
                  <a:pt x="1865548" y="308696"/>
                </a:lnTo>
                <a:lnTo>
                  <a:pt x="1662722" y="549411"/>
                </a:lnTo>
                <a:lnTo>
                  <a:pt x="1740637" y="632452"/>
                </a:lnTo>
                <a:lnTo>
                  <a:pt x="1632410" y="660851"/>
                </a:lnTo>
                <a:lnTo>
                  <a:pt x="1599200" y="625192"/>
                </a:lnTo>
                <a:lnTo>
                  <a:pt x="1551201" y="682161"/>
                </a:lnTo>
                <a:lnTo>
                  <a:pt x="1382839" y="726339"/>
                </a:lnTo>
                <a:lnTo>
                  <a:pt x="1532335" y="552755"/>
                </a:lnTo>
                <a:lnTo>
                  <a:pt x="1319479" y="323183"/>
                </a:lnTo>
                <a:lnTo>
                  <a:pt x="1391917" y="259661"/>
                </a:lnTo>
                <a:lnTo>
                  <a:pt x="1595857" y="478088"/>
                </a:lnTo>
                <a:close/>
                <a:moveTo>
                  <a:pt x="2680192" y="189452"/>
                </a:moveTo>
                <a:lnTo>
                  <a:pt x="2771575" y="189452"/>
                </a:lnTo>
                <a:lnTo>
                  <a:pt x="2771575" y="247402"/>
                </a:lnTo>
                <a:lnTo>
                  <a:pt x="3001147" y="247402"/>
                </a:lnTo>
                <a:lnTo>
                  <a:pt x="3001147" y="301693"/>
                </a:lnTo>
                <a:lnTo>
                  <a:pt x="2907535" y="326257"/>
                </a:lnTo>
                <a:lnTo>
                  <a:pt x="2907535" y="313153"/>
                </a:lnTo>
                <a:lnTo>
                  <a:pt x="2520829" y="313153"/>
                </a:lnTo>
                <a:lnTo>
                  <a:pt x="2513028" y="375561"/>
                </a:lnTo>
                <a:lnTo>
                  <a:pt x="2719639" y="375561"/>
                </a:lnTo>
                <a:lnTo>
                  <a:pt x="2409630" y="456908"/>
                </a:lnTo>
                <a:lnTo>
                  <a:pt x="2433904" y="247402"/>
                </a:lnTo>
                <a:lnTo>
                  <a:pt x="2680192" y="247402"/>
                </a:lnTo>
                <a:close/>
                <a:moveTo>
                  <a:pt x="117015" y="151562"/>
                </a:moveTo>
                <a:lnTo>
                  <a:pt x="205054" y="151562"/>
                </a:lnTo>
                <a:lnTo>
                  <a:pt x="228457" y="302009"/>
                </a:lnTo>
                <a:lnTo>
                  <a:pt x="141532" y="302009"/>
                </a:lnTo>
                <a:close/>
                <a:moveTo>
                  <a:pt x="1554623" y="88039"/>
                </a:moveTo>
                <a:lnTo>
                  <a:pt x="1648235" y="88039"/>
                </a:lnTo>
                <a:lnTo>
                  <a:pt x="1648235" y="168278"/>
                </a:lnTo>
                <a:lnTo>
                  <a:pt x="2005965" y="168278"/>
                </a:lnTo>
                <a:lnTo>
                  <a:pt x="2005965" y="240716"/>
                </a:lnTo>
                <a:lnTo>
                  <a:pt x="1195778" y="240716"/>
                </a:lnTo>
                <a:lnTo>
                  <a:pt x="1195778" y="168278"/>
                </a:lnTo>
                <a:lnTo>
                  <a:pt x="1554623" y="168278"/>
                </a:lnTo>
                <a:close/>
                <a:moveTo>
                  <a:pt x="344357" y="84696"/>
                </a:moveTo>
                <a:lnTo>
                  <a:pt x="881510" y="84696"/>
                </a:lnTo>
                <a:lnTo>
                  <a:pt x="881510" y="154905"/>
                </a:lnTo>
                <a:lnTo>
                  <a:pt x="638566" y="154905"/>
                </a:lnTo>
                <a:lnTo>
                  <a:pt x="619620" y="240716"/>
                </a:lnTo>
                <a:lnTo>
                  <a:pt x="813530" y="240716"/>
                </a:lnTo>
                <a:lnTo>
                  <a:pt x="813530" y="424596"/>
                </a:lnTo>
                <a:lnTo>
                  <a:pt x="961749" y="424596"/>
                </a:lnTo>
                <a:lnTo>
                  <a:pt x="961749" y="494805"/>
                </a:lnTo>
                <a:lnTo>
                  <a:pt x="294208" y="494805"/>
                </a:lnTo>
                <a:lnTo>
                  <a:pt x="294208" y="424596"/>
                </a:lnTo>
                <a:lnTo>
                  <a:pt x="487004" y="424596"/>
                </a:lnTo>
                <a:lnTo>
                  <a:pt x="512635" y="310925"/>
                </a:lnTo>
                <a:lnTo>
                  <a:pt x="377790" y="310925"/>
                </a:lnTo>
                <a:lnTo>
                  <a:pt x="377790" y="240716"/>
                </a:lnTo>
                <a:lnTo>
                  <a:pt x="529352" y="240716"/>
                </a:lnTo>
                <a:lnTo>
                  <a:pt x="548297" y="154905"/>
                </a:lnTo>
                <a:lnTo>
                  <a:pt x="344357" y="154905"/>
                </a:lnTo>
                <a:close/>
                <a:moveTo>
                  <a:pt x="2800550" y="0"/>
                </a:moveTo>
                <a:lnTo>
                  <a:pt x="2888590" y="0"/>
                </a:lnTo>
                <a:lnTo>
                  <a:pt x="2857386" y="78010"/>
                </a:lnTo>
                <a:lnTo>
                  <a:pt x="3100330" y="78010"/>
                </a:lnTo>
                <a:lnTo>
                  <a:pt x="3100330" y="141532"/>
                </a:lnTo>
                <a:lnTo>
                  <a:pt x="2982202" y="141532"/>
                </a:lnTo>
                <a:lnTo>
                  <a:pt x="2982202" y="215084"/>
                </a:lnTo>
                <a:lnTo>
                  <a:pt x="2894162" y="215084"/>
                </a:lnTo>
                <a:lnTo>
                  <a:pt x="2894162" y="141532"/>
                </a:lnTo>
                <a:lnTo>
                  <a:pt x="2738142" y="141532"/>
                </a:lnTo>
                <a:close/>
                <a:moveTo>
                  <a:pt x="2374840" y="0"/>
                </a:moveTo>
                <a:lnTo>
                  <a:pt x="2462880" y="0"/>
                </a:lnTo>
                <a:lnTo>
                  <a:pt x="2439477" y="78010"/>
                </a:lnTo>
                <a:lnTo>
                  <a:pt x="2682421" y="78010"/>
                </a:lnTo>
                <a:lnTo>
                  <a:pt x="2682421" y="141532"/>
                </a:lnTo>
                <a:lnTo>
                  <a:pt x="2563178" y="141532"/>
                </a:lnTo>
                <a:lnTo>
                  <a:pt x="2563178" y="215084"/>
                </a:lnTo>
                <a:lnTo>
                  <a:pt x="2475138" y="215084"/>
                </a:lnTo>
                <a:lnTo>
                  <a:pt x="2475138" y="141532"/>
                </a:lnTo>
                <a:lnTo>
                  <a:pt x="2321347" y="141532"/>
                </a:lnTo>
                <a:close/>
              </a:path>
            </a:pathLst>
          </a:custGeom>
          <a:solidFill>
            <a:srgbClr val="ee5454"/>
          </a:solidFill>
          <a:ln w="0">
            <a:noFill/>
          </a:ln>
        </p:spPr>
        <p:style>
          <a:lnRef idx="0"/>
          <a:fillRef idx="0"/>
          <a:effectRef idx="0"/>
          <a:fontRef idx="minor"/>
        </p:style>
        <p:txBody>
          <a:bodyPr numCol="1" spcCol="0" horzOverflow="overflow" vertOverflow="overflow" anchor="t">
            <a:noAutofit/>
          </a:bodyPr>
          <a:p>
            <a:pPr>
              <a:lnSpc>
                <a:spcPct val="100000"/>
              </a:lnSpc>
            </a:pPr>
            <a:endParaRPr b="0" lang="en-US" sz="8800" spc="-1" strike="noStrike">
              <a:solidFill>
                <a:srgbClr val="000000"/>
              </a:solidFill>
              <a:latin typeface="方正经黑简体"/>
              <a:ea typeface="方正经黑简体"/>
            </a:endParaRPr>
          </a:p>
        </p:txBody>
      </p:sp>
      <p:grpSp>
        <p:nvGrpSpPr>
          <p:cNvPr id="238" name="组合 12"/>
          <p:cNvGrpSpPr/>
          <p:nvPr/>
        </p:nvGrpSpPr>
        <p:grpSpPr>
          <a:xfrm>
            <a:off x="6474240" y="2002320"/>
            <a:ext cx="794520" cy="1081800"/>
            <a:chOff x="6474240" y="2002320"/>
            <a:chExt cx="794520" cy="1081800"/>
          </a:xfrm>
        </p:grpSpPr>
        <p:sp>
          <p:nvSpPr>
            <p:cNvPr id="239" name="矩形 9"/>
            <p:cNvSpPr/>
            <p:nvPr/>
          </p:nvSpPr>
          <p:spPr>
            <a:xfrm rot="20734800">
              <a:off x="6573960" y="2057400"/>
              <a:ext cx="551520" cy="872640"/>
            </a:xfrm>
            <a:custGeom>
              <a:avLst/>
              <a:gdLst>
                <a:gd name="textAreaLeft" fmla="*/ 0 w 551520"/>
                <a:gd name="textAreaRight" fmla="*/ 551880 w 551520"/>
                <a:gd name="textAreaTop" fmla="*/ 0 h 872640"/>
                <a:gd name="textAreaBottom" fmla="*/ 873000 h 872640"/>
              </a:gdLst>
              <a:ahLst/>
              <a:rect l="textAreaLeft" t="textAreaTop" r="textAreaRight" b="textAreaBottom"/>
              <a:pathLst>
                <a:path w="667126" h="1489372">
                  <a:moveTo>
                    <a:pt x="13083" y="99156"/>
                  </a:moveTo>
                  <a:lnTo>
                    <a:pt x="667126" y="0"/>
                  </a:lnTo>
                  <a:lnTo>
                    <a:pt x="667126" y="1489372"/>
                  </a:lnTo>
                  <a:lnTo>
                    <a:pt x="1" y="1481337"/>
                  </a:lnTo>
                  <a:lnTo>
                    <a:pt x="13083" y="99156"/>
                  </a:lnTo>
                  <a:close/>
                </a:path>
              </a:pathLst>
            </a:custGeom>
            <a:solidFill>
              <a:srgbClr val="f2e7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0" name="直角三角形 14"/>
            <p:cNvSpPr/>
            <p:nvPr/>
          </p:nvSpPr>
          <p:spPr>
            <a:xfrm flipV="1" rot="20734800">
              <a:off x="6724800" y="2905920"/>
              <a:ext cx="538200" cy="113040"/>
            </a:xfrm>
            <a:prstGeom prst="rtTriangle">
              <a:avLst/>
            </a:prstGeom>
            <a:gradFill rotWithShape="0">
              <a:gsLst>
                <a:gs pos="50000">
                  <a:srgbClr val="000000">
                    <a:alpha val="0"/>
                  </a:srgbClr>
                </a:gs>
                <a:gs pos="100000">
                  <a:srgbClr val="000000"/>
                </a:gs>
              </a:gsLst>
              <a:lin ang="15000000"/>
            </a:gradFill>
            <a:ln>
              <a:noFill/>
            </a:ln>
          </p:spPr>
          <p:style>
            <a:lnRef idx="2">
              <a:schemeClr val="accent1">
                <a:shade val="50000"/>
              </a:schemeClr>
            </a:lnRef>
            <a:fillRef idx="1">
              <a:schemeClr val="accent1"/>
            </a:fillRef>
            <a:effectRef idx="0">
              <a:schemeClr val="accent1"/>
            </a:effectRef>
            <a:fontRef idx="minor"/>
          </p:style>
          <p:txBody>
            <a:bodyPr lIns="90000" rIns="90000" tIns="-7200" bIns="-7200" anchor="ctr">
              <a:noAutofit/>
            </a:bodyPr>
            <a:p>
              <a:pPr algn="ctr">
                <a:lnSpc>
                  <a:spcPct val="100000"/>
                </a:lnSpc>
              </a:pPr>
              <a:endParaRPr b="0" lang="en-US" sz="1800" spc="-1" strike="noStrike">
                <a:solidFill>
                  <a:schemeClr val="lt1"/>
                </a:solidFill>
                <a:latin typeface="Calibri"/>
              </a:endParaRPr>
            </a:p>
          </p:txBody>
        </p:sp>
      </p:grpSp>
      <p:sp>
        <p:nvSpPr>
          <p:cNvPr id="241" name="任意多边形 15"/>
          <p:cNvSpPr/>
          <p:nvPr/>
        </p:nvSpPr>
        <p:spPr>
          <a:xfrm rot="20734800">
            <a:off x="51840" y="2874240"/>
            <a:ext cx="7176600" cy="877680"/>
          </a:xfrm>
          <a:custGeom>
            <a:avLst/>
            <a:gdLst>
              <a:gd name="textAreaLeft" fmla="*/ 0 w 7176600"/>
              <a:gd name="textAreaRight" fmla="*/ 7176960 w 7176600"/>
              <a:gd name="textAreaTop" fmla="*/ 0 h 877680"/>
              <a:gd name="textAreaBottom" fmla="*/ 878040 h 877680"/>
            </a:gdLst>
            <a:ahLst/>
            <a:rect l="textAreaLeft" t="textAreaTop" r="textAreaRight" b="textAreaBottom"/>
            <a:pathLst>
              <a:path w="4655302" h="1905000">
                <a:moveTo>
                  <a:pt x="0" y="0"/>
                </a:moveTo>
                <a:lnTo>
                  <a:pt x="1668338" y="0"/>
                </a:lnTo>
                <a:lnTo>
                  <a:pt x="1668339" y="1"/>
                </a:lnTo>
                <a:lnTo>
                  <a:pt x="4655302" y="1"/>
                </a:lnTo>
                <a:lnTo>
                  <a:pt x="4655302" y="1900575"/>
                </a:lnTo>
                <a:lnTo>
                  <a:pt x="1670362" y="1900575"/>
                </a:lnTo>
                <a:lnTo>
                  <a:pt x="1668338" y="1905000"/>
                </a:lnTo>
                <a:lnTo>
                  <a:pt x="0" y="1905000"/>
                </a:lnTo>
                <a:lnTo>
                  <a:pt x="435674" y="952500"/>
                </a:lnTo>
                <a:close/>
              </a:path>
            </a:pathLst>
          </a:custGeom>
          <a:solidFill>
            <a:schemeClr val="accent1"/>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30000"/>
              </a:lnSpc>
            </a:pPr>
            <a:endParaRPr b="0" lang="en-US" sz="2400" spc="-1" strike="noStrike">
              <a:solidFill>
                <a:srgbClr val="000000"/>
              </a:solidFill>
              <a:latin typeface="方正喵呜体"/>
              <a:ea typeface="方正喵呜体"/>
            </a:endParaRPr>
          </a:p>
        </p:txBody>
      </p:sp>
      <p:sp>
        <p:nvSpPr>
          <p:cNvPr id="242" name="矩形 16"/>
          <p:cNvSpPr/>
          <p:nvPr/>
        </p:nvSpPr>
        <p:spPr>
          <a:xfrm rot="20734800">
            <a:off x="1406880" y="2840760"/>
            <a:ext cx="6184080" cy="564840"/>
          </a:xfrm>
          <a:prstGeom prst="rect">
            <a:avLst/>
          </a:prstGeom>
          <a:noFill/>
          <a:ln w="0">
            <a:noFill/>
          </a:ln>
        </p:spPr>
        <p:style>
          <a:lnRef idx="0"/>
          <a:fillRef idx="0"/>
          <a:effectRef idx="0"/>
          <a:fontRef idx="minor"/>
        </p:style>
        <p:txBody>
          <a:bodyPr lIns="90000" rIns="90000" tIns="45000" bIns="45000" anchor="t">
            <a:spAutoFit/>
          </a:bodyPr>
          <a:p>
            <a:pPr algn="just">
              <a:lnSpc>
                <a:spcPct val="130000"/>
              </a:lnSpc>
            </a:pPr>
            <a:r>
              <a:rPr b="0" lang="zh-CN" sz="2400" spc="-1" strike="noStrike">
                <a:solidFill>
                  <a:srgbClr val="0d0d0d"/>
                </a:solidFill>
                <a:latin typeface="方正正纤黑简体"/>
                <a:ea typeface="方正正纤黑简体"/>
              </a:rPr>
              <a:t>语文论述类文章中选</a:t>
            </a:r>
            <a:r>
              <a:rPr b="0" lang="en-US" sz="2400" spc="-1" strike="noStrike">
                <a:solidFill>
                  <a:srgbClr val="0d0d0d"/>
                </a:solidFill>
                <a:latin typeface="方正正纤黑简体"/>
                <a:ea typeface="方正正纤黑简体"/>
              </a:rPr>
              <a:t>a</a:t>
            </a:r>
            <a:r>
              <a:rPr b="0" lang="zh-CN" sz="2400" spc="-1" strike="noStrike">
                <a:solidFill>
                  <a:srgbClr val="0d0d0d"/>
                </a:solidFill>
                <a:latin typeface="方正正纤黑简体"/>
                <a:ea typeface="方正正纤黑简体"/>
              </a:rPr>
              <a:t>的概率极低</a:t>
            </a:r>
            <a:endParaRPr b="0" lang="en-US" sz="2400" spc="-1" strike="noStrike">
              <a:solidFill>
                <a:srgbClr val="000000"/>
              </a:solidFill>
              <a:latin typeface="Arial"/>
            </a:endParaRPr>
          </a:p>
        </p:txBody>
      </p:sp>
      <p:grpSp>
        <p:nvGrpSpPr>
          <p:cNvPr id="243" name="组合 19"/>
          <p:cNvGrpSpPr/>
          <p:nvPr/>
        </p:nvGrpSpPr>
        <p:grpSpPr>
          <a:xfrm>
            <a:off x="6819120" y="3251160"/>
            <a:ext cx="798840" cy="1099440"/>
            <a:chOff x="6819120" y="3251160"/>
            <a:chExt cx="798840" cy="1099440"/>
          </a:xfrm>
        </p:grpSpPr>
        <p:sp>
          <p:nvSpPr>
            <p:cNvPr id="244" name="矩形 9"/>
            <p:cNvSpPr/>
            <p:nvPr/>
          </p:nvSpPr>
          <p:spPr>
            <a:xfrm rot="20734800">
              <a:off x="6921000" y="3305880"/>
              <a:ext cx="551520" cy="889200"/>
            </a:xfrm>
            <a:custGeom>
              <a:avLst/>
              <a:gdLst>
                <a:gd name="textAreaLeft" fmla="*/ 0 w 551520"/>
                <a:gd name="textAreaRight" fmla="*/ 551880 w 551520"/>
                <a:gd name="textAreaTop" fmla="*/ 0 h 889200"/>
                <a:gd name="textAreaBottom" fmla="*/ 889560 h 889200"/>
              </a:gdLst>
              <a:ahLst/>
              <a:rect l="textAreaLeft" t="textAreaTop" r="textAreaRight" b="textAreaBottom"/>
              <a:pathLst>
                <a:path w="667126" h="1489372">
                  <a:moveTo>
                    <a:pt x="13083" y="99156"/>
                  </a:moveTo>
                  <a:lnTo>
                    <a:pt x="667126" y="0"/>
                  </a:lnTo>
                  <a:lnTo>
                    <a:pt x="667126" y="1489372"/>
                  </a:lnTo>
                  <a:lnTo>
                    <a:pt x="1" y="1481337"/>
                  </a:lnTo>
                  <a:lnTo>
                    <a:pt x="13083" y="99156"/>
                  </a:lnTo>
                  <a:close/>
                </a:path>
              </a:pathLst>
            </a:custGeom>
            <a:solidFill>
              <a:srgbClr val="f2e7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5" name="直角三角形 23"/>
            <p:cNvSpPr/>
            <p:nvPr/>
          </p:nvSpPr>
          <p:spPr>
            <a:xfrm flipV="1" rot="20734800">
              <a:off x="7073640" y="4170240"/>
              <a:ext cx="538200" cy="114840"/>
            </a:xfrm>
            <a:prstGeom prst="rtTriangle">
              <a:avLst/>
            </a:prstGeom>
            <a:gradFill rotWithShape="0">
              <a:gsLst>
                <a:gs pos="50000">
                  <a:srgbClr val="000000">
                    <a:alpha val="0"/>
                  </a:srgbClr>
                </a:gs>
                <a:gs pos="100000">
                  <a:srgbClr val="000000"/>
                </a:gs>
              </a:gsLst>
              <a:lin ang="15000000"/>
            </a:gradFill>
            <a:ln>
              <a:noFill/>
            </a:ln>
          </p:spPr>
          <p:style>
            <a:lnRef idx="2">
              <a:schemeClr val="accent1">
                <a:shade val="50000"/>
              </a:schemeClr>
            </a:lnRef>
            <a:fillRef idx="1">
              <a:schemeClr val="accent1"/>
            </a:fillRef>
            <a:effectRef idx="0">
              <a:schemeClr val="accent1"/>
            </a:effectRef>
            <a:fontRef idx="minor"/>
          </p:style>
          <p:txBody>
            <a:bodyPr lIns="90000" rIns="90000" tIns="-6480" bIns="-6480" anchor="ctr">
              <a:noAutofit/>
            </a:bodyPr>
            <a:p>
              <a:pPr algn="ctr">
                <a:lnSpc>
                  <a:spcPct val="100000"/>
                </a:lnSpc>
              </a:pPr>
              <a:endParaRPr b="0" lang="en-US" sz="1800" spc="-1" strike="noStrike">
                <a:solidFill>
                  <a:schemeClr val="lt1"/>
                </a:solidFill>
                <a:latin typeface="Calibri"/>
              </a:endParaRPr>
            </a:p>
          </p:txBody>
        </p:sp>
      </p:grpSp>
      <p:sp>
        <p:nvSpPr>
          <p:cNvPr id="246" name="任意多边形 20"/>
          <p:cNvSpPr/>
          <p:nvPr/>
        </p:nvSpPr>
        <p:spPr>
          <a:xfrm rot="20734800">
            <a:off x="398880" y="4122360"/>
            <a:ext cx="7176600" cy="894240"/>
          </a:xfrm>
          <a:custGeom>
            <a:avLst/>
            <a:gdLst>
              <a:gd name="textAreaLeft" fmla="*/ 0 w 7176600"/>
              <a:gd name="textAreaRight" fmla="*/ 7176960 w 7176600"/>
              <a:gd name="textAreaTop" fmla="*/ 0 h 894240"/>
              <a:gd name="textAreaBottom" fmla="*/ 894600 h 894240"/>
            </a:gdLst>
            <a:ahLst/>
            <a:rect l="textAreaLeft" t="textAreaTop" r="textAreaRight" b="textAreaBottom"/>
            <a:pathLst>
              <a:path w="4655302" h="1905000">
                <a:moveTo>
                  <a:pt x="0" y="0"/>
                </a:moveTo>
                <a:lnTo>
                  <a:pt x="1668338" y="0"/>
                </a:lnTo>
                <a:lnTo>
                  <a:pt x="1668339" y="1"/>
                </a:lnTo>
                <a:lnTo>
                  <a:pt x="4655302" y="1"/>
                </a:lnTo>
                <a:lnTo>
                  <a:pt x="4655302" y="1900575"/>
                </a:lnTo>
                <a:lnTo>
                  <a:pt x="1670362" y="1900575"/>
                </a:lnTo>
                <a:lnTo>
                  <a:pt x="1668338" y="1905000"/>
                </a:lnTo>
                <a:lnTo>
                  <a:pt x="0" y="1905000"/>
                </a:lnTo>
                <a:lnTo>
                  <a:pt x="435674" y="952500"/>
                </a:lnTo>
                <a:close/>
              </a:path>
            </a:pathLst>
          </a:custGeom>
          <a:solidFill>
            <a:schemeClr val="accent1"/>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30000"/>
              </a:lnSpc>
            </a:pPr>
            <a:endParaRPr b="0" lang="en-US" sz="2400" spc="-1" strike="noStrike">
              <a:solidFill>
                <a:srgbClr val="000000"/>
              </a:solidFill>
              <a:latin typeface="方正喵呜体"/>
              <a:ea typeface="方正喵呜体"/>
            </a:endParaRPr>
          </a:p>
        </p:txBody>
      </p:sp>
      <p:sp>
        <p:nvSpPr>
          <p:cNvPr id="247" name="矩形 21"/>
          <p:cNvSpPr/>
          <p:nvPr/>
        </p:nvSpPr>
        <p:spPr>
          <a:xfrm rot="20734800">
            <a:off x="1870560" y="4065120"/>
            <a:ext cx="6184080" cy="564840"/>
          </a:xfrm>
          <a:prstGeom prst="rect">
            <a:avLst/>
          </a:prstGeom>
          <a:noFill/>
          <a:ln w="0">
            <a:noFill/>
          </a:ln>
        </p:spPr>
        <p:style>
          <a:lnRef idx="0"/>
          <a:fillRef idx="0"/>
          <a:effectRef idx="0"/>
          <a:fontRef idx="minor"/>
        </p:style>
        <p:txBody>
          <a:bodyPr lIns="90000" rIns="90000" tIns="45000" bIns="45000" anchor="t">
            <a:spAutoFit/>
          </a:bodyPr>
          <a:p>
            <a:pPr algn="just">
              <a:lnSpc>
                <a:spcPct val="130000"/>
              </a:lnSpc>
            </a:pPr>
            <a:r>
              <a:rPr b="0" lang="zh-CN" sz="2400" spc="-1" strike="noStrike">
                <a:solidFill>
                  <a:srgbClr val="0d0d0d"/>
                </a:solidFill>
                <a:latin typeface="方正正纤黑简体"/>
                <a:ea typeface="方正正纤黑简体"/>
              </a:rPr>
              <a:t>语文病句中时政性言论肯定对</a:t>
            </a:r>
            <a:endParaRPr b="0" lang="en-US" sz="2400" spc="-1" strike="noStrike">
              <a:solidFill>
                <a:srgbClr val="000000"/>
              </a:solidFill>
              <a:latin typeface="Arial"/>
            </a:endParaRPr>
          </a:p>
        </p:txBody>
      </p:sp>
      <p:grpSp>
        <p:nvGrpSpPr>
          <p:cNvPr id="248" name="组合 25"/>
          <p:cNvGrpSpPr/>
          <p:nvPr/>
        </p:nvGrpSpPr>
        <p:grpSpPr>
          <a:xfrm>
            <a:off x="7135920" y="4474080"/>
            <a:ext cx="798120" cy="1096200"/>
            <a:chOff x="7135920" y="4474080"/>
            <a:chExt cx="798120" cy="1096200"/>
          </a:xfrm>
        </p:grpSpPr>
        <p:sp>
          <p:nvSpPr>
            <p:cNvPr id="249" name="矩形 9"/>
            <p:cNvSpPr/>
            <p:nvPr/>
          </p:nvSpPr>
          <p:spPr>
            <a:xfrm rot="20734800">
              <a:off x="7237440" y="4528800"/>
              <a:ext cx="551520" cy="885960"/>
            </a:xfrm>
            <a:custGeom>
              <a:avLst/>
              <a:gdLst>
                <a:gd name="textAreaLeft" fmla="*/ 0 w 551520"/>
                <a:gd name="textAreaRight" fmla="*/ 551880 w 551520"/>
                <a:gd name="textAreaTop" fmla="*/ 0 h 885960"/>
                <a:gd name="textAreaBottom" fmla="*/ 886320 h 885960"/>
              </a:gdLst>
              <a:ahLst/>
              <a:rect l="textAreaLeft" t="textAreaTop" r="textAreaRight" b="textAreaBottom"/>
              <a:pathLst>
                <a:path w="667126" h="1489372">
                  <a:moveTo>
                    <a:pt x="13083" y="99156"/>
                  </a:moveTo>
                  <a:lnTo>
                    <a:pt x="667126" y="0"/>
                  </a:lnTo>
                  <a:lnTo>
                    <a:pt x="667126" y="1489372"/>
                  </a:lnTo>
                  <a:lnTo>
                    <a:pt x="1" y="1481337"/>
                  </a:lnTo>
                  <a:lnTo>
                    <a:pt x="13083" y="99156"/>
                  </a:lnTo>
                  <a:close/>
                </a:path>
              </a:pathLst>
            </a:custGeom>
            <a:solidFill>
              <a:srgbClr val="f2e7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0" name="直角三角形 29"/>
            <p:cNvSpPr/>
            <p:nvPr/>
          </p:nvSpPr>
          <p:spPr>
            <a:xfrm flipV="1" rot="20734800">
              <a:off x="7389720" y="5390640"/>
              <a:ext cx="538200" cy="114480"/>
            </a:xfrm>
            <a:prstGeom prst="rtTriangle">
              <a:avLst/>
            </a:prstGeom>
            <a:gradFill rotWithShape="0">
              <a:gsLst>
                <a:gs pos="50000">
                  <a:srgbClr val="000000">
                    <a:alpha val="0"/>
                  </a:srgbClr>
                </a:gs>
                <a:gs pos="100000">
                  <a:srgbClr val="000000"/>
                </a:gs>
              </a:gsLst>
              <a:lin ang="15000000"/>
            </a:gradFill>
            <a:ln>
              <a:noFill/>
            </a:ln>
          </p:spPr>
          <p:style>
            <a:lnRef idx="2">
              <a:schemeClr val="accent1">
                <a:shade val="50000"/>
              </a:schemeClr>
            </a:lnRef>
            <a:fillRef idx="1">
              <a:schemeClr val="accent1"/>
            </a:fillRef>
            <a:effectRef idx="0">
              <a:schemeClr val="accent1"/>
            </a:effectRef>
            <a:fontRef idx="minor"/>
          </p:style>
          <p:txBody>
            <a:bodyPr lIns="90000" rIns="90000" tIns="-6840" bIns="-6840" anchor="ctr">
              <a:noAutofit/>
            </a:bodyPr>
            <a:p>
              <a:pPr algn="ctr">
                <a:lnSpc>
                  <a:spcPct val="100000"/>
                </a:lnSpc>
              </a:pPr>
              <a:endParaRPr b="0" lang="en-US" sz="1800" spc="-1" strike="noStrike">
                <a:solidFill>
                  <a:schemeClr val="lt1"/>
                </a:solidFill>
                <a:latin typeface="Calibri"/>
              </a:endParaRPr>
            </a:p>
          </p:txBody>
        </p:sp>
      </p:grpSp>
      <p:sp>
        <p:nvSpPr>
          <p:cNvPr id="251" name="任意多边形 26"/>
          <p:cNvSpPr/>
          <p:nvPr/>
        </p:nvSpPr>
        <p:spPr>
          <a:xfrm rot="20734800">
            <a:off x="715320" y="5345280"/>
            <a:ext cx="7176600" cy="891000"/>
          </a:xfrm>
          <a:custGeom>
            <a:avLst/>
            <a:gdLst>
              <a:gd name="textAreaLeft" fmla="*/ 0 w 7176600"/>
              <a:gd name="textAreaRight" fmla="*/ 7176960 w 7176600"/>
              <a:gd name="textAreaTop" fmla="*/ 0 h 891000"/>
              <a:gd name="textAreaBottom" fmla="*/ 891360 h 891000"/>
            </a:gdLst>
            <a:ahLst/>
            <a:rect l="textAreaLeft" t="textAreaTop" r="textAreaRight" b="textAreaBottom"/>
            <a:pathLst>
              <a:path w="4655302" h="1905000">
                <a:moveTo>
                  <a:pt x="0" y="0"/>
                </a:moveTo>
                <a:lnTo>
                  <a:pt x="1668338" y="0"/>
                </a:lnTo>
                <a:lnTo>
                  <a:pt x="1668339" y="1"/>
                </a:lnTo>
                <a:lnTo>
                  <a:pt x="4655302" y="1"/>
                </a:lnTo>
                <a:lnTo>
                  <a:pt x="4655302" y="1900575"/>
                </a:lnTo>
                <a:lnTo>
                  <a:pt x="1670362" y="1900575"/>
                </a:lnTo>
                <a:lnTo>
                  <a:pt x="1668338" y="1905000"/>
                </a:lnTo>
                <a:lnTo>
                  <a:pt x="0" y="1905000"/>
                </a:lnTo>
                <a:lnTo>
                  <a:pt x="435674" y="952500"/>
                </a:lnTo>
                <a:close/>
              </a:path>
            </a:pathLst>
          </a:custGeom>
          <a:solidFill>
            <a:schemeClr val="accent1"/>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30000"/>
              </a:lnSpc>
            </a:pPr>
            <a:endParaRPr b="0" lang="en-US" sz="2400" spc="-1" strike="noStrike">
              <a:solidFill>
                <a:srgbClr val="000000"/>
              </a:solidFill>
              <a:latin typeface="方正喵呜体"/>
              <a:ea typeface="方正喵呜体"/>
            </a:endParaRPr>
          </a:p>
        </p:txBody>
      </p:sp>
      <p:sp>
        <p:nvSpPr>
          <p:cNvPr id="252" name="矩形 27"/>
          <p:cNvSpPr/>
          <p:nvPr/>
        </p:nvSpPr>
        <p:spPr>
          <a:xfrm rot="20734800">
            <a:off x="1809360" y="5406480"/>
            <a:ext cx="6184080" cy="564840"/>
          </a:xfrm>
          <a:prstGeom prst="rect">
            <a:avLst/>
          </a:prstGeom>
          <a:noFill/>
          <a:ln w="0">
            <a:noFill/>
          </a:ln>
        </p:spPr>
        <p:style>
          <a:lnRef idx="0"/>
          <a:fillRef idx="0"/>
          <a:effectRef idx="0"/>
          <a:fontRef idx="minor"/>
        </p:style>
        <p:txBody>
          <a:bodyPr lIns="90000" rIns="90000" tIns="45000" bIns="45000" anchor="t">
            <a:spAutoFit/>
          </a:bodyPr>
          <a:p>
            <a:pPr algn="just">
              <a:lnSpc>
                <a:spcPct val="130000"/>
              </a:lnSpc>
            </a:pPr>
            <a:r>
              <a:rPr b="0" lang="zh-CN" sz="2400" spc="-1" strike="noStrike">
                <a:solidFill>
                  <a:srgbClr val="0d0d0d"/>
                </a:solidFill>
                <a:latin typeface="方正正纤黑简体"/>
                <a:ea typeface="方正正纤黑简体"/>
              </a:rPr>
              <a:t>语文成语中正选陌生比错正选陌生必对</a:t>
            </a:r>
            <a:endParaRPr b="0" lang="en-US" sz="2400" spc="-1" strike="noStrike">
              <a:solidFill>
                <a:srgbClr val="000000"/>
              </a:solidFill>
              <a:latin typeface="Arial"/>
            </a:endParaRPr>
          </a:p>
        </p:txBody>
      </p:sp>
      <p:sp>
        <p:nvSpPr>
          <p:cNvPr id="253" name="KSO_Shape"/>
          <p:cNvSpPr/>
          <p:nvPr/>
        </p:nvSpPr>
        <p:spPr>
          <a:xfrm>
            <a:off x="3995280" y="366120"/>
            <a:ext cx="797040" cy="794160"/>
          </a:xfrm>
          <a:custGeom>
            <a:avLst/>
            <a:gdLst>
              <a:gd name="textAreaLeft" fmla="*/ 0 w 797040"/>
              <a:gd name="textAreaRight" fmla="*/ 797400 w 797040"/>
              <a:gd name="textAreaTop" fmla="*/ 0 h 794160"/>
              <a:gd name="textAreaBottom" fmla="*/ 794520 h 794160"/>
            </a:gdLst>
            <a:ahLst/>
            <a:rect l="textAreaLeft" t="textAreaTop" r="textAreaRight" b="textAreaBottom"/>
            <a:pathLst>
              <a:path w="2346740" h="2338503">
                <a:moveTo>
                  <a:pt x="1173371" y="216744"/>
                </a:moveTo>
                <a:cubicBezTo>
                  <a:pt x="647315" y="216744"/>
                  <a:pt x="220863" y="643196"/>
                  <a:pt x="220863" y="1169252"/>
                </a:cubicBezTo>
                <a:cubicBezTo>
                  <a:pt x="220863" y="1695308"/>
                  <a:pt x="647315" y="2121760"/>
                  <a:pt x="1173371" y="2121760"/>
                </a:cubicBezTo>
                <a:cubicBezTo>
                  <a:pt x="1699427" y="2121760"/>
                  <a:pt x="2125879" y="1695308"/>
                  <a:pt x="2125879" y="1169252"/>
                </a:cubicBezTo>
                <a:cubicBezTo>
                  <a:pt x="2125879" y="643196"/>
                  <a:pt x="1699427" y="216744"/>
                  <a:pt x="1173371" y="216744"/>
                </a:cubicBezTo>
                <a:close/>
                <a:moveTo>
                  <a:pt x="1047356" y="0"/>
                </a:moveTo>
                <a:lnTo>
                  <a:pt x="1299384" y="0"/>
                </a:lnTo>
                <a:lnTo>
                  <a:pt x="1343430" y="204792"/>
                </a:lnTo>
                <a:lnTo>
                  <a:pt x="1454863" y="27415"/>
                </a:lnTo>
                <a:lnTo>
                  <a:pt x="1691692" y="113614"/>
                </a:lnTo>
                <a:lnTo>
                  <a:pt x="1663038" y="321121"/>
                </a:lnTo>
                <a:lnTo>
                  <a:pt x="1828419" y="192553"/>
                </a:lnTo>
                <a:lnTo>
                  <a:pt x="2021483" y="354553"/>
                </a:lnTo>
                <a:lnTo>
                  <a:pt x="1923586" y="539746"/>
                </a:lnTo>
                <a:lnTo>
                  <a:pt x="2122965" y="475495"/>
                </a:lnTo>
                <a:lnTo>
                  <a:pt x="2248979" y="693757"/>
                </a:lnTo>
                <a:lnTo>
                  <a:pt x="2093646" y="834298"/>
                </a:lnTo>
                <a:lnTo>
                  <a:pt x="2302976" y="842114"/>
                </a:lnTo>
                <a:lnTo>
                  <a:pt x="2346740" y="1090313"/>
                </a:lnTo>
                <a:lnTo>
                  <a:pt x="2152708" y="1169251"/>
                </a:lnTo>
                <a:lnTo>
                  <a:pt x="2346740" y="1248190"/>
                </a:lnTo>
                <a:lnTo>
                  <a:pt x="2302976" y="1496389"/>
                </a:lnTo>
                <a:lnTo>
                  <a:pt x="2093645" y="1504204"/>
                </a:lnTo>
                <a:lnTo>
                  <a:pt x="2248979" y="1644746"/>
                </a:lnTo>
                <a:lnTo>
                  <a:pt x="2122965" y="1863009"/>
                </a:lnTo>
                <a:lnTo>
                  <a:pt x="1923587" y="1798758"/>
                </a:lnTo>
                <a:lnTo>
                  <a:pt x="2021483" y="1983949"/>
                </a:lnTo>
                <a:lnTo>
                  <a:pt x="1828419" y="2145950"/>
                </a:lnTo>
                <a:lnTo>
                  <a:pt x="1663038" y="2017381"/>
                </a:lnTo>
                <a:lnTo>
                  <a:pt x="1691692" y="2224889"/>
                </a:lnTo>
                <a:lnTo>
                  <a:pt x="1454863" y="2311087"/>
                </a:lnTo>
                <a:lnTo>
                  <a:pt x="1343430" y="2133710"/>
                </a:lnTo>
                <a:lnTo>
                  <a:pt x="1299384" y="2338503"/>
                </a:lnTo>
                <a:lnTo>
                  <a:pt x="1047356" y="2338503"/>
                </a:lnTo>
                <a:lnTo>
                  <a:pt x="1003310" y="2133710"/>
                </a:lnTo>
                <a:lnTo>
                  <a:pt x="891877" y="2311087"/>
                </a:lnTo>
                <a:lnTo>
                  <a:pt x="655048" y="2224889"/>
                </a:lnTo>
                <a:lnTo>
                  <a:pt x="683702" y="2017381"/>
                </a:lnTo>
                <a:lnTo>
                  <a:pt x="518321" y="2145950"/>
                </a:lnTo>
                <a:lnTo>
                  <a:pt x="325257" y="1983949"/>
                </a:lnTo>
                <a:lnTo>
                  <a:pt x="423154" y="1798757"/>
                </a:lnTo>
                <a:lnTo>
                  <a:pt x="223775" y="1863008"/>
                </a:lnTo>
                <a:lnTo>
                  <a:pt x="97761" y="1644745"/>
                </a:lnTo>
                <a:lnTo>
                  <a:pt x="253094" y="1504204"/>
                </a:lnTo>
                <a:lnTo>
                  <a:pt x="43764" y="1496389"/>
                </a:lnTo>
                <a:lnTo>
                  <a:pt x="0" y="1248190"/>
                </a:lnTo>
                <a:lnTo>
                  <a:pt x="194032" y="1169251"/>
                </a:lnTo>
                <a:lnTo>
                  <a:pt x="0" y="1090313"/>
                </a:lnTo>
                <a:lnTo>
                  <a:pt x="43764" y="842114"/>
                </a:lnTo>
                <a:lnTo>
                  <a:pt x="253095" y="834298"/>
                </a:lnTo>
                <a:lnTo>
                  <a:pt x="97761" y="693756"/>
                </a:lnTo>
                <a:lnTo>
                  <a:pt x="223775" y="475494"/>
                </a:lnTo>
                <a:lnTo>
                  <a:pt x="423153" y="539745"/>
                </a:lnTo>
                <a:lnTo>
                  <a:pt x="325257" y="354553"/>
                </a:lnTo>
                <a:lnTo>
                  <a:pt x="518321" y="192553"/>
                </a:lnTo>
                <a:lnTo>
                  <a:pt x="683702" y="321121"/>
                </a:lnTo>
                <a:lnTo>
                  <a:pt x="655048" y="113614"/>
                </a:lnTo>
                <a:lnTo>
                  <a:pt x="891877" y="27415"/>
                </a:lnTo>
                <a:lnTo>
                  <a:pt x="1003310" y="204793"/>
                </a:ln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4" name="文本框 31"/>
          <p:cNvSpPr/>
          <p:nvPr/>
        </p:nvSpPr>
        <p:spPr>
          <a:xfrm>
            <a:off x="4082400" y="440280"/>
            <a:ext cx="5090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600" spc="-1" strike="noStrike">
                <a:solidFill>
                  <a:srgbClr val="ffffff"/>
                </a:solidFill>
                <a:latin typeface="方正经黑简体"/>
                <a:ea typeface="方正经黑简体"/>
              </a:rPr>
              <a:t>瑾</a:t>
            </a:r>
            <a:endParaRPr b="0" lang="en-US" sz="3600" spc="-1" strike="noStrike">
              <a:solidFill>
                <a:srgbClr val="000000"/>
              </a:solidFill>
              <a:latin typeface="Arial"/>
            </a:endParaRPr>
          </a:p>
        </p:txBody>
      </p:sp>
      <p:sp>
        <p:nvSpPr>
          <p:cNvPr id="255" name="KSO_Shape"/>
          <p:cNvSpPr/>
          <p:nvPr/>
        </p:nvSpPr>
        <p:spPr>
          <a:xfrm>
            <a:off x="5587560" y="75600"/>
            <a:ext cx="797040" cy="794160"/>
          </a:xfrm>
          <a:custGeom>
            <a:avLst/>
            <a:gdLst>
              <a:gd name="textAreaLeft" fmla="*/ 0 w 797040"/>
              <a:gd name="textAreaRight" fmla="*/ 797400 w 797040"/>
              <a:gd name="textAreaTop" fmla="*/ 0 h 794160"/>
              <a:gd name="textAreaBottom" fmla="*/ 794520 h 794160"/>
            </a:gdLst>
            <a:ahLst/>
            <a:rect l="textAreaLeft" t="textAreaTop" r="textAreaRight" b="textAreaBottom"/>
            <a:pathLst>
              <a:path w="2346740" h="2338503">
                <a:moveTo>
                  <a:pt x="1173371" y="216744"/>
                </a:moveTo>
                <a:cubicBezTo>
                  <a:pt x="647315" y="216744"/>
                  <a:pt x="220863" y="643196"/>
                  <a:pt x="220863" y="1169252"/>
                </a:cubicBezTo>
                <a:cubicBezTo>
                  <a:pt x="220863" y="1695308"/>
                  <a:pt x="647315" y="2121760"/>
                  <a:pt x="1173371" y="2121760"/>
                </a:cubicBezTo>
                <a:cubicBezTo>
                  <a:pt x="1699427" y="2121760"/>
                  <a:pt x="2125879" y="1695308"/>
                  <a:pt x="2125879" y="1169252"/>
                </a:cubicBezTo>
                <a:cubicBezTo>
                  <a:pt x="2125879" y="643196"/>
                  <a:pt x="1699427" y="216744"/>
                  <a:pt x="1173371" y="216744"/>
                </a:cubicBezTo>
                <a:close/>
                <a:moveTo>
                  <a:pt x="1047356" y="0"/>
                </a:moveTo>
                <a:lnTo>
                  <a:pt x="1299384" y="0"/>
                </a:lnTo>
                <a:lnTo>
                  <a:pt x="1343430" y="204792"/>
                </a:lnTo>
                <a:lnTo>
                  <a:pt x="1454863" y="27415"/>
                </a:lnTo>
                <a:lnTo>
                  <a:pt x="1691692" y="113614"/>
                </a:lnTo>
                <a:lnTo>
                  <a:pt x="1663038" y="321121"/>
                </a:lnTo>
                <a:lnTo>
                  <a:pt x="1828419" y="192553"/>
                </a:lnTo>
                <a:lnTo>
                  <a:pt x="2021483" y="354553"/>
                </a:lnTo>
                <a:lnTo>
                  <a:pt x="1923586" y="539746"/>
                </a:lnTo>
                <a:lnTo>
                  <a:pt x="2122965" y="475495"/>
                </a:lnTo>
                <a:lnTo>
                  <a:pt x="2248979" y="693757"/>
                </a:lnTo>
                <a:lnTo>
                  <a:pt x="2093646" y="834298"/>
                </a:lnTo>
                <a:lnTo>
                  <a:pt x="2302976" y="842114"/>
                </a:lnTo>
                <a:lnTo>
                  <a:pt x="2346740" y="1090313"/>
                </a:lnTo>
                <a:lnTo>
                  <a:pt x="2152708" y="1169251"/>
                </a:lnTo>
                <a:lnTo>
                  <a:pt x="2346740" y="1248190"/>
                </a:lnTo>
                <a:lnTo>
                  <a:pt x="2302976" y="1496389"/>
                </a:lnTo>
                <a:lnTo>
                  <a:pt x="2093645" y="1504204"/>
                </a:lnTo>
                <a:lnTo>
                  <a:pt x="2248979" y="1644746"/>
                </a:lnTo>
                <a:lnTo>
                  <a:pt x="2122965" y="1863009"/>
                </a:lnTo>
                <a:lnTo>
                  <a:pt x="1923587" y="1798758"/>
                </a:lnTo>
                <a:lnTo>
                  <a:pt x="2021483" y="1983949"/>
                </a:lnTo>
                <a:lnTo>
                  <a:pt x="1828419" y="2145950"/>
                </a:lnTo>
                <a:lnTo>
                  <a:pt x="1663038" y="2017381"/>
                </a:lnTo>
                <a:lnTo>
                  <a:pt x="1691692" y="2224889"/>
                </a:lnTo>
                <a:lnTo>
                  <a:pt x="1454863" y="2311087"/>
                </a:lnTo>
                <a:lnTo>
                  <a:pt x="1343430" y="2133710"/>
                </a:lnTo>
                <a:lnTo>
                  <a:pt x="1299384" y="2338503"/>
                </a:lnTo>
                <a:lnTo>
                  <a:pt x="1047356" y="2338503"/>
                </a:lnTo>
                <a:lnTo>
                  <a:pt x="1003310" y="2133710"/>
                </a:lnTo>
                <a:lnTo>
                  <a:pt x="891877" y="2311087"/>
                </a:lnTo>
                <a:lnTo>
                  <a:pt x="655048" y="2224889"/>
                </a:lnTo>
                <a:lnTo>
                  <a:pt x="683702" y="2017381"/>
                </a:lnTo>
                <a:lnTo>
                  <a:pt x="518321" y="2145950"/>
                </a:lnTo>
                <a:lnTo>
                  <a:pt x="325257" y="1983949"/>
                </a:lnTo>
                <a:lnTo>
                  <a:pt x="423154" y="1798757"/>
                </a:lnTo>
                <a:lnTo>
                  <a:pt x="223775" y="1863008"/>
                </a:lnTo>
                <a:lnTo>
                  <a:pt x="97761" y="1644745"/>
                </a:lnTo>
                <a:lnTo>
                  <a:pt x="253094" y="1504204"/>
                </a:lnTo>
                <a:lnTo>
                  <a:pt x="43764" y="1496389"/>
                </a:lnTo>
                <a:lnTo>
                  <a:pt x="0" y="1248190"/>
                </a:lnTo>
                <a:lnTo>
                  <a:pt x="194032" y="1169251"/>
                </a:lnTo>
                <a:lnTo>
                  <a:pt x="0" y="1090313"/>
                </a:lnTo>
                <a:lnTo>
                  <a:pt x="43764" y="842114"/>
                </a:lnTo>
                <a:lnTo>
                  <a:pt x="253095" y="834298"/>
                </a:lnTo>
                <a:lnTo>
                  <a:pt x="97761" y="693756"/>
                </a:lnTo>
                <a:lnTo>
                  <a:pt x="223775" y="475494"/>
                </a:lnTo>
                <a:lnTo>
                  <a:pt x="423153" y="539745"/>
                </a:lnTo>
                <a:lnTo>
                  <a:pt x="325257" y="354553"/>
                </a:lnTo>
                <a:lnTo>
                  <a:pt x="518321" y="192553"/>
                </a:lnTo>
                <a:lnTo>
                  <a:pt x="683702" y="321121"/>
                </a:lnTo>
                <a:lnTo>
                  <a:pt x="655048" y="113614"/>
                </a:lnTo>
                <a:lnTo>
                  <a:pt x="891877" y="27415"/>
                </a:lnTo>
                <a:lnTo>
                  <a:pt x="1003310" y="204793"/>
                </a:ln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6" name="文本框 33"/>
          <p:cNvSpPr/>
          <p:nvPr/>
        </p:nvSpPr>
        <p:spPr>
          <a:xfrm>
            <a:off x="5659920" y="149760"/>
            <a:ext cx="5090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600" spc="-1" strike="noStrike">
                <a:solidFill>
                  <a:srgbClr val="ffffff"/>
                </a:solidFill>
                <a:latin typeface="方正经黑简体"/>
                <a:ea typeface="方正经黑简体"/>
              </a:rPr>
              <a:t>悖</a:t>
            </a:r>
            <a:endParaRPr b="0" lang="en-US" sz="3600" spc="-1" strike="noStrike">
              <a:solidFill>
                <a:srgbClr val="000000"/>
              </a:solidFill>
              <a:latin typeface="Arial"/>
            </a:endParaRPr>
          </a:p>
        </p:txBody>
      </p:sp>
      <p:sp>
        <p:nvSpPr>
          <p:cNvPr id="257" name="KSO_Shape"/>
          <p:cNvSpPr/>
          <p:nvPr/>
        </p:nvSpPr>
        <p:spPr>
          <a:xfrm>
            <a:off x="1929600" y="-155880"/>
            <a:ext cx="797040" cy="794160"/>
          </a:xfrm>
          <a:custGeom>
            <a:avLst/>
            <a:gdLst>
              <a:gd name="textAreaLeft" fmla="*/ 0 w 797040"/>
              <a:gd name="textAreaRight" fmla="*/ 797400 w 797040"/>
              <a:gd name="textAreaTop" fmla="*/ 0 h 794160"/>
              <a:gd name="textAreaBottom" fmla="*/ 794520 h 794160"/>
            </a:gdLst>
            <a:ahLst/>
            <a:rect l="textAreaLeft" t="textAreaTop" r="textAreaRight" b="textAreaBottom"/>
            <a:pathLst>
              <a:path w="2346740" h="2338503">
                <a:moveTo>
                  <a:pt x="1173371" y="216744"/>
                </a:moveTo>
                <a:cubicBezTo>
                  <a:pt x="647315" y="216744"/>
                  <a:pt x="220863" y="643196"/>
                  <a:pt x="220863" y="1169252"/>
                </a:cubicBezTo>
                <a:cubicBezTo>
                  <a:pt x="220863" y="1695308"/>
                  <a:pt x="647315" y="2121760"/>
                  <a:pt x="1173371" y="2121760"/>
                </a:cubicBezTo>
                <a:cubicBezTo>
                  <a:pt x="1699427" y="2121760"/>
                  <a:pt x="2125879" y="1695308"/>
                  <a:pt x="2125879" y="1169252"/>
                </a:cubicBezTo>
                <a:cubicBezTo>
                  <a:pt x="2125879" y="643196"/>
                  <a:pt x="1699427" y="216744"/>
                  <a:pt x="1173371" y="216744"/>
                </a:cubicBezTo>
                <a:close/>
                <a:moveTo>
                  <a:pt x="1047356" y="0"/>
                </a:moveTo>
                <a:lnTo>
                  <a:pt x="1299384" y="0"/>
                </a:lnTo>
                <a:lnTo>
                  <a:pt x="1343430" y="204792"/>
                </a:lnTo>
                <a:lnTo>
                  <a:pt x="1454863" y="27415"/>
                </a:lnTo>
                <a:lnTo>
                  <a:pt x="1691692" y="113614"/>
                </a:lnTo>
                <a:lnTo>
                  <a:pt x="1663038" y="321121"/>
                </a:lnTo>
                <a:lnTo>
                  <a:pt x="1828419" y="192553"/>
                </a:lnTo>
                <a:lnTo>
                  <a:pt x="2021483" y="354553"/>
                </a:lnTo>
                <a:lnTo>
                  <a:pt x="1923586" y="539746"/>
                </a:lnTo>
                <a:lnTo>
                  <a:pt x="2122965" y="475495"/>
                </a:lnTo>
                <a:lnTo>
                  <a:pt x="2248979" y="693757"/>
                </a:lnTo>
                <a:lnTo>
                  <a:pt x="2093646" y="834298"/>
                </a:lnTo>
                <a:lnTo>
                  <a:pt x="2302976" y="842114"/>
                </a:lnTo>
                <a:lnTo>
                  <a:pt x="2346740" y="1090313"/>
                </a:lnTo>
                <a:lnTo>
                  <a:pt x="2152708" y="1169251"/>
                </a:lnTo>
                <a:lnTo>
                  <a:pt x="2346740" y="1248190"/>
                </a:lnTo>
                <a:lnTo>
                  <a:pt x="2302976" y="1496389"/>
                </a:lnTo>
                <a:lnTo>
                  <a:pt x="2093645" y="1504204"/>
                </a:lnTo>
                <a:lnTo>
                  <a:pt x="2248979" y="1644746"/>
                </a:lnTo>
                <a:lnTo>
                  <a:pt x="2122965" y="1863009"/>
                </a:lnTo>
                <a:lnTo>
                  <a:pt x="1923587" y="1798758"/>
                </a:lnTo>
                <a:lnTo>
                  <a:pt x="2021483" y="1983949"/>
                </a:lnTo>
                <a:lnTo>
                  <a:pt x="1828419" y="2145950"/>
                </a:lnTo>
                <a:lnTo>
                  <a:pt x="1663038" y="2017381"/>
                </a:lnTo>
                <a:lnTo>
                  <a:pt x="1691692" y="2224889"/>
                </a:lnTo>
                <a:lnTo>
                  <a:pt x="1454863" y="2311087"/>
                </a:lnTo>
                <a:lnTo>
                  <a:pt x="1343430" y="2133710"/>
                </a:lnTo>
                <a:lnTo>
                  <a:pt x="1299384" y="2338503"/>
                </a:lnTo>
                <a:lnTo>
                  <a:pt x="1047356" y="2338503"/>
                </a:lnTo>
                <a:lnTo>
                  <a:pt x="1003310" y="2133710"/>
                </a:lnTo>
                <a:lnTo>
                  <a:pt x="891877" y="2311087"/>
                </a:lnTo>
                <a:lnTo>
                  <a:pt x="655048" y="2224889"/>
                </a:lnTo>
                <a:lnTo>
                  <a:pt x="683702" y="2017381"/>
                </a:lnTo>
                <a:lnTo>
                  <a:pt x="518321" y="2145950"/>
                </a:lnTo>
                <a:lnTo>
                  <a:pt x="325257" y="1983949"/>
                </a:lnTo>
                <a:lnTo>
                  <a:pt x="423154" y="1798757"/>
                </a:lnTo>
                <a:lnTo>
                  <a:pt x="223775" y="1863008"/>
                </a:lnTo>
                <a:lnTo>
                  <a:pt x="97761" y="1644745"/>
                </a:lnTo>
                <a:lnTo>
                  <a:pt x="253094" y="1504204"/>
                </a:lnTo>
                <a:lnTo>
                  <a:pt x="43764" y="1496389"/>
                </a:lnTo>
                <a:lnTo>
                  <a:pt x="0" y="1248190"/>
                </a:lnTo>
                <a:lnTo>
                  <a:pt x="194032" y="1169251"/>
                </a:lnTo>
                <a:lnTo>
                  <a:pt x="0" y="1090313"/>
                </a:lnTo>
                <a:lnTo>
                  <a:pt x="43764" y="842114"/>
                </a:lnTo>
                <a:lnTo>
                  <a:pt x="253095" y="834298"/>
                </a:lnTo>
                <a:lnTo>
                  <a:pt x="97761" y="693756"/>
                </a:lnTo>
                <a:lnTo>
                  <a:pt x="223775" y="475494"/>
                </a:lnTo>
                <a:lnTo>
                  <a:pt x="423153" y="539745"/>
                </a:lnTo>
                <a:lnTo>
                  <a:pt x="325257" y="354553"/>
                </a:lnTo>
                <a:lnTo>
                  <a:pt x="518321" y="192553"/>
                </a:lnTo>
                <a:lnTo>
                  <a:pt x="683702" y="321121"/>
                </a:lnTo>
                <a:lnTo>
                  <a:pt x="655048" y="113614"/>
                </a:lnTo>
                <a:lnTo>
                  <a:pt x="891877" y="27415"/>
                </a:lnTo>
                <a:lnTo>
                  <a:pt x="1003310" y="204793"/>
                </a:ln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8" name="文本框 35"/>
          <p:cNvSpPr/>
          <p:nvPr/>
        </p:nvSpPr>
        <p:spPr>
          <a:xfrm>
            <a:off x="2003400" y="-81720"/>
            <a:ext cx="5090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600" spc="-1" strike="noStrike">
                <a:solidFill>
                  <a:srgbClr val="ffffff"/>
                </a:solidFill>
                <a:latin typeface="方正经黑简体"/>
                <a:ea typeface="方正经黑简体"/>
              </a:rPr>
              <a:t>唁</a:t>
            </a:r>
            <a:endParaRPr b="0" lang="en-US" sz="3600" spc="-1" strike="noStrike">
              <a:solidFill>
                <a:srgbClr val="000000"/>
              </a:solidFill>
              <a:latin typeface="Arial"/>
            </a:endParaRPr>
          </a:p>
        </p:txBody>
      </p:sp>
      <p:sp>
        <p:nvSpPr>
          <p:cNvPr id="259" name="KSO_Shape"/>
          <p:cNvSpPr/>
          <p:nvPr/>
        </p:nvSpPr>
        <p:spPr>
          <a:xfrm>
            <a:off x="458640" y="760680"/>
            <a:ext cx="797040" cy="794160"/>
          </a:xfrm>
          <a:custGeom>
            <a:avLst/>
            <a:gdLst>
              <a:gd name="textAreaLeft" fmla="*/ 0 w 797040"/>
              <a:gd name="textAreaRight" fmla="*/ 797400 w 797040"/>
              <a:gd name="textAreaTop" fmla="*/ 0 h 794160"/>
              <a:gd name="textAreaBottom" fmla="*/ 794520 h 794160"/>
            </a:gdLst>
            <a:ahLst/>
            <a:rect l="textAreaLeft" t="textAreaTop" r="textAreaRight" b="textAreaBottom"/>
            <a:pathLst>
              <a:path w="2346740" h="2338503">
                <a:moveTo>
                  <a:pt x="1173371" y="216744"/>
                </a:moveTo>
                <a:cubicBezTo>
                  <a:pt x="647315" y="216744"/>
                  <a:pt x="220863" y="643196"/>
                  <a:pt x="220863" y="1169252"/>
                </a:cubicBezTo>
                <a:cubicBezTo>
                  <a:pt x="220863" y="1695308"/>
                  <a:pt x="647315" y="2121760"/>
                  <a:pt x="1173371" y="2121760"/>
                </a:cubicBezTo>
                <a:cubicBezTo>
                  <a:pt x="1699427" y="2121760"/>
                  <a:pt x="2125879" y="1695308"/>
                  <a:pt x="2125879" y="1169252"/>
                </a:cubicBezTo>
                <a:cubicBezTo>
                  <a:pt x="2125879" y="643196"/>
                  <a:pt x="1699427" y="216744"/>
                  <a:pt x="1173371" y="216744"/>
                </a:cubicBezTo>
                <a:close/>
                <a:moveTo>
                  <a:pt x="1047356" y="0"/>
                </a:moveTo>
                <a:lnTo>
                  <a:pt x="1299384" y="0"/>
                </a:lnTo>
                <a:lnTo>
                  <a:pt x="1343430" y="204792"/>
                </a:lnTo>
                <a:lnTo>
                  <a:pt x="1454863" y="27415"/>
                </a:lnTo>
                <a:lnTo>
                  <a:pt x="1691692" y="113614"/>
                </a:lnTo>
                <a:lnTo>
                  <a:pt x="1663038" y="321121"/>
                </a:lnTo>
                <a:lnTo>
                  <a:pt x="1828419" y="192553"/>
                </a:lnTo>
                <a:lnTo>
                  <a:pt x="2021483" y="354553"/>
                </a:lnTo>
                <a:lnTo>
                  <a:pt x="1923586" y="539746"/>
                </a:lnTo>
                <a:lnTo>
                  <a:pt x="2122965" y="475495"/>
                </a:lnTo>
                <a:lnTo>
                  <a:pt x="2248979" y="693757"/>
                </a:lnTo>
                <a:lnTo>
                  <a:pt x="2093646" y="834298"/>
                </a:lnTo>
                <a:lnTo>
                  <a:pt x="2302976" y="842114"/>
                </a:lnTo>
                <a:lnTo>
                  <a:pt x="2346740" y="1090313"/>
                </a:lnTo>
                <a:lnTo>
                  <a:pt x="2152708" y="1169251"/>
                </a:lnTo>
                <a:lnTo>
                  <a:pt x="2346740" y="1248190"/>
                </a:lnTo>
                <a:lnTo>
                  <a:pt x="2302976" y="1496389"/>
                </a:lnTo>
                <a:lnTo>
                  <a:pt x="2093645" y="1504204"/>
                </a:lnTo>
                <a:lnTo>
                  <a:pt x="2248979" y="1644746"/>
                </a:lnTo>
                <a:lnTo>
                  <a:pt x="2122965" y="1863009"/>
                </a:lnTo>
                <a:lnTo>
                  <a:pt x="1923587" y="1798758"/>
                </a:lnTo>
                <a:lnTo>
                  <a:pt x="2021483" y="1983949"/>
                </a:lnTo>
                <a:lnTo>
                  <a:pt x="1828419" y="2145950"/>
                </a:lnTo>
                <a:lnTo>
                  <a:pt x="1663038" y="2017381"/>
                </a:lnTo>
                <a:lnTo>
                  <a:pt x="1691692" y="2224889"/>
                </a:lnTo>
                <a:lnTo>
                  <a:pt x="1454863" y="2311087"/>
                </a:lnTo>
                <a:lnTo>
                  <a:pt x="1343430" y="2133710"/>
                </a:lnTo>
                <a:lnTo>
                  <a:pt x="1299384" y="2338503"/>
                </a:lnTo>
                <a:lnTo>
                  <a:pt x="1047356" y="2338503"/>
                </a:lnTo>
                <a:lnTo>
                  <a:pt x="1003310" y="2133710"/>
                </a:lnTo>
                <a:lnTo>
                  <a:pt x="891877" y="2311087"/>
                </a:lnTo>
                <a:lnTo>
                  <a:pt x="655048" y="2224889"/>
                </a:lnTo>
                <a:lnTo>
                  <a:pt x="683702" y="2017381"/>
                </a:lnTo>
                <a:lnTo>
                  <a:pt x="518321" y="2145950"/>
                </a:lnTo>
                <a:lnTo>
                  <a:pt x="325257" y="1983949"/>
                </a:lnTo>
                <a:lnTo>
                  <a:pt x="423154" y="1798757"/>
                </a:lnTo>
                <a:lnTo>
                  <a:pt x="223775" y="1863008"/>
                </a:lnTo>
                <a:lnTo>
                  <a:pt x="97761" y="1644745"/>
                </a:lnTo>
                <a:lnTo>
                  <a:pt x="253094" y="1504204"/>
                </a:lnTo>
                <a:lnTo>
                  <a:pt x="43764" y="1496389"/>
                </a:lnTo>
                <a:lnTo>
                  <a:pt x="0" y="1248190"/>
                </a:lnTo>
                <a:lnTo>
                  <a:pt x="194032" y="1169251"/>
                </a:lnTo>
                <a:lnTo>
                  <a:pt x="0" y="1090313"/>
                </a:lnTo>
                <a:lnTo>
                  <a:pt x="43764" y="842114"/>
                </a:lnTo>
                <a:lnTo>
                  <a:pt x="253095" y="834298"/>
                </a:lnTo>
                <a:lnTo>
                  <a:pt x="97761" y="693756"/>
                </a:lnTo>
                <a:lnTo>
                  <a:pt x="223775" y="475494"/>
                </a:lnTo>
                <a:lnTo>
                  <a:pt x="423153" y="539745"/>
                </a:lnTo>
                <a:lnTo>
                  <a:pt x="325257" y="354553"/>
                </a:lnTo>
                <a:lnTo>
                  <a:pt x="518321" y="192553"/>
                </a:lnTo>
                <a:lnTo>
                  <a:pt x="683702" y="321121"/>
                </a:lnTo>
                <a:lnTo>
                  <a:pt x="655048" y="113614"/>
                </a:lnTo>
                <a:lnTo>
                  <a:pt x="891877" y="27415"/>
                </a:lnTo>
                <a:lnTo>
                  <a:pt x="1003310" y="204793"/>
                </a:ln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0" name="文本框 37"/>
          <p:cNvSpPr/>
          <p:nvPr/>
        </p:nvSpPr>
        <p:spPr>
          <a:xfrm>
            <a:off x="530280" y="788040"/>
            <a:ext cx="5090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600" spc="-1" strike="noStrike">
                <a:solidFill>
                  <a:srgbClr val="ffffff"/>
                </a:solidFill>
                <a:latin typeface="方正经黑简体"/>
                <a:ea typeface="方正经黑简体"/>
              </a:rPr>
              <a:t>蔼</a:t>
            </a:r>
            <a:endParaRPr b="0" lang="en-US" sz="3600" spc="-1" strike="noStrike">
              <a:solidFill>
                <a:srgbClr val="000000"/>
              </a:solidFill>
              <a:latin typeface="Arial"/>
            </a:endParaRPr>
          </a:p>
        </p:txBody>
      </p:sp>
      <p:sp>
        <p:nvSpPr>
          <p:cNvPr id="261" name="KSO_Shape"/>
          <p:cNvSpPr/>
          <p:nvPr/>
        </p:nvSpPr>
        <p:spPr>
          <a:xfrm>
            <a:off x="2604960" y="948960"/>
            <a:ext cx="797040" cy="794160"/>
          </a:xfrm>
          <a:custGeom>
            <a:avLst/>
            <a:gdLst>
              <a:gd name="textAreaLeft" fmla="*/ 0 w 797040"/>
              <a:gd name="textAreaRight" fmla="*/ 797400 w 797040"/>
              <a:gd name="textAreaTop" fmla="*/ 0 h 794160"/>
              <a:gd name="textAreaBottom" fmla="*/ 794520 h 794160"/>
            </a:gdLst>
            <a:ahLst/>
            <a:rect l="textAreaLeft" t="textAreaTop" r="textAreaRight" b="textAreaBottom"/>
            <a:pathLst>
              <a:path w="2346740" h="2338503">
                <a:moveTo>
                  <a:pt x="1173371" y="216744"/>
                </a:moveTo>
                <a:cubicBezTo>
                  <a:pt x="647315" y="216744"/>
                  <a:pt x="220863" y="643196"/>
                  <a:pt x="220863" y="1169252"/>
                </a:cubicBezTo>
                <a:cubicBezTo>
                  <a:pt x="220863" y="1695308"/>
                  <a:pt x="647315" y="2121760"/>
                  <a:pt x="1173371" y="2121760"/>
                </a:cubicBezTo>
                <a:cubicBezTo>
                  <a:pt x="1699427" y="2121760"/>
                  <a:pt x="2125879" y="1695308"/>
                  <a:pt x="2125879" y="1169252"/>
                </a:cubicBezTo>
                <a:cubicBezTo>
                  <a:pt x="2125879" y="643196"/>
                  <a:pt x="1699427" y="216744"/>
                  <a:pt x="1173371" y="216744"/>
                </a:cubicBezTo>
                <a:close/>
                <a:moveTo>
                  <a:pt x="1047356" y="0"/>
                </a:moveTo>
                <a:lnTo>
                  <a:pt x="1299384" y="0"/>
                </a:lnTo>
                <a:lnTo>
                  <a:pt x="1343430" y="204792"/>
                </a:lnTo>
                <a:lnTo>
                  <a:pt x="1454863" y="27415"/>
                </a:lnTo>
                <a:lnTo>
                  <a:pt x="1691692" y="113614"/>
                </a:lnTo>
                <a:lnTo>
                  <a:pt x="1663038" y="321121"/>
                </a:lnTo>
                <a:lnTo>
                  <a:pt x="1828419" y="192553"/>
                </a:lnTo>
                <a:lnTo>
                  <a:pt x="2021483" y="354553"/>
                </a:lnTo>
                <a:lnTo>
                  <a:pt x="1923586" y="539746"/>
                </a:lnTo>
                <a:lnTo>
                  <a:pt x="2122965" y="475495"/>
                </a:lnTo>
                <a:lnTo>
                  <a:pt x="2248979" y="693757"/>
                </a:lnTo>
                <a:lnTo>
                  <a:pt x="2093646" y="834298"/>
                </a:lnTo>
                <a:lnTo>
                  <a:pt x="2302976" y="842114"/>
                </a:lnTo>
                <a:lnTo>
                  <a:pt x="2346740" y="1090313"/>
                </a:lnTo>
                <a:lnTo>
                  <a:pt x="2152708" y="1169251"/>
                </a:lnTo>
                <a:lnTo>
                  <a:pt x="2346740" y="1248190"/>
                </a:lnTo>
                <a:lnTo>
                  <a:pt x="2302976" y="1496389"/>
                </a:lnTo>
                <a:lnTo>
                  <a:pt x="2093645" y="1504204"/>
                </a:lnTo>
                <a:lnTo>
                  <a:pt x="2248979" y="1644746"/>
                </a:lnTo>
                <a:lnTo>
                  <a:pt x="2122965" y="1863009"/>
                </a:lnTo>
                <a:lnTo>
                  <a:pt x="1923587" y="1798758"/>
                </a:lnTo>
                <a:lnTo>
                  <a:pt x="2021483" y="1983949"/>
                </a:lnTo>
                <a:lnTo>
                  <a:pt x="1828419" y="2145950"/>
                </a:lnTo>
                <a:lnTo>
                  <a:pt x="1663038" y="2017381"/>
                </a:lnTo>
                <a:lnTo>
                  <a:pt x="1691692" y="2224889"/>
                </a:lnTo>
                <a:lnTo>
                  <a:pt x="1454863" y="2311087"/>
                </a:lnTo>
                <a:lnTo>
                  <a:pt x="1343430" y="2133710"/>
                </a:lnTo>
                <a:lnTo>
                  <a:pt x="1299384" y="2338503"/>
                </a:lnTo>
                <a:lnTo>
                  <a:pt x="1047356" y="2338503"/>
                </a:lnTo>
                <a:lnTo>
                  <a:pt x="1003310" y="2133710"/>
                </a:lnTo>
                <a:lnTo>
                  <a:pt x="891877" y="2311087"/>
                </a:lnTo>
                <a:lnTo>
                  <a:pt x="655048" y="2224889"/>
                </a:lnTo>
                <a:lnTo>
                  <a:pt x="683702" y="2017381"/>
                </a:lnTo>
                <a:lnTo>
                  <a:pt x="518321" y="2145950"/>
                </a:lnTo>
                <a:lnTo>
                  <a:pt x="325257" y="1983949"/>
                </a:lnTo>
                <a:lnTo>
                  <a:pt x="423154" y="1798757"/>
                </a:lnTo>
                <a:lnTo>
                  <a:pt x="223775" y="1863008"/>
                </a:lnTo>
                <a:lnTo>
                  <a:pt x="97761" y="1644745"/>
                </a:lnTo>
                <a:lnTo>
                  <a:pt x="253094" y="1504204"/>
                </a:lnTo>
                <a:lnTo>
                  <a:pt x="43764" y="1496389"/>
                </a:lnTo>
                <a:lnTo>
                  <a:pt x="0" y="1248190"/>
                </a:lnTo>
                <a:lnTo>
                  <a:pt x="194032" y="1169251"/>
                </a:lnTo>
                <a:lnTo>
                  <a:pt x="0" y="1090313"/>
                </a:lnTo>
                <a:lnTo>
                  <a:pt x="43764" y="842114"/>
                </a:lnTo>
                <a:lnTo>
                  <a:pt x="253095" y="834298"/>
                </a:lnTo>
                <a:lnTo>
                  <a:pt x="97761" y="693756"/>
                </a:lnTo>
                <a:lnTo>
                  <a:pt x="223775" y="475494"/>
                </a:lnTo>
                <a:lnTo>
                  <a:pt x="423153" y="539745"/>
                </a:lnTo>
                <a:lnTo>
                  <a:pt x="325257" y="354553"/>
                </a:lnTo>
                <a:lnTo>
                  <a:pt x="518321" y="192553"/>
                </a:lnTo>
                <a:lnTo>
                  <a:pt x="683702" y="321121"/>
                </a:lnTo>
                <a:lnTo>
                  <a:pt x="655048" y="113614"/>
                </a:lnTo>
                <a:lnTo>
                  <a:pt x="891877" y="27415"/>
                </a:lnTo>
                <a:lnTo>
                  <a:pt x="1003310" y="204793"/>
                </a:ln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2" name="文本框 39"/>
          <p:cNvSpPr/>
          <p:nvPr/>
        </p:nvSpPr>
        <p:spPr>
          <a:xfrm>
            <a:off x="2691000" y="1023120"/>
            <a:ext cx="5090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600" spc="-1" strike="noStrike">
                <a:solidFill>
                  <a:srgbClr val="ffffff"/>
                </a:solidFill>
                <a:latin typeface="方正经黑简体"/>
                <a:ea typeface="方正经黑简体"/>
              </a:rPr>
              <a:t>晗</a:t>
            </a:r>
            <a:endParaRPr b="0" lang="en-US" sz="3600" spc="-1" strike="noStrike">
              <a:solidFill>
                <a:srgbClr val="000000"/>
              </a:solidFill>
              <a:latin typeface="Arial"/>
            </a:endParaRPr>
          </a:p>
        </p:txBody>
      </p:sp>
      <p:sp>
        <p:nvSpPr>
          <p:cNvPr id="263" name="KSO_Shape"/>
          <p:cNvSpPr/>
          <p:nvPr/>
        </p:nvSpPr>
        <p:spPr>
          <a:xfrm>
            <a:off x="7595280" y="-8280"/>
            <a:ext cx="797040" cy="794160"/>
          </a:xfrm>
          <a:custGeom>
            <a:avLst/>
            <a:gdLst>
              <a:gd name="textAreaLeft" fmla="*/ 0 w 797040"/>
              <a:gd name="textAreaRight" fmla="*/ 797400 w 797040"/>
              <a:gd name="textAreaTop" fmla="*/ 0 h 794160"/>
              <a:gd name="textAreaBottom" fmla="*/ 794520 h 794160"/>
            </a:gdLst>
            <a:ahLst/>
            <a:rect l="textAreaLeft" t="textAreaTop" r="textAreaRight" b="textAreaBottom"/>
            <a:pathLst>
              <a:path w="2346740" h="2338503">
                <a:moveTo>
                  <a:pt x="1173371" y="216744"/>
                </a:moveTo>
                <a:cubicBezTo>
                  <a:pt x="647315" y="216744"/>
                  <a:pt x="220863" y="643196"/>
                  <a:pt x="220863" y="1169252"/>
                </a:cubicBezTo>
                <a:cubicBezTo>
                  <a:pt x="220863" y="1695308"/>
                  <a:pt x="647315" y="2121760"/>
                  <a:pt x="1173371" y="2121760"/>
                </a:cubicBezTo>
                <a:cubicBezTo>
                  <a:pt x="1699427" y="2121760"/>
                  <a:pt x="2125879" y="1695308"/>
                  <a:pt x="2125879" y="1169252"/>
                </a:cubicBezTo>
                <a:cubicBezTo>
                  <a:pt x="2125879" y="643196"/>
                  <a:pt x="1699427" y="216744"/>
                  <a:pt x="1173371" y="216744"/>
                </a:cubicBezTo>
                <a:close/>
                <a:moveTo>
                  <a:pt x="1047356" y="0"/>
                </a:moveTo>
                <a:lnTo>
                  <a:pt x="1299384" y="0"/>
                </a:lnTo>
                <a:lnTo>
                  <a:pt x="1343430" y="204792"/>
                </a:lnTo>
                <a:lnTo>
                  <a:pt x="1454863" y="27415"/>
                </a:lnTo>
                <a:lnTo>
                  <a:pt x="1691692" y="113614"/>
                </a:lnTo>
                <a:lnTo>
                  <a:pt x="1663038" y="321121"/>
                </a:lnTo>
                <a:lnTo>
                  <a:pt x="1828419" y="192553"/>
                </a:lnTo>
                <a:lnTo>
                  <a:pt x="2021483" y="354553"/>
                </a:lnTo>
                <a:lnTo>
                  <a:pt x="1923586" y="539746"/>
                </a:lnTo>
                <a:lnTo>
                  <a:pt x="2122965" y="475495"/>
                </a:lnTo>
                <a:lnTo>
                  <a:pt x="2248979" y="693757"/>
                </a:lnTo>
                <a:lnTo>
                  <a:pt x="2093646" y="834298"/>
                </a:lnTo>
                <a:lnTo>
                  <a:pt x="2302976" y="842114"/>
                </a:lnTo>
                <a:lnTo>
                  <a:pt x="2346740" y="1090313"/>
                </a:lnTo>
                <a:lnTo>
                  <a:pt x="2152708" y="1169251"/>
                </a:lnTo>
                <a:lnTo>
                  <a:pt x="2346740" y="1248190"/>
                </a:lnTo>
                <a:lnTo>
                  <a:pt x="2302976" y="1496389"/>
                </a:lnTo>
                <a:lnTo>
                  <a:pt x="2093645" y="1504204"/>
                </a:lnTo>
                <a:lnTo>
                  <a:pt x="2248979" y="1644746"/>
                </a:lnTo>
                <a:lnTo>
                  <a:pt x="2122965" y="1863009"/>
                </a:lnTo>
                <a:lnTo>
                  <a:pt x="1923587" y="1798758"/>
                </a:lnTo>
                <a:lnTo>
                  <a:pt x="2021483" y="1983949"/>
                </a:lnTo>
                <a:lnTo>
                  <a:pt x="1828419" y="2145950"/>
                </a:lnTo>
                <a:lnTo>
                  <a:pt x="1663038" y="2017381"/>
                </a:lnTo>
                <a:lnTo>
                  <a:pt x="1691692" y="2224889"/>
                </a:lnTo>
                <a:lnTo>
                  <a:pt x="1454863" y="2311087"/>
                </a:lnTo>
                <a:lnTo>
                  <a:pt x="1343430" y="2133710"/>
                </a:lnTo>
                <a:lnTo>
                  <a:pt x="1299384" y="2338503"/>
                </a:lnTo>
                <a:lnTo>
                  <a:pt x="1047356" y="2338503"/>
                </a:lnTo>
                <a:lnTo>
                  <a:pt x="1003310" y="2133710"/>
                </a:lnTo>
                <a:lnTo>
                  <a:pt x="891877" y="2311087"/>
                </a:lnTo>
                <a:lnTo>
                  <a:pt x="655048" y="2224889"/>
                </a:lnTo>
                <a:lnTo>
                  <a:pt x="683702" y="2017381"/>
                </a:lnTo>
                <a:lnTo>
                  <a:pt x="518321" y="2145950"/>
                </a:lnTo>
                <a:lnTo>
                  <a:pt x="325257" y="1983949"/>
                </a:lnTo>
                <a:lnTo>
                  <a:pt x="423154" y="1798757"/>
                </a:lnTo>
                <a:lnTo>
                  <a:pt x="223775" y="1863008"/>
                </a:lnTo>
                <a:lnTo>
                  <a:pt x="97761" y="1644745"/>
                </a:lnTo>
                <a:lnTo>
                  <a:pt x="253094" y="1504204"/>
                </a:lnTo>
                <a:lnTo>
                  <a:pt x="43764" y="1496389"/>
                </a:lnTo>
                <a:lnTo>
                  <a:pt x="0" y="1248190"/>
                </a:lnTo>
                <a:lnTo>
                  <a:pt x="194032" y="1169251"/>
                </a:lnTo>
                <a:lnTo>
                  <a:pt x="0" y="1090313"/>
                </a:lnTo>
                <a:lnTo>
                  <a:pt x="43764" y="842114"/>
                </a:lnTo>
                <a:lnTo>
                  <a:pt x="253095" y="834298"/>
                </a:lnTo>
                <a:lnTo>
                  <a:pt x="97761" y="693756"/>
                </a:lnTo>
                <a:lnTo>
                  <a:pt x="223775" y="475494"/>
                </a:lnTo>
                <a:lnTo>
                  <a:pt x="423153" y="539745"/>
                </a:lnTo>
                <a:lnTo>
                  <a:pt x="325257" y="354553"/>
                </a:lnTo>
                <a:lnTo>
                  <a:pt x="518321" y="192553"/>
                </a:lnTo>
                <a:lnTo>
                  <a:pt x="683702" y="321121"/>
                </a:lnTo>
                <a:lnTo>
                  <a:pt x="655048" y="113614"/>
                </a:lnTo>
                <a:lnTo>
                  <a:pt x="891877" y="27415"/>
                </a:lnTo>
                <a:lnTo>
                  <a:pt x="1003310" y="204793"/>
                </a:ln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4" name="文本框 41"/>
          <p:cNvSpPr/>
          <p:nvPr/>
        </p:nvSpPr>
        <p:spPr>
          <a:xfrm>
            <a:off x="7635600" y="9360"/>
            <a:ext cx="5090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600" spc="-1" strike="noStrike">
                <a:solidFill>
                  <a:srgbClr val="ffffff"/>
                </a:solidFill>
                <a:latin typeface="方正经黑简体"/>
                <a:ea typeface="方正经黑简体"/>
              </a:rPr>
              <a:t>砥</a:t>
            </a:r>
            <a:endParaRPr b="0" lang="en-US" sz="3600" spc="-1" strike="noStrike">
              <a:solidFill>
                <a:srgbClr val="000000"/>
              </a:solidFill>
              <a:latin typeface="Arial"/>
            </a:endParaRPr>
          </a:p>
        </p:txBody>
      </p:sp>
      <p:sp>
        <p:nvSpPr>
          <p:cNvPr id="265" name="KSO_Shape"/>
          <p:cNvSpPr/>
          <p:nvPr/>
        </p:nvSpPr>
        <p:spPr>
          <a:xfrm>
            <a:off x="9597960" y="-280080"/>
            <a:ext cx="797040" cy="794160"/>
          </a:xfrm>
          <a:custGeom>
            <a:avLst/>
            <a:gdLst>
              <a:gd name="textAreaLeft" fmla="*/ 0 w 797040"/>
              <a:gd name="textAreaRight" fmla="*/ 797400 w 797040"/>
              <a:gd name="textAreaTop" fmla="*/ 0 h 794160"/>
              <a:gd name="textAreaBottom" fmla="*/ 794520 h 794160"/>
            </a:gdLst>
            <a:ahLst/>
            <a:rect l="textAreaLeft" t="textAreaTop" r="textAreaRight" b="textAreaBottom"/>
            <a:pathLst>
              <a:path w="2346740" h="2338503">
                <a:moveTo>
                  <a:pt x="1173371" y="216744"/>
                </a:moveTo>
                <a:cubicBezTo>
                  <a:pt x="647315" y="216744"/>
                  <a:pt x="220863" y="643196"/>
                  <a:pt x="220863" y="1169252"/>
                </a:cubicBezTo>
                <a:cubicBezTo>
                  <a:pt x="220863" y="1695308"/>
                  <a:pt x="647315" y="2121760"/>
                  <a:pt x="1173371" y="2121760"/>
                </a:cubicBezTo>
                <a:cubicBezTo>
                  <a:pt x="1699427" y="2121760"/>
                  <a:pt x="2125879" y="1695308"/>
                  <a:pt x="2125879" y="1169252"/>
                </a:cubicBezTo>
                <a:cubicBezTo>
                  <a:pt x="2125879" y="643196"/>
                  <a:pt x="1699427" y="216744"/>
                  <a:pt x="1173371" y="216744"/>
                </a:cubicBezTo>
                <a:close/>
                <a:moveTo>
                  <a:pt x="1047356" y="0"/>
                </a:moveTo>
                <a:lnTo>
                  <a:pt x="1299384" y="0"/>
                </a:lnTo>
                <a:lnTo>
                  <a:pt x="1343430" y="204792"/>
                </a:lnTo>
                <a:lnTo>
                  <a:pt x="1454863" y="27415"/>
                </a:lnTo>
                <a:lnTo>
                  <a:pt x="1691692" y="113614"/>
                </a:lnTo>
                <a:lnTo>
                  <a:pt x="1663038" y="321121"/>
                </a:lnTo>
                <a:lnTo>
                  <a:pt x="1828419" y="192553"/>
                </a:lnTo>
                <a:lnTo>
                  <a:pt x="2021483" y="354553"/>
                </a:lnTo>
                <a:lnTo>
                  <a:pt x="1923586" y="539746"/>
                </a:lnTo>
                <a:lnTo>
                  <a:pt x="2122965" y="475495"/>
                </a:lnTo>
                <a:lnTo>
                  <a:pt x="2248979" y="693757"/>
                </a:lnTo>
                <a:lnTo>
                  <a:pt x="2093646" y="834298"/>
                </a:lnTo>
                <a:lnTo>
                  <a:pt x="2302976" y="842114"/>
                </a:lnTo>
                <a:lnTo>
                  <a:pt x="2346740" y="1090313"/>
                </a:lnTo>
                <a:lnTo>
                  <a:pt x="2152708" y="1169251"/>
                </a:lnTo>
                <a:lnTo>
                  <a:pt x="2346740" y="1248190"/>
                </a:lnTo>
                <a:lnTo>
                  <a:pt x="2302976" y="1496389"/>
                </a:lnTo>
                <a:lnTo>
                  <a:pt x="2093645" y="1504204"/>
                </a:lnTo>
                <a:lnTo>
                  <a:pt x="2248979" y="1644746"/>
                </a:lnTo>
                <a:lnTo>
                  <a:pt x="2122965" y="1863009"/>
                </a:lnTo>
                <a:lnTo>
                  <a:pt x="1923587" y="1798758"/>
                </a:lnTo>
                <a:lnTo>
                  <a:pt x="2021483" y="1983949"/>
                </a:lnTo>
                <a:lnTo>
                  <a:pt x="1828419" y="2145950"/>
                </a:lnTo>
                <a:lnTo>
                  <a:pt x="1663038" y="2017381"/>
                </a:lnTo>
                <a:lnTo>
                  <a:pt x="1691692" y="2224889"/>
                </a:lnTo>
                <a:lnTo>
                  <a:pt x="1454863" y="2311087"/>
                </a:lnTo>
                <a:lnTo>
                  <a:pt x="1343430" y="2133710"/>
                </a:lnTo>
                <a:lnTo>
                  <a:pt x="1299384" y="2338503"/>
                </a:lnTo>
                <a:lnTo>
                  <a:pt x="1047356" y="2338503"/>
                </a:lnTo>
                <a:lnTo>
                  <a:pt x="1003310" y="2133710"/>
                </a:lnTo>
                <a:lnTo>
                  <a:pt x="891877" y="2311087"/>
                </a:lnTo>
                <a:lnTo>
                  <a:pt x="655048" y="2224889"/>
                </a:lnTo>
                <a:lnTo>
                  <a:pt x="683702" y="2017381"/>
                </a:lnTo>
                <a:lnTo>
                  <a:pt x="518321" y="2145950"/>
                </a:lnTo>
                <a:lnTo>
                  <a:pt x="325257" y="1983949"/>
                </a:lnTo>
                <a:lnTo>
                  <a:pt x="423154" y="1798757"/>
                </a:lnTo>
                <a:lnTo>
                  <a:pt x="223775" y="1863008"/>
                </a:lnTo>
                <a:lnTo>
                  <a:pt x="97761" y="1644745"/>
                </a:lnTo>
                <a:lnTo>
                  <a:pt x="253094" y="1504204"/>
                </a:lnTo>
                <a:lnTo>
                  <a:pt x="43764" y="1496389"/>
                </a:lnTo>
                <a:lnTo>
                  <a:pt x="0" y="1248190"/>
                </a:lnTo>
                <a:lnTo>
                  <a:pt x="194032" y="1169251"/>
                </a:lnTo>
                <a:lnTo>
                  <a:pt x="0" y="1090313"/>
                </a:lnTo>
                <a:lnTo>
                  <a:pt x="43764" y="842114"/>
                </a:lnTo>
                <a:lnTo>
                  <a:pt x="253095" y="834298"/>
                </a:lnTo>
                <a:lnTo>
                  <a:pt x="97761" y="693756"/>
                </a:lnTo>
                <a:lnTo>
                  <a:pt x="223775" y="475494"/>
                </a:lnTo>
                <a:lnTo>
                  <a:pt x="423153" y="539745"/>
                </a:lnTo>
                <a:lnTo>
                  <a:pt x="325257" y="354553"/>
                </a:lnTo>
                <a:lnTo>
                  <a:pt x="518321" y="192553"/>
                </a:lnTo>
                <a:lnTo>
                  <a:pt x="683702" y="321121"/>
                </a:lnTo>
                <a:lnTo>
                  <a:pt x="655048" y="113614"/>
                </a:lnTo>
                <a:lnTo>
                  <a:pt x="891877" y="27415"/>
                </a:lnTo>
                <a:lnTo>
                  <a:pt x="1003310" y="204793"/>
                </a:ln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6" name="文本框 43"/>
          <p:cNvSpPr/>
          <p:nvPr/>
        </p:nvSpPr>
        <p:spPr>
          <a:xfrm>
            <a:off x="9671400" y="-205920"/>
            <a:ext cx="5090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600" spc="-1" strike="noStrike">
                <a:solidFill>
                  <a:srgbClr val="ffffff"/>
                </a:solidFill>
                <a:latin typeface="方正经黑简体"/>
                <a:ea typeface="方正经黑简体"/>
              </a:rPr>
              <a:t>黔</a:t>
            </a:r>
            <a:endParaRPr b="0" lang="en-US" sz="3600" spc="-1" strike="noStrike">
              <a:solidFill>
                <a:srgbClr val="000000"/>
              </a:solidFill>
              <a:latin typeface="Arial"/>
            </a:endParaRPr>
          </a:p>
        </p:txBody>
      </p:sp>
      <p:cxnSp>
        <p:nvCxnSpPr>
          <p:cNvPr id="267" name="直接连接符 47"/>
          <p:cNvCxnSpPr>
            <a:stCxn id="253" idx="1"/>
          </p:cNvCxnSpPr>
          <p:nvPr/>
        </p:nvCxnSpPr>
        <p:spPr>
          <a:xfrm flipV="1">
            <a:off x="4792320" y="593280"/>
            <a:ext cx="806400" cy="143640"/>
          </a:xfrm>
          <a:prstGeom prst="straightConnector1">
            <a:avLst/>
          </a:prstGeom>
          <a:ln w="28575">
            <a:solidFill>
              <a:srgbClr val="ffffff">
                <a:alpha val="61000"/>
              </a:srgbClr>
            </a:solidFill>
            <a:prstDash val="sysDash"/>
          </a:ln>
        </p:spPr>
      </p:cxnSp>
      <p:cxnSp>
        <p:nvCxnSpPr>
          <p:cNvPr id="268" name="直接连接符 50"/>
          <p:cNvCxnSpPr/>
          <p:nvPr/>
        </p:nvCxnSpPr>
        <p:spPr>
          <a:xfrm>
            <a:off x="2709720" y="366120"/>
            <a:ext cx="1303560" cy="379080"/>
          </a:xfrm>
          <a:prstGeom prst="straightConnector1">
            <a:avLst/>
          </a:prstGeom>
          <a:ln w="28575">
            <a:solidFill>
              <a:srgbClr val="ffffff">
                <a:alpha val="61000"/>
              </a:srgbClr>
            </a:solidFill>
            <a:prstDash val="sysDash"/>
          </a:ln>
        </p:spPr>
      </p:cxnSp>
      <p:cxnSp>
        <p:nvCxnSpPr>
          <p:cNvPr id="269" name="直接连接符 52"/>
          <p:cNvCxnSpPr>
            <a:stCxn id="259" idx="1"/>
            <a:endCxn id="257" idx="1"/>
          </p:cNvCxnSpPr>
          <p:nvPr/>
        </p:nvCxnSpPr>
        <p:spPr>
          <a:xfrm flipV="1">
            <a:off x="1145520" y="352440"/>
            <a:ext cx="799200" cy="528840"/>
          </a:xfrm>
          <a:prstGeom prst="straightConnector1">
            <a:avLst/>
          </a:prstGeom>
          <a:ln w="28575">
            <a:solidFill>
              <a:srgbClr val="ffffff">
                <a:alpha val="61000"/>
              </a:srgbClr>
            </a:solidFill>
            <a:prstDash val="sysDash"/>
          </a:ln>
        </p:spPr>
      </p:cxnSp>
      <p:cxnSp>
        <p:nvCxnSpPr>
          <p:cNvPr id="270" name="直接连接符 55"/>
          <p:cNvCxnSpPr>
            <a:stCxn id="261" idx="1"/>
            <a:endCxn id="259" idx="1"/>
          </p:cNvCxnSpPr>
          <p:nvPr/>
        </p:nvCxnSpPr>
        <p:spPr>
          <a:xfrm flipH="1" flipV="1">
            <a:off x="1222560" y="1319400"/>
            <a:ext cx="1382400" cy="54000"/>
          </a:xfrm>
          <a:prstGeom prst="straightConnector1">
            <a:avLst/>
          </a:prstGeom>
          <a:ln w="28575">
            <a:solidFill>
              <a:srgbClr val="ffffff">
                <a:alpha val="61000"/>
              </a:srgbClr>
            </a:solidFill>
            <a:prstDash val="sysDash"/>
          </a:ln>
        </p:spPr>
      </p:cxnSp>
      <p:cxnSp>
        <p:nvCxnSpPr>
          <p:cNvPr id="271" name="直接连接符 60"/>
          <p:cNvCxnSpPr/>
          <p:nvPr/>
        </p:nvCxnSpPr>
        <p:spPr>
          <a:xfrm>
            <a:off x="6350040" y="500400"/>
            <a:ext cx="1268280" cy="44280"/>
          </a:xfrm>
          <a:prstGeom prst="straightConnector1">
            <a:avLst/>
          </a:prstGeom>
          <a:ln w="28575">
            <a:solidFill>
              <a:srgbClr val="ffffff">
                <a:alpha val="61000"/>
              </a:srgbClr>
            </a:solidFill>
            <a:prstDash val="sysDash"/>
          </a:ln>
        </p:spPr>
      </p:cxnSp>
      <p:cxnSp>
        <p:nvCxnSpPr>
          <p:cNvPr id="272" name="直接连接符 62"/>
          <p:cNvCxnSpPr>
            <a:stCxn id="263" idx="1"/>
            <a:endCxn id="265" idx="1"/>
          </p:cNvCxnSpPr>
          <p:nvPr/>
        </p:nvCxnSpPr>
        <p:spPr>
          <a:xfrm flipV="1">
            <a:off x="8377560" y="3240"/>
            <a:ext cx="1306440" cy="497160"/>
          </a:xfrm>
          <a:prstGeom prst="straightConnector1">
            <a:avLst/>
          </a:prstGeom>
          <a:ln w="28575">
            <a:solidFill>
              <a:srgbClr val="ffffff">
                <a:alpha val="61000"/>
              </a:srgbClr>
            </a:solidFill>
            <a:prstDash val="sysDash"/>
          </a:ln>
        </p:spPr>
      </p:cxnSp>
    </p:spTree>
  </p:cSld>
  <mc:AlternateContent>
    <mc:Choice Requires="p14">
      <p:transition spd="slow" p14:dur="1300"/>
    </mc:Choice>
    <mc:Fallback>
      <p:transition spd="slow"/>
    </mc:Fallback>
  </mc:AlternateContent>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withEffect" fill="hold" presetClass="entr" presetID="2" presetSubtype="8">
                                  <p:stCondLst>
                                    <p:cond delay="0"/>
                                  </p:stCondLst>
                                  <p:childTnLst>
                                    <p:set>
                                      <p:cBhvr>
                                        <p:cTn id="458" dur="1" fill="hold">
                                          <p:stCondLst>
                                            <p:cond delay="0"/>
                                          </p:stCondLst>
                                        </p:cTn>
                                        <p:tgtEl>
                                          <p:spTgt spid="233"/>
                                        </p:tgtEl>
                                        <p:attrNameLst>
                                          <p:attrName>style.visibility</p:attrName>
                                        </p:attrNameLst>
                                      </p:cBhvr>
                                      <p:to>
                                        <p:strVal val="visible"/>
                                      </p:to>
                                    </p:set>
                                    <p:anim calcmode="lin" valueType="num">
                                      <p:cBhvr additive="repl">
                                        <p:cTn id="459" dur="800" fill="hold"/>
                                        <p:tgtEl>
                                          <p:spTgt spid="233"/>
                                        </p:tgtEl>
                                        <p:attrNameLst>
                                          <p:attrName>ppt_x</p:attrName>
                                        </p:attrNameLst>
                                      </p:cBhvr>
                                      <p:tavLst>
                                        <p:tav tm="0">
                                          <p:val>
                                            <p:strVal val="0-#ppt_w/2"/>
                                          </p:val>
                                        </p:tav>
                                        <p:tav tm="100000">
                                          <p:val>
                                            <p:strVal val="#ppt_x"/>
                                          </p:val>
                                        </p:tav>
                                      </p:tavLst>
                                    </p:anim>
                                    <p:anim calcmode="lin" valueType="num">
                                      <p:cBhvr additive="repl">
                                        <p:cTn id="460" dur="800" fill="hold"/>
                                        <p:tgtEl>
                                          <p:spTgt spid="233"/>
                                        </p:tgtEl>
                                        <p:attrNameLst>
                                          <p:attrName>ppt_y</p:attrName>
                                        </p:attrNameLst>
                                      </p:cBhvr>
                                      <p:tavLst>
                                        <p:tav tm="0">
                                          <p:val>
                                            <p:strVal val="#ppt_y"/>
                                          </p:val>
                                        </p:tav>
                                        <p:tav tm="100000">
                                          <p:val>
                                            <p:strVal val="#ppt_y"/>
                                          </p:val>
                                        </p:tav>
                                      </p:tavLst>
                                    </p:anim>
                                  </p:childTnLst>
                                </p:cTn>
                              </p:par>
                              <p:par>
                                <p:cTn id="461" nodeType="withEffect" fill="hold" presetClass="entr" presetID="23" presetSubtype="16">
                                  <p:stCondLst>
                                    <p:cond delay="700"/>
                                  </p:stCondLst>
                                  <p:childTnLst>
                                    <p:set>
                                      <p:cBhvr>
                                        <p:cTn id="462" dur="1" fill="hold">
                                          <p:stCondLst>
                                            <p:cond delay="0"/>
                                          </p:stCondLst>
                                        </p:cTn>
                                        <p:tgtEl>
                                          <p:spTgt spid="253"/>
                                        </p:tgtEl>
                                        <p:attrNameLst>
                                          <p:attrName>style.visibility</p:attrName>
                                        </p:attrNameLst>
                                      </p:cBhvr>
                                      <p:to>
                                        <p:strVal val="visible"/>
                                      </p:to>
                                    </p:set>
                                    <p:anim calcmode="lin" valueType="num">
                                      <p:cBhvr additive="repl">
                                        <p:cTn id="463" dur="500" fill="hold"/>
                                        <p:tgtEl>
                                          <p:spTgt spid="253"/>
                                        </p:tgtEl>
                                        <p:attrNameLst>
                                          <p:attrName>ppt_w</p:attrName>
                                        </p:attrNameLst>
                                      </p:cBhvr>
                                      <p:tavLst>
                                        <p:tav tm="0">
                                          <p:val>
                                            <p:fltVal val="0"/>
                                          </p:val>
                                        </p:tav>
                                        <p:tav tm="100000">
                                          <p:val>
                                            <p:strVal val="#ppt_w"/>
                                          </p:val>
                                        </p:tav>
                                      </p:tavLst>
                                    </p:anim>
                                    <p:anim calcmode="lin" valueType="num">
                                      <p:cBhvr additive="repl">
                                        <p:cTn id="464" dur="500" fill="hold"/>
                                        <p:tgtEl>
                                          <p:spTgt spid="253"/>
                                        </p:tgtEl>
                                        <p:attrNameLst>
                                          <p:attrName>ppt_h</p:attrName>
                                        </p:attrNameLst>
                                      </p:cBhvr>
                                      <p:tavLst>
                                        <p:tav tm="0">
                                          <p:val>
                                            <p:fltVal val="0"/>
                                          </p:val>
                                        </p:tav>
                                        <p:tav tm="100000">
                                          <p:val>
                                            <p:strVal val="#ppt_h"/>
                                          </p:val>
                                        </p:tav>
                                      </p:tavLst>
                                    </p:anim>
                                  </p:childTnLst>
                                </p:cTn>
                              </p:par>
                              <p:par>
                                <p:cTn id="465" nodeType="withEffect" fill="hold" presetClass="emph" presetID="8" repeatCount="indefinite">
                                  <p:stCondLst>
                                    <p:cond delay="700"/>
                                  </p:stCondLst>
                                  <p:childTnLst>
                                    <p:animRot by="2400000">
                                      <p:cBhvr>
                                        <p:cTn id="466" dur="500" fill="hold"/>
                                        <p:tgtEl>
                                          <p:spTgt spid="253"/>
                                        </p:tgtEl>
                                        <p:attrNameLst>
                                          <p:attrName>r</p:attrName>
                                        </p:attrNameLst>
                                      </p:cBhvr>
                                    </p:animRot>
                                  </p:childTnLst>
                                </p:cTn>
                              </p:par>
                              <p:par>
                                <p:cTn id="467" nodeType="withEffect" fill="remove" presetClass="emph" presetID="26" repeatCount="2000">
                                  <p:stCondLst>
                                    <p:cond delay="1100"/>
                                  </p:stCondLst>
                                  <p:childTnLst>
                                    <p:animEffect filter="fade" transition="out">
                                      <p:cBhvr additive="repl">
                                        <p:cTn id="468" dur="500"/>
                                        <p:tgtEl>
                                          <p:spTgt spid="253"/>
                                        </p:tgtEl>
                                      </p:cBhvr>
                                    </p:animEffect>
                                    <p:animScale>
                                      <p:cBhvr>
                                        <p:cTn id="469" dur="250" autoRev="1" fill="hold"/>
                                        <p:tgtEl>
                                          <p:spTgt spid="253"/>
                                        </p:tgtEl>
                                      </p:cBhvr>
                                      <p:by x="105000" y="105000"/>
                                    </p:animScale>
                                  </p:childTnLst>
                                </p:cTn>
                              </p:par>
                              <p:par>
                                <p:cTn id="470" nodeType="withEffect" fill="hold" presetClass="entr" presetID="53" presetSubtype="16">
                                  <p:stCondLst>
                                    <p:cond delay="1100"/>
                                  </p:stCondLst>
                                  <p:childTnLst>
                                    <p:set>
                                      <p:cBhvr>
                                        <p:cTn id="471" dur="1" fill="hold">
                                          <p:stCondLst>
                                            <p:cond delay="0"/>
                                          </p:stCondLst>
                                        </p:cTn>
                                        <p:tgtEl>
                                          <p:spTgt spid="254"/>
                                        </p:tgtEl>
                                        <p:attrNameLst>
                                          <p:attrName>style.visibility</p:attrName>
                                        </p:attrNameLst>
                                      </p:cBhvr>
                                      <p:to>
                                        <p:strVal val="visible"/>
                                      </p:to>
                                    </p:set>
                                    <p:anim calcmode="lin" valueType="num">
                                      <p:cBhvr additive="repl">
                                        <p:cTn id="472" dur="300" fill="hold"/>
                                        <p:tgtEl>
                                          <p:spTgt spid="254"/>
                                        </p:tgtEl>
                                        <p:attrNameLst>
                                          <p:attrName>ppt_w</p:attrName>
                                        </p:attrNameLst>
                                      </p:cBhvr>
                                      <p:tavLst>
                                        <p:tav tm="0">
                                          <p:val>
                                            <p:fltVal val="0"/>
                                          </p:val>
                                        </p:tav>
                                        <p:tav tm="100000">
                                          <p:val>
                                            <p:strVal val="#ppt_w"/>
                                          </p:val>
                                        </p:tav>
                                      </p:tavLst>
                                    </p:anim>
                                    <p:anim calcmode="lin" valueType="num">
                                      <p:cBhvr additive="repl">
                                        <p:cTn id="473" dur="300" fill="hold"/>
                                        <p:tgtEl>
                                          <p:spTgt spid="254"/>
                                        </p:tgtEl>
                                        <p:attrNameLst>
                                          <p:attrName>ppt_h</p:attrName>
                                        </p:attrNameLst>
                                      </p:cBhvr>
                                      <p:tavLst>
                                        <p:tav tm="0">
                                          <p:val>
                                            <p:fltVal val="0"/>
                                          </p:val>
                                        </p:tav>
                                        <p:tav tm="100000">
                                          <p:val>
                                            <p:strVal val="#ppt_h"/>
                                          </p:val>
                                        </p:tav>
                                      </p:tavLst>
                                    </p:anim>
                                    <p:animEffect filter="fade" transition="in">
                                      <p:cBhvr additive="repl">
                                        <p:cTn id="474" dur="300"/>
                                        <p:tgtEl>
                                          <p:spTgt spid="254"/>
                                        </p:tgtEl>
                                      </p:cBhvr>
                                    </p:animEffect>
                                  </p:childTnLst>
                                </p:cTn>
                              </p:par>
                              <p:par>
                                <p:cTn id="475" nodeType="withEffect" fill="hold" presetClass="entr" presetID="22" presetSubtype="8">
                                  <p:stCondLst>
                                    <p:cond delay="1100"/>
                                  </p:stCondLst>
                                  <p:childTnLst>
                                    <p:set>
                                      <p:cBhvr>
                                        <p:cTn id="476" dur="1" fill="hold">
                                          <p:stCondLst>
                                            <p:cond delay="0"/>
                                          </p:stCondLst>
                                        </p:cTn>
                                        <p:tgtEl>
                                          <p:spTgt spid="267"/>
                                        </p:tgtEl>
                                        <p:attrNameLst>
                                          <p:attrName>style.visibility</p:attrName>
                                        </p:attrNameLst>
                                      </p:cBhvr>
                                      <p:to>
                                        <p:strVal val="visible"/>
                                      </p:to>
                                    </p:set>
                                    <p:animEffect filter="wipe(left)" transition="in">
                                      <p:cBhvr additive="repl">
                                        <p:cTn id="477" dur="500"/>
                                        <p:tgtEl>
                                          <p:spTgt spid="267"/>
                                        </p:tgtEl>
                                      </p:cBhvr>
                                    </p:animEffect>
                                  </p:childTnLst>
                                </p:cTn>
                              </p:par>
                              <p:par>
                                <p:cTn id="478" nodeType="withEffect" fill="hold" presetClass="entr" presetID="23" presetSubtype="16">
                                  <p:stCondLst>
                                    <p:cond delay="1100"/>
                                  </p:stCondLst>
                                  <p:childTnLst>
                                    <p:set>
                                      <p:cBhvr>
                                        <p:cTn id="479" dur="1" fill="hold">
                                          <p:stCondLst>
                                            <p:cond delay="0"/>
                                          </p:stCondLst>
                                        </p:cTn>
                                        <p:tgtEl>
                                          <p:spTgt spid="255"/>
                                        </p:tgtEl>
                                        <p:attrNameLst>
                                          <p:attrName>style.visibility</p:attrName>
                                        </p:attrNameLst>
                                      </p:cBhvr>
                                      <p:to>
                                        <p:strVal val="visible"/>
                                      </p:to>
                                    </p:set>
                                    <p:anim calcmode="lin" valueType="num">
                                      <p:cBhvr additive="repl">
                                        <p:cTn id="480" dur="500" fill="hold"/>
                                        <p:tgtEl>
                                          <p:spTgt spid="255"/>
                                        </p:tgtEl>
                                        <p:attrNameLst>
                                          <p:attrName>ppt_w</p:attrName>
                                        </p:attrNameLst>
                                      </p:cBhvr>
                                      <p:tavLst>
                                        <p:tav tm="0">
                                          <p:val>
                                            <p:fltVal val="0"/>
                                          </p:val>
                                        </p:tav>
                                        <p:tav tm="100000">
                                          <p:val>
                                            <p:strVal val="#ppt_w"/>
                                          </p:val>
                                        </p:tav>
                                      </p:tavLst>
                                    </p:anim>
                                    <p:anim calcmode="lin" valueType="num">
                                      <p:cBhvr additive="repl">
                                        <p:cTn id="481" dur="500" fill="hold"/>
                                        <p:tgtEl>
                                          <p:spTgt spid="255"/>
                                        </p:tgtEl>
                                        <p:attrNameLst>
                                          <p:attrName>ppt_h</p:attrName>
                                        </p:attrNameLst>
                                      </p:cBhvr>
                                      <p:tavLst>
                                        <p:tav tm="0">
                                          <p:val>
                                            <p:fltVal val="0"/>
                                          </p:val>
                                        </p:tav>
                                        <p:tav tm="100000">
                                          <p:val>
                                            <p:strVal val="#ppt_h"/>
                                          </p:val>
                                        </p:tav>
                                      </p:tavLst>
                                    </p:anim>
                                  </p:childTnLst>
                                </p:cTn>
                              </p:par>
                              <p:par>
                                <p:cTn id="482" nodeType="withEffect" fill="hold" presetClass="emph" presetID="8" repeatCount="indefinite">
                                  <p:stCondLst>
                                    <p:cond delay="1100"/>
                                  </p:stCondLst>
                                  <p:childTnLst>
                                    <p:animRot by="2400000">
                                      <p:cBhvr>
                                        <p:cTn id="483" dur="500" fill="hold"/>
                                        <p:tgtEl>
                                          <p:spTgt spid="255"/>
                                        </p:tgtEl>
                                        <p:attrNameLst>
                                          <p:attrName>r</p:attrName>
                                        </p:attrNameLst>
                                      </p:cBhvr>
                                    </p:animRot>
                                  </p:childTnLst>
                                </p:cTn>
                              </p:par>
                              <p:par>
                                <p:cTn id="484" nodeType="withEffect" fill="remove" presetClass="emph" presetID="26" repeatCount="2000">
                                  <p:stCondLst>
                                    <p:cond delay="1600"/>
                                  </p:stCondLst>
                                  <p:childTnLst>
                                    <p:animEffect filter="fade" transition="out">
                                      <p:cBhvr additive="repl">
                                        <p:cTn id="485" dur="500"/>
                                        <p:tgtEl>
                                          <p:spTgt spid="255"/>
                                        </p:tgtEl>
                                      </p:cBhvr>
                                    </p:animEffect>
                                    <p:animScale>
                                      <p:cBhvr>
                                        <p:cTn id="486" dur="250" autoRev="1" fill="hold"/>
                                        <p:tgtEl>
                                          <p:spTgt spid="255"/>
                                        </p:tgtEl>
                                      </p:cBhvr>
                                      <p:by x="105000" y="105000"/>
                                    </p:animScale>
                                  </p:childTnLst>
                                </p:cTn>
                              </p:par>
                              <p:par>
                                <p:cTn id="487" nodeType="withEffect" fill="hold" presetClass="entr" presetID="53" presetSubtype="16">
                                  <p:stCondLst>
                                    <p:cond delay="1600"/>
                                  </p:stCondLst>
                                  <p:childTnLst>
                                    <p:set>
                                      <p:cBhvr>
                                        <p:cTn id="488" dur="1" fill="hold">
                                          <p:stCondLst>
                                            <p:cond delay="0"/>
                                          </p:stCondLst>
                                        </p:cTn>
                                        <p:tgtEl>
                                          <p:spTgt spid="256"/>
                                        </p:tgtEl>
                                        <p:attrNameLst>
                                          <p:attrName>style.visibility</p:attrName>
                                        </p:attrNameLst>
                                      </p:cBhvr>
                                      <p:to>
                                        <p:strVal val="visible"/>
                                      </p:to>
                                    </p:set>
                                    <p:anim calcmode="lin" valueType="num">
                                      <p:cBhvr additive="repl">
                                        <p:cTn id="489" dur="300" fill="hold"/>
                                        <p:tgtEl>
                                          <p:spTgt spid="256"/>
                                        </p:tgtEl>
                                        <p:attrNameLst>
                                          <p:attrName>ppt_w</p:attrName>
                                        </p:attrNameLst>
                                      </p:cBhvr>
                                      <p:tavLst>
                                        <p:tav tm="0">
                                          <p:val>
                                            <p:fltVal val="0"/>
                                          </p:val>
                                        </p:tav>
                                        <p:tav tm="100000">
                                          <p:val>
                                            <p:strVal val="#ppt_w"/>
                                          </p:val>
                                        </p:tav>
                                      </p:tavLst>
                                    </p:anim>
                                    <p:anim calcmode="lin" valueType="num">
                                      <p:cBhvr additive="repl">
                                        <p:cTn id="490" dur="300" fill="hold"/>
                                        <p:tgtEl>
                                          <p:spTgt spid="256"/>
                                        </p:tgtEl>
                                        <p:attrNameLst>
                                          <p:attrName>ppt_h</p:attrName>
                                        </p:attrNameLst>
                                      </p:cBhvr>
                                      <p:tavLst>
                                        <p:tav tm="0">
                                          <p:val>
                                            <p:fltVal val="0"/>
                                          </p:val>
                                        </p:tav>
                                        <p:tav tm="100000">
                                          <p:val>
                                            <p:strVal val="#ppt_h"/>
                                          </p:val>
                                        </p:tav>
                                      </p:tavLst>
                                    </p:anim>
                                    <p:animEffect filter="fade" transition="in">
                                      <p:cBhvr additive="repl">
                                        <p:cTn id="491" dur="300"/>
                                        <p:tgtEl>
                                          <p:spTgt spid="256"/>
                                        </p:tgtEl>
                                      </p:cBhvr>
                                    </p:animEffect>
                                  </p:childTnLst>
                                </p:cTn>
                              </p:par>
                              <p:par>
                                <p:cTn id="492" nodeType="withEffect" fill="hold" presetClass="entr" presetID="22" presetSubtype="2">
                                  <p:stCondLst>
                                    <p:cond delay="1600"/>
                                  </p:stCondLst>
                                  <p:childTnLst>
                                    <p:set>
                                      <p:cBhvr>
                                        <p:cTn id="493" dur="1" fill="hold">
                                          <p:stCondLst>
                                            <p:cond delay="0"/>
                                          </p:stCondLst>
                                        </p:cTn>
                                        <p:tgtEl>
                                          <p:spTgt spid="268"/>
                                        </p:tgtEl>
                                        <p:attrNameLst>
                                          <p:attrName>style.visibility</p:attrName>
                                        </p:attrNameLst>
                                      </p:cBhvr>
                                      <p:to>
                                        <p:strVal val="visible"/>
                                      </p:to>
                                    </p:set>
                                    <p:animEffect filter="wipe(right)" transition="in">
                                      <p:cBhvr additive="repl">
                                        <p:cTn id="494" dur="500"/>
                                        <p:tgtEl>
                                          <p:spTgt spid="268"/>
                                        </p:tgtEl>
                                      </p:cBhvr>
                                    </p:animEffect>
                                  </p:childTnLst>
                                </p:cTn>
                              </p:par>
                              <p:par>
                                <p:cTn id="495" nodeType="withEffect" fill="hold" presetClass="entr" presetID="23" presetSubtype="16">
                                  <p:stCondLst>
                                    <p:cond delay="1600"/>
                                  </p:stCondLst>
                                  <p:childTnLst>
                                    <p:set>
                                      <p:cBhvr>
                                        <p:cTn id="496" dur="1" fill="hold">
                                          <p:stCondLst>
                                            <p:cond delay="0"/>
                                          </p:stCondLst>
                                        </p:cTn>
                                        <p:tgtEl>
                                          <p:spTgt spid="257"/>
                                        </p:tgtEl>
                                        <p:attrNameLst>
                                          <p:attrName>style.visibility</p:attrName>
                                        </p:attrNameLst>
                                      </p:cBhvr>
                                      <p:to>
                                        <p:strVal val="visible"/>
                                      </p:to>
                                    </p:set>
                                    <p:anim calcmode="lin" valueType="num">
                                      <p:cBhvr additive="repl">
                                        <p:cTn id="497" dur="500" fill="hold"/>
                                        <p:tgtEl>
                                          <p:spTgt spid="257"/>
                                        </p:tgtEl>
                                        <p:attrNameLst>
                                          <p:attrName>ppt_w</p:attrName>
                                        </p:attrNameLst>
                                      </p:cBhvr>
                                      <p:tavLst>
                                        <p:tav tm="0">
                                          <p:val>
                                            <p:fltVal val="0"/>
                                          </p:val>
                                        </p:tav>
                                        <p:tav tm="100000">
                                          <p:val>
                                            <p:strVal val="#ppt_w"/>
                                          </p:val>
                                        </p:tav>
                                      </p:tavLst>
                                    </p:anim>
                                    <p:anim calcmode="lin" valueType="num">
                                      <p:cBhvr additive="repl">
                                        <p:cTn id="498" dur="500" fill="hold"/>
                                        <p:tgtEl>
                                          <p:spTgt spid="257"/>
                                        </p:tgtEl>
                                        <p:attrNameLst>
                                          <p:attrName>ppt_h</p:attrName>
                                        </p:attrNameLst>
                                      </p:cBhvr>
                                      <p:tavLst>
                                        <p:tav tm="0">
                                          <p:val>
                                            <p:fltVal val="0"/>
                                          </p:val>
                                        </p:tav>
                                        <p:tav tm="100000">
                                          <p:val>
                                            <p:strVal val="#ppt_h"/>
                                          </p:val>
                                        </p:tav>
                                      </p:tavLst>
                                    </p:anim>
                                  </p:childTnLst>
                                </p:cTn>
                              </p:par>
                              <p:par>
                                <p:cTn id="499" nodeType="withEffect" fill="hold" presetClass="emph" presetID="8" repeatCount="indefinite">
                                  <p:stCondLst>
                                    <p:cond delay="1600"/>
                                  </p:stCondLst>
                                  <p:childTnLst>
                                    <p:animRot by="2400000">
                                      <p:cBhvr>
                                        <p:cTn id="500" dur="500" fill="hold"/>
                                        <p:tgtEl>
                                          <p:spTgt spid="257"/>
                                        </p:tgtEl>
                                        <p:attrNameLst>
                                          <p:attrName>r</p:attrName>
                                        </p:attrNameLst>
                                      </p:cBhvr>
                                    </p:animRot>
                                  </p:childTnLst>
                                </p:cTn>
                              </p:par>
                              <p:par>
                                <p:cTn id="501" nodeType="withEffect" fill="remove" presetClass="emph" presetID="26" repeatCount="2000">
                                  <p:stCondLst>
                                    <p:cond delay="2100"/>
                                  </p:stCondLst>
                                  <p:childTnLst>
                                    <p:animEffect filter="fade" transition="out">
                                      <p:cBhvr additive="repl">
                                        <p:cTn id="502" dur="500"/>
                                        <p:tgtEl>
                                          <p:spTgt spid="257"/>
                                        </p:tgtEl>
                                      </p:cBhvr>
                                    </p:animEffect>
                                    <p:animScale>
                                      <p:cBhvr>
                                        <p:cTn id="503" dur="250" autoRev="1" fill="hold"/>
                                        <p:tgtEl>
                                          <p:spTgt spid="257"/>
                                        </p:tgtEl>
                                      </p:cBhvr>
                                      <p:by x="105000" y="105000"/>
                                    </p:animScale>
                                  </p:childTnLst>
                                </p:cTn>
                              </p:par>
                              <p:par>
                                <p:cTn id="504" nodeType="withEffect" fill="hold" presetClass="entr" presetID="53" presetSubtype="16">
                                  <p:stCondLst>
                                    <p:cond delay="2100"/>
                                  </p:stCondLst>
                                  <p:childTnLst>
                                    <p:set>
                                      <p:cBhvr>
                                        <p:cTn id="505" dur="1" fill="hold">
                                          <p:stCondLst>
                                            <p:cond delay="0"/>
                                          </p:stCondLst>
                                        </p:cTn>
                                        <p:tgtEl>
                                          <p:spTgt spid="258"/>
                                        </p:tgtEl>
                                        <p:attrNameLst>
                                          <p:attrName>style.visibility</p:attrName>
                                        </p:attrNameLst>
                                      </p:cBhvr>
                                      <p:to>
                                        <p:strVal val="visible"/>
                                      </p:to>
                                    </p:set>
                                    <p:anim calcmode="lin" valueType="num">
                                      <p:cBhvr additive="repl">
                                        <p:cTn id="506" dur="300" fill="hold"/>
                                        <p:tgtEl>
                                          <p:spTgt spid="258"/>
                                        </p:tgtEl>
                                        <p:attrNameLst>
                                          <p:attrName>ppt_w</p:attrName>
                                        </p:attrNameLst>
                                      </p:cBhvr>
                                      <p:tavLst>
                                        <p:tav tm="0">
                                          <p:val>
                                            <p:fltVal val="0"/>
                                          </p:val>
                                        </p:tav>
                                        <p:tav tm="100000">
                                          <p:val>
                                            <p:strVal val="#ppt_w"/>
                                          </p:val>
                                        </p:tav>
                                      </p:tavLst>
                                    </p:anim>
                                    <p:anim calcmode="lin" valueType="num">
                                      <p:cBhvr additive="repl">
                                        <p:cTn id="507" dur="300" fill="hold"/>
                                        <p:tgtEl>
                                          <p:spTgt spid="258"/>
                                        </p:tgtEl>
                                        <p:attrNameLst>
                                          <p:attrName>ppt_h</p:attrName>
                                        </p:attrNameLst>
                                      </p:cBhvr>
                                      <p:tavLst>
                                        <p:tav tm="0">
                                          <p:val>
                                            <p:fltVal val="0"/>
                                          </p:val>
                                        </p:tav>
                                        <p:tav tm="100000">
                                          <p:val>
                                            <p:strVal val="#ppt_h"/>
                                          </p:val>
                                        </p:tav>
                                      </p:tavLst>
                                    </p:anim>
                                    <p:animEffect filter="fade" transition="in">
                                      <p:cBhvr additive="repl">
                                        <p:cTn id="508" dur="300"/>
                                        <p:tgtEl>
                                          <p:spTgt spid="258"/>
                                        </p:tgtEl>
                                      </p:cBhvr>
                                    </p:animEffect>
                                  </p:childTnLst>
                                </p:cTn>
                              </p:par>
                              <p:par>
                                <p:cTn id="509" nodeType="withEffect" fill="hold" presetClass="entr" presetID="23" presetSubtype="16">
                                  <p:stCondLst>
                                    <p:cond delay="2100"/>
                                  </p:stCondLst>
                                  <p:childTnLst>
                                    <p:set>
                                      <p:cBhvr>
                                        <p:cTn id="510" dur="1" fill="hold">
                                          <p:stCondLst>
                                            <p:cond delay="0"/>
                                          </p:stCondLst>
                                        </p:cTn>
                                        <p:tgtEl>
                                          <p:spTgt spid="259"/>
                                        </p:tgtEl>
                                        <p:attrNameLst>
                                          <p:attrName>style.visibility</p:attrName>
                                        </p:attrNameLst>
                                      </p:cBhvr>
                                      <p:to>
                                        <p:strVal val="visible"/>
                                      </p:to>
                                    </p:set>
                                    <p:anim calcmode="lin" valueType="num">
                                      <p:cBhvr additive="repl">
                                        <p:cTn id="511" dur="500" fill="hold"/>
                                        <p:tgtEl>
                                          <p:spTgt spid="259"/>
                                        </p:tgtEl>
                                        <p:attrNameLst>
                                          <p:attrName>ppt_w</p:attrName>
                                        </p:attrNameLst>
                                      </p:cBhvr>
                                      <p:tavLst>
                                        <p:tav tm="0">
                                          <p:val>
                                            <p:fltVal val="0"/>
                                          </p:val>
                                        </p:tav>
                                        <p:tav tm="100000">
                                          <p:val>
                                            <p:strVal val="#ppt_w"/>
                                          </p:val>
                                        </p:tav>
                                      </p:tavLst>
                                    </p:anim>
                                    <p:anim calcmode="lin" valueType="num">
                                      <p:cBhvr additive="repl">
                                        <p:cTn id="512" dur="500" fill="hold"/>
                                        <p:tgtEl>
                                          <p:spTgt spid="259"/>
                                        </p:tgtEl>
                                        <p:attrNameLst>
                                          <p:attrName>ppt_h</p:attrName>
                                        </p:attrNameLst>
                                      </p:cBhvr>
                                      <p:tavLst>
                                        <p:tav tm="0">
                                          <p:val>
                                            <p:fltVal val="0"/>
                                          </p:val>
                                        </p:tav>
                                        <p:tav tm="100000">
                                          <p:val>
                                            <p:strVal val="#ppt_h"/>
                                          </p:val>
                                        </p:tav>
                                      </p:tavLst>
                                    </p:anim>
                                  </p:childTnLst>
                                </p:cTn>
                              </p:par>
                              <p:par>
                                <p:cTn id="513" nodeType="withEffect" fill="hold" presetClass="emph" presetID="8" repeatCount="indefinite">
                                  <p:stCondLst>
                                    <p:cond delay="2100"/>
                                  </p:stCondLst>
                                  <p:childTnLst>
                                    <p:animRot by="2400000">
                                      <p:cBhvr>
                                        <p:cTn id="514" dur="500" fill="hold"/>
                                        <p:tgtEl>
                                          <p:spTgt spid="259"/>
                                        </p:tgtEl>
                                        <p:attrNameLst>
                                          <p:attrName>r</p:attrName>
                                        </p:attrNameLst>
                                      </p:cBhvr>
                                    </p:animRot>
                                  </p:childTnLst>
                                </p:cTn>
                              </p:par>
                              <p:par>
                                <p:cTn id="515" nodeType="withEffect" fill="remove" presetClass="emph" presetID="26" repeatCount="2000">
                                  <p:stCondLst>
                                    <p:cond delay="2500"/>
                                  </p:stCondLst>
                                  <p:childTnLst>
                                    <p:animEffect filter="fade" transition="out">
                                      <p:cBhvr additive="repl">
                                        <p:cTn id="516" dur="500"/>
                                        <p:tgtEl>
                                          <p:spTgt spid="259"/>
                                        </p:tgtEl>
                                      </p:cBhvr>
                                    </p:animEffect>
                                    <p:animScale>
                                      <p:cBhvr>
                                        <p:cTn id="517" dur="250" autoRev="1" fill="hold"/>
                                        <p:tgtEl>
                                          <p:spTgt spid="259"/>
                                        </p:tgtEl>
                                      </p:cBhvr>
                                      <p:by x="105000" y="105000"/>
                                    </p:animScale>
                                  </p:childTnLst>
                                </p:cTn>
                              </p:par>
                              <p:par>
                                <p:cTn id="518" nodeType="withEffect" fill="hold" presetClass="entr" presetID="53" presetSubtype="16">
                                  <p:stCondLst>
                                    <p:cond delay="2500"/>
                                  </p:stCondLst>
                                  <p:childTnLst>
                                    <p:set>
                                      <p:cBhvr>
                                        <p:cTn id="519" dur="1" fill="hold">
                                          <p:stCondLst>
                                            <p:cond delay="0"/>
                                          </p:stCondLst>
                                        </p:cTn>
                                        <p:tgtEl>
                                          <p:spTgt spid="260"/>
                                        </p:tgtEl>
                                        <p:attrNameLst>
                                          <p:attrName>style.visibility</p:attrName>
                                        </p:attrNameLst>
                                      </p:cBhvr>
                                      <p:to>
                                        <p:strVal val="visible"/>
                                      </p:to>
                                    </p:set>
                                    <p:anim calcmode="lin" valueType="num">
                                      <p:cBhvr additive="repl">
                                        <p:cTn id="520" dur="300" fill="hold"/>
                                        <p:tgtEl>
                                          <p:spTgt spid="260"/>
                                        </p:tgtEl>
                                        <p:attrNameLst>
                                          <p:attrName>ppt_w</p:attrName>
                                        </p:attrNameLst>
                                      </p:cBhvr>
                                      <p:tavLst>
                                        <p:tav tm="0">
                                          <p:val>
                                            <p:fltVal val="0"/>
                                          </p:val>
                                        </p:tav>
                                        <p:tav tm="100000">
                                          <p:val>
                                            <p:strVal val="#ppt_w"/>
                                          </p:val>
                                        </p:tav>
                                      </p:tavLst>
                                    </p:anim>
                                    <p:anim calcmode="lin" valueType="num">
                                      <p:cBhvr additive="repl">
                                        <p:cTn id="521" dur="300" fill="hold"/>
                                        <p:tgtEl>
                                          <p:spTgt spid="260"/>
                                        </p:tgtEl>
                                        <p:attrNameLst>
                                          <p:attrName>ppt_h</p:attrName>
                                        </p:attrNameLst>
                                      </p:cBhvr>
                                      <p:tavLst>
                                        <p:tav tm="0">
                                          <p:val>
                                            <p:fltVal val="0"/>
                                          </p:val>
                                        </p:tav>
                                        <p:tav tm="100000">
                                          <p:val>
                                            <p:strVal val="#ppt_h"/>
                                          </p:val>
                                        </p:tav>
                                      </p:tavLst>
                                    </p:anim>
                                    <p:animEffect filter="fade" transition="in">
                                      <p:cBhvr additive="repl">
                                        <p:cTn id="522" dur="300"/>
                                        <p:tgtEl>
                                          <p:spTgt spid="260"/>
                                        </p:tgtEl>
                                      </p:cBhvr>
                                    </p:animEffect>
                                  </p:childTnLst>
                                </p:cTn>
                              </p:par>
                              <p:par>
                                <p:cTn id="523" nodeType="withEffect" fill="hold" presetClass="entr" presetID="22" presetSubtype="2">
                                  <p:stCondLst>
                                    <p:cond delay="2500"/>
                                  </p:stCondLst>
                                  <p:childTnLst>
                                    <p:set>
                                      <p:cBhvr>
                                        <p:cTn id="524" dur="1" fill="hold">
                                          <p:stCondLst>
                                            <p:cond delay="0"/>
                                          </p:stCondLst>
                                        </p:cTn>
                                        <p:tgtEl>
                                          <p:spTgt spid="269"/>
                                        </p:tgtEl>
                                        <p:attrNameLst>
                                          <p:attrName>style.visibility</p:attrName>
                                        </p:attrNameLst>
                                      </p:cBhvr>
                                      <p:to>
                                        <p:strVal val="visible"/>
                                      </p:to>
                                    </p:set>
                                    <p:animEffect filter="wipe(right)" transition="in">
                                      <p:cBhvr additive="repl">
                                        <p:cTn id="525" dur="500"/>
                                        <p:tgtEl>
                                          <p:spTgt spid="269"/>
                                        </p:tgtEl>
                                      </p:cBhvr>
                                    </p:animEffect>
                                  </p:childTnLst>
                                </p:cTn>
                              </p:par>
                              <p:par>
                                <p:cTn id="526" nodeType="withEffect" fill="hold" presetClass="entr" presetID="23" presetSubtype="16">
                                  <p:stCondLst>
                                    <p:cond delay="2500"/>
                                  </p:stCondLst>
                                  <p:childTnLst>
                                    <p:set>
                                      <p:cBhvr>
                                        <p:cTn id="527" dur="1" fill="hold">
                                          <p:stCondLst>
                                            <p:cond delay="0"/>
                                          </p:stCondLst>
                                        </p:cTn>
                                        <p:tgtEl>
                                          <p:spTgt spid="261"/>
                                        </p:tgtEl>
                                        <p:attrNameLst>
                                          <p:attrName>style.visibility</p:attrName>
                                        </p:attrNameLst>
                                      </p:cBhvr>
                                      <p:to>
                                        <p:strVal val="visible"/>
                                      </p:to>
                                    </p:set>
                                    <p:anim calcmode="lin" valueType="num">
                                      <p:cBhvr additive="repl">
                                        <p:cTn id="528" dur="500" fill="hold"/>
                                        <p:tgtEl>
                                          <p:spTgt spid="261"/>
                                        </p:tgtEl>
                                        <p:attrNameLst>
                                          <p:attrName>ppt_w</p:attrName>
                                        </p:attrNameLst>
                                      </p:cBhvr>
                                      <p:tavLst>
                                        <p:tav tm="0">
                                          <p:val>
                                            <p:fltVal val="0"/>
                                          </p:val>
                                        </p:tav>
                                        <p:tav tm="100000">
                                          <p:val>
                                            <p:strVal val="#ppt_w"/>
                                          </p:val>
                                        </p:tav>
                                      </p:tavLst>
                                    </p:anim>
                                    <p:anim calcmode="lin" valueType="num">
                                      <p:cBhvr additive="repl">
                                        <p:cTn id="529" dur="500" fill="hold"/>
                                        <p:tgtEl>
                                          <p:spTgt spid="261"/>
                                        </p:tgtEl>
                                        <p:attrNameLst>
                                          <p:attrName>ppt_h</p:attrName>
                                        </p:attrNameLst>
                                      </p:cBhvr>
                                      <p:tavLst>
                                        <p:tav tm="0">
                                          <p:val>
                                            <p:fltVal val="0"/>
                                          </p:val>
                                        </p:tav>
                                        <p:tav tm="100000">
                                          <p:val>
                                            <p:strVal val="#ppt_h"/>
                                          </p:val>
                                        </p:tav>
                                      </p:tavLst>
                                    </p:anim>
                                  </p:childTnLst>
                                </p:cTn>
                              </p:par>
                              <p:par>
                                <p:cTn id="530" nodeType="withEffect" fill="hold" presetClass="emph" presetID="8" repeatCount="indefinite">
                                  <p:stCondLst>
                                    <p:cond delay="2500"/>
                                  </p:stCondLst>
                                  <p:childTnLst>
                                    <p:animRot by="2400000">
                                      <p:cBhvr>
                                        <p:cTn id="531" dur="500" fill="hold"/>
                                        <p:tgtEl>
                                          <p:spTgt spid="261"/>
                                        </p:tgtEl>
                                        <p:attrNameLst>
                                          <p:attrName>r</p:attrName>
                                        </p:attrNameLst>
                                      </p:cBhvr>
                                    </p:animRot>
                                  </p:childTnLst>
                                </p:cTn>
                              </p:par>
                              <p:par>
                                <p:cTn id="532" nodeType="withEffect" fill="remove" presetClass="emph" presetID="26" repeatCount="2000">
                                  <p:stCondLst>
                                    <p:cond delay="3000"/>
                                  </p:stCondLst>
                                  <p:childTnLst>
                                    <p:animEffect filter="fade" transition="out">
                                      <p:cBhvr additive="repl">
                                        <p:cTn id="533" dur="500"/>
                                        <p:tgtEl>
                                          <p:spTgt spid="261"/>
                                        </p:tgtEl>
                                      </p:cBhvr>
                                    </p:animEffect>
                                    <p:animScale>
                                      <p:cBhvr>
                                        <p:cTn id="534" dur="250" autoRev="1" fill="hold"/>
                                        <p:tgtEl>
                                          <p:spTgt spid="261"/>
                                        </p:tgtEl>
                                      </p:cBhvr>
                                      <p:by x="105000" y="105000"/>
                                    </p:animScale>
                                  </p:childTnLst>
                                </p:cTn>
                              </p:par>
                              <p:par>
                                <p:cTn id="535" nodeType="withEffect" fill="hold" presetClass="entr" presetID="53" presetSubtype="16">
                                  <p:stCondLst>
                                    <p:cond delay="3000"/>
                                  </p:stCondLst>
                                  <p:childTnLst>
                                    <p:set>
                                      <p:cBhvr>
                                        <p:cTn id="536" dur="1" fill="hold">
                                          <p:stCondLst>
                                            <p:cond delay="0"/>
                                          </p:stCondLst>
                                        </p:cTn>
                                        <p:tgtEl>
                                          <p:spTgt spid="262"/>
                                        </p:tgtEl>
                                        <p:attrNameLst>
                                          <p:attrName>style.visibility</p:attrName>
                                        </p:attrNameLst>
                                      </p:cBhvr>
                                      <p:to>
                                        <p:strVal val="visible"/>
                                      </p:to>
                                    </p:set>
                                    <p:anim calcmode="lin" valueType="num">
                                      <p:cBhvr additive="repl">
                                        <p:cTn id="537" dur="300" fill="hold"/>
                                        <p:tgtEl>
                                          <p:spTgt spid="262"/>
                                        </p:tgtEl>
                                        <p:attrNameLst>
                                          <p:attrName>ppt_w</p:attrName>
                                        </p:attrNameLst>
                                      </p:cBhvr>
                                      <p:tavLst>
                                        <p:tav tm="0">
                                          <p:val>
                                            <p:fltVal val="0"/>
                                          </p:val>
                                        </p:tav>
                                        <p:tav tm="100000">
                                          <p:val>
                                            <p:strVal val="#ppt_w"/>
                                          </p:val>
                                        </p:tav>
                                      </p:tavLst>
                                    </p:anim>
                                    <p:anim calcmode="lin" valueType="num">
                                      <p:cBhvr additive="repl">
                                        <p:cTn id="538" dur="300" fill="hold"/>
                                        <p:tgtEl>
                                          <p:spTgt spid="262"/>
                                        </p:tgtEl>
                                        <p:attrNameLst>
                                          <p:attrName>ppt_h</p:attrName>
                                        </p:attrNameLst>
                                      </p:cBhvr>
                                      <p:tavLst>
                                        <p:tav tm="0">
                                          <p:val>
                                            <p:fltVal val="0"/>
                                          </p:val>
                                        </p:tav>
                                        <p:tav tm="100000">
                                          <p:val>
                                            <p:strVal val="#ppt_h"/>
                                          </p:val>
                                        </p:tav>
                                      </p:tavLst>
                                    </p:anim>
                                    <p:animEffect filter="fade" transition="in">
                                      <p:cBhvr additive="repl">
                                        <p:cTn id="539" dur="300"/>
                                        <p:tgtEl>
                                          <p:spTgt spid="262"/>
                                        </p:tgtEl>
                                      </p:cBhvr>
                                    </p:animEffect>
                                  </p:childTnLst>
                                </p:cTn>
                              </p:par>
                              <p:par>
                                <p:cTn id="540" nodeType="withEffect" fill="hold" presetClass="entr" presetID="22" presetSubtype="8">
                                  <p:stCondLst>
                                    <p:cond delay="3000"/>
                                  </p:stCondLst>
                                  <p:childTnLst>
                                    <p:set>
                                      <p:cBhvr>
                                        <p:cTn id="541" dur="1" fill="hold">
                                          <p:stCondLst>
                                            <p:cond delay="0"/>
                                          </p:stCondLst>
                                        </p:cTn>
                                        <p:tgtEl>
                                          <p:spTgt spid="270"/>
                                        </p:tgtEl>
                                        <p:attrNameLst>
                                          <p:attrName>style.visibility</p:attrName>
                                        </p:attrNameLst>
                                      </p:cBhvr>
                                      <p:to>
                                        <p:strVal val="visible"/>
                                      </p:to>
                                    </p:set>
                                    <p:animEffect filter="wipe(left)" transition="in">
                                      <p:cBhvr additive="repl">
                                        <p:cTn id="542" dur="500"/>
                                        <p:tgtEl>
                                          <p:spTgt spid="270"/>
                                        </p:tgtEl>
                                      </p:cBhvr>
                                    </p:animEffect>
                                  </p:childTnLst>
                                </p:cTn>
                              </p:par>
                              <p:par>
                                <p:cTn id="543" nodeType="withEffect" fill="hold" presetClass="entr" presetID="23" presetSubtype="16">
                                  <p:stCondLst>
                                    <p:cond delay="3000"/>
                                  </p:stCondLst>
                                  <p:childTnLst>
                                    <p:set>
                                      <p:cBhvr>
                                        <p:cTn id="544" dur="1" fill="hold">
                                          <p:stCondLst>
                                            <p:cond delay="0"/>
                                          </p:stCondLst>
                                        </p:cTn>
                                        <p:tgtEl>
                                          <p:spTgt spid="263"/>
                                        </p:tgtEl>
                                        <p:attrNameLst>
                                          <p:attrName>style.visibility</p:attrName>
                                        </p:attrNameLst>
                                      </p:cBhvr>
                                      <p:to>
                                        <p:strVal val="visible"/>
                                      </p:to>
                                    </p:set>
                                    <p:anim calcmode="lin" valueType="num">
                                      <p:cBhvr additive="repl">
                                        <p:cTn id="545" dur="500" fill="hold"/>
                                        <p:tgtEl>
                                          <p:spTgt spid="263"/>
                                        </p:tgtEl>
                                        <p:attrNameLst>
                                          <p:attrName>ppt_w</p:attrName>
                                        </p:attrNameLst>
                                      </p:cBhvr>
                                      <p:tavLst>
                                        <p:tav tm="0">
                                          <p:val>
                                            <p:fltVal val="0"/>
                                          </p:val>
                                        </p:tav>
                                        <p:tav tm="100000">
                                          <p:val>
                                            <p:strVal val="#ppt_w"/>
                                          </p:val>
                                        </p:tav>
                                      </p:tavLst>
                                    </p:anim>
                                    <p:anim calcmode="lin" valueType="num">
                                      <p:cBhvr additive="repl">
                                        <p:cTn id="546" dur="500" fill="hold"/>
                                        <p:tgtEl>
                                          <p:spTgt spid="263"/>
                                        </p:tgtEl>
                                        <p:attrNameLst>
                                          <p:attrName>ppt_h</p:attrName>
                                        </p:attrNameLst>
                                      </p:cBhvr>
                                      <p:tavLst>
                                        <p:tav tm="0">
                                          <p:val>
                                            <p:fltVal val="0"/>
                                          </p:val>
                                        </p:tav>
                                        <p:tav tm="100000">
                                          <p:val>
                                            <p:strVal val="#ppt_h"/>
                                          </p:val>
                                        </p:tav>
                                      </p:tavLst>
                                    </p:anim>
                                  </p:childTnLst>
                                </p:cTn>
                              </p:par>
                              <p:par>
                                <p:cTn id="547" nodeType="withEffect" fill="hold" presetClass="emph" presetID="8" repeatCount="indefinite">
                                  <p:stCondLst>
                                    <p:cond delay="3000"/>
                                  </p:stCondLst>
                                  <p:childTnLst>
                                    <p:animRot by="2400000">
                                      <p:cBhvr>
                                        <p:cTn id="548" dur="500" fill="hold"/>
                                        <p:tgtEl>
                                          <p:spTgt spid="263"/>
                                        </p:tgtEl>
                                        <p:attrNameLst>
                                          <p:attrName>r</p:attrName>
                                        </p:attrNameLst>
                                      </p:cBhvr>
                                    </p:animRot>
                                  </p:childTnLst>
                                </p:cTn>
                              </p:par>
                              <p:par>
                                <p:cTn id="549" nodeType="withEffect" fill="remove" presetClass="emph" presetID="26" repeatCount="2000">
                                  <p:stCondLst>
                                    <p:cond delay="3600"/>
                                  </p:stCondLst>
                                  <p:childTnLst>
                                    <p:animEffect filter="fade" transition="out">
                                      <p:cBhvr additive="repl">
                                        <p:cTn id="550" dur="500"/>
                                        <p:tgtEl>
                                          <p:spTgt spid="263"/>
                                        </p:tgtEl>
                                      </p:cBhvr>
                                    </p:animEffect>
                                    <p:animScale>
                                      <p:cBhvr>
                                        <p:cTn id="551" dur="250" autoRev="1" fill="hold"/>
                                        <p:tgtEl>
                                          <p:spTgt spid="263"/>
                                        </p:tgtEl>
                                      </p:cBhvr>
                                      <p:by x="105000" y="105000"/>
                                    </p:animScale>
                                  </p:childTnLst>
                                </p:cTn>
                              </p:par>
                              <p:par>
                                <p:cTn id="552" nodeType="withEffect" fill="hold" presetClass="entr" presetID="53" presetSubtype="16">
                                  <p:stCondLst>
                                    <p:cond delay="3600"/>
                                  </p:stCondLst>
                                  <p:childTnLst>
                                    <p:set>
                                      <p:cBhvr>
                                        <p:cTn id="553" dur="1" fill="hold">
                                          <p:stCondLst>
                                            <p:cond delay="0"/>
                                          </p:stCondLst>
                                        </p:cTn>
                                        <p:tgtEl>
                                          <p:spTgt spid="264"/>
                                        </p:tgtEl>
                                        <p:attrNameLst>
                                          <p:attrName>style.visibility</p:attrName>
                                        </p:attrNameLst>
                                      </p:cBhvr>
                                      <p:to>
                                        <p:strVal val="visible"/>
                                      </p:to>
                                    </p:set>
                                    <p:anim calcmode="lin" valueType="num">
                                      <p:cBhvr additive="repl">
                                        <p:cTn id="554" dur="300" fill="hold"/>
                                        <p:tgtEl>
                                          <p:spTgt spid="264"/>
                                        </p:tgtEl>
                                        <p:attrNameLst>
                                          <p:attrName>ppt_w</p:attrName>
                                        </p:attrNameLst>
                                      </p:cBhvr>
                                      <p:tavLst>
                                        <p:tav tm="0">
                                          <p:val>
                                            <p:fltVal val="0"/>
                                          </p:val>
                                        </p:tav>
                                        <p:tav tm="100000">
                                          <p:val>
                                            <p:strVal val="#ppt_w"/>
                                          </p:val>
                                        </p:tav>
                                      </p:tavLst>
                                    </p:anim>
                                    <p:anim calcmode="lin" valueType="num">
                                      <p:cBhvr additive="repl">
                                        <p:cTn id="555" dur="300" fill="hold"/>
                                        <p:tgtEl>
                                          <p:spTgt spid="264"/>
                                        </p:tgtEl>
                                        <p:attrNameLst>
                                          <p:attrName>ppt_h</p:attrName>
                                        </p:attrNameLst>
                                      </p:cBhvr>
                                      <p:tavLst>
                                        <p:tav tm="0">
                                          <p:val>
                                            <p:fltVal val="0"/>
                                          </p:val>
                                        </p:tav>
                                        <p:tav tm="100000">
                                          <p:val>
                                            <p:strVal val="#ppt_h"/>
                                          </p:val>
                                        </p:tav>
                                      </p:tavLst>
                                    </p:anim>
                                    <p:animEffect filter="fade" transition="in">
                                      <p:cBhvr additive="repl">
                                        <p:cTn id="556" dur="300"/>
                                        <p:tgtEl>
                                          <p:spTgt spid="264"/>
                                        </p:tgtEl>
                                      </p:cBhvr>
                                    </p:animEffect>
                                  </p:childTnLst>
                                </p:cTn>
                              </p:par>
                              <p:par>
                                <p:cTn id="557" nodeType="withEffect" fill="hold" presetClass="entr" presetID="22" presetSubtype="8">
                                  <p:stCondLst>
                                    <p:cond delay="3600"/>
                                  </p:stCondLst>
                                  <p:childTnLst>
                                    <p:set>
                                      <p:cBhvr>
                                        <p:cTn id="558" dur="1" fill="hold">
                                          <p:stCondLst>
                                            <p:cond delay="0"/>
                                          </p:stCondLst>
                                        </p:cTn>
                                        <p:tgtEl>
                                          <p:spTgt spid="271"/>
                                        </p:tgtEl>
                                        <p:attrNameLst>
                                          <p:attrName>style.visibility</p:attrName>
                                        </p:attrNameLst>
                                      </p:cBhvr>
                                      <p:to>
                                        <p:strVal val="visible"/>
                                      </p:to>
                                    </p:set>
                                    <p:animEffect filter="wipe(left)" transition="in">
                                      <p:cBhvr additive="repl">
                                        <p:cTn id="559" dur="500"/>
                                        <p:tgtEl>
                                          <p:spTgt spid="271"/>
                                        </p:tgtEl>
                                      </p:cBhvr>
                                    </p:animEffect>
                                  </p:childTnLst>
                                </p:cTn>
                              </p:par>
                              <p:par>
                                <p:cTn id="560" nodeType="withEffect" fill="hold" presetClass="entr" presetID="23" presetSubtype="16">
                                  <p:stCondLst>
                                    <p:cond delay="3600"/>
                                  </p:stCondLst>
                                  <p:childTnLst>
                                    <p:set>
                                      <p:cBhvr>
                                        <p:cTn id="561" dur="1" fill="hold">
                                          <p:stCondLst>
                                            <p:cond delay="0"/>
                                          </p:stCondLst>
                                        </p:cTn>
                                        <p:tgtEl>
                                          <p:spTgt spid="265"/>
                                        </p:tgtEl>
                                        <p:attrNameLst>
                                          <p:attrName>style.visibility</p:attrName>
                                        </p:attrNameLst>
                                      </p:cBhvr>
                                      <p:to>
                                        <p:strVal val="visible"/>
                                      </p:to>
                                    </p:set>
                                    <p:anim calcmode="lin" valueType="num">
                                      <p:cBhvr additive="repl">
                                        <p:cTn id="562" dur="500" fill="hold"/>
                                        <p:tgtEl>
                                          <p:spTgt spid="265"/>
                                        </p:tgtEl>
                                        <p:attrNameLst>
                                          <p:attrName>ppt_w</p:attrName>
                                        </p:attrNameLst>
                                      </p:cBhvr>
                                      <p:tavLst>
                                        <p:tav tm="0">
                                          <p:val>
                                            <p:fltVal val="0"/>
                                          </p:val>
                                        </p:tav>
                                        <p:tav tm="100000">
                                          <p:val>
                                            <p:strVal val="#ppt_w"/>
                                          </p:val>
                                        </p:tav>
                                      </p:tavLst>
                                    </p:anim>
                                    <p:anim calcmode="lin" valueType="num">
                                      <p:cBhvr additive="repl">
                                        <p:cTn id="563" dur="500" fill="hold"/>
                                        <p:tgtEl>
                                          <p:spTgt spid="265"/>
                                        </p:tgtEl>
                                        <p:attrNameLst>
                                          <p:attrName>ppt_h</p:attrName>
                                        </p:attrNameLst>
                                      </p:cBhvr>
                                      <p:tavLst>
                                        <p:tav tm="0">
                                          <p:val>
                                            <p:fltVal val="0"/>
                                          </p:val>
                                        </p:tav>
                                        <p:tav tm="100000">
                                          <p:val>
                                            <p:strVal val="#ppt_h"/>
                                          </p:val>
                                        </p:tav>
                                      </p:tavLst>
                                    </p:anim>
                                  </p:childTnLst>
                                </p:cTn>
                              </p:par>
                              <p:par>
                                <p:cTn id="564" nodeType="withEffect" fill="hold" presetClass="emph" presetID="8" repeatCount="indefinite">
                                  <p:stCondLst>
                                    <p:cond delay="3600"/>
                                  </p:stCondLst>
                                  <p:childTnLst>
                                    <p:animRot by="2400000">
                                      <p:cBhvr>
                                        <p:cTn id="565" dur="500" fill="hold"/>
                                        <p:tgtEl>
                                          <p:spTgt spid="265"/>
                                        </p:tgtEl>
                                        <p:attrNameLst>
                                          <p:attrName>r</p:attrName>
                                        </p:attrNameLst>
                                      </p:cBhvr>
                                    </p:animRot>
                                  </p:childTnLst>
                                </p:cTn>
                              </p:par>
                              <p:par>
                                <p:cTn id="566" nodeType="withEffect" fill="remove" presetClass="emph" presetID="26" repeatCount="2000">
                                  <p:stCondLst>
                                    <p:cond delay="4100"/>
                                  </p:stCondLst>
                                  <p:childTnLst>
                                    <p:animEffect filter="fade" transition="out">
                                      <p:cBhvr additive="repl">
                                        <p:cTn id="567" dur="500"/>
                                        <p:tgtEl>
                                          <p:spTgt spid="265"/>
                                        </p:tgtEl>
                                      </p:cBhvr>
                                    </p:animEffect>
                                    <p:animScale>
                                      <p:cBhvr>
                                        <p:cTn id="568" dur="250" autoRev="1" fill="hold"/>
                                        <p:tgtEl>
                                          <p:spTgt spid="265"/>
                                        </p:tgtEl>
                                      </p:cBhvr>
                                      <p:by x="105000" y="105000"/>
                                    </p:animScale>
                                  </p:childTnLst>
                                </p:cTn>
                              </p:par>
                              <p:par>
                                <p:cTn id="569" nodeType="withEffect" fill="hold" presetClass="entr" presetID="53" presetSubtype="16">
                                  <p:stCondLst>
                                    <p:cond delay="4000"/>
                                  </p:stCondLst>
                                  <p:childTnLst>
                                    <p:set>
                                      <p:cBhvr>
                                        <p:cTn id="570" dur="1" fill="hold">
                                          <p:stCondLst>
                                            <p:cond delay="0"/>
                                          </p:stCondLst>
                                        </p:cTn>
                                        <p:tgtEl>
                                          <p:spTgt spid="266"/>
                                        </p:tgtEl>
                                        <p:attrNameLst>
                                          <p:attrName>style.visibility</p:attrName>
                                        </p:attrNameLst>
                                      </p:cBhvr>
                                      <p:to>
                                        <p:strVal val="visible"/>
                                      </p:to>
                                    </p:set>
                                    <p:anim calcmode="lin" valueType="num">
                                      <p:cBhvr additive="repl">
                                        <p:cTn id="571" dur="300" fill="hold"/>
                                        <p:tgtEl>
                                          <p:spTgt spid="266"/>
                                        </p:tgtEl>
                                        <p:attrNameLst>
                                          <p:attrName>ppt_w</p:attrName>
                                        </p:attrNameLst>
                                      </p:cBhvr>
                                      <p:tavLst>
                                        <p:tav tm="0">
                                          <p:val>
                                            <p:fltVal val="0"/>
                                          </p:val>
                                        </p:tav>
                                        <p:tav tm="100000">
                                          <p:val>
                                            <p:strVal val="#ppt_w"/>
                                          </p:val>
                                        </p:tav>
                                      </p:tavLst>
                                    </p:anim>
                                    <p:anim calcmode="lin" valueType="num">
                                      <p:cBhvr additive="repl">
                                        <p:cTn id="572" dur="300" fill="hold"/>
                                        <p:tgtEl>
                                          <p:spTgt spid="266"/>
                                        </p:tgtEl>
                                        <p:attrNameLst>
                                          <p:attrName>ppt_h</p:attrName>
                                        </p:attrNameLst>
                                      </p:cBhvr>
                                      <p:tavLst>
                                        <p:tav tm="0">
                                          <p:val>
                                            <p:fltVal val="0"/>
                                          </p:val>
                                        </p:tav>
                                        <p:tav tm="100000">
                                          <p:val>
                                            <p:strVal val="#ppt_h"/>
                                          </p:val>
                                        </p:tav>
                                      </p:tavLst>
                                    </p:anim>
                                    <p:animEffect filter="fade" transition="in">
                                      <p:cBhvr additive="repl">
                                        <p:cTn id="573" dur="300"/>
                                        <p:tgtEl>
                                          <p:spTgt spid="266"/>
                                        </p:tgtEl>
                                      </p:cBhvr>
                                    </p:animEffect>
                                  </p:childTnLst>
                                </p:cTn>
                              </p:par>
                              <p:par>
                                <p:cTn id="574" nodeType="withEffect" fill="hold" presetClass="entr" presetID="22" presetSubtype="8">
                                  <p:stCondLst>
                                    <p:cond delay="4000"/>
                                  </p:stCondLst>
                                  <p:childTnLst>
                                    <p:set>
                                      <p:cBhvr>
                                        <p:cTn id="575" dur="1" fill="hold">
                                          <p:stCondLst>
                                            <p:cond delay="0"/>
                                          </p:stCondLst>
                                        </p:cTn>
                                        <p:tgtEl>
                                          <p:spTgt spid="272"/>
                                        </p:tgtEl>
                                        <p:attrNameLst>
                                          <p:attrName>style.visibility</p:attrName>
                                        </p:attrNameLst>
                                      </p:cBhvr>
                                      <p:to>
                                        <p:strVal val="visible"/>
                                      </p:to>
                                    </p:set>
                                    <p:animEffect filter="wipe(left)" transition="in">
                                      <p:cBhvr additive="repl">
                                        <p:cTn id="576" dur="500"/>
                                        <p:tgtEl>
                                          <p:spTgt spid="272"/>
                                        </p:tgtEl>
                                      </p:cBhvr>
                                    </p:animEffect>
                                  </p:childTnLst>
                                </p:cTn>
                              </p:par>
                              <p:par>
                                <p:cTn id="577" nodeType="withEffect" fill="hold" presetClass="entr" presetID="22" presetSubtype="8">
                                  <p:stCondLst>
                                    <p:cond delay="4400"/>
                                  </p:stCondLst>
                                  <p:childTnLst>
                                    <p:set>
                                      <p:cBhvr>
                                        <p:cTn id="578" dur="1" fill="hold">
                                          <p:stCondLst>
                                            <p:cond delay="0"/>
                                          </p:stCondLst>
                                        </p:cTn>
                                        <p:tgtEl>
                                          <p:spTgt spid="238"/>
                                        </p:tgtEl>
                                        <p:attrNameLst>
                                          <p:attrName>style.visibility</p:attrName>
                                        </p:attrNameLst>
                                      </p:cBhvr>
                                      <p:to>
                                        <p:strVal val="visible"/>
                                      </p:to>
                                    </p:set>
                                    <p:animEffect filter="wipe(left)" transition="in">
                                      <p:cBhvr additive="repl">
                                        <p:cTn id="579" dur="500"/>
                                        <p:tgtEl>
                                          <p:spTgt spid="238"/>
                                        </p:tgtEl>
                                      </p:cBhvr>
                                    </p:animEffect>
                                  </p:childTnLst>
                                </p:cTn>
                              </p:par>
                              <p:par>
                                <p:cTn id="580" nodeType="withEffect" fill="hold" presetClass="entr" presetID="22" presetSubtype="2">
                                  <p:stCondLst>
                                    <p:cond delay="4800"/>
                                  </p:stCondLst>
                                  <p:childTnLst>
                                    <p:set>
                                      <p:cBhvr>
                                        <p:cTn id="581" dur="1" fill="hold">
                                          <p:stCondLst>
                                            <p:cond delay="0"/>
                                          </p:stCondLst>
                                        </p:cTn>
                                        <p:tgtEl>
                                          <p:spTgt spid="241"/>
                                        </p:tgtEl>
                                        <p:attrNameLst>
                                          <p:attrName>style.visibility</p:attrName>
                                        </p:attrNameLst>
                                      </p:cBhvr>
                                      <p:to>
                                        <p:strVal val="visible"/>
                                      </p:to>
                                    </p:set>
                                    <p:animEffect filter="wipe(right)" transition="in">
                                      <p:cBhvr additive="repl">
                                        <p:cTn id="582" dur="500"/>
                                        <p:tgtEl>
                                          <p:spTgt spid="241"/>
                                        </p:tgtEl>
                                      </p:cBhvr>
                                    </p:animEffect>
                                  </p:childTnLst>
                                </p:cTn>
                              </p:par>
                              <p:par>
                                <p:cTn id="583" nodeType="withEffect" fill="hold" presetClass="entr" presetID="53" presetSubtype="16">
                                  <p:stCondLst>
                                    <p:cond delay="5200"/>
                                  </p:stCondLst>
                                  <p:childTnLst>
                                    <p:set>
                                      <p:cBhvr>
                                        <p:cTn id="584" dur="1" fill="hold">
                                          <p:stCondLst>
                                            <p:cond delay="0"/>
                                          </p:stCondLst>
                                        </p:cTn>
                                        <p:tgtEl>
                                          <p:spTgt spid="242"/>
                                        </p:tgtEl>
                                        <p:attrNameLst>
                                          <p:attrName>style.visibility</p:attrName>
                                        </p:attrNameLst>
                                      </p:cBhvr>
                                      <p:to>
                                        <p:strVal val="visible"/>
                                      </p:to>
                                    </p:set>
                                    <p:anim calcmode="lin" valueType="num">
                                      <p:cBhvr additive="repl">
                                        <p:cTn id="585" dur="500" fill="hold"/>
                                        <p:tgtEl>
                                          <p:spTgt spid="242"/>
                                        </p:tgtEl>
                                        <p:attrNameLst>
                                          <p:attrName>ppt_w</p:attrName>
                                        </p:attrNameLst>
                                      </p:cBhvr>
                                      <p:tavLst>
                                        <p:tav tm="0">
                                          <p:val>
                                            <p:fltVal val="0"/>
                                          </p:val>
                                        </p:tav>
                                        <p:tav tm="100000">
                                          <p:val>
                                            <p:strVal val="#ppt_w"/>
                                          </p:val>
                                        </p:tav>
                                      </p:tavLst>
                                    </p:anim>
                                    <p:anim calcmode="lin" valueType="num">
                                      <p:cBhvr additive="repl">
                                        <p:cTn id="586" dur="500" fill="hold"/>
                                        <p:tgtEl>
                                          <p:spTgt spid="242"/>
                                        </p:tgtEl>
                                        <p:attrNameLst>
                                          <p:attrName>ppt_h</p:attrName>
                                        </p:attrNameLst>
                                      </p:cBhvr>
                                      <p:tavLst>
                                        <p:tav tm="0">
                                          <p:val>
                                            <p:fltVal val="0"/>
                                          </p:val>
                                        </p:tav>
                                        <p:tav tm="100000">
                                          <p:val>
                                            <p:strVal val="#ppt_h"/>
                                          </p:val>
                                        </p:tav>
                                      </p:tavLst>
                                    </p:anim>
                                    <p:animEffect filter="fade" transition="in">
                                      <p:cBhvr additive="repl">
                                        <p:cTn id="587" dur="500"/>
                                        <p:tgtEl>
                                          <p:spTgt spid="242"/>
                                        </p:tgtEl>
                                      </p:cBhvr>
                                    </p:animEffect>
                                  </p:childTnLst>
                                </p:cTn>
                              </p:par>
                              <p:par>
                                <p:cTn id="588" nodeType="withEffect" fill="hold" presetClass="entr" presetID="22" presetSubtype="8">
                                  <p:stCondLst>
                                    <p:cond delay="5700"/>
                                  </p:stCondLst>
                                  <p:childTnLst>
                                    <p:set>
                                      <p:cBhvr>
                                        <p:cTn id="589" dur="1" fill="hold">
                                          <p:stCondLst>
                                            <p:cond delay="0"/>
                                          </p:stCondLst>
                                        </p:cTn>
                                        <p:tgtEl>
                                          <p:spTgt spid="243"/>
                                        </p:tgtEl>
                                        <p:attrNameLst>
                                          <p:attrName>style.visibility</p:attrName>
                                        </p:attrNameLst>
                                      </p:cBhvr>
                                      <p:to>
                                        <p:strVal val="visible"/>
                                      </p:to>
                                    </p:set>
                                    <p:animEffect filter="wipe(left)" transition="in">
                                      <p:cBhvr additive="repl">
                                        <p:cTn id="590" dur="500"/>
                                        <p:tgtEl>
                                          <p:spTgt spid="243"/>
                                        </p:tgtEl>
                                      </p:cBhvr>
                                    </p:animEffect>
                                  </p:childTnLst>
                                </p:cTn>
                              </p:par>
                              <p:par>
                                <p:cTn id="591" nodeType="withEffect" fill="hold" presetClass="entr" presetID="22" presetSubtype="2">
                                  <p:stCondLst>
                                    <p:cond delay="6200"/>
                                  </p:stCondLst>
                                  <p:childTnLst>
                                    <p:set>
                                      <p:cBhvr>
                                        <p:cTn id="592" dur="1" fill="hold">
                                          <p:stCondLst>
                                            <p:cond delay="0"/>
                                          </p:stCondLst>
                                        </p:cTn>
                                        <p:tgtEl>
                                          <p:spTgt spid="246"/>
                                        </p:tgtEl>
                                        <p:attrNameLst>
                                          <p:attrName>style.visibility</p:attrName>
                                        </p:attrNameLst>
                                      </p:cBhvr>
                                      <p:to>
                                        <p:strVal val="visible"/>
                                      </p:to>
                                    </p:set>
                                    <p:animEffect filter="wipe(right)" transition="in">
                                      <p:cBhvr additive="repl">
                                        <p:cTn id="593" dur="500"/>
                                        <p:tgtEl>
                                          <p:spTgt spid="246"/>
                                        </p:tgtEl>
                                      </p:cBhvr>
                                    </p:animEffect>
                                  </p:childTnLst>
                                </p:cTn>
                              </p:par>
                              <p:par>
                                <p:cTn id="594" nodeType="withEffect" fill="hold" presetClass="entr" presetID="53" presetSubtype="16">
                                  <p:stCondLst>
                                    <p:cond delay="6600"/>
                                  </p:stCondLst>
                                  <p:childTnLst>
                                    <p:set>
                                      <p:cBhvr>
                                        <p:cTn id="595" dur="1" fill="hold">
                                          <p:stCondLst>
                                            <p:cond delay="0"/>
                                          </p:stCondLst>
                                        </p:cTn>
                                        <p:tgtEl>
                                          <p:spTgt spid="247"/>
                                        </p:tgtEl>
                                        <p:attrNameLst>
                                          <p:attrName>style.visibility</p:attrName>
                                        </p:attrNameLst>
                                      </p:cBhvr>
                                      <p:to>
                                        <p:strVal val="visible"/>
                                      </p:to>
                                    </p:set>
                                    <p:anim calcmode="lin" valueType="num">
                                      <p:cBhvr additive="repl">
                                        <p:cTn id="596" dur="500" fill="hold"/>
                                        <p:tgtEl>
                                          <p:spTgt spid="247"/>
                                        </p:tgtEl>
                                        <p:attrNameLst>
                                          <p:attrName>ppt_w</p:attrName>
                                        </p:attrNameLst>
                                      </p:cBhvr>
                                      <p:tavLst>
                                        <p:tav tm="0">
                                          <p:val>
                                            <p:fltVal val="0"/>
                                          </p:val>
                                        </p:tav>
                                        <p:tav tm="100000">
                                          <p:val>
                                            <p:strVal val="#ppt_w"/>
                                          </p:val>
                                        </p:tav>
                                      </p:tavLst>
                                    </p:anim>
                                    <p:anim calcmode="lin" valueType="num">
                                      <p:cBhvr additive="repl">
                                        <p:cTn id="597" dur="500" fill="hold"/>
                                        <p:tgtEl>
                                          <p:spTgt spid="247"/>
                                        </p:tgtEl>
                                        <p:attrNameLst>
                                          <p:attrName>ppt_h</p:attrName>
                                        </p:attrNameLst>
                                      </p:cBhvr>
                                      <p:tavLst>
                                        <p:tav tm="0">
                                          <p:val>
                                            <p:fltVal val="0"/>
                                          </p:val>
                                        </p:tav>
                                        <p:tav tm="100000">
                                          <p:val>
                                            <p:strVal val="#ppt_h"/>
                                          </p:val>
                                        </p:tav>
                                      </p:tavLst>
                                    </p:anim>
                                    <p:animEffect filter="fade" transition="in">
                                      <p:cBhvr additive="repl">
                                        <p:cTn id="598" dur="500"/>
                                        <p:tgtEl>
                                          <p:spTgt spid="247"/>
                                        </p:tgtEl>
                                      </p:cBhvr>
                                    </p:animEffect>
                                  </p:childTnLst>
                                </p:cTn>
                              </p:par>
                              <p:par>
                                <p:cTn id="599" nodeType="withEffect" fill="hold" presetClass="entr" presetID="22" presetSubtype="8">
                                  <p:stCondLst>
                                    <p:cond delay="7000"/>
                                  </p:stCondLst>
                                  <p:childTnLst>
                                    <p:set>
                                      <p:cBhvr>
                                        <p:cTn id="600" dur="1" fill="hold">
                                          <p:stCondLst>
                                            <p:cond delay="0"/>
                                          </p:stCondLst>
                                        </p:cTn>
                                        <p:tgtEl>
                                          <p:spTgt spid="248"/>
                                        </p:tgtEl>
                                        <p:attrNameLst>
                                          <p:attrName>style.visibility</p:attrName>
                                        </p:attrNameLst>
                                      </p:cBhvr>
                                      <p:to>
                                        <p:strVal val="visible"/>
                                      </p:to>
                                    </p:set>
                                    <p:animEffect filter="wipe(left)" transition="in">
                                      <p:cBhvr additive="repl">
                                        <p:cTn id="601" dur="500"/>
                                        <p:tgtEl>
                                          <p:spTgt spid="248"/>
                                        </p:tgtEl>
                                      </p:cBhvr>
                                    </p:animEffect>
                                  </p:childTnLst>
                                </p:cTn>
                              </p:par>
                              <p:par>
                                <p:cTn id="602" nodeType="withEffect" fill="hold" presetClass="entr" presetID="22" presetSubtype="2">
                                  <p:stCondLst>
                                    <p:cond delay="7500"/>
                                  </p:stCondLst>
                                  <p:childTnLst>
                                    <p:set>
                                      <p:cBhvr>
                                        <p:cTn id="603" dur="1" fill="hold">
                                          <p:stCondLst>
                                            <p:cond delay="0"/>
                                          </p:stCondLst>
                                        </p:cTn>
                                        <p:tgtEl>
                                          <p:spTgt spid="251"/>
                                        </p:tgtEl>
                                        <p:attrNameLst>
                                          <p:attrName>style.visibility</p:attrName>
                                        </p:attrNameLst>
                                      </p:cBhvr>
                                      <p:to>
                                        <p:strVal val="visible"/>
                                      </p:to>
                                    </p:set>
                                    <p:animEffect filter="wipe(right)" transition="in">
                                      <p:cBhvr additive="repl">
                                        <p:cTn id="604" dur="500"/>
                                        <p:tgtEl>
                                          <p:spTgt spid="251"/>
                                        </p:tgtEl>
                                      </p:cBhvr>
                                    </p:animEffect>
                                  </p:childTnLst>
                                </p:cTn>
                              </p:par>
                              <p:par>
                                <p:cTn id="605" nodeType="withEffect" fill="hold" presetClass="entr" presetID="53" presetSubtype="16">
                                  <p:stCondLst>
                                    <p:cond delay="8000"/>
                                  </p:stCondLst>
                                  <p:childTnLst>
                                    <p:set>
                                      <p:cBhvr>
                                        <p:cTn id="606" dur="1" fill="hold">
                                          <p:stCondLst>
                                            <p:cond delay="0"/>
                                          </p:stCondLst>
                                        </p:cTn>
                                        <p:tgtEl>
                                          <p:spTgt spid="252"/>
                                        </p:tgtEl>
                                        <p:attrNameLst>
                                          <p:attrName>style.visibility</p:attrName>
                                        </p:attrNameLst>
                                      </p:cBhvr>
                                      <p:to>
                                        <p:strVal val="visible"/>
                                      </p:to>
                                    </p:set>
                                    <p:anim calcmode="lin" valueType="num">
                                      <p:cBhvr additive="repl">
                                        <p:cTn id="607" dur="500" fill="hold"/>
                                        <p:tgtEl>
                                          <p:spTgt spid="252"/>
                                        </p:tgtEl>
                                        <p:attrNameLst>
                                          <p:attrName>ppt_w</p:attrName>
                                        </p:attrNameLst>
                                      </p:cBhvr>
                                      <p:tavLst>
                                        <p:tav tm="0">
                                          <p:val>
                                            <p:fltVal val="0"/>
                                          </p:val>
                                        </p:tav>
                                        <p:tav tm="100000">
                                          <p:val>
                                            <p:strVal val="#ppt_w"/>
                                          </p:val>
                                        </p:tav>
                                      </p:tavLst>
                                    </p:anim>
                                    <p:anim calcmode="lin" valueType="num">
                                      <p:cBhvr additive="repl">
                                        <p:cTn id="608" dur="500" fill="hold"/>
                                        <p:tgtEl>
                                          <p:spTgt spid="252"/>
                                        </p:tgtEl>
                                        <p:attrNameLst>
                                          <p:attrName>ppt_h</p:attrName>
                                        </p:attrNameLst>
                                      </p:cBhvr>
                                      <p:tavLst>
                                        <p:tav tm="0">
                                          <p:val>
                                            <p:fltVal val="0"/>
                                          </p:val>
                                        </p:tav>
                                        <p:tav tm="100000">
                                          <p:val>
                                            <p:strVal val="#ppt_h"/>
                                          </p:val>
                                        </p:tav>
                                      </p:tavLst>
                                    </p:anim>
                                    <p:animEffect filter="fade" transition="in">
                                      <p:cBhvr additive="repl">
                                        <p:cTn id="609" dur="500"/>
                                        <p:tgtEl>
                                          <p:spTgt spid="252"/>
                                        </p:tgtEl>
                                      </p:cBhvr>
                                    </p:animEffect>
                                  </p:childTnLst>
                                </p:cTn>
                              </p:par>
                            </p:childTnLst>
                          </p:cTn>
                        </p:par>
                        <p:par>
                          <p:cTn id="610" fill="hold">
                            <p:stCondLst>
                              <p:cond delay="8500"/>
                            </p:stCondLst>
                            <p:childTnLst>
                              <p:par>
                                <p:cTn id="611" nodeType="afterEffect" fill="hold" presetClass="entr" presetID="2" presetSubtype="8">
                                  <p:stCondLst>
                                    <p:cond delay="0"/>
                                  </p:stCondLst>
                                  <p:childTnLst>
                                    <p:set>
                                      <p:cBhvr>
                                        <p:cTn id="612" dur="1" fill="hold">
                                          <p:stCondLst>
                                            <p:cond delay="0"/>
                                          </p:stCondLst>
                                        </p:cTn>
                                        <p:tgtEl>
                                          <p:spTgt spid="232"/>
                                        </p:tgtEl>
                                        <p:attrNameLst>
                                          <p:attrName>style.visibility</p:attrName>
                                        </p:attrNameLst>
                                      </p:cBhvr>
                                      <p:to>
                                        <p:strVal val="visible"/>
                                      </p:to>
                                    </p:set>
                                    <p:anim calcmode="lin" valueType="num">
                                      <p:cBhvr additive="repl">
                                        <p:cTn id="613" dur="500" fill="hold"/>
                                        <p:tgtEl>
                                          <p:spTgt spid="232"/>
                                        </p:tgtEl>
                                        <p:attrNameLst>
                                          <p:attrName>ppt_x</p:attrName>
                                        </p:attrNameLst>
                                      </p:cBhvr>
                                      <p:tavLst>
                                        <p:tav tm="0">
                                          <p:val>
                                            <p:strVal val="0-#ppt_w/2"/>
                                          </p:val>
                                        </p:tav>
                                        <p:tav tm="100000">
                                          <p:val>
                                            <p:strVal val="#ppt_x"/>
                                          </p:val>
                                        </p:tav>
                                      </p:tavLst>
                                    </p:anim>
                                    <p:anim calcmode="lin" valueType="num">
                                      <p:cBhvr additive="repl">
                                        <p:cTn id="614" dur="500" fill="hold"/>
                                        <p:tgtEl>
                                          <p:spTgt spid="2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主题">
  <a:themeElements>
    <a:clrScheme name="12">
      <a:dk1>
        <a:srgbClr val="000000"/>
      </a:dk1>
      <a:lt1>
        <a:srgbClr val="ffffff"/>
      </a:lt1>
      <a:dk2>
        <a:srgbClr val="004358"/>
      </a:dk2>
      <a:lt2>
        <a:srgbClr val="e2dfcc"/>
      </a:lt2>
      <a:accent1>
        <a:srgbClr val="f2e750"/>
      </a:accent1>
      <a:accent2>
        <a:srgbClr val="a69e37"/>
      </a:accent2>
      <a:accent3>
        <a:srgbClr val="78a1bf"/>
      </a:accent3>
      <a:accent4>
        <a:srgbClr val="d4ecff"/>
      </a:accent4>
      <a:accent5>
        <a:srgbClr val="0d0d0d"/>
      </a:accent5>
      <a:accent6>
        <a:srgbClr val="f2f2f2"/>
      </a:accent6>
      <a:hlink>
        <a:srgbClr val="006382"/>
      </a:hlink>
      <a:folHlink>
        <a:srgbClr val="1f8a7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12">
      <a:dk1>
        <a:srgbClr val="000000"/>
      </a:dk1>
      <a:lt1>
        <a:srgbClr val="ffffff"/>
      </a:lt1>
      <a:dk2>
        <a:srgbClr val="004358"/>
      </a:dk2>
      <a:lt2>
        <a:srgbClr val="e2dfcc"/>
      </a:lt2>
      <a:accent1>
        <a:srgbClr val="f2e750"/>
      </a:accent1>
      <a:accent2>
        <a:srgbClr val="a69e37"/>
      </a:accent2>
      <a:accent3>
        <a:srgbClr val="78a1bf"/>
      </a:accent3>
      <a:accent4>
        <a:srgbClr val="d4ecff"/>
      </a:accent4>
      <a:accent5>
        <a:srgbClr val="0d0d0d"/>
      </a:accent5>
      <a:accent6>
        <a:srgbClr val="f2f2f2"/>
      </a:accent6>
      <a:hlink>
        <a:srgbClr val="006382"/>
      </a:hlink>
      <a:folHlink>
        <a:srgbClr val="1f8a7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2</TotalTime>
  <Application>LibreOffice/7.4.7.2$Linux_X86_64 LibreOffice_project/40$Build-2</Application>
  <AppVersion>15.0000</AppVersion>
  <Words>277</Words>
  <Paragraphs>4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2T07:46:47Z</dcterms:created>
  <dc:creator>zjf</dc:creator>
  <dc:description/>
  <dc:language>en-US</dc:language>
  <cp:lastModifiedBy>王玉清</cp:lastModifiedBy>
  <dcterms:modified xsi:type="dcterms:W3CDTF">2016-02-23T03:46:10Z</dcterms:modified>
  <cp:revision>9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宽屏</vt:lpwstr>
  </property>
  <property fmtid="{D5CDD505-2E9C-101B-9397-08002B2CF9AE}" pid="3" name="Slides">
    <vt:r8>7</vt:r8>
  </property>
</Properties>
</file>