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d19fb2c1f4de0e28b13990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Rectangle 8"/>
          <p:cNvGrpSpPr/>
          <p:nvPr/>
        </p:nvGrpSpPr>
        <p:grpSpPr>
          <a:xfrm>
            <a:off x="0" y="4078440"/>
            <a:ext cx="9144000" cy="1583640"/>
            <a:chOff x="0" y="4078440"/>
            <a:chExt cx="9144000" cy="1583640"/>
          </a:xfrm>
        </p:grpSpPr>
        <p:pic>
          <p:nvPicPr>
            <p:cNvPr id="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4079880"/>
              <a:ext cx="9144000" cy="15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4078440"/>
              <a:ext cx="914400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Line 9"/>
          <p:cNvSpPr/>
          <p:nvPr/>
        </p:nvSpPr>
        <p:spPr>
          <a:xfrm>
            <a:off x="0" y="407664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03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</a:rPr>
              <a:t>www.kingor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瓢虫"/>
          <p:cNvPicPr/>
          <p:nvPr/>
        </p:nvPicPr>
        <p:blipFill>
          <a:blip r:embed="rId3"/>
          <a:stretch/>
        </p:blipFill>
        <p:spPr>
          <a:xfrm>
            <a:off x="7740720" y="5532480"/>
            <a:ext cx="82548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187280" y="43657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红色彩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148360" y="49417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商务演示设计制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4360" y="333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24000" y="6521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8720" y="461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71640" y="4149720"/>
            <a:ext cx="72388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3:14:53Z</dcterms:created>
  <dc:creator>wen</dc:creator>
  <dc:description/>
  <dc:language>en-US</dc:language>
  <cp:lastModifiedBy>王玉清</cp:lastModifiedBy>
  <dcterms:modified xsi:type="dcterms:W3CDTF">2016-02-29T07:53:27Z</dcterms:modified>
  <cp:revision>11</cp:revision>
  <dc:subject/>
  <dc:title>幻灯片 1</dc:title>
</cp:coreProperties>
</file>