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1218565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858D7-655A-49F8-B729-E9A78DC779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73600"/>
            <a:ext cx="10967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1604520"/>
            <a:ext cx="10967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9120" y="3682080"/>
            <a:ext cx="10967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41661-B71D-434B-BFB4-F2D03484A3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120" y="273600"/>
            <a:ext cx="10967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120" y="1604520"/>
            <a:ext cx="5351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28720" y="1604520"/>
            <a:ext cx="5351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120" y="3682080"/>
            <a:ext cx="5351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228720" y="3682080"/>
            <a:ext cx="5351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A8986-4984-45E8-8476-D93AD3EEED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273600"/>
            <a:ext cx="10967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1604520"/>
            <a:ext cx="3531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317480" y="1604520"/>
            <a:ext cx="3531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025480" y="1604520"/>
            <a:ext cx="3531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09120" y="3682080"/>
            <a:ext cx="3531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317480" y="3682080"/>
            <a:ext cx="3531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025480" y="3682080"/>
            <a:ext cx="3531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55481-FA89-4A47-8A49-B93FC94E63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A66EB2-44BE-417A-83AD-6B75F8B7F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273600"/>
            <a:ext cx="10967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09120" y="1604520"/>
            <a:ext cx="10967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E59DA8-76B4-4878-B053-4A6D41E77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73600"/>
            <a:ext cx="10967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120" y="1604520"/>
            <a:ext cx="10967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AB783B-912B-4710-AD79-8FB17DD0D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273600"/>
            <a:ext cx="10967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120" y="1604520"/>
            <a:ext cx="5351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228720" y="1604520"/>
            <a:ext cx="5351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083596-5A09-4D50-8C06-21165413A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73600"/>
            <a:ext cx="10967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FE823E-9A32-4811-A940-27BE313F4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09120" y="273600"/>
            <a:ext cx="109670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02E56C-C617-41B5-9552-8C04D8ACD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73600"/>
            <a:ext cx="10967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1604520"/>
            <a:ext cx="5351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28720" y="1604520"/>
            <a:ext cx="5351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120" y="3682080"/>
            <a:ext cx="5351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7700AF-A248-4092-B31B-A7C3DAA04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120" y="273600"/>
            <a:ext cx="10967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09120" y="1604520"/>
            <a:ext cx="10967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99171-B92F-48D7-A6BA-686E435441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120" y="273600"/>
            <a:ext cx="10967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604520"/>
            <a:ext cx="5351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8720" y="1604520"/>
            <a:ext cx="5351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28720" y="3682080"/>
            <a:ext cx="5351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6070DE-B045-4210-9927-29B9CF89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73600"/>
            <a:ext cx="10967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120" y="1604520"/>
            <a:ext cx="5351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8720" y="1604520"/>
            <a:ext cx="5351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120" y="3682080"/>
            <a:ext cx="10967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97FF00-452C-40A0-AB5B-67537D2D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273600"/>
            <a:ext cx="10967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120" y="1604520"/>
            <a:ext cx="10967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09120" y="3682080"/>
            <a:ext cx="10967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4F6D40-873B-4EB2-BF78-B470718CD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73600"/>
            <a:ext cx="10967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120" y="1604520"/>
            <a:ext cx="5351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28720" y="1604520"/>
            <a:ext cx="5351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120" y="3682080"/>
            <a:ext cx="5351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28720" y="3682080"/>
            <a:ext cx="5351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53EC0A-C37A-42A7-B2D9-49E13320B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273600"/>
            <a:ext cx="10967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120" y="1604520"/>
            <a:ext cx="3531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17480" y="1604520"/>
            <a:ext cx="3531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025480" y="1604520"/>
            <a:ext cx="3531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09120" y="3682080"/>
            <a:ext cx="3531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317480" y="3682080"/>
            <a:ext cx="3531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025480" y="3682080"/>
            <a:ext cx="3531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285196-65E6-43F6-89EF-64035C6BB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120" y="273600"/>
            <a:ext cx="10967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09120" y="1604520"/>
            <a:ext cx="10967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273600"/>
            <a:ext cx="10967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604520"/>
            <a:ext cx="10967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273600"/>
            <a:ext cx="10967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120" y="1604520"/>
            <a:ext cx="5351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28720" y="1604520"/>
            <a:ext cx="5351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273600"/>
            <a:ext cx="10967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120" y="273600"/>
            <a:ext cx="10967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09120" y="1604520"/>
            <a:ext cx="10967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ED506-A364-49A3-A661-0254E982AFB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09120" y="273600"/>
            <a:ext cx="109670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273600"/>
            <a:ext cx="10967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120" y="1604520"/>
            <a:ext cx="5351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228720" y="1604520"/>
            <a:ext cx="5351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120" y="3682080"/>
            <a:ext cx="5351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273600"/>
            <a:ext cx="10967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120" y="1604520"/>
            <a:ext cx="5351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28720" y="1604520"/>
            <a:ext cx="5351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28720" y="3682080"/>
            <a:ext cx="5351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73600"/>
            <a:ext cx="10967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120" y="1604520"/>
            <a:ext cx="5351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228720" y="1604520"/>
            <a:ext cx="5351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9120" y="3682080"/>
            <a:ext cx="10967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120" y="273600"/>
            <a:ext cx="10967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120" y="1604520"/>
            <a:ext cx="10967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09120" y="3682080"/>
            <a:ext cx="10967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273600"/>
            <a:ext cx="10967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1604520"/>
            <a:ext cx="5351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28720" y="1604520"/>
            <a:ext cx="5351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9120" y="3682080"/>
            <a:ext cx="5351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228720" y="3682080"/>
            <a:ext cx="5351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273600"/>
            <a:ext cx="10967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604520"/>
            <a:ext cx="3531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317480" y="1604520"/>
            <a:ext cx="3531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025480" y="1604520"/>
            <a:ext cx="3531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09120" y="3682080"/>
            <a:ext cx="3531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4317480" y="3682080"/>
            <a:ext cx="3531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8025480" y="3682080"/>
            <a:ext cx="3531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73600"/>
            <a:ext cx="10967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120" y="1604520"/>
            <a:ext cx="5351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228720" y="1604520"/>
            <a:ext cx="5351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20962-023D-40AF-BA62-E5DB284F86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273600"/>
            <a:ext cx="10967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70D64-7208-462C-951C-69D2771233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09120" y="273600"/>
            <a:ext cx="109670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89D13-68CC-4FA0-8CC3-9B2ACCE7CD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273600"/>
            <a:ext cx="10967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120" y="1604520"/>
            <a:ext cx="5351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28720" y="1604520"/>
            <a:ext cx="5351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09120" y="3682080"/>
            <a:ext cx="5351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6E8E3-BE90-4E4F-8DA4-2E6F464F38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73600"/>
            <a:ext cx="10967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120" y="1604520"/>
            <a:ext cx="5351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28720" y="1604520"/>
            <a:ext cx="5351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228720" y="3682080"/>
            <a:ext cx="5351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E550D-3A30-43CC-8C89-0D983AAB76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73600"/>
            <a:ext cx="10967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120" y="1604520"/>
            <a:ext cx="5351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28720" y="1604520"/>
            <a:ext cx="5351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09120" y="3682080"/>
            <a:ext cx="10967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BA44C-0D09-4AC5-85E8-0B3345AE16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对角圆角矩形 8"/>
          <p:cNvSpPr/>
          <p:nvPr/>
        </p:nvSpPr>
        <p:spPr>
          <a:xfrm>
            <a:off x="-52560" y="6149880"/>
            <a:ext cx="12225600" cy="743040"/>
          </a:xfrm>
          <a:custGeom>
            <a:avLst/>
            <a:gdLst/>
            <a:ahLst/>
            <a:rect l="l" t="t" r="r" b="b"/>
            <a:pathLst>
              <a:path w="12249297" h="777104">
                <a:moveTo>
                  <a:pt x="670585" y="0"/>
                </a:moveTo>
                <a:lnTo>
                  <a:pt x="12235000" y="0"/>
                </a:lnTo>
                <a:lnTo>
                  <a:pt x="12235000" y="0"/>
                </a:lnTo>
                <a:lnTo>
                  <a:pt x="12235000" y="533332"/>
                </a:lnTo>
                <a:cubicBezTo>
                  <a:pt x="12235000" y="869967"/>
                  <a:pt x="12266963" y="733486"/>
                  <a:pt x="12235307" y="777104"/>
                </a:cubicBezTo>
                <a:lnTo>
                  <a:pt x="0" y="746624"/>
                </a:lnTo>
                <a:lnTo>
                  <a:pt x="15333" y="594292"/>
                </a:lnTo>
                <a:cubicBezTo>
                  <a:pt x="15333" y="257657"/>
                  <a:pt x="333950" y="0"/>
                  <a:pt x="670585" y="0"/>
                </a:cubicBezTo>
                <a:close/>
              </a:path>
            </a:pathLst>
          </a:custGeom>
          <a:solidFill>
            <a:srgbClr val="00a2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10574280" y="6343560"/>
            <a:ext cx="1440000" cy="3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第</a:t>
            </a:r>
            <a:fld id="{792FEB83-44FF-4DB5-9F14-46E016272DA0}" type="slidenum"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矩形 9"/>
          <p:cNvSpPr/>
          <p:nvPr/>
        </p:nvSpPr>
        <p:spPr>
          <a:xfrm>
            <a:off x="12014280" y="0"/>
            <a:ext cx="180720" cy="6892920"/>
          </a:xfrm>
          <a:prstGeom prst="rect">
            <a:avLst/>
          </a:prstGeom>
          <a:solidFill>
            <a:srgbClr val="00a2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Picture 2" descr="E:\迅雷下载\新建文件夹\中国农业银行 [转换].png"/>
          <p:cNvPicPr/>
          <p:nvPr/>
        </p:nvPicPr>
        <p:blipFill>
          <a:blip r:embed="rId2"/>
          <a:stretch/>
        </p:blipFill>
        <p:spPr>
          <a:xfrm>
            <a:off x="615960" y="404640"/>
            <a:ext cx="2898720" cy="547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a28a"/>
            </a:gs>
            <a:gs pos="100000">
              <a:srgbClr val="00a97e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图片 6" descr=""/>
          <p:cNvPicPr/>
          <p:nvPr/>
        </p:nvPicPr>
        <p:blipFill>
          <a:blip r:embed="rId2"/>
          <a:stretch/>
        </p:blipFill>
        <p:spPr>
          <a:xfrm>
            <a:off x="-50760" y="0"/>
            <a:ext cx="1223784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2" descr="E:\迅雷下载\新建文件夹\中国农业银行白色logo.png"/>
          <p:cNvPicPr/>
          <p:nvPr/>
        </p:nvPicPr>
        <p:blipFill>
          <a:blip r:embed="rId3"/>
          <a:stretch/>
        </p:blipFill>
        <p:spPr>
          <a:xfrm>
            <a:off x="189000" y="260280"/>
            <a:ext cx="3887640" cy="733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dt" idx="2"/>
          </p:nvPr>
        </p:nvSpPr>
        <p:spPr>
          <a:xfrm>
            <a:off x="609480" y="6356520"/>
            <a:ext cx="284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3"/>
          </p:nvPr>
        </p:nvSpPr>
        <p:spPr>
          <a:xfrm>
            <a:off x="4164120" y="6356520"/>
            <a:ext cx="3859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10574280" y="6343560"/>
            <a:ext cx="1440000" cy="3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12A5B-4D8F-4C58-B92F-E6BAB87F7CF0}" type="slidenum"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对角圆角矩形 8"/>
          <p:cNvSpPr/>
          <p:nvPr/>
        </p:nvSpPr>
        <p:spPr>
          <a:xfrm>
            <a:off x="-15840" y="6165720"/>
            <a:ext cx="12210840" cy="743040"/>
          </a:xfrm>
          <a:custGeom>
            <a:avLst/>
            <a:gdLst/>
            <a:ahLst/>
            <a:rect l="l" t="t" r="r" b="b"/>
            <a:pathLst>
              <a:path w="12235000" h="777104">
                <a:moveTo>
                  <a:pt x="670585" y="0"/>
                </a:moveTo>
                <a:lnTo>
                  <a:pt x="12235000" y="0"/>
                </a:lnTo>
                <a:lnTo>
                  <a:pt x="12235000" y="0"/>
                </a:lnTo>
                <a:lnTo>
                  <a:pt x="12235000" y="533332"/>
                </a:lnTo>
                <a:cubicBezTo>
                  <a:pt x="12235000" y="869967"/>
                  <a:pt x="12236423" y="685664"/>
                  <a:pt x="12113148" y="777104"/>
                </a:cubicBezTo>
                <a:lnTo>
                  <a:pt x="0" y="746624"/>
                </a:lnTo>
                <a:lnTo>
                  <a:pt x="15333" y="594292"/>
                </a:lnTo>
                <a:cubicBezTo>
                  <a:pt x="15333" y="257657"/>
                  <a:pt x="333950" y="0"/>
                  <a:pt x="670585" y="0"/>
                </a:cubicBezTo>
                <a:close/>
              </a:path>
            </a:pathLst>
          </a:custGeom>
          <a:solidFill>
            <a:srgbClr val="00a2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矩形 7"/>
          <p:cNvSpPr/>
          <p:nvPr/>
        </p:nvSpPr>
        <p:spPr>
          <a:xfrm>
            <a:off x="12014280" y="0"/>
            <a:ext cx="180720" cy="6892920"/>
          </a:xfrm>
          <a:prstGeom prst="rect">
            <a:avLst/>
          </a:prstGeom>
          <a:solidFill>
            <a:srgbClr val="00a2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E:\迅雷下载\新建文件夹\农业银行.png"/>
          <p:cNvPicPr/>
          <p:nvPr/>
        </p:nvPicPr>
        <p:blipFill>
          <a:blip r:embed="rId2"/>
          <a:stretch/>
        </p:blipFill>
        <p:spPr>
          <a:xfrm>
            <a:off x="693720" y="1525680"/>
            <a:ext cx="3095640" cy="3078000"/>
          </a:xfrm>
          <a:prstGeom prst="rect">
            <a:avLst/>
          </a:prstGeom>
          <a:ln w="0">
            <a:noFill/>
          </a:ln>
        </p:spPr>
      </p:pic>
      <p:sp>
        <p:nvSpPr>
          <p:cNvPr id="84" name="TextBox 11"/>
          <p:cNvSpPr/>
          <p:nvPr/>
        </p:nvSpPr>
        <p:spPr>
          <a:xfrm>
            <a:off x="1027080" y="4724280"/>
            <a:ext cx="3241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2d050"/>
                </a:solidFill>
                <a:latin typeface="微软雅黑"/>
                <a:ea typeface="微软雅黑"/>
              </a:rPr>
              <a:t>目    录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3" descr="E:\迅雷下载\新建文件夹\中国农业银行白色logo.png"/>
          <p:cNvPicPr/>
          <p:nvPr/>
        </p:nvPicPr>
        <p:blipFill>
          <a:blip r:embed="rId3"/>
          <a:stretch/>
        </p:blipFill>
        <p:spPr>
          <a:xfrm>
            <a:off x="9320040" y="6292800"/>
            <a:ext cx="2592720" cy="488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1"/>
          <p:cNvSpPr/>
          <p:nvPr/>
        </p:nvSpPr>
        <p:spPr>
          <a:xfrm>
            <a:off x="549360" y="1197000"/>
            <a:ext cx="1072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绚丽银行金融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组合 3"/>
          <p:cNvGrpSpPr/>
          <p:nvPr/>
        </p:nvGrpSpPr>
        <p:grpSpPr>
          <a:xfrm>
            <a:off x="5013360" y="1628640"/>
            <a:ext cx="5977080" cy="576360"/>
            <a:chOff x="5013360" y="1628640"/>
            <a:chExt cx="5977080" cy="576360"/>
          </a:xfrm>
        </p:grpSpPr>
        <p:sp>
          <p:nvSpPr>
            <p:cNvPr id="125" name="对角圆角矩形 1"/>
            <p:cNvSpPr/>
            <p:nvPr/>
          </p:nvSpPr>
          <p:spPr>
            <a:xfrm>
              <a:off x="5013360" y="1628640"/>
              <a:ext cx="5977080" cy="576360"/>
            </a:xfrm>
            <a:prstGeom prst="pie">
              <a:avLst/>
            </a:prstGeom>
            <a:solidFill>
              <a:srgbClr val="00a28b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插入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对角圆角矩形 2"/>
            <p:cNvSpPr/>
            <p:nvPr/>
          </p:nvSpPr>
          <p:spPr>
            <a:xfrm>
              <a:off x="5084640" y="1699920"/>
              <a:ext cx="792000" cy="433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a28b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组合 4"/>
          <p:cNvGrpSpPr/>
          <p:nvPr/>
        </p:nvGrpSpPr>
        <p:grpSpPr>
          <a:xfrm>
            <a:off x="4992840" y="2565360"/>
            <a:ext cx="5976720" cy="576360"/>
            <a:chOff x="4992840" y="2565360"/>
            <a:chExt cx="5976720" cy="576360"/>
          </a:xfrm>
        </p:grpSpPr>
        <p:sp>
          <p:nvSpPr>
            <p:cNvPr id="128" name="对角圆角矩形 5"/>
            <p:cNvSpPr/>
            <p:nvPr/>
          </p:nvSpPr>
          <p:spPr>
            <a:xfrm>
              <a:off x="4992840" y="2565360"/>
              <a:ext cx="5976720" cy="576360"/>
            </a:xfrm>
            <a:prstGeom prst="pie">
              <a:avLst/>
            </a:prstGeom>
            <a:solidFill>
              <a:srgbClr val="00a28b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插入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对角圆角矩形 6"/>
            <p:cNvSpPr/>
            <p:nvPr/>
          </p:nvSpPr>
          <p:spPr>
            <a:xfrm>
              <a:off x="5064120" y="2636640"/>
              <a:ext cx="792000" cy="433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a28b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组合 7"/>
          <p:cNvGrpSpPr/>
          <p:nvPr/>
        </p:nvGrpSpPr>
        <p:grpSpPr>
          <a:xfrm>
            <a:off x="5013360" y="3500280"/>
            <a:ext cx="5977080" cy="576360"/>
            <a:chOff x="5013360" y="3500280"/>
            <a:chExt cx="5977080" cy="576360"/>
          </a:xfrm>
        </p:grpSpPr>
        <p:sp>
          <p:nvSpPr>
            <p:cNvPr id="131" name="对角圆角矩形 8"/>
            <p:cNvSpPr/>
            <p:nvPr/>
          </p:nvSpPr>
          <p:spPr>
            <a:xfrm>
              <a:off x="5013360" y="3500280"/>
              <a:ext cx="5977080" cy="576360"/>
            </a:xfrm>
            <a:prstGeom prst="pie">
              <a:avLst/>
            </a:prstGeom>
            <a:solidFill>
              <a:srgbClr val="00a28b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插入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对角圆角矩形 9"/>
            <p:cNvSpPr/>
            <p:nvPr/>
          </p:nvSpPr>
          <p:spPr>
            <a:xfrm>
              <a:off x="5084640" y="3571560"/>
              <a:ext cx="792000" cy="433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a28b"/>
                  </a:solidFill>
                  <a:latin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3" name="组合 10"/>
          <p:cNvGrpSpPr/>
          <p:nvPr/>
        </p:nvGrpSpPr>
        <p:grpSpPr>
          <a:xfrm>
            <a:off x="4992840" y="4437000"/>
            <a:ext cx="5976720" cy="576360"/>
            <a:chOff x="4992840" y="4437000"/>
            <a:chExt cx="5976720" cy="576360"/>
          </a:xfrm>
        </p:grpSpPr>
        <p:sp>
          <p:nvSpPr>
            <p:cNvPr id="134" name="对角圆角矩形 11"/>
            <p:cNvSpPr/>
            <p:nvPr/>
          </p:nvSpPr>
          <p:spPr>
            <a:xfrm>
              <a:off x="4992840" y="4437000"/>
              <a:ext cx="5976720" cy="576360"/>
            </a:xfrm>
            <a:prstGeom prst="pie">
              <a:avLst/>
            </a:prstGeom>
            <a:solidFill>
              <a:srgbClr val="00a28b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插入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对角圆角矩形 12"/>
            <p:cNvSpPr/>
            <p:nvPr/>
          </p:nvSpPr>
          <p:spPr>
            <a:xfrm>
              <a:off x="5064120" y="4508280"/>
              <a:ext cx="792000" cy="433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a28b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王玉清</cp:lastModifiedBy>
  <dcterms:modified xsi:type="dcterms:W3CDTF">2016-02-15T04:00:31Z</dcterms:modified>
  <cp:revision>9</cp:revision>
  <dc:subject/>
  <dc:title>PowerPoint 演示文稿</dc:title>
</cp:coreProperties>
</file>