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985-A94A-4127-96FD-CE32F8A5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042-7BE3-49AC-8AC6-5859E5A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494-2700-4C7A-A44C-34BA17F9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940-E10B-40AE-B233-89BE8375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8C4-82F5-4E67-8EB9-1F6DE532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FA1-95FC-45CD-BCB9-CE40094A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88B-1AFE-46C3-87D9-6C7B92AF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9B5-94DB-4B67-B048-397B71E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5640" y="4221000"/>
            <a:ext cx="546768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751-0ACB-47C0-B900-854290D4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B8E-8143-44FA-9454-965736F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41E-F630-435F-97CD-E8816AA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437-A10C-467F-9B10-B787675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15" descr="PPP_SENVI_TLE_Fresh_Spring_Day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TW" sz="3600" spc="-1" strike="noStrike">
                <a:solidFill>
                  <a:srgbClr val="000000"/>
                </a:solidFill>
                <a:latin typeface="Corbel"/>
              </a:rPr>
              <a:t>按一下以編輯母片標題樣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4760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224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7232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30DF0-39E5-4209-A794-0A8F654584FB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4149000"/>
            <a:ext cx="68410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  <a:ea typeface="PMingLiU"/>
              </a:rPr>
              <a:t>洗澡的狗狗通用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orbel"/>
                <a:ea typeface="PMingLiU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4384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Simple 01">
  <a:themeElements>
    <a:clrScheme name="Simple_1">
      <a:dk1>
        <a:srgbClr val="000000"/>
      </a:dk1>
      <a:lt1>
        <a:srgbClr val="ffffff"/>
      </a:lt1>
      <a:dk2>
        <a:srgbClr val="17375d"/>
      </a:dk2>
      <a:lt2>
        <a:srgbClr val="bedbfe"/>
      </a:lt2>
      <a:accent1>
        <a:srgbClr val="686f3a"/>
      </a:accent1>
      <a:accent2>
        <a:srgbClr val="165996"/>
      </a:accent2>
      <a:accent3>
        <a:srgbClr val="7276a0"/>
      </a:accent3>
      <a:accent4>
        <a:srgbClr val="7db434"/>
      </a:accent4>
      <a:accent5>
        <a:srgbClr val="d28300"/>
      </a:accent5>
      <a:accent6>
        <a:srgbClr val="2b62cb"/>
      </a:accent6>
      <a:hlink>
        <a:srgbClr val="b58900"/>
      </a:hlink>
      <a:folHlink>
        <a:srgbClr val="b55c3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4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7:48:07Z</dcterms:created>
  <dc:creator>Your User Name</dc:creator>
  <dc:description/>
  <dc:language>en-US</dc:language>
  <cp:lastModifiedBy>王玉清</cp:lastModifiedBy>
  <dcterms:modified xsi:type="dcterms:W3CDTF">2016-03-02T07:36:40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