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06C3-6D47-498A-85E0-3211C57A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AEE7-CD6C-48AB-A643-ED7D959F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C60-AF14-44DD-A1C6-16386DFB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363D-9A54-4D30-8FBB-0B1EA0F3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BF60-6ED9-4E5D-BAF5-4B7D9D6B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9F0A-38FE-46D0-8600-10E6B633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5660-2C64-4CD6-8234-EF24FD0D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AA51-CA56-4D35-91C5-C6D1E55E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C0E9-93FE-4062-84FA-D3138E0B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F6C0-9044-478B-96D0-E646A3E9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7CFE-2726-44B7-88D2-98470C99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41A5-BA9D-44F6-BEE6-B0BF5D4C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E2A9-9ACE-4C70-97EA-DC944B46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7663-8CC6-45A9-9F1F-8D23E3D5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EBB4-379E-469C-B79B-A990E467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5B93-B01F-4599-9311-2A8A451E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5573-2B39-4A4A-B0BB-51A1997D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D872-BE0A-455A-97FD-A5E32CF7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A02C-D91E-4CF3-8FAC-27B75863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DD29-EFA2-49FB-AAC1-611075F0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3FD6-1895-4CBE-9887-A4E4113D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F2E3-CFA2-4E6A-95EF-BF07C5C6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8D49-6F31-4501-844B-2588346D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9745-5FA1-43A0-821A-92AC727A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360" y="662616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622560"/>
            <a:ext cx="2895840" cy="1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09920" y="6622560"/>
            <a:ext cx="2133720" cy="1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6BD2-FCE7-4125-9C53-FD91A6C69170}" type="slidenum">
              <a:rPr b="1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4"/>
          </p:nvPr>
        </p:nvSpPr>
        <p:spPr>
          <a:xfrm>
            <a:off x="-360" y="662616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5"/>
          </p:nvPr>
        </p:nvSpPr>
        <p:spPr>
          <a:xfrm>
            <a:off x="3124080" y="662616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6"/>
          </p:nvPr>
        </p:nvSpPr>
        <p:spPr>
          <a:xfrm>
            <a:off x="7009920" y="662616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11F5-F64F-4FF2-AF81-ED8AA86DC9F7}" type="slidenum">
              <a:rPr b="1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581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仪中圆简"/>
                <a:ea typeface="汉仪中圆简"/>
              </a:rPr>
              <a:t>月亮通用</a:t>
            </a:r>
            <a:r>
              <a:rPr b="0" lang="en-US" sz="4000" spc="-1" strike="noStrike">
                <a:solidFill>
                  <a:srgbClr val="ffffff"/>
                </a:solidFill>
                <a:latin typeface="汉仪中圆简"/>
                <a:ea typeface="汉仪中圆简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汉仪中圆简"/>
                <a:ea typeface="汉仪中圆简"/>
              </a:rPr>
              <a:t>模板免费下载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Your Topic Goes Here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581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宋体"/>
              </a:rPr>
              <a:t>Transitional Page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6320" y="4160520"/>
            <a:ext cx="90676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宋体"/>
              </a:rPr>
              <a:t>Your Topic Goes Her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3:19:48Z</dcterms:created>
  <dc:creator>User</dc:creator>
  <dc:description/>
  <dc:language>en-US</dc:language>
  <cp:lastModifiedBy>王玉清</cp:lastModifiedBy>
  <dcterms:modified xsi:type="dcterms:W3CDTF">2016-02-20T04:32:44Z</dcterms:modified>
  <cp:revision>4</cp:revision>
  <dc:subject/>
  <dc:title>Blue Skies</dc:title>
</cp:coreProperties>
</file>