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DB2-D27D-4459-BA1A-B2088AC0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E2EA-AF8C-41CD-B84C-5E5A0BD9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4FB3-5DFF-4A9A-BB74-B75AF848C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0423-CD40-4961-922F-5EEDF4738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F3E-4135-4392-A6EC-7EE6B8AF4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45A-BC38-48E1-A9F0-F54F16C4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578F-8698-41F1-9816-F2CA81EF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667-4640-4424-8BFC-13DCFB6A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A27D-69A1-44E8-B8A4-D9E6EE44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758-5DD5-462D-A68D-E3573A74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13C0-1376-4263-9547-71706E1C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768-AC59-4D2F-8482-26B345BC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23FE-1334-432C-AB6A-CD02AA05A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39640" y="0"/>
            <a:ext cx="881280" cy="1503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596360" y="0"/>
            <a:ext cx="847440" cy="1447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479840" y="2100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43720" y="404640"/>
            <a:ext cx="282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游乐园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0F0D-A6C5-4614-ADBB-F630CA464B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4:36:2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15:23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