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327D-6C37-45D6-B46E-31A9BE252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E805-9F0A-4C5A-AC16-3D77D94C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1979-CEAD-40FC-B24E-67D6AF601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9A04-6F36-414F-AC83-3E2680E0D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2F8A-1646-485E-8778-89F74704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3395-2BA9-46BE-8B1F-8B7075DC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21B9-C137-4269-B28B-4923C89E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3C2A-9169-493D-8FF7-1772E2D0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258D-0DDF-497D-BDBD-F040D218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3AE7-B0E3-47D9-91EB-6D26878E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7695-9F9D-46C3-9DC9-0BCEA97C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7346-2206-42CD-BAF3-3C6889FF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d4d4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63B5-AECB-41F8-8FD8-DD3031ABA11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4d4d4d"/>
              </a:solidFill>
              <a:latin typeface="Times New Roman"/>
              <a:ea typeface="宋体"/>
            </a:endParaRPr>
          </a:p>
        </p:txBody>
      </p:sp>
      <p:sp>
        <p:nvSpPr>
          <p:cNvPr id="42" name="矩形 1"/>
          <p:cNvSpPr/>
          <p:nvPr/>
        </p:nvSpPr>
        <p:spPr>
          <a:xfrm>
            <a:off x="1350000" y="1143000"/>
            <a:ext cx="603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艺术花朵教育通用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4d4d4d"/>
              </a:solidFill>
              <a:latin typeface="Times New Roman"/>
              <a:ea typeface="宋体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4d4d4d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6T13:31:35Z</dcterms:created>
  <dc:creator/>
  <dc:description/>
  <cp:keywords/>
  <dc:language>en-US</dc:language>
  <cp:lastModifiedBy>王玉清</cp:lastModifiedBy>
  <dcterms:modified xsi:type="dcterms:W3CDTF">2016-02-24T03:33:35Z</dcterms:modified>
  <cp:revision>7</cp:revision>
  <dc:subject/>
  <dc:title>ppt.glzy8.com提供海量PPT模板免费下载！</dc:title>
</cp:coreProperties>
</file>