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3E14-B92B-4DEC-8EE2-F9335DA9F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CDFA-0FE3-43A7-882C-312BCF13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98C2-8ED4-4EAE-B618-E52ABA0FD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6E96-43EC-4127-9538-02FF18C69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EEE8-D1D9-4497-B8CC-074253C42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BF6B-1C9D-4F81-AF0F-472FBFD1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D342-B920-4A80-91AF-D7E2F917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ACA9-5156-485A-9D7D-7EE9879E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F8AE-CEC1-4B94-B72F-62AB1DE3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1EDD-8D7F-4319-9B17-83AE252D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E8AC-5404-4509-B648-75C89C6A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9565-E0FD-4187-AB5D-71C7E1EC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A416-3DA1-409D-84ED-93B40513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0D7B-6637-4DD1-935E-52FD2218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0AE4-E28E-4EA3-8706-85CE8DFF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E0B3-41AC-4268-9A15-F85C6E73F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D503-1641-49A6-BD07-83F49160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2F5F-F450-4F3F-8B86-14D76F85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5C49-2FFB-4E34-BE9F-F40E6572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441F-ACBD-4364-A70E-2337C376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16D4-0ABC-41A4-B14B-82CE0C15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7500-69C8-4E51-9D7F-1CF28A01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6F58-6A7D-42A8-89AB-D6DA5EE9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BDAF-300F-4502-9C93-D9951001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1D6BA7-FC71-4557-A00D-58A3684B75B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D1DB0A-CD3F-4A2E-8628-4B8A91A045F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apidbbs.cn/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4200" y="4181760"/>
            <a:ext cx="700056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Power Point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Templ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/>
          <p:cNvSpPr/>
          <p:nvPr/>
        </p:nvSpPr>
        <p:spPr>
          <a:xfrm>
            <a:off x="378720" y="5538960"/>
            <a:ext cx="3702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  <a:ea typeface="宋体"/>
              </a:rPr>
              <a:t>Add your company slo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941840" y="3808440"/>
            <a:ext cx="506808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银行卡金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val 10"/>
          <p:cNvSpPr/>
          <p:nvPr/>
        </p:nvSpPr>
        <p:spPr>
          <a:xfrm>
            <a:off x="6357960" y="3711960"/>
            <a:ext cx="1398600" cy="1285200"/>
          </a:xfrm>
          <a:prstGeom prst="ellipse">
            <a:avLst/>
          </a:prstGeom>
          <a:gradFill rotWithShape="0">
            <a:gsLst>
              <a:gs pos="0">
                <a:srgbClr val="31859c"/>
              </a:gs>
              <a:gs pos="100000">
                <a:srgbClr val="215968"/>
              </a:gs>
            </a:gsLst>
            <a:path path="circle">
              <a:fillToRect l="50000" t="0" r="50000" b="100000"/>
            </a:path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  <a:reflection algn="bl" blurRad="6350" dir="5400000" endA="300" endPos="35000" rotWithShape="0" stA="52000" sy="-100000"/>
          </a:effectLst>
        </p:spPr>
        <p:style>
          <a:lnRef idx="1">
            <a:schemeClr val="accent2"/>
          </a:lnRef>
          <a:fillRef idx="1002">
            <a:schemeClr val="lt2"/>
          </a:fillRef>
          <a:effectRef idx="2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1712880" y="2166840"/>
            <a:ext cx="5206680" cy="232848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eeece1"/>
              </a:gs>
              <a:gs pos="100000">
                <a:srgbClr val="ffffff">
                  <a:alpha val="25098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10"/>
          <p:cNvSpPr/>
          <p:nvPr/>
        </p:nvSpPr>
        <p:spPr>
          <a:xfrm>
            <a:off x="2601720" y="3711960"/>
            <a:ext cx="1398600" cy="1285200"/>
          </a:xfrm>
          <a:prstGeom prst="ellipse">
            <a:avLst/>
          </a:prstGeom>
          <a:gradFill rotWithShape="0">
            <a:gsLst>
              <a:gs pos="0">
                <a:srgbClr val="77933c"/>
              </a:gs>
              <a:gs pos="100000">
                <a:srgbClr val="404f27"/>
              </a:gs>
            </a:gsLst>
            <a:path path="circle">
              <a:fillToRect l="50000" t="0" r="50000" b="100000"/>
            </a:path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  <a:reflection algn="bl" blurRad="6350" dir="5400000" endA="300" endPos="35000" rotWithShape="0" stA="52000" sy="-100000"/>
          </a:effectLst>
        </p:spPr>
        <p:style>
          <a:lnRef idx="1">
            <a:schemeClr val="accent2"/>
          </a:lnRef>
          <a:fillRef idx="1002">
            <a:schemeClr val="lt2"/>
          </a:fillRef>
          <a:effectRef idx="2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252960" y="2781360"/>
            <a:ext cx="16473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781200" y="3714840"/>
            <a:ext cx="1398600" cy="1285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920000"/>
              </a:gs>
            </a:gsLst>
            <a:path path="circle">
              <a:fillToRect l="50000" t="0" r="50000" b="100000"/>
            </a:path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  <a:reflection algn="bl" blurRad="6350" dir="5400000" endA="300" endPos="35000" rotWithShape="0" stA="52000" sy="-100000"/>
          </a:effectLst>
        </p:spPr>
        <p:style>
          <a:lnRef idx="1">
            <a:schemeClr val="accent2"/>
          </a:lnRef>
          <a:fillRef idx="1002">
            <a:schemeClr val="lt2"/>
          </a:fillRef>
          <a:effectRef idx="2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882720" y="4183200"/>
            <a:ext cx="116028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2646360" y="4183200"/>
            <a:ext cx="12902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0"/>
          <p:cNvSpPr/>
          <p:nvPr/>
        </p:nvSpPr>
        <p:spPr>
          <a:xfrm>
            <a:off x="4500720" y="3711960"/>
            <a:ext cx="1398600" cy="1285200"/>
          </a:xfrm>
          <a:prstGeom prst="ellipse">
            <a:avLst/>
          </a:prstGeom>
          <a:gradFill rotWithShape="0">
            <a:gsLst>
              <a:gs pos="0">
                <a:srgbClr val="558ed5"/>
              </a:gs>
              <a:gs pos="100000">
                <a:srgbClr val="17375e"/>
              </a:gs>
            </a:gsLst>
            <a:path path="circle">
              <a:fillToRect l="50000" t="0" r="50000" b="100000"/>
            </a:path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  <a:reflection algn="bl" blurRad="6350" dir="5400000" endA="300" endPos="35000" rotWithShape="0" stA="52000" sy="-100000"/>
          </a:effectLst>
        </p:spPr>
        <p:style>
          <a:lnRef idx="1">
            <a:schemeClr val="accent2"/>
          </a:lnRef>
          <a:fillRef idx="1002">
            <a:schemeClr val="lt2"/>
          </a:fillRef>
          <a:effectRef idx="2">
            <a:schemeClr val="accent2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4" name="Text Box 24"/>
          <p:cNvSpPr/>
          <p:nvPr/>
        </p:nvSpPr>
        <p:spPr>
          <a:xfrm>
            <a:off x="4583160" y="4183200"/>
            <a:ext cx="12902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1"/>
          <p:cNvSpPr/>
          <p:nvPr/>
        </p:nvSpPr>
        <p:spPr>
          <a:xfrm>
            <a:off x="6513480" y="4183200"/>
            <a:ext cx="10584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1643040" y="1547640"/>
            <a:ext cx="5451480" cy="53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28800" y="71280"/>
            <a:ext cx="37573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标题 8"/>
          <p:cNvSpPr/>
          <p:nvPr/>
        </p:nvSpPr>
        <p:spPr>
          <a:xfrm>
            <a:off x="285840" y="4000680"/>
            <a:ext cx="50716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5d5d5d"/>
                </a:solidFill>
                <a:latin typeface="Arial"/>
                <a:ea typeface="宋体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副标题 9"/>
          <p:cNvSpPr/>
          <p:nvPr/>
        </p:nvSpPr>
        <p:spPr>
          <a:xfrm>
            <a:off x="785880" y="5084640"/>
            <a:ext cx="4285800" cy="499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8000"/>
          </a:bodyPr>
          <a:p>
            <a:pPr algn="just">
              <a:lnSpc>
                <a:spcPct val="100000"/>
              </a:lnSpc>
              <a:spcBef>
                <a:spcPts val="601"/>
              </a:spcBef>
            </a:pPr>
            <a:r>
              <a:rPr b="0" lang="en-US" sz="3000" spc="-1" strike="noStrike">
                <a:solidFill>
                  <a:srgbClr val="0d0d0d"/>
                </a:solidFill>
                <a:latin typeface="Arial"/>
              </a:rPr>
              <a:t>Add your company slog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1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">
            <a:hlinkClick r:id="rId1"/>
          </p:cNvPr>
          <p:cNvSpPr/>
          <p:nvPr/>
        </p:nvSpPr>
        <p:spPr>
          <a:xfrm>
            <a:off x="1746360" y="6218280"/>
            <a:ext cx="565128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7f7f7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金融1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金融1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金融1</Template>
  <TotalTime>4</TotalTime>
  <Application>LibreOffice/7.4.7.2$Linux_X86_64 LibreOffice_project/40$Build-2</Application>
  <AppVersion>15.0000</AppVersion>
  <Words>39</Words>
  <Paragraphs>13</Paragraphs>
  <Company>WwW.YlmF.CoM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07:05:07Z</dcterms:created>
  <dc:creator>YlmF</dc:creator>
  <dc:description/>
  <dc:language>en-US</dc:language>
  <cp:lastModifiedBy>王玉清</cp:lastModifiedBy>
  <dcterms:modified xsi:type="dcterms:W3CDTF">2016-02-15T04:31:55Z</dcterms:modified>
  <cp:revision>4</cp:revision>
  <dc:subject/>
  <dc:title>Power 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