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D2F-A7C4-4F58-AB1F-07B9456C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C78-4B03-4F16-94CA-2061EC9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403-C0E2-4F2A-B160-7862D7BD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F61-B3A0-476A-8537-29D79AF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26A-5A6B-4AC0-BE83-54FC906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88B-2EAB-4EDB-B45D-FEB9B07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B48-21EC-48F9-B78A-A42B2BD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103-6290-4233-90EE-C0D3DE1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92A-38DF-4B01-B0B4-1B66D8E0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E8E-2D58-46A7-A14B-30BA1E3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84A-07E8-46D3-91AA-7C6313B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883-63D9-42A2-B6DE-68B343C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797EA-D7E4-4016-95DC-3562BEF1B71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42" name="任意多边形 41"/>
          <p:cNvSpPr/>
          <p:nvPr/>
        </p:nvSpPr>
        <p:spPr>
          <a:xfrm rot="20198400">
            <a:off x="1196640" y="4640400"/>
            <a:ext cx="8357760" cy="463680"/>
          </a:xfrm>
          <a:custGeom>
            <a:avLst/>
            <a:gdLst>
              <a:gd name="textAreaLeft" fmla="*/ 0 w 8357760"/>
              <a:gd name="textAreaRight" fmla="*/ 8358120 w 835776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1144185" h="463903">
                <a:moveTo>
                  <a:pt x="11144185" y="0"/>
                </a:moveTo>
                <a:lnTo>
                  <a:pt x="11119937" y="56153"/>
                </a:lnTo>
                <a:lnTo>
                  <a:pt x="8596137" y="56153"/>
                </a:lnTo>
                <a:lnTo>
                  <a:pt x="8420426" y="178246"/>
                </a:lnTo>
                <a:cubicBezTo>
                  <a:pt x="8354449" y="234316"/>
                  <a:pt x="8293423" y="297317"/>
                  <a:pt x="8238551" y="366852"/>
                </a:cubicBezTo>
                <a:lnTo>
                  <a:pt x="8176790" y="463903"/>
                </a:lnTo>
                <a:lnTo>
                  <a:pt x="924151" y="463903"/>
                </a:lnTo>
                <a:lnTo>
                  <a:pt x="0" y="64839"/>
                </a:lnTo>
                <a:lnTo>
                  <a:pt x="27998" y="1"/>
                </a:lnTo>
                <a:close/>
              </a:path>
            </a:pathLst>
          </a:custGeom>
          <a:gradFill rotWithShape="0">
            <a:gsLst>
              <a:gs pos="0">
                <a:srgbClr val="f7c114"/>
              </a:gs>
              <a:gs pos="100000">
                <a:srgbClr val="f6be15"/>
              </a:gs>
            </a:gsLst>
            <a:lin ang="2019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任意多边形 19"/>
          <p:cNvSpPr/>
          <p:nvPr/>
        </p:nvSpPr>
        <p:spPr>
          <a:xfrm rot="9325200">
            <a:off x="-441360" y="1818720"/>
            <a:ext cx="8155800" cy="463680"/>
          </a:xfrm>
          <a:custGeom>
            <a:avLst/>
            <a:gdLst>
              <a:gd name="textAreaLeft" fmla="*/ 0 w 8155800"/>
              <a:gd name="textAreaRight" fmla="*/ 8156160 w 81558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0874818" h="463903">
                <a:moveTo>
                  <a:pt x="0" y="1"/>
                </a:moveTo>
                <a:lnTo>
                  <a:pt x="10874818" y="0"/>
                </a:lnTo>
                <a:lnTo>
                  <a:pt x="10849138" y="56153"/>
                </a:lnTo>
                <a:lnTo>
                  <a:pt x="7517617" y="56153"/>
                </a:lnTo>
                <a:lnTo>
                  <a:pt x="7341906" y="178246"/>
                </a:lnTo>
                <a:cubicBezTo>
                  <a:pt x="7275929" y="234316"/>
                  <a:pt x="7214903" y="297317"/>
                  <a:pt x="7160029" y="366852"/>
                </a:cubicBezTo>
                <a:lnTo>
                  <a:pt x="7098270" y="463903"/>
                </a:lnTo>
                <a:lnTo>
                  <a:pt x="1014378" y="463903"/>
                </a:lnTo>
                <a:close/>
              </a:path>
            </a:pathLst>
          </a:custGeom>
          <a:gradFill rotWithShape="0">
            <a:gsLst>
              <a:gs pos="33000">
                <a:srgbClr val="ea9222"/>
              </a:gs>
              <a:gs pos="100000">
                <a:srgbClr val="f7c115"/>
              </a:gs>
            </a:gsLst>
            <a:lin ang="201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 rot="20145000">
            <a:off x="1495080" y="2136960"/>
            <a:ext cx="589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 u="sng">
                <a:solidFill>
                  <a:srgbClr val="ffc000"/>
                </a:solidFill>
                <a:uFillTx/>
                <a:latin typeface="Impact"/>
              </a:rPr>
              <a:t>银行信用卡申请使用流程金融</a:t>
            </a:r>
            <a:r>
              <a:rPr b="0" lang="en-US" sz="4000" spc="-1" strike="noStrike" u="sng">
                <a:solidFill>
                  <a:srgbClr val="ffc000"/>
                </a:solidFill>
                <a:uFillTx/>
                <a:latin typeface="Impact"/>
              </a:rPr>
              <a:t>PPT</a:t>
            </a:r>
            <a:r>
              <a:rPr b="0" lang="zh-CN" sz="4000" spc="-1" strike="noStrike" u="sng">
                <a:solidFill>
                  <a:srgbClr val="ffc000"/>
                </a:solidFill>
                <a:uFillTx/>
                <a:latin typeface="Impac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 rot="20151000">
            <a:off x="2962800" y="361296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948a54"/>
                </a:solidFill>
                <a:latin typeface="MS PGothic"/>
                <a:ea typeface="MS UI Gothic"/>
              </a:rPr>
              <a:t>中国银行双流分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6"/>
          <p:cNvSpPr/>
          <p:nvPr/>
        </p:nvSpPr>
        <p:spPr>
          <a:xfrm rot="20141400">
            <a:off x="2919960" y="4772160"/>
            <a:ext cx="148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信用卡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48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51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54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文本框 26"/>
          <p:cNvSpPr/>
          <p:nvPr/>
        </p:nvSpPr>
        <p:spPr>
          <a:xfrm rot="20141400">
            <a:off x="5359680" y="4007520"/>
            <a:ext cx="1381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Tel:858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8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29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32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35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Box 11"/>
          <p:cNvSpPr/>
          <p:nvPr/>
        </p:nvSpPr>
        <p:spPr>
          <a:xfrm>
            <a:off x="0" y="0"/>
            <a:ext cx="342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c42f00"/>
                </a:solidFill>
                <a:latin typeface="华文彩云"/>
                <a:ea typeface="华文彩云"/>
              </a:rPr>
              <a:t>SO,,,,,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4357800" y="-10000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4357800" y="-1148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4357800" y="885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4357800" y="50148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357800" y="30002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c42f00"/>
                </a:solidFill>
                <a:latin typeface="华文琥珀"/>
                <a:ea typeface="华文琥珀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4357800" y="40006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286160" y="194292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4357800" y="5943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0"/>
          <p:cNvSpPr/>
          <p:nvPr/>
        </p:nvSpPr>
        <p:spPr>
          <a:xfrm>
            <a:off x="-2000160" y="3000240"/>
            <a:ext cx="11286720" cy="1142640"/>
          </a:xfrm>
          <a:prstGeom prst="rect">
            <a:avLst/>
          </a:prstGeom>
          <a:solidFill>
            <a:schemeClr val="accent6">
              <a:lumMod val="75000"/>
              <a:alpha val="1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5072040" y="360036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天零</a:t>
            </a:r>
            <a:r>
              <a:rPr b="0" lang="en-US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48</a:t>
            </a: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2786040" y="3143160"/>
            <a:ext cx="99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耗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0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51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54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57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TextBox 11"/>
          <p:cNvSpPr/>
          <p:nvPr/>
        </p:nvSpPr>
        <p:spPr>
          <a:xfrm>
            <a:off x="0" y="0"/>
            <a:ext cx="342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c42f00"/>
                </a:solidFill>
                <a:latin typeface="华文彩云"/>
                <a:ea typeface="华文彩云"/>
              </a:rPr>
              <a:t>SO,,,,,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4357800" y="-10000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4357800" y="-1148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4357800" y="885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4357800" y="50148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4357800" y="30002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c42f00"/>
                </a:solidFill>
                <a:latin typeface="华文琥珀"/>
                <a:ea typeface="华文琥珀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4357800" y="40006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8"/>
          <p:cNvSpPr/>
          <p:nvPr/>
        </p:nvSpPr>
        <p:spPr>
          <a:xfrm>
            <a:off x="4286160" y="194292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4357800" y="5943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0"/>
          <p:cNvSpPr/>
          <p:nvPr/>
        </p:nvSpPr>
        <p:spPr>
          <a:xfrm>
            <a:off x="-2000160" y="3000240"/>
            <a:ext cx="11286720" cy="1142640"/>
          </a:xfrm>
          <a:prstGeom prst="rect">
            <a:avLst/>
          </a:prstGeom>
          <a:solidFill>
            <a:schemeClr val="accent6">
              <a:lumMod val="75000"/>
              <a:alpha val="1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5072040" y="360036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天零</a:t>
            </a:r>
            <a:r>
              <a:rPr b="0" lang="en-US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48</a:t>
            </a: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786040" y="3143160"/>
            <a:ext cx="99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耗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23" descr="图片1.jpg"/>
          <p:cNvPicPr/>
          <p:nvPr/>
        </p:nvPicPr>
        <p:blipFill>
          <a:blip r:embed="rId1"/>
          <a:stretch/>
        </p:blipFill>
        <p:spPr>
          <a:xfrm>
            <a:off x="-142920" y="-500040"/>
            <a:ext cx="9429480" cy="8631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4"/>
          <p:cNvSpPr/>
          <p:nvPr/>
        </p:nvSpPr>
        <p:spPr>
          <a:xfrm>
            <a:off x="4143240" y="3500280"/>
            <a:ext cx="9284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鸡血模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5"/>
          <p:cNvSpPr/>
          <p:nvPr/>
        </p:nvSpPr>
        <p:spPr>
          <a:xfrm>
            <a:off x="2660760" y="4780800"/>
            <a:ext cx="1292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93300"/>
                </a:solidFill>
                <a:latin typeface="Calibri"/>
              </a:rPr>
              <a:t>但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9933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Calibri"/>
              </a:rPr>
              <a:t>这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5000760" y="6215040"/>
            <a:ext cx="292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42f00"/>
                </a:solidFill>
                <a:latin typeface="黑体"/>
                <a:ea typeface="黑体"/>
              </a:rPr>
              <a:t>--</a:t>
            </a:r>
            <a:r>
              <a:rPr b="0" lang="zh-CN" sz="1800" spc="-1" strike="noStrike">
                <a:solidFill>
                  <a:srgbClr val="c42f00"/>
                </a:solidFill>
                <a:latin typeface="黑体"/>
                <a:ea typeface="黑体"/>
              </a:rPr>
              <a:t>排除外在干扰的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:\ppt\图标\科技工业图（锐普两千人群：19888900）\科技工业图（锐普两千人群：19888900）\本本整理 (27).jpg"/>
          <p:cNvPicPr/>
          <p:nvPr/>
        </p:nvPicPr>
        <p:blipFill>
          <a:blip r:embed="rId1"/>
          <a:stretch/>
        </p:blipFill>
        <p:spPr>
          <a:xfrm>
            <a:off x="-71640" y="-762120"/>
            <a:ext cx="9524520" cy="76197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85840" y="1148400"/>
            <a:ext cx="3071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黑体"/>
                <a:ea typeface="黑体"/>
              </a:rPr>
              <a:t>网点交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1367640" y="32148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实是这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429160" y="-142920"/>
            <a:ext cx="42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业务繁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 rot="19293000">
            <a:off x="7148520" y="55692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事情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5214960" y="5572080"/>
            <a:ext cx="106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懒得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6357960" y="280080"/>
            <a:ext cx="42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黑体"/>
                <a:ea typeface="黑体"/>
              </a:rPr>
              <a:t>不干我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3714840" y="1500120"/>
            <a:ext cx="356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填表日期  一周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7000920" y="3929040"/>
            <a:ext cx="5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开会时顺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D:\ppt\图标\科技工业图（锐普两千人群：19888900）\科技工业图（锐普两千人群：19888900）\本本整理 (25).jp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-71640" y="0"/>
            <a:ext cx="10715400" cy="6857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0" y="214200"/>
            <a:ext cx="6071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被告知申请件有问题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 rot="19218000">
            <a:off x="5641920" y="88344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我交过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 rot="533400">
            <a:off x="8123760" y="102816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这客户是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 rot="533400">
            <a:off x="7378920" y="381420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下次去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 rot="20454600">
            <a:off x="5547960" y="349056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能不能不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9"/>
          <p:cNvSpPr/>
          <p:nvPr/>
        </p:nvSpPr>
        <p:spPr>
          <a:xfrm rot="533400">
            <a:off x="7736040" y="252828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车费</a:t>
            </a:r>
            <a:r>
              <a:rPr b="0" lang="en-US" sz="1800" spc="-1" strike="noStrike">
                <a:solidFill>
                  <a:srgbClr val="d9d9d9"/>
                </a:solidFill>
                <a:latin typeface="黑体"/>
                <a:ea typeface="黑体"/>
              </a:rPr>
              <a:t>=</a:t>
            </a: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提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2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93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96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99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文本框 8"/>
          <p:cNvSpPr/>
          <p:nvPr/>
        </p:nvSpPr>
        <p:spPr>
          <a:xfrm>
            <a:off x="2940840" y="1643040"/>
            <a:ext cx="536220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</a:t>
            </a:r>
            <a:r>
              <a:rPr b="0" lang="zh-CN" sz="18800" spc="-1" strike="noStrike">
                <a:solidFill>
                  <a:srgbClr val="ffffff"/>
                </a:solidFill>
                <a:latin typeface="바탕"/>
                <a:ea typeface="바탕"/>
              </a:rPr>
              <a:t>，</a:t>
            </a: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D:\ppt\图标\高清商务（本本整理，锐普2000人大群：19888900）\高清商务（本本整理，锐普2000人大群：19888900）\锐普本本整理 (9).jpg"/>
          <p:cNvPicPr/>
          <p:nvPr/>
        </p:nvPicPr>
        <p:blipFill>
          <a:blip r:embed="rId1">
            <a:lum bright="-19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"/>
          <p:cNvSpPr/>
          <p:nvPr/>
        </p:nvSpPr>
        <p:spPr>
          <a:xfrm>
            <a:off x="5572080" y="5929200"/>
            <a:ext cx="3785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c000"/>
                </a:solidFill>
                <a:latin typeface="黑体"/>
                <a:ea typeface="黑体"/>
              </a:rPr>
              <a:t>了解你的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客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3" descr="图片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1071360" y="785880"/>
            <a:ext cx="478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d2a000"/>
                </a:solidFill>
                <a:latin typeface="黑体"/>
                <a:ea typeface="黑体"/>
              </a:rPr>
              <a:t>给我们</a:t>
            </a: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一点点</a:t>
            </a:r>
            <a:r>
              <a:rPr b="0" lang="zh-CN" sz="4000" spc="-1" strike="noStrike">
                <a:solidFill>
                  <a:srgbClr val="d2a000"/>
                </a:solidFill>
                <a:latin typeface="黑体"/>
                <a:ea typeface="黑体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173160" y="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d2a000"/>
                </a:solidFill>
                <a:latin typeface="黑体"/>
                <a:ea typeface="黑体"/>
              </a:rPr>
              <a:t>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6357960" y="5929200"/>
            <a:ext cx="228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93300"/>
                </a:solidFill>
                <a:latin typeface="黑体"/>
                <a:ea typeface="黑体"/>
              </a:rPr>
              <a:t>有时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93300"/>
                </a:solidFill>
                <a:latin typeface="黑体"/>
                <a:ea typeface="黑体"/>
              </a:rPr>
              <a:t>        </a:t>
            </a:r>
            <a:r>
              <a:rPr b="0" lang="zh-CN" sz="1800" spc="-1" strike="noStrike">
                <a:solidFill>
                  <a:srgbClr val="993300"/>
                </a:solidFill>
                <a:latin typeface="黑体"/>
                <a:ea typeface="黑体"/>
              </a:rPr>
              <a:t>我们也很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0" name="图片 5" descr=""/>
          <p:cNvPicPr/>
          <p:nvPr/>
        </p:nvPicPr>
        <p:blipFill>
          <a:blip r:embed="rId1"/>
          <a:srcRect l="0" t="6825" r="0" b="8706"/>
          <a:stretch/>
        </p:blipFill>
        <p:spPr>
          <a:xfrm>
            <a:off x="0" y="0"/>
            <a:ext cx="9143640" cy="6848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1571760" y="5699520"/>
            <a:ext cx="5714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一张</a:t>
            </a: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小小的</a:t>
            </a:r>
            <a:r>
              <a:rPr b="1" lang="zh-CN" sz="6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卡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4" descr="QQ截图20130805203100.jpg"/>
          <p:cNvPicPr/>
          <p:nvPr/>
        </p:nvPicPr>
        <p:blipFill>
          <a:blip r:embed="rId2"/>
          <a:stretch/>
        </p:blipFill>
        <p:spPr>
          <a:xfrm>
            <a:off x="2000160" y="1643040"/>
            <a:ext cx="4590720" cy="2746440"/>
          </a:xfrm>
          <a:prstGeom prst="rect">
            <a:avLst/>
          </a:prstGeom>
          <a:ln w="0">
            <a:noFill/>
          </a:ln>
          <a:effectLst>
            <a:glow rad="139680">
              <a:srgbClr val="ffffff">
                <a:alpha val="40000"/>
              </a:srgbClr>
            </a:glow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63" name="TextBox 15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6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6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7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平行四边形 22"/>
          <p:cNvSpPr/>
          <p:nvPr/>
        </p:nvSpPr>
        <p:spPr>
          <a:xfrm rot="10800000">
            <a:off x="6086160" y="575208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75" name="平行四边形 22"/>
          <p:cNvSpPr/>
          <p:nvPr/>
        </p:nvSpPr>
        <p:spPr>
          <a:xfrm rot="-600">
            <a:off x="2210760" y="575208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  <a:scene3d>
            <a:camera prst="orthographicFront">
              <a:rot lat="0" lon="10799999" rev="10799999"/>
            </a:camera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2767" t="0" r="7211" b="57688"/>
          <a:stretch/>
        </p:blipFill>
        <p:spPr>
          <a:xfrm flipH="1" rot="10800000">
            <a:off x="1203120" y="5751360"/>
            <a:ext cx="6774840" cy="123120"/>
          </a:xfrm>
          <a:prstGeom prst="rect">
            <a:avLst/>
          </a:prstGeom>
          <a:ln w="0">
            <a:noFill/>
          </a:ln>
        </p:spPr>
      </p:pic>
      <p:sp>
        <p:nvSpPr>
          <p:cNvPr id="77" name="平行四边形 22"/>
          <p:cNvSpPr/>
          <p:nvPr/>
        </p:nvSpPr>
        <p:spPr>
          <a:xfrm>
            <a:off x="1793520" y="156600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平行四边形 22"/>
          <p:cNvSpPr/>
          <p:nvPr/>
        </p:nvSpPr>
        <p:spPr>
          <a:xfrm>
            <a:off x="6092280" y="155772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  <a:scene3d>
            <a:camera prst="orthographicFront">
              <a:rot lat="0" lon="10799999" rev="10799999"/>
            </a:camera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rcRect l="2767" t="0" r="7211" b="57688"/>
          <a:stretch/>
        </p:blipFill>
        <p:spPr>
          <a:xfrm flipH="1">
            <a:off x="1166040" y="1784880"/>
            <a:ext cx="6774840" cy="12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rcRect l="2774" t="0" r="7202" b="57653"/>
          <a:stretch/>
        </p:blipFill>
        <p:spPr>
          <a:xfrm flipH="1" rot="16200000">
            <a:off x="5058360" y="518472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1" name="任意多边形 28"/>
          <p:cNvSpPr/>
          <p:nvPr/>
        </p:nvSpPr>
        <p:spPr>
          <a:xfrm rot="10800000">
            <a:off x="4591080" y="450252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f9ac13"/>
              </a:gs>
              <a:gs pos="100000">
                <a:srgbClr val="fab93c"/>
              </a:gs>
            </a:gsLst>
            <a:lin ang="162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4"/>
          <a:srcRect l="2774" t="0" r="7202" b="57653"/>
          <a:stretch/>
        </p:blipFill>
        <p:spPr>
          <a:xfrm flipH="1" rot="5400000">
            <a:off x="2296080" y="5185440"/>
            <a:ext cx="1737360" cy="8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5"/>
          <a:srcRect l="2774" t="0" r="7202" b="57653"/>
          <a:stretch/>
        </p:blipFill>
        <p:spPr>
          <a:xfrm flipH="1" rot="5400000">
            <a:off x="2296080" y="235116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4" name="任意多边形 34"/>
          <p:cNvSpPr/>
          <p:nvPr/>
        </p:nvSpPr>
        <p:spPr>
          <a:xfrm>
            <a:off x="2203200" y="152640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d2700e"/>
              </a:gs>
              <a:gs pos="100000">
                <a:srgbClr val="f08224"/>
              </a:gs>
            </a:gsLst>
            <a:lin ang="54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6"/>
          <a:srcRect l="2774" t="0" r="7202" b="57653"/>
          <a:stretch/>
        </p:blipFill>
        <p:spPr>
          <a:xfrm flipH="1" rot="16200000">
            <a:off x="5058360" y="235044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6" name="矩形 40"/>
          <p:cNvSpPr/>
          <p:nvPr/>
        </p:nvSpPr>
        <p:spPr>
          <a:xfrm>
            <a:off x="1710000" y="1863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08223"/>
                </a:solidFill>
                <a:latin typeface="comic"/>
              </a:rPr>
              <a:t>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2065"/>
          <p:cNvSpPr/>
          <p:nvPr/>
        </p:nvSpPr>
        <p:spPr>
          <a:xfrm rot="13697400">
            <a:off x="1386720" y="265644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f0822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1478160" y="2571840"/>
            <a:ext cx="1359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08223"/>
                </a:solidFill>
                <a:latin typeface="黑体"/>
                <a:ea typeface="黑体"/>
              </a:rPr>
              <a:t>检查错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4"/>
          <p:cNvSpPr/>
          <p:nvPr/>
        </p:nvSpPr>
        <p:spPr>
          <a:xfrm>
            <a:off x="6597360" y="17967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89cde"/>
                </a:solidFill>
                <a:latin typeface="comic"/>
              </a:rPr>
              <a:t>扫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角三角形 2065"/>
          <p:cNvSpPr/>
          <p:nvPr/>
        </p:nvSpPr>
        <p:spPr>
          <a:xfrm rot="3091800">
            <a:off x="7372800" y="264888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089cd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6199200" y="2571840"/>
            <a:ext cx="141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89cde"/>
                </a:solidFill>
                <a:latin typeface="黑体"/>
                <a:ea typeface="黑体"/>
              </a:rPr>
              <a:t>卡部扫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7"/>
          <p:cNvSpPr/>
          <p:nvPr/>
        </p:nvSpPr>
        <p:spPr>
          <a:xfrm>
            <a:off x="6571800" y="41378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9ac13"/>
                </a:solidFill>
                <a:latin typeface="comic"/>
              </a:rPr>
              <a:t>后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2065"/>
          <p:cNvSpPr/>
          <p:nvPr/>
        </p:nvSpPr>
        <p:spPr>
          <a:xfrm rot="3048600">
            <a:off x="7372440" y="499032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f0a2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6286680" y="4858920"/>
            <a:ext cx="1198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9ac13"/>
                </a:solidFill>
                <a:latin typeface="黑体"/>
                <a:ea typeface="黑体"/>
              </a:rPr>
              <a:t>总行发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0"/>
          <p:cNvSpPr/>
          <p:nvPr/>
        </p:nvSpPr>
        <p:spPr>
          <a:xfrm>
            <a:off x="1779840" y="41378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58c8fa"/>
                </a:solidFill>
                <a:latin typeface="comic"/>
              </a:rPr>
              <a:t>审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1707840" y="4871880"/>
            <a:ext cx="8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审批</a:t>
            </a:r>
            <a:r>
              <a:rPr b="0" lang="en-US" sz="1600" spc="-1" strike="noStrike">
                <a:solidFill>
                  <a:srgbClr val="58c8fa"/>
                </a:solidFill>
                <a:latin typeface="黑体"/>
                <a:ea typeface="黑体"/>
              </a:rPr>
              <a:t>A</a:t>
            </a: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3"/>
          <p:cNvGrpSpPr/>
          <p:nvPr/>
        </p:nvGrpSpPr>
        <p:grpSpPr>
          <a:xfrm>
            <a:off x="2490120" y="3583800"/>
            <a:ext cx="424440" cy="565920"/>
            <a:chOff x="2490120" y="3583800"/>
            <a:chExt cx="424440" cy="565920"/>
          </a:xfrm>
        </p:grpSpPr>
        <p:sp>
          <p:nvSpPr>
            <p:cNvPr id="98" name="椭圆 53"/>
            <p:cNvSpPr/>
            <p:nvPr/>
          </p:nvSpPr>
          <p:spPr>
            <a:xfrm>
              <a:off x="2490120" y="3583800"/>
              <a:ext cx="424440" cy="565920"/>
            </a:xfrm>
            <a:prstGeom prst="ellipse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54"/>
            <p:cNvSpPr/>
            <p:nvPr/>
          </p:nvSpPr>
          <p:spPr>
            <a:xfrm>
              <a:off x="2684520" y="361764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椭圆 55"/>
            <p:cNvSpPr/>
            <p:nvPr/>
          </p:nvSpPr>
          <p:spPr>
            <a:xfrm>
              <a:off x="2521080" y="384300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 56"/>
            <p:cNvSpPr/>
            <p:nvPr/>
          </p:nvSpPr>
          <p:spPr>
            <a:xfrm>
              <a:off x="2845800" y="384300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57"/>
            <p:cNvSpPr/>
            <p:nvPr/>
          </p:nvSpPr>
          <p:spPr>
            <a:xfrm>
              <a:off x="2684520" y="407052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3" name="直接连接符 58"/>
            <p:cNvCxnSpPr/>
            <p:nvPr/>
          </p:nvCxnSpPr>
          <p:spPr>
            <a:xfrm>
              <a:off x="2700360" y="3684960"/>
              <a:ext cx="2160" cy="187200"/>
            </a:xfrm>
            <a:prstGeom prst="straightConnector1">
              <a:avLst/>
            </a:prstGeom>
            <a:ln w="15875">
              <a:solidFill>
                <a:srgbClr val="eeece1">
                  <a:lumMod val="50000"/>
                </a:srgbClr>
              </a:solidFill>
              <a:round/>
            </a:ln>
          </p:spPr>
        </p:cxnSp>
        <p:cxnSp>
          <p:nvCxnSpPr>
            <p:cNvPr id="104" name="直接连接符 59"/>
            <p:cNvCxnSpPr/>
            <p:nvPr/>
          </p:nvCxnSpPr>
          <p:spPr>
            <a:xfrm>
              <a:off x="2589120" y="3869280"/>
              <a:ext cx="111600" cy="360"/>
            </a:xfrm>
            <a:prstGeom prst="straightConnector1">
              <a:avLst/>
            </a:prstGeom>
            <a:ln w="15875">
              <a:solidFill>
                <a:srgbClr val="eeece1">
                  <a:lumMod val="50000"/>
                </a:srgbClr>
              </a:solidFill>
              <a:round/>
            </a:ln>
          </p:spPr>
        </p:cxnSp>
      </p:grpSp>
      <p:grpSp>
        <p:nvGrpSpPr>
          <p:cNvPr id="105" name="组合 131"/>
          <p:cNvGrpSpPr/>
          <p:nvPr/>
        </p:nvGrpSpPr>
        <p:grpSpPr>
          <a:xfrm>
            <a:off x="6191280" y="3533760"/>
            <a:ext cx="400680" cy="674280"/>
            <a:chOff x="6191280" y="3533760"/>
            <a:chExt cx="400680" cy="674280"/>
          </a:xfrm>
        </p:grpSpPr>
        <p:sp>
          <p:nvSpPr>
            <p:cNvPr id="106" name="圆角矩形 61"/>
            <p:cNvSpPr/>
            <p:nvPr/>
          </p:nvSpPr>
          <p:spPr>
            <a:xfrm>
              <a:off x="6343560" y="4049640"/>
              <a:ext cx="95760" cy="4248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椭圆 62"/>
            <p:cNvSpPr/>
            <p:nvPr/>
          </p:nvSpPr>
          <p:spPr>
            <a:xfrm>
              <a:off x="6359760" y="4154040"/>
              <a:ext cx="63720" cy="5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圆角矩形 63"/>
            <p:cNvSpPr/>
            <p:nvPr/>
          </p:nvSpPr>
          <p:spPr>
            <a:xfrm>
              <a:off x="6350760" y="4101840"/>
              <a:ext cx="81360" cy="4248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9" name="直接连接符 64"/>
            <p:cNvCxnSpPr/>
            <p:nvPr/>
          </p:nvCxnSpPr>
          <p:spPr>
            <a:xfrm>
              <a:off x="6191280" y="3628800"/>
              <a:ext cx="73080" cy="7560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0" name="直接连接符 65"/>
            <p:cNvCxnSpPr/>
            <p:nvPr/>
          </p:nvCxnSpPr>
          <p:spPr>
            <a:xfrm flipH="1">
              <a:off x="6518880" y="3635280"/>
              <a:ext cx="73440" cy="6912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1" name="直接连接符 66"/>
            <p:cNvCxnSpPr/>
            <p:nvPr/>
          </p:nvCxnSpPr>
          <p:spPr>
            <a:xfrm>
              <a:off x="6391440" y="3533760"/>
              <a:ext cx="360" cy="10188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sp>
          <p:nvSpPr>
            <p:cNvPr id="112" name="圆角矩形 66"/>
            <p:cNvSpPr/>
            <p:nvPr/>
          </p:nvSpPr>
          <p:spPr>
            <a:xfrm>
              <a:off x="6264360" y="3666240"/>
              <a:ext cx="254520" cy="3610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286232" h="304231">
                  <a:moveTo>
                    <a:pt x="143116" y="0"/>
                  </a:moveTo>
                  <a:cubicBezTo>
                    <a:pt x="222157" y="0"/>
                    <a:pt x="286232" y="64075"/>
                    <a:pt x="286232" y="143116"/>
                  </a:cubicBezTo>
                  <a:cubicBezTo>
                    <a:pt x="286232" y="204128"/>
                    <a:pt x="248053" y="256223"/>
                    <a:pt x="193959" y="275967"/>
                  </a:cubicBezTo>
                  <a:lnTo>
                    <a:pt x="193959" y="298231"/>
                  </a:lnTo>
                  <a:cubicBezTo>
                    <a:pt x="193959" y="301545"/>
                    <a:pt x="191273" y="304231"/>
                    <a:pt x="187959" y="304231"/>
                  </a:cubicBezTo>
                  <a:lnTo>
                    <a:pt x="91959" y="304231"/>
                  </a:lnTo>
                  <a:cubicBezTo>
                    <a:pt x="88645" y="304231"/>
                    <a:pt x="85959" y="301545"/>
                    <a:pt x="85959" y="298231"/>
                  </a:cubicBezTo>
                  <a:lnTo>
                    <a:pt x="85959" y="274231"/>
                  </a:lnTo>
                  <a:lnTo>
                    <a:pt x="86092" y="274098"/>
                  </a:lnTo>
                  <a:cubicBezTo>
                    <a:pt x="35372" y="252309"/>
                    <a:pt x="0" y="201843"/>
                    <a:pt x="0" y="143116"/>
                  </a:cubicBezTo>
                  <a:cubicBezTo>
                    <a:pt x="0" y="64075"/>
                    <a:pt x="64075" y="0"/>
                    <a:pt x="143116" y="0"/>
                  </a:cubicBezTo>
                  <a:close/>
                </a:path>
              </a:pathLst>
            </a:custGeom>
            <a:noFill/>
            <a:ln w="22225"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13" name="直接连接符 68"/>
            <p:cNvCxnSpPr/>
            <p:nvPr/>
          </p:nvCxnSpPr>
          <p:spPr>
            <a:xfrm>
              <a:off x="6518880" y="3940920"/>
              <a:ext cx="73440" cy="7524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4" name="直接连接符 69"/>
            <p:cNvCxnSpPr/>
            <p:nvPr/>
          </p:nvCxnSpPr>
          <p:spPr>
            <a:xfrm flipH="1">
              <a:off x="6191280" y="3942360"/>
              <a:ext cx="73080" cy="7380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sp>
        <p:nvSpPr>
          <p:cNvPr id="115" name="任意多边形 70"/>
          <p:cNvSpPr/>
          <p:nvPr/>
        </p:nvSpPr>
        <p:spPr>
          <a:xfrm flipV="1">
            <a:off x="2203200" y="452124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-360 h 1627560"/>
              <a:gd name="textAreaBottom" fmla="*/ 162756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2cb9f8"/>
              </a:gs>
              <a:gs pos="100000">
                <a:srgbClr val="81d5fb"/>
              </a:gs>
            </a:gsLst>
            <a:lin ang="162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71"/>
          <p:cNvSpPr/>
          <p:nvPr/>
        </p:nvSpPr>
        <p:spPr>
          <a:xfrm flipH="1">
            <a:off x="4590720" y="1526400"/>
            <a:ext cx="2298600" cy="1627560"/>
          </a:xfrm>
          <a:custGeom>
            <a:avLst/>
            <a:gdLst>
              <a:gd name="textAreaLeft" fmla="*/ -360 w 2298600"/>
              <a:gd name="textAreaRight" fmla="*/ 229860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457eb1"/>
              </a:gs>
              <a:gs pos="100000">
                <a:srgbClr val="6596c3"/>
              </a:gs>
            </a:gsLst>
            <a:lin ang="5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直角三角形 2065"/>
          <p:cNvSpPr/>
          <p:nvPr/>
        </p:nvSpPr>
        <p:spPr>
          <a:xfrm rot="13697400">
            <a:off x="1458360" y="498636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58c8f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118" name="TextBox 73"/>
          <p:cNvSpPr/>
          <p:nvPr/>
        </p:nvSpPr>
        <p:spPr>
          <a:xfrm>
            <a:off x="1478160" y="2838960"/>
            <a:ext cx="1359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08223"/>
                </a:solidFill>
                <a:latin typeface="黑体"/>
                <a:ea typeface="黑体"/>
              </a:rPr>
              <a:t>签字盖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4"/>
          <p:cNvSpPr/>
          <p:nvPr/>
        </p:nvSpPr>
        <p:spPr>
          <a:xfrm>
            <a:off x="6199200" y="2876040"/>
            <a:ext cx="141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89cde"/>
                </a:solidFill>
                <a:latin typeface="黑体"/>
                <a:ea typeface="黑体"/>
              </a:rPr>
              <a:t>分行录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5"/>
          <p:cNvSpPr/>
          <p:nvPr/>
        </p:nvSpPr>
        <p:spPr>
          <a:xfrm>
            <a:off x="1712880" y="5162040"/>
            <a:ext cx="8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审批</a:t>
            </a:r>
            <a:r>
              <a:rPr b="0" lang="en-US" sz="1600" spc="-1" strike="noStrike">
                <a:solidFill>
                  <a:srgbClr val="58c8fa"/>
                </a:solidFill>
                <a:latin typeface="黑体"/>
                <a:ea typeface="黑体"/>
              </a:rPr>
              <a:t>B</a:t>
            </a: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6"/>
          <p:cNvSpPr/>
          <p:nvPr/>
        </p:nvSpPr>
        <p:spPr>
          <a:xfrm>
            <a:off x="6264000" y="5143680"/>
            <a:ext cx="1198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9ac13"/>
                </a:solidFill>
                <a:latin typeface="黑体"/>
                <a:ea typeface="黑体"/>
              </a:rPr>
              <a:t>卡部统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7"/>
          <p:cNvSpPr/>
          <p:nvPr/>
        </p:nvSpPr>
        <p:spPr>
          <a:xfrm>
            <a:off x="1357200" y="249480"/>
            <a:ext cx="778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背后的过程，却是</a:t>
            </a:r>
            <a:r>
              <a:rPr b="0" lang="en-US" sz="48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8"/>
          <p:cNvSpPr/>
          <p:nvPr/>
        </p:nvSpPr>
        <p:spPr>
          <a:xfrm>
            <a:off x="-1571760" y="571320"/>
            <a:ext cx="42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大卡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0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4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27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30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33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文本框 8"/>
          <p:cNvSpPr/>
          <p:nvPr/>
        </p:nvSpPr>
        <p:spPr>
          <a:xfrm>
            <a:off x="3312720" y="1643040"/>
            <a:ext cx="23148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就是这么消耗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9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40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43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46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8"/>
          <p:cNvSpPr/>
          <p:nvPr/>
        </p:nvSpPr>
        <p:spPr>
          <a:xfrm>
            <a:off x="3000960" y="2100960"/>
            <a:ext cx="310716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处理人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打了鸡血后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857240" y="164304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假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154" name="曲线连接符 22"/>
          <p:cNvCxnSpPr/>
          <p:nvPr/>
        </p:nvCxnSpPr>
        <p:spPr>
          <a:xfrm>
            <a:off x="4786200" y="3429000"/>
            <a:ext cx="35748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15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5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5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6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64" name="曲线连接符 14"/>
          <p:cNvCxnSpPr/>
          <p:nvPr/>
        </p:nvCxnSpPr>
        <p:spPr>
          <a:xfrm rot="10800000">
            <a:off x="2928600" y="1713960"/>
            <a:ext cx="150084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5" name="圆角矩形 15"/>
          <p:cNvSpPr/>
          <p:nvPr/>
        </p:nvSpPr>
        <p:spPr>
          <a:xfrm>
            <a:off x="1071360" y="1357200"/>
            <a:ext cx="178560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收表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曲线连接符 16"/>
          <p:cNvCxnSpPr/>
          <p:nvPr/>
        </p:nvCxnSpPr>
        <p:spPr>
          <a:xfrm flipV="1">
            <a:off x="4929120" y="1643040"/>
            <a:ext cx="1500480" cy="128592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7" name="圆角矩形 18"/>
          <p:cNvSpPr/>
          <p:nvPr/>
        </p:nvSpPr>
        <p:spPr>
          <a:xfrm>
            <a:off x="428760" y="2857320"/>
            <a:ext cx="1714320" cy="71388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曲线连接符 19"/>
          <p:cNvCxnSpPr/>
          <p:nvPr/>
        </p:nvCxnSpPr>
        <p:spPr>
          <a:xfrm rot="10800000">
            <a:off x="2143080" y="3071160"/>
            <a:ext cx="2000520" cy="50040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9" name="圆角矩形 20"/>
          <p:cNvSpPr/>
          <p:nvPr/>
        </p:nvSpPr>
        <p:spPr>
          <a:xfrm>
            <a:off x="6429240" y="1428840"/>
            <a:ext cx="171432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0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盖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714760" y="4572000"/>
            <a:ext cx="5071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假设</a:t>
            </a:r>
            <a:r>
              <a:rPr b="0" lang="en-US" sz="1800" spc="-1" strike="noStrike">
                <a:solidFill>
                  <a:srgbClr val="c4bd97"/>
                </a:solidFill>
                <a:latin typeface="黑体"/>
                <a:ea typeface="黑体"/>
              </a:rPr>
              <a:t>X</a:t>
            </a: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从以上</a:t>
            </a:r>
            <a:r>
              <a:rPr b="0" lang="en-US" sz="1800" spc="-1" strike="noStrike">
                <a:solidFill>
                  <a:srgbClr val="c4bd97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个点跑完回到座位耗时</a:t>
            </a:r>
            <a:r>
              <a:rPr b="0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分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174" name="曲线连接符 22"/>
          <p:cNvCxnSpPr/>
          <p:nvPr/>
        </p:nvCxnSpPr>
        <p:spPr>
          <a:xfrm flipV="1" rot="10800000">
            <a:off x="4714560" y="3786120"/>
            <a:ext cx="286200" cy="10004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17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7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7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8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84" name="曲线连接符 14"/>
          <p:cNvCxnSpPr/>
          <p:nvPr/>
        </p:nvCxnSpPr>
        <p:spPr>
          <a:xfrm rot="10800000">
            <a:off x="2856960" y="1999800"/>
            <a:ext cx="1500480" cy="7862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85" name="圆角矩形 15"/>
          <p:cNvSpPr/>
          <p:nvPr/>
        </p:nvSpPr>
        <p:spPr>
          <a:xfrm>
            <a:off x="1071360" y="157176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卡部扫描耗时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8"/>
          <p:cNvSpPr/>
          <p:nvPr/>
        </p:nvSpPr>
        <p:spPr>
          <a:xfrm>
            <a:off x="3786120" y="478620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分行录入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B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4"/>
          <p:cNvSpPr/>
          <p:nvPr/>
        </p:nvSpPr>
        <p:spPr>
          <a:xfrm>
            <a:off x="714240" y="743040"/>
            <a:ext cx="6786360" cy="39456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5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9e2600"/>
                </a:solidFill>
                <a:latin typeface="黑体"/>
                <a:ea typeface="黑体"/>
              </a:rPr>
              <a:t>据某孩子透露：这该死的系统死机率为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33%</a:t>
            </a:r>
            <a:r>
              <a:rPr b="0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，</a:t>
            </a:r>
            <a:r>
              <a:rPr b="0" lang="zh-CN" sz="2000" spc="-1" strike="noStrike">
                <a:solidFill>
                  <a:srgbClr val="9e2600"/>
                </a:solidFill>
                <a:latin typeface="黑体"/>
                <a:ea typeface="黑体"/>
              </a:rPr>
              <a:t>有时候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 rot="18507000">
            <a:off x="5477400" y="4141440"/>
            <a:ext cx="87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Calibri"/>
              </a:rPr>
              <a:t>》》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5572080" y="3005640"/>
            <a:ext cx="2785680" cy="36396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4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一般省分行是排队录入，非加急件</a:t>
            </a:r>
            <a:r>
              <a:rPr b="0" lang="en-US" sz="1800" spc="-1" strike="noStrike">
                <a:solidFill>
                  <a:srgbClr val="9e260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天。当然</a:t>
            </a: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鸡血模式</a:t>
            </a: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，此点不考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grpSp>
        <p:nvGrpSpPr>
          <p:cNvPr id="193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94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97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00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02" name="曲线连接符 14"/>
          <p:cNvCxnSpPr/>
          <p:nvPr/>
        </p:nvCxnSpPr>
        <p:spPr>
          <a:xfrm rot="10800000">
            <a:off x="2856960" y="1642680"/>
            <a:ext cx="150048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03" name="圆角矩形 15"/>
          <p:cNvSpPr/>
          <p:nvPr/>
        </p:nvSpPr>
        <p:spPr>
          <a:xfrm>
            <a:off x="1071360" y="1285920"/>
            <a:ext cx="178560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耗时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8"/>
          <p:cNvSpPr/>
          <p:nvPr/>
        </p:nvSpPr>
        <p:spPr>
          <a:xfrm>
            <a:off x="1357200" y="4429080"/>
            <a:ext cx="1856880" cy="92844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审批</a:t>
            </a: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耗时</a:t>
            </a: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曲线连接符 19"/>
          <p:cNvCxnSpPr>
            <a:endCxn id="204" idx="3"/>
          </p:cNvCxnSpPr>
          <p:nvPr/>
        </p:nvCxnSpPr>
        <p:spPr>
          <a:xfrm flipV="1" rot="10800000">
            <a:off x="3214440" y="3571200"/>
            <a:ext cx="929160" cy="132192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06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1000080" y="571320"/>
            <a:ext cx="485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a2100"/>
                </a:solidFill>
                <a:latin typeface="黑体"/>
                <a:ea typeface="黑体"/>
              </a:rPr>
              <a:t>鸡血模式自动忽视</a:t>
            </a:r>
            <a:r>
              <a:rPr b="0" lang="zh-CN" sz="2400" spc="-1" strike="noStrike">
                <a:solidFill>
                  <a:schemeClr val="accent6">
                    <a:lumMod val="75000"/>
                  </a:schemeClr>
                </a:solidFill>
                <a:latin typeface="黑体"/>
                <a:ea typeface="黑体"/>
              </a:rPr>
              <a:t>欺诈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429000" y="5000760"/>
            <a:ext cx="456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e2600"/>
                </a:solidFill>
                <a:latin typeface="黑体"/>
                <a:ea typeface="黑体"/>
              </a:rPr>
              <a:t>给</a:t>
            </a:r>
            <a:r>
              <a:rPr b="0" lang="zh-CN" sz="2400" spc="-1" strike="noStrike">
                <a:solidFill>
                  <a:srgbClr val="cc3100"/>
                </a:solidFill>
                <a:latin typeface="黑体"/>
                <a:ea typeface="黑体"/>
              </a:rPr>
              <a:t>省分行的审批人员</a:t>
            </a:r>
            <a:r>
              <a:rPr b="0" lang="zh-CN" sz="2400" spc="-1" strike="noStrike">
                <a:solidFill>
                  <a:srgbClr val="9e2600"/>
                </a:solidFill>
                <a:latin typeface="黑体"/>
                <a:ea typeface="黑体"/>
              </a:rPr>
              <a:t>也打了鸡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210" name="曲线连接符 22"/>
          <p:cNvCxnSpPr/>
          <p:nvPr/>
        </p:nvCxnSpPr>
        <p:spPr>
          <a:xfrm flipV="1" rot="10800000">
            <a:off x="4714560" y="3786120"/>
            <a:ext cx="286200" cy="10004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211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12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15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18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0" name="曲线连接符 14"/>
          <p:cNvCxnSpPr/>
          <p:nvPr/>
        </p:nvCxnSpPr>
        <p:spPr>
          <a:xfrm rot="10800000">
            <a:off x="2856960" y="1999800"/>
            <a:ext cx="1500480" cy="7862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21" name="圆角矩形 15"/>
          <p:cNvSpPr/>
          <p:nvPr/>
        </p:nvSpPr>
        <p:spPr>
          <a:xfrm>
            <a:off x="1071360" y="157176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制卡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8"/>
          <p:cNvSpPr/>
          <p:nvPr/>
        </p:nvSpPr>
        <p:spPr>
          <a:xfrm>
            <a:off x="3786120" y="478620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发卡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6"/>
          <p:cNvSpPr/>
          <p:nvPr/>
        </p:nvSpPr>
        <p:spPr>
          <a:xfrm rot="18507000">
            <a:off x="5477400" y="4141440"/>
            <a:ext cx="87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Calibri"/>
              </a:rPr>
              <a:t>》》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7"/>
          <p:cNvSpPr/>
          <p:nvPr/>
        </p:nvSpPr>
        <p:spPr>
          <a:xfrm>
            <a:off x="5572080" y="3282840"/>
            <a:ext cx="2785680" cy="63828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4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地址毫无问题，北京开始使用鸡血空运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34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2:24:21Z</dcterms:created>
  <dc:creator>Administrator</dc:creator>
  <dc:description/>
  <dc:language>en-US</dc:language>
  <cp:lastModifiedBy>王玉清</cp:lastModifiedBy>
  <dcterms:modified xsi:type="dcterms:W3CDTF">2016-02-15T04:50:26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