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122-34D7-4EDF-B0CB-AC5D4131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628-0ABF-4D22-952E-AA83CF3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7DB-F056-40CF-802B-30BDA43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ADB-8CD4-48D9-A356-A4D74A1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5C7-CA55-421E-9F17-DE835D5B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1C7-1A53-4A63-997D-898F901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62E-3059-4353-A162-54DFDD5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E99-7F14-4BDA-B1E8-B3147E1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634-E729-4960-9A82-0619325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B29-D3EF-44A8-A843-6B3CCFA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03A-CE3B-483A-8699-F4132BC0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0CC-D997-4BAF-97C3-F87ECD55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 hidden="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-23760" y="0"/>
            <a:ext cx="9167400" cy="5744880"/>
          </a:xfrm>
          <a:prstGeom prst="rect">
            <a:avLst/>
          </a:prstGeom>
          <a:ln w="0">
            <a:noFill/>
          </a:ln>
        </p:spPr>
      </p:pic>
      <p:sp>
        <p:nvSpPr>
          <p:cNvPr id="2" name="矩形 11"/>
          <p:cNvSpPr/>
          <p:nvPr/>
        </p:nvSpPr>
        <p:spPr>
          <a:xfrm>
            <a:off x="3798720" y="1434960"/>
            <a:ext cx="5344920" cy="1885680"/>
          </a:xfrm>
          <a:prstGeom prst="rect">
            <a:avLst/>
          </a:prstGeom>
          <a:solidFill>
            <a:srgbClr val="9e2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3" name="图片 16" descr=""/>
          <p:cNvPicPr/>
          <p:nvPr/>
        </p:nvPicPr>
        <p:blipFill>
          <a:blip r:embed="rId3"/>
          <a:stretch/>
        </p:blipFill>
        <p:spPr>
          <a:xfrm>
            <a:off x="3794040" y="1432080"/>
            <a:ext cx="162036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矩形 28"/>
          <p:cNvSpPr/>
          <p:nvPr/>
        </p:nvSpPr>
        <p:spPr>
          <a:xfrm>
            <a:off x="-23760" y="-4680"/>
            <a:ext cx="2333160" cy="696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25560"/>
            <a:ext cx="8000640" cy="758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640" y="1460520"/>
            <a:ext cx="8000640" cy="355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单击此处编辑母版文本样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680">
              <a:lnSpc>
                <a:spcPct val="120000"/>
              </a:lnSpc>
              <a:spcBef>
                <a:spcPts val="519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二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120000"/>
              </a:lnSpc>
              <a:spcBef>
                <a:spcPts val="459"/>
              </a:spcBef>
              <a:buClr>
                <a:srgbClr val="cc0000"/>
              </a:buClr>
              <a:buFont typeface="Wingdings" charset="2"/>
              <a:buChar char=""/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三级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lnSpc>
                <a:spcPct val="12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52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0"/>
            <a:ext cx="9143640" cy="736200"/>
          </a:xfrm>
          <a:prstGeom prst="rect">
            <a:avLst/>
          </a:prstGeom>
          <a:gradFill rotWithShape="0">
            <a:gsLst>
              <a:gs pos="0">
                <a:srgbClr val="630c1b"/>
              </a:gs>
              <a:gs pos="100000">
                <a:srgbClr val="8d1228"/>
              </a:gs>
            </a:gsLst>
            <a:lin ang="5400000"/>
          </a:gra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0" y="0"/>
            <a:ext cx="9143640" cy="5736960"/>
          </a:xfrm>
          <a:prstGeom prst="rect">
            <a:avLst/>
          </a:prstGeom>
          <a:solidFill>
            <a:schemeClr val="bg1"/>
          </a:solid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A4F9C5-A478-48CA-B19F-D5ADD0570BAB}" type="slidenum"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icture 6"/>
          <p:cNvSpPr/>
          <p:nvPr/>
        </p:nvSpPr>
        <p:spPr>
          <a:xfrm>
            <a:off x="1545840" y="2210400"/>
            <a:ext cx="6242400" cy="1728000"/>
          </a:xfrm>
          <a:prstGeom prst="round2DiagRect">
            <a:avLst>
              <a:gd name="adj1" fmla="val 0"/>
              <a:gd name="adj2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95600" y="1390680"/>
            <a:ext cx="2831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9e2036"/>
                </a:solidFill>
                <a:latin typeface="微软雅黑"/>
                <a:ea typeface="微软雅黑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8"/>
          <p:cNvSpPr/>
          <p:nvPr/>
        </p:nvSpPr>
        <p:spPr>
          <a:xfrm>
            <a:off x="585360" y="1887480"/>
            <a:ext cx="8384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总结报告金融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37320" y="5184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1000" y="195120"/>
            <a:ext cx="7837200" cy="4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 rot="10800000">
            <a:off x="895320" y="1003320"/>
            <a:ext cx="4105440" cy="3851640"/>
          </a:xfr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图片 12"/>
          <p:cNvSpPr/>
          <p:nvPr/>
        </p:nvSpPr>
        <p:spPr>
          <a:xfrm>
            <a:off x="946080" y="1997640"/>
            <a:ext cx="2586240" cy="1644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13"/>
          <p:cNvCxnSpPr/>
          <p:nvPr/>
        </p:nvCxnSpPr>
        <p:spPr>
          <a:xfrm>
            <a:off x="3744360" y="1599480"/>
            <a:ext cx="360" cy="2875320"/>
          </a:xfrm>
          <a:prstGeom prst="straightConnector1">
            <a:avLst/>
          </a:prstGeom>
          <a:ln w="19050">
            <a:solidFill>
              <a:srgbClr val="9e2036"/>
            </a:solidFill>
            <a:round/>
          </a:ln>
        </p:spPr>
      </p:cxnSp>
      <p:sp>
        <p:nvSpPr>
          <p:cNvPr id="133" name="矩形 15"/>
          <p:cNvSpPr/>
          <p:nvPr/>
        </p:nvSpPr>
        <p:spPr>
          <a:xfrm>
            <a:off x="4102560" y="18165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4102560" y="22521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4102560" y="268596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4102560" y="31201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4102560" y="35539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"/>
          <p:cNvGrpSpPr/>
          <p:nvPr/>
        </p:nvGrpSpPr>
        <p:grpSpPr>
          <a:xfrm>
            <a:off x="4458240" y="1816560"/>
            <a:ext cx="3699720" cy="2439720"/>
            <a:chOff x="4458240" y="1816560"/>
            <a:chExt cx="3699720" cy="2439720"/>
          </a:xfrm>
        </p:grpSpPr>
        <p:sp>
          <p:nvSpPr>
            <p:cNvPr id="139" name="矩形 14"/>
            <p:cNvSpPr/>
            <p:nvPr/>
          </p:nvSpPr>
          <p:spPr>
            <a:xfrm>
              <a:off x="4458240" y="18165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6"/>
            <p:cNvSpPr/>
            <p:nvPr/>
          </p:nvSpPr>
          <p:spPr>
            <a:xfrm>
              <a:off x="4458240" y="22521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8"/>
            <p:cNvSpPr/>
            <p:nvPr/>
          </p:nvSpPr>
          <p:spPr>
            <a:xfrm>
              <a:off x="4458240" y="268596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0"/>
            <p:cNvSpPr/>
            <p:nvPr/>
          </p:nvSpPr>
          <p:spPr>
            <a:xfrm>
              <a:off x="4458240" y="31201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2"/>
            <p:cNvSpPr/>
            <p:nvPr/>
          </p:nvSpPr>
          <p:spPr>
            <a:xfrm>
              <a:off x="4458240" y="35539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4"/>
            <p:cNvSpPr/>
            <p:nvPr/>
          </p:nvSpPr>
          <p:spPr>
            <a:xfrm>
              <a:off x="4458240" y="3987720"/>
              <a:ext cx="3699720" cy="2685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  <a:round/>
            </a:ln>
            <a:effectLst>
              <a:reflection algn="bl" blurRad="6350" dir="5400000" endA="300" endPos="35000" rotWithShape="0" stA="52000" sy="-1000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5"/>
          <p:cNvSpPr/>
          <p:nvPr/>
        </p:nvSpPr>
        <p:spPr>
          <a:xfrm>
            <a:off x="4102560" y="3987720"/>
            <a:ext cx="355320" cy="268560"/>
          </a:xfrm>
          <a:prstGeom prst="rect">
            <a:avLst/>
          </a:prstGeom>
          <a:solidFill>
            <a:srgbClr val="9e2036"/>
          </a:solidFill>
          <a:ln>
            <a:solidFill>
              <a:srgbClr val="ffffff">
                <a:lumMod val="85000"/>
              </a:srgbClr>
            </a:solidFill>
            <a:round/>
          </a:ln>
          <a:effectLst>
            <a:reflection algn="bl" blurRad="6350" dir="5400000" endA="300" endPos="35000" rotWithShape="0" stA="52000" sy="-100000"/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1600" spc="299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1000" y="195120"/>
            <a:ext cx="7837200" cy="4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392040" y="5175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-11880" y="-11880"/>
            <a:ext cx="2350800" cy="7268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8</TotalTime>
  <Application>LibreOffice/7.4.7.2$Linux_X86_64 LibreOffice_project/40$Build-2</Application>
  <AppVersion>15.0000</AppVersion>
  <Words>40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1:19:27Z</dcterms:created>
  <dc:creator>hqy</dc:creator>
  <dc:description/>
  <dc:language>en-US</dc:language>
  <cp:lastModifiedBy>王玉清</cp:lastModifiedBy>
  <dcterms:modified xsi:type="dcterms:W3CDTF">2016-02-15T04:44:12Z</dcterms:modified>
  <cp:revision>1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4</vt:r8>
  </property>
</Properties>
</file>