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ullet_T-cuber3-126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5B3-F7E4-4063-97CA-91CDE823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9D8-5530-49B5-B3A1-57FBBF8F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D7E-7FEA-43AF-AEB3-01635E37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6B8-38AE-48C6-AE2C-2F4BAC42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97F-D0A8-412D-9BFB-AA966AAE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4D4-FA00-4C05-8FB2-8719E506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16C-E7B7-4CE8-9EF3-71EEE4F3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5EC-358B-42AB-9D87-FDCF0D3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570-F182-43D7-B757-975E90E1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B8B-0CC0-441A-A620-A2BA6C3F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243-5562-4064-8771-7FDD098B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9DF-701C-4632-8D82-81CBD4D6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3425-EA1B-46F7-9577-59050C3DE1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ullet_T-cuber3-1264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57480" y="320040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owerPoint He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4267080" y="3124080"/>
            <a:ext cx="609840" cy="60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0" y="32004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5486400" y="36576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105000" y="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6095880" y="365760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2819520" y="3200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632448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 flipH="1">
            <a:off x="4419360" y="30481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 flipH="1">
            <a:off x="2819160" y="38098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 flipH="1">
            <a:off x="2285640" y="426708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 flipH="1">
            <a:off x="3428640" y="259092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>
            <a:off x="2266920" y="426708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6934320" y="6858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0" y="3886200"/>
            <a:ext cx="477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4448160" y="4419720"/>
            <a:ext cx="477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2881440" y="394344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 Power to An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5334120" y="3886200"/>
            <a:ext cx="389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>
            <a:off x="0" y="4419720"/>
            <a:ext cx="389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952488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9"/>
          <p:cNvSpPr/>
          <p:nvPr/>
        </p:nvSpPr>
        <p:spPr>
          <a:xfrm>
            <a:off x="4267080" y="355608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1733040" y="7239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炫酷个性白色光斑动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ullet_T-cuber3-126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1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2" presetSubtype="2">
                                  <p:stCondLst>
                                    <p:cond delay="6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8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3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6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300" fill="hold"/>
                                        <p:tgtEl>
                                          <p:spTgt spid="42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3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0000" y="-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5" repeatCount="4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1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3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9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2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3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9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2">
                                  <p:stCondLst>
                                    <p:cond delay="6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2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32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300" fill="hold"/>
                                        <p:tgtEl>
                                          <p:spTgt spid="61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4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300" fill="hold"/>
                                        <p:tgtEl>
                                          <p:spTgt spid="61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300" fill="hold"/>
                                        <p:tgtEl>
                                          <p:spTgt spid="61"/>
                                        </p:tgtEl>
                                      </p:cBhvr>
                                      <p:to x="10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300" fill="hold"/>
                                        <p:tgtEl>
                                          <p:spTgt spid="61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2" presetSubtype="1">
                                  <p:stCondLst>
                                    <p:cond delay="3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48" dur="200" fill="hold"/>
                                        <p:tgtEl>
                                          <p:spTgt spid="61"/>
                                        </p:tgtEl>
                                      </p:cBhvr>
                                      <p:to x="12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50" dur="150" fill="hold"/>
                                        <p:tgtEl>
                                          <p:spTgt spid="61"/>
                                        </p:tgtEl>
                                      </p:cBhvr>
                                      <p:to x="-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18:33Z</dcterms:created>
  <dc:creator>tohlz</dc:creator>
  <dc:description/>
  <dc:language>en-US</dc:language>
  <cp:lastModifiedBy>王玉清</cp:lastModifiedBy>
  <dcterms:modified xsi:type="dcterms:W3CDTF">2016-02-16T09:05:20Z</dcterms:modified>
  <cp:revision>12</cp:revision>
  <dc:subject/>
  <dc:title>Slide 1</dc:title>
</cp:coreProperties>
</file>