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2F0-542E-4F43-9D10-3760F1E1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B57-29B0-410E-930C-E069A5DB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CF9-0F9E-4D9B-B44F-4F3FC414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6B6-94AE-488B-87DD-B8537313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D11-C781-4847-BC87-65F4BE3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3B2-C89E-49E9-8E8A-1FA363F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29E-B1E6-40F6-B264-8ABD8B6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56D-7C3F-49DA-8C16-A80FD523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0AD-4451-458A-B264-486AD63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4F6-78B1-441B-AFED-D7F61DC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839-2953-47C6-B49B-FF4B916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30E-D725-48F1-8EF2-47B4F97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DE9-52F8-4872-90C6-43743A45C2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爱神之箭通用</a:t>
            </a:r>
            <a:r>
              <a:rPr b="0" i="1" lang="en-US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2057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5:10:26Z</dcterms:created>
  <dc:creator>keke</dc:creator>
  <dc:description/>
  <dc:language>en-US</dc:language>
  <cp:lastModifiedBy>王玉清</cp:lastModifiedBy>
  <dcterms:modified xsi:type="dcterms:W3CDTF">2016-02-20T04:22:34Z</dcterms:modified>
  <cp:revision>3</cp:revision>
  <dc:subject/>
  <dc:title>站长站素材 SC.chinaz.COM</dc:title>
</cp:coreProperties>
</file>