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48C-3614-4D54-9F7C-C73E68F8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F6F-6D45-45C3-B359-D593341D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14C-1FB7-441A-8387-B73B09FE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EEF-9597-485C-B2EB-35BCA068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FDD-967B-40E1-83D6-97F74383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9D4-B298-4DE7-ABAA-FE8A42E5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573-65DD-4224-B5A4-A5E44E20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7B4-F361-42B6-BA31-BF4DEA8E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BEB-296F-4775-A243-93BEB1DD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31C-8ADE-43D3-AB04-687B247C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A17-F351-4D7A-A412-74B3B262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892-6A48-4416-B8AE-167D1D4C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4DC9-641F-4584-BEBD-60A4E5319A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爱心通用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完整版下载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0:02:20Z</dcterms:created>
  <dc:creator>雨林木风</dc:creator>
  <dc:description/>
  <dc:language>en-US</dc:language>
  <cp:lastModifiedBy>王玉清</cp:lastModifiedBy>
  <dcterms:modified xsi:type="dcterms:W3CDTF">2016-02-20T04:29:26Z</dcterms:modified>
  <cp:revision>5</cp:revision>
  <dc:subject/>
  <dc:title>Your Title </dc:title>
</cp:coreProperties>
</file>